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55ED-F764-44ED-900F-242F2D5D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BC6E-19DA-401A-91A0-53ABF4EE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14C4-BAD1-4975-ADDE-506B6F17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AC6E-D5B0-4DBC-A1E6-1B936819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7D0E-5136-47B0-A492-8BB71568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9AB6-4E4C-438C-B21E-F3BE6C40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1C5A-FF64-4F34-B237-00D278F7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86A2-9511-46D9-95BC-E09DC2B8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483F-342B-47E4-8CA2-388B9A45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7E08-33ED-43DB-89A5-0193EC0F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E9A6-5A78-49F9-8652-AB8A3E63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45E4-3BCE-4F75-BFF5-2D514314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584A-20F1-41C9-9CE1-E850BE59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F4D5-EB2E-4380-AF18-DAC0A252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0F28-D5DA-42BC-9090-8F1920B4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BDD6-901B-4F63-A869-156FD26E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42BE-73BA-4BCF-A294-55AE8055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9AE7-5E7C-4111-A93F-F534FB40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65D7-B9C8-433D-81B6-E6497891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19BF-F91B-488C-A024-175E8D66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0A7D-71CF-474C-A655-8D7C7322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1D11-07F0-479E-BFF3-31CE8595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50B6-EB0E-4955-8C89-04E3CE22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1164-5497-4F93-9612-17FCA697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98E2-F4DF-4371-9CF7-AD0B6CA7AA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D0DB-CB37-480E-9352-9510801231C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eec94"/>
                </a:solidFill>
                <a:latin typeface="Times New Roman"/>
              </a:rPr>
              <a:t>Мир, </a:t>
            </a:r>
            <a:br>
              <a:rPr sz="6600"/>
            </a:br>
            <a:r>
              <a:rPr b="0" lang="ru-RU" sz="6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ru-RU" sz="6600" spc="-1" strike="noStrike">
                <a:solidFill>
                  <a:srgbClr val="feec94"/>
                </a:solidFill>
                <a:latin typeface="Times New Roman"/>
              </a:rPr>
              <a:t>который </a:t>
            </a:r>
            <a:br>
              <a:rPr sz="6600"/>
            </a:br>
            <a:r>
              <a:rPr b="0" lang="ru-RU" sz="6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ru-RU" sz="6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ru-RU" sz="6600" spc="-1" strike="noStrike">
                <a:solidFill>
                  <a:srgbClr val="feec94"/>
                </a:solidFill>
                <a:latin typeface="Times New Roman"/>
              </a:rPr>
              <a:t>построили мы.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изитная карточ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учителя английского язы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МОУ школы №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Чижовой Людмилы Геннадиевн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Вот старая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под номером 7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На Пионерской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treet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Здесь мы фактически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проживаем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Проблемы решаем, твори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8" descr="фон 1 сл"/>
          <p:cNvPicPr/>
          <p:nvPr/>
        </p:nvPicPr>
        <p:blipFill>
          <a:blip r:embed="rId1"/>
          <a:stretch/>
        </p:blipFill>
        <p:spPr>
          <a:xfrm>
            <a:off x="4067280" y="620640"/>
            <a:ext cx="489564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268000" y="549000"/>
            <a:ext cx="6875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Вот старая шко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под номером 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На Пионерской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treet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Ей 60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и в ней мы живем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чим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мечтаем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грусти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7" descr="0149"/>
          <p:cNvPicPr/>
          <p:nvPr/>
        </p:nvPicPr>
        <p:blipFill>
          <a:blip r:embed="rId1"/>
          <a:stretch/>
        </p:blipFill>
        <p:spPr>
          <a:xfrm>
            <a:off x="179280" y="2492280"/>
            <a:ext cx="475308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5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15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5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5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75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85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5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4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403848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Вот 8-й кабинет, значится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nglish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 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Там, где работаю 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Это доска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которая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mart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С нею дружить начал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7" descr="20090205_143105"/>
          <p:cNvPicPr/>
          <p:nvPr/>
        </p:nvPicPr>
        <p:blipFill>
          <a:blip r:embed="rId1"/>
          <a:stretch/>
        </p:blipFill>
        <p:spPr>
          <a:xfrm>
            <a:off x="3924360" y="3573360"/>
            <a:ext cx="3889440" cy="3102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DSCN4352"/>
          <p:cNvPicPr/>
          <p:nvPr/>
        </p:nvPicPr>
        <p:blipFill>
          <a:blip r:embed="rId2"/>
          <a:stretch/>
        </p:blipFill>
        <p:spPr>
          <a:xfrm>
            <a:off x="4859280" y="189000"/>
            <a:ext cx="388800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500"/>
                            </p:stCondLst>
                            <p:childTnLst>
                              <p:par>
                                <p:cTn id="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716000" y="549360"/>
            <a:ext cx="40388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Вот кабинет информатики 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наш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Здесь оформляем проекты сво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Вот Интернет, где блуждаем подчас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Чтоб подбират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не свои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10" descr="20090209_124950"/>
          <p:cNvPicPr/>
          <p:nvPr/>
        </p:nvPicPr>
        <p:blipFill>
          <a:blip r:embed="rId1"/>
          <a:stretch/>
        </p:blipFill>
        <p:spPr>
          <a:xfrm>
            <a:off x="250920" y="1773360"/>
            <a:ext cx="431964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99640" y="404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Это наш зал, музыкальный приче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од музыку здес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о-английски поем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тавим тут сказк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а то и салон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 зрительный за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идем на покло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7" descr="Изображение 012"/>
          <p:cNvPicPr/>
          <p:nvPr/>
        </p:nvPicPr>
        <p:blipFill>
          <a:blip r:embed="rId1"/>
          <a:stretch/>
        </p:blipFill>
        <p:spPr>
          <a:xfrm>
            <a:off x="4716360" y="1197000"/>
            <a:ext cx="36799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700360" y="-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Это любимые учен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Из школ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 котор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аботаем м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от и директор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и завуч при ней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Сдаем им отчеты как можно скор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7" descr="DSCN4347"/>
          <p:cNvPicPr/>
          <p:nvPr/>
        </p:nvPicPr>
        <p:blipFill>
          <a:blip r:embed="rId1"/>
          <a:stretch/>
        </p:blipFill>
        <p:spPr>
          <a:xfrm>
            <a:off x="5580000" y="429264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20090209_125326"/>
          <p:cNvPicPr/>
          <p:nvPr/>
        </p:nvPicPr>
        <p:blipFill>
          <a:blip r:embed="rId2"/>
          <a:stretch/>
        </p:blipFill>
        <p:spPr>
          <a:xfrm>
            <a:off x="611280" y="4005360"/>
            <a:ext cx="3816360" cy="2665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20090205_145001"/>
          <p:cNvPicPr/>
          <p:nvPr/>
        </p:nvPicPr>
        <p:blipFill>
          <a:blip r:embed="rId3"/>
          <a:stretch/>
        </p:blipFill>
        <p:spPr>
          <a:xfrm>
            <a:off x="179280" y="981000"/>
            <a:ext cx="2592360" cy="1913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200"/>
          <p:cNvPicPr/>
          <p:nvPr/>
        </p:nvPicPr>
        <p:blipFill>
          <a:blip r:embed="rId4"/>
          <a:stretch/>
        </p:blipFill>
        <p:spPr>
          <a:xfrm>
            <a:off x="6084720" y="1052640"/>
            <a:ext cx="30592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5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11280" y="764640"/>
            <a:ext cx="4038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Вот они книг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и лучше потолщ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Чтоб от работ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время урва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Кроме конспекто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и педсовет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Надо ж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еще и читать</a:t>
            </a:r>
            <a:r>
              <a:rPr b="1" lang="ru-RU" sz="3200" spc="-1" strike="noStrike">
                <a:solidFill>
                  <a:srgbClr val="ffff99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7" descr="2009"/>
          <p:cNvPicPr/>
          <p:nvPr/>
        </p:nvPicPr>
        <p:blipFill>
          <a:blip r:embed="rId1"/>
          <a:stretch/>
        </p:blipFill>
        <p:spPr>
          <a:xfrm>
            <a:off x="4211640" y="2349360"/>
            <a:ext cx="46148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105520" y="549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Вот на окне фиалки любимы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Их развожу с любовью по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Вот я на даче – пополняю эмоц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Чтобы не слопать учени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7" descr="Изображение 008"/>
          <p:cNvPicPr/>
          <p:nvPr/>
        </p:nvPicPr>
        <p:blipFill>
          <a:blip r:embed="rId1"/>
          <a:stretch/>
        </p:blipFill>
        <p:spPr>
          <a:xfrm>
            <a:off x="395280" y="33336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дача"/>
          <p:cNvPicPr/>
          <p:nvPr/>
        </p:nvPicPr>
        <p:blipFill>
          <a:blip r:embed="rId2"/>
          <a:stretch/>
        </p:blipFill>
        <p:spPr>
          <a:xfrm>
            <a:off x="1116000" y="2924280"/>
            <a:ext cx="383220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Это вот кошк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которая Мика,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Стрессы снимае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и лечит слегка.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Вот мои дамы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коллеги английские,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Идеями делимс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с ними всег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7" descr="21"/>
          <p:cNvPicPr/>
          <p:nvPr/>
        </p:nvPicPr>
        <p:blipFill>
          <a:blip r:embed="rId1"/>
          <a:stretch/>
        </p:blipFill>
        <p:spPr>
          <a:xfrm>
            <a:off x="4284720" y="4005360"/>
            <a:ext cx="4495680" cy="2446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Изображение 016"/>
          <p:cNvPicPr/>
          <p:nvPr/>
        </p:nvPicPr>
        <p:blipFill>
          <a:blip r:embed="rId2"/>
          <a:stretch/>
        </p:blipFill>
        <p:spPr>
          <a:xfrm>
            <a:off x="4643280" y="620640"/>
            <a:ext cx="3529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8:57:56Z</dcterms:created>
  <dc:creator>Ученик</dc:creator>
  <dc:description/>
  <dc:language>en-US</dc:language>
  <cp:lastModifiedBy>Людмила</cp:lastModifiedBy>
  <dcterms:modified xsi:type="dcterms:W3CDTF">2015-01-31T20:03:43Z</dcterms:modified>
  <cp:revision>15</cp:revision>
  <dc:subject/>
  <dc:title>Мир,   который    построили мы.</dc:title>
</cp:coreProperties>
</file>