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E35-03D8-417E-91FC-876F61A2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E1F-9750-407D-B5A8-38B979F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846-19F6-48BC-B72B-64967A9A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70A-AD44-43FE-90FA-8993C38A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7E18-1E12-4117-8E29-9DA6ECFD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CA7A-479D-4729-A60F-7B91759E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1D55-8779-4725-B3A4-342B8D2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899A-631E-4199-9924-84A8C54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6FEB-ADAD-4644-929E-BDCD3E8B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AE0-713F-4DDF-A39A-3A5A885E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8926-138E-4AF8-90B7-23F8B69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D7D-899E-45C0-8502-099B0475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16A5-8732-438B-9A31-40C9A8B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56E8-31E1-4E51-8BBB-C71EF530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950A-A1C3-4175-A636-A2055D53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9B53-E63B-47A6-9532-023801A5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18F3-0501-494F-86F6-B220863A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826-E876-4ED1-9D6D-9E83BB29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9D6-1E5A-48F1-BE0F-941FB870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18D-31A3-4C7F-8F1D-DC179DE1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D19-94D4-45BD-B532-1AD9A2DF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5C2-3A18-4E2F-AF48-A110876E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E87-1619-4D5C-85B5-5353177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17F-46B5-449F-9AB4-271B9AE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E41-863E-4B59-9149-5C54DC46D5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1B75-BDFB-46C5-A352-1FD4805FA1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Мир, </a:t>
            </a:r>
            <a:br>
              <a:rPr sz="6600"/>
            </a:b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который </a:t>
            </a:r>
            <a:br>
              <a:rPr sz="6600"/>
            </a:b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построили мы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изитная карточ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чителя английского я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ОУ школы №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Чижовой Людмилы Геннадиевн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т старая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од номером 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На Пионерской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et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десь мы фактически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ожива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облемы решаем, твори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8" descr="фон 1 сл"/>
          <p:cNvPicPr/>
          <p:nvPr/>
        </p:nvPicPr>
        <p:blipFill>
          <a:blip r:embed="rId1"/>
          <a:stretch/>
        </p:blipFill>
        <p:spPr>
          <a:xfrm>
            <a:off x="4067280" y="620640"/>
            <a:ext cx="4895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68000" y="549000"/>
            <a:ext cx="68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от старая шк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од номером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а Пионерской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treet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Ей 60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 в ней мы живе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чим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ечтае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груст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7" descr="0149"/>
          <p:cNvPicPr/>
          <p:nvPr/>
        </p:nvPicPr>
        <p:blipFill>
          <a:blip r:embed="rId1"/>
          <a:stretch/>
        </p:blipFill>
        <p:spPr>
          <a:xfrm>
            <a:off x="179280" y="2492280"/>
            <a:ext cx="47530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5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15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5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5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85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5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4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4038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т 8-й кабинет, значится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nglish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Там, где работаю 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Это доск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оторая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С нею дружить нач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20090205_143105"/>
          <p:cNvPicPr/>
          <p:nvPr/>
        </p:nvPicPr>
        <p:blipFill>
          <a:blip r:embed="rId1"/>
          <a:stretch/>
        </p:blipFill>
        <p:spPr>
          <a:xfrm>
            <a:off x="3924360" y="3573360"/>
            <a:ext cx="3889440" cy="310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SCN4352"/>
          <p:cNvPicPr/>
          <p:nvPr/>
        </p:nvPicPr>
        <p:blipFill>
          <a:blip r:embed="rId2"/>
          <a:stretch/>
        </p:blipFill>
        <p:spPr>
          <a:xfrm>
            <a:off x="4859280" y="18900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16000" y="549360"/>
            <a:ext cx="40388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т кабинет информатики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аш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Здесь оформляем проекты сво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т Интернет, где блуждаем подчас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Чтоб подбира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е свои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0" descr="20090209_124950"/>
          <p:cNvPicPr/>
          <p:nvPr/>
        </p:nvPicPr>
        <p:blipFill>
          <a:blip r:embed="rId1"/>
          <a:stretch/>
        </p:blipFill>
        <p:spPr>
          <a:xfrm>
            <a:off x="250920" y="1773360"/>
            <a:ext cx="43196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Это наш зал, музыкальный прич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д музыку зде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-английски по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тавим тут сказ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а то и салон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 зрительный з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дем на покло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Изображение 012"/>
          <p:cNvPicPr/>
          <p:nvPr/>
        </p:nvPicPr>
        <p:blipFill>
          <a:blip r:embed="rId1"/>
          <a:stretch/>
        </p:blipFill>
        <p:spPr>
          <a:xfrm>
            <a:off x="4716360" y="1197000"/>
            <a:ext cx="3679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700360" y="-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то любимые учен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з школ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котор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ботаем 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т и директ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 завуч при н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даем им отчеты как можно скор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DSCN4347"/>
          <p:cNvPicPr/>
          <p:nvPr/>
        </p:nvPicPr>
        <p:blipFill>
          <a:blip r:embed="rId1"/>
          <a:stretch/>
        </p:blipFill>
        <p:spPr>
          <a:xfrm>
            <a:off x="5580000" y="4292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20090209_125326"/>
          <p:cNvPicPr/>
          <p:nvPr/>
        </p:nvPicPr>
        <p:blipFill>
          <a:blip r:embed="rId2"/>
          <a:stretch/>
        </p:blipFill>
        <p:spPr>
          <a:xfrm>
            <a:off x="611280" y="400536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20090205_145001"/>
          <p:cNvPicPr/>
          <p:nvPr/>
        </p:nvPicPr>
        <p:blipFill>
          <a:blip r:embed="rId3"/>
          <a:stretch/>
        </p:blipFill>
        <p:spPr>
          <a:xfrm>
            <a:off x="179280" y="981000"/>
            <a:ext cx="2592360" cy="1913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200"/>
          <p:cNvPicPr/>
          <p:nvPr/>
        </p:nvPicPr>
        <p:blipFill>
          <a:blip r:embed="rId4"/>
          <a:stretch/>
        </p:blipFill>
        <p:spPr>
          <a:xfrm>
            <a:off x="6084720" y="1052640"/>
            <a:ext cx="3059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т они книг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 лучше потолщ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Чтоб от работ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ремя урв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роме конспект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 педсове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Надо ж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еще и читать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2009"/>
          <p:cNvPicPr/>
          <p:nvPr/>
        </p:nvPicPr>
        <p:blipFill>
          <a:blip r:embed="rId1"/>
          <a:stretch/>
        </p:blipFill>
        <p:spPr>
          <a:xfrm>
            <a:off x="4211640" y="2349360"/>
            <a:ext cx="4614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105520" y="549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т на окне фиалки любимы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х развожу с любовью п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т я на даче – пополняю эмоц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Чтобы не слопать уче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Изображение 008"/>
          <p:cNvPicPr/>
          <p:nvPr/>
        </p:nvPicPr>
        <p:blipFill>
          <a:blip r:embed="rId1"/>
          <a:stretch/>
        </p:blipFill>
        <p:spPr>
          <a:xfrm>
            <a:off x="395280" y="333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дача"/>
          <p:cNvPicPr/>
          <p:nvPr/>
        </p:nvPicPr>
        <p:blipFill>
          <a:blip r:embed="rId2"/>
          <a:stretch/>
        </p:blipFill>
        <p:spPr>
          <a:xfrm>
            <a:off x="1116000" y="2924280"/>
            <a:ext cx="38322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Это вот кош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оторая Мика,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трессы сним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 лечит слегка.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от мои дамы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оллеги английские,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деями делим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ними всег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21"/>
          <p:cNvPicPr/>
          <p:nvPr/>
        </p:nvPicPr>
        <p:blipFill>
          <a:blip r:embed="rId1"/>
          <a:stretch/>
        </p:blipFill>
        <p:spPr>
          <a:xfrm>
            <a:off x="4284720" y="4005360"/>
            <a:ext cx="4495680" cy="244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Изображение 016"/>
          <p:cNvPicPr/>
          <p:nvPr/>
        </p:nvPicPr>
        <p:blipFill>
          <a:blip r:embed="rId2"/>
          <a:stretch/>
        </p:blipFill>
        <p:spPr>
          <a:xfrm>
            <a:off x="4643280" y="620640"/>
            <a:ext cx="3529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7:56Z</dcterms:created>
  <dc:creator>Ученик</dc:creator>
  <dc:description/>
  <dc:language>en-US</dc:language>
  <cp:lastModifiedBy>Людмила</cp:lastModifiedBy>
  <dcterms:modified xsi:type="dcterms:W3CDTF">2015-01-31T20:03:43Z</dcterms:modified>
  <cp:revision>15</cp:revision>
  <dc:subject/>
  <dc:title>Мир,   который    построили мы.</dc:title>
</cp:coreProperties>
</file>