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A836-FA65-406D-BE83-7BBF95DF6B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2E60-A828-43C1-9EED-4C95160A93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A3F-279F-4CC0-BA63-68710F80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862-059F-4A0C-B8DD-55DBF4F0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385B-0897-41C9-8810-CED8A068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CFA-1D22-4CBF-B1DD-2E0703F3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1C0D-DEAF-4229-A9B4-99505741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B807-8A33-4024-8D2B-B026C176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FDA8-EAB5-4529-987B-750CD19E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7156-7726-4977-82AC-976C1C95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9630-BBB9-4335-B212-6D8D2A5F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CEA7-2652-4B43-B933-D9B7B8A5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D77B-E2A1-4A80-B902-B7EC73E7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01FD-BABB-4731-B7C8-524C4741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0D1B-A686-4EB9-9F34-04506FFF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916E-1089-47E2-A465-0E5F4893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C468-2BD4-4459-8460-3AA33961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160D-7A5C-4A9A-B9A8-343CA0C5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5915-05B6-49FB-AA6C-4A050F19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C524B-5AB7-4E23-B343-54AC3E78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71BC5-FFAF-42D6-AF35-A678C4FD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0DB03-CF3B-47B2-AAA9-5B964B7F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F9498-4148-4FA8-AE18-51E83E29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BC692-9FEC-4703-930F-E5CAD8EC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43A-8BD9-432E-8ADC-4EFA76E0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86EA2-713C-4851-AF9D-D9CD1DD9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3372C-3894-4C9E-8A8A-C186B5A9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B0534-C242-4086-BF47-3D689110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807FD-66C0-4F9C-9EF6-8B1CBAB4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49461-C1E6-4B98-B5A1-3B5EB906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9768F-10DA-480B-81EC-190D9A97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3CA75-5DDF-4F87-B7BD-459D1A2C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AEB7A-FAD2-4292-8488-FA797727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4E93A-139D-4410-B49E-FCC85423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9F82A-8272-4146-9630-1E2BED89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1E8-83F5-4076-B7ED-80D7085A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3C204-3650-4A21-A02D-73523734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E7DE-7A0A-4D11-81EF-3C84DA18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B3900-B936-4A14-B77F-D1BF921D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B5D3E-91EA-42E7-8A19-A20C6806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E1543-A5FE-4C26-B19B-E23465ED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20989-1EFD-46FF-9237-C384301D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97A25-8E61-45FB-9CEA-9A398CE8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DA923-37C3-4703-ADCF-94D229F4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AEC8D-5E1D-47C2-B3EE-B4407AF8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80E-E1AF-4709-8968-1B945D43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662-FF74-47D9-9387-A59CB461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866-E1E5-44C2-9150-9D8C956B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7D4-D5F1-434A-B183-74F0C72C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C8E-4486-4B36-8F51-D2D70976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6441-2E17-47F8-8EED-28180E806A3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1EEE-8BF7-4BEB-A587-D669BD56CA5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07B0-87B1-40D3-A47C-EE2791944EF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574A-909C-484E-B5C6-CDA20C69268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76280" y="523800"/>
            <a:ext cx="8350200" cy="21830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268360" y="328428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Преподаватель русского язы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и литературы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Куракина О.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8" descr="Н.А. Некрасов"/>
          <p:cNvPicPr/>
          <p:nvPr/>
        </p:nvPicPr>
        <p:blipFill>
          <a:blip r:embed="rId2"/>
          <a:stretch/>
        </p:blipFill>
        <p:spPr>
          <a:xfrm>
            <a:off x="428760" y="2940120"/>
            <a:ext cx="3206520" cy="32972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558000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77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 flipV="1" rot="10799400">
            <a:off x="2174400" y="330840"/>
            <a:ext cx="397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ь и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5960" y="5500800"/>
            <a:ext cx="19288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Н . А .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85840" y="1143000"/>
            <a:ext cx="3000600" cy="3929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6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aramond"/>
              </a:rPr>
              <a:t>Родился Н . А . Некрасов в местечке Немирове подольской губернии в семье мелкопоместного дворянина . детские годы прошли в селе Грешневе , в родовом имении отца , человека деспотического характера , угнетавшего не только крепостных , но и всю семью , чему был свидетелем будущий поэт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85920" y="1000080"/>
            <a:ext cx="3000240" cy="42861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0" name="Picture 2" descr="Николай Алексеевич Некрасов"/>
          <p:cNvPicPr/>
          <p:nvPr/>
        </p:nvPicPr>
        <p:blipFill>
          <a:blip r:embed="rId2"/>
          <a:stretch/>
        </p:blipFill>
        <p:spPr>
          <a:xfrm>
            <a:off x="1357200" y="1071720"/>
            <a:ext cx="288612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840" y="5357520"/>
            <a:ext cx="192888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617b"/>
                </a:solidFill>
                <a:latin typeface="Calibri"/>
              </a:rPr>
              <a:t>Н . А . 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785840" y="1642680"/>
            <a:ext cx="3357720" cy="31431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aramond"/>
              </a:rPr>
              <a:t>Первый сборник «Мечты и звуки» ,   изданный Некрасовым в Петербурге в 1840 на собственные средства , успеха не имел , подвергся резкой критике В . Г . Белинского , с которым Некрасов сблизился позже , в 1842 -43 , в период сотрудничества в                              « Отечественных записках» 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3857760" cy="39290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4" name="Picture 2" descr="Н.А. Некрасов. Фото Деньера, 1864"/>
          <p:cNvPicPr/>
          <p:nvPr/>
        </p:nvPicPr>
        <p:blipFill>
          <a:blip r:embed="rId2"/>
          <a:stretch/>
        </p:blipFill>
        <p:spPr>
          <a:xfrm>
            <a:off x="714240" y="1214280"/>
            <a:ext cx="3714840" cy="378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928960"/>
            <a:ext cx="30002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i="1" lang="ru-RU" sz="18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00760" y="928440"/>
            <a:ext cx="3543120" cy="47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4617b"/>
                </a:solidFill>
                <a:latin typeface="Garamond"/>
              </a:rPr>
              <a:t>В 1843 году поэт знакомится с Виссарионом Белинским , который становится его духовным учителем . В 1846 году Николай Некрасов с И . Панаевым берет в аренду журнал «Современник» , в котором постепенно сосредоточились все лучшие силы тогдашней литературы . В 1862 году Некрасов становится редактором журнала «Отечественные записки» . В нем Некрасов печатает  лучшие свои стихи и поэмы , в том числе «Коробейники» , «Мороз , Красный нос» , «Русские женщины» , частично «Кому на Руси жить хорошо» 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400" y="1142640"/>
            <a:ext cx="21114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Обложка журна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11" descr=""/>
          <p:cNvPicPr/>
          <p:nvPr/>
        </p:nvPicPr>
        <p:blipFill>
          <a:blip r:embed="rId1"/>
          <a:stretch/>
        </p:blipFill>
        <p:spPr>
          <a:xfrm>
            <a:off x="360360" y="5778360"/>
            <a:ext cx="5638680" cy="798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Титульный лист журнала Отечественные Записки"/>
          <p:cNvPicPr/>
          <p:nvPr/>
        </p:nvPicPr>
        <p:blipFill>
          <a:blip r:embed="rId2"/>
          <a:stretch/>
        </p:blipFill>
        <p:spPr>
          <a:xfrm>
            <a:off x="250920" y="2133720"/>
            <a:ext cx="2673360" cy="2500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Автограф Н.А. Некрасова, 1849"/>
          <p:cNvPicPr/>
          <p:nvPr/>
        </p:nvPicPr>
        <p:blipFill>
          <a:blip r:embed="rId3"/>
          <a:stretch/>
        </p:blipFill>
        <p:spPr>
          <a:xfrm>
            <a:off x="2714760" y="350028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Сотрудники журнала Отечественные Записки"/>
          <p:cNvPicPr/>
          <p:nvPr/>
        </p:nvPicPr>
        <p:blipFill>
          <a:blip r:embed="rId4"/>
          <a:stretch/>
        </p:blipFill>
        <p:spPr>
          <a:xfrm>
            <a:off x="3286080" y="12859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09440" y="139680"/>
            <a:ext cx="9358560" cy="64324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357360" y="3285720"/>
            <a:ext cx="12142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1680" y="713880"/>
            <a:ext cx="3714840" cy="5072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5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Именем Некрасова названы улицы: в Петербурге в 1918, в Рыбацком, Парголово. Его имя присвоено библиотеке №9 Смольнинского района и Педагогическому училищу</a:t>
            </a:r>
            <a:r>
              <a:rPr b="0" i="1" lang="en-US" sz="2800" spc="-1" strike="noStrike">
                <a:solidFill>
                  <a:srgbClr val="404040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№1. В 1971 году на углу улицы Некрасова и Греческого проспекта открыт памятник Некрасов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Памятник Н.А. Некрасову в Ярославле"/>
          <p:cNvPicPr/>
          <p:nvPr/>
        </p:nvPicPr>
        <p:blipFill>
          <a:blip r:embed="rId1"/>
          <a:srcRect l="0" t="3452" r="0" b="3452"/>
          <a:stretch/>
        </p:blipFill>
        <p:spPr>
          <a:xfrm>
            <a:off x="214200" y="500040"/>
            <a:ext cx="2301840" cy="2143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Памятник на могиле Н.А. Некрасова"/>
          <p:cNvPicPr/>
          <p:nvPr/>
        </p:nvPicPr>
        <p:blipFill>
          <a:blip r:embed="rId2"/>
          <a:stretch/>
        </p:blipFill>
        <p:spPr>
          <a:xfrm>
            <a:off x="2928960" y="2357280"/>
            <a:ext cx="1857240" cy="179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Памятник Н.А. Некрасову в Санкт-Петербурге"/>
          <p:cNvPicPr/>
          <p:nvPr/>
        </p:nvPicPr>
        <p:blipFill>
          <a:blip r:embed="rId3"/>
          <a:stretch/>
        </p:blipFill>
        <p:spPr>
          <a:xfrm>
            <a:off x="500040" y="3857760"/>
            <a:ext cx="221472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7:25:41Z</dcterms:created>
  <dc:creator>Саша</dc:creator>
  <dc:description/>
  <dc:language>en-US</dc:language>
  <cp:lastModifiedBy>Ольга</cp:lastModifiedBy>
  <dcterms:modified xsi:type="dcterms:W3CDTF">2015-01-31T16:37:54Z</dcterms:modified>
  <cp:revision>50</cp:revision>
  <dc:subject/>
  <dc:title>Николай Алексеевич Некрасов</dc:title>
</cp:coreProperties>
</file>