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3E2-CA3D-4E5B-A488-DC022FE6B2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2B8B-BC0C-49C9-9BD4-7E740DEC14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5A1-84B2-48D8-9892-206AF873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FC1-E81A-45CE-B9DA-44AA54E1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9C8-E40E-48B4-A662-22465015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81D-7BDD-4669-A181-3F90A914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2D76-0BE1-49FE-BE3A-E9EAD2C8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3A21-57EB-4EFC-BB2A-B18D16F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F4F4-2593-48B8-858F-7D7D90E4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8164-612C-4BDC-AA7D-FE47D3C1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25CA-0EF9-4F41-87ED-C612769E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CCBE-0574-48E7-886C-8561E57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C0B8-C663-4EAA-9A06-E704044A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87E-8227-4C5B-8F70-496EF159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D7F1-0C31-43DF-8F87-683C273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E2E7-C0BB-449A-A0A0-A52E3FD0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1EA2-D9AC-4403-B670-FF202DF5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B7AF-9137-44A6-83FF-98720E46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EFC8-311A-4145-B83E-00C8B4E7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2B1A-8574-483E-A72B-C03D995C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5CF8-E023-4173-9A33-2E259666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C953-BE9E-417F-B215-491DBA5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DC79-7629-4CCB-B8C1-EB6D3D2C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0F51-C239-4D03-967C-55F60582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7D0-CD56-4D7D-A2C5-8524D4CC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21BC-2A68-4C6E-80AB-61D16475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DD2B-3B1A-4A6C-B4BC-CDD58AFA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8557-203D-46A6-A124-74893330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C5EF1-2558-4B21-8D9C-CEB22FC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66CA-8C5C-45CD-8D4B-E88099EC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B0A9-E847-4238-BD45-1BFE8180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0FD0-50E2-49C7-A737-A3AA9D52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D2E1-729A-4048-A090-135488F5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B017-39EB-4E9B-AC95-D764012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7D247-D3BE-48C1-8660-32F7A00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7FE-C65D-47AC-A7A3-3D148A9E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74B0-1804-4FD7-A8A3-295E339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F4B0-9D74-405D-9802-39ABEBBF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DACE-E9A5-46BB-B112-30379BA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4B4C4-5E1F-40DE-A9E7-8809945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4867-561E-4818-A14D-D86C88EB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4267F-00E0-42F0-8656-C38EFBC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4EF8-4921-4D17-87D3-B7E54307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B65D-24D2-4230-9328-E925C3AE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1249-C400-40A0-85EC-5792C2DE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D95-CB38-49F5-94D0-B3C9FCD7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21F-C32D-4781-9994-B8CBC62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516-C913-471D-9DA0-EFD0414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F76-8973-4B04-88C5-742270E3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907-D295-4CF2-9C0A-7E898BC2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FD9E-4265-4EAA-AB61-4FBBCEF98D9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C1C-4C16-44CB-AB25-8D10D76F71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F184-4E9B-4F45-889A-3884EEC92E5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FAE3-00AF-4169-A52C-9C1BF844161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76280" y="523800"/>
            <a:ext cx="8350200" cy="2183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Преподаватель русского язы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и литератур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Куракина О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60360" y="5778360"/>
            <a:ext cx="5638680" cy="798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9680"/>
            <a:ext cx="9358560" cy="6432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Ольга</cp:lastModifiedBy>
  <dcterms:modified xsi:type="dcterms:W3CDTF">2015-01-31T16:37:54Z</dcterms:modified>
  <cp:revision>50</cp:revision>
  <dc:subject/>
  <dc:title>Николай Алексеевич Некрасов</dc:title>
</cp:coreProperties>
</file>