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9.wmf" ContentType="image/x-wmf"/>
  <Override PartName="/ppt/media/image3.jpeg" ContentType="image/jpeg"/>
  <Override PartName="/ppt/media/image37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0565-DE12-4573-8255-3026C1467724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5BFE04-AF3E-457A-ACA3-E4A78902AD56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5083-BEDA-44B4-B8DF-DC02E9896E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6300-8800-4192-B946-1C219D367E1D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894-D9B4-4F1E-AAA5-84F5933B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7B8-A13A-4F96-86FE-B659F238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E5A-1F90-4CDF-A0A8-72D51EAD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D39-253B-435B-8233-70114827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DED-E944-4263-8F0C-6BCEBA0A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62E-8B00-43FE-846B-6E75AED2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39D-2D4F-4BF5-A70E-4DCECCBC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7EC-2C13-468F-ABEA-91641EE7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FC9-EF2F-472D-B051-40173BD3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9A5-0279-4F29-8214-E3A76F1C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74D-F638-488D-9552-BE5ACAC3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479-897A-4999-A6CA-F45B3D4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0F4E-E948-49B4-9331-9EC86AD053E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AB4C-5B18-430C-B0E1-B6A74468081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Презентация ученицы </a:t>
            </a: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2 «А» класса</a:t>
            </a: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Финк Ярославы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458136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ГБОУ лицей (технологический) с. Хрящёвк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Самарская облас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5AF8-8364-46A7-8675-4168C38B000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2A8B-64AB-4DBD-B239-6EADAD09431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 advTm="3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з какого рассказа эти диалог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Она жи-жи-живая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- Кто живая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-  Шля-шля-шля-п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-  Что ты! Разве шляпы бывают живые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1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324000" y="1197000"/>
            <a:ext cx="3809880" cy="480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39f46064a75e50a72f6937c402bee344"/>
          <p:cNvPicPr/>
          <p:nvPr/>
        </p:nvPicPr>
        <p:blipFill>
          <a:blip r:embed="rId2"/>
          <a:stretch/>
        </p:blipFill>
        <p:spPr>
          <a:xfrm>
            <a:off x="7236000" y="4437000"/>
            <a:ext cx="1434960" cy="1944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3" name="chimes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Из какого рассказа эти диалоги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Давай веревку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А ее нет, веревк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Где же она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Там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Где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там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Ну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В колодц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Так ты, значит, с веревкой ведро упустил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-  Ну да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5" name="Picture 4" descr="сканирование0007"/>
          <p:cNvPicPr/>
          <p:nvPr/>
        </p:nvPicPr>
        <p:blipFill>
          <a:blip r:embed="rId1"/>
          <a:stretch/>
        </p:blipFill>
        <p:spPr>
          <a:xfrm>
            <a:off x="468360" y="1557360"/>
            <a:ext cx="3506760" cy="475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Картинка 5 из 222"/>
          <p:cNvPicPr/>
          <p:nvPr/>
        </p:nvPicPr>
        <p:blipFill>
          <a:blip r:embed="rId2"/>
          <a:stretch/>
        </p:blipFill>
        <p:spPr>
          <a:xfrm>
            <a:off x="4788000" y="1484280"/>
            <a:ext cx="388764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Bar dir="vert"/>
    <p:sndAc>
      <p:stSnd>
        <p:snd r:embed="rId3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48320" y="1677960"/>
            <a:ext cx="39621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c0066"/>
                </a:solidFill>
                <a:latin typeface="Tahoma"/>
              </a:rPr>
              <a:t>А я раньше летать умел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Tahoma"/>
              </a:rPr>
              <a:t>-  А ну, полети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Tahoma"/>
              </a:rPr>
              <a:t>-  Сейчас не могу: разучился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Из какого рассказа эти диалоги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9" name="Picture 7" descr="Картинка 10 из 381"/>
          <p:cNvPicPr/>
          <p:nvPr/>
        </p:nvPicPr>
        <p:blipFill>
          <a:blip r:embed="rId1"/>
          <a:stretch/>
        </p:blipFill>
        <p:spPr>
          <a:xfrm>
            <a:off x="179280" y="1125360"/>
            <a:ext cx="2789280" cy="374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Картинка 12 из 381"/>
          <p:cNvPicPr/>
          <p:nvPr/>
        </p:nvPicPr>
        <p:blipFill>
          <a:blip r:embed="rId2"/>
          <a:stretch/>
        </p:blipFill>
        <p:spPr>
          <a:xfrm>
            <a:off x="2268360" y="3213000"/>
            <a:ext cx="2475000" cy="3240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3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Угадай рассказ, отгадав загадку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Не летает, не жужжит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Жук по улице бежит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И горят в глазах жук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Два блестящих огоньк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3" name="Picture 6" descr="Картинка 25 из 4174"/>
          <p:cNvPicPr/>
          <p:nvPr/>
        </p:nvPicPr>
        <p:blipFill>
          <a:blip r:embed="rId1"/>
          <a:stretch/>
        </p:blipFill>
        <p:spPr>
          <a:xfrm>
            <a:off x="4932360" y="1484280"/>
            <a:ext cx="360036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2" name="chimes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2065320"/>
            <a:ext cx="43434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С хозяином дружит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Дом сторожит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Живет под крылечком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Хвост колечком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Угадай рассказ, отгадав загадку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6" name="Picture 7" descr="Картинка 2 из 530"/>
          <p:cNvPicPr/>
          <p:nvPr/>
        </p:nvPicPr>
        <p:blipFill>
          <a:blip r:embed="rId1"/>
          <a:stretch/>
        </p:blipFill>
        <p:spPr>
          <a:xfrm>
            <a:off x="4859280" y="1341360"/>
            <a:ext cx="345600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2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Картинка 4 из 530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Картинка 3 из 530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Картинка 8 из 530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Картинка 11 из 530"/>
          <p:cNvPicPr/>
          <p:nvPr/>
        </p:nvPicPr>
        <p:blipFill>
          <a:blip r:embed="rId4"/>
          <a:stretch/>
        </p:blipFill>
        <p:spPr>
          <a:xfrm>
            <a:off x="0" y="549360"/>
            <a:ext cx="9144000" cy="5956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Картинка 13 из 530"/>
          <p:cNvPicPr/>
          <p:nvPr/>
        </p:nvPicPr>
        <p:blipFill>
          <a:blip r:embed="rId5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Картинка 15 из 530"/>
          <p:cNvPicPr/>
          <p:nvPr/>
        </p:nvPicPr>
        <p:blipFill>
          <a:blip r:embed="rId6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Картинка 37 из 530"/>
          <p:cNvPicPr/>
          <p:nvPr/>
        </p:nvPicPr>
        <p:blipFill>
          <a:blip r:embed="rId7"/>
          <a:stretch/>
        </p:blipFill>
        <p:spPr>
          <a:xfrm>
            <a:off x="0" y="549360"/>
            <a:ext cx="9144000" cy="593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Картинка 44 из 530"/>
          <p:cNvPicPr/>
          <p:nvPr/>
        </p:nvPicPr>
        <p:blipFill>
          <a:blip r:embed="rId8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5" descr="Картинка 5 из 530"/>
          <p:cNvPicPr/>
          <p:nvPr/>
        </p:nvPicPr>
        <p:blipFill>
          <a:blip r:embed="rId9"/>
          <a:stretch/>
        </p:blipFill>
        <p:spPr>
          <a:xfrm>
            <a:off x="0" y="549360"/>
            <a:ext cx="9144000" cy="5967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7" descr="Картинка 39 из 530"/>
          <p:cNvPicPr/>
          <p:nvPr/>
        </p:nvPicPr>
        <p:blipFill>
          <a:blip r:embed="rId10"/>
          <a:stretch/>
        </p:blipFill>
        <p:spPr>
          <a:xfrm>
            <a:off x="0" y="549360"/>
            <a:ext cx="9144000" cy="595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9" descr="Картинка 71 из 530"/>
          <p:cNvPicPr/>
          <p:nvPr/>
        </p:nvPicPr>
        <p:blipFill>
          <a:blip r:embed="rId11"/>
          <a:stretch/>
        </p:blipFill>
        <p:spPr>
          <a:xfrm>
            <a:off x="0" y="549360"/>
            <a:ext cx="9144000" cy="5970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  <p:sndAc>
      <p:stSnd>
        <p:snd r:embed="rId12" name="chimes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Угадай рассказ, отгадав загадку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На малину налетели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Поклевать ее хотели,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Но увидели урода </a:t>
            </a:r>
            <a:r>
              <a:rPr b="1" i="1" lang="ru-RU" sz="3200" spc="-1" strike="noStrike">
                <a:solidFill>
                  <a:srgbClr val="800000"/>
                </a:solidFill>
                <a:latin typeface="Calibri"/>
              </a:rPr>
              <a:t>–</a:t>
            </a: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И скорей из огорода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А урод стоит на палке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С бородою из мочалки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50" name="Picture 7" descr="Картинка 3 из 82"/>
          <p:cNvPicPr/>
          <p:nvPr/>
        </p:nvPicPr>
        <p:blipFill>
          <a:blip r:embed="rId1"/>
          <a:stretch/>
        </p:blipFill>
        <p:spPr>
          <a:xfrm>
            <a:off x="5580000" y="1197000"/>
            <a:ext cx="3291120" cy="51832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2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11164"/>
          <p:cNvPicPr/>
          <p:nvPr/>
        </p:nvPicPr>
        <p:blipFill>
          <a:blip r:embed="rId1"/>
          <a:stretch/>
        </p:blipFill>
        <p:spPr>
          <a:xfrm>
            <a:off x="2071800" y="785880"/>
            <a:ext cx="3887640" cy="4032360"/>
          </a:xfrm>
          <a:prstGeom prst="rect">
            <a:avLst/>
          </a:prstGeom>
          <a:ln w="0">
            <a:noFill/>
          </a:ln>
        </p:spPr>
      </p:pic>
      <p:sp>
        <p:nvSpPr>
          <p:cNvPr id="53" name="WordArt 8"/>
          <p:cNvSpPr txBox="1"/>
          <p:nvPr/>
        </p:nvSpPr>
        <p:spPr>
          <a:xfrm>
            <a:off x="611280" y="501336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иколай Николаевич Носов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4000">
    <p:randomBar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 внуком игорем"/>
          <p:cNvPicPr/>
          <p:nvPr/>
        </p:nvPicPr>
        <p:blipFill>
          <a:blip r:embed="rId1"/>
          <a:stretch/>
        </p:blipFill>
        <p:spPr>
          <a:xfrm>
            <a:off x="179280" y="765000"/>
            <a:ext cx="3864240" cy="4753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2484360" y="5734080"/>
            <a:ext cx="31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внуком Игорем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7" descr="409376977"/>
          <p:cNvPicPr/>
          <p:nvPr/>
        </p:nvPicPr>
        <p:blipFill>
          <a:blip r:embed="rId2"/>
          <a:stretch/>
        </p:blipFill>
        <p:spPr>
          <a:xfrm>
            <a:off x="4589640" y="765000"/>
            <a:ext cx="368604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33738038"/>
          <p:cNvPicPr/>
          <p:nvPr/>
        </p:nvPicPr>
        <p:blipFill>
          <a:blip r:embed="rId1"/>
          <a:stretch/>
        </p:blipFill>
        <p:spPr>
          <a:xfrm>
            <a:off x="250920" y="907920"/>
            <a:ext cx="4408560" cy="525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_f"/>
          <p:cNvPicPr/>
          <p:nvPr/>
        </p:nvPicPr>
        <p:blipFill>
          <a:blip r:embed="rId2"/>
          <a:stretch/>
        </p:blipFill>
        <p:spPr>
          <a:xfrm>
            <a:off x="4859280" y="907920"/>
            <a:ext cx="3960720" cy="518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468965029"/>
          <p:cNvPicPr/>
          <p:nvPr/>
        </p:nvPicPr>
        <p:blipFill>
          <a:blip r:embed="rId3"/>
          <a:stretch/>
        </p:blipFill>
        <p:spPr>
          <a:xfrm>
            <a:off x="179280" y="765000"/>
            <a:ext cx="8785440" cy="548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0284b088826b5d01"/>
          <p:cNvPicPr/>
          <p:nvPr/>
        </p:nvPicPr>
        <p:blipFill>
          <a:blip r:embed="rId4"/>
          <a:stretch/>
        </p:blipFill>
        <p:spPr>
          <a:xfrm>
            <a:off x="179280" y="765000"/>
            <a:ext cx="8785440" cy="5550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6443640" cy="19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  сценариям Н. Носова были сняты фильмы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2" name="Picture 4" descr="фотограф"/>
          <p:cNvPicPr/>
          <p:nvPr/>
        </p:nvPicPr>
        <p:blipFill>
          <a:blip r:embed="rId1"/>
          <a:stretch/>
        </p:blipFill>
        <p:spPr>
          <a:xfrm>
            <a:off x="395280" y="692280"/>
            <a:ext cx="17334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-16560" y="2782080"/>
            <a:ext cx="592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Дружок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– 1958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 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риключения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оли Клюквина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– 1964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Фантазеры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- 1965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4" name="Picture 6" descr="216167609"/>
          <p:cNvPicPr/>
          <p:nvPr/>
        </p:nvPicPr>
        <p:blipFill>
          <a:blip r:embed="rId2"/>
          <a:stretch/>
        </p:blipFill>
        <p:spPr>
          <a:xfrm>
            <a:off x="5796000" y="2349360"/>
            <a:ext cx="2968560" cy="40338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К 100-летию со дня рождения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7010280" y="4952880"/>
            <a:ext cx="1828440" cy="1523880"/>
            <a:chOff x="7010280" y="4952880"/>
            <a:chExt cx="1828440" cy="1523880"/>
          </a:xfrm>
        </p:grpSpPr>
        <p:sp>
          <p:nvSpPr>
            <p:cNvPr id="67" name="Rectangle 4"/>
            <p:cNvSpPr/>
            <p:nvPr/>
          </p:nvSpPr>
          <p:spPr>
            <a:xfrm>
              <a:off x="7726320" y="5369040"/>
              <a:ext cx="2584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7726320" y="5369040"/>
              <a:ext cx="260640" cy="285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69" name="Freeform 6"/>
            <p:cNvSpPr/>
            <p:nvPr/>
          </p:nvSpPr>
          <p:spPr>
            <a:xfrm>
              <a:off x="7052760" y="5016960"/>
              <a:ext cx="1671120" cy="1381680"/>
            </a:xfrm>
            <a:custGeom>
              <a:avLst/>
              <a:gdLst>
                <a:gd name="textAreaLeft" fmla="*/ 0 w 1671120"/>
                <a:gd name="textAreaRight" fmla="*/ 1671480 w 1671120"/>
                <a:gd name="textAreaTop" fmla="*/ 0 h 1381680"/>
                <a:gd name="textAreaBottom" fmla="*/ 1382040 h 1381680"/>
              </a:gdLst>
              <a:ahLst/>
              <a:rect l="textAreaLeft" t="textAreaTop" r="textAreaRight" b="textAreaBottom"/>
              <a:pathLst>
                <a:path w="1486" h="1450">
                  <a:moveTo>
                    <a:pt x="598" y="1450"/>
                  </a:moveTo>
                  <a:lnTo>
                    <a:pt x="606" y="1416"/>
                  </a:lnTo>
                  <a:lnTo>
                    <a:pt x="612" y="1380"/>
                  </a:lnTo>
                  <a:lnTo>
                    <a:pt x="619" y="1341"/>
                  </a:lnTo>
                  <a:lnTo>
                    <a:pt x="624" y="1303"/>
                  </a:lnTo>
                  <a:lnTo>
                    <a:pt x="628" y="1265"/>
                  </a:lnTo>
                  <a:lnTo>
                    <a:pt x="631" y="1228"/>
                  </a:lnTo>
                  <a:lnTo>
                    <a:pt x="631" y="1209"/>
                  </a:lnTo>
                  <a:lnTo>
                    <a:pt x="630" y="1192"/>
                  </a:lnTo>
                  <a:lnTo>
                    <a:pt x="628" y="1175"/>
                  </a:lnTo>
                  <a:lnTo>
                    <a:pt x="625" y="1160"/>
                  </a:lnTo>
                  <a:lnTo>
                    <a:pt x="618" y="1153"/>
                  </a:lnTo>
                  <a:lnTo>
                    <a:pt x="610" y="1149"/>
                  </a:lnTo>
                  <a:lnTo>
                    <a:pt x="604" y="1146"/>
                  </a:lnTo>
                  <a:lnTo>
                    <a:pt x="598" y="1144"/>
                  </a:lnTo>
                  <a:lnTo>
                    <a:pt x="592" y="1144"/>
                  </a:lnTo>
                  <a:lnTo>
                    <a:pt x="588" y="1144"/>
                  </a:lnTo>
                  <a:lnTo>
                    <a:pt x="580" y="1146"/>
                  </a:lnTo>
                  <a:lnTo>
                    <a:pt x="571" y="1149"/>
                  </a:lnTo>
                  <a:lnTo>
                    <a:pt x="556" y="1160"/>
                  </a:lnTo>
                  <a:lnTo>
                    <a:pt x="543" y="1170"/>
                  </a:lnTo>
                  <a:lnTo>
                    <a:pt x="528" y="1183"/>
                  </a:lnTo>
                  <a:lnTo>
                    <a:pt x="516" y="1197"/>
                  </a:lnTo>
                  <a:lnTo>
                    <a:pt x="487" y="1225"/>
                  </a:lnTo>
                  <a:lnTo>
                    <a:pt x="462" y="1254"/>
                  </a:lnTo>
                  <a:lnTo>
                    <a:pt x="438" y="1285"/>
                  </a:lnTo>
                  <a:lnTo>
                    <a:pt x="414" y="1318"/>
                  </a:lnTo>
                  <a:lnTo>
                    <a:pt x="393" y="1351"/>
                  </a:lnTo>
                  <a:lnTo>
                    <a:pt x="375" y="1382"/>
                  </a:lnTo>
                  <a:lnTo>
                    <a:pt x="373" y="1382"/>
                  </a:lnTo>
                  <a:lnTo>
                    <a:pt x="372" y="1383"/>
                  </a:lnTo>
                  <a:lnTo>
                    <a:pt x="370" y="1383"/>
                  </a:lnTo>
                  <a:lnTo>
                    <a:pt x="369" y="1385"/>
                  </a:lnTo>
                  <a:lnTo>
                    <a:pt x="378" y="1355"/>
                  </a:lnTo>
                  <a:lnTo>
                    <a:pt x="387" y="1326"/>
                  </a:lnTo>
                  <a:lnTo>
                    <a:pt x="397" y="1298"/>
                  </a:lnTo>
                  <a:lnTo>
                    <a:pt x="406" y="1268"/>
                  </a:lnTo>
                  <a:lnTo>
                    <a:pt x="414" y="1239"/>
                  </a:lnTo>
                  <a:lnTo>
                    <a:pt x="421" y="1209"/>
                  </a:lnTo>
                  <a:lnTo>
                    <a:pt x="429" y="1180"/>
                  </a:lnTo>
                  <a:lnTo>
                    <a:pt x="433" y="1152"/>
                  </a:lnTo>
                  <a:lnTo>
                    <a:pt x="438" y="1152"/>
                  </a:lnTo>
                  <a:lnTo>
                    <a:pt x="444" y="1153"/>
                  </a:lnTo>
                  <a:lnTo>
                    <a:pt x="451" y="1156"/>
                  </a:lnTo>
                  <a:lnTo>
                    <a:pt x="460" y="1160"/>
                  </a:lnTo>
                  <a:lnTo>
                    <a:pt x="469" y="1161"/>
                  </a:lnTo>
                  <a:lnTo>
                    <a:pt x="477" y="1164"/>
                  </a:lnTo>
                  <a:lnTo>
                    <a:pt x="483" y="1167"/>
                  </a:lnTo>
                  <a:lnTo>
                    <a:pt x="486" y="1169"/>
                  </a:lnTo>
                  <a:lnTo>
                    <a:pt x="495" y="1170"/>
                  </a:lnTo>
                  <a:lnTo>
                    <a:pt x="502" y="1170"/>
                  </a:lnTo>
                  <a:lnTo>
                    <a:pt x="510" y="1169"/>
                  </a:lnTo>
                  <a:lnTo>
                    <a:pt x="517" y="1169"/>
                  </a:lnTo>
                  <a:lnTo>
                    <a:pt x="525" y="1169"/>
                  </a:lnTo>
                  <a:lnTo>
                    <a:pt x="532" y="1167"/>
                  </a:lnTo>
                  <a:lnTo>
                    <a:pt x="541" y="1164"/>
                  </a:lnTo>
                  <a:lnTo>
                    <a:pt x="549" y="1160"/>
                  </a:lnTo>
                  <a:lnTo>
                    <a:pt x="559" y="1139"/>
                  </a:lnTo>
                  <a:lnTo>
                    <a:pt x="568" y="1127"/>
                  </a:lnTo>
                  <a:lnTo>
                    <a:pt x="573" y="1122"/>
                  </a:lnTo>
                  <a:lnTo>
                    <a:pt x="577" y="1118"/>
                  </a:lnTo>
                  <a:lnTo>
                    <a:pt x="582" y="1116"/>
                  </a:lnTo>
                  <a:lnTo>
                    <a:pt x="586" y="1114"/>
                  </a:lnTo>
                  <a:lnTo>
                    <a:pt x="595" y="1113"/>
                  </a:lnTo>
                  <a:lnTo>
                    <a:pt x="609" y="1116"/>
                  </a:lnTo>
                  <a:lnTo>
                    <a:pt x="625" y="1121"/>
                  </a:lnTo>
                  <a:lnTo>
                    <a:pt x="648" y="1127"/>
                  </a:lnTo>
                  <a:lnTo>
                    <a:pt x="654" y="1127"/>
                  </a:lnTo>
                  <a:lnTo>
                    <a:pt x="660" y="1128"/>
                  </a:lnTo>
                  <a:lnTo>
                    <a:pt x="667" y="1128"/>
                  </a:lnTo>
                  <a:lnTo>
                    <a:pt x="675" y="1130"/>
                  </a:lnTo>
                  <a:lnTo>
                    <a:pt x="684" y="1132"/>
                  </a:lnTo>
                  <a:lnTo>
                    <a:pt x="693" y="1132"/>
                  </a:lnTo>
                  <a:lnTo>
                    <a:pt x="697" y="1135"/>
                  </a:lnTo>
                  <a:lnTo>
                    <a:pt x="703" y="1136"/>
                  </a:lnTo>
                  <a:lnTo>
                    <a:pt x="726" y="1139"/>
                  </a:lnTo>
                  <a:lnTo>
                    <a:pt x="745" y="1142"/>
                  </a:lnTo>
                  <a:lnTo>
                    <a:pt x="766" y="1146"/>
                  </a:lnTo>
                  <a:lnTo>
                    <a:pt x="789" y="1147"/>
                  </a:lnTo>
                  <a:lnTo>
                    <a:pt x="810" y="1147"/>
                  </a:lnTo>
                  <a:lnTo>
                    <a:pt x="832" y="1147"/>
                  </a:lnTo>
                  <a:lnTo>
                    <a:pt x="853" y="1144"/>
                  </a:lnTo>
                  <a:lnTo>
                    <a:pt x="874" y="1138"/>
                  </a:lnTo>
                  <a:lnTo>
                    <a:pt x="889" y="1127"/>
                  </a:lnTo>
                  <a:lnTo>
                    <a:pt x="903" y="1113"/>
                  </a:lnTo>
                  <a:lnTo>
                    <a:pt x="915" y="1096"/>
                  </a:lnTo>
                  <a:lnTo>
                    <a:pt x="927" y="1080"/>
                  </a:lnTo>
                  <a:lnTo>
                    <a:pt x="939" y="1063"/>
                  </a:lnTo>
                  <a:lnTo>
                    <a:pt x="948" y="1048"/>
                  </a:lnTo>
                  <a:lnTo>
                    <a:pt x="957" y="1029"/>
                  </a:lnTo>
                  <a:lnTo>
                    <a:pt x="966" y="1013"/>
                  </a:lnTo>
                  <a:lnTo>
                    <a:pt x="967" y="1013"/>
                  </a:lnTo>
                  <a:lnTo>
                    <a:pt x="969" y="1013"/>
                  </a:lnTo>
                  <a:lnTo>
                    <a:pt x="970" y="1012"/>
                  </a:lnTo>
                  <a:lnTo>
                    <a:pt x="973" y="1012"/>
                  </a:lnTo>
                  <a:lnTo>
                    <a:pt x="975" y="1012"/>
                  </a:lnTo>
                  <a:lnTo>
                    <a:pt x="976" y="1012"/>
                  </a:lnTo>
                  <a:lnTo>
                    <a:pt x="978" y="1010"/>
                  </a:lnTo>
                  <a:lnTo>
                    <a:pt x="979" y="1010"/>
                  </a:lnTo>
                  <a:lnTo>
                    <a:pt x="1000" y="993"/>
                  </a:lnTo>
                  <a:lnTo>
                    <a:pt x="1023" y="976"/>
                  </a:lnTo>
                  <a:lnTo>
                    <a:pt x="1045" y="957"/>
                  </a:lnTo>
                  <a:lnTo>
                    <a:pt x="1065" y="940"/>
                  </a:lnTo>
                  <a:lnTo>
                    <a:pt x="1086" y="920"/>
                  </a:lnTo>
                  <a:lnTo>
                    <a:pt x="1105" y="900"/>
                  </a:lnTo>
                  <a:lnTo>
                    <a:pt x="1122" y="878"/>
                  </a:lnTo>
                  <a:lnTo>
                    <a:pt x="1140" y="855"/>
                  </a:lnTo>
                  <a:lnTo>
                    <a:pt x="1153" y="827"/>
                  </a:lnTo>
                  <a:lnTo>
                    <a:pt x="1165" y="797"/>
                  </a:lnTo>
                  <a:lnTo>
                    <a:pt x="1177" y="769"/>
                  </a:lnTo>
                  <a:lnTo>
                    <a:pt x="1186" y="740"/>
                  </a:lnTo>
                  <a:lnTo>
                    <a:pt x="1191" y="710"/>
                  </a:lnTo>
                  <a:lnTo>
                    <a:pt x="1195" y="681"/>
                  </a:lnTo>
                  <a:lnTo>
                    <a:pt x="1195" y="665"/>
                  </a:lnTo>
                  <a:lnTo>
                    <a:pt x="1195" y="650"/>
                  </a:lnTo>
                  <a:lnTo>
                    <a:pt x="1194" y="634"/>
                  </a:lnTo>
                  <a:lnTo>
                    <a:pt x="1191" y="619"/>
                  </a:lnTo>
                  <a:lnTo>
                    <a:pt x="1183" y="592"/>
                  </a:lnTo>
                  <a:lnTo>
                    <a:pt x="1173" y="564"/>
                  </a:lnTo>
                  <a:lnTo>
                    <a:pt x="1159" y="536"/>
                  </a:lnTo>
                  <a:lnTo>
                    <a:pt x="1147" y="511"/>
                  </a:lnTo>
                  <a:lnTo>
                    <a:pt x="1131" y="488"/>
                  </a:lnTo>
                  <a:lnTo>
                    <a:pt x="1113" y="463"/>
                  </a:lnTo>
                  <a:lnTo>
                    <a:pt x="1093" y="440"/>
                  </a:lnTo>
                  <a:lnTo>
                    <a:pt x="1074" y="420"/>
                  </a:lnTo>
                  <a:lnTo>
                    <a:pt x="1051" y="398"/>
                  </a:lnTo>
                  <a:lnTo>
                    <a:pt x="1030" y="381"/>
                  </a:lnTo>
                  <a:lnTo>
                    <a:pt x="1008" y="362"/>
                  </a:lnTo>
                  <a:lnTo>
                    <a:pt x="982" y="348"/>
                  </a:lnTo>
                  <a:lnTo>
                    <a:pt x="957" y="334"/>
                  </a:lnTo>
                  <a:lnTo>
                    <a:pt x="933" y="322"/>
                  </a:lnTo>
                  <a:lnTo>
                    <a:pt x="906" y="312"/>
                  </a:lnTo>
                  <a:lnTo>
                    <a:pt x="879" y="306"/>
                  </a:lnTo>
                  <a:lnTo>
                    <a:pt x="876" y="303"/>
                  </a:lnTo>
                  <a:lnTo>
                    <a:pt x="871" y="301"/>
                  </a:lnTo>
                  <a:lnTo>
                    <a:pt x="865" y="298"/>
                  </a:lnTo>
                  <a:lnTo>
                    <a:pt x="858" y="297"/>
                  </a:lnTo>
                  <a:lnTo>
                    <a:pt x="840" y="295"/>
                  </a:lnTo>
                  <a:lnTo>
                    <a:pt x="822" y="294"/>
                  </a:lnTo>
                  <a:lnTo>
                    <a:pt x="802" y="294"/>
                  </a:lnTo>
                  <a:lnTo>
                    <a:pt x="786" y="294"/>
                  </a:lnTo>
                  <a:lnTo>
                    <a:pt x="772" y="294"/>
                  </a:lnTo>
                  <a:lnTo>
                    <a:pt x="766" y="294"/>
                  </a:lnTo>
                  <a:lnTo>
                    <a:pt x="744" y="297"/>
                  </a:lnTo>
                  <a:lnTo>
                    <a:pt x="723" y="298"/>
                  </a:lnTo>
                  <a:lnTo>
                    <a:pt x="702" y="303"/>
                  </a:lnTo>
                  <a:lnTo>
                    <a:pt x="682" y="306"/>
                  </a:lnTo>
                  <a:lnTo>
                    <a:pt x="661" y="312"/>
                  </a:lnTo>
                  <a:lnTo>
                    <a:pt x="643" y="315"/>
                  </a:lnTo>
                  <a:lnTo>
                    <a:pt x="624" y="323"/>
                  </a:lnTo>
                  <a:lnTo>
                    <a:pt x="606" y="329"/>
                  </a:lnTo>
                  <a:lnTo>
                    <a:pt x="588" y="339"/>
                  </a:lnTo>
                  <a:lnTo>
                    <a:pt x="570" y="348"/>
                  </a:lnTo>
                  <a:lnTo>
                    <a:pt x="552" y="356"/>
                  </a:lnTo>
                  <a:lnTo>
                    <a:pt x="534" y="367"/>
                  </a:lnTo>
                  <a:lnTo>
                    <a:pt x="517" y="378"/>
                  </a:lnTo>
                  <a:lnTo>
                    <a:pt x="501" y="388"/>
                  </a:lnTo>
                  <a:lnTo>
                    <a:pt x="483" y="401"/>
                  </a:lnTo>
                  <a:lnTo>
                    <a:pt x="468" y="415"/>
                  </a:lnTo>
                  <a:lnTo>
                    <a:pt x="442" y="446"/>
                  </a:lnTo>
                  <a:lnTo>
                    <a:pt x="418" y="477"/>
                  </a:lnTo>
                  <a:lnTo>
                    <a:pt x="399" y="510"/>
                  </a:lnTo>
                  <a:lnTo>
                    <a:pt x="379" y="542"/>
                  </a:lnTo>
                  <a:lnTo>
                    <a:pt x="372" y="561"/>
                  </a:lnTo>
                  <a:lnTo>
                    <a:pt x="364" y="577"/>
                  </a:lnTo>
                  <a:lnTo>
                    <a:pt x="358" y="597"/>
                  </a:lnTo>
                  <a:lnTo>
                    <a:pt x="351" y="614"/>
                  </a:lnTo>
                  <a:lnTo>
                    <a:pt x="346" y="634"/>
                  </a:lnTo>
                  <a:lnTo>
                    <a:pt x="342" y="653"/>
                  </a:lnTo>
                  <a:lnTo>
                    <a:pt x="339" y="673"/>
                  </a:lnTo>
                  <a:lnTo>
                    <a:pt x="336" y="693"/>
                  </a:lnTo>
                  <a:lnTo>
                    <a:pt x="331" y="699"/>
                  </a:lnTo>
                  <a:lnTo>
                    <a:pt x="328" y="704"/>
                  </a:lnTo>
                  <a:lnTo>
                    <a:pt x="325" y="710"/>
                  </a:lnTo>
                  <a:lnTo>
                    <a:pt x="324" y="716"/>
                  </a:lnTo>
                  <a:lnTo>
                    <a:pt x="321" y="723"/>
                  </a:lnTo>
                  <a:lnTo>
                    <a:pt x="319" y="727"/>
                  </a:lnTo>
                  <a:lnTo>
                    <a:pt x="316" y="734"/>
                  </a:lnTo>
                  <a:lnTo>
                    <a:pt x="313" y="741"/>
                  </a:lnTo>
                  <a:lnTo>
                    <a:pt x="309" y="762"/>
                  </a:lnTo>
                  <a:lnTo>
                    <a:pt x="306" y="783"/>
                  </a:lnTo>
                  <a:lnTo>
                    <a:pt x="301" y="805"/>
                  </a:lnTo>
                  <a:lnTo>
                    <a:pt x="297" y="827"/>
                  </a:lnTo>
                  <a:lnTo>
                    <a:pt x="292" y="849"/>
                  </a:lnTo>
                  <a:lnTo>
                    <a:pt x="288" y="870"/>
                  </a:lnTo>
                  <a:lnTo>
                    <a:pt x="283" y="891"/>
                  </a:lnTo>
                  <a:lnTo>
                    <a:pt x="279" y="912"/>
                  </a:lnTo>
                  <a:lnTo>
                    <a:pt x="276" y="922"/>
                  </a:lnTo>
                  <a:lnTo>
                    <a:pt x="274" y="929"/>
                  </a:lnTo>
                  <a:lnTo>
                    <a:pt x="273" y="936"/>
                  </a:lnTo>
                  <a:lnTo>
                    <a:pt x="271" y="939"/>
                  </a:lnTo>
                  <a:lnTo>
                    <a:pt x="270" y="942"/>
                  </a:lnTo>
                  <a:lnTo>
                    <a:pt x="270" y="945"/>
                  </a:lnTo>
                  <a:lnTo>
                    <a:pt x="268" y="947"/>
                  </a:lnTo>
                  <a:lnTo>
                    <a:pt x="267" y="950"/>
                  </a:lnTo>
                  <a:lnTo>
                    <a:pt x="256" y="953"/>
                  </a:lnTo>
                  <a:lnTo>
                    <a:pt x="244" y="956"/>
                  </a:lnTo>
                  <a:lnTo>
                    <a:pt x="235" y="959"/>
                  </a:lnTo>
                  <a:lnTo>
                    <a:pt x="226" y="961"/>
                  </a:lnTo>
                  <a:lnTo>
                    <a:pt x="217" y="964"/>
                  </a:lnTo>
                  <a:lnTo>
                    <a:pt x="207" y="965"/>
                  </a:lnTo>
                  <a:lnTo>
                    <a:pt x="199" y="970"/>
                  </a:lnTo>
                  <a:lnTo>
                    <a:pt x="189" y="973"/>
                  </a:lnTo>
                  <a:lnTo>
                    <a:pt x="163" y="978"/>
                  </a:lnTo>
                  <a:lnTo>
                    <a:pt x="139" y="982"/>
                  </a:lnTo>
                  <a:lnTo>
                    <a:pt x="117" y="985"/>
                  </a:lnTo>
                  <a:lnTo>
                    <a:pt x="93" y="990"/>
                  </a:lnTo>
                  <a:lnTo>
                    <a:pt x="67" y="996"/>
                  </a:lnTo>
                  <a:lnTo>
                    <a:pt x="45" y="1003"/>
                  </a:lnTo>
                  <a:lnTo>
                    <a:pt x="22" y="1010"/>
                  </a:lnTo>
                  <a:lnTo>
                    <a:pt x="0" y="1016"/>
                  </a:lnTo>
                  <a:lnTo>
                    <a:pt x="0" y="1012"/>
                  </a:lnTo>
                  <a:lnTo>
                    <a:pt x="1" y="1009"/>
                  </a:lnTo>
                  <a:lnTo>
                    <a:pt x="4" y="1006"/>
                  </a:lnTo>
                  <a:lnTo>
                    <a:pt x="9" y="1003"/>
                  </a:lnTo>
                  <a:lnTo>
                    <a:pt x="13" y="999"/>
                  </a:lnTo>
                  <a:lnTo>
                    <a:pt x="16" y="998"/>
                  </a:lnTo>
                  <a:lnTo>
                    <a:pt x="21" y="995"/>
                  </a:lnTo>
                  <a:lnTo>
                    <a:pt x="22" y="992"/>
                  </a:lnTo>
                  <a:lnTo>
                    <a:pt x="40" y="981"/>
                  </a:lnTo>
                  <a:lnTo>
                    <a:pt x="57" y="968"/>
                  </a:lnTo>
                  <a:lnTo>
                    <a:pt x="73" y="956"/>
                  </a:lnTo>
                  <a:lnTo>
                    <a:pt x="91" y="943"/>
                  </a:lnTo>
                  <a:lnTo>
                    <a:pt x="106" y="931"/>
                  </a:lnTo>
                  <a:lnTo>
                    <a:pt x="123" y="915"/>
                  </a:lnTo>
                  <a:lnTo>
                    <a:pt x="138" y="903"/>
                  </a:lnTo>
                  <a:lnTo>
                    <a:pt x="154" y="889"/>
                  </a:lnTo>
                  <a:lnTo>
                    <a:pt x="160" y="881"/>
                  </a:lnTo>
                  <a:lnTo>
                    <a:pt x="165" y="873"/>
                  </a:lnTo>
                  <a:lnTo>
                    <a:pt x="171" y="867"/>
                  </a:lnTo>
                  <a:lnTo>
                    <a:pt x="175" y="859"/>
                  </a:lnTo>
                  <a:lnTo>
                    <a:pt x="181" y="852"/>
                  </a:lnTo>
                  <a:lnTo>
                    <a:pt x="187" y="845"/>
                  </a:lnTo>
                  <a:lnTo>
                    <a:pt x="193" y="838"/>
                  </a:lnTo>
                  <a:lnTo>
                    <a:pt x="199" y="831"/>
                  </a:lnTo>
                  <a:lnTo>
                    <a:pt x="201" y="822"/>
                  </a:lnTo>
                  <a:lnTo>
                    <a:pt x="204" y="814"/>
                  </a:lnTo>
                  <a:lnTo>
                    <a:pt x="207" y="808"/>
                  </a:lnTo>
                  <a:lnTo>
                    <a:pt x="210" y="802"/>
                  </a:lnTo>
                  <a:lnTo>
                    <a:pt x="211" y="797"/>
                  </a:lnTo>
                  <a:lnTo>
                    <a:pt x="214" y="794"/>
                  </a:lnTo>
                  <a:lnTo>
                    <a:pt x="217" y="788"/>
                  </a:lnTo>
                  <a:lnTo>
                    <a:pt x="220" y="780"/>
                  </a:lnTo>
                  <a:lnTo>
                    <a:pt x="220" y="779"/>
                  </a:lnTo>
                  <a:lnTo>
                    <a:pt x="219" y="779"/>
                  </a:lnTo>
                  <a:lnTo>
                    <a:pt x="219" y="777"/>
                  </a:lnTo>
                  <a:lnTo>
                    <a:pt x="217" y="776"/>
                  </a:lnTo>
                  <a:lnTo>
                    <a:pt x="217" y="774"/>
                  </a:lnTo>
                  <a:lnTo>
                    <a:pt x="217" y="771"/>
                  </a:lnTo>
                  <a:lnTo>
                    <a:pt x="216" y="768"/>
                  </a:lnTo>
                  <a:lnTo>
                    <a:pt x="214" y="763"/>
                  </a:lnTo>
                  <a:lnTo>
                    <a:pt x="196" y="737"/>
                  </a:lnTo>
                  <a:lnTo>
                    <a:pt x="175" y="715"/>
                  </a:lnTo>
                  <a:lnTo>
                    <a:pt x="154" y="692"/>
                  </a:lnTo>
                  <a:lnTo>
                    <a:pt x="130" y="673"/>
                  </a:lnTo>
                  <a:lnTo>
                    <a:pt x="106" y="656"/>
                  </a:lnTo>
                  <a:lnTo>
                    <a:pt x="81" y="640"/>
                  </a:lnTo>
                  <a:lnTo>
                    <a:pt x="54" y="626"/>
                  </a:lnTo>
                  <a:lnTo>
                    <a:pt x="25" y="612"/>
                  </a:lnTo>
                  <a:lnTo>
                    <a:pt x="25" y="611"/>
                  </a:lnTo>
                  <a:lnTo>
                    <a:pt x="25" y="609"/>
                  </a:lnTo>
                  <a:lnTo>
                    <a:pt x="33" y="609"/>
                  </a:lnTo>
                  <a:lnTo>
                    <a:pt x="39" y="611"/>
                  </a:lnTo>
                  <a:lnTo>
                    <a:pt x="43" y="611"/>
                  </a:lnTo>
                  <a:lnTo>
                    <a:pt x="51" y="611"/>
                  </a:lnTo>
                  <a:lnTo>
                    <a:pt x="57" y="612"/>
                  </a:lnTo>
                  <a:lnTo>
                    <a:pt x="66" y="614"/>
                  </a:lnTo>
                  <a:lnTo>
                    <a:pt x="79" y="617"/>
                  </a:lnTo>
                  <a:lnTo>
                    <a:pt x="94" y="619"/>
                  </a:lnTo>
                  <a:lnTo>
                    <a:pt x="120" y="620"/>
                  </a:lnTo>
                  <a:lnTo>
                    <a:pt x="144" y="620"/>
                  </a:lnTo>
                  <a:lnTo>
                    <a:pt x="156" y="620"/>
                  </a:lnTo>
                  <a:lnTo>
                    <a:pt x="165" y="619"/>
                  </a:lnTo>
                  <a:lnTo>
                    <a:pt x="175" y="617"/>
                  </a:lnTo>
                  <a:lnTo>
                    <a:pt x="186" y="614"/>
                  </a:lnTo>
                  <a:lnTo>
                    <a:pt x="195" y="611"/>
                  </a:lnTo>
                  <a:lnTo>
                    <a:pt x="201" y="606"/>
                  </a:lnTo>
                  <a:lnTo>
                    <a:pt x="207" y="598"/>
                  </a:lnTo>
                  <a:lnTo>
                    <a:pt x="211" y="591"/>
                  </a:lnTo>
                  <a:lnTo>
                    <a:pt x="214" y="580"/>
                  </a:lnTo>
                  <a:lnTo>
                    <a:pt x="214" y="569"/>
                  </a:lnTo>
                  <a:lnTo>
                    <a:pt x="214" y="553"/>
                  </a:lnTo>
                  <a:lnTo>
                    <a:pt x="210" y="536"/>
                  </a:lnTo>
                  <a:lnTo>
                    <a:pt x="199" y="516"/>
                  </a:lnTo>
                  <a:lnTo>
                    <a:pt x="190" y="497"/>
                  </a:lnTo>
                  <a:lnTo>
                    <a:pt x="180" y="479"/>
                  </a:lnTo>
                  <a:lnTo>
                    <a:pt x="169" y="461"/>
                  </a:lnTo>
                  <a:lnTo>
                    <a:pt x="160" y="444"/>
                  </a:lnTo>
                  <a:lnTo>
                    <a:pt x="150" y="427"/>
                  </a:lnTo>
                  <a:lnTo>
                    <a:pt x="139" y="412"/>
                  </a:lnTo>
                  <a:lnTo>
                    <a:pt x="127" y="395"/>
                  </a:lnTo>
                  <a:lnTo>
                    <a:pt x="121" y="388"/>
                  </a:lnTo>
                  <a:lnTo>
                    <a:pt x="114" y="382"/>
                  </a:lnTo>
                  <a:lnTo>
                    <a:pt x="106" y="373"/>
                  </a:lnTo>
                  <a:lnTo>
                    <a:pt x="97" y="364"/>
                  </a:lnTo>
                  <a:lnTo>
                    <a:pt x="91" y="354"/>
                  </a:lnTo>
                  <a:lnTo>
                    <a:pt x="85" y="346"/>
                  </a:lnTo>
                  <a:lnTo>
                    <a:pt x="79" y="339"/>
                  </a:lnTo>
                  <a:lnTo>
                    <a:pt x="76" y="332"/>
                  </a:lnTo>
                  <a:lnTo>
                    <a:pt x="96" y="343"/>
                  </a:lnTo>
                  <a:lnTo>
                    <a:pt x="115" y="353"/>
                  </a:lnTo>
                  <a:lnTo>
                    <a:pt x="135" y="365"/>
                  </a:lnTo>
                  <a:lnTo>
                    <a:pt x="156" y="378"/>
                  </a:lnTo>
                  <a:lnTo>
                    <a:pt x="175" y="388"/>
                  </a:lnTo>
                  <a:lnTo>
                    <a:pt x="196" y="399"/>
                  </a:lnTo>
                  <a:lnTo>
                    <a:pt x="216" y="412"/>
                  </a:lnTo>
                  <a:lnTo>
                    <a:pt x="237" y="423"/>
                  </a:lnTo>
                  <a:lnTo>
                    <a:pt x="252" y="424"/>
                  </a:lnTo>
                  <a:lnTo>
                    <a:pt x="267" y="426"/>
                  </a:lnTo>
                  <a:lnTo>
                    <a:pt x="279" y="429"/>
                  </a:lnTo>
                  <a:lnTo>
                    <a:pt x="294" y="429"/>
                  </a:lnTo>
                  <a:lnTo>
                    <a:pt x="300" y="429"/>
                  </a:lnTo>
                  <a:lnTo>
                    <a:pt x="306" y="427"/>
                  </a:lnTo>
                  <a:lnTo>
                    <a:pt x="312" y="426"/>
                  </a:lnTo>
                  <a:lnTo>
                    <a:pt x="318" y="424"/>
                  </a:lnTo>
                  <a:lnTo>
                    <a:pt x="324" y="420"/>
                  </a:lnTo>
                  <a:lnTo>
                    <a:pt x="328" y="415"/>
                  </a:lnTo>
                  <a:lnTo>
                    <a:pt x="334" y="407"/>
                  </a:lnTo>
                  <a:lnTo>
                    <a:pt x="340" y="399"/>
                  </a:lnTo>
                  <a:lnTo>
                    <a:pt x="339" y="381"/>
                  </a:lnTo>
                  <a:lnTo>
                    <a:pt x="336" y="360"/>
                  </a:lnTo>
                  <a:lnTo>
                    <a:pt x="333" y="342"/>
                  </a:lnTo>
                  <a:lnTo>
                    <a:pt x="327" y="325"/>
                  </a:lnTo>
                  <a:lnTo>
                    <a:pt x="321" y="308"/>
                  </a:lnTo>
                  <a:lnTo>
                    <a:pt x="315" y="290"/>
                  </a:lnTo>
                  <a:lnTo>
                    <a:pt x="306" y="275"/>
                  </a:lnTo>
                  <a:lnTo>
                    <a:pt x="298" y="256"/>
                  </a:lnTo>
                  <a:lnTo>
                    <a:pt x="298" y="255"/>
                  </a:lnTo>
                  <a:lnTo>
                    <a:pt x="300" y="253"/>
                  </a:lnTo>
                  <a:lnTo>
                    <a:pt x="300" y="252"/>
                  </a:lnTo>
                  <a:lnTo>
                    <a:pt x="309" y="261"/>
                  </a:lnTo>
                  <a:lnTo>
                    <a:pt x="319" y="272"/>
                  </a:lnTo>
                  <a:lnTo>
                    <a:pt x="331" y="280"/>
                  </a:lnTo>
                  <a:lnTo>
                    <a:pt x="340" y="290"/>
                  </a:lnTo>
                  <a:lnTo>
                    <a:pt x="352" y="300"/>
                  </a:lnTo>
                  <a:lnTo>
                    <a:pt x="363" y="311"/>
                  </a:lnTo>
                  <a:lnTo>
                    <a:pt x="376" y="320"/>
                  </a:lnTo>
                  <a:lnTo>
                    <a:pt x="388" y="329"/>
                  </a:lnTo>
                  <a:lnTo>
                    <a:pt x="393" y="329"/>
                  </a:lnTo>
                  <a:lnTo>
                    <a:pt x="397" y="329"/>
                  </a:lnTo>
                  <a:lnTo>
                    <a:pt x="402" y="329"/>
                  </a:lnTo>
                  <a:lnTo>
                    <a:pt x="405" y="329"/>
                  </a:lnTo>
                  <a:lnTo>
                    <a:pt x="409" y="329"/>
                  </a:lnTo>
                  <a:lnTo>
                    <a:pt x="412" y="329"/>
                  </a:lnTo>
                  <a:lnTo>
                    <a:pt x="417" y="329"/>
                  </a:lnTo>
                  <a:lnTo>
                    <a:pt x="421" y="328"/>
                  </a:lnTo>
                  <a:lnTo>
                    <a:pt x="423" y="323"/>
                  </a:lnTo>
                  <a:lnTo>
                    <a:pt x="424" y="320"/>
                  </a:lnTo>
                  <a:lnTo>
                    <a:pt x="426" y="317"/>
                  </a:lnTo>
                  <a:lnTo>
                    <a:pt x="427" y="314"/>
                  </a:lnTo>
                  <a:lnTo>
                    <a:pt x="429" y="312"/>
                  </a:lnTo>
                  <a:lnTo>
                    <a:pt x="430" y="308"/>
                  </a:lnTo>
                  <a:lnTo>
                    <a:pt x="432" y="303"/>
                  </a:lnTo>
                  <a:lnTo>
                    <a:pt x="435" y="297"/>
                  </a:lnTo>
                  <a:lnTo>
                    <a:pt x="435" y="272"/>
                  </a:lnTo>
                  <a:lnTo>
                    <a:pt x="433" y="245"/>
                  </a:lnTo>
                  <a:lnTo>
                    <a:pt x="430" y="221"/>
                  </a:lnTo>
                  <a:lnTo>
                    <a:pt x="427" y="197"/>
                  </a:lnTo>
                  <a:lnTo>
                    <a:pt x="424" y="172"/>
                  </a:lnTo>
                  <a:lnTo>
                    <a:pt x="418" y="151"/>
                  </a:lnTo>
                  <a:lnTo>
                    <a:pt x="414" y="126"/>
                  </a:lnTo>
                  <a:lnTo>
                    <a:pt x="409" y="101"/>
                  </a:lnTo>
                  <a:lnTo>
                    <a:pt x="408" y="95"/>
                  </a:lnTo>
                  <a:lnTo>
                    <a:pt x="406" y="88"/>
                  </a:lnTo>
                  <a:lnTo>
                    <a:pt x="406" y="82"/>
                  </a:lnTo>
                  <a:lnTo>
                    <a:pt x="405" y="74"/>
                  </a:lnTo>
                  <a:lnTo>
                    <a:pt x="403" y="68"/>
                  </a:lnTo>
                  <a:lnTo>
                    <a:pt x="402" y="60"/>
                  </a:lnTo>
                  <a:lnTo>
                    <a:pt x="402" y="54"/>
                  </a:lnTo>
                  <a:lnTo>
                    <a:pt x="400" y="48"/>
                  </a:lnTo>
                  <a:lnTo>
                    <a:pt x="402" y="48"/>
                  </a:lnTo>
                  <a:lnTo>
                    <a:pt x="403" y="48"/>
                  </a:lnTo>
                  <a:lnTo>
                    <a:pt x="405" y="48"/>
                  </a:lnTo>
                  <a:lnTo>
                    <a:pt x="414" y="73"/>
                  </a:lnTo>
                  <a:lnTo>
                    <a:pt x="426" y="101"/>
                  </a:lnTo>
                  <a:lnTo>
                    <a:pt x="439" y="130"/>
                  </a:lnTo>
                  <a:lnTo>
                    <a:pt x="454" y="160"/>
                  </a:lnTo>
                  <a:lnTo>
                    <a:pt x="463" y="174"/>
                  </a:lnTo>
                  <a:lnTo>
                    <a:pt x="472" y="188"/>
                  </a:lnTo>
                  <a:lnTo>
                    <a:pt x="483" y="200"/>
                  </a:lnTo>
                  <a:lnTo>
                    <a:pt x="492" y="211"/>
                  </a:lnTo>
                  <a:lnTo>
                    <a:pt x="504" y="224"/>
                  </a:lnTo>
                  <a:lnTo>
                    <a:pt x="516" y="233"/>
                  </a:lnTo>
                  <a:lnTo>
                    <a:pt x="528" y="239"/>
                  </a:lnTo>
                  <a:lnTo>
                    <a:pt x="541" y="247"/>
                  </a:lnTo>
                  <a:lnTo>
                    <a:pt x="553" y="245"/>
                  </a:lnTo>
                  <a:lnTo>
                    <a:pt x="564" y="244"/>
                  </a:lnTo>
                  <a:lnTo>
                    <a:pt x="573" y="241"/>
                  </a:lnTo>
                  <a:lnTo>
                    <a:pt x="580" y="238"/>
                  </a:lnTo>
                  <a:lnTo>
                    <a:pt x="586" y="233"/>
                  </a:lnTo>
                  <a:lnTo>
                    <a:pt x="589" y="227"/>
                  </a:lnTo>
                  <a:lnTo>
                    <a:pt x="594" y="219"/>
                  </a:lnTo>
                  <a:lnTo>
                    <a:pt x="597" y="213"/>
                  </a:lnTo>
                  <a:lnTo>
                    <a:pt x="600" y="196"/>
                  </a:lnTo>
                  <a:lnTo>
                    <a:pt x="601" y="177"/>
                  </a:lnTo>
                  <a:lnTo>
                    <a:pt x="601" y="158"/>
                  </a:lnTo>
                  <a:lnTo>
                    <a:pt x="600" y="137"/>
                  </a:lnTo>
                  <a:lnTo>
                    <a:pt x="601" y="137"/>
                  </a:lnTo>
                  <a:lnTo>
                    <a:pt x="603" y="137"/>
                  </a:lnTo>
                  <a:lnTo>
                    <a:pt x="603" y="138"/>
                  </a:lnTo>
                  <a:lnTo>
                    <a:pt x="604" y="138"/>
                  </a:lnTo>
                  <a:lnTo>
                    <a:pt x="610" y="160"/>
                  </a:lnTo>
                  <a:lnTo>
                    <a:pt x="615" y="175"/>
                  </a:lnTo>
                  <a:lnTo>
                    <a:pt x="621" y="189"/>
                  </a:lnTo>
                  <a:lnTo>
                    <a:pt x="625" y="199"/>
                  </a:lnTo>
                  <a:lnTo>
                    <a:pt x="630" y="202"/>
                  </a:lnTo>
                  <a:lnTo>
                    <a:pt x="634" y="205"/>
                  </a:lnTo>
                  <a:lnTo>
                    <a:pt x="640" y="207"/>
                  </a:lnTo>
                  <a:lnTo>
                    <a:pt x="646" y="210"/>
                  </a:lnTo>
                  <a:lnTo>
                    <a:pt x="661" y="211"/>
                  </a:lnTo>
                  <a:lnTo>
                    <a:pt x="681" y="213"/>
                  </a:lnTo>
                  <a:lnTo>
                    <a:pt x="687" y="211"/>
                  </a:lnTo>
                  <a:lnTo>
                    <a:pt x="693" y="208"/>
                  </a:lnTo>
                  <a:lnTo>
                    <a:pt x="697" y="203"/>
                  </a:lnTo>
                  <a:lnTo>
                    <a:pt x="702" y="200"/>
                  </a:lnTo>
                  <a:lnTo>
                    <a:pt x="711" y="191"/>
                  </a:lnTo>
                  <a:lnTo>
                    <a:pt x="717" y="177"/>
                  </a:lnTo>
                  <a:lnTo>
                    <a:pt x="723" y="163"/>
                  </a:lnTo>
                  <a:lnTo>
                    <a:pt x="727" y="149"/>
                  </a:lnTo>
                  <a:lnTo>
                    <a:pt x="730" y="132"/>
                  </a:lnTo>
                  <a:lnTo>
                    <a:pt x="732" y="116"/>
                  </a:lnTo>
                  <a:lnTo>
                    <a:pt x="735" y="82"/>
                  </a:lnTo>
                  <a:lnTo>
                    <a:pt x="735" y="50"/>
                  </a:lnTo>
                  <a:lnTo>
                    <a:pt x="735" y="2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8" y="0"/>
                  </a:lnTo>
                  <a:lnTo>
                    <a:pt x="744" y="25"/>
                  </a:lnTo>
                  <a:lnTo>
                    <a:pt x="751" y="51"/>
                  </a:lnTo>
                  <a:lnTo>
                    <a:pt x="759" y="76"/>
                  </a:lnTo>
                  <a:lnTo>
                    <a:pt x="766" y="99"/>
                  </a:lnTo>
                  <a:lnTo>
                    <a:pt x="772" y="126"/>
                  </a:lnTo>
                  <a:lnTo>
                    <a:pt x="781" y="149"/>
                  </a:lnTo>
                  <a:lnTo>
                    <a:pt x="792" y="175"/>
                  </a:lnTo>
                  <a:lnTo>
                    <a:pt x="801" y="200"/>
                  </a:lnTo>
                  <a:lnTo>
                    <a:pt x="804" y="208"/>
                  </a:lnTo>
                  <a:lnTo>
                    <a:pt x="808" y="216"/>
                  </a:lnTo>
                  <a:lnTo>
                    <a:pt x="811" y="224"/>
                  </a:lnTo>
                  <a:lnTo>
                    <a:pt x="816" y="233"/>
                  </a:lnTo>
                  <a:lnTo>
                    <a:pt x="820" y="239"/>
                  </a:lnTo>
                  <a:lnTo>
                    <a:pt x="825" y="247"/>
                  </a:lnTo>
                  <a:lnTo>
                    <a:pt x="831" y="255"/>
                  </a:lnTo>
                  <a:lnTo>
                    <a:pt x="838" y="263"/>
                  </a:lnTo>
                  <a:lnTo>
                    <a:pt x="853" y="253"/>
                  </a:lnTo>
                  <a:lnTo>
                    <a:pt x="870" y="244"/>
                  </a:lnTo>
                  <a:lnTo>
                    <a:pt x="883" y="236"/>
                  </a:lnTo>
                  <a:lnTo>
                    <a:pt x="897" y="225"/>
                  </a:lnTo>
                  <a:lnTo>
                    <a:pt x="924" y="202"/>
                  </a:lnTo>
                  <a:lnTo>
                    <a:pt x="948" y="179"/>
                  </a:lnTo>
                  <a:lnTo>
                    <a:pt x="973" y="152"/>
                  </a:lnTo>
                  <a:lnTo>
                    <a:pt x="994" y="126"/>
                  </a:lnTo>
                  <a:lnTo>
                    <a:pt x="1015" y="98"/>
                  </a:lnTo>
                  <a:lnTo>
                    <a:pt x="1038" y="68"/>
                  </a:lnTo>
                  <a:lnTo>
                    <a:pt x="1039" y="68"/>
                  </a:lnTo>
                  <a:lnTo>
                    <a:pt x="1041" y="68"/>
                  </a:lnTo>
                  <a:lnTo>
                    <a:pt x="1042" y="68"/>
                  </a:lnTo>
                  <a:lnTo>
                    <a:pt x="1035" y="93"/>
                  </a:lnTo>
                  <a:lnTo>
                    <a:pt x="1026" y="121"/>
                  </a:lnTo>
                  <a:lnTo>
                    <a:pt x="1015" y="149"/>
                  </a:lnTo>
                  <a:lnTo>
                    <a:pt x="1008" y="179"/>
                  </a:lnTo>
                  <a:lnTo>
                    <a:pt x="1003" y="193"/>
                  </a:lnTo>
                  <a:lnTo>
                    <a:pt x="1002" y="207"/>
                  </a:lnTo>
                  <a:lnTo>
                    <a:pt x="1000" y="221"/>
                  </a:lnTo>
                  <a:lnTo>
                    <a:pt x="1000" y="236"/>
                  </a:lnTo>
                  <a:lnTo>
                    <a:pt x="1002" y="249"/>
                  </a:lnTo>
                  <a:lnTo>
                    <a:pt x="1005" y="263"/>
                  </a:lnTo>
                  <a:lnTo>
                    <a:pt x="1011" y="275"/>
                  </a:lnTo>
                  <a:lnTo>
                    <a:pt x="1017" y="286"/>
                  </a:lnTo>
                  <a:lnTo>
                    <a:pt x="1030" y="290"/>
                  </a:lnTo>
                  <a:lnTo>
                    <a:pt x="1044" y="294"/>
                  </a:lnTo>
                  <a:lnTo>
                    <a:pt x="1057" y="294"/>
                  </a:lnTo>
                  <a:lnTo>
                    <a:pt x="1071" y="292"/>
                  </a:lnTo>
                  <a:lnTo>
                    <a:pt x="1086" y="289"/>
                  </a:lnTo>
                  <a:lnTo>
                    <a:pt x="1101" y="283"/>
                  </a:lnTo>
                  <a:lnTo>
                    <a:pt x="1117" y="276"/>
                  </a:lnTo>
                  <a:lnTo>
                    <a:pt x="1131" y="270"/>
                  </a:lnTo>
                  <a:lnTo>
                    <a:pt x="1159" y="253"/>
                  </a:lnTo>
                  <a:lnTo>
                    <a:pt x="1189" y="236"/>
                  </a:lnTo>
                  <a:lnTo>
                    <a:pt x="1213" y="217"/>
                  </a:lnTo>
                  <a:lnTo>
                    <a:pt x="1233" y="202"/>
                  </a:lnTo>
                  <a:lnTo>
                    <a:pt x="1263" y="174"/>
                  </a:lnTo>
                  <a:lnTo>
                    <a:pt x="1285" y="155"/>
                  </a:lnTo>
                  <a:lnTo>
                    <a:pt x="1300" y="140"/>
                  </a:lnTo>
                  <a:lnTo>
                    <a:pt x="1312" y="129"/>
                  </a:lnTo>
                  <a:lnTo>
                    <a:pt x="1318" y="124"/>
                  </a:lnTo>
                  <a:lnTo>
                    <a:pt x="1323" y="121"/>
                  </a:lnTo>
                  <a:lnTo>
                    <a:pt x="1326" y="119"/>
                  </a:lnTo>
                  <a:lnTo>
                    <a:pt x="1327" y="118"/>
                  </a:lnTo>
                  <a:lnTo>
                    <a:pt x="1327" y="119"/>
                  </a:lnTo>
                  <a:lnTo>
                    <a:pt x="1327" y="121"/>
                  </a:lnTo>
                  <a:lnTo>
                    <a:pt x="1327" y="123"/>
                  </a:lnTo>
                  <a:lnTo>
                    <a:pt x="1329" y="123"/>
                  </a:lnTo>
                  <a:lnTo>
                    <a:pt x="1306" y="146"/>
                  </a:lnTo>
                  <a:lnTo>
                    <a:pt x="1287" y="172"/>
                  </a:lnTo>
                  <a:lnTo>
                    <a:pt x="1266" y="200"/>
                  </a:lnTo>
                  <a:lnTo>
                    <a:pt x="1248" y="228"/>
                  </a:lnTo>
                  <a:lnTo>
                    <a:pt x="1230" y="256"/>
                  </a:lnTo>
                  <a:lnTo>
                    <a:pt x="1213" y="286"/>
                  </a:lnTo>
                  <a:lnTo>
                    <a:pt x="1198" y="315"/>
                  </a:lnTo>
                  <a:lnTo>
                    <a:pt x="1188" y="346"/>
                  </a:lnTo>
                  <a:lnTo>
                    <a:pt x="1186" y="359"/>
                  </a:lnTo>
                  <a:lnTo>
                    <a:pt x="1183" y="374"/>
                  </a:lnTo>
                  <a:lnTo>
                    <a:pt x="1182" y="387"/>
                  </a:lnTo>
                  <a:lnTo>
                    <a:pt x="1183" y="402"/>
                  </a:lnTo>
                  <a:lnTo>
                    <a:pt x="1185" y="409"/>
                  </a:lnTo>
                  <a:lnTo>
                    <a:pt x="1186" y="416"/>
                  </a:lnTo>
                  <a:lnTo>
                    <a:pt x="1189" y="423"/>
                  </a:lnTo>
                  <a:lnTo>
                    <a:pt x="1191" y="426"/>
                  </a:lnTo>
                  <a:lnTo>
                    <a:pt x="1195" y="430"/>
                  </a:lnTo>
                  <a:lnTo>
                    <a:pt x="1201" y="435"/>
                  </a:lnTo>
                  <a:lnTo>
                    <a:pt x="1209" y="440"/>
                  </a:lnTo>
                  <a:lnTo>
                    <a:pt x="1216" y="441"/>
                  </a:lnTo>
                  <a:lnTo>
                    <a:pt x="1225" y="443"/>
                  </a:lnTo>
                  <a:lnTo>
                    <a:pt x="1231" y="443"/>
                  </a:lnTo>
                  <a:lnTo>
                    <a:pt x="1239" y="443"/>
                  </a:lnTo>
                  <a:lnTo>
                    <a:pt x="1245" y="443"/>
                  </a:lnTo>
                  <a:lnTo>
                    <a:pt x="1254" y="444"/>
                  </a:lnTo>
                  <a:lnTo>
                    <a:pt x="1263" y="444"/>
                  </a:lnTo>
                  <a:lnTo>
                    <a:pt x="1278" y="444"/>
                  </a:lnTo>
                  <a:lnTo>
                    <a:pt x="1296" y="444"/>
                  </a:lnTo>
                  <a:lnTo>
                    <a:pt x="1314" y="441"/>
                  </a:lnTo>
                  <a:lnTo>
                    <a:pt x="1333" y="437"/>
                  </a:lnTo>
                  <a:lnTo>
                    <a:pt x="1351" y="432"/>
                  </a:lnTo>
                  <a:lnTo>
                    <a:pt x="1369" y="427"/>
                  </a:lnTo>
                  <a:lnTo>
                    <a:pt x="1389" y="424"/>
                  </a:lnTo>
                  <a:lnTo>
                    <a:pt x="1408" y="418"/>
                  </a:lnTo>
                  <a:lnTo>
                    <a:pt x="1428" y="413"/>
                  </a:lnTo>
                  <a:lnTo>
                    <a:pt x="1446" y="407"/>
                  </a:lnTo>
                  <a:lnTo>
                    <a:pt x="1444" y="409"/>
                  </a:lnTo>
                  <a:lnTo>
                    <a:pt x="1443" y="410"/>
                  </a:lnTo>
                  <a:lnTo>
                    <a:pt x="1441" y="412"/>
                  </a:lnTo>
                  <a:lnTo>
                    <a:pt x="1441" y="413"/>
                  </a:lnTo>
                  <a:lnTo>
                    <a:pt x="1440" y="413"/>
                  </a:lnTo>
                  <a:lnTo>
                    <a:pt x="1440" y="415"/>
                  </a:lnTo>
                  <a:lnTo>
                    <a:pt x="1440" y="416"/>
                  </a:lnTo>
                  <a:lnTo>
                    <a:pt x="1408" y="434"/>
                  </a:lnTo>
                  <a:lnTo>
                    <a:pt x="1372" y="458"/>
                  </a:lnTo>
                  <a:lnTo>
                    <a:pt x="1354" y="471"/>
                  </a:lnTo>
                  <a:lnTo>
                    <a:pt x="1333" y="486"/>
                  </a:lnTo>
                  <a:lnTo>
                    <a:pt x="1317" y="500"/>
                  </a:lnTo>
                  <a:lnTo>
                    <a:pt x="1299" y="517"/>
                  </a:lnTo>
                  <a:lnTo>
                    <a:pt x="1285" y="536"/>
                  </a:lnTo>
                  <a:lnTo>
                    <a:pt x="1273" y="552"/>
                  </a:lnTo>
                  <a:lnTo>
                    <a:pt x="1269" y="561"/>
                  </a:lnTo>
                  <a:lnTo>
                    <a:pt x="1264" y="570"/>
                  </a:lnTo>
                  <a:lnTo>
                    <a:pt x="1263" y="578"/>
                  </a:lnTo>
                  <a:lnTo>
                    <a:pt x="1261" y="587"/>
                  </a:lnTo>
                  <a:lnTo>
                    <a:pt x="1261" y="597"/>
                  </a:lnTo>
                  <a:lnTo>
                    <a:pt x="1261" y="606"/>
                  </a:lnTo>
                  <a:lnTo>
                    <a:pt x="1263" y="615"/>
                  </a:lnTo>
                  <a:lnTo>
                    <a:pt x="1266" y="625"/>
                  </a:lnTo>
                  <a:lnTo>
                    <a:pt x="1272" y="634"/>
                  </a:lnTo>
                  <a:lnTo>
                    <a:pt x="1278" y="642"/>
                  </a:lnTo>
                  <a:lnTo>
                    <a:pt x="1287" y="650"/>
                  </a:lnTo>
                  <a:lnTo>
                    <a:pt x="1297" y="659"/>
                  </a:lnTo>
                  <a:lnTo>
                    <a:pt x="1309" y="667"/>
                  </a:lnTo>
                  <a:lnTo>
                    <a:pt x="1324" y="673"/>
                  </a:lnTo>
                  <a:lnTo>
                    <a:pt x="1338" y="679"/>
                  </a:lnTo>
                  <a:lnTo>
                    <a:pt x="1351" y="685"/>
                  </a:lnTo>
                  <a:lnTo>
                    <a:pt x="1366" y="690"/>
                  </a:lnTo>
                  <a:lnTo>
                    <a:pt x="1381" y="696"/>
                  </a:lnTo>
                  <a:lnTo>
                    <a:pt x="1396" y="701"/>
                  </a:lnTo>
                  <a:lnTo>
                    <a:pt x="1411" y="706"/>
                  </a:lnTo>
                  <a:lnTo>
                    <a:pt x="1420" y="707"/>
                  </a:lnTo>
                  <a:lnTo>
                    <a:pt x="1431" y="709"/>
                  </a:lnTo>
                  <a:lnTo>
                    <a:pt x="1440" y="710"/>
                  </a:lnTo>
                  <a:lnTo>
                    <a:pt x="1449" y="712"/>
                  </a:lnTo>
                  <a:lnTo>
                    <a:pt x="1458" y="712"/>
                  </a:lnTo>
                  <a:lnTo>
                    <a:pt x="1468" y="713"/>
                  </a:lnTo>
                  <a:lnTo>
                    <a:pt x="1476" y="715"/>
                  </a:lnTo>
                  <a:lnTo>
                    <a:pt x="1486" y="716"/>
                  </a:lnTo>
                  <a:lnTo>
                    <a:pt x="1486" y="718"/>
                  </a:lnTo>
                  <a:lnTo>
                    <a:pt x="1486" y="720"/>
                  </a:lnTo>
                  <a:lnTo>
                    <a:pt x="1486" y="721"/>
                  </a:lnTo>
                  <a:lnTo>
                    <a:pt x="1459" y="723"/>
                  </a:lnTo>
                  <a:lnTo>
                    <a:pt x="1432" y="724"/>
                  </a:lnTo>
                  <a:lnTo>
                    <a:pt x="1404" y="727"/>
                  </a:lnTo>
                  <a:lnTo>
                    <a:pt x="1378" y="732"/>
                  </a:lnTo>
                  <a:lnTo>
                    <a:pt x="1351" y="737"/>
                  </a:lnTo>
                  <a:lnTo>
                    <a:pt x="1326" y="743"/>
                  </a:lnTo>
                  <a:lnTo>
                    <a:pt x="1299" y="749"/>
                  </a:lnTo>
                  <a:lnTo>
                    <a:pt x="1273" y="755"/>
                  </a:lnTo>
                  <a:lnTo>
                    <a:pt x="1257" y="762"/>
                  </a:lnTo>
                  <a:lnTo>
                    <a:pt x="1243" y="769"/>
                  </a:lnTo>
                  <a:lnTo>
                    <a:pt x="1233" y="776"/>
                  </a:lnTo>
                  <a:lnTo>
                    <a:pt x="1227" y="783"/>
                  </a:lnTo>
                  <a:lnTo>
                    <a:pt x="1225" y="788"/>
                  </a:lnTo>
                  <a:lnTo>
                    <a:pt x="1225" y="791"/>
                  </a:lnTo>
                  <a:lnTo>
                    <a:pt x="1225" y="797"/>
                  </a:lnTo>
                  <a:lnTo>
                    <a:pt x="1227" y="802"/>
                  </a:lnTo>
                  <a:lnTo>
                    <a:pt x="1230" y="816"/>
                  </a:lnTo>
                  <a:lnTo>
                    <a:pt x="1239" y="835"/>
                  </a:lnTo>
                  <a:lnTo>
                    <a:pt x="1246" y="839"/>
                  </a:lnTo>
                  <a:lnTo>
                    <a:pt x="1252" y="845"/>
                  </a:lnTo>
                  <a:lnTo>
                    <a:pt x="1260" y="853"/>
                  </a:lnTo>
                  <a:lnTo>
                    <a:pt x="1266" y="863"/>
                  </a:lnTo>
                  <a:lnTo>
                    <a:pt x="1273" y="872"/>
                  </a:lnTo>
                  <a:lnTo>
                    <a:pt x="1281" y="880"/>
                  </a:lnTo>
                  <a:lnTo>
                    <a:pt x="1288" y="889"/>
                  </a:lnTo>
                  <a:lnTo>
                    <a:pt x="1294" y="897"/>
                  </a:lnTo>
                  <a:lnTo>
                    <a:pt x="1299" y="901"/>
                  </a:lnTo>
                  <a:lnTo>
                    <a:pt x="1303" y="905"/>
                  </a:lnTo>
                  <a:lnTo>
                    <a:pt x="1309" y="909"/>
                  </a:lnTo>
                  <a:lnTo>
                    <a:pt x="1315" y="912"/>
                  </a:lnTo>
                  <a:lnTo>
                    <a:pt x="1320" y="915"/>
                  </a:lnTo>
                  <a:lnTo>
                    <a:pt x="1326" y="920"/>
                  </a:lnTo>
                  <a:lnTo>
                    <a:pt x="1330" y="925"/>
                  </a:lnTo>
                  <a:lnTo>
                    <a:pt x="1335" y="929"/>
                  </a:lnTo>
                  <a:lnTo>
                    <a:pt x="1323" y="928"/>
                  </a:lnTo>
                  <a:lnTo>
                    <a:pt x="1305" y="926"/>
                  </a:lnTo>
                  <a:lnTo>
                    <a:pt x="1287" y="925"/>
                  </a:lnTo>
                  <a:lnTo>
                    <a:pt x="1266" y="922"/>
                  </a:lnTo>
                  <a:lnTo>
                    <a:pt x="1246" y="922"/>
                  </a:lnTo>
                  <a:lnTo>
                    <a:pt x="1227" y="922"/>
                  </a:lnTo>
                  <a:lnTo>
                    <a:pt x="1221" y="923"/>
                  </a:lnTo>
                  <a:lnTo>
                    <a:pt x="1213" y="925"/>
                  </a:lnTo>
                  <a:lnTo>
                    <a:pt x="1209" y="928"/>
                  </a:lnTo>
                  <a:lnTo>
                    <a:pt x="1204" y="931"/>
                  </a:lnTo>
                  <a:lnTo>
                    <a:pt x="1206" y="936"/>
                  </a:lnTo>
                  <a:lnTo>
                    <a:pt x="1206" y="940"/>
                  </a:lnTo>
                  <a:lnTo>
                    <a:pt x="1207" y="945"/>
                  </a:lnTo>
                  <a:lnTo>
                    <a:pt x="1209" y="950"/>
                  </a:lnTo>
                  <a:lnTo>
                    <a:pt x="1209" y="954"/>
                  </a:lnTo>
                  <a:lnTo>
                    <a:pt x="1210" y="959"/>
                  </a:lnTo>
                  <a:lnTo>
                    <a:pt x="1212" y="965"/>
                  </a:lnTo>
                  <a:lnTo>
                    <a:pt x="1212" y="970"/>
                  </a:lnTo>
                  <a:lnTo>
                    <a:pt x="1219" y="982"/>
                  </a:lnTo>
                  <a:lnTo>
                    <a:pt x="1227" y="996"/>
                  </a:lnTo>
                  <a:lnTo>
                    <a:pt x="1236" y="1010"/>
                  </a:lnTo>
                  <a:lnTo>
                    <a:pt x="1245" y="1023"/>
                  </a:lnTo>
                  <a:lnTo>
                    <a:pt x="1254" y="1037"/>
                  </a:lnTo>
                  <a:lnTo>
                    <a:pt x="1263" y="1052"/>
                  </a:lnTo>
                  <a:lnTo>
                    <a:pt x="1270" y="1066"/>
                  </a:lnTo>
                  <a:lnTo>
                    <a:pt x="1278" y="1082"/>
                  </a:lnTo>
                  <a:lnTo>
                    <a:pt x="1284" y="1088"/>
                  </a:lnTo>
                  <a:lnTo>
                    <a:pt x="1291" y="1094"/>
                  </a:lnTo>
                  <a:lnTo>
                    <a:pt x="1297" y="1100"/>
                  </a:lnTo>
                  <a:lnTo>
                    <a:pt x="1306" y="1110"/>
                  </a:lnTo>
                  <a:lnTo>
                    <a:pt x="1314" y="1119"/>
                  </a:lnTo>
                  <a:lnTo>
                    <a:pt x="1321" y="1127"/>
                  </a:lnTo>
                  <a:lnTo>
                    <a:pt x="1327" y="1135"/>
                  </a:lnTo>
                  <a:lnTo>
                    <a:pt x="1332" y="1144"/>
                  </a:lnTo>
                  <a:lnTo>
                    <a:pt x="1309" y="1130"/>
                  </a:lnTo>
                  <a:lnTo>
                    <a:pt x="1288" y="1116"/>
                  </a:lnTo>
                  <a:lnTo>
                    <a:pt x="1266" y="1104"/>
                  </a:lnTo>
                  <a:lnTo>
                    <a:pt x="1245" y="1093"/>
                  </a:lnTo>
                  <a:lnTo>
                    <a:pt x="1224" y="1080"/>
                  </a:lnTo>
                  <a:lnTo>
                    <a:pt x="1201" y="1068"/>
                  </a:lnTo>
                  <a:lnTo>
                    <a:pt x="1180" y="1057"/>
                  </a:lnTo>
                  <a:lnTo>
                    <a:pt x="1158" y="1044"/>
                  </a:lnTo>
                  <a:lnTo>
                    <a:pt x="1141" y="1040"/>
                  </a:lnTo>
                  <a:lnTo>
                    <a:pt x="1126" y="1038"/>
                  </a:lnTo>
                  <a:lnTo>
                    <a:pt x="1120" y="1038"/>
                  </a:lnTo>
                  <a:lnTo>
                    <a:pt x="1117" y="1038"/>
                  </a:lnTo>
                  <a:lnTo>
                    <a:pt x="1113" y="1040"/>
                  </a:lnTo>
                  <a:lnTo>
                    <a:pt x="1110" y="1043"/>
                  </a:lnTo>
                  <a:lnTo>
                    <a:pt x="1104" y="1049"/>
                  </a:lnTo>
                  <a:lnTo>
                    <a:pt x="1099" y="1058"/>
                  </a:lnTo>
                  <a:lnTo>
                    <a:pt x="1095" y="1071"/>
                  </a:lnTo>
                  <a:lnTo>
                    <a:pt x="1089" y="1088"/>
                  </a:lnTo>
                  <a:lnTo>
                    <a:pt x="1089" y="1097"/>
                  </a:lnTo>
                  <a:lnTo>
                    <a:pt x="1087" y="1110"/>
                  </a:lnTo>
                  <a:lnTo>
                    <a:pt x="1086" y="1125"/>
                  </a:lnTo>
                  <a:lnTo>
                    <a:pt x="1086" y="1139"/>
                  </a:lnTo>
                  <a:lnTo>
                    <a:pt x="1086" y="1155"/>
                  </a:lnTo>
                  <a:lnTo>
                    <a:pt x="1086" y="1169"/>
                  </a:lnTo>
                  <a:lnTo>
                    <a:pt x="1087" y="1181"/>
                  </a:lnTo>
                  <a:lnTo>
                    <a:pt x="1092" y="1194"/>
                  </a:lnTo>
                  <a:lnTo>
                    <a:pt x="1095" y="1209"/>
                  </a:lnTo>
                  <a:lnTo>
                    <a:pt x="1098" y="1226"/>
                  </a:lnTo>
                  <a:lnTo>
                    <a:pt x="1104" y="1242"/>
                  </a:lnTo>
                  <a:lnTo>
                    <a:pt x="1110" y="1257"/>
                  </a:lnTo>
                  <a:lnTo>
                    <a:pt x="1117" y="1276"/>
                  </a:lnTo>
                  <a:lnTo>
                    <a:pt x="1122" y="1292"/>
                  </a:lnTo>
                  <a:lnTo>
                    <a:pt x="1128" y="1309"/>
                  </a:lnTo>
                  <a:lnTo>
                    <a:pt x="1134" y="1326"/>
                  </a:lnTo>
                  <a:lnTo>
                    <a:pt x="1132" y="1326"/>
                  </a:lnTo>
                  <a:lnTo>
                    <a:pt x="1131" y="1326"/>
                  </a:lnTo>
                  <a:lnTo>
                    <a:pt x="1129" y="1326"/>
                  </a:lnTo>
                  <a:lnTo>
                    <a:pt x="1123" y="1312"/>
                  </a:lnTo>
                  <a:lnTo>
                    <a:pt x="1117" y="1298"/>
                  </a:lnTo>
                  <a:lnTo>
                    <a:pt x="1110" y="1285"/>
                  </a:lnTo>
                  <a:lnTo>
                    <a:pt x="1101" y="1273"/>
                  </a:lnTo>
                  <a:lnTo>
                    <a:pt x="1084" y="1248"/>
                  </a:lnTo>
                  <a:lnTo>
                    <a:pt x="1063" y="1226"/>
                  </a:lnTo>
                  <a:lnTo>
                    <a:pt x="1044" y="1205"/>
                  </a:lnTo>
                  <a:lnTo>
                    <a:pt x="1023" y="1183"/>
                  </a:lnTo>
                  <a:lnTo>
                    <a:pt x="1005" y="1163"/>
                  </a:lnTo>
                  <a:lnTo>
                    <a:pt x="985" y="1139"/>
                  </a:lnTo>
                  <a:lnTo>
                    <a:pt x="978" y="1133"/>
                  </a:lnTo>
                  <a:lnTo>
                    <a:pt x="969" y="1132"/>
                  </a:lnTo>
                  <a:lnTo>
                    <a:pt x="960" y="1132"/>
                  </a:lnTo>
                  <a:lnTo>
                    <a:pt x="954" y="1132"/>
                  </a:lnTo>
                  <a:lnTo>
                    <a:pt x="948" y="1135"/>
                  </a:lnTo>
                  <a:lnTo>
                    <a:pt x="943" y="1139"/>
                  </a:lnTo>
                  <a:lnTo>
                    <a:pt x="940" y="1146"/>
                  </a:lnTo>
                  <a:lnTo>
                    <a:pt x="936" y="1153"/>
                  </a:lnTo>
                  <a:lnTo>
                    <a:pt x="931" y="1169"/>
                  </a:lnTo>
                  <a:lnTo>
                    <a:pt x="927" y="1188"/>
                  </a:lnTo>
                  <a:lnTo>
                    <a:pt x="925" y="1206"/>
                  </a:lnTo>
                  <a:lnTo>
                    <a:pt x="922" y="1222"/>
                  </a:lnTo>
                  <a:lnTo>
                    <a:pt x="924" y="1245"/>
                  </a:lnTo>
                  <a:lnTo>
                    <a:pt x="924" y="1268"/>
                  </a:lnTo>
                  <a:lnTo>
                    <a:pt x="925" y="1292"/>
                  </a:lnTo>
                  <a:lnTo>
                    <a:pt x="925" y="1317"/>
                  </a:lnTo>
                  <a:lnTo>
                    <a:pt x="927" y="1340"/>
                  </a:lnTo>
                  <a:lnTo>
                    <a:pt x="927" y="1362"/>
                  </a:lnTo>
                  <a:lnTo>
                    <a:pt x="927" y="1386"/>
                  </a:lnTo>
                  <a:lnTo>
                    <a:pt x="928" y="1410"/>
                  </a:lnTo>
                  <a:lnTo>
                    <a:pt x="927" y="1410"/>
                  </a:lnTo>
                  <a:lnTo>
                    <a:pt x="925" y="1410"/>
                  </a:lnTo>
                  <a:lnTo>
                    <a:pt x="924" y="1410"/>
                  </a:lnTo>
                  <a:lnTo>
                    <a:pt x="921" y="1393"/>
                  </a:lnTo>
                  <a:lnTo>
                    <a:pt x="916" y="1377"/>
                  </a:lnTo>
                  <a:lnTo>
                    <a:pt x="912" y="1360"/>
                  </a:lnTo>
                  <a:lnTo>
                    <a:pt x="907" y="1345"/>
                  </a:lnTo>
                  <a:lnTo>
                    <a:pt x="894" y="1313"/>
                  </a:lnTo>
                  <a:lnTo>
                    <a:pt x="877" y="1281"/>
                  </a:lnTo>
                  <a:lnTo>
                    <a:pt x="861" y="1248"/>
                  </a:lnTo>
                  <a:lnTo>
                    <a:pt x="841" y="1220"/>
                  </a:lnTo>
                  <a:lnTo>
                    <a:pt x="823" y="1194"/>
                  </a:lnTo>
                  <a:lnTo>
                    <a:pt x="802" y="1170"/>
                  </a:lnTo>
                  <a:lnTo>
                    <a:pt x="798" y="1169"/>
                  </a:lnTo>
                  <a:lnTo>
                    <a:pt x="790" y="1169"/>
                  </a:lnTo>
                  <a:lnTo>
                    <a:pt x="783" y="1169"/>
                  </a:lnTo>
                  <a:lnTo>
                    <a:pt x="775" y="1170"/>
                  </a:lnTo>
                  <a:lnTo>
                    <a:pt x="768" y="1175"/>
                  </a:lnTo>
                  <a:lnTo>
                    <a:pt x="762" y="1181"/>
                  </a:lnTo>
                  <a:lnTo>
                    <a:pt x="756" y="1188"/>
                  </a:lnTo>
                  <a:lnTo>
                    <a:pt x="748" y="1195"/>
                  </a:lnTo>
                  <a:lnTo>
                    <a:pt x="736" y="1209"/>
                  </a:lnTo>
                  <a:lnTo>
                    <a:pt x="726" y="1226"/>
                  </a:lnTo>
                  <a:lnTo>
                    <a:pt x="717" y="1242"/>
                  </a:lnTo>
                  <a:lnTo>
                    <a:pt x="711" y="1253"/>
                  </a:lnTo>
                  <a:lnTo>
                    <a:pt x="709" y="1254"/>
                  </a:lnTo>
                  <a:lnTo>
                    <a:pt x="708" y="1256"/>
                  </a:lnTo>
                  <a:lnTo>
                    <a:pt x="706" y="1257"/>
                  </a:lnTo>
                  <a:lnTo>
                    <a:pt x="705" y="1261"/>
                  </a:lnTo>
                  <a:lnTo>
                    <a:pt x="703" y="1262"/>
                  </a:lnTo>
                  <a:lnTo>
                    <a:pt x="702" y="1265"/>
                  </a:lnTo>
                  <a:lnTo>
                    <a:pt x="700" y="1267"/>
                  </a:lnTo>
                  <a:lnTo>
                    <a:pt x="699" y="1270"/>
                  </a:lnTo>
                  <a:lnTo>
                    <a:pt x="688" y="1292"/>
                  </a:lnTo>
                  <a:lnTo>
                    <a:pt x="676" y="1315"/>
                  </a:lnTo>
                  <a:lnTo>
                    <a:pt x="664" y="1337"/>
                  </a:lnTo>
                  <a:lnTo>
                    <a:pt x="654" y="1359"/>
                  </a:lnTo>
                  <a:lnTo>
                    <a:pt x="640" y="1382"/>
                  </a:lnTo>
                  <a:lnTo>
                    <a:pt x="627" y="1404"/>
                  </a:lnTo>
                  <a:lnTo>
                    <a:pt x="616" y="1427"/>
                  </a:lnTo>
                  <a:lnTo>
                    <a:pt x="603" y="1449"/>
                  </a:lnTo>
                  <a:lnTo>
                    <a:pt x="601" y="1449"/>
                  </a:lnTo>
                  <a:lnTo>
                    <a:pt x="600" y="1449"/>
                  </a:lnTo>
                  <a:lnTo>
                    <a:pt x="600" y="1450"/>
                  </a:lnTo>
                  <a:lnTo>
                    <a:pt x="598" y="1450"/>
                  </a:lnTo>
                  <a:close/>
                  <a:moveTo>
                    <a:pt x="163" y="1200"/>
                  </a:moveTo>
                  <a:lnTo>
                    <a:pt x="165" y="1200"/>
                  </a:lnTo>
                  <a:lnTo>
                    <a:pt x="165" y="1198"/>
                  </a:lnTo>
                  <a:lnTo>
                    <a:pt x="166" y="1198"/>
                  </a:lnTo>
                  <a:lnTo>
                    <a:pt x="168" y="1198"/>
                  </a:lnTo>
                  <a:lnTo>
                    <a:pt x="169" y="1198"/>
                  </a:lnTo>
                  <a:lnTo>
                    <a:pt x="169" y="1197"/>
                  </a:lnTo>
                  <a:lnTo>
                    <a:pt x="171" y="1197"/>
                  </a:lnTo>
                  <a:lnTo>
                    <a:pt x="186" y="1186"/>
                  </a:lnTo>
                  <a:lnTo>
                    <a:pt x="201" y="1177"/>
                  </a:lnTo>
                  <a:lnTo>
                    <a:pt x="217" y="1169"/>
                  </a:lnTo>
                  <a:lnTo>
                    <a:pt x="234" y="1160"/>
                  </a:lnTo>
                  <a:lnTo>
                    <a:pt x="252" y="1152"/>
                  </a:lnTo>
                  <a:lnTo>
                    <a:pt x="270" y="1144"/>
                  </a:lnTo>
                  <a:lnTo>
                    <a:pt x="286" y="1138"/>
                  </a:lnTo>
                  <a:lnTo>
                    <a:pt x="304" y="1132"/>
                  </a:lnTo>
                  <a:lnTo>
                    <a:pt x="310" y="1125"/>
                  </a:lnTo>
                  <a:lnTo>
                    <a:pt x="321" y="1119"/>
                  </a:lnTo>
                  <a:lnTo>
                    <a:pt x="333" y="1111"/>
                  </a:lnTo>
                  <a:lnTo>
                    <a:pt x="345" y="1104"/>
                  </a:lnTo>
                  <a:lnTo>
                    <a:pt x="358" y="1097"/>
                  </a:lnTo>
                  <a:lnTo>
                    <a:pt x="372" y="1094"/>
                  </a:lnTo>
                  <a:lnTo>
                    <a:pt x="381" y="1090"/>
                  </a:lnTo>
                  <a:lnTo>
                    <a:pt x="390" y="1088"/>
                  </a:lnTo>
                  <a:lnTo>
                    <a:pt x="390" y="1085"/>
                  </a:lnTo>
                  <a:lnTo>
                    <a:pt x="391" y="1083"/>
                  </a:lnTo>
                  <a:lnTo>
                    <a:pt x="391" y="1082"/>
                  </a:lnTo>
                  <a:lnTo>
                    <a:pt x="391" y="1080"/>
                  </a:lnTo>
                  <a:lnTo>
                    <a:pt x="393" y="1077"/>
                  </a:lnTo>
                  <a:lnTo>
                    <a:pt x="393" y="1072"/>
                  </a:lnTo>
                  <a:lnTo>
                    <a:pt x="393" y="1066"/>
                  </a:lnTo>
                  <a:lnTo>
                    <a:pt x="393" y="1060"/>
                  </a:lnTo>
                  <a:lnTo>
                    <a:pt x="390" y="1057"/>
                  </a:lnTo>
                  <a:lnTo>
                    <a:pt x="387" y="1055"/>
                  </a:lnTo>
                  <a:lnTo>
                    <a:pt x="385" y="1051"/>
                  </a:lnTo>
                  <a:lnTo>
                    <a:pt x="384" y="1046"/>
                  </a:lnTo>
                  <a:lnTo>
                    <a:pt x="382" y="1041"/>
                  </a:lnTo>
                  <a:lnTo>
                    <a:pt x="381" y="1037"/>
                  </a:lnTo>
                  <a:lnTo>
                    <a:pt x="381" y="1034"/>
                  </a:lnTo>
                  <a:lnTo>
                    <a:pt x="379" y="1030"/>
                  </a:lnTo>
                  <a:lnTo>
                    <a:pt x="373" y="1026"/>
                  </a:lnTo>
                  <a:lnTo>
                    <a:pt x="361" y="1021"/>
                  </a:lnTo>
                  <a:lnTo>
                    <a:pt x="349" y="1020"/>
                  </a:lnTo>
                  <a:lnTo>
                    <a:pt x="337" y="1016"/>
                  </a:lnTo>
                  <a:lnTo>
                    <a:pt x="324" y="1015"/>
                  </a:lnTo>
                  <a:lnTo>
                    <a:pt x="312" y="1013"/>
                  </a:lnTo>
                  <a:lnTo>
                    <a:pt x="304" y="1012"/>
                  </a:lnTo>
                  <a:lnTo>
                    <a:pt x="297" y="1012"/>
                  </a:lnTo>
                  <a:lnTo>
                    <a:pt x="283" y="1037"/>
                  </a:lnTo>
                  <a:lnTo>
                    <a:pt x="268" y="1060"/>
                  </a:lnTo>
                  <a:lnTo>
                    <a:pt x="252" y="1083"/>
                  </a:lnTo>
                  <a:lnTo>
                    <a:pt x="234" y="1107"/>
                  </a:lnTo>
                  <a:lnTo>
                    <a:pt x="217" y="1128"/>
                  </a:lnTo>
                  <a:lnTo>
                    <a:pt x="199" y="1150"/>
                  </a:lnTo>
                  <a:lnTo>
                    <a:pt x="183" y="1172"/>
                  </a:lnTo>
                  <a:lnTo>
                    <a:pt x="163" y="1195"/>
                  </a:lnTo>
                  <a:lnTo>
                    <a:pt x="163" y="1197"/>
                  </a:lnTo>
                  <a:lnTo>
                    <a:pt x="163" y="1198"/>
                  </a:lnTo>
                  <a:lnTo>
                    <a:pt x="163" y="1200"/>
                  </a:lnTo>
                  <a:close/>
                  <a:moveTo>
                    <a:pt x="412" y="984"/>
                  </a:moveTo>
                  <a:lnTo>
                    <a:pt x="415" y="984"/>
                  </a:lnTo>
                  <a:lnTo>
                    <a:pt x="418" y="984"/>
                  </a:lnTo>
                  <a:lnTo>
                    <a:pt x="420" y="984"/>
                  </a:lnTo>
                  <a:lnTo>
                    <a:pt x="423" y="982"/>
                  </a:lnTo>
                  <a:lnTo>
                    <a:pt x="424" y="982"/>
                  </a:lnTo>
                  <a:lnTo>
                    <a:pt x="427" y="982"/>
                  </a:lnTo>
                  <a:lnTo>
                    <a:pt x="429" y="981"/>
                  </a:lnTo>
                  <a:lnTo>
                    <a:pt x="432" y="978"/>
                  </a:lnTo>
                  <a:lnTo>
                    <a:pt x="432" y="973"/>
                  </a:lnTo>
                  <a:lnTo>
                    <a:pt x="433" y="968"/>
                  </a:lnTo>
                  <a:lnTo>
                    <a:pt x="433" y="965"/>
                  </a:lnTo>
                  <a:lnTo>
                    <a:pt x="435" y="961"/>
                  </a:lnTo>
                  <a:lnTo>
                    <a:pt x="435" y="957"/>
                  </a:lnTo>
                  <a:lnTo>
                    <a:pt x="436" y="954"/>
                  </a:lnTo>
                  <a:lnTo>
                    <a:pt x="436" y="951"/>
                  </a:lnTo>
                  <a:lnTo>
                    <a:pt x="436" y="948"/>
                  </a:lnTo>
                  <a:lnTo>
                    <a:pt x="424" y="934"/>
                  </a:lnTo>
                  <a:lnTo>
                    <a:pt x="412" y="919"/>
                  </a:lnTo>
                  <a:lnTo>
                    <a:pt x="400" y="905"/>
                  </a:lnTo>
                  <a:lnTo>
                    <a:pt x="390" y="887"/>
                  </a:lnTo>
                  <a:lnTo>
                    <a:pt x="379" y="872"/>
                  </a:lnTo>
                  <a:lnTo>
                    <a:pt x="370" y="855"/>
                  </a:lnTo>
                  <a:lnTo>
                    <a:pt x="363" y="838"/>
                  </a:lnTo>
                  <a:lnTo>
                    <a:pt x="355" y="822"/>
                  </a:lnTo>
                  <a:lnTo>
                    <a:pt x="354" y="822"/>
                  </a:lnTo>
                  <a:lnTo>
                    <a:pt x="352" y="822"/>
                  </a:lnTo>
                  <a:lnTo>
                    <a:pt x="351" y="822"/>
                  </a:lnTo>
                  <a:lnTo>
                    <a:pt x="349" y="835"/>
                  </a:lnTo>
                  <a:lnTo>
                    <a:pt x="346" y="849"/>
                  </a:lnTo>
                  <a:lnTo>
                    <a:pt x="345" y="863"/>
                  </a:lnTo>
                  <a:lnTo>
                    <a:pt x="343" y="875"/>
                  </a:lnTo>
                  <a:lnTo>
                    <a:pt x="340" y="889"/>
                  </a:lnTo>
                  <a:lnTo>
                    <a:pt x="340" y="903"/>
                  </a:lnTo>
                  <a:lnTo>
                    <a:pt x="339" y="915"/>
                  </a:lnTo>
                  <a:lnTo>
                    <a:pt x="336" y="929"/>
                  </a:lnTo>
                  <a:lnTo>
                    <a:pt x="337" y="934"/>
                  </a:lnTo>
                  <a:lnTo>
                    <a:pt x="337" y="937"/>
                  </a:lnTo>
                  <a:lnTo>
                    <a:pt x="339" y="940"/>
                  </a:lnTo>
                  <a:lnTo>
                    <a:pt x="340" y="942"/>
                  </a:lnTo>
                  <a:lnTo>
                    <a:pt x="340" y="943"/>
                  </a:lnTo>
                  <a:lnTo>
                    <a:pt x="345" y="945"/>
                  </a:lnTo>
                  <a:lnTo>
                    <a:pt x="349" y="947"/>
                  </a:lnTo>
                  <a:lnTo>
                    <a:pt x="357" y="948"/>
                  </a:lnTo>
                  <a:lnTo>
                    <a:pt x="363" y="953"/>
                  </a:lnTo>
                  <a:lnTo>
                    <a:pt x="367" y="956"/>
                  </a:lnTo>
                  <a:lnTo>
                    <a:pt x="372" y="959"/>
                  </a:lnTo>
                  <a:lnTo>
                    <a:pt x="376" y="962"/>
                  </a:lnTo>
                  <a:lnTo>
                    <a:pt x="381" y="967"/>
                  </a:lnTo>
                  <a:lnTo>
                    <a:pt x="390" y="971"/>
                  </a:lnTo>
                  <a:lnTo>
                    <a:pt x="400" y="978"/>
                  </a:lnTo>
                  <a:lnTo>
                    <a:pt x="412" y="984"/>
                  </a:lnTo>
                  <a:close/>
                  <a:moveTo>
                    <a:pt x="223" y="786"/>
                  </a:moveTo>
                  <a:lnTo>
                    <a:pt x="223" y="786"/>
                  </a:lnTo>
                  <a:lnTo>
                    <a:pt x="225" y="786"/>
                  </a:lnTo>
                  <a:lnTo>
                    <a:pt x="226" y="786"/>
                  </a:lnTo>
                  <a:lnTo>
                    <a:pt x="226" y="785"/>
                  </a:lnTo>
                  <a:lnTo>
                    <a:pt x="225" y="785"/>
                  </a:lnTo>
                  <a:lnTo>
                    <a:pt x="225" y="783"/>
                  </a:lnTo>
                  <a:lnTo>
                    <a:pt x="225" y="782"/>
                  </a:lnTo>
                  <a:lnTo>
                    <a:pt x="223" y="782"/>
                  </a:lnTo>
                  <a:lnTo>
                    <a:pt x="223" y="783"/>
                  </a:lnTo>
                  <a:lnTo>
                    <a:pt x="223" y="785"/>
                  </a:lnTo>
                  <a:lnTo>
                    <a:pt x="223" y="786"/>
                  </a:lnTo>
                  <a:close/>
                  <a:moveTo>
                    <a:pt x="688" y="297"/>
                  </a:moveTo>
                  <a:lnTo>
                    <a:pt x="691" y="297"/>
                  </a:lnTo>
                  <a:lnTo>
                    <a:pt x="694" y="294"/>
                  </a:lnTo>
                  <a:lnTo>
                    <a:pt x="696" y="292"/>
                  </a:lnTo>
                  <a:lnTo>
                    <a:pt x="696" y="289"/>
                  </a:lnTo>
                  <a:lnTo>
                    <a:pt x="697" y="283"/>
                  </a:lnTo>
                  <a:lnTo>
                    <a:pt x="696" y="275"/>
                  </a:lnTo>
                  <a:lnTo>
                    <a:pt x="696" y="269"/>
                  </a:lnTo>
                  <a:lnTo>
                    <a:pt x="694" y="261"/>
                  </a:lnTo>
                  <a:lnTo>
                    <a:pt x="691" y="255"/>
                  </a:lnTo>
                  <a:lnTo>
                    <a:pt x="688" y="252"/>
                  </a:lnTo>
                  <a:lnTo>
                    <a:pt x="679" y="252"/>
                  </a:lnTo>
                  <a:lnTo>
                    <a:pt x="670" y="253"/>
                  </a:lnTo>
                  <a:lnTo>
                    <a:pt x="661" y="256"/>
                  </a:lnTo>
                  <a:lnTo>
                    <a:pt x="654" y="259"/>
                  </a:lnTo>
                  <a:lnTo>
                    <a:pt x="646" y="264"/>
                  </a:lnTo>
                  <a:lnTo>
                    <a:pt x="639" y="269"/>
                  </a:lnTo>
                  <a:lnTo>
                    <a:pt x="631" y="275"/>
                  </a:lnTo>
                  <a:lnTo>
                    <a:pt x="625" y="280"/>
                  </a:lnTo>
                  <a:lnTo>
                    <a:pt x="625" y="281"/>
                  </a:lnTo>
                  <a:lnTo>
                    <a:pt x="625" y="283"/>
                  </a:lnTo>
                  <a:lnTo>
                    <a:pt x="627" y="284"/>
                  </a:lnTo>
                  <a:lnTo>
                    <a:pt x="628" y="286"/>
                  </a:lnTo>
                  <a:lnTo>
                    <a:pt x="630" y="289"/>
                  </a:lnTo>
                  <a:lnTo>
                    <a:pt x="631" y="290"/>
                  </a:lnTo>
                  <a:lnTo>
                    <a:pt x="634" y="294"/>
                  </a:lnTo>
                  <a:lnTo>
                    <a:pt x="636" y="297"/>
                  </a:lnTo>
                  <a:lnTo>
                    <a:pt x="640" y="295"/>
                  </a:lnTo>
                  <a:lnTo>
                    <a:pt x="645" y="292"/>
                  </a:lnTo>
                  <a:lnTo>
                    <a:pt x="649" y="289"/>
                  </a:lnTo>
                  <a:lnTo>
                    <a:pt x="655" y="284"/>
                  </a:lnTo>
                  <a:lnTo>
                    <a:pt x="660" y="281"/>
                  </a:lnTo>
                  <a:lnTo>
                    <a:pt x="666" y="278"/>
                  </a:lnTo>
                  <a:lnTo>
                    <a:pt x="673" y="275"/>
                  </a:lnTo>
                  <a:lnTo>
                    <a:pt x="681" y="275"/>
                  </a:lnTo>
                  <a:lnTo>
                    <a:pt x="682" y="281"/>
                  </a:lnTo>
                  <a:lnTo>
                    <a:pt x="684" y="286"/>
                  </a:lnTo>
                  <a:lnTo>
                    <a:pt x="685" y="290"/>
                  </a:lnTo>
                  <a:lnTo>
                    <a:pt x="685" y="292"/>
                  </a:lnTo>
                  <a:lnTo>
                    <a:pt x="687" y="295"/>
                  </a:lnTo>
                  <a:lnTo>
                    <a:pt x="688" y="29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0" name="Freeform 7"/>
            <p:cNvSpPr/>
            <p:nvPr/>
          </p:nvSpPr>
          <p:spPr>
            <a:xfrm>
              <a:off x="7052760" y="5016960"/>
              <a:ext cx="1671120" cy="1381680"/>
            </a:xfrm>
            <a:custGeom>
              <a:avLst/>
              <a:gdLst>
                <a:gd name="textAreaLeft" fmla="*/ 0 w 1671120"/>
                <a:gd name="textAreaRight" fmla="*/ 1671480 w 1671120"/>
                <a:gd name="textAreaTop" fmla="*/ 0 h 1381680"/>
                <a:gd name="textAreaBottom" fmla="*/ 1382040 h 1381680"/>
              </a:gdLst>
              <a:ahLst/>
              <a:rect l="textAreaLeft" t="textAreaTop" r="textAreaRight" b="textAreaBottom"/>
              <a:pathLst>
                <a:path w="1486" h="1450">
                  <a:moveTo>
                    <a:pt x="598" y="1450"/>
                  </a:moveTo>
                  <a:lnTo>
                    <a:pt x="606" y="1416"/>
                  </a:lnTo>
                  <a:lnTo>
                    <a:pt x="612" y="1380"/>
                  </a:lnTo>
                  <a:lnTo>
                    <a:pt x="619" y="1341"/>
                  </a:lnTo>
                  <a:lnTo>
                    <a:pt x="624" y="1303"/>
                  </a:lnTo>
                  <a:lnTo>
                    <a:pt x="628" y="1265"/>
                  </a:lnTo>
                  <a:lnTo>
                    <a:pt x="631" y="1228"/>
                  </a:lnTo>
                  <a:lnTo>
                    <a:pt x="631" y="1209"/>
                  </a:lnTo>
                  <a:lnTo>
                    <a:pt x="630" y="1192"/>
                  </a:lnTo>
                  <a:lnTo>
                    <a:pt x="628" y="1175"/>
                  </a:lnTo>
                  <a:lnTo>
                    <a:pt x="625" y="1160"/>
                  </a:lnTo>
                  <a:lnTo>
                    <a:pt x="618" y="1153"/>
                  </a:lnTo>
                  <a:lnTo>
                    <a:pt x="610" y="1149"/>
                  </a:lnTo>
                  <a:lnTo>
                    <a:pt x="604" y="1146"/>
                  </a:lnTo>
                  <a:lnTo>
                    <a:pt x="598" y="1144"/>
                  </a:lnTo>
                  <a:lnTo>
                    <a:pt x="592" y="1144"/>
                  </a:lnTo>
                  <a:lnTo>
                    <a:pt x="588" y="1144"/>
                  </a:lnTo>
                  <a:lnTo>
                    <a:pt x="580" y="1146"/>
                  </a:lnTo>
                  <a:lnTo>
                    <a:pt x="571" y="1149"/>
                  </a:lnTo>
                  <a:lnTo>
                    <a:pt x="556" y="1160"/>
                  </a:lnTo>
                  <a:lnTo>
                    <a:pt x="543" y="1170"/>
                  </a:lnTo>
                  <a:lnTo>
                    <a:pt x="528" y="1183"/>
                  </a:lnTo>
                  <a:lnTo>
                    <a:pt x="516" y="1197"/>
                  </a:lnTo>
                  <a:lnTo>
                    <a:pt x="487" y="1225"/>
                  </a:lnTo>
                  <a:lnTo>
                    <a:pt x="462" y="1254"/>
                  </a:lnTo>
                  <a:lnTo>
                    <a:pt x="438" y="1285"/>
                  </a:lnTo>
                  <a:lnTo>
                    <a:pt x="414" y="1318"/>
                  </a:lnTo>
                  <a:lnTo>
                    <a:pt x="393" y="1351"/>
                  </a:lnTo>
                  <a:lnTo>
                    <a:pt x="375" y="1382"/>
                  </a:lnTo>
                  <a:lnTo>
                    <a:pt x="373" y="1382"/>
                  </a:lnTo>
                  <a:lnTo>
                    <a:pt x="372" y="1383"/>
                  </a:lnTo>
                  <a:lnTo>
                    <a:pt x="370" y="1383"/>
                  </a:lnTo>
                  <a:lnTo>
                    <a:pt x="369" y="1385"/>
                  </a:lnTo>
                  <a:lnTo>
                    <a:pt x="378" y="1355"/>
                  </a:lnTo>
                  <a:lnTo>
                    <a:pt x="387" y="1326"/>
                  </a:lnTo>
                  <a:lnTo>
                    <a:pt x="397" y="1298"/>
                  </a:lnTo>
                  <a:lnTo>
                    <a:pt x="406" y="1268"/>
                  </a:lnTo>
                  <a:lnTo>
                    <a:pt x="414" y="1239"/>
                  </a:lnTo>
                  <a:lnTo>
                    <a:pt x="421" y="1209"/>
                  </a:lnTo>
                  <a:lnTo>
                    <a:pt x="429" y="1180"/>
                  </a:lnTo>
                  <a:lnTo>
                    <a:pt x="433" y="1152"/>
                  </a:lnTo>
                  <a:lnTo>
                    <a:pt x="438" y="1152"/>
                  </a:lnTo>
                  <a:lnTo>
                    <a:pt x="444" y="1153"/>
                  </a:lnTo>
                  <a:lnTo>
                    <a:pt x="451" y="1156"/>
                  </a:lnTo>
                  <a:lnTo>
                    <a:pt x="460" y="1160"/>
                  </a:lnTo>
                  <a:lnTo>
                    <a:pt x="469" y="1161"/>
                  </a:lnTo>
                  <a:lnTo>
                    <a:pt x="477" y="1164"/>
                  </a:lnTo>
                  <a:lnTo>
                    <a:pt x="483" y="1167"/>
                  </a:lnTo>
                  <a:lnTo>
                    <a:pt x="486" y="1169"/>
                  </a:lnTo>
                  <a:lnTo>
                    <a:pt x="495" y="1170"/>
                  </a:lnTo>
                  <a:lnTo>
                    <a:pt x="502" y="1170"/>
                  </a:lnTo>
                  <a:lnTo>
                    <a:pt x="510" y="1169"/>
                  </a:lnTo>
                  <a:lnTo>
                    <a:pt x="517" y="1169"/>
                  </a:lnTo>
                  <a:lnTo>
                    <a:pt x="525" y="1169"/>
                  </a:lnTo>
                  <a:lnTo>
                    <a:pt x="532" y="1167"/>
                  </a:lnTo>
                  <a:lnTo>
                    <a:pt x="541" y="1164"/>
                  </a:lnTo>
                  <a:lnTo>
                    <a:pt x="549" y="1160"/>
                  </a:lnTo>
                  <a:lnTo>
                    <a:pt x="559" y="1139"/>
                  </a:lnTo>
                  <a:lnTo>
                    <a:pt x="568" y="1127"/>
                  </a:lnTo>
                  <a:lnTo>
                    <a:pt x="573" y="1122"/>
                  </a:lnTo>
                  <a:lnTo>
                    <a:pt x="577" y="1118"/>
                  </a:lnTo>
                  <a:lnTo>
                    <a:pt x="582" y="1116"/>
                  </a:lnTo>
                  <a:lnTo>
                    <a:pt x="586" y="1114"/>
                  </a:lnTo>
                  <a:lnTo>
                    <a:pt x="595" y="1113"/>
                  </a:lnTo>
                  <a:lnTo>
                    <a:pt x="609" y="1116"/>
                  </a:lnTo>
                  <a:lnTo>
                    <a:pt x="625" y="1121"/>
                  </a:lnTo>
                  <a:lnTo>
                    <a:pt x="648" y="1127"/>
                  </a:lnTo>
                  <a:lnTo>
                    <a:pt x="654" y="1127"/>
                  </a:lnTo>
                  <a:lnTo>
                    <a:pt x="660" y="1128"/>
                  </a:lnTo>
                  <a:lnTo>
                    <a:pt x="667" y="1128"/>
                  </a:lnTo>
                  <a:lnTo>
                    <a:pt x="675" y="1130"/>
                  </a:lnTo>
                  <a:lnTo>
                    <a:pt x="684" y="1132"/>
                  </a:lnTo>
                  <a:lnTo>
                    <a:pt x="693" y="1132"/>
                  </a:lnTo>
                  <a:lnTo>
                    <a:pt x="697" y="1135"/>
                  </a:lnTo>
                  <a:lnTo>
                    <a:pt x="703" y="1136"/>
                  </a:lnTo>
                  <a:lnTo>
                    <a:pt x="726" y="1139"/>
                  </a:lnTo>
                  <a:lnTo>
                    <a:pt x="745" y="1142"/>
                  </a:lnTo>
                  <a:lnTo>
                    <a:pt x="766" y="1146"/>
                  </a:lnTo>
                  <a:lnTo>
                    <a:pt x="789" y="1147"/>
                  </a:lnTo>
                  <a:lnTo>
                    <a:pt x="810" y="1147"/>
                  </a:lnTo>
                  <a:lnTo>
                    <a:pt x="832" y="1147"/>
                  </a:lnTo>
                  <a:lnTo>
                    <a:pt x="853" y="1144"/>
                  </a:lnTo>
                  <a:lnTo>
                    <a:pt x="874" y="1138"/>
                  </a:lnTo>
                  <a:lnTo>
                    <a:pt x="889" y="1127"/>
                  </a:lnTo>
                  <a:lnTo>
                    <a:pt x="903" y="1113"/>
                  </a:lnTo>
                  <a:lnTo>
                    <a:pt x="915" y="1096"/>
                  </a:lnTo>
                  <a:lnTo>
                    <a:pt x="927" y="1080"/>
                  </a:lnTo>
                  <a:lnTo>
                    <a:pt x="939" y="1063"/>
                  </a:lnTo>
                  <a:lnTo>
                    <a:pt x="948" y="1048"/>
                  </a:lnTo>
                  <a:lnTo>
                    <a:pt x="957" y="1029"/>
                  </a:lnTo>
                  <a:lnTo>
                    <a:pt x="966" y="1013"/>
                  </a:lnTo>
                  <a:lnTo>
                    <a:pt x="967" y="1013"/>
                  </a:lnTo>
                  <a:lnTo>
                    <a:pt x="969" y="1013"/>
                  </a:lnTo>
                  <a:lnTo>
                    <a:pt x="970" y="1012"/>
                  </a:lnTo>
                  <a:lnTo>
                    <a:pt x="973" y="1012"/>
                  </a:lnTo>
                  <a:lnTo>
                    <a:pt x="975" y="1012"/>
                  </a:lnTo>
                  <a:lnTo>
                    <a:pt x="976" y="1012"/>
                  </a:lnTo>
                  <a:lnTo>
                    <a:pt x="978" y="1010"/>
                  </a:lnTo>
                  <a:lnTo>
                    <a:pt x="979" y="1010"/>
                  </a:lnTo>
                  <a:lnTo>
                    <a:pt x="1000" y="993"/>
                  </a:lnTo>
                  <a:lnTo>
                    <a:pt x="1023" y="976"/>
                  </a:lnTo>
                  <a:lnTo>
                    <a:pt x="1045" y="957"/>
                  </a:lnTo>
                  <a:lnTo>
                    <a:pt x="1065" y="940"/>
                  </a:lnTo>
                  <a:lnTo>
                    <a:pt x="1086" y="920"/>
                  </a:lnTo>
                  <a:lnTo>
                    <a:pt x="1105" y="900"/>
                  </a:lnTo>
                  <a:lnTo>
                    <a:pt x="1122" y="878"/>
                  </a:lnTo>
                  <a:lnTo>
                    <a:pt x="1140" y="855"/>
                  </a:lnTo>
                  <a:lnTo>
                    <a:pt x="1153" y="827"/>
                  </a:lnTo>
                  <a:lnTo>
                    <a:pt x="1165" y="797"/>
                  </a:lnTo>
                  <a:lnTo>
                    <a:pt x="1177" y="769"/>
                  </a:lnTo>
                  <a:lnTo>
                    <a:pt x="1186" y="740"/>
                  </a:lnTo>
                  <a:lnTo>
                    <a:pt x="1191" y="710"/>
                  </a:lnTo>
                  <a:lnTo>
                    <a:pt x="1195" y="681"/>
                  </a:lnTo>
                  <a:lnTo>
                    <a:pt x="1195" y="665"/>
                  </a:lnTo>
                  <a:lnTo>
                    <a:pt x="1195" y="650"/>
                  </a:lnTo>
                  <a:lnTo>
                    <a:pt x="1194" y="634"/>
                  </a:lnTo>
                  <a:lnTo>
                    <a:pt x="1191" y="619"/>
                  </a:lnTo>
                  <a:lnTo>
                    <a:pt x="1183" y="592"/>
                  </a:lnTo>
                  <a:lnTo>
                    <a:pt x="1173" y="564"/>
                  </a:lnTo>
                  <a:lnTo>
                    <a:pt x="1159" y="536"/>
                  </a:lnTo>
                  <a:lnTo>
                    <a:pt x="1147" y="511"/>
                  </a:lnTo>
                  <a:lnTo>
                    <a:pt x="1131" y="488"/>
                  </a:lnTo>
                  <a:lnTo>
                    <a:pt x="1113" y="463"/>
                  </a:lnTo>
                  <a:lnTo>
                    <a:pt x="1093" y="440"/>
                  </a:lnTo>
                  <a:lnTo>
                    <a:pt x="1074" y="420"/>
                  </a:lnTo>
                  <a:lnTo>
                    <a:pt x="1051" y="398"/>
                  </a:lnTo>
                  <a:lnTo>
                    <a:pt x="1030" y="381"/>
                  </a:lnTo>
                  <a:lnTo>
                    <a:pt x="1008" y="362"/>
                  </a:lnTo>
                  <a:lnTo>
                    <a:pt x="982" y="348"/>
                  </a:lnTo>
                  <a:lnTo>
                    <a:pt x="957" y="334"/>
                  </a:lnTo>
                  <a:lnTo>
                    <a:pt x="933" y="322"/>
                  </a:lnTo>
                  <a:lnTo>
                    <a:pt x="906" y="312"/>
                  </a:lnTo>
                  <a:lnTo>
                    <a:pt x="879" y="306"/>
                  </a:lnTo>
                  <a:lnTo>
                    <a:pt x="876" y="303"/>
                  </a:lnTo>
                  <a:lnTo>
                    <a:pt x="871" y="301"/>
                  </a:lnTo>
                  <a:lnTo>
                    <a:pt x="865" y="298"/>
                  </a:lnTo>
                  <a:lnTo>
                    <a:pt x="858" y="297"/>
                  </a:lnTo>
                  <a:lnTo>
                    <a:pt x="840" y="295"/>
                  </a:lnTo>
                  <a:lnTo>
                    <a:pt x="822" y="294"/>
                  </a:lnTo>
                  <a:lnTo>
                    <a:pt x="802" y="294"/>
                  </a:lnTo>
                  <a:lnTo>
                    <a:pt x="786" y="294"/>
                  </a:lnTo>
                  <a:lnTo>
                    <a:pt x="772" y="294"/>
                  </a:lnTo>
                  <a:lnTo>
                    <a:pt x="766" y="294"/>
                  </a:lnTo>
                  <a:lnTo>
                    <a:pt x="744" y="297"/>
                  </a:lnTo>
                  <a:lnTo>
                    <a:pt x="723" y="298"/>
                  </a:lnTo>
                  <a:lnTo>
                    <a:pt x="702" y="303"/>
                  </a:lnTo>
                  <a:lnTo>
                    <a:pt x="682" y="306"/>
                  </a:lnTo>
                  <a:lnTo>
                    <a:pt x="661" y="312"/>
                  </a:lnTo>
                  <a:lnTo>
                    <a:pt x="643" y="315"/>
                  </a:lnTo>
                  <a:lnTo>
                    <a:pt x="624" y="323"/>
                  </a:lnTo>
                  <a:lnTo>
                    <a:pt x="606" y="329"/>
                  </a:lnTo>
                  <a:lnTo>
                    <a:pt x="588" y="339"/>
                  </a:lnTo>
                  <a:lnTo>
                    <a:pt x="570" y="348"/>
                  </a:lnTo>
                  <a:lnTo>
                    <a:pt x="552" y="356"/>
                  </a:lnTo>
                  <a:lnTo>
                    <a:pt x="534" y="367"/>
                  </a:lnTo>
                  <a:lnTo>
                    <a:pt x="517" y="378"/>
                  </a:lnTo>
                  <a:lnTo>
                    <a:pt x="501" y="388"/>
                  </a:lnTo>
                  <a:lnTo>
                    <a:pt x="483" y="401"/>
                  </a:lnTo>
                  <a:lnTo>
                    <a:pt x="468" y="415"/>
                  </a:lnTo>
                  <a:lnTo>
                    <a:pt x="442" y="446"/>
                  </a:lnTo>
                  <a:lnTo>
                    <a:pt x="418" y="477"/>
                  </a:lnTo>
                  <a:lnTo>
                    <a:pt x="399" y="510"/>
                  </a:lnTo>
                  <a:lnTo>
                    <a:pt x="379" y="542"/>
                  </a:lnTo>
                  <a:lnTo>
                    <a:pt x="372" y="561"/>
                  </a:lnTo>
                  <a:lnTo>
                    <a:pt x="364" y="577"/>
                  </a:lnTo>
                  <a:lnTo>
                    <a:pt x="358" y="597"/>
                  </a:lnTo>
                  <a:lnTo>
                    <a:pt x="351" y="614"/>
                  </a:lnTo>
                  <a:lnTo>
                    <a:pt x="346" y="634"/>
                  </a:lnTo>
                  <a:lnTo>
                    <a:pt x="342" y="653"/>
                  </a:lnTo>
                  <a:lnTo>
                    <a:pt x="339" y="673"/>
                  </a:lnTo>
                  <a:lnTo>
                    <a:pt x="336" y="693"/>
                  </a:lnTo>
                  <a:lnTo>
                    <a:pt x="331" y="699"/>
                  </a:lnTo>
                  <a:lnTo>
                    <a:pt x="328" y="704"/>
                  </a:lnTo>
                  <a:lnTo>
                    <a:pt x="325" y="710"/>
                  </a:lnTo>
                  <a:lnTo>
                    <a:pt x="324" y="716"/>
                  </a:lnTo>
                  <a:lnTo>
                    <a:pt x="321" y="723"/>
                  </a:lnTo>
                  <a:lnTo>
                    <a:pt x="319" y="727"/>
                  </a:lnTo>
                  <a:lnTo>
                    <a:pt x="316" y="734"/>
                  </a:lnTo>
                  <a:lnTo>
                    <a:pt x="313" y="741"/>
                  </a:lnTo>
                  <a:lnTo>
                    <a:pt x="309" y="762"/>
                  </a:lnTo>
                  <a:lnTo>
                    <a:pt x="306" y="783"/>
                  </a:lnTo>
                  <a:lnTo>
                    <a:pt x="301" y="805"/>
                  </a:lnTo>
                  <a:lnTo>
                    <a:pt x="297" y="827"/>
                  </a:lnTo>
                  <a:lnTo>
                    <a:pt x="292" y="849"/>
                  </a:lnTo>
                  <a:lnTo>
                    <a:pt x="288" y="870"/>
                  </a:lnTo>
                  <a:lnTo>
                    <a:pt x="283" y="891"/>
                  </a:lnTo>
                  <a:lnTo>
                    <a:pt x="279" y="912"/>
                  </a:lnTo>
                  <a:lnTo>
                    <a:pt x="276" y="922"/>
                  </a:lnTo>
                  <a:lnTo>
                    <a:pt x="274" y="929"/>
                  </a:lnTo>
                  <a:lnTo>
                    <a:pt x="273" y="936"/>
                  </a:lnTo>
                  <a:lnTo>
                    <a:pt x="271" y="939"/>
                  </a:lnTo>
                  <a:lnTo>
                    <a:pt x="270" y="942"/>
                  </a:lnTo>
                  <a:lnTo>
                    <a:pt x="270" y="945"/>
                  </a:lnTo>
                  <a:lnTo>
                    <a:pt x="268" y="947"/>
                  </a:lnTo>
                  <a:lnTo>
                    <a:pt x="267" y="950"/>
                  </a:lnTo>
                  <a:lnTo>
                    <a:pt x="256" y="953"/>
                  </a:lnTo>
                  <a:lnTo>
                    <a:pt x="244" y="956"/>
                  </a:lnTo>
                  <a:lnTo>
                    <a:pt x="235" y="959"/>
                  </a:lnTo>
                  <a:lnTo>
                    <a:pt x="226" y="961"/>
                  </a:lnTo>
                  <a:lnTo>
                    <a:pt x="217" y="964"/>
                  </a:lnTo>
                  <a:lnTo>
                    <a:pt x="207" y="965"/>
                  </a:lnTo>
                  <a:lnTo>
                    <a:pt x="199" y="970"/>
                  </a:lnTo>
                  <a:lnTo>
                    <a:pt x="189" y="973"/>
                  </a:lnTo>
                  <a:lnTo>
                    <a:pt x="163" y="978"/>
                  </a:lnTo>
                  <a:lnTo>
                    <a:pt x="139" y="982"/>
                  </a:lnTo>
                  <a:lnTo>
                    <a:pt x="117" y="985"/>
                  </a:lnTo>
                  <a:lnTo>
                    <a:pt x="93" y="990"/>
                  </a:lnTo>
                  <a:lnTo>
                    <a:pt x="67" y="996"/>
                  </a:lnTo>
                  <a:lnTo>
                    <a:pt x="45" y="1003"/>
                  </a:lnTo>
                  <a:lnTo>
                    <a:pt x="22" y="1010"/>
                  </a:lnTo>
                  <a:lnTo>
                    <a:pt x="0" y="1016"/>
                  </a:lnTo>
                  <a:lnTo>
                    <a:pt x="0" y="1012"/>
                  </a:lnTo>
                  <a:lnTo>
                    <a:pt x="1" y="1009"/>
                  </a:lnTo>
                  <a:lnTo>
                    <a:pt x="4" y="1006"/>
                  </a:lnTo>
                  <a:lnTo>
                    <a:pt x="9" y="1003"/>
                  </a:lnTo>
                  <a:lnTo>
                    <a:pt x="13" y="999"/>
                  </a:lnTo>
                  <a:lnTo>
                    <a:pt x="16" y="998"/>
                  </a:lnTo>
                  <a:lnTo>
                    <a:pt x="21" y="995"/>
                  </a:lnTo>
                  <a:lnTo>
                    <a:pt x="22" y="992"/>
                  </a:lnTo>
                  <a:lnTo>
                    <a:pt x="40" y="981"/>
                  </a:lnTo>
                  <a:lnTo>
                    <a:pt x="57" y="968"/>
                  </a:lnTo>
                  <a:lnTo>
                    <a:pt x="73" y="956"/>
                  </a:lnTo>
                  <a:lnTo>
                    <a:pt x="91" y="943"/>
                  </a:lnTo>
                  <a:lnTo>
                    <a:pt x="106" y="931"/>
                  </a:lnTo>
                  <a:lnTo>
                    <a:pt x="123" y="915"/>
                  </a:lnTo>
                  <a:lnTo>
                    <a:pt x="138" y="903"/>
                  </a:lnTo>
                  <a:lnTo>
                    <a:pt x="154" y="889"/>
                  </a:lnTo>
                  <a:lnTo>
                    <a:pt x="160" y="881"/>
                  </a:lnTo>
                  <a:lnTo>
                    <a:pt x="165" y="873"/>
                  </a:lnTo>
                  <a:lnTo>
                    <a:pt x="171" y="867"/>
                  </a:lnTo>
                  <a:lnTo>
                    <a:pt x="175" y="859"/>
                  </a:lnTo>
                  <a:lnTo>
                    <a:pt x="181" y="852"/>
                  </a:lnTo>
                  <a:lnTo>
                    <a:pt x="187" y="845"/>
                  </a:lnTo>
                  <a:lnTo>
                    <a:pt x="193" y="838"/>
                  </a:lnTo>
                  <a:lnTo>
                    <a:pt x="199" y="831"/>
                  </a:lnTo>
                  <a:lnTo>
                    <a:pt x="201" y="822"/>
                  </a:lnTo>
                  <a:lnTo>
                    <a:pt x="204" y="814"/>
                  </a:lnTo>
                  <a:lnTo>
                    <a:pt x="207" y="808"/>
                  </a:lnTo>
                  <a:lnTo>
                    <a:pt x="210" y="802"/>
                  </a:lnTo>
                  <a:lnTo>
                    <a:pt x="211" y="797"/>
                  </a:lnTo>
                  <a:lnTo>
                    <a:pt x="214" y="794"/>
                  </a:lnTo>
                  <a:lnTo>
                    <a:pt x="217" y="788"/>
                  </a:lnTo>
                  <a:lnTo>
                    <a:pt x="220" y="780"/>
                  </a:lnTo>
                  <a:lnTo>
                    <a:pt x="220" y="779"/>
                  </a:lnTo>
                  <a:lnTo>
                    <a:pt x="219" y="779"/>
                  </a:lnTo>
                  <a:lnTo>
                    <a:pt x="219" y="777"/>
                  </a:lnTo>
                  <a:lnTo>
                    <a:pt x="217" y="776"/>
                  </a:lnTo>
                  <a:lnTo>
                    <a:pt x="217" y="774"/>
                  </a:lnTo>
                  <a:lnTo>
                    <a:pt x="217" y="771"/>
                  </a:lnTo>
                  <a:lnTo>
                    <a:pt x="216" y="768"/>
                  </a:lnTo>
                  <a:lnTo>
                    <a:pt x="214" y="763"/>
                  </a:lnTo>
                  <a:lnTo>
                    <a:pt x="196" y="737"/>
                  </a:lnTo>
                  <a:lnTo>
                    <a:pt x="175" y="715"/>
                  </a:lnTo>
                  <a:lnTo>
                    <a:pt x="154" y="692"/>
                  </a:lnTo>
                  <a:lnTo>
                    <a:pt x="130" y="673"/>
                  </a:lnTo>
                  <a:lnTo>
                    <a:pt x="106" y="656"/>
                  </a:lnTo>
                  <a:lnTo>
                    <a:pt x="81" y="640"/>
                  </a:lnTo>
                  <a:lnTo>
                    <a:pt x="54" y="626"/>
                  </a:lnTo>
                  <a:lnTo>
                    <a:pt x="25" y="612"/>
                  </a:lnTo>
                  <a:lnTo>
                    <a:pt x="25" y="611"/>
                  </a:lnTo>
                  <a:lnTo>
                    <a:pt x="25" y="609"/>
                  </a:lnTo>
                  <a:lnTo>
                    <a:pt x="33" y="609"/>
                  </a:lnTo>
                  <a:lnTo>
                    <a:pt x="39" y="611"/>
                  </a:lnTo>
                  <a:lnTo>
                    <a:pt x="43" y="611"/>
                  </a:lnTo>
                  <a:lnTo>
                    <a:pt x="51" y="611"/>
                  </a:lnTo>
                  <a:lnTo>
                    <a:pt x="57" y="612"/>
                  </a:lnTo>
                  <a:lnTo>
                    <a:pt x="66" y="614"/>
                  </a:lnTo>
                  <a:lnTo>
                    <a:pt x="79" y="617"/>
                  </a:lnTo>
                  <a:lnTo>
                    <a:pt x="94" y="619"/>
                  </a:lnTo>
                  <a:lnTo>
                    <a:pt x="120" y="620"/>
                  </a:lnTo>
                  <a:lnTo>
                    <a:pt x="144" y="620"/>
                  </a:lnTo>
                  <a:lnTo>
                    <a:pt x="156" y="620"/>
                  </a:lnTo>
                  <a:lnTo>
                    <a:pt x="165" y="619"/>
                  </a:lnTo>
                  <a:lnTo>
                    <a:pt x="175" y="617"/>
                  </a:lnTo>
                  <a:lnTo>
                    <a:pt x="186" y="614"/>
                  </a:lnTo>
                  <a:lnTo>
                    <a:pt x="195" y="611"/>
                  </a:lnTo>
                  <a:lnTo>
                    <a:pt x="201" y="606"/>
                  </a:lnTo>
                  <a:lnTo>
                    <a:pt x="207" y="598"/>
                  </a:lnTo>
                  <a:lnTo>
                    <a:pt x="211" y="591"/>
                  </a:lnTo>
                  <a:lnTo>
                    <a:pt x="214" y="580"/>
                  </a:lnTo>
                  <a:lnTo>
                    <a:pt x="214" y="569"/>
                  </a:lnTo>
                  <a:lnTo>
                    <a:pt x="214" y="553"/>
                  </a:lnTo>
                  <a:lnTo>
                    <a:pt x="210" y="536"/>
                  </a:lnTo>
                  <a:lnTo>
                    <a:pt x="199" y="516"/>
                  </a:lnTo>
                  <a:lnTo>
                    <a:pt x="190" y="497"/>
                  </a:lnTo>
                  <a:lnTo>
                    <a:pt x="180" y="479"/>
                  </a:lnTo>
                  <a:lnTo>
                    <a:pt x="169" y="461"/>
                  </a:lnTo>
                  <a:lnTo>
                    <a:pt x="160" y="444"/>
                  </a:lnTo>
                  <a:lnTo>
                    <a:pt x="150" y="427"/>
                  </a:lnTo>
                  <a:lnTo>
                    <a:pt x="139" y="412"/>
                  </a:lnTo>
                  <a:lnTo>
                    <a:pt x="127" y="395"/>
                  </a:lnTo>
                  <a:lnTo>
                    <a:pt x="121" y="388"/>
                  </a:lnTo>
                  <a:lnTo>
                    <a:pt x="114" y="382"/>
                  </a:lnTo>
                  <a:lnTo>
                    <a:pt x="106" y="373"/>
                  </a:lnTo>
                  <a:lnTo>
                    <a:pt x="97" y="364"/>
                  </a:lnTo>
                  <a:lnTo>
                    <a:pt x="91" y="354"/>
                  </a:lnTo>
                  <a:lnTo>
                    <a:pt x="85" y="346"/>
                  </a:lnTo>
                  <a:lnTo>
                    <a:pt x="79" y="339"/>
                  </a:lnTo>
                  <a:lnTo>
                    <a:pt x="76" y="332"/>
                  </a:lnTo>
                  <a:lnTo>
                    <a:pt x="96" y="343"/>
                  </a:lnTo>
                  <a:lnTo>
                    <a:pt x="115" y="353"/>
                  </a:lnTo>
                  <a:lnTo>
                    <a:pt x="135" y="365"/>
                  </a:lnTo>
                  <a:lnTo>
                    <a:pt x="156" y="378"/>
                  </a:lnTo>
                  <a:lnTo>
                    <a:pt x="175" y="388"/>
                  </a:lnTo>
                  <a:lnTo>
                    <a:pt x="196" y="399"/>
                  </a:lnTo>
                  <a:lnTo>
                    <a:pt x="216" y="412"/>
                  </a:lnTo>
                  <a:lnTo>
                    <a:pt x="237" y="423"/>
                  </a:lnTo>
                  <a:lnTo>
                    <a:pt x="252" y="424"/>
                  </a:lnTo>
                  <a:lnTo>
                    <a:pt x="267" y="426"/>
                  </a:lnTo>
                  <a:lnTo>
                    <a:pt x="279" y="429"/>
                  </a:lnTo>
                  <a:lnTo>
                    <a:pt x="294" y="429"/>
                  </a:lnTo>
                  <a:lnTo>
                    <a:pt x="300" y="429"/>
                  </a:lnTo>
                  <a:lnTo>
                    <a:pt x="306" y="427"/>
                  </a:lnTo>
                  <a:lnTo>
                    <a:pt x="312" y="426"/>
                  </a:lnTo>
                  <a:lnTo>
                    <a:pt x="318" y="424"/>
                  </a:lnTo>
                  <a:lnTo>
                    <a:pt x="324" y="420"/>
                  </a:lnTo>
                  <a:lnTo>
                    <a:pt x="328" y="415"/>
                  </a:lnTo>
                  <a:lnTo>
                    <a:pt x="334" y="407"/>
                  </a:lnTo>
                  <a:lnTo>
                    <a:pt x="340" y="399"/>
                  </a:lnTo>
                  <a:lnTo>
                    <a:pt x="339" y="381"/>
                  </a:lnTo>
                  <a:lnTo>
                    <a:pt x="336" y="360"/>
                  </a:lnTo>
                  <a:lnTo>
                    <a:pt x="333" y="342"/>
                  </a:lnTo>
                  <a:lnTo>
                    <a:pt x="327" y="325"/>
                  </a:lnTo>
                  <a:lnTo>
                    <a:pt x="321" y="308"/>
                  </a:lnTo>
                  <a:lnTo>
                    <a:pt x="315" y="290"/>
                  </a:lnTo>
                  <a:lnTo>
                    <a:pt x="306" y="275"/>
                  </a:lnTo>
                  <a:lnTo>
                    <a:pt x="298" y="256"/>
                  </a:lnTo>
                  <a:lnTo>
                    <a:pt x="298" y="255"/>
                  </a:lnTo>
                  <a:lnTo>
                    <a:pt x="300" y="253"/>
                  </a:lnTo>
                  <a:lnTo>
                    <a:pt x="300" y="252"/>
                  </a:lnTo>
                  <a:lnTo>
                    <a:pt x="309" y="261"/>
                  </a:lnTo>
                  <a:lnTo>
                    <a:pt x="319" y="272"/>
                  </a:lnTo>
                  <a:lnTo>
                    <a:pt x="331" y="280"/>
                  </a:lnTo>
                  <a:lnTo>
                    <a:pt x="340" y="290"/>
                  </a:lnTo>
                  <a:lnTo>
                    <a:pt x="352" y="300"/>
                  </a:lnTo>
                  <a:lnTo>
                    <a:pt x="363" y="311"/>
                  </a:lnTo>
                  <a:lnTo>
                    <a:pt x="376" y="320"/>
                  </a:lnTo>
                  <a:lnTo>
                    <a:pt x="388" y="329"/>
                  </a:lnTo>
                  <a:lnTo>
                    <a:pt x="393" y="329"/>
                  </a:lnTo>
                  <a:lnTo>
                    <a:pt x="397" y="329"/>
                  </a:lnTo>
                  <a:lnTo>
                    <a:pt x="402" y="329"/>
                  </a:lnTo>
                  <a:lnTo>
                    <a:pt x="405" y="329"/>
                  </a:lnTo>
                  <a:lnTo>
                    <a:pt x="409" y="329"/>
                  </a:lnTo>
                  <a:lnTo>
                    <a:pt x="412" y="329"/>
                  </a:lnTo>
                  <a:lnTo>
                    <a:pt x="417" y="329"/>
                  </a:lnTo>
                  <a:lnTo>
                    <a:pt x="421" y="328"/>
                  </a:lnTo>
                  <a:lnTo>
                    <a:pt x="423" y="323"/>
                  </a:lnTo>
                  <a:lnTo>
                    <a:pt x="424" y="320"/>
                  </a:lnTo>
                  <a:lnTo>
                    <a:pt x="426" y="317"/>
                  </a:lnTo>
                  <a:lnTo>
                    <a:pt x="427" y="314"/>
                  </a:lnTo>
                  <a:lnTo>
                    <a:pt x="429" y="312"/>
                  </a:lnTo>
                  <a:lnTo>
                    <a:pt x="430" y="308"/>
                  </a:lnTo>
                  <a:lnTo>
                    <a:pt x="432" y="303"/>
                  </a:lnTo>
                  <a:lnTo>
                    <a:pt x="435" y="297"/>
                  </a:lnTo>
                  <a:lnTo>
                    <a:pt x="435" y="272"/>
                  </a:lnTo>
                  <a:lnTo>
                    <a:pt x="433" y="245"/>
                  </a:lnTo>
                  <a:lnTo>
                    <a:pt x="430" y="221"/>
                  </a:lnTo>
                  <a:lnTo>
                    <a:pt x="427" y="197"/>
                  </a:lnTo>
                  <a:lnTo>
                    <a:pt x="424" y="172"/>
                  </a:lnTo>
                  <a:lnTo>
                    <a:pt x="418" y="151"/>
                  </a:lnTo>
                  <a:lnTo>
                    <a:pt x="414" y="126"/>
                  </a:lnTo>
                  <a:lnTo>
                    <a:pt x="409" y="101"/>
                  </a:lnTo>
                  <a:lnTo>
                    <a:pt x="408" y="95"/>
                  </a:lnTo>
                  <a:lnTo>
                    <a:pt x="406" y="88"/>
                  </a:lnTo>
                  <a:lnTo>
                    <a:pt x="406" y="82"/>
                  </a:lnTo>
                  <a:lnTo>
                    <a:pt x="405" y="74"/>
                  </a:lnTo>
                  <a:lnTo>
                    <a:pt x="403" y="68"/>
                  </a:lnTo>
                  <a:lnTo>
                    <a:pt x="402" y="60"/>
                  </a:lnTo>
                  <a:lnTo>
                    <a:pt x="402" y="54"/>
                  </a:lnTo>
                  <a:lnTo>
                    <a:pt x="400" y="48"/>
                  </a:lnTo>
                  <a:lnTo>
                    <a:pt x="402" y="48"/>
                  </a:lnTo>
                  <a:lnTo>
                    <a:pt x="403" y="48"/>
                  </a:lnTo>
                  <a:lnTo>
                    <a:pt x="405" y="48"/>
                  </a:lnTo>
                  <a:lnTo>
                    <a:pt x="414" y="73"/>
                  </a:lnTo>
                  <a:lnTo>
                    <a:pt x="426" y="101"/>
                  </a:lnTo>
                  <a:lnTo>
                    <a:pt x="439" y="130"/>
                  </a:lnTo>
                  <a:lnTo>
                    <a:pt x="454" y="160"/>
                  </a:lnTo>
                  <a:lnTo>
                    <a:pt x="463" y="174"/>
                  </a:lnTo>
                  <a:lnTo>
                    <a:pt x="472" y="188"/>
                  </a:lnTo>
                  <a:lnTo>
                    <a:pt x="483" y="200"/>
                  </a:lnTo>
                  <a:lnTo>
                    <a:pt x="492" y="211"/>
                  </a:lnTo>
                  <a:lnTo>
                    <a:pt x="504" y="224"/>
                  </a:lnTo>
                  <a:lnTo>
                    <a:pt x="516" y="233"/>
                  </a:lnTo>
                  <a:lnTo>
                    <a:pt x="528" y="239"/>
                  </a:lnTo>
                  <a:lnTo>
                    <a:pt x="541" y="247"/>
                  </a:lnTo>
                  <a:lnTo>
                    <a:pt x="553" y="245"/>
                  </a:lnTo>
                  <a:lnTo>
                    <a:pt x="564" y="244"/>
                  </a:lnTo>
                  <a:lnTo>
                    <a:pt x="573" y="241"/>
                  </a:lnTo>
                  <a:lnTo>
                    <a:pt x="580" y="238"/>
                  </a:lnTo>
                  <a:lnTo>
                    <a:pt x="586" y="233"/>
                  </a:lnTo>
                  <a:lnTo>
                    <a:pt x="589" y="227"/>
                  </a:lnTo>
                  <a:lnTo>
                    <a:pt x="594" y="219"/>
                  </a:lnTo>
                  <a:lnTo>
                    <a:pt x="597" y="213"/>
                  </a:lnTo>
                  <a:lnTo>
                    <a:pt x="600" y="196"/>
                  </a:lnTo>
                  <a:lnTo>
                    <a:pt x="601" y="177"/>
                  </a:lnTo>
                  <a:lnTo>
                    <a:pt x="601" y="158"/>
                  </a:lnTo>
                  <a:lnTo>
                    <a:pt x="600" y="137"/>
                  </a:lnTo>
                  <a:lnTo>
                    <a:pt x="601" y="137"/>
                  </a:lnTo>
                  <a:lnTo>
                    <a:pt x="603" y="137"/>
                  </a:lnTo>
                  <a:lnTo>
                    <a:pt x="603" y="138"/>
                  </a:lnTo>
                  <a:lnTo>
                    <a:pt x="604" y="138"/>
                  </a:lnTo>
                  <a:lnTo>
                    <a:pt x="610" y="160"/>
                  </a:lnTo>
                  <a:lnTo>
                    <a:pt x="615" y="175"/>
                  </a:lnTo>
                  <a:lnTo>
                    <a:pt x="621" y="189"/>
                  </a:lnTo>
                  <a:lnTo>
                    <a:pt x="625" y="199"/>
                  </a:lnTo>
                  <a:lnTo>
                    <a:pt x="630" y="202"/>
                  </a:lnTo>
                  <a:lnTo>
                    <a:pt x="634" y="205"/>
                  </a:lnTo>
                  <a:lnTo>
                    <a:pt x="640" y="207"/>
                  </a:lnTo>
                  <a:lnTo>
                    <a:pt x="646" y="210"/>
                  </a:lnTo>
                  <a:lnTo>
                    <a:pt x="661" y="211"/>
                  </a:lnTo>
                  <a:lnTo>
                    <a:pt x="681" y="213"/>
                  </a:lnTo>
                  <a:lnTo>
                    <a:pt x="687" y="211"/>
                  </a:lnTo>
                  <a:lnTo>
                    <a:pt x="693" y="208"/>
                  </a:lnTo>
                  <a:lnTo>
                    <a:pt x="697" y="203"/>
                  </a:lnTo>
                  <a:lnTo>
                    <a:pt x="702" y="200"/>
                  </a:lnTo>
                  <a:lnTo>
                    <a:pt x="711" y="191"/>
                  </a:lnTo>
                  <a:lnTo>
                    <a:pt x="717" y="177"/>
                  </a:lnTo>
                  <a:lnTo>
                    <a:pt x="723" y="163"/>
                  </a:lnTo>
                  <a:lnTo>
                    <a:pt x="727" y="149"/>
                  </a:lnTo>
                  <a:lnTo>
                    <a:pt x="730" y="132"/>
                  </a:lnTo>
                  <a:lnTo>
                    <a:pt x="732" y="116"/>
                  </a:lnTo>
                  <a:lnTo>
                    <a:pt x="735" y="82"/>
                  </a:lnTo>
                  <a:lnTo>
                    <a:pt x="735" y="50"/>
                  </a:lnTo>
                  <a:lnTo>
                    <a:pt x="735" y="2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8" y="0"/>
                  </a:lnTo>
                  <a:lnTo>
                    <a:pt x="744" y="25"/>
                  </a:lnTo>
                  <a:lnTo>
                    <a:pt x="751" y="51"/>
                  </a:lnTo>
                  <a:lnTo>
                    <a:pt x="759" y="76"/>
                  </a:lnTo>
                  <a:lnTo>
                    <a:pt x="766" y="99"/>
                  </a:lnTo>
                  <a:lnTo>
                    <a:pt x="772" y="126"/>
                  </a:lnTo>
                  <a:lnTo>
                    <a:pt x="781" y="149"/>
                  </a:lnTo>
                  <a:lnTo>
                    <a:pt x="792" y="175"/>
                  </a:lnTo>
                  <a:lnTo>
                    <a:pt x="801" y="200"/>
                  </a:lnTo>
                  <a:lnTo>
                    <a:pt x="804" y="208"/>
                  </a:lnTo>
                  <a:lnTo>
                    <a:pt x="808" y="216"/>
                  </a:lnTo>
                  <a:lnTo>
                    <a:pt x="811" y="224"/>
                  </a:lnTo>
                  <a:lnTo>
                    <a:pt x="816" y="233"/>
                  </a:lnTo>
                  <a:lnTo>
                    <a:pt x="820" y="239"/>
                  </a:lnTo>
                  <a:lnTo>
                    <a:pt x="825" y="247"/>
                  </a:lnTo>
                  <a:lnTo>
                    <a:pt x="831" y="255"/>
                  </a:lnTo>
                  <a:lnTo>
                    <a:pt x="838" y="263"/>
                  </a:lnTo>
                  <a:lnTo>
                    <a:pt x="853" y="253"/>
                  </a:lnTo>
                  <a:lnTo>
                    <a:pt x="870" y="244"/>
                  </a:lnTo>
                  <a:lnTo>
                    <a:pt x="883" y="236"/>
                  </a:lnTo>
                  <a:lnTo>
                    <a:pt x="897" y="225"/>
                  </a:lnTo>
                  <a:lnTo>
                    <a:pt x="924" y="202"/>
                  </a:lnTo>
                  <a:lnTo>
                    <a:pt x="948" y="179"/>
                  </a:lnTo>
                  <a:lnTo>
                    <a:pt x="973" y="152"/>
                  </a:lnTo>
                  <a:lnTo>
                    <a:pt x="994" y="126"/>
                  </a:lnTo>
                  <a:lnTo>
                    <a:pt x="1015" y="98"/>
                  </a:lnTo>
                  <a:lnTo>
                    <a:pt x="1038" y="68"/>
                  </a:lnTo>
                  <a:lnTo>
                    <a:pt x="1039" y="68"/>
                  </a:lnTo>
                  <a:lnTo>
                    <a:pt x="1041" y="68"/>
                  </a:lnTo>
                  <a:lnTo>
                    <a:pt x="1042" y="68"/>
                  </a:lnTo>
                  <a:lnTo>
                    <a:pt x="1035" y="93"/>
                  </a:lnTo>
                  <a:lnTo>
                    <a:pt x="1026" y="121"/>
                  </a:lnTo>
                  <a:lnTo>
                    <a:pt x="1015" y="149"/>
                  </a:lnTo>
                  <a:lnTo>
                    <a:pt x="1008" y="179"/>
                  </a:lnTo>
                  <a:lnTo>
                    <a:pt x="1003" y="193"/>
                  </a:lnTo>
                  <a:lnTo>
                    <a:pt x="1002" y="207"/>
                  </a:lnTo>
                  <a:lnTo>
                    <a:pt x="1000" y="221"/>
                  </a:lnTo>
                  <a:lnTo>
                    <a:pt x="1000" y="236"/>
                  </a:lnTo>
                  <a:lnTo>
                    <a:pt x="1002" y="249"/>
                  </a:lnTo>
                  <a:lnTo>
                    <a:pt x="1005" y="263"/>
                  </a:lnTo>
                  <a:lnTo>
                    <a:pt x="1011" y="275"/>
                  </a:lnTo>
                  <a:lnTo>
                    <a:pt x="1017" y="286"/>
                  </a:lnTo>
                  <a:lnTo>
                    <a:pt x="1030" y="290"/>
                  </a:lnTo>
                  <a:lnTo>
                    <a:pt x="1044" y="294"/>
                  </a:lnTo>
                  <a:lnTo>
                    <a:pt x="1057" y="294"/>
                  </a:lnTo>
                  <a:lnTo>
                    <a:pt x="1071" y="292"/>
                  </a:lnTo>
                  <a:lnTo>
                    <a:pt x="1086" y="289"/>
                  </a:lnTo>
                  <a:lnTo>
                    <a:pt x="1101" y="283"/>
                  </a:lnTo>
                  <a:lnTo>
                    <a:pt x="1117" y="276"/>
                  </a:lnTo>
                  <a:lnTo>
                    <a:pt x="1131" y="270"/>
                  </a:lnTo>
                  <a:lnTo>
                    <a:pt x="1159" y="253"/>
                  </a:lnTo>
                  <a:lnTo>
                    <a:pt x="1189" y="236"/>
                  </a:lnTo>
                  <a:lnTo>
                    <a:pt x="1213" y="217"/>
                  </a:lnTo>
                  <a:lnTo>
                    <a:pt x="1233" y="202"/>
                  </a:lnTo>
                  <a:lnTo>
                    <a:pt x="1263" y="174"/>
                  </a:lnTo>
                  <a:lnTo>
                    <a:pt x="1285" y="155"/>
                  </a:lnTo>
                  <a:lnTo>
                    <a:pt x="1300" y="140"/>
                  </a:lnTo>
                  <a:lnTo>
                    <a:pt x="1312" y="129"/>
                  </a:lnTo>
                  <a:lnTo>
                    <a:pt x="1318" y="124"/>
                  </a:lnTo>
                  <a:lnTo>
                    <a:pt x="1323" y="121"/>
                  </a:lnTo>
                  <a:lnTo>
                    <a:pt x="1326" y="119"/>
                  </a:lnTo>
                  <a:lnTo>
                    <a:pt x="1327" y="118"/>
                  </a:lnTo>
                  <a:lnTo>
                    <a:pt x="1327" y="119"/>
                  </a:lnTo>
                  <a:lnTo>
                    <a:pt x="1327" y="121"/>
                  </a:lnTo>
                  <a:lnTo>
                    <a:pt x="1327" y="123"/>
                  </a:lnTo>
                  <a:lnTo>
                    <a:pt x="1329" y="123"/>
                  </a:lnTo>
                  <a:lnTo>
                    <a:pt x="1306" y="146"/>
                  </a:lnTo>
                  <a:lnTo>
                    <a:pt x="1287" y="172"/>
                  </a:lnTo>
                  <a:lnTo>
                    <a:pt x="1266" y="200"/>
                  </a:lnTo>
                  <a:lnTo>
                    <a:pt x="1248" y="228"/>
                  </a:lnTo>
                  <a:lnTo>
                    <a:pt x="1230" y="256"/>
                  </a:lnTo>
                  <a:lnTo>
                    <a:pt x="1213" y="286"/>
                  </a:lnTo>
                  <a:lnTo>
                    <a:pt x="1198" y="315"/>
                  </a:lnTo>
                  <a:lnTo>
                    <a:pt x="1188" y="346"/>
                  </a:lnTo>
                  <a:lnTo>
                    <a:pt x="1186" y="359"/>
                  </a:lnTo>
                  <a:lnTo>
                    <a:pt x="1183" y="374"/>
                  </a:lnTo>
                  <a:lnTo>
                    <a:pt x="1182" y="387"/>
                  </a:lnTo>
                  <a:lnTo>
                    <a:pt x="1183" y="402"/>
                  </a:lnTo>
                  <a:lnTo>
                    <a:pt x="1185" y="409"/>
                  </a:lnTo>
                  <a:lnTo>
                    <a:pt x="1186" y="416"/>
                  </a:lnTo>
                  <a:lnTo>
                    <a:pt x="1189" y="423"/>
                  </a:lnTo>
                  <a:lnTo>
                    <a:pt x="1191" y="426"/>
                  </a:lnTo>
                  <a:lnTo>
                    <a:pt x="1195" y="430"/>
                  </a:lnTo>
                  <a:lnTo>
                    <a:pt x="1201" y="435"/>
                  </a:lnTo>
                  <a:lnTo>
                    <a:pt x="1209" y="440"/>
                  </a:lnTo>
                  <a:lnTo>
                    <a:pt x="1216" y="441"/>
                  </a:lnTo>
                  <a:lnTo>
                    <a:pt x="1225" y="443"/>
                  </a:lnTo>
                  <a:lnTo>
                    <a:pt x="1231" y="443"/>
                  </a:lnTo>
                  <a:lnTo>
                    <a:pt x="1239" y="443"/>
                  </a:lnTo>
                  <a:lnTo>
                    <a:pt x="1245" y="443"/>
                  </a:lnTo>
                  <a:lnTo>
                    <a:pt x="1254" y="444"/>
                  </a:lnTo>
                  <a:lnTo>
                    <a:pt x="1263" y="444"/>
                  </a:lnTo>
                  <a:lnTo>
                    <a:pt x="1278" y="444"/>
                  </a:lnTo>
                  <a:lnTo>
                    <a:pt x="1296" y="444"/>
                  </a:lnTo>
                  <a:lnTo>
                    <a:pt x="1314" y="441"/>
                  </a:lnTo>
                  <a:lnTo>
                    <a:pt x="1333" y="437"/>
                  </a:lnTo>
                  <a:lnTo>
                    <a:pt x="1351" y="432"/>
                  </a:lnTo>
                  <a:lnTo>
                    <a:pt x="1369" y="427"/>
                  </a:lnTo>
                  <a:lnTo>
                    <a:pt x="1389" y="424"/>
                  </a:lnTo>
                  <a:lnTo>
                    <a:pt x="1408" y="418"/>
                  </a:lnTo>
                  <a:lnTo>
                    <a:pt x="1428" y="413"/>
                  </a:lnTo>
                  <a:lnTo>
                    <a:pt x="1446" y="407"/>
                  </a:lnTo>
                  <a:lnTo>
                    <a:pt x="1444" y="409"/>
                  </a:lnTo>
                  <a:lnTo>
                    <a:pt x="1443" y="410"/>
                  </a:lnTo>
                  <a:lnTo>
                    <a:pt x="1441" y="412"/>
                  </a:lnTo>
                  <a:lnTo>
                    <a:pt x="1441" y="413"/>
                  </a:lnTo>
                  <a:lnTo>
                    <a:pt x="1440" y="413"/>
                  </a:lnTo>
                  <a:lnTo>
                    <a:pt x="1440" y="415"/>
                  </a:lnTo>
                  <a:lnTo>
                    <a:pt x="1440" y="416"/>
                  </a:lnTo>
                  <a:lnTo>
                    <a:pt x="1408" y="434"/>
                  </a:lnTo>
                  <a:lnTo>
                    <a:pt x="1372" y="458"/>
                  </a:lnTo>
                  <a:lnTo>
                    <a:pt x="1354" y="471"/>
                  </a:lnTo>
                  <a:lnTo>
                    <a:pt x="1333" y="486"/>
                  </a:lnTo>
                  <a:lnTo>
                    <a:pt x="1317" y="500"/>
                  </a:lnTo>
                  <a:lnTo>
                    <a:pt x="1299" y="517"/>
                  </a:lnTo>
                  <a:lnTo>
                    <a:pt x="1285" y="536"/>
                  </a:lnTo>
                  <a:lnTo>
                    <a:pt x="1273" y="552"/>
                  </a:lnTo>
                  <a:lnTo>
                    <a:pt x="1269" y="561"/>
                  </a:lnTo>
                  <a:lnTo>
                    <a:pt x="1264" y="570"/>
                  </a:lnTo>
                  <a:lnTo>
                    <a:pt x="1263" y="578"/>
                  </a:lnTo>
                  <a:lnTo>
                    <a:pt x="1261" y="587"/>
                  </a:lnTo>
                  <a:lnTo>
                    <a:pt x="1261" y="597"/>
                  </a:lnTo>
                  <a:lnTo>
                    <a:pt x="1261" y="606"/>
                  </a:lnTo>
                  <a:lnTo>
                    <a:pt x="1263" y="615"/>
                  </a:lnTo>
                  <a:lnTo>
                    <a:pt x="1266" y="625"/>
                  </a:lnTo>
                  <a:lnTo>
                    <a:pt x="1272" y="634"/>
                  </a:lnTo>
                  <a:lnTo>
                    <a:pt x="1278" y="642"/>
                  </a:lnTo>
                  <a:lnTo>
                    <a:pt x="1287" y="650"/>
                  </a:lnTo>
                  <a:lnTo>
                    <a:pt x="1297" y="659"/>
                  </a:lnTo>
                  <a:lnTo>
                    <a:pt x="1309" y="667"/>
                  </a:lnTo>
                  <a:lnTo>
                    <a:pt x="1324" y="673"/>
                  </a:lnTo>
                  <a:lnTo>
                    <a:pt x="1338" y="679"/>
                  </a:lnTo>
                  <a:lnTo>
                    <a:pt x="1351" y="685"/>
                  </a:lnTo>
                  <a:lnTo>
                    <a:pt x="1366" y="690"/>
                  </a:lnTo>
                  <a:lnTo>
                    <a:pt x="1381" y="696"/>
                  </a:lnTo>
                  <a:lnTo>
                    <a:pt x="1396" y="701"/>
                  </a:lnTo>
                  <a:lnTo>
                    <a:pt x="1411" y="706"/>
                  </a:lnTo>
                  <a:lnTo>
                    <a:pt x="1420" y="707"/>
                  </a:lnTo>
                  <a:lnTo>
                    <a:pt x="1431" y="709"/>
                  </a:lnTo>
                  <a:lnTo>
                    <a:pt x="1440" y="710"/>
                  </a:lnTo>
                  <a:lnTo>
                    <a:pt x="1449" y="712"/>
                  </a:lnTo>
                  <a:lnTo>
                    <a:pt x="1458" y="712"/>
                  </a:lnTo>
                  <a:lnTo>
                    <a:pt x="1468" y="713"/>
                  </a:lnTo>
                  <a:lnTo>
                    <a:pt x="1476" y="715"/>
                  </a:lnTo>
                  <a:lnTo>
                    <a:pt x="1486" y="716"/>
                  </a:lnTo>
                  <a:lnTo>
                    <a:pt x="1486" y="718"/>
                  </a:lnTo>
                  <a:lnTo>
                    <a:pt x="1486" y="720"/>
                  </a:lnTo>
                  <a:lnTo>
                    <a:pt x="1486" y="721"/>
                  </a:lnTo>
                  <a:lnTo>
                    <a:pt x="1459" y="723"/>
                  </a:lnTo>
                  <a:lnTo>
                    <a:pt x="1432" y="724"/>
                  </a:lnTo>
                  <a:lnTo>
                    <a:pt x="1404" y="727"/>
                  </a:lnTo>
                  <a:lnTo>
                    <a:pt x="1378" y="732"/>
                  </a:lnTo>
                  <a:lnTo>
                    <a:pt x="1351" y="737"/>
                  </a:lnTo>
                  <a:lnTo>
                    <a:pt x="1326" y="743"/>
                  </a:lnTo>
                  <a:lnTo>
                    <a:pt x="1299" y="749"/>
                  </a:lnTo>
                  <a:lnTo>
                    <a:pt x="1273" y="755"/>
                  </a:lnTo>
                  <a:lnTo>
                    <a:pt x="1257" y="762"/>
                  </a:lnTo>
                  <a:lnTo>
                    <a:pt x="1243" y="769"/>
                  </a:lnTo>
                  <a:lnTo>
                    <a:pt x="1233" y="776"/>
                  </a:lnTo>
                  <a:lnTo>
                    <a:pt x="1227" y="783"/>
                  </a:lnTo>
                  <a:lnTo>
                    <a:pt x="1225" y="788"/>
                  </a:lnTo>
                  <a:lnTo>
                    <a:pt x="1225" y="791"/>
                  </a:lnTo>
                  <a:lnTo>
                    <a:pt x="1225" y="797"/>
                  </a:lnTo>
                  <a:lnTo>
                    <a:pt x="1227" y="802"/>
                  </a:lnTo>
                  <a:lnTo>
                    <a:pt x="1230" y="816"/>
                  </a:lnTo>
                  <a:lnTo>
                    <a:pt x="1239" y="835"/>
                  </a:lnTo>
                  <a:lnTo>
                    <a:pt x="1246" y="839"/>
                  </a:lnTo>
                  <a:lnTo>
                    <a:pt x="1252" y="845"/>
                  </a:lnTo>
                  <a:lnTo>
                    <a:pt x="1260" y="853"/>
                  </a:lnTo>
                  <a:lnTo>
                    <a:pt x="1266" y="863"/>
                  </a:lnTo>
                  <a:lnTo>
                    <a:pt x="1273" y="872"/>
                  </a:lnTo>
                  <a:lnTo>
                    <a:pt x="1281" y="880"/>
                  </a:lnTo>
                  <a:lnTo>
                    <a:pt x="1288" y="889"/>
                  </a:lnTo>
                  <a:lnTo>
                    <a:pt x="1294" y="897"/>
                  </a:lnTo>
                  <a:lnTo>
                    <a:pt x="1299" y="901"/>
                  </a:lnTo>
                  <a:lnTo>
                    <a:pt x="1303" y="905"/>
                  </a:lnTo>
                  <a:lnTo>
                    <a:pt x="1309" y="909"/>
                  </a:lnTo>
                  <a:lnTo>
                    <a:pt x="1315" y="912"/>
                  </a:lnTo>
                  <a:lnTo>
                    <a:pt x="1320" y="915"/>
                  </a:lnTo>
                  <a:lnTo>
                    <a:pt x="1326" y="920"/>
                  </a:lnTo>
                  <a:lnTo>
                    <a:pt x="1330" y="925"/>
                  </a:lnTo>
                  <a:lnTo>
                    <a:pt x="1335" y="929"/>
                  </a:lnTo>
                  <a:lnTo>
                    <a:pt x="1323" y="928"/>
                  </a:lnTo>
                  <a:lnTo>
                    <a:pt x="1305" y="926"/>
                  </a:lnTo>
                  <a:lnTo>
                    <a:pt x="1287" y="925"/>
                  </a:lnTo>
                  <a:lnTo>
                    <a:pt x="1266" y="922"/>
                  </a:lnTo>
                  <a:lnTo>
                    <a:pt x="1246" y="922"/>
                  </a:lnTo>
                  <a:lnTo>
                    <a:pt x="1227" y="922"/>
                  </a:lnTo>
                  <a:lnTo>
                    <a:pt x="1221" y="923"/>
                  </a:lnTo>
                  <a:lnTo>
                    <a:pt x="1213" y="925"/>
                  </a:lnTo>
                  <a:lnTo>
                    <a:pt x="1209" y="928"/>
                  </a:lnTo>
                  <a:lnTo>
                    <a:pt x="1204" y="931"/>
                  </a:lnTo>
                  <a:lnTo>
                    <a:pt x="1206" y="936"/>
                  </a:lnTo>
                  <a:lnTo>
                    <a:pt x="1206" y="940"/>
                  </a:lnTo>
                  <a:lnTo>
                    <a:pt x="1207" y="945"/>
                  </a:lnTo>
                  <a:lnTo>
                    <a:pt x="1209" y="950"/>
                  </a:lnTo>
                  <a:lnTo>
                    <a:pt x="1209" y="954"/>
                  </a:lnTo>
                  <a:lnTo>
                    <a:pt x="1210" y="959"/>
                  </a:lnTo>
                  <a:lnTo>
                    <a:pt x="1212" y="965"/>
                  </a:lnTo>
                  <a:lnTo>
                    <a:pt x="1212" y="970"/>
                  </a:lnTo>
                  <a:lnTo>
                    <a:pt x="1219" y="982"/>
                  </a:lnTo>
                  <a:lnTo>
                    <a:pt x="1227" y="996"/>
                  </a:lnTo>
                  <a:lnTo>
                    <a:pt x="1236" y="1010"/>
                  </a:lnTo>
                  <a:lnTo>
                    <a:pt x="1245" y="1023"/>
                  </a:lnTo>
                  <a:lnTo>
                    <a:pt x="1254" y="1037"/>
                  </a:lnTo>
                  <a:lnTo>
                    <a:pt x="1263" y="1052"/>
                  </a:lnTo>
                  <a:lnTo>
                    <a:pt x="1270" y="1066"/>
                  </a:lnTo>
                  <a:lnTo>
                    <a:pt x="1278" y="1082"/>
                  </a:lnTo>
                  <a:lnTo>
                    <a:pt x="1284" y="1088"/>
                  </a:lnTo>
                  <a:lnTo>
                    <a:pt x="1291" y="1094"/>
                  </a:lnTo>
                  <a:lnTo>
                    <a:pt x="1297" y="1100"/>
                  </a:lnTo>
                  <a:lnTo>
                    <a:pt x="1306" y="1110"/>
                  </a:lnTo>
                  <a:lnTo>
                    <a:pt x="1314" y="1119"/>
                  </a:lnTo>
                  <a:lnTo>
                    <a:pt x="1321" y="1127"/>
                  </a:lnTo>
                  <a:lnTo>
                    <a:pt x="1327" y="1135"/>
                  </a:lnTo>
                  <a:lnTo>
                    <a:pt x="1332" y="1144"/>
                  </a:lnTo>
                  <a:lnTo>
                    <a:pt x="1309" y="1130"/>
                  </a:lnTo>
                  <a:lnTo>
                    <a:pt x="1288" y="1116"/>
                  </a:lnTo>
                  <a:lnTo>
                    <a:pt x="1266" y="1104"/>
                  </a:lnTo>
                  <a:lnTo>
                    <a:pt x="1245" y="1093"/>
                  </a:lnTo>
                  <a:lnTo>
                    <a:pt x="1224" y="1080"/>
                  </a:lnTo>
                  <a:lnTo>
                    <a:pt x="1201" y="1068"/>
                  </a:lnTo>
                  <a:lnTo>
                    <a:pt x="1180" y="1057"/>
                  </a:lnTo>
                  <a:lnTo>
                    <a:pt x="1158" y="1044"/>
                  </a:lnTo>
                  <a:lnTo>
                    <a:pt x="1141" y="1040"/>
                  </a:lnTo>
                  <a:lnTo>
                    <a:pt x="1126" y="1038"/>
                  </a:lnTo>
                  <a:lnTo>
                    <a:pt x="1120" y="1038"/>
                  </a:lnTo>
                  <a:lnTo>
                    <a:pt x="1117" y="1038"/>
                  </a:lnTo>
                  <a:lnTo>
                    <a:pt x="1113" y="1040"/>
                  </a:lnTo>
                  <a:lnTo>
                    <a:pt x="1110" y="1043"/>
                  </a:lnTo>
                  <a:lnTo>
                    <a:pt x="1104" y="1049"/>
                  </a:lnTo>
                  <a:lnTo>
                    <a:pt x="1099" y="1058"/>
                  </a:lnTo>
                  <a:lnTo>
                    <a:pt x="1095" y="1071"/>
                  </a:lnTo>
                  <a:lnTo>
                    <a:pt x="1089" y="1088"/>
                  </a:lnTo>
                  <a:lnTo>
                    <a:pt x="1089" y="1097"/>
                  </a:lnTo>
                  <a:lnTo>
                    <a:pt x="1087" y="1110"/>
                  </a:lnTo>
                  <a:lnTo>
                    <a:pt x="1086" y="1125"/>
                  </a:lnTo>
                  <a:lnTo>
                    <a:pt x="1086" y="1139"/>
                  </a:lnTo>
                  <a:lnTo>
                    <a:pt x="1086" y="1155"/>
                  </a:lnTo>
                  <a:lnTo>
                    <a:pt x="1086" y="1169"/>
                  </a:lnTo>
                  <a:lnTo>
                    <a:pt x="1087" y="1181"/>
                  </a:lnTo>
                  <a:lnTo>
                    <a:pt x="1092" y="1194"/>
                  </a:lnTo>
                  <a:lnTo>
                    <a:pt x="1095" y="1209"/>
                  </a:lnTo>
                  <a:lnTo>
                    <a:pt x="1098" y="1226"/>
                  </a:lnTo>
                  <a:lnTo>
                    <a:pt x="1104" y="1242"/>
                  </a:lnTo>
                  <a:lnTo>
                    <a:pt x="1110" y="1257"/>
                  </a:lnTo>
                  <a:lnTo>
                    <a:pt x="1117" y="1276"/>
                  </a:lnTo>
                  <a:lnTo>
                    <a:pt x="1122" y="1292"/>
                  </a:lnTo>
                  <a:lnTo>
                    <a:pt x="1128" y="1309"/>
                  </a:lnTo>
                  <a:lnTo>
                    <a:pt x="1134" y="1326"/>
                  </a:lnTo>
                  <a:lnTo>
                    <a:pt x="1132" y="1326"/>
                  </a:lnTo>
                  <a:lnTo>
                    <a:pt x="1131" y="1326"/>
                  </a:lnTo>
                  <a:lnTo>
                    <a:pt x="1129" y="1326"/>
                  </a:lnTo>
                  <a:lnTo>
                    <a:pt x="1123" y="1312"/>
                  </a:lnTo>
                  <a:lnTo>
                    <a:pt x="1117" y="1298"/>
                  </a:lnTo>
                  <a:lnTo>
                    <a:pt x="1110" y="1285"/>
                  </a:lnTo>
                  <a:lnTo>
                    <a:pt x="1101" y="1273"/>
                  </a:lnTo>
                  <a:lnTo>
                    <a:pt x="1084" y="1248"/>
                  </a:lnTo>
                  <a:lnTo>
                    <a:pt x="1063" y="1226"/>
                  </a:lnTo>
                  <a:lnTo>
                    <a:pt x="1044" y="1205"/>
                  </a:lnTo>
                  <a:lnTo>
                    <a:pt x="1023" y="1183"/>
                  </a:lnTo>
                  <a:lnTo>
                    <a:pt x="1005" y="1163"/>
                  </a:lnTo>
                  <a:lnTo>
                    <a:pt x="985" y="1139"/>
                  </a:lnTo>
                  <a:lnTo>
                    <a:pt x="978" y="1133"/>
                  </a:lnTo>
                  <a:lnTo>
                    <a:pt x="969" y="1132"/>
                  </a:lnTo>
                  <a:lnTo>
                    <a:pt x="960" y="1132"/>
                  </a:lnTo>
                  <a:lnTo>
                    <a:pt x="954" y="1132"/>
                  </a:lnTo>
                  <a:lnTo>
                    <a:pt x="948" y="1135"/>
                  </a:lnTo>
                  <a:lnTo>
                    <a:pt x="943" y="1139"/>
                  </a:lnTo>
                  <a:lnTo>
                    <a:pt x="940" y="1146"/>
                  </a:lnTo>
                  <a:lnTo>
                    <a:pt x="936" y="1153"/>
                  </a:lnTo>
                  <a:lnTo>
                    <a:pt x="931" y="1169"/>
                  </a:lnTo>
                  <a:lnTo>
                    <a:pt x="927" y="1188"/>
                  </a:lnTo>
                  <a:lnTo>
                    <a:pt x="925" y="1206"/>
                  </a:lnTo>
                  <a:lnTo>
                    <a:pt x="922" y="1222"/>
                  </a:lnTo>
                  <a:lnTo>
                    <a:pt x="924" y="1245"/>
                  </a:lnTo>
                  <a:lnTo>
                    <a:pt x="924" y="1268"/>
                  </a:lnTo>
                  <a:lnTo>
                    <a:pt x="925" y="1292"/>
                  </a:lnTo>
                  <a:lnTo>
                    <a:pt x="925" y="1317"/>
                  </a:lnTo>
                  <a:lnTo>
                    <a:pt x="927" y="1340"/>
                  </a:lnTo>
                  <a:lnTo>
                    <a:pt x="927" y="1362"/>
                  </a:lnTo>
                  <a:lnTo>
                    <a:pt x="927" y="1386"/>
                  </a:lnTo>
                  <a:lnTo>
                    <a:pt x="928" y="1410"/>
                  </a:lnTo>
                  <a:lnTo>
                    <a:pt x="927" y="1410"/>
                  </a:lnTo>
                  <a:lnTo>
                    <a:pt x="925" y="1410"/>
                  </a:lnTo>
                  <a:lnTo>
                    <a:pt x="924" y="1410"/>
                  </a:lnTo>
                  <a:lnTo>
                    <a:pt x="921" y="1393"/>
                  </a:lnTo>
                  <a:lnTo>
                    <a:pt x="916" y="1377"/>
                  </a:lnTo>
                  <a:lnTo>
                    <a:pt x="912" y="1360"/>
                  </a:lnTo>
                  <a:lnTo>
                    <a:pt x="907" y="1345"/>
                  </a:lnTo>
                  <a:lnTo>
                    <a:pt x="894" y="1313"/>
                  </a:lnTo>
                  <a:lnTo>
                    <a:pt x="877" y="1281"/>
                  </a:lnTo>
                  <a:lnTo>
                    <a:pt x="861" y="1248"/>
                  </a:lnTo>
                  <a:lnTo>
                    <a:pt x="841" y="1220"/>
                  </a:lnTo>
                  <a:lnTo>
                    <a:pt x="823" y="1194"/>
                  </a:lnTo>
                  <a:lnTo>
                    <a:pt x="802" y="1170"/>
                  </a:lnTo>
                  <a:lnTo>
                    <a:pt x="798" y="1169"/>
                  </a:lnTo>
                  <a:lnTo>
                    <a:pt x="790" y="1169"/>
                  </a:lnTo>
                  <a:lnTo>
                    <a:pt x="783" y="1169"/>
                  </a:lnTo>
                  <a:lnTo>
                    <a:pt x="775" y="1170"/>
                  </a:lnTo>
                  <a:lnTo>
                    <a:pt x="768" y="1175"/>
                  </a:lnTo>
                  <a:lnTo>
                    <a:pt x="762" y="1181"/>
                  </a:lnTo>
                  <a:lnTo>
                    <a:pt x="756" y="1188"/>
                  </a:lnTo>
                  <a:lnTo>
                    <a:pt x="748" y="1195"/>
                  </a:lnTo>
                  <a:lnTo>
                    <a:pt x="736" y="1209"/>
                  </a:lnTo>
                  <a:lnTo>
                    <a:pt x="726" y="1226"/>
                  </a:lnTo>
                  <a:lnTo>
                    <a:pt x="717" y="1242"/>
                  </a:lnTo>
                  <a:lnTo>
                    <a:pt x="711" y="1253"/>
                  </a:lnTo>
                  <a:lnTo>
                    <a:pt x="709" y="1254"/>
                  </a:lnTo>
                  <a:lnTo>
                    <a:pt x="708" y="1256"/>
                  </a:lnTo>
                  <a:lnTo>
                    <a:pt x="706" y="1257"/>
                  </a:lnTo>
                  <a:lnTo>
                    <a:pt x="705" y="1261"/>
                  </a:lnTo>
                  <a:lnTo>
                    <a:pt x="703" y="1262"/>
                  </a:lnTo>
                  <a:lnTo>
                    <a:pt x="702" y="1265"/>
                  </a:lnTo>
                  <a:lnTo>
                    <a:pt x="700" y="1267"/>
                  </a:lnTo>
                  <a:lnTo>
                    <a:pt x="699" y="1270"/>
                  </a:lnTo>
                  <a:lnTo>
                    <a:pt x="688" y="1292"/>
                  </a:lnTo>
                  <a:lnTo>
                    <a:pt x="676" y="1315"/>
                  </a:lnTo>
                  <a:lnTo>
                    <a:pt x="664" y="1337"/>
                  </a:lnTo>
                  <a:lnTo>
                    <a:pt x="654" y="1359"/>
                  </a:lnTo>
                  <a:lnTo>
                    <a:pt x="640" y="1382"/>
                  </a:lnTo>
                  <a:lnTo>
                    <a:pt x="627" y="1404"/>
                  </a:lnTo>
                  <a:lnTo>
                    <a:pt x="616" y="1427"/>
                  </a:lnTo>
                  <a:lnTo>
                    <a:pt x="603" y="1449"/>
                  </a:lnTo>
                  <a:lnTo>
                    <a:pt x="601" y="1449"/>
                  </a:lnTo>
                  <a:lnTo>
                    <a:pt x="600" y="1449"/>
                  </a:lnTo>
                  <a:lnTo>
                    <a:pt x="600" y="1450"/>
                  </a:lnTo>
                  <a:lnTo>
                    <a:pt x="598" y="14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1" name="Freeform 8"/>
            <p:cNvSpPr/>
            <p:nvPr/>
          </p:nvSpPr>
          <p:spPr>
            <a:xfrm>
              <a:off x="7239240" y="5980320"/>
              <a:ext cx="255600" cy="17856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28" h="188">
                  <a:moveTo>
                    <a:pt x="0" y="188"/>
                  </a:moveTo>
                  <a:lnTo>
                    <a:pt x="0" y="188"/>
                  </a:lnTo>
                  <a:lnTo>
                    <a:pt x="0" y="186"/>
                  </a:lnTo>
                  <a:lnTo>
                    <a:pt x="1" y="186"/>
                  </a:lnTo>
                  <a:lnTo>
                    <a:pt x="3" y="186"/>
                  </a:lnTo>
                  <a:lnTo>
                    <a:pt x="4" y="186"/>
                  </a:lnTo>
                  <a:lnTo>
                    <a:pt x="4" y="185"/>
                  </a:lnTo>
                  <a:lnTo>
                    <a:pt x="6" y="185"/>
                  </a:lnTo>
                  <a:lnTo>
                    <a:pt x="21" y="174"/>
                  </a:lnTo>
                  <a:lnTo>
                    <a:pt x="36" y="165"/>
                  </a:lnTo>
                  <a:lnTo>
                    <a:pt x="52" y="157"/>
                  </a:lnTo>
                  <a:lnTo>
                    <a:pt x="69" y="148"/>
                  </a:lnTo>
                  <a:lnTo>
                    <a:pt x="87" y="140"/>
                  </a:lnTo>
                  <a:lnTo>
                    <a:pt x="105" y="132"/>
                  </a:lnTo>
                  <a:lnTo>
                    <a:pt x="121" y="126"/>
                  </a:lnTo>
                  <a:lnTo>
                    <a:pt x="139" y="120"/>
                  </a:lnTo>
                  <a:lnTo>
                    <a:pt x="145" y="113"/>
                  </a:lnTo>
                  <a:lnTo>
                    <a:pt x="156" y="107"/>
                  </a:lnTo>
                  <a:lnTo>
                    <a:pt x="168" y="99"/>
                  </a:lnTo>
                  <a:lnTo>
                    <a:pt x="180" y="92"/>
                  </a:lnTo>
                  <a:lnTo>
                    <a:pt x="193" y="85"/>
                  </a:lnTo>
                  <a:lnTo>
                    <a:pt x="207" y="82"/>
                  </a:lnTo>
                  <a:lnTo>
                    <a:pt x="216" y="78"/>
                  </a:lnTo>
                  <a:lnTo>
                    <a:pt x="225" y="76"/>
                  </a:lnTo>
                  <a:lnTo>
                    <a:pt x="225" y="73"/>
                  </a:lnTo>
                  <a:lnTo>
                    <a:pt x="226" y="71"/>
                  </a:lnTo>
                  <a:lnTo>
                    <a:pt x="226" y="70"/>
                  </a:lnTo>
                  <a:lnTo>
                    <a:pt x="226" y="68"/>
                  </a:lnTo>
                  <a:lnTo>
                    <a:pt x="228" y="65"/>
                  </a:lnTo>
                  <a:lnTo>
                    <a:pt x="228" y="60"/>
                  </a:lnTo>
                  <a:lnTo>
                    <a:pt x="228" y="54"/>
                  </a:lnTo>
                  <a:lnTo>
                    <a:pt x="228" y="48"/>
                  </a:lnTo>
                  <a:lnTo>
                    <a:pt x="225" y="45"/>
                  </a:lnTo>
                  <a:lnTo>
                    <a:pt x="222" y="43"/>
                  </a:lnTo>
                  <a:lnTo>
                    <a:pt x="220" y="39"/>
                  </a:lnTo>
                  <a:lnTo>
                    <a:pt x="219" y="34"/>
                  </a:lnTo>
                  <a:lnTo>
                    <a:pt x="217" y="29"/>
                  </a:lnTo>
                  <a:lnTo>
                    <a:pt x="216" y="25"/>
                  </a:lnTo>
                  <a:lnTo>
                    <a:pt x="216" y="22"/>
                  </a:lnTo>
                  <a:lnTo>
                    <a:pt x="214" y="18"/>
                  </a:lnTo>
                  <a:lnTo>
                    <a:pt x="208" y="14"/>
                  </a:lnTo>
                  <a:lnTo>
                    <a:pt x="196" y="9"/>
                  </a:lnTo>
                  <a:lnTo>
                    <a:pt x="184" y="8"/>
                  </a:lnTo>
                  <a:lnTo>
                    <a:pt x="172" y="4"/>
                  </a:lnTo>
                  <a:lnTo>
                    <a:pt x="159" y="3"/>
                  </a:lnTo>
                  <a:lnTo>
                    <a:pt x="147" y="1"/>
                  </a:lnTo>
                  <a:lnTo>
                    <a:pt x="139" y="0"/>
                  </a:lnTo>
                  <a:lnTo>
                    <a:pt x="132" y="0"/>
                  </a:lnTo>
                  <a:lnTo>
                    <a:pt x="118" y="25"/>
                  </a:lnTo>
                  <a:lnTo>
                    <a:pt x="103" y="48"/>
                  </a:lnTo>
                  <a:lnTo>
                    <a:pt x="87" y="71"/>
                  </a:lnTo>
                  <a:lnTo>
                    <a:pt x="69" y="95"/>
                  </a:lnTo>
                  <a:lnTo>
                    <a:pt x="52" y="116"/>
                  </a:lnTo>
                  <a:lnTo>
                    <a:pt x="34" y="138"/>
                  </a:lnTo>
                  <a:lnTo>
                    <a:pt x="18" y="160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6"/>
                  </a:lnTo>
                  <a:lnTo>
                    <a:pt x="0" y="18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>
              <a:off x="7430040" y="5801040"/>
              <a:ext cx="114480" cy="1522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0" h="162">
                  <a:moveTo>
                    <a:pt x="76" y="162"/>
                  </a:moveTo>
                  <a:lnTo>
                    <a:pt x="79" y="162"/>
                  </a:lnTo>
                  <a:lnTo>
                    <a:pt x="82" y="162"/>
                  </a:lnTo>
                  <a:lnTo>
                    <a:pt x="84" y="162"/>
                  </a:lnTo>
                  <a:lnTo>
                    <a:pt x="87" y="160"/>
                  </a:lnTo>
                  <a:lnTo>
                    <a:pt x="88" y="160"/>
                  </a:lnTo>
                  <a:lnTo>
                    <a:pt x="91" y="160"/>
                  </a:lnTo>
                  <a:lnTo>
                    <a:pt x="93" y="159"/>
                  </a:lnTo>
                  <a:lnTo>
                    <a:pt x="96" y="156"/>
                  </a:lnTo>
                  <a:lnTo>
                    <a:pt x="96" y="151"/>
                  </a:lnTo>
                  <a:lnTo>
                    <a:pt x="97" y="146"/>
                  </a:lnTo>
                  <a:lnTo>
                    <a:pt x="97" y="143"/>
                  </a:lnTo>
                  <a:lnTo>
                    <a:pt x="99" y="139"/>
                  </a:lnTo>
                  <a:lnTo>
                    <a:pt x="99" y="135"/>
                  </a:lnTo>
                  <a:lnTo>
                    <a:pt x="100" y="132"/>
                  </a:lnTo>
                  <a:lnTo>
                    <a:pt x="100" y="129"/>
                  </a:lnTo>
                  <a:lnTo>
                    <a:pt x="100" y="126"/>
                  </a:lnTo>
                  <a:lnTo>
                    <a:pt x="88" y="112"/>
                  </a:lnTo>
                  <a:lnTo>
                    <a:pt x="76" y="97"/>
                  </a:lnTo>
                  <a:lnTo>
                    <a:pt x="64" y="83"/>
                  </a:lnTo>
                  <a:lnTo>
                    <a:pt x="54" y="65"/>
                  </a:lnTo>
                  <a:lnTo>
                    <a:pt x="43" y="50"/>
                  </a:lnTo>
                  <a:lnTo>
                    <a:pt x="34" y="33"/>
                  </a:lnTo>
                  <a:lnTo>
                    <a:pt x="27" y="16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3"/>
                  </a:lnTo>
                  <a:lnTo>
                    <a:pt x="10" y="27"/>
                  </a:lnTo>
                  <a:lnTo>
                    <a:pt x="9" y="41"/>
                  </a:lnTo>
                  <a:lnTo>
                    <a:pt x="7" y="53"/>
                  </a:lnTo>
                  <a:lnTo>
                    <a:pt x="4" y="67"/>
                  </a:lnTo>
                  <a:lnTo>
                    <a:pt x="4" y="81"/>
                  </a:lnTo>
                  <a:lnTo>
                    <a:pt x="3" y="93"/>
                  </a:lnTo>
                  <a:lnTo>
                    <a:pt x="0" y="107"/>
                  </a:lnTo>
                  <a:lnTo>
                    <a:pt x="1" y="112"/>
                  </a:lnTo>
                  <a:lnTo>
                    <a:pt x="1" y="115"/>
                  </a:lnTo>
                  <a:lnTo>
                    <a:pt x="3" y="118"/>
                  </a:lnTo>
                  <a:lnTo>
                    <a:pt x="4" y="120"/>
                  </a:lnTo>
                  <a:lnTo>
                    <a:pt x="4" y="121"/>
                  </a:lnTo>
                  <a:lnTo>
                    <a:pt x="9" y="123"/>
                  </a:lnTo>
                  <a:lnTo>
                    <a:pt x="13" y="125"/>
                  </a:lnTo>
                  <a:lnTo>
                    <a:pt x="21" y="126"/>
                  </a:lnTo>
                  <a:lnTo>
                    <a:pt x="27" y="131"/>
                  </a:lnTo>
                  <a:lnTo>
                    <a:pt x="31" y="134"/>
                  </a:lnTo>
                  <a:lnTo>
                    <a:pt x="36" y="137"/>
                  </a:lnTo>
                  <a:lnTo>
                    <a:pt x="40" y="140"/>
                  </a:lnTo>
                  <a:lnTo>
                    <a:pt x="45" y="145"/>
                  </a:lnTo>
                  <a:lnTo>
                    <a:pt x="54" y="149"/>
                  </a:lnTo>
                  <a:lnTo>
                    <a:pt x="64" y="156"/>
                  </a:lnTo>
                  <a:lnTo>
                    <a:pt x="76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>
              <a:off x="7304040" y="5761440"/>
              <a:ext cx="4320" cy="5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" h="4">
                  <a:moveTo>
                    <a:pt x="0" y="4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7758000" y="5259240"/>
              <a:ext cx="78840" cy="417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70" h="44">
                  <a:moveTo>
                    <a:pt x="61" y="44"/>
                  </a:moveTo>
                  <a:lnTo>
                    <a:pt x="64" y="44"/>
                  </a:lnTo>
                  <a:lnTo>
                    <a:pt x="67" y="41"/>
                  </a:lnTo>
                  <a:lnTo>
                    <a:pt x="69" y="39"/>
                  </a:lnTo>
                  <a:lnTo>
                    <a:pt x="69" y="36"/>
                  </a:lnTo>
                  <a:lnTo>
                    <a:pt x="70" y="30"/>
                  </a:lnTo>
                  <a:lnTo>
                    <a:pt x="69" y="22"/>
                  </a:lnTo>
                  <a:lnTo>
                    <a:pt x="69" y="16"/>
                  </a:lnTo>
                  <a:lnTo>
                    <a:pt x="67" y="8"/>
                  </a:lnTo>
                  <a:lnTo>
                    <a:pt x="64" y="2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4" y="3"/>
                  </a:lnTo>
                  <a:lnTo>
                    <a:pt x="27" y="6"/>
                  </a:lnTo>
                  <a:lnTo>
                    <a:pt x="19" y="11"/>
                  </a:lnTo>
                  <a:lnTo>
                    <a:pt x="12" y="16"/>
                  </a:lnTo>
                  <a:lnTo>
                    <a:pt x="4" y="22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7" y="41"/>
                  </a:lnTo>
                  <a:lnTo>
                    <a:pt x="9" y="44"/>
                  </a:lnTo>
                  <a:lnTo>
                    <a:pt x="13" y="42"/>
                  </a:lnTo>
                  <a:lnTo>
                    <a:pt x="18" y="39"/>
                  </a:lnTo>
                  <a:lnTo>
                    <a:pt x="22" y="36"/>
                  </a:lnTo>
                  <a:lnTo>
                    <a:pt x="28" y="31"/>
                  </a:lnTo>
                  <a:lnTo>
                    <a:pt x="33" y="28"/>
                  </a:lnTo>
                  <a:lnTo>
                    <a:pt x="39" y="25"/>
                  </a:lnTo>
                  <a:lnTo>
                    <a:pt x="46" y="22"/>
                  </a:lnTo>
                  <a:lnTo>
                    <a:pt x="54" y="22"/>
                  </a:lnTo>
                  <a:lnTo>
                    <a:pt x="55" y="28"/>
                  </a:lnTo>
                  <a:lnTo>
                    <a:pt x="57" y="33"/>
                  </a:lnTo>
                  <a:lnTo>
                    <a:pt x="58" y="37"/>
                  </a:lnTo>
                  <a:lnTo>
                    <a:pt x="58" y="39"/>
                  </a:lnTo>
                  <a:lnTo>
                    <a:pt x="60" y="42"/>
                  </a:lnTo>
                  <a:lnTo>
                    <a:pt x="61" y="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7362720" y="5304240"/>
              <a:ext cx="1026360" cy="816120"/>
            </a:xfrm>
            <a:custGeom>
              <a:avLst/>
              <a:gdLst>
                <a:gd name="textAreaLeft" fmla="*/ 0 w 1026360"/>
                <a:gd name="textAreaRight" fmla="*/ 1026720 w 1026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915" h="859">
                  <a:moveTo>
                    <a:pt x="221" y="859"/>
                  </a:moveTo>
                  <a:lnTo>
                    <a:pt x="209" y="857"/>
                  </a:lnTo>
                  <a:lnTo>
                    <a:pt x="197" y="854"/>
                  </a:lnTo>
                  <a:lnTo>
                    <a:pt x="186" y="849"/>
                  </a:lnTo>
                  <a:lnTo>
                    <a:pt x="174" y="843"/>
                  </a:lnTo>
                  <a:lnTo>
                    <a:pt x="167" y="837"/>
                  </a:lnTo>
                  <a:lnTo>
                    <a:pt x="156" y="831"/>
                  </a:lnTo>
                  <a:lnTo>
                    <a:pt x="146" y="826"/>
                  </a:lnTo>
                  <a:lnTo>
                    <a:pt x="138" y="818"/>
                  </a:lnTo>
                  <a:lnTo>
                    <a:pt x="134" y="812"/>
                  </a:lnTo>
                  <a:lnTo>
                    <a:pt x="131" y="806"/>
                  </a:lnTo>
                  <a:lnTo>
                    <a:pt x="129" y="801"/>
                  </a:lnTo>
                  <a:lnTo>
                    <a:pt x="128" y="796"/>
                  </a:lnTo>
                  <a:lnTo>
                    <a:pt x="128" y="793"/>
                  </a:lnTo>
                  <a:lnTo>
                    <a:pt x="128" y="787"/>
                  </a:lnTo>
                  <a:lnTo>
                    <a:pt x="128" y="782"/>
                  </a:lnTo>
                  <a:lnTo>
                    <a:pt x="129" y="776"/>
                  </a:lnTo>
                  <a:lnTo>
                    <a:pt x="135" y="776"/>
                  </a:lnTo>
                  <a:lnTo>
                    <a:pt x="141" y="778"/>
                  </a:lnTo>
                  <a:lnTo>
                    <a:pt x="147" y="781"/>
                  </a:lnTo>
                  <a:lnTo>
                    <a:pt x="155" y="784"/>
                  </a:lnTo>
                  <a:lnTo>
                    <a:pt x="162" y="787"/>
                  </a:lnTo>
                  <a:lnTo>
                    <a:pt x="170" y="790"/>
                  </a:lnTo>
                  <a:lnTo>
                    <a:pt x="176" y="793"/>
                  </a:lnTo>
                  <a:lnTo>
                    <a:pt x="183" y="795"/>
                  </a:lnTo>
                  <a:lnTo>
                    <a:pt x="192" y="796"/>
                  </a:lnTo>
                  <a:lnTo>
                    <a:pt x="204" y="799"/>
                  </a:lnTo>
                  <a:lnTo>
                    <a:pt x="216" y="803"/>
                  </a:lnTo>
                  <a:lnTo>
                    <a:pt x="230" y="807"/>
                  </a:lnTo>
                  <a:lnTo>
                    <a:pt x="243" y="812"/>
                  </a:lnTo>
                  <a:lnTo>
                    <a:pt x="254" y="817"/>
                  </a:lnTo>
                  <a:lnTo>
                    <a:pt x="264" y="823"/>
                  </a:lnTo>
                  <a:lnTo>
                    <a:pt x="270" y="831"/>
                  </a:lnTo>
                  <a:lnTo>
                    <a:pt x="270" y="834"/>
                  </a:lnTo>
                  <a:lnTo>
                    <a:pt x="270" y="837"/>
                  </a:lnTo>
                  <a:lnTo>
                    <a:pt x="270" y="838"/>
                  </a:lnTo>
                  <a:lnTo>
                    <a:pt x="270" y="841"/>
                  </a:lnTo>
                  <a:lnTo>
                    <a:pt x="270" y="843"/>
                  </a:lnTo>
                  <a:lnTo>
                    <a:pt x="270" y="846"/>
                  </a:lnTo>
                  <a:lnTo>
                    <a:pt x="269" y="849"/>
                  </a:lnTo>
                  <a:lnTo>
                    <a:pt x="263" y="852"/>
                  </a:lnTo>
                  <a:lnTo>
                    <a:pt x="257" y="855"/>
                  </a:lnTo>
                  <a:lnTo>
                    <a:pt x="251" y="857"/>
                  </a:lnTo>
                  <a:lnTo>
                    <a:pt x="245" y="859"/>
                  </a:lnTo>
                  <a:lnTo>
                    <a:pt x="240" y="859"/>
                  </a:lnTo>
                  <a:lnTo>
                    <a:pt x="234" y="859"/>
                  </a:lnTo>
                  <a:lnTo>
                    <a:pt x="227" y="859"/>
                  </a:lnTo>
                  <a:lnTo>
                    <a:pt x="221" y="859"/>
                  </a:lnTo>
                  <a:close/>
                  <a:moveTo>
                    <a:pt x="527" y="837"/>
                  </a:moveTo>
                  <a:lnTo>
                    <a:pt x="500" y="835"/>
                  </a:lnTo>
                  <a:lnTo>
                    <a:pt x="474" y="831"/>
                  </a:lnTo>
                  <a:lnTo>
                    <a:pt x="449" y="829"/>
                  </a:lnTo>
                  <a:lnTo>
                    <a:pt x="422" y="824"/>
                  </a:lnTo>
                  <a:lnTo>
                    <a:pt x="396" y="820"/>
                  </a:lnTo>
                  <a:lnTo>
                    <a:pt x="371" y="815"/>
                  </a:lnTo>
                  <a:lnTo>
                    <a:pt x="345" y="809"/>
                  </a:lnTo>
                  <a:lnTo>
                    <a:pt x="320" y="803"/>
                  </a:lnTo>
                  <a:lnTo>
                    <a:pt x="321" y="796"/>
                  </a:lnTo>
                  <a:lnTo>
                    <a:pt x="324" y="793"/>
                  </a:lnTo>
                  <a:lnTo>
                    <a:pt x="326" y="790"/>
                  </a:lnTo>
                  <a:lnTo>
                    <a:pt x="329" y="787"/>
                  </a:lnTo>
                  <a:lnTo>
                    <a:pt x="330" y="784"/>
                  </a:lnTo>
                  <a:lnTo>
                    <a:pt x="332" y="779"/>
                  </a:lnTo>
                  <a:lnTo>
                    <a:pt x="332" y="775"/>
                  </a:lnTo>
                  <a:lnTo>
                    <a:pt x="330" y="767"/>
                  </a:lnTo>
                  <a:lnTo>
                    <a:pt x="330" y="765"/>
                  </a:lnTo>
                  <a:lnTo>
                    <a:pt x="329" y="762"/>
                  </a:lnTo>
                  <a:lnTo>
                    <a:pt x="327" y="761"/>
                  </a:lnTo>
                  <a:lnTo>
                    <a:pt x="327" y="759"/>
                  </a:lnTo>
                  <a:lnTo>
                    <a:pt x="326" y="757"/>
                  </a:lnTo>
                  <a:lnTo>
                    <a:pt x="324" y="756"/>
                  </a:lnTo>
                  <a:lnTo>
                    <a:pt x="324" y="754"/>
                  </a:lnTo>
                  <a:lnTo>
                    <a:pt x="323" y="753"/>
                  </a:lnTo>
                  <a:lnTo>
                    <a:pt x="327" y="753"/>
                  </a:lnTo>
                  <a:lnTo>
                    <a:pt x="330" y="754"/>
                  </a:lnTo>
                  <a:lnTo>
                    <a:pt x="333" y="756"/>
                  </a:lnTo>
                  <a:lnTo>
                    <a:pt x="336" y="756"/>
                  </a:lnTo>
                  <a:lnTo>
                    <a:pt x="341" y="756"/>
                  </a:lnTo>
                  <a:lnTo>
                    <a:pt x="344" y="759"/>
                  </a:lnTo>
                  <a:lnTo>
                    <a:pt x="348" y="761"/>
                  </a:lnTo>
                  <a:lnTo>
                    <a:pt x="353" y="762"/>
                  </a:lnTo>
                  <a:lnTo>
                    <a:pt x="381" y="768"/>
                  </a:lnTo>
                  <a:lnTo>
                    <a:pt x="408" y="776"/>
                  </a:lnTo>
                  <a:lnTo>
                    <a:pt x="437" y="782"/>
                  </a:lnTo>
                  <a:lnTo>
                    <a:pt x="464" y="785"/>
                  </a:lnTo>
                  <a:lnTo>
                    <a:pt x="479" y="787"/>
                  </a:lnTo>
                  <a:lnTo>
                    <a:pt x="492" y="787"/>
                  </a:lnTo>
                  <a:lnTo>
                    <a:pt x="506" y="785"/>
                  </a:lnTo>
                  <a:lnTo>
                    <a:pt x="521" y="782"/>
                  </a:lnTo>
                  <a:lnTo>
                    <a:pt x="533" y="778"/>
                  </a:lnTo>
                  <a:lnTo>
                    <a:pt x="548" y="773"/>
                  </a:lnTo>
                  <a:lnTo>
                    <a:pt x="561" y="765"/>
                  </a:lnTo>
                  <a:lnTo>
                    <a:pt x="573" y="756"/>
                  </a:lnTo>
                  <a:lnTo>
                    <a:pt x="591" y="737"/>
                  </a:lnTo>
                  <a:lnTo>
                    <a:pt x="606" y="717"/>
                  </a:lnTo>
                  <a:lnTo>
                    <a:pt x="621" y="695"/>
                  </a:lnTo>
                  <a:lnTo>
                    <a:pt x="635" y="674"/>
                  </a:lnTo>
                  <a:lnTo>
                    <a:pt x="648" y="652"/>
                  </a:lnTo>
                  <a:lnTo>
                    <a:pt x="663" y="632"/>
                  </a:lnTo>
                  <a:lnTo>
                    <a:pt x="677" y="610"/>
                  </a:lnTo>
                  <a:lnTo>
                    <a:pt x="692" y="590"/>
                  </a:lnTo>
                  <a:lnTo>
                    <a:pt x="698" y="583"/>
                  </a:lnTo>
                  <a:lnTo>
                    <a:pt x="702" y="579"/>
                  </a:lnTo>
                  <a:lnTo>
                    <a:pt x="705" y="574"/>
                  </a:lnTo>
                  <a:lnTo>
                    <a:pt x="710" y="571"/>
                  </a:lnTo>
                  <a:lnTo>
                    <a:pt x="714" y="571"/>
                  </a:lnTo>
                  <a:lnTo>
                    <a:pt x="719" y="569"/>
                  </a:lnTo>
                  <a:lnTo>
                    <a:pt x="726" y="569"/>
                  </a:lnTo>
                  <a:lnTo>
                    <a:pt x="734" y="569"/>
                  </a:lnTo>
                  <a:lnTo>
                    <a:pt x="734" y="582"/>
                  </a:lnTo>
                  <a:lnTo>
                    <a:pt x="732" y="596"/>
                  </a:lnTo>
                  <a:lnTo>
                    <a:pt x="729" y="608"/>
                  </a:lnTo>
                  <a:lnTo>
                    <a:pt x="725" y="624"/>
                  </a:lnTo>
                  <a:lnTo>
                    <a:pt x="714" y="652"/>
                  </a:lnTo>
                  <a:lnTo>
                    <a:pt x="702" y="680"/>
                  </a:lnTo>
                  <a:lnTo>
                    <a:pt x="686" y="708"/>
                  </a:lnTo>
                  <a:lnTo>
                    <a:pt x="671" y="734"/>
                  </a:lnTo>
                  <a:lnTo>
                    <a:pt x="656" y="757"/>
                  </a:lnTo>
                  <a:lnTo>
                    <a:pt x="641" y="782"/>
                  </a:lnTo>
                  <a:lnTo>
                    <a:pt x="635" y="790"/>
                  </a:lnTo>
                  <a:lnTo>
                    <a:pt x="630" y="796"/>
                  </a:lnTo>
                  <a:lnTo>
                    <a:pt x="624" y="804"/>
                  </a:lnTo>
                  <a:lnTo>
                    <a:pt x="618" y="812"/>
                  </a:lnTo>
                  <a:lnTo>
                    <a:pt x="612" y="818"/>
                  </a:lnTo>
                  <a:lnTo>
                    <a:pt x="605" y="823"/>
                  </a:lnTo>
                  <a:lnTo>
                    <a:pt x="599" y="827"/>
                  </a:lnTo>
                  <a:lnTo>
                    <a:pt x="590" y="829"/>
                  </a:lnTo>
                  <a:lnTo>
                    <a:pt x="582" y="832"/>
                  </a:lnTo>
                  <a:lnTo>
                    <a:pt x="575" y="834"/>
                  </a:lnTo>
                  <a:lnTo>
                    <a:pt x="566" y="835"/>
                  </a:lnTo>
                  <a:lnTo>
                    <a:pt x="558" y="837"/>
                  </a:lnTo>
                  <a:lnTo>
                    <a:pt x="549" y="837"/>
                  </a:lnTo>
                  <a:lnTo>
                    <a:pt x="542" y="837"/>
                  </a:lnTo>
                  <a:lnTo>
                    <a:pt x="534" y="837"/>
                  </a:lnTo>
                  <a:lnTo>
                    <a:pt x="527" y="837"/>
                  </a:lnTo>
                  <a:close/>
                  <a:moveTo>
                    <a:pt x="279" y="824"/>
                  </a:moveTo>
                  <a:lnTo>
                    <a:pt x="282" y="824"/>
                  </a:lnTo>
                  <a:lnTo>
                    <a:pt x="287" y="823"/>
                  </a:lnTo>
                  <a:lnTo>
                    <a:pt x="290" y="820"/>
                  </a:lnTo>
                  <a:lnTo>
                    <a:pt x="294" y="817"/>
                  </a:lnTo>
                  <a:lnTo>
                    <a:pt x="297" y="812"/>
                  </a:lnTo>
                  <a:lnTo>
                    <a:pt x="300" y="807"/>
                  </a:lnTo>
                  <a:lnTo>
                    <a:pt x="303" y="804"/>
                  </a:lnTo>
                  <a:lnTo>
                    <a:pt x="305" y="801"/>
                  </a:lnTo>
                  <a:lnTo>
                    <a:pt x="291" y="799"/>
                  </a:lnTo>
                  <a:lnTo>
                    <a:pt x="279" y="796"/>
                  </a:lnTo>
                  <a:lnTo>
                    <a:pt x="267" y="793"/>
                  </a:lnTo>
                  <a:lnTo>
                    <a:pt x="257" y="790"/>
                  </a:lnTo>
                  <a:lnTo>
                    <a:pt x="245" y="784"/>
                  </a:lnTo>
                  <a:lnTo>
                    <a:pt x="236" y="779"/>
                  </a:lnTo>
                  <a:lnTo>
                    <a:pt x="225" y="773"/>
                  </a:lnTo>
                  <a:lnTo>
                    <a:pt x="215" y="765"/>
                  </a:lnTo>
                  <a:lnTo>
                    <a:pt x="207" y="757"/>
                  </a:lnTo>
                  <a:lnTo>
                    <a:pt x="195" y="748"/>
                  </a:lnTo>
                  <a:lnTo>
                    <a:pt x="182" y="739"/>
                  </a:lnTo>
                  <a:lnTo>
                    <a:pt x="170" y="729"/>
                  </a:lnTo>
                  <a:lnTo>
                    <a:pt x="155" y="722"/>
                  </a:lnTo>
                  <a:lnTo>
                    <a:pt x="143" y="719"/>
                  </a:lnTo>
                  <a:lnTo>
                    <a:pt x="138" y="717"/>
                  </a:lnTo>
                  <a:lnTo>
                    <a:pt x="132" y="717"/>
                  </a:lnTo>
                  <a:lnTo>
                    <a:pt x="128" y="719"/>
                  </a:lnTo>
                  <a:lnTo>
                    <a:pt x="123" y="720"/>
                  </a:lnTo>
                  <a:lnTo>
                    <a:pt x="123" y="722"/>
                  </a:lnTo>
                  <a:lnTo>
                    <a:pt x="123" y="723"/>
                  </a:lnTo>
                  <a:lnTo>
                    <a:pt x="125" y="726"/>
                  </a:lnTo>
                  <a:lnTo>
                    <a:pt x="125" y="728"/>
                  </a:lnTo>
                  <a:lnTo>
                    <a:pt x="123" y="731"/>
                  </a:lnTo>
                  <a:lnTo>
                    <a:pt x="123" y="733"/>
                  </a:lnTo>
                  <a:lnTo>
                    <a:pt x="122" y="736"/>
                  </a:lnTo>
                  <a:lnTo>
                    <a:pt x="122" y="737"/>
                  </a:lnTo>
                  <a:lnTo>
                    <a:pt x="123" y="747"/>
                  </a:lnTo>
                  <a:lnTo>
                    <a:pt x="129" y="756"/>
                  </a:lnTo>
                  <a:lnTo>
                    <a:pt x="135" y="761"/>
                  </a:lnTo>
                  <a:lnTo>
                    <a:pt x="143" y="767"/>
                  </a:lnTo>
                  <a:lnTo>
                    <a:pt x="155" y="773"/>
                  </a:lnTo>
                  <a:lnTo>
                    <a:pt x="165" y="778"/>
                  </a:lnTo>
                  <a:lnTo>
                    <a:pt x="177" y="782"/>
                  </a:lnTo>
                  <a:lnTo>
                    <a:pt x="191" y="785"/>
                  </a:lnTo>
                  <a:lnTo>
                    <a:pt x="216" y="793"/>
                  </a:lnTo>
                  <a:lnTo>
                    <a:pt x="243" y="799"/>
                  </a:lnTo>
                  <a:lnTo>
                    <a:pt x="254" y="804"/>
                  </a:lnTo>
                  <a:lnTo>
                    <a:pt x="264" y="810"/>
                  </a:lnTo>
                  <a:lnTo>
                    <a:pt x="273" y="817"/>
                  </a:lnTo>
                  <a:lnTo>
                    <a:pt x="279" y="824"/>
                  </a:lnTo>
                  <a:close/>
                  <a:moveTo>
                    <a:pt x="288" y="792"/>
                  </a:moveTo>
                  <a:lnTo>
                    <a:pt x="293" y="792"/>
                  </a:lnTo>
                  <a:lnTo>
                    <a:pt x="297" y="792"/>
                  </a:lnTo>
                  <a:lnTo>
                    <a:pt x="300" y="792"/>
                  </a:lnTo>
                  <a:lnTo>
                    <a:pt x="305" y="790"/>
                  </a:lnTo>
                  <a:lnTo>
                    <a:pt x="309" y="789"/>
                  </a:lnTo>
                  <a:lnTo>
                    <a:pt x="314" y="787"/>
                  </a:lnTo>
                  <a:lnTo>
                    <a:pt x="317" y="785"/>
                  </a:lnTo>
                  <a:lnTo>
                    <a:pt x="321" y="782"/>
                  </a:lnTo>
                  <a:lnTo>
                    <a:pt x="321" y="776"/>
                  </a:lnTo>
                  <a:lnTo>
                    <a:pt x="320" y="770"/>
                  </a:lnTo>
                  <a:lnTo>
                    <a:pt x="317" y="765"/>
                  </a:lnTo>
                  <a:lnTo>
                    <a:pt x="315" y="759"/>
                  </a:lnTo>
                  <a:lnTo>
                    <a:pt x="305" y="753"/>
                  </a:lnTo>
                  <a:lnTo>
                    <a:pt x="291" y="747"/>
                  </a:lnTo>
                  <a:lnTo>
                    <a:pt x="279" y="742"/>
                  </a:lnTo>
                  <a:lnTo>
                    <a:pt x="267" y="739"/>
                  </a:lnTo>
                  <a:lnTo>
                    <a:pt x="257" y="734"/>
                  </a:lnTo>
                  <a:lnTo>
                    <a:pt x="249" y="729"/>
                  </a:lnTo>
                  <a:lnTo>
                    <a:pt x="237" y="726"/>
                  </a:lnTo>
                  <a:lnTo>
                    <a:pt x="224" y="722"/>
                  </a:lnTo>
                  <a:lnTo>
                    <a:pt x="212" y="719"/>
                  </a:lnTo>
                  <a:lnTo>
                    <a:pt x="203" y="714"/>
                  </a:lnTo>
                  <a:lnTo>
                    <a:pt x="192" y="709"/>
                  </a:lnTo>
                  <a:lnTo>
                    <a:pt x="182" y="702"/>
                  </a:lnTo>
                  <a:lnTo>
                    <a:pt x="173" y="694"/>
                  </a:lnTo>
                  <a:lnTo>
                    <a:pt x="164" y="684"/>
                  </a:lnTo>
                  <a:lnTo>
                    <a:pt x="159" y="686"/>
                  </a:lnTo>
                  <a:lnTo>
                    <a:pt x="156" y="688"/>
                  </a:lnTo>
                  <a:lnTo>
                    <a:pt x="153" y="689"/>
                  </a:lnTo>
                  <a:lnTo>
                    <a:pt x="152" y="692"/>
                  </a:lnTo>
                  <a:lnTo>
                    <a:pt x="149" y="694"/>
                  </a:lnTo>
                  <a:lnTo>
                    <a:pt x="147" y="697"/>
                  </a:lnTo>
                  <a:lnTo>
                    <a:pt x="146" y="698"/>
                  </a:lnTo>
                  <a:lnTo>
                    <a:pt x="143" y="702"/>
                  </a:lnTo>
                  <a:lnTo>
                    <a:pt x="143" y="703"/>
                  </a:lnTo>
                  <a:lnTo>
                    <a:pt x="143" y="705"/>
                  </a:lnTo>
                  <a:lnTo>
                    <a:pt x="143" y="706"/>
                  </a:lnTo>
                  <a:lnTo>
                    <a:pt x="147" y="709"/>
                  </a:lnTo>
                  <a:lnTo>
                    <a:pt x="153" y="712"/>
                  </a:lnTo>
                  <a:lnTo>
                    <a:pt x="159" y="714"/>
                  </a:lnTo>
                  <a:lnTo>
                    <a:pt x="165" y="717"/>
                  </a:lnTo>
                  <a:lnTo>
                    <a:pt x="171" y="719"/>
                  </a:lnTo>
                  <a:lnTo>
                    <a:pt x="176" y="722"/>
                  </a:lnTo>
                  <a:lnTo>
                    <a:pt x="180" y="725"/>
                  </a:lnTo>
                  <a:lnTo>
                    <a:pt x="186" y="728"/>
                  </a:lnTo>
                  <a:lnTo>
                    <a:pt x="200" y="739"/>
                  </a:lnTo>
                  <a:lnTo>
                    <a:pt x="210" y="748"/>
                  </a:lnTo>
                  <a:lnTo>
                    <a:pt x="221" y="756"/>
                  </a:lnTo>
                  <a:lnTo>
                    <a:pt x="233" y="764"/>
                  </a:lnTo>
                  <a:lnTo>
                    <a:pt x="245" y="771"/>
                  </a:lnTo>
                  <a:lnTo>
                    <a:pt x="258" y="779"/>
                  </a:lnTo>
                  <a:lnTo>
                    <a:pt x="273" y="785"/>
                  </a:lnTo>
                  <a:lnTo>
                    <a:pt x="288" y="792"/>
                  </a:lnTo>
                  <a:close/>
                  <a:moveTo>
                    <a:pt x="461" y="779"/>
                  </a:moveTo>
                  <a:lnTo>
                    <a:pt x="471" y="779"/>
                  </a:lnTo>
                  <a:lnTo>
                    <a:pt x="482" y="778"/>
                  </a:lnTo>
                  <a:lnTo>
                    <a:pt x="491" y="778"/>
                  </a:lnTo>
                  <a:lnTo>
                    <a:pt x="500" y="776"/>
                  </a:lnTo>
                  <a:lnTo>
                    <a:pt x="510" y="775"/>
                  </a:lnTo>
                  <a:lnTo>
                    <a:pt x="519" y="773"/>
                  </a:lnTo>
                  <a:lnTo>
                    <a:pt x="530" y="770"/>
                  </a:lnTo>
                  <a:lnTo>
                    <a:pt x="540" y="767"/>
                  </a:lnTo>
                  <a:lnTo>
                    <a:pt x="555" y="759"/>
                  </a:lnTo>
                  <a:lnTo>
                    <a:pt x="566" y="751"/>
                  </a:lnTo>
                  <a:lnTo>
                    <a:pt x="579" y="740"/>
                  </a:lnTo>
                  <a:lnTo>
                    <a:pt x="590" y="728"/>
                  </a:lnTo>
                  <a:lnTo>
                    <a:pt x="609" y="702"/>
                  </a:lnTo>
                  <a:lnTo>
                    <a:pt x="629" y="674"/>
                  </a:lnTo>
                  <a:lnTo>
                    <a:pt x="645" y="644"/>
                  </a:lnTo>
                  <a:lnTo>
                    <a:pt x="665" y="614"/>
                  </a:lnTo>
                  <a:lnTo>
                    <a:pt x="672" y="602"/>
                  </a:lnTo>
                  <a:lnTo>
                    <a:pt x="683" y="588"/>
                  </a:lnTo>
                  <a:lnTo>
                    <a:pt x="693" y="576"/>
                  </a:lnTo>
                  <a:lnTo>
                    <a:pt x="705" y="565"/>
                  </a:lnTo>
                  <a:lnTo>
                    <a:pt x="708" y="563"/>
                  </a:lnTo>
                  <a:lnTo>
                    <a:pt x="713" y="562"/>
                  </a:lnTo>
                  <a:lnTo>
                    <a:pt x="717" y="560"/>
                  </a:lnTo>
                  <a:lnTo>
                    <a:pt x="723" y="558"/>
                  </a:lnTo>
                  <a:lnTo>
                    <a:pt x="728" y="558"/>
                  </a:lnTo>
                  <a:lnTo>
                    <a:pt x="734" y="558"/>
                  </a:lnTo>
                  <a:lnTo>
                    <a:pt x="738" y="560"/>
                  </a:lnTo>
                  <a:lnTo>
                    <a:pt x="741" y="563"/>
                  </a:lnTo>
                  <a:lnTo>
                    <a:pt x="741" y="579"/>
                  </a:lnTo>
                  <a:lnTo>
                    <a:pt x="740" y="596"/>
                  </a:lnTo>
                  <a:lnTo>
                    <a:pt x="737" y="611"/>
                  </a:lnTo>
                  <a:lnTo>
                    <a:pt x="732" y="628"/>
                  </a:lnTo>
                  <a:lnTo>
                    <a:pt x="725" y="644"/>
                  </a:lnTo>
                  <a:lnTo>
                    <a:pt x="717" y="660"/>
                  </a:lnTo>
                  <a:lnTo>
                    <a:pt x="710" y="675"/>
                  </a:lnTo>
                  <a:lnTo>
                    <a:pt x="701" y="691"/>
                  </a:lnTo>
                  <a:lnTo>
                    <a:pt x="701" y="692"/>
                  </a:lnTo>
                  <a:lnTo>
                    <a:pt x="701" y="694"/>
                  </a:lnTo>
                  <a:lnTo>
                    <a:pt x="701" y="695"/>
                  </a:lnTo>
                  <a:lnTo>
                    <a:pt x="701" y="697"/>
                  </a:lnTo>
                  <a:lnTo>
                    <a:pt x="701" y="698"/>
                  </a:lnTo>
                  <a:lnTo>
                    <a:pt x="707" y="695"/>
                  </a:lnTo>
                  <a:lnTo>
                    <a:pt x="714" y="692"/>
                  </a:lnTo>
                  <a:lnTo>
                    <a:pt x="723" y="686"/>
                  </a:lnTo>
                  <a:lnTo>
                    <a:pt x="734" y="681"/>
                  </a:lnTo>
                  <a:lnTo>
                    <a:pt x="752" y="664"/>
                  </a:lnTo>
                  <a:lnTo>
                    <a:pt x="773" y="646"/>
                  </a:lnTo>
                  <a:lnTo>
                    <a:pt x="792" y="627"/>
                  </a:lnTo>
                  <a:lnTo>
                    <a:pt x="810" y="608"/>
                  </a:lnTo>
                  <a:lnTo>
                    <a:pt x="825" y="591"/>
                  </a:lnTo>
                  <a:lnTo>
                    <a:pt x="837" y="579"/>
                  </a:lnTo>
                  <a:lnTo>
                    <a:pt x="842" y="572"/>
                  </a:lnTo>
                  <a:lnTo>
                    <a:pt x="846" y="566"/>
                  </a:lnTo>
                  <a:lnTo>
                    <a:pt x="849" y="560"/>
                  </a:lnTo>
                  <a:lnTo>
                    <a:pt x="854" y="554"/>
                  </a:lnTo>
                  <a:lnTo>
                    <a:pt x="858" y="548"/>
                  </a:lnTo>
                  <a:lnTo>
                    <a:pt x="863" y="540"/>
                  </a:lnTo>
                  <a:lnTo>
                    <a:pt x="867" y="534"/>
                  </a:lnTo>
                  <a:lnTo>
                    <a:pt x="872" y="529"/>
                  </a:lnTo>
                  <a:lnTo>
                    <a:pt x="875" y="520"/>
                  </a:lnTo>
                  <a:lnTo>
                    <a:pt x="878" y="510"/>
                  </a:lnTo>
                  <a:lnTo>
                    <a:pt x="881" y="503"/>
                  </a:lnTo>
                  <a:lnTo>
                    <a:pt x="884" y="495"/>
                  </a:lnTo>
                  <a:lnTo>
                    <a:pt x="887" y="487"/>
                  </a:lnTo>
                  <a:lnTo>
                    <a:pt x="890" y="479"/>
                  </a:lnTo>
                  <a:lnTo>
                    <a:pt x="894" y="471"/>
                  </a:lnTo>
                  <a:lnTo>
                    <a:pt x="897" y="464"/>
                  </a:lnTo>
                  <a:lnTo>
                    <a:pt x="903" y="443"/>
                  </a:lnTo>
                  <a:lnTo>
                    <a:pt x="908" y="423"/>
                  </a:lnTo>
                  <a:lnTo>
                    <a:pt x="911" y="403"/>
                  </a:lnTo>
                  <a:lnTo>
                    <a:pt x="914" y="384"/>
                  </a:lnTo>
                  <a:lnTo>
                    <a:pt x="915" y="363"/>
                  </a:lnTo>
                  <a:lnTo>
                    <a:pt x="914" y="344"/>
                  </a:lnTo>
                  <a:lnTo>
                    <a:pt x="911" y="324"/>
                  </a:lnTo>
                  <a:lnTo>
                    <a:pt x="905" y="305"/>
                  </a:lnTo>
                  <a:lnTo>
                    <a:pt x="902" y="286"/>
                  </a:lnTo>
                  <a:lnTo>
                    <a:pt x="894" y="271"/>
                  </a:lnTo>
                  <a:lnTo>
                    <a:pt x="887" y="255"/>
                  </a:lnTo>
                  <a:lnTo>
                    <a:pt x="879" y="240"/>
                  </a:lnTo>
                  <a:lnTo>
                    <a:pt x="870" y="226"/>
                  </a:lnTo>
                  <a:lnTo>
                    <a:pt x="861" y="212"/>
                  </a:lnTo>
                  <a:lnTo>
                    <a:pt x="854" y="198"/>
                  </a:lnTo>
                  <a:lnTo>
                    <a:pt x="848" y="184"/>
                  </a:lnTo>
                  <a:lnTo>
                    <a:pt x="828" y="159"/>
                  </a:lnTo>
                  <a:lnTo>
                    <a:pt x="806" y="134"/>
                  </a:lnTo>
                  <a:lnTo>
                    <a:pt x="782" y="114"/>
                  </a:lnTo>
                  <a:lnTo>
                    <a:pt x="758" y="92"/>
                  </a:lnTo>
                  <a:lnTo>
                    <a:pt x="732" y="73"/>
                  </a:lnTo>
                  <a:lnTo>
                    <a:pt x="705" y="56"/>
                  </a:lnTo>
                  <a:lnTo>
                    <a:pt x="677" y="42"/>
                  </a:lnTo>
                  <a:lnTo>
                    <a:pt x="648" y="28"/>
                  </a:lnTo>
                  <a:lnTo>
                    <a:pt x="618" y="17"/>
                  </a:lnTo>
                  <a:lnTo>
                    <a:pt x="590" y="10"/>
                  </a:lnTo>
                  <a:lnTo>
                    <a:pt x="560" y="5"/>
                  </a:lnTo>
                  <a:lnTo>
                    <a:pt x="527" y="2"/>
                  </a:lnTo>
                  <a:lnTo>
                    <a:pt x="497" y="0"/>
                  </a:lnTo>
                  <a:lnTo>
                    <a:pt x="465" y="3"/>
                  </a:lnTo>
                  <a:lnTo>
                    <a:pt x="452" y="7"/>
                  </a:lnTo>
                  <a:lnTo>
                    <a:pt x="435" y="10"/>
                  </a:lnTo>
                  <a:lnTo>
                    <a:pt x="420" y="11"/>
                  </a:lnTo>
                  <a:lnTo>
                    <a:pt x="404" y="17"/>
                  </a:lnTo>
                  <a:lnTo>
                    <a:pt x="386" y="21"/>
                  </a:lnTo>
                  <a:lnTo>
                    <a:pt x="365" y="25"/>
                  </a:lnTo>
                  <a:lnTo>
                    <a:pt x="347" y="31"/>
                  </a:lnTo>
                  <a:lnTo>
                    <a:pt x="329" y="39"/>
                  </a:lnTo>
                  <a:lnTo>
                    <a:pt x="311" y="49"/>
                  </a:lnTo>
                  <a:lnTo>
                    <a:pt x="293" y="56"/>
                  </a:lnTo>
                  <a:lnTo>
                    <a:pt x="275" y="66"/>
                  </a:lnTo>
                  <a:lnTo>
                    <a:pt x="257" y="73"/>
                  </a:lnTo>
                  <a:lnTo>
                    <a:pt x="240" y="86"/>
                  </a:lnTo>
                  <a:lnTo>
                    <a:pt x="225" y="100"/>
                  </a:lnTo>
                  <a:lnTo>
                    <a:pt x="209" y="114"/>
                  </a:lnTo>
                  <a:lnTo>
                    <a:pt x="197" y="126"/>
                  </a:lnTo>
                  <a:lnTo>
                    <a:pt x="183" y="140"/>
                  </a:lnTo>
                  <a:lnTo>
                    <a:pt x="171" y="156"/>
                  </a:lnTo>
                  <a:lnTo>
                    <a:pt x="159" y="170"/>
                  </a:lnTo>
                  <a:lnTo>
                    <a:pt x="147" y="185"/>
                  </a:lnTo>
                  <a:lnTo>
                    <a:pt x="138" y="201"/>
                  </a:lnTo>
                  <a:lnTo>
                    <a:pt x="129" y="218"/>
                  </a:lnTo>
                  <a:lnTo>
                    <a:pt x="120" y="235"/>
                  </a:lnTo>
                  <a:lnTo>
                    <a:pt x="111" y="252"/>
                  </a:lnTo>
                  <a:lnTo>
                    <a:pt x="96" y="291"/>
                  </a:lnTo>
                  <a:lnTo>
                    <a:pt x="83" y="332"/>
                  </a:lnTo>
                  <a:lnTo>
                    <a:pt x="77" y="342"/>
                  </a:lnTo>
                  <a:lnTo>
                    <a:pt x="74" y="353"/>
                  </a:lnTo>
                  <a:lnTo>
                    <a:pt x="71" y="366"/>
                  </a:lnTo>
                  <a:lnTo>
                    <a:pt x="69" y="378"/>
                  </a:lnTo>
                  <a:lnTo>
                    <a:pt x="68" y="405"/>
                  </a:lnTo>
                  <a:lnTo>
                    <a:pt x="71" y="431"/>
                  </a:lnTo>
                  <a:lnTo>
                    <a:pt x="74" y="459"/>
                  </a:lnTo>
                  <a:lnTo>
                    <a:pt x="81" y="485"/>
                  </a:lnTo>
                  <a:lnTo>
                    <a:pt x="89" y="510"/>
                  </a:lnTo>
                  <a:lnTo>
                    <a:pt x="96" y="534"/>
                  </a:lnTo>
                  <a:lnTo>
                    <a:pt x="102" y="546"/>
                  </a:lnTo>
                  <a:lnTo>
                    <a:pt x="111" y="562"/>
                  </a:lnTo>
                  <a:lnTo>
                    <a:pt x="120" y="574"/>
                  </a:lnTo>
                  <a:lnTo>
                    <a:pt x="129" y="590"/>
                  </a:lnTo>
                  <a:lnTo>
                    <a:pt x="138" y="604"/>
                  </a:lnTo>
                  <a:lnTo>
                    <a:pt x="149" y="618"/>
                  </a:lnTo>
                  <a:lnTo>
                    <a:pt x="159" y="630"/>
                  </a:lnTo>
                  <a:lnTo>
                    <a:pt x="171" y="642"/>
                  </a:lnTo>
                  <a:lnTo>
                    <a:pt x="179" y="641"/>
                  </a:lnTo>
                  <a:lnTo>
                    <a:pt x="186" y="641"/>
                  </a:lnTo>
                  <a:lnTo>
                    <a:pt x="194" y="642"/>
                  </a:lnTo>
                  <a:lnTo>
                    <a:pt x="201" y="642"/>
                  </a:lnTo>
                  <a:lnTo>
                    <a:pt x="209" y="644"/>
                  </a:lnTo>
                  <a:lnTo>
                    <a:pt x="215" y="646"/>
                  </a:lnTo>
                  <a:lnTo>
                    <a:pt x="224" y="647"/>
                  </a:lnTo>
                  <a:lnTo>
                    <a:pt x="233" y="650"/>
                  </a:lnTo>
                  <a:lnTo>
                    <a:pt x="242" y="650"/>
                  </a:lnTo>
                  <a:lnTo>
                    <a:pt x="249" y="650"/>
                  </a:lnTo>
                  <a:lnTo>
                    <a:pt x="260" y="649"/>
                  </a:lnTo>
                  <a:lnTo>
                    <a:pt x="269" y="649"/>
                  </a:lnTo>
                  <a:lnTo>
                    <a:pt x="278" y="649"/>
                  </a:lnTo>
                  <a:lnTo>
                    <a:pt x="285" y="649"/>
                  </a:lnTo>
                  <a:lnTo>
                    <a:pt x="296" y="650"/>
                  </a:lnTo>
                  <a:lnTo>
                    <a:pt x="305" y="650"/>
                  </a:lnTo>
                  <a:lnTo>
                    <a:pt x="318" y="655"/>
                  </a:lnTo>
                  <a:lnTo>
                    <a:pt x="330" y="661"/>
                  </a:lnTo>
                  <a:lnTo>
                    <a:pt x="336" y="666"/>
                  </a:lnTo>
                  <a:lnTo>
                    <a:pt x="339" y="669"/>
                  </a:lnTo>
                  <a:lnTo>
                    <a:pt x="344" y="672"/>
                  </a:lnTo>
                  <a:lnTo>
                    <a:pt x="345" y="677"/>
                  </a:lnTo>
                  <a:lnTo>
                    <a:pt x="347" y="681"/>
                  </a:lnTo>
                  <a:lnTo>
                    <a:pt x="347" y="684"/>
                  </a:lnTo>
                  <a:lnTo>
                    <a:pt x="345" y="689"/>
                  </a:lnTo>
                  <a:lnTo>
                    <a:pt x="344" y="694"/>
                  </a:lnTo>
                  <a:lnTo>
                    <a:pt x="339" y="698"/>
                  </a:lnTo>
                  <a:lnTo>
                    <a:pt x="333" y="705"/>
                  </a:lnTo>
                  <a:lnTo>
                    <a:pt x="326" y="709"/>
                  </a:lnTo>
                  <a:lnTo>
                    <a:pt x="317" y="715"/>
                  </a:lnTo>
                  <a:lnTo>
                    <a:pt x="318" y="722"/>
                  </a:lnTo>
                  <a:lnTo>
                    <a:pt x="318" y="726"/>
                  </a:lnTo>
                  <a:lnTo>
                    <a:pt x="320" y="733"/>
                  </a:lnTo>
                  <a:lnTo>
                    <a:pt x="323" y="736"/>
                  </a:lnTo>
                  <a:lnTo>
                    <a:pt x="327" y="739"/>
                  </a:lnTo>
                  <a:lnTo>
                    <a:pt x="332" y="742"/>
                  </a:lnTo>
                  <a:lnTo>
                    <a:pt x="339" y="745"/>
                  </a:lnTo>
                  <a:lnTo>
                    <a:pt x="347" y="750"/>
                  </a:lnTo>
                  <a:lnTo>
                    <a:pt x="371" y="756"/>
                  </a:lnTo>
                  <a:lnTo>
                    <a:pt x="389" y="759"/>
                  </a:lnTo>
                  <a:lnTo>
                    <a:pt x="404" y="764"/>
                  </a:lnTo>
                  <a:lnTo>
                    <a:pt x="416" y="767"/>
                  </a:lnTo>
                  <a:lnTo>
                    <a:pt x="426" y="768"/>
                  </a:lnTo>
                  <a:lnTo>
                    <a:pt x="437" y="771"/>
                  </a:lnTo>
                  <a:lnTo>
                    <a:pt x="447" y="776"/>
                  </a:lnTo>
                  <a:lnTo>
                    <a:pt x="461" y="779"/>
                  </a:lnTo>
                  <a:close/>
                  <a:moveTo>
                    <a:pt x="308" y="743"/>
                  </a:moveTo>
                  <a:lnTo>
                    <a:pt x="291" y="737"/>
                  </a:lnTo>
                  <a:lnTo>
                    <a:pt x="272" y="729"/>
                  </a:lnTo>
                  <a:lnTo>
                    <a:pt x="248" y="722"/>
                  </a:lnTo>
                  <a:lnTo>
                    <a:pt x="225" y="714"/>
                  </a:lnTo>
                  <a:lnTo>
                    <a:pt x="215" y="709"/>
                  </a:lnTo>
                  <a:lnTo>
                    <a:pt x="204" y="703"/>
                  </a:lnTo>
                  <a:lnTo>
                    <a:pt x="195" y="698"/>
                  </a:lnTo>
                  <a:lnTo>
                    <a:pt x="186" y="691"/>
                  </a:lnTo>
                  <a:lnTo>
                    <a:pt x="179" y="684"/>
                  </a:lnTo>
                  <a:lnTo>
                    <a:pt x="174" y="678"/>
                  </a:lnTo>
                  <a:lnTo>
                    <a:pt x="171" y="670"/>
                  </a:lnTo>
                  <a:lnTo>
                    <a:pt x="170" y="661"/>
                  </a:lnTo>
                  <a:lnTo>
                    <a:pt x="171" y="660"/>
                  </a:lnTo>
                  <a:lnTo>
                    <a:pt x="173" y="658"/>
                  </a:lnTo>
                  <a:lnTo>
                    <a:pt x="173" y="656"/>
                  </a:lnTo>
                  <a:lnTo>
                    <a:pt x="174" y="655"/>
                  </a:lnTo>
                  <a:lnTo>
                    <a:pt x="176" y="653"/>
                  </a:lnTo>
                  <a:lnTo>
                    <a:pt x="177" y="652"/>
                  </a:lnTo>
                  <a:lnTo>
                    <a:pt x="177" y="650"/>
                  </a:lnTo>
                  <a:lnTo>
                    <a:pt x="179" y="649"/>
                  </a:lnTo>
                  <a:lnTo>
                    <a:pt x="197" y="650"/>
                  </a:lnTo>
                  <a:lnTo>
                    <a:pt x="210" y="653"/>
                  </a:lnTo>
                  <a:lnTo>
                    <a:pt x="224" y="658"/>
                  </a:lnTo>
                  <a:lnTo>
                    <a:pt x="236" y="664"/>
                  </a:lnTo>
                  <a:lnTo>
                    <a:pt x="246" y="672"/>
                  </a:lnTo>
                  <a:lnTo>
                    <a:pt x="257" y="681"/>
                  </a:lnTo>
                  <a:lnTo>
                    <a:pt x="269" y="694"/>
                  </a:lnTo>
                  <a:lnTo>
                    <a:pt x="279" y="708"/>
                  </a:lnTo>
                  <a:lnTo>
                    <a:pt x="282" y="709"/>
                  </a:lnTo>
                  <a:lnTo>
                    <a:pt x="285" y="709"/>
                  </a:lnTo>
                  <a:lnTo>
                    <a:pt x="288" y="709"/>
                  </a:lnTo>
                  <a:lnTo>
                    <a:pt x="291" y="711"/>
                  </a:lnTo>
                  <a:lnTo>
                    <a:pt x="294" y="711"/>
                  </a:lnTo>
                  <a:lnTo>
                    <a:pt x="297" y="711"/>
                  </a:lnTo>
                  <a:lnTo>
                    <a:pt x="300" y="712"/>
                  </a:lnTo>
                  <a:lnTo>
                    <a:pt x="303" y="712"/>
                  </a:lnTo>
                  <a:lnTo>
                    <a:pt x="305" y="717"/>
                  </a:lnTo>
                  <a:lnTo>
                    <a:pt x="306" y="719"/>
                  </a:lnTo>
                  <a:lnTo>
                    <a:pt x="308" y="723"/>
                  </a:lnTo>
                  <a:lnTo>
                    <a:pt x="309" y="726"/>
                  </a:lnTo>
                  <a:lnTo>
                    <a:pt x="311" y="731"/>
                  </a:lnTo>
                  <a:lnTo>
                    <a:pt x="311" y="736"/>
                  </a:lnTo>
                  <a:lnTo>
                    <a:pt x="312" y="740"/>
                  </a:lnTo>
                  <a:lnTo>
                    <a:pt x="312" y="745"/>
                  </a:lnTo>
                  <a:lnTo>
                    <a:pt x="311" y="745"/>
                  </a:lnTo>
                  <a:lnTo>
                    <a:pt x="311" y="743"/>
                  </a:lnTo>
                  <a:lnTo>
                    <a:pt x="309" y="743"/>
                  </a:lnTo>
                  <a:lnTo>
                    <a:pt x="308" y="743"/>
                  </a:lnTo>
                  <a:close/>
                  <a:moveTo>
                    <a:pt x="104" y="717"/>
                  </a:moveTo>
                  <a:lnTo>
                    <a:pt x="93" y="715"/>
                  </a:lnTo>
                  <a:lnTo>
                    <a:pt x="78" y="712"/>
                  </a:lnTo>
                  <a:lnTo>
                    <a:pt x="65" y="709"/>
                  </a:lnTo>
                  <a:lnTo>
                    <a:pt x="48" y="705"/>
                  </a:lnTo>
                  <a:lnTo>
                    <a:pt x="32" y="700"/>
                  </a:lnTo>
                  <a:lnTo>
                    <a:pt x="18" y="694"/>
                  </a:lnTo>
                  <a:lnTo>
                    <a:pt x="12" y="689"/>
                  </a:lnTo>
                  <a:lnTo>
                    <a:pt x="8" y="686"/>
                  </a:lnTo>
                  <a:lnTo>
                    <a:pt x="3" y="681"/>
                  </a:lnTo>
                  <a:lnTo>
                    <a:pt x="0" y="678"/>
                  </a:lnTo>
                  <a:lnTo>
                    <a:pt x="0" y="667"/>
                  </a:lnTo>
                  <a:lnTo>
                    <a:pt x="2" y="656"/>
                  </a:lnTo>
                  <a:lnTo>
                    <a:pt x="3" y="647"/>
                  </a:lnTo>
                  <a:lnTo>
                    <a:pt x="6" y="639"/>
                  </a:lnTo>
                  <a:lnTo>
                    <a:pt x="9" y="630"/>
                  </a:lnTo>
                  <a:lnTo>
                    <a:pt x="12" y="619"/>
                  </a:lnTo>
                  <a:lnTo>
                    <a:pt x="15" y="610"/>
                  </a:lnTo>
                  <a:lnTo>
                    <a:pt x="18" y="602"/>
                  </a:lnTo>
                  <a:lnTo>
                    <a:pt x="21" y="577"/>
                  </a:lnTo>
                  <a:lnTo>
                    <a:pt x="26" y="554"/>
                  </a:lnTo>
                  <a:lnTo>
                    <a:pt x="30" y="532"/>
                  </a:lnTo>
                  <a:lnTo>
                    <a:pt x="35" y="507"/>
                  </a:lnTo>
                  <a:lnTo>
                    <a:pt x="39" y="484"/>
                  </a:lnTo>
                  <a:lnTo>
                    <a:pt x="45" y="461"/>
                  </a:lnTo>
                  <a:lnTo>
                    <a:pt x="51" y="439"/>
                  </a:lnTo>
                  <a:lnTo>
                    <a:pt x="57" y="417"/>
                  </a:lnTo>
                  <a:lnTo>
                    <a:pt x="59" y="419"/>
                  </a:lnTo>
                  <a:lnTo>
                    <a:pt x="60" y="419"/>
                  </a:lnTo>
                  <a:lnTo>
                    <a:pt x="62" y="420"/>
                  </a:lnTo>
                  <a:lnTo>
                    <a:pt x="63" y="428"/>
                  </a:lnTo>
                  <a:lnTo>
                    <a:pt x="63" y="436"/>
                  </a:lnTo>
                  <a:lnTo>
                    <a:pt x="65" y="445"/>
                  </a:lnTo>
                  <a:lnTo>
                    <a:pt x="65" y="454"/>
                  </a:lnTo>
                  <a:lnTo>
                    <a:pt x="66" y="461"/>
                  </a:lnTo>
                  <a:lnTo>
                    <a:pt x="66" y="470"/>
                  </a:lnTo>
                  <a:lnTo>
                    <a:pt x="69" y="479"/>
                  </a:lnTo>
                  <a:lnTo>
                    <a:pt x="71" y="490"/>
                  </a:lnTo>
                  <a:lnTo>
                    <a:pt x="71" y="496"/>
                  </a:lnTo>
                  <a:lnTo>
                    <a:pt x="71" y="503"/>
                  </a:lnTo>
                  <a:lnTo>
                    <a:pt x="69" y="512"/>
                  </a:lnTo>
                  <a:lnTo>
                    <a:pt x="68" y="524"/>
                  </a:lnTo>
                  <a:lnTo>
                    <a:pt x="66" y="540"/>
                  </a:lnTo>
                  <a:lnTo>
                    <a:pt x="63" y="565"/>
                  </a:lnTo>
                  <a:lnTo>
                    <a:pt x="59" y="596"/>
                  </a:lnTo>
                  <a:lnTo>
                    <a:pt x="53" y="639"/>
                  </a:lnTo>
                  <a:lnTo>
                    <a:pt x="57" y="644"/>
                  </a:lnTo>
                  <a:lnTo>
                    <a:pt x="66" y="652"/>
                  </a:lnTo>
                  <a:lnTo>
                    <a:pt x="75" y="658"/>
                  </a:lnTo>
                  <a:lnTo>
                    <a:pt x="89" y="664"/>
                  </a:lnTo>
                  <a:lnTo>
                    <a:pt x="102" y="672"/>
                  </a:lnTo>
                  <a:lnTo>
                    <a:pt x="114" y="678"/>
                  </a:lnTo>
                  <a:lnTo>
                    <a:pt x="126" y="684"/>
                  </a:lnTo>
                  <a:lnTo>
                    <a:pt x="135" y="694"/>
                  </a:lnTo>
                  <a:lnTo>
                    <a:pt x="134" y="698"/>
                  </a:lnTo>
                  <a:lnTo>
                    <a:pt x="131" y="703"/>
                  </a:lnTo>
                  <a:lnTo>
                    <a:pt x="128" y="708"/>
                  </a:lnTo>
                  <a:lnTo>
                    <a:pt x="123" y="711"/>
                  </a:lnTo>
                  <a:lnTo>
                    <a:pt x="117" y="714"/>
                  </a:lnTo>
                  <a:lnTo>
                    <a:pt x="113" y="715"/>
                  </a:lnTo>
                  <a:lnTo>
                    <a:pt x="108" y="717"/>
                  </a:lnTo>
                  <a:lnTo>
                    <a:pt x="104" y="717"/>
                  </a:lnTo>
                  <a:close/>
                  <a:moveTo>
                    <a:pt x="309" y="703"/>
                  </a:moveTo>
                  <a:lnTo>
                    <a:pt x="314" y="703"/>
                  </a:lnTo>
                  <a:lnTo>
                    <a:pt x="317" y="702"/>
                  </a:lnTo>
                  <a:lnTo>
                    <a:pt x="320" y="702"/>
                  </a:lnTo>
                  <a:lnTo>
                    <a:pt x="323" y="700"/>
                  </a:lnTo>
                  <a:lnTo>
                    <a:pt x="326" y="697"/>
                  </a:lnTo>
                  <a:lnTo>
                    <a:pt x="330" y="694"/>
                  </a:lnTo>
                  <a:lnTo>
                    <a:pt x="333" y="691"/>
                  </a:lnTo>
                  <a:lnTo>
                    <a:pt x="339" y="686"/>
                  </a:lnTo>
                  <a:lnTo>
                    <a:pt x="336" y="681"/>
                  </a:lnTo>
                  <a:lnTo>
                    <a:pt x="333" y="675"/>
                  </a:lnTo>
                  <a:lnTo>
                    <a:pt x="329" y="670"/>
                  </a:lnTo>
                  <a:lnTo>
                    <a:pt x="324" y="667"/>
                  </a:lnTo>
                  <a:lnTo>
                    <a:pt x="312" y="663"/>
                  </a:lnTo>
                  <a:lnTo>
                    <a:pt x="299" y="660"/>
                  </a:lnTo>
                  <a:lnTo>
                    <a:pt x="284" y="658"/>
                  </a:lnTo>
                  <a:lnTo>
                    <a:pt x="270" y="658"/>
                  </a:lnTo>
                  <a:lnTo>
                    <a:pt x="257" y="660"/>
                  </a:lnTo>
                  <a:lnTo>
                    <a:pt x="248" y="660"/>
                  </a:lnTo>
                  <a:lnTo>
                    <a:pt x="248" y="661"/>
                  </a:lnTo>
                  <a:lnTo>
                    <a:pt x="249" y="661"/>
                  </a:lnTo>
                  <a:lnTo>
                    <a:pt x="249" y="663"/>
                  </a:lnTo>
                  <a:lnTo>
                    <a:pt x="249" y="664"/>
                  </a:lnTo>
                  <a:lnTo>
                    <a:pt x="257" y="670"/>
                  </a:lnTo>
                  <a:lnTo>
                    <a:pt x="264" y="677"/>
                  </a:lnTo>
                  <a:lnTo>
                    <a:pt x="269" y="681"/>
                  </a:lnTo>
                  <a:lnTo>
                    <a:pt x="275" y="688"/>
                  </a:lnTo>
                  <a:lnTo>
                    <a:pt x="281" y="694"/>
                  </a:lnTo>
                  <a:lnTo>
                    <a:pt x="288" y="697"/>
                  </a:lnTo>
                  <a:lnTo>
                    <a:pt x="297" y="702"/>
                  </a:lnTo>
                  <a:lnTo>
                    <a:pt x="309" y="703"/>
                  </a:lnTo>
                  <a:close/>
                  <a:moveTo>
                    <a:pt x="324" y="639"/>
                  </a:moveTo>
                  <a:lnTo>
                    <a:pt x="335" y="639"/>
                  </a:lnTo>
                  <a:lnTo>
                    <a:pt x="345" y="638"/>
                  </a:lnTo>
                  <a:lnTo>
                    <a:pt x="354" y="635"/>
                  </a:lnTo>
                  <a:lnTo>
                    <a:pt x="362" y="632"/>
                  </a:lnTo>
                  <a:lnTo>
                    <a:pt x="371" y="628"/>
                  </a:lnTo>
                  <a:lnTo>
                    <a:pt x="378" y="622"/>
                  </a:lnTo>
                  <a:lnTo>
                    <a:pt x="386" y="618"/>
                  </a:lnTo>
                  <a:lnTo>
                    <a:pt x="392" y="611"/>
                  </a:lnTo>
                  <a:lnTo>
                    <a:pt x="404" y="599"/>
                  </a:lnTo>
                  <a:lnTo>
                    <a:pt x="416" y="582"/>
                  </a:lnTo>
                  <a:lnTo>
                    <a:pt x="426" y="566"/>
                  </a:lnTo>
                  <a:lnTo>
                    <a:pt x="438" y="549"/>
                  </a:lnTo>
                  <a:lnTo>
                    <a:pt x="455" y="521"/>
                  </a:lnTo>
                  <a:lnTo>
                    <a:pt x="467" y="492"/>
                  </a:lnTo>
                  <a:lnTo>
                    <a:pt x="480" y="461"/>
                  </a:lnTo>
                  <a:lnTo>
                    <a:pt x="492" y="431"/>
                  </a:lnTo>
                  <a:lnTo>
                    <a:pt x="503" y="400"/>
                  </a:lnTo>
                  <a:lnTo>
                    <a:pt x="513" y="369"/>
                  </a:lnTo>
                  <a:lnTo>
                    <a:pt x="522" y="339"/>
                  </a:lnTo>
                  <a:lnTo>
                    <a:pt x="530" y="310"/>
                  </a:lnTo>
                  <a:lnTo>
                    <a:pt x="531" y="310"/>
                  </a:lnTo>
                  <a:lnTo>
                    <a:pt x="531" y="308"/>
                  </a:lnTo>
                  <a:lnTo>
                    <a:pt x="533" y="308"/>
                  </a:lnTo>
                  <a:lnTo>
                    <a:pt x="533" y="307"/>
                  </a:lnTo>
                  <a:lnTo>
                    <a:pt x="534" y="307"/>
                  </a:lnTo>
                  <a:lnTo>
                    <a:pt x="536" y="307"/>
                  </a:lnTo>
                  <a:lnTo>
                    <a:pt x="539" y="305"/>
                  </a:lnTo>
                  <a:lnTo>
                    <a:pt x="540" y="310"/>
                  </a:lnTo>
                  <a:lnTo>
                    <a:pt x="540" y="313"/>
                  </a:lnTo>
                  <a:lnTo>
                    <a:pt x="542" y="316"/>
                  </a:lnTo>
                  <a:lnTo>
                    <a:pt x="543" y="321"/>
                  </a:lnTo>
                  <a:lnTo>
                    <a:pt x="545" y="325"/>
                  </a:lnTo>
                  <a:lnTo>
                    <a:pt x="545" y="330"/>
                  </a:lnTo>
                  <a:lnTo>
                    <a:pt x="546" y="336"/>
                  </a:lnTo>
                  <a:lnTo>
                    <a:pt x="546" y="341"/>
                  </a:lnTo>
                  <a:lnTo>
                    <a:pt x="548" y="342"/>
                  </a:lnTo>
                  <a:lnTo>
                    <a:pt x="549" y="342"/>
                  </a:lnTo>
                  <a:lnTo>
                    <a:pt x="551" y="342"/>
                  </a:lnTo>
                  <a:lnTo>
                    <a:pt x="554" y="342"/>
                  </a:lnTo>
                  <a:lnTo>
                    <a:pt x="555" y="342"/>
                  </a:lnTo>
                  <a:lnTo>
                    <a:pt x="558" y="342"/>
                  </a:lnTo>
                  <a:lnTo>
                    <a:pt x="560" y="342"/>
                  </a:lnTo>
                  <a:lnTo>
                    <a:pt x="560" y="341"/>
                  </a:lnTo>
                  <a:lnTo>
                    <a:pt x="555" y="330"/>
                  </a:lnTo>
                  <a:lnTo>
                    <a:pt x="552" y="319"/>
                  </a:lnTo>
                  <a:lnTo>
                    <a:pt x="549" y="308"/>
                  </a:lnTo>
                  <a:lnTo>
                    <a:pt x="546" y="296"/>
                  </a:lnTo>
                  <a:lnTo>
                    <a:pt x="543" y="283"/>
                  </a:lnTo>
                  <a:lnTo>
                    <a:pt x="540" y="272"/>
                  </a:lnTo>
                  <a:lnTo>
                    <a:pt x="536" y="265"/>
                  </a:lnTo>
                  <a:lnTo>
                    <a:pt x="531" y="255"/>
                  </a:lnTo>
                  <a:lnTo>
                    <a:pt x="530" y="255"/>
                  </a:lnTo>
                  <a:lnTo>
                    <a:pt x="528" y="257"/>
                  </a:lnTo>
                  <a:lnTo>
                    <a:pt x="527" y="257"/>
                  </a:lnTo>
                  <a:lnTo>
                    <a:pt x="525" y="258"/>
                  </a:lnTo>
                  <a:lnTo>
                    <a:pt x="525" y="262"/>
                  </a:lnTo>
                  <a:lnTo>
                    <a:pt x="525" y="263"/>
                  </a:lnTo>
                  <a:lnTo>
                    <a:pt x="527" y="266"/>
                  </a:lnTo>
                  <a:lnTo>
                    <a:pt x="527" y="269"/>
                  </a:lnTo>
                  <a:lnTo>
                    <a:pt x="527" y="271"/>
                  </a:lnTo>
                  <a:lnTo>
                    <a:pt x="527" y="274"/>
                  </a:lnTo>
                  <a:lnTo>
                    <a:pt x="527" y="277"/>
                  </a:lnTo>
                  <a:lnTo>
                    <a:pt x="527" y="282"/>
                  </a:lnTo>
                  <a:lnTo>
                    <a:pt x="524" y="294"/>
                  </a:lnTo>
                  <a:lnTo>
                    <a:pt x="518" y="305"/>
                  </a:lnTo>
                  <a:lnTo>
                    <a:pt x="510" y="316"/>
                  </a:lnTo>
                  <a:lnTo>
                    <a:pt x="503" y="327"/>
                  </a:lnTo>
                  <a:lnTo>
                    <a:pt x="494" y="338"/>
                  </a:lnTo>
                  <a:lnTo>
                    <a:pt x="486" y="347"/>
                  </a:lnTo>
                  <a:lnTo>
                    <a:pt x="476" y="355"/>
                  </a:lnTo>
                  <a:lnTo>
                    <a:pt x="465" y="364"/>
                  </a:lnTo>
                  <a:lnTo>
                    <a:pt x="456" y="372"/>
                  </a:lnTo>
                  <a:lnTo>
                    <a:pt x="446" y="380"/>
                  </a:lnTo>
                  <a:lnTo>
                    <a:pt x="434" y="384"/>
                  </a:lnTo>
                  <a:lnTo>
                    <a:pt x="422" y="391"/>
                  </a:lnTo>
                  <a:lnTo>
                    <a:pt x="411" y="395"/>
                  </a:lnTo>
                  <a:lnTo>
                    <a:pt x="399" y="398"/>
                  </a:lnTo>
                  <a:lnTo>
                    <a:pt x="386" y="401"/>
                  </a:lnTo>
                  <a:lnTo>
                    <a:pt x="375" y="403"/>
                  </a:lnTo>
                  <a:lnTo>
                    <a:pt x="362" y="403"/>
                  </a:lnTo>
                  <a:lnTo>
                    <a:pt x="350" y="400"/>
                  </a:lnTo>
                  <a:lnTo>
                    <a:pt x="339" y="397"/>
                  </a:lnTo>
                  <a:lnTo>
                    <a:pt x="327" y="392"/>
                  </a:lnTo>
                  <a:lnTo>
                    <a:pt x="318" y="384"/>
                  </a:lnTo>
                  <a:lnTo>
                    <a:pt x="311" y="378"/>
                  </a:lnTo>
                  <a:lnTo>
                    <a:pt x="303" y="369"/>
                  </a:lnTo>
                  <a:lnTo>
                    <a:pt x="299" y="358"/>
                  </a:lnTo>
                  <a:lnTo>
                    <a:pt x="294" y="358"/>
                  </a:lnTo>
                  <a:lnTo>
                    <a:pt x="291" y="359"/>
                  </a:lnTo>
                  <a:lnTo>
                    <a:pt x="288" y="361"/>
                  </a:lnTo>
                  <a:lnTo>
                    <a:pt x="288" y="363"/>
                  </a:lnTo>
                  <a:lnTo>
                    <a:pt x="288" y="367"/>
                  </a:lnTo>
                  <a:lnTo>
                    <a:pt x="291" y="373"/>
                  </a:lnTo>
                  <a:lnTo>
                    <a:pt x="297" y="380"/>
                  </a:lnTo>
                  <a:lnTo>
                    <a:pt x="303" y="384"/>
                  </a:lnTo>
                  <a:lnTo>
                    <a:pt x="309" y="391"/>
                  </a:lnTo>
                  <a:lnTo>
                    <a:pt x="315" y="395"/>
                  </a:lnTo>
                  <a:lnTo>
                    <a:pt x="321" y="412"/>
                  </a:lnTo>
                  <a:lnTo>
                    <a:pt x="326" y="428"/>
                  </a:lnTo>
                  <a:lnTo>
                    <a:pt x="330" y="445"/>
                  </a:lnTo>
                  <a:lnTo>
                    <a:pt x="333" y="462"/>
                  </a:lnTo>
                  <a:lnTo>
                    <a:pt x="335" y="482"/>
                  </a:lnTo>
                  <a:lnTo>
                    <a:pt x="336" y="499"/>
                  </a:lnTo>
                  <a:lnTo>
                    <a:pt x="336" y="518"/>
                  </a:lnTo>
                  <a:lnTo>
                    <a:pt x="335" y="537"/>
                  </a:lnTo>
                  <a:lnTo>
                    <a:pt x="326" y="548"/>
                  </a:lnTo>
                  <a:lnTo>
                    <a:pt x="315" y="563"/>
                  </a:lnTo>
                  <a:lnTo>
                    <a:pt x="308" y="577"/>
                  </a:lnTo>
                  <a:lnTo>
                    <a:pt x="300" y="593"/>
                  </a:lnTo>
                  <a:lnTo>
                    <a:pt x="297" y="602"/>
                  </a:lnTo>
                  <a:lnTo>
                    <a:pt x="296" y="608"/>
                  </a:lnTo>
                  <a:lnTo>
                    <a:pt x="297" y="614"/>
                  </a:lnTo>
                  <a:lnTo>
                    <a:pt x="299" y="622"/>
                  </a:lnTo>
                  <a:lnTo>
                    <a:pt x="302" y="628"/>
                  </a:lnTo>
                  <a:lnTo>
                    <a:pt x="308" y="633"/>
                  </a:lnTo>
                  <a:lnTo>
                    <a:pt x="315" y="638"/>
                  </a:lnTo>
                  <a:lnTo>
                    <a:pt x="324" y="639"/>
                  </a:lnTo>
                  <a:close/>
                  <a:moveTo>
                    <a:pt x="795" y="548"/>
                  </a:moveTo>
                  <a:lnTo>
                    <a:pt x="795" y="541"/>
                  </a:lnTo>
                  <a:lnTo>
                    <a:pt x="795" y="537"/>
                  </a:lnTo>
                  <a:lnTo>
                    <a:pt x="797" y="534"/>
                  </a:lnTo>
                  <a:lnTo>
                    <a:pt x="798" y="529"/>
                  </a:lnTo>
                  <a:lnTo>
                    <a:pt x="800" y="526"/>
                  </a:lnTo>
                  <a:lnTo>
                    <a:pt x="803" y="521"/>
                  </a:lnTo>
                  <a:lnTo>
                    <a:pt x="803" y="518"/>
                  </a:lnTo>
                  <a:lnTo>
                    <a:pt x="804" y="513"/>
                  </a:lnTo>
                  <a:lnTo>
                    <a:pt x="798" y="515"/>
                  </a:lnTo>
                  <a:lnTo>
                    <a:pt x="791" y="517"/>
                  </a:lnTo>
                  <a:lnTo>
                    <a:pt x="783" y="520"/>
                  </a:lnTo>
                  <a:lnTo>
                    <a:pt x="776" y="521"/>
                  </a:lnTo>
                  <a:lnTo>
                    <a:pt x="770" y="523"/>
                  </a:lnTo>
                  <a:lnTo>
                    <a:pt x="762" y="524"/>
                  </a:lnTo>
                  <a:lnTo>
                    <a:pt x="756" y="524"/>
                  </a:lnTo>
                  <a:lnTo>
                    <a:pt x="750" y="523"/>
                  </a:lnTo>
                  <a:lnTo>
                    <a:pt x="750" y="521"/>
                  </a:lnTo>
                  <a:lnTo>
                    <a:pt x="750" y="520"/>
                  </a:lnTo>
                  <a:lnTo>
                    <a:pt x="750" y="518"/>
                  </a:lnTo>
                  <a:lnTo>
                    <a:pt x="761" y="512"/>
                  </a:lnTo>
                  <a:lnTo>
                    <a:pt x="770" y="504"/>
                  </a:lnTo>
                  <a:lnTo>
                    <a:pt x="777" y="498"/>
                  </a:lnTo>
                  <a:lnTo>
                    <a:pt x="788" y="492"/>
                  </a:lnTo>
                  <a:lnTo>
                    <a:pt x="798" y="485"/>
                  </a:lnTo>
                  <a:lnTo>
                    <a:pt x="809" y="479"/>
                  </a:lnTo>
                  <a:lnTo>
                    <a:pt x="816" y="471"/>
                  </a:lnTo>
                  <a:lnTo>
                    <a:pt x="827" y="465"/>
                  </a:lnTo>
                  <a:lnTo>
                    <a:pt x="827" y="464"/>
                  </a:lnTo>
                  <a:lnTo>
                    <a:pt x="827" y="462"/>
                  </a:lnTo>
                  <a:lnTo>
                    <a:pt x="828" y="462"/>
                  </a:lnTo>
                  <a:lnTo>
                    <a:pt x="828" y="461"/>
                  </a:lnTo>
                  <a:lnTo>
                    <a:pt x="815" y="462"/>
                  </a:lnTo>
                  <a:lnTo>
                    <a:pt x="803" y="465"/>
                  </a:lnTo>
                  <a:lnTo>
                    <a:pt x="789" y="470"/>
                  </a:lnTo>
                  <a:lnTo>
                    <a:pt x="777" y="475"/>
                  </a:lnTo>
                  <a:lnTo>
                    <a:pt x="765" y="481"/>
                  </a:lnTo>
                  <a:lnTo>
                    <a:pt x="753" y="487"/>
                  </a:lnTo>
                  <a:lnTo>
                    <a:pt x="741" y="495"/>
                  </a:lnTo>
                  <a:lnTo>
                    <a:pt x="732" y="499"/>
                  </a:lnTo>
                  <a:lnTo>
                    <a:pt x="729" y="499"/>
                  </a:lnTo>
                  <a:lnTo>
                    <a:pt x="726" y="501"/>
                  </a:lnTo>
                  <a:lnTo>
                    <a:pt x="723" y="501"/>
                  </a:lnTo>
                  <a:lnTo>
                    <a:pt x="720" y="501"/>
                  </a:lnTo>
                  <a:lnTo>
                    <a:pt x="719" y="501"/>
                  </a:lnTo>
                  <a:lnTo>
                    <a:pt x="716" y="501"/>
                  </a:lnTo>
                  <a:lnTo>
                    <a:pt x="714" y="499"/>
                  </a:lnTo>
                  <a:lnTo>
                    <a:pt x="711" y="499"/>
                  </a:lnTo>
                  <a:lnTo>
                    <a:pt x="711" y="498"/>
                  </a:lnTo>
                  <a:lnTo>
                    <a:pt x="711" y="496"/>
                  </a:lnTo>
                  <a:lnTo>
                    <a:pt x="711" y="495"/>
                  </a:lnTo>
                  <a:lnTo>
                    <a:pt x="713" y="493"/>
                  </a:lnTo>
                  <a:lnTo>
                    <a:pt x="714" y="492"/>
                  </a:lnTo>
                  <a:lnTo>
                    <a:pt x="716" y="490"/>
                  </a:lnTo>
                  <a:lnTo>
                    <a:pt x="717" y="490"/>
                  </a:lnTo>
                  <a:lnTo>
                    <a:pt x="719" y="489"/>
                  </a:lnTo>
                  <a:lnTo>
                    <a:pt x="720" y="487"/>
                  </a:lnTo>
                  <a:lnTo>
                    <a:pt x="722" y="485"/>
                  </a:lnTo>
                  <a:lnTo>
                    <a:pt x="723" y="485"/>
                  </a:lnTo>
                  <a:lnTo>
                    <a:pt x="723" y="487"/>
                  </a:lnTo>
                  <a:lnTo>
                    <a:pt x="723" y="489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2" y="493"/>
                  </a:lnTo>
                  <a:lnTo>
                    <a:pt x="722" y="496"/>
                  </a:lnTo>
                  <a:lnTo>
                    <a:pt x="734" y="492"/>
                  </a:lnTo>
                  <a:lnTo>
                    <a:pt x="747" y="485"/>
                  </a:lnTo>
                  <a:lnTo>
                    <a:pt x="764" y="476"/>
                  </a:lnTo>
                  <a:lnTo>
                    <a:pt x="780" y="467"/>
                  </a:lnTo>
                  <a:lnTo>
                    <a:pt x="798" y="459"/>
                  </a:lnTo>
                  <a:lnTo>
                    <a:pt x="813" y="454"/>
                  </a:lnTo>
                  <a:lnTo>
                    <a:pt x="821" y="454"/>
                  </a:lnTo>
                  <a:lnTo>
                    <a:pt x="828" y="454"/>
                  </a:lnTo>
                  <a:lnTo>
                    <a:pt x="834" y="454"/>
                  </a:lnTo>
                  <a:lnTo>
                    <a:pt x="839" y="457"/>
                  </a:lnTo>
                  <a:lnTo>
                    <a:pt x="839" y="459"/>
                  </a:lnTo>
                  <a:lnTo>
                    <a:pt x="839" y="461"/>
                  </a:lnTo>
                  <a:lnTo>
                    <a:pt x="839" y="462"/>
                  </a:lnTo>
                  <a:lnTo>
                    <a:pt x="839" y="464"/>
                  </a:lnTo>
                  <a:lnTo>
                    <a:pt x="839" y="465"/>
                  </a:lnTo>
                  <a:lnTo>
                    <a:pt x="837" y="467"/>
                  </a:lnTo>
                  <a:lnTo>
                    <a:pt x="828" y="473"/>
                  </a:lnTo>
                  <a:lnTo>
                    <a:pt x="819" y="478"/>
                  </a:lnTo>
                  <a:lnTo>
                    <a:pt x="812" y="484"/>
                  </a:lnTo>
                  <a:lnTo>
                    <a:pt x="801" y="490"/>
                  </a:lnTo>
                  <a:lnTo>
                    <a:pt x="792" y="496"/>
                  </a:lnTo>
                  <a:lnTo>
                    <a:pt x="783" y="501"/>
                  </a:lnTo>
                  <a:lnTo>
                    <a:pt x="776" y="507"/>
                  </a:lnTo>
                  <a:lnTo>
                    <a:pt x="765" y="513"/>
                  </a:lnTo>
                  <a:lnTo>
                    <a:pt x="765" y="515"/>
                  </a:lnTo>
                  <a:lnTo>
                    <a:pt x="765" y="517"/>
                  </a:lnTo>
                  <a:lnTo>
                    <a:pt x="765" y="518"/>
                  </a:lnTo>
                  <a:lnTo>
                    <a:pt x="771" y="517"/>
                  </a:lnTo>
                  <a:lnTo>
                    <a:pt x="777" y="513"/>
                  </a:lnTo>
                  <a:lnTo>
                    <a:pt x="783" y="512"/>
                  </a:lnTo>
                  <a:lnTo>
                    <a:pt x="791" y="510"/>
                  </a:lnTo>
                  <a:lnTo>
                    <a:pt x="797" y="509"/>
                  </a:lnTo>
                  <a:lnTo>
                    <a:pt x="804" y="507"/>
                  </a:lnTo>
                  <a:lnTo>
                    <a:pt x="812" y="507"/>
                  </a:lnTo>
                  <a:lnTo>
                    <a:pt x="818" y="507"/>
                  </a:lnTo>
                  <a:lnTo>
                    <a:pt x="818" y="510"/>
                  </a:lnTo>
                  <a:lnTo>
                    <a:pt x="815" y="515"/>
                  </a:lnTo>
                  <a:lnTo>
                    <a:pt x="812" y="523"/>
                  </a:lnTo>
                  <a:lnTo>
                    <a:pt x="807" y="530"/>
                  </a:lnTo>
                  <a:lnTo>
                    <a:pt x="803" y="535"/>
                  </a:lnTo>
                  <a:lnTo>
                    <a:pt x="800" y="541"/>
                  </a:lnTo>
                  <a:lnTo>
                    <a:pt x="797" y="546"/>
                  </a:lnTo>
                  <a:lnTo>
                    <a:pt x="795" y="548"/>
                  </a:lnTo>
                  <a:close/>
                  <a:moveTo>
                    <a:pt x="680" y="479"/>
                  </a:moveTo>
                  <a:lnTo>
                    <a:pt x="680" y="479"/>
                  </a:lnTo>
                  <a:lnTo>
                    <a:pt x="678" y="479"/>
                  </a:lnTo>
                  <a:lnTo>
                    <a:pt x="678" y="478"/>
                  </a:lnTo>
                  <a:lnTo>
                    <a:pt x="678" y="476"/>
                  </a:lnTo>
                  <a:lnTo>
                    <a:pt x="678" y="475"/>
                  </a:lnTo>
                  <a:lnTo>
                    <a:pt x="677" y="473"/>
                  </a:lnTo>
                  <a:lnTo>
                    <a:pt x="701" y="454"/>
                  </a:lnTo>
                  <a:lnTo>
                    <a:pt x="716" y="440"/>
                  </a:lnTo>
                  <a:lnTo>
                    <a:pt x="729" y="429"/>
                  </a:lnTo>
                  <a:lnTo>
                    <a:pt x="740" y="422"/>
                  </a:lnTo>
                  <a:lnTo>
                    <a:pt x="746" y="417"/>
                  </a:lnTo>
                  <a:lnTo>
                    <a:pt x="750" y="412"/>
                  </a:lnTo>
                  <a:lnTo>
                    <a:pt x="752" y="409"/>
                  </a:lnTo>
                  <a:lnTo>
                    <a:pt x="753" y="408"/>
                  </a:lnTo>
                  <a:lnTo>
                    <a:pt x="759" y="405"/>
                  </a:lnTo>
                  <a:lnTo>
                    <a:pt x="768" y="397"/>
                  </a:lnTo>
                  <a:lnTo>
                    <a:pt x="777" y="389"/>
                  </a:lnTo>
                  <a:lnTo>
                    <a:pt x="789" y="381"/>
                  </a:lnTo>
                  <a:lnTo>
                    <a:pt x="800" y="370"/>
                  </a:lnTo>
                  <a:lnTo>
                    <a:pt x="810" y="361"/>
                  </a:lnTo>
                  <a:lnTo>
                    <a:pt x="816" y="353"/>
                  </a:lnTo>
                  <a:lnTo>
                    <a:pt x="819" y="347"/>
                  </a:lnTo>
                  <a:lnTo>
                    <a:pt x="800" y="353"/>
                  </a:lnTo>
                  <a:lnTo>
                    <a:pt x="780" y="361"/>
                  </a:lnTo>
                  <a:lnTo>
                    <a:pt x="762" y="370"/>
                  </a:lnTo>
                  <a:lnTo>
                    <a:pt x="744" y="381"/>
                  </a:lnTo>
                  <a:lnTo>
                    <a:pt x="728" y="391"/>
                  </a:lnTo>
                  <a:lnTo>
                    <a:pt x="710" y="401"/>
                  </a:lnTo>
                  <a:lnTo>
                    <a:pt x="693" y="414"/>
                  </a:lnTo>
                  <a:lnTo>
                    <a:pt x="675" y="425"/>
                  </a:lnTo>
                  <a:lnTo>
                    <a:pt x="671" y="428"/>
                  </a:lnTo>
                  <a:lnTo>
                    <a:pt x="669" y="431"/>
                  </a:lnTo>
                  <a:lnTo>
                    <a:pt x="665" y="433"/>
                  </a:lnTo>
                  <a:lnTo>
                    <a:pt x="660" y="434"/>
                  </a:lnTo>
                  <a:lnTo>
                    <a:pt x="657" y="436"/>
                  </a:lnTo>
                  <a:lnTo>
                    <a:pt x="653" y="436"/>
                  </a:lnTo>
                  <a:lnTo>
                    <a:pt x="648" y="436"/>
                  </a:lnTo>
                  <a:lnTo>
                    <a:pt x="644" y="436"/>
                  </a:lnTo>
                  <a:lnTo>
                    <a:pt x="644" y="434"/>
                  </a:lnTo>
                  <a:lnTo>
                    <a:pt x="644" y="433"/>
                  </a:lnTo>
                  <a:lnTo>
                    <a:pt x="644" y="431"/>
                  </a:lnTo>
                  <a:lnTo>
                    <a:pt x="653" y="423"/>
                  </a:lnTo>
                  <a:lnTo>
                    <a:pt x="662" y="415"/>
                  </a:lnTo>
                  <a:lnTo>
                    <a:pt x="669" y="408"/>
                  </a:lnTo>
                  <a:lnTo>
                    <a:pt x="678" y="400"/>
                  </a:lnTo>
                  <a:lnTo>
                    <a:pt x="687" y="392"/>
                  </a:lnTo>
                  <a:lnTo>
                    <a:pt x="696" y="384"/>
                  </a:lnTo>
                  <a:lnTo>
                    <a:pt x="705" y="378"/>
                  </a:lnTo>
                  <a:lnTo>
                    <a:pt x="714" y="372"/>
                  </a:lnTo>
                  <a:lnTo>
                    <a:pt x="723" y="359"/>
                  </a:lnTo>
                  <a:lnTo>
                    <a:pt x="735" y="349"/>
                  </a:lnTo>
                  <a:lnTo>
                    <a:pt x="747" y="339"/>
                  </a:lnTo>
                  <a:lnTo>
                    <a:pt x="762" y="327"/>
                  </a:lnTo>
                  <a:lnTo>
                    <a:pt x="776" y="316"/>
                  </a:lnTo>
                  <a:lnTo>
                    <a:pt x="789" y="307"/>
                  </a:lnTo>
                  <a:lnTo>
                    <a:pt x="800" y="296"/>
                  </a:lnTo>
                  <a:lnTo>
                    <a:pt x="806" y="286"/>
                  </a:lnTo>
                  <a:lnTo>
                    <a:pt x="806" y="285"/>
                  </a:lnTo>
                  <a:lnTo>
                    <a:pt x="804" y="285"/>
                  </a:lnTo>
                  <a:lnTo>
                    <a:pt x="804" y="283"/>
                  </a:lnTo>
                  <a:lnTo>
                    <a:pt x="801" y="285"/>
                  </a:lnTo>
                  <a:lnTo>
                    <a:pt x="798" y="286"/>
                  </a:lnTo>
                  <a:lnTo>
                    <a:pt x="794" y="288"/>
                  </a:lnTo>
                  <a:lnTo>
                    <a:pt x="791" y="290"/>
                  </a:lnTo>
                  <a:lnTo>
                    <a:pt x="788" y="291"/>
                  </a:lnTo>
                  <a:lnTo>
                    <a:pt x="785" y="293"/>
                  </a:lnTo>
                  <a:lnTo>
                    <a:pt x="782" y="293"/>
                  </a:lnTo>
                  <a:lnTo>
                    <a:pt x="779" y="293"/>
                  </a:lnTo>
                  <a:lnTo>
                    <a:pt x="785" y="288"/>
                  </a:lnTo>
                  <a:lnTo>
                    <a:pt x="791" y="285"/>
                  </a:lnTo>
                  <a:lnTo>
                    <a:pt x="795" y="282"/>
                  </a:lnTo>
                  <a:lnTo>
                    <a:pt x="801" y="277"/>
                  </a:lnTo>
                  <a:lnTo>
                    <a:pt x="807" y="274"/>
                  </a:lnTo>
                  <a:lnTo>
                    <a:pt x="812" y="272"/>
                  </a:lnTo>
                  <a:lnTo>
                    <a:pt x="818" y="271"/>
                  </a:lnTo>
                  <a:lnTo>
                    <a:pt x="825" y="269"/>
                  </a:lnTo>
                  <a:lnTo>
                    <a:pt x="824" y="276"/>
                  </a:lnTo>
                  <a:lnTo>
                    <a:pt x="819" y="283"/>
                  </a:lnTo>
                  <a:lnTo>
                    <a:pt x="812" y="290"/>
                  </a:lnTo>
                  <a:lnTo>
                    <a:pt x="806" y="296"/>
                  </a:lnTo>
                  <a:lnTo>
                    <a:pt x="797" y="302"/>
                  </a:lnTo>
                  <a:lnTo>
                    <a:pt x="788" y="308"/>
                  </a:lnTo>
                  <a:lnTo>
                    <a:pt x="782" y="313"/>
                  </a:lnTo>
                  <a:lnTo>
                    <a:pt x="776" y="319"/>
                  </a:lnTo>
                  <a:lnTo>
                    <a:pt x="764" y="332"/>
                  </a:lnTo>
                  <a:lnTo>
                    <a:pt x="747" y="344"/>
                  </a:lnTo>
                  <a:lnTo>
                    <a:pt x="732" y="355"/>
                  </a:lnTo>
                  <a:lnTo>
                    <a:pt x="716" y="369"/>
                  </a:lnTo>
                  <a:lnTo>
                    <a:pt x="701" y="383"/>
                  </a:lnTo>
                  <a:lnTo>
                    <a:pt x="686" y="395"/>
                  </a:lnTo>
                  <a:lnTo>
                    <a:pt x="672" y="409"/>
                  </a:lnTo>
                  <a:lnTo>
                    <a:pt x="663" y="422"/>
                  </a:lnTo>
                  <a:lnTo>
                    <a:pt x="669" y="422"/>
                  </a:lnTo>
                  <a:lnTo>
                    <a:pt x="674" y="420"/>
                  </a:lnTo>
                  <a:lnTo>
                    <a:pt x="680" y="417"/>
                  </a:lnTo>
                  <a:lnTo>
                    <a:pt x="686" y="412"/>
                  </a:lnTo>
                  <a:lnTo>
                    <a:pt x="692" y="408"/>
                  </a:lnTo>
                  <a:lnTo>
                    <a:pt x="699" y="405"/>
                  </a:lnTo>
                  <a:lnTo>
                    <a:pt x="705" y="400"/>
                  </a:lnTo>
                  <a:lnTo>
                    <a:pt x="711" y="398"/>
                  </a:lnTo>
                  <a:lnTo>
                    <a:pt x="723" y="389"/>
                  </a:lnTo>
                  <a:lnTo>
                    <a:pt x="738" y="380"/>
                  </a:lnTo>
                  <a:lnTo>
                    <a:pt x="755" y="369"/>
                  </a:lnTo>
                  <a:lnTo>
                    <a:pt x="773" y="358"/>
                  </a:lnTo>
                  <a:lnTo>
                    <a:pt x="791" y="349"/>
                  </a:lnTo>
                  <a:lnTo>
                    <a:pt x="809" y="342"/>
                  </a:lnTo>
                  <a:lnTo>
                    <a:pt x="816" y="339"/>
                  </a:lnTo>
                  <a:lnTo>
                    <a:pt x="825" y="338"/>
                  </a:lnTo>
                  <a:lnTo>
                    <a:pt x="833" y="336"/>
                  </a:lnTo>
                  <a:lnTo>
                    <a:pt x="840" y="336"/>
                  </a:lnTo>
                  <a:lnTo>
                    <a:pt x="840" y="338"/>
                  </a:lnTo>
                  <a:lnTo>
                    <a:pt x="840" y="339"/>
                  </a:lnTo>
                  <a:lnTo>
                    <a:pt x="840" y="341"/>
                  </a:lnTo>
                  <a:lnTo>
                    <a:pt x="840" y="342"/>
                  </a:lnTo>
                  <a:lnTo>
                    <a:pt x="839" y="342"/>
                  </a:lnTo>
                  <a:lnTo>
                    <a:pt x="839" y="344"/>
                  </a:lnTo>
                  <a:lnTo>
                    <a:pt x="825" y="355"/>
                  </a:lnTo>
                  <a:lnTo>
                    <a:pt x="812" y="367"/>
                  </a:lnTo>
                  <a:lnTo>
                    <a:pt x="797" y="380"/>
                  </a:lnTo>
                  <a:lnTo>
                    <a:pt x="783" y="389"/>
                  </a:lnTo>
                  <a:lnTo>
                    <a:pt x="770" y="401"/>
                  </a:lnTo>
                  <a:lnTo>
                    <a:pt x="755" y="414"/>
                  </a:lnTo>
                  <a:lnTo>
                    <a:pt x="741" y="425"/>
                  </a:lnTo>
                  <a:lnTo>
                    <a:pt x="729" y="439"/>
                  </a:lnTo>
                  <a:lnTo>
                    <a:pt x="740" y="437"/>
                  </a:lnTo>
                  <a:lnTo>
                    <a:pt x="750" y="433"/>
                  </a:lnTo>
                  <a:lnTo>
                    <a:pt x="764" y="426"/>
                  </a:lnTo>
                  <a:lnTo>
                    <a:pt x="777" y="419"/>
                  </a:lnTo>
                  <a:lnTo>
                    <a:pt x="792" y="411"/>
                  </a:lnTo>
                  <a:lnTo>
                    <a:pt x="807" y="403"/>
                  </a:lnTo>
                  <a:lnTo>
                    <a:pt x="819" y="395"/>
                  </a:lnTo>
                  <a:lnTo>
                    <a:pt x="833" y="389"/>
                  </a:lnTo>
                  <a:lnTo>
                    <a:pt x="834" y="389"/>
                  </a:lnTo>
                  <a:lnTo>
                    <a:pt x="836" y="389"/>
                  </a:lnTo>
                  <a:lnTo>
                    <a:pt x="837" y="389"/>
                  </a:lnTo>
                  <a:lnTo>
                    <a:pt x="837" y="391"/>
                  </a:lnTo>
                  <a:lnTo>
                    <a:pt x="837" y="392"/>
                  </a:lnTo>
                  <a:lnTo>
                    <a:pt x="837" y="394"/>
                  </a:lnTo>
                  <a:lnTo>
                    <a:pt x="837" y="395"/>
                  </a:lnTo>
                  <a:lnTo>
                    <a:pt x="837" y="397"/>
                  </a:lnTo>
                  <a:lnTo>
                    <a:pt x="828" y="406"/>
                  </a:lnTo>
                  <a:lnTo>
                    <a:pt x="815" y="417"/>
                  </a:lnTo>
                  <a:lnTo>
                    <a:pt x="800" y="431"/>
                  </a:lnTo>
                  <a:lnTo>
                    <a:pt x="782" y="445"/>
                  </a:lnTo>
                  <a:lnTo>
                    <a:pt x="765" y="459"/>
                  </a:lnTo>
                  <a:lnTo>
                    <a:pt x="750" y="468"/>
                  </a:lnTo>
                  <a:lnTo>
                    <a:pt x="740" y="476"/>
                  </a:lnTo>
                  <a:lnTo>
                    <a:pt x="732" y="479"/>
                  </a:lnTo>
                  <a:lnTo>
                    <a:pt x="741" y="470"/>
                  </a:lnTo>
                  <a:lnTo>
                    <a:pt x="755" y="461"/>
                  </a:lnTo>
                  <a:lnTo>
                    <a:pt x="768" y="451"/>
                  </a:lnTo>
                  <a:lnTo>
                    <a:pt x="782" y="440"/>
                  </a:lnTo>
                  <a:lnTo>
                    <a:pt x="795" y="429"/>
                  </a:lnTo>
                  <a:lnTo>
                    <a:pt x="807" y="420"/>
                  </a:lnTo>
                  <a:lnTo>
                    <a:pt x="815" y="411"/>
                  </a:lnTo>
                  <a:lnTo>
                    <a:pt x="819" y="401"/>
                  </a:lnTo>
                  <a:lnTo>
                    <a:pt x="803" y="409"/>
                  </a:lnTo>
                  <a:lnTo>
                    <a:pt x="785" y="419"/>
                  </a:lnTo>
                  <a:lnTo>
                    <a:pt x="768" y="426"/>
                  </a:lnTo>
                  <a:lnTo>
                    <a:pt x="752" y="436"/>
                  </a:lnTo>
                  <a:lnTo>
                    <a:pt x="735" y="447"/>
                  </a:lnTo>
                  <a:lnTo>
                    <a:pt x="719" y="456"/>
                  </a:lnTo>
                  <a:lnTo>
                    <a:pt x="704" y="467"/>
                  </a:lnTo>
                  <a:lnTo>
                    <a:pt x="687" y="478"/>
                  </a:lnTo>
                  <a:lnTo>
                    <a:pt x="686" y="478"/>
                  </a:lnTo>
                  <a:lnTo>
                    <a:pt x="686" y="479"/>
                  </a:lnTo>
                  <a:lnTo>
                    <a:pt x="684" y="479"/>
                  </a:lnTo>
                  <a:lnTo>
                    <a:pt x="683" y="479"/>
                  </a:lnTo>
                  <a:lnTo>
                    <a:pt x="681" y="479"/>
                  </a:lnTo>
                  <a:lnTo>
                    <a:pt x="680" y="479"/>
                  </a:lnTo>
                  <a:close/>
                  <a:moveTo>
                    <a:pt x="636" y="384"/>
                  </a:moveTo>
                  <a:lnTo>
                    <a:pt x="636" y="384"/>
                  </a:lnTo>
                  <a:lnTo>
                    <a:pt x="636" y="383"/>
                  </a:lnTo>
                  <a:lnTo>
                    <a:pt x="635" y="383"/>
                  </a:lnTo>
                  <a:lnTo>
                    <a:pt x="635" y="381"/>
                  </a:lnTo>
                  <a:lnTo>
                    <a:pt x="635" y="380"/>
                  </a:lnTo>
                  <a:lnTo>
                    <a:pt x="638" y="377"/>
                  </a:lnTo>
                  <a:lnTo>
                    <a:pt x="641" y="372"/>
                  </a:lnTo>
                  <a:lnTo>
                    <a:pt x="645" y="366"/>
                  </a:lnTo>
                  <a:lnTo>
                    <a:pt x="650" y="359"/>
                  </a:lnTo>
                  <a:lnTo>
                    <a:pt x="656" y="353"/>
                  </a:lnTo>
                  <a:lnTo>
                    <a:pt x="660" y="349"/>
                  </a:lnTo>
                  <a:lnTo>
                    <a:pt x="666" y="347"/>
                  </a:lnTo>
                  <a:lnTo>
                    <a:pt x="669" y="347"/>
                  </a:lnTo>
                  <a:lnTo>
                    <a:pt x="668" y="349"/>
                  </a:lnTo>
                  <a:lnTo>
                    <a:pt x="666" y="352"/>
                  </a:lnTo>
                  <a:lnTo>
                    <a:pt x="663" y="355"/>
                  </a:lnTo>
                  <a:lnTo>
                    <a:pt x="660" y="356"/>
                  </a:lnTo>
                  <a:lnTo>
                    <a:pt x="659" y="359"/>
                  </a:lnTo>
                  <a:lnTo>
                    <a:pt x="656" y="363"/>
                  </a:lnTo>
                  <a:lnTo>
                    <a:pt x="653" y="366"/>
                  </a:lnTo>
                  <a:lnTo>
                    <a:pt x="651" y="369"/>
                  </a:lnTo>
                  <a:lnTo>
                    <a:pt x="651" y="370"/>
                  </a:lnTo>
                  <a:lnTo>
                    <a:pt x="653" y="370"/>
                  </a:lnTo>
                  <a:lnTo>
                    <a:pt x="653" y="372"/>
                  </a:lnTo>
                  <a:lnTo>
                    <a:pt x="662" y="367"/>
                  </a:lnTo>
                  <a:lnTo>
                    <a:pt x="671" y="363"/>
                  </a:lnTo>
                  <a:lnTo>
                    <a:pt x="681" y="355"/>
                  </a:lnTo>
                  <a:lnTo>
                    <a:pt x="693" y="347"/>
                  </a:lnTo>
                  <a:lnTo>
                    <a:pt x="705" y="339"/>
                  </a:lnTo>
                  <a:lnTo>
                    <a:pt x="716" y="332"/>
                  </a:lnTo>
                  <a:lnTo>
                    <a:pt x="726" y="324"/>
                  </a:lnTo>
                  <a:lnTo>
                    <a:pt x="735" y="318"/>
                  </a:lnTo>
                  <a:lnTo>
                    <a:pt x="735" y="319"/>
                  </a:lnTo>
                  <a:lnTo>
                    <a:pt x="735" y="321"/>
                  </a:lnTo>
                  <a:lnTo>
                    <a:pt x="735" y="322"/>
                  </a:lnTo>
                  <a:lnTo>
                    <a:pt x="723" y="332"/>
                  </a:lnTo>
                  <a:lnTo>
                    <a:pt x="711" y="339"/>
                  </a:lnTo>
                  <a:lnTo>
                    <a:pt x="702" y="347"/>
                  </a:lnTo>
                  <a:lnTo>
                    <a:pt x="690" y="355"/>
                  </a:lnTo>
                  <a:lnTo>
                    <a:pt x="678" y="363"/>
                  </a:lnTo>
                  <a:lnTo>
                    <a:pt x="668" y="370"/>
                  </a:lnTo>
                  <a:lnTo>
                    <a:pt x="656" y="378"/>
                  </a:lnTo>
                  <a:lnTo>
                    <a:pt x="645" y="384"/>
                  </a:lnTo>
                  <a:lnTo>
                    <a:pt x="644" y="384"/>
                  </a:lnTo>
                  <a:lnTo>
                    <a:pt x="642" y="384"/>
                  </a:lnTo>
                  <a:lnTo>
                    <a:pt x="641" y="384"/>
                  </a:lnTo>
                  <a:lnTo>
                    <a:pt x="639" y="384"/>
                  </a:lnTo>
                  <a:lnTo>
                    <a:pt x="638" y="384"/>
                  </a:lnTo>
                  <a:lnTo>
                    <a:pt x="636" y="384"/>
                  </a:lnTo>
                  <a:close/>
                  <a:moveTo>
                    <a:pt x="675" y="338"/>
                  </a:moveTo>
                  <a:lnTo>
                    <a:pt x="677" y="336"/>
                  </a:lnTo>
                  <a:lnTo>
                    <a:pt x="680" y="333"/>
                  </a:lnTo>
                  <a:lnTo>
                    <a:pt x="681" y="332"/>
                  </a:lnTo>
                  <a:lnTo>
                    <a:pt x="683" y="328"/>
                  </a:lnTo>
                  <a:lnTo>
                    <a:pt x="686" y="327"/>
                  </a:lnTo>
                  <a:lnTo>
                    <a:pt x="687" y="325"/>
                  </a:lnTo>
                  <a:lnTo>
                    <a:pt x="689" y="322"/>
                  </a:lnTo>
                  <a:lnTo>
                    <a:pt x="692" y="321"/>
                  </a:lnTo>
                  <a:lnTo>
                    <a:pt x="692" y="322"/>
                  </a:lnTo>
                  <a:lnTo>
                    <a:pt x="692" y="324"/>
                  </a:lnTo>
                  <a:lnTo>
                    <a:pt x="692" y="325"/>
                  </a:lnTo>
                  <a:lnTo>
                    <a:pt x="692" y="327"/>
                  </a:lnTo>
                  <a:lnTo>
                    <a:pt x="690" y="328"/>
                  </a:lnTo>
                  <a:lnTo>
                    <a:pt x="689" y="330"/>
                  </a:lnTo>
                  <a:lnTo>
                    <a:pt x="686" y="333"/>
                  </a:lnTo>
                  <a:lnTo>
                    <a:pt x="684" y="335"/>
                  </a:lnTo>
                  <a:lnTo>
                    <a:pt x="681" y="336"/>
                  </a:lnTo>
                  <a:lnTo>
                    <a:pt x="680" y="338"/>
                  </a:lnTo>
                  <a:lnTo>
                    <a:pt x="677" y="338"/>
                  </a:lnTo>
                  <a:lnTo>
                    <a:pt x="675" y="338"/>
                  </a:lnTo>
                  <a:close/>
                  <a:moveTo>
                    <a:pt x="429" y="314"/>
                  </a:moveTo>
                  <a:lnTo>
                    <a:pt x="422" y="313"/>
                  </a:lnTo>
                  <a:lnTo>
                    <a:pt x="416" y="310"/>
                  </a:lnTo>
                  <a:lnTo>
                    <a:pt x="410" y="308"/>
                  </a:lnTo>
                  <a:lnTo>
                    <a:pt x="407" y="305"/>
                  </a:lnTo>
                  <a:lnTo>
                    <a:pt x="402" y="300"/>
                  </a:lnTo>
                  <a:lnTo>
                    <a:pt x="399" y="296"/>
                  </a:lnTo>
                  <a:lnTo>
                    <a:pt x="396" y="290"/>
                  </a:lnTo>
                  <a:lnTo>
                    <a:pt x="392" y="282"/>
                  </a:lnTo>
                  <a:lnTo>
                    <a:pt x="383" y="283"/>
                  </a:lnTo>
                  <a:lnTo>
                    <a:pt x="374" y="285"/>
                  </a:lnTo>
                  <a:lnTo>
                    <a:pt x="368" y="286"/>
                  </a:lnTo>
                  <a:lnTo>
                    <a:pt x="363" y="286"/>
                  </a:lnTo>
                  <a:lnTo>
                    <a:pt x="359" y="286"/>
                  </a:lnTo>
                  <a:lnTo>
                    <a:pt x="353" y="285"/>
                  </a:lnTo>
                  <a:lnTo>
                    <a:pt x="348" y="282"/>
                  </a:lnTo>
                  <a:lnTo>
                    <a:pt x="339" y="274"/>
                  </a:lnTo>
                  <a:lnTo>
                    <a:pt x="335" y="265"/>
                  </a:lnTo>
                  <a:lnTo>
                    <a:pt x="332" y="254"/>
                  </a:lnTo>
                  <a:lnTo>
                    <a:pt x="329" y="243"/>
                  </a:lnTo>
                  <a:lnTo>
                    <a:pt x="329" y="232"/>
                  </a:lnTo>
                  <a:lnTo>
                    <a:pt x="329" y="221"/>
                  </a:lnTo>
                  <a:lnTo>
                    <a:pt x="329" y="209"/>
                  </a:lnTo>
                  <a:lnTo>
                    <a:pt x="330" y="198"/>
                  </a:lnTo>
                  <a:lnTo>
                    <a:pt x="330" y="188"/>
                  </a:lnTo>
                  <a:lnTo>
                    <a:pt x="336" y="170"/>
                  </a:lnTo>
                  <a:lnTo>
                    <a:pt x="342" y="151"/>
                  </a:lnTo>
                  <a:lnTo>
                    <a:pt x="351" y="131"/>
                  </a:lnTo>
                  <a:lnTo>
                    <a:pt x="362" y="115"/>
                  </a:lnTo>
                  <a:lnTo>
                    <a:pt x="369" y="108"/>
                  </a:lnTo>
                  <a:lnTo>
                    <a:pt x="375" y="101"/>
                  </a:lnTo>
                  <a:lnTo>
                    <a:pt x="383" y="98"/>
                  </a:lnTo>
                  <a:lnTo>
                    <a:pt x="390" y="95"/>
                  </a:lnTo>
                  <a:lnTo>
                    <a:pt x="398" y="95"/>
                  </a:lnTo>
                  <a:lnTo>
                    <a:pt x="407" y="98"/>
                  </a:lnTo>
                  <a:lnTo>
                    <a:pt x="416" y="103"/>
                  </a:lnTo>
                  <a:lnTo>
                    <a:pt x="423" y="112"/>
                  </a:lnTo>
                  <a:lnTo>
                    <a:pt x="425" y="112"/>
                  </a:lnTo>
                  <a:lnTo>
                    <a:pt x="426" y="112"/>
                  </a:lnTo>
                  <a:lnTo>
                    <a:pt x="428" y="112"/>
                  </a:lnTo>
                  <a:lnTo>
                    <a:pt x="429" y="112"/>
                  </a:lnTo>
                  <a:lnTo>
                    <a:pt x="437" y="103"/>
                  </a:lnTo>
                  <a:lnTo>
                    <a:pt x="446" y="97"/>
                  </a:lnTo>
                  <a:lnTo>
                    <a:pt x="453" y="91"/>
                  </a:lnTo>
                  <a:lnTo>
                    <a:pt x="459" y="87"/>
                  </a:lnTo>
                  <a:lnTo>
                    <a:pt x="467" y="86"/>
                  </a:lnTo>
                  <a:lnTo>
                    <a:pt x="476" y="86"/>
                  </a:lnTo>
                  <a:lnTo>
                    <a:pt x="483" y="86"/>
                  </a:lnTo>
                  <a:lnTo>
                    <a:pt x="491" y="86"/>
                  </a:lnTo>
                  <a:lnTo>
                    <a:pt x="495" y="89"/>
                  </a:lnTo>
                  <a:lnTo>
                    <a:pt x="503" y="94"/>
                  </a:lnTo>
                  <a:lnTo>
                    <a:pt x="509" y="98"/>
                  </a:lnTo>
                  <a:lnTo>
                    <a:pt x="515" y="106"/>
                  </a:lnTo>
                  <a:lnTo>
                    <a:pt x="521" y="114"/>
                  </a:lnTo>
                  <a:lnTo>
                    <a:pt x="525" y="122"/>
                  </a:lnTo>
                  <a:lnTo>
                    <a:pt x="528" y="131"/>
                  </a:lnTo>
                  <a:lnTo>
                    <a:pt x="531" y="142"/>
                  </a:lnTo>
                  <a:lnTo>
                    <a:pt x="530" y="167"/>
                  </a:lnTo>
                  <a:lnTo>
                    <a:pt x="527" y="196"/>
                  </a:lnTo>
                  <a:lnTo>
                    <a:pt x="525" y="209"/>
                  </a:lnTo>
                  <a:lnTo>
                    <a:pt x="521" y="224"/>
                  </a:lnTo>
                  <a:lnTo>
                    <a:pt x="516" y="238"/>
                  </a:lnTo>
                  <a:lnTo>
                    <a:pt x="510" y="252"/>
                  </a:lnTo>
                  <a:lnTo>
                    <a:pt x="504" y="266"/>
                  </a:lnTo>
                  <a:lnTo>
                    <a:pt x="497" y="277"/>
                  </a:lnTo>
                  <a:lnTo>
                    <a:pt x="489" y="288"/>
                  </a:lnTo>
                  <a:lnTo>
                    <a:pt x="479" y="297"/>
                  </a:lnTo>
                  <a:lnTo>
                    <a:pt x="468" y="305"/>
                  </a:lnTo>
                  <a:lnTo>
                    <a:pt x="456" y="310"/>
                  </a:lnTo>
                  <a:lnTo>
                    <a:pt x="444" y="314"/>
                  </a:lnTo>
                  <a:lnTo>
                    <a:pt x="429" y="314"/>
                  </a:lnTo>
                  <a:close/>
                  <a:moveTo>
                    <a:pt x="741" y="316"/>
                  </a:moveTo>
                  <a:lnTo>
                    <a:pt x="743" y="313"/>
                  </a:lnTo>
                  <a:lnTo>
                    <a:pt x="746" y="310"/>
                  </a:lnTo>
                  <a:lnTo>
                    <a:pt x="750" y="307"/>
                  </a:lnTo>
                  <a:lnTo>
                    <a:pt x="756" y="304"/>
                  </a:lnTo>
                  <a:lnTo>
                    <a:pt x="762" y="300"/>
                  </a:lnTo>
                  <a:lnTo>
                    <a:pt x="767" y="299"/>
                  </a:lnTo>
                  <a:lnTo>
                    <a:pt x="773" y="297"/>
                  </a:lnTo>
                  <a:lnTo>
                    <a:pt x="776" y="297"/>
                  </a:lnTo>
                  <a:lnTo>
                    <a:pt x="770" y="302"/>
                  </a:lnTo>
                  <a:lnTo>
                    <a:pt x="765" y="305"/>
                  </a:lnTo>
                  <a:lnTo>
                    <a:pt x="761" y="308"/>
                  </a:lnTo>
                  <a:lnTo>
                    <a:pt x="756" y="310"/>
                  </a:lnTo>
                  <a:lnTo>
                    <a:pt x="753" y="310"/>
                  </a:lnTo>
                  <a:lnTo>
                    <a:pt x="750" y="311"/>
                  </a:lnTo>
                  <a:lnTo>
                    <a:pt x="746" y="313"/>
                  </a:lnTo>
                  <a:lnTo>
                    <a:pt x="741" y="316"/>
                  </a:lnTo>
                  <a:close/>
                  <a:moveTo>
                    <a:pt x="713" y="307"/>
                  </a:moveTo>
                  <a:lnTo>
                    <a:pt x="714" y="304"/>
                  </a:lnTo>
                  <a:lnTo>
                    <a:pt x="716" y="302"/>
                  </a:lnTo>
                  <a:lnTo>
                    <a:pt x="717" y="299"/>
                  </a:lnTo>
                  <a:lnTo>
                    <a:pt x="719" y="296"/>
                  </a:lnTo>
                  <a:lnTo>
                    <a:pt x="722" y="294"/>
                  </a:lnTo>
                  <a:lnTo>
                    <a:pt x="725" y="293"/>
                  </a:lnTo>
                  <a:lnTo>
                    <a:pt x="728" y="293"/>
                  </a:lnTo>
                  <a:lnTo>
                    <a:pt x="731" y="293"/>
                  </a:lnTo>
                  <a:lnTo>
                    <a:pt x="729" y="294"/>
                  </a:lnTo>
                  <a:lnTo>
                    <a:pt x="726" y="297"/>
                  </a:lnTo>
                  <a:lnTo>
                    <a:pt x="725" y="299"/>
                  </a:lnTo>
                  <a:lnTo>
                    <a:pt x="722" y="300"/>
                  </a:lnTo>
                  <a:lnTo>
                    <a:pt x="719" y="304"/>
                  </a:lnTo>
                  <a:lnTo>
                    <a:pt x="717" y="305"/>
                  </a:lnTo>
                  <a:lnTo>
                    <a:pt x="714" y="307"/>
                  </a:lnTo>
                  <a:lnTo>
                    <a:pt x="713" y="307"/>
                  </a:lnTo>
                  <a:close/>
                  <a:moveTo>
                    <a:pt x="666" y="300"/>
                  </a:moveTo>
                  <a:lnTo>
                    <a:pt x="666" y="300"/>
                  </a:lnTo>
                  <a:lnTo>
                    <a:pt x="666" y="299"/>
                  </a:lnTo>
                  <a:lnTo>
                    <a:pt x="665" y="297"/>
                  </a:lnTo>
                  <a:lnTo>
                    <a:pt x="665" y="296"/>
                  </a:lnTo>
                  <a:lnTo>
                    <a:pt x="665" y="294"/>
                  </a:lnTo>
                  <a:lnTo>
                    <a:pt x="663" y="294"/>
                  </a:lnTo>
                  <a:lnTo>
                    <a:pt x="663" y="293"/>
                  </a:lnTo>
                  <a:lnTo>
                    <a:pt x="665" y="291"/>
                  </a:lnTo>
                  <a:lnTo>
                    <a:pt x="668" y="291"/>
                  </a:lnTo>
                  <a:lnTo>
                    <a:pt x="669" y="290"/>
                  </a:lnTo>
                  <a:lnTo>
                    <a:pt x="671" y="288"/>
                  </a:lnTo>
                  <a:lnTo>
                    <a:pt x="674" y="288"/>
                  </a:lnTo>
                  <a:lnTo>
                    <a:pt x="677" y="288"/>
                  </a:lnTo>
                  <a:lnTo>
                    <a:pt x="680" y="288"/>
                  </a:lnTo>
                  <a:lnTo>
                    <a:pt x="683" y="280"/>
                  </a:lnTo>
                  <a:lnTo>
                    <a:pt x="686" y="272"/>
                  </a:lnTo>
                  <a:lnTo>
                    <a:pt x="690" y="266"/>
                  </a:lnTo>
                  <a:lnTo>
                    <a:pt x="696" y="260"/>
                  </a:lnTo>
                  <a:lnTo>
                    <a:pt x="707" y="248"/>
                  </a:lnTo>
                  <a:lnTo>
                    <a:pt x="720" y="235"/>
                  </a:lnTo>
                  <a:lnTo>
                    <a:pt x="734" y="226"/>
                  </a:lnTo>
                  <a:lnTo>
                    <a:pt x="744" y="213"/>
                  </a:lnTo>
                  <a:lnTo>
                    <a:pt x="750" y="207"/>
                  </a:lnTo>
                  <a:lnTo>
                    <a:pt x="756" y="201"/>
                  </a:lnTo>
                  <a:lnTo>
                    <a:pt x="759" y="196"/>
                  </a:lnTo>
                  <a:lnTo>
                    <a:pt x="764" y="188"/>
                  </a:lnTo>
                  <a:lnTo>
                    <a:pt x="759" y="190"/>
                  </a:lnTo>
                  <a:lnTo>
                    <a:pt x="755" y="192"/>
                  </a:lnTo>
                  <a:lnTo>
                    <a:pt x="750" y="193"/>
                  </a:lnTo>
                  <a:lnTo>
                    <a:pt x="746" y="195"/>
                  </a:lnTo>
                  <a:lnTo>
                    <a:pt x="741" y="196"/>
                  </a:lnTo>
                  <a:lnTo>
                    <a:pt x="738" y="198"/>
                  </a:lnTo>
                  <a:lnTo>
                    <a:pt x="734" y="198"/>
                  </a:lnTo>
                  <a:lnTo>
                    <a:pt x="729" y="198"/>
                  </a:lnTo>
                  <a:lnTo>
                    <a:pt x="723" y="202"/>
                  </a:lnTo>
                  <a:lnTo>
                    <a:pt x="717" y="206"/>
                  </a:lnTo>
                  <a:lnTo>
                    <a:pt x="711" y="209"/>
                  </a:lnTo>
                  <a:lnTo>
                    <a:pt x="705" y="213"/>
                  </a:lnTo>
                  <a:lnTo>
                    <a:pt x="699" y="216"/>
                  </a:lnTo>
                  <a:lnTo>
                    <a:pt x="693" y="218"/>
                  </a:lnTo>
                  <a:lnTo>
                    <a:pt x="687" y="220"/>
                  </a:lnTo>
                  <a:lnTo>
                    <a:pt x="681" y="220"/>
                  </a:lnTo>
                  <a:lnTo>
                    <a:pt x="681" y="218"/>
                  </a:lnTo>
                  <a:lnTo>
                    <a:pt x="681" y="216"/>
                  </a:lnTo>
                  <a:lnTo>
                    <a:pt x="681" y="215"/>
                  </a:lnTo>
                  <a:lnTo>
                    <a:pt x="681" y="213"/>
                  </a:lnTo>
                  <a:lnTo>
                    <a:pt x="687" y="209"/>
                  </a:lnTo>
                  <a:lnTo>
                    <a:pt x="692" y="204"/>
                  </a:lnTo>
                  <a:lnTo>
                    <a:pt x="696" y="198"/>
                  </a:lnTo>
                  <a:lnTo>
                    <a:pt x="699" y="195"/>
                  </a:lnTo>
                  <a:lnTo>
                    <a:pt x="704" y="190"/>
                  </a:lnTo>
                  <a:lnTo>
                    <a:pt x="707" y="185"/>
                  </a:lnTo>
                  <a:lnTo>
                    <a:pt x="711" y="182"/>
                  </a:lnTo>
                  <a:lnTo>
                    <a:pt x="717" y="179"/>
                  </a:lnTo>
                  <a:lnTo>
                    <a:pt x="719" y="176"/>
                  </a:lnTo>
                  <a:lnTo>
                    <a:pt x="719" y="174"/>
                  </a:lnTo>
                  <a:lnTo>
                    <a:pt x="720" y="171"/>
                  </a:lnTo>
                  <a:lnTo>
                    <a:pt x="720" y="170"/>
                  </a:lnTo>
                  <a:lnTo>
                    <a:pt x="722" y="168"/>
                  </a:lnTo>
                  <a:lnTo>
                    <a:pt x="722" y="167"/>
                  </a:lnTo>
                  <a:lnTo>
                    <a:pt x="723" y="165"/>
                  </a:lnTo>
                  <a:lnTo>
                    <a:pt x="723" y="164"/>
                  </a:lnTo>
                  <a:lnTo>
                    <a:pt x="711" y="167"/>
                  </a:lnTo>
                  <a:lnTo>
                    <a:pt x="704" y="170"/>
                  </a:lnTo>
                  <a:lnTo>
                    <a:pt x="698" y="173"/>
                  </a:lnTo>
                  <a:lnTo>
                    <a:pt x="693" y="174"/>
                  </a:lnTo>
                  <a:lnTo>
                    <a:pt x="689" y="174"/>
                  </a:lnTo>
                  <a:lnTo>
                    <a:pt x="686" y="176"/>
                  </a:lnTo>
                  <a:lnTo>
                    <a:pt x="683" y="176"/>
                  </a:lnTo>
                  <a:lnTo>
                    <a:pt x="678" y="176"/>
                  </a:lnTo>
                  <a:lnTo>
                    <a:pt x="678" y="173"/>
                  </a:lnTo>
                  <a:lnTo>
                    <a:pt x="680" y="170"/>
                  </a:lnTo>
                  <a:lnTo>
                    <a:pt x="683" y="167"/>
                  </a:lnTo>
                  <a:lnTo>
                    <a:pt x="687" y="167"/>
                  </a:lnTo>
                  <a:lnTo>
                    <a:pt x="692" y="165"/>
                  </a:lnTo>
                  <a:lnTo>
                    <a:pt x="696" y="164"/>
                  </a:lnTo>
                  <a:lnTo>
                    <a:pt x="701" y="164"/>
                  </a:lnTo>
                  <a:lnTo>
                    <a:pt x="705" y="162"/>
                  </a:lnTo>
                  <a:lnTo>
                    <a:pt x="713" y="160"/>
                  </a:lnTo>
                  <a:lnTo>
                    <a:pt x="720" y="157"/>
                  </a:lnTo>
                  <a:lnTo>
                    <a:pt x="725" y="154"/>
                  </a:lnTo>
                  <a:lnTo>
                    <a:pt x="729" y="153"/>
                  </a:lnTo>
                  <a:lnTo>
                    <a:pt x="732" y="153"/>
                  </a:lnTo>
                  <a:lnTo>
                    <a:pt x="734" y="151"/>
                  </a:lnTo>
                  <a:lnTo>
                    <a:pt x="737" y="151"/>
                  </a:lnTo>
                  <a:lnTo>
                    <a:pt x="740" y="150"/>
                  </a:lnTo>
                  <a:lnTo>
                    <a:pt x="740" y="154"/>
                  </a:lnTo>
                  <a:lnTo>
                    <a:pt x="738" y="159"/>
                  </a:lnTo>
                  <a:lnTo>
                    <a:pt x="735" y="162"/>
                  </a:lnTo>
                  <a:lnTo>
                    <a:pt x="732" y="167"/>
                  </a:lnTo>
                  <a:lnTo>
                    <a:pt x="729" y="170"/>
                  </a:lnTo>
                  <a:lnTo>
                    <a:pt x="725" y="173"/>
                  </a:lnTo>
                  <a:lnTo>
                    <a:pt x="722" y="176"/>
                  </a:lnTo>
                  <a:lnTo>
                    <a:pt x="717" y="178"/>
                  </a:lnTo>
                  <a:lnTo>
                    <a:pt x="717" y="181"/>
                  </a:lnTo>
                  <a:lnTo>
                    <a:pt x="714" y="184"/>
                  </a:lnTo>
                  <a:lnTo>
                    <a:pt x="711" y="188"/>
                  </a:lnTo>
                  <a:lnTo>
                    <a:pt x="708" y="193"/>
                  </a:lnTo>
                  <a:lnTo>
                    <a:pt x="705" y="198"/>
                  </a:lnTo>
                  <a:lnTo>
                    <a:pt x="702" y="201"/>
                  </a:lnTo>
                  <a:lnTo>
                    <a:pt x="699" y="204"/>
                  </a:lnTo>
                  <a:lnTo>
                    <a:pt x="698" y="207"/>
                  </a:lnTo>
                  <a:lnTo>
                    <a:pt x="705" y="206"/>
                  </a:lnTo>
                  <a:lnTo>
                    <a:pt x="714" y="202"/>
                  </a:lnTo>
                  <a:lnTo>
                    <a:pt x="725" y="198"/>
                  </a:lnTo>
                  <a:lnTo>
                    <a:pt x="735" y="195"/>
                  </a:lnTo>
                  <a:lnTo>
                    <a:pt x="746" y="190"/>
                  </a:lnTo>
                  <a:lnTo>
                    <a:pt x="756" y="184"/>
                  </a:lnTo>
                  <a:lnTo>
                    <a:pt x="768" y="181"/>
                  </a:lnTo>
                  <a:lnTo>
                    <a:pt x="777" y="179"/>
                  </a:lnTo>
                  <a:lnTo>
                    <a:pt x="776" y="185"/>
                  </a:lnTo>
                  <a:lnTo>
                    <a:pt x="773" y="193"/>
                  </a:lnTo>
                  <a:lnTo>
                    <a:pt x="765" y="201"/>
                  </a:lnTo>
                  <a:lnTo>
                    <a:pt x="758" y="210"/>
                  </a:lnTo>
                  <a:lnTo>
                    <a:pt x="747" y="218"/>
                  </a:lnTo>
                  <a:lnTo>
                    <a:pt x="740" y="226"/>
                  </a:lnTo>
                  <a:lnTo>
                    <a:pt x="732" y="234"/>
                  </a:lnTo>
                  <a:lnTo>
                    <a:pt x="725" y="237"/>
                  </a:lnTo>
                  <a:lnTo>
                    <a:pt x="722" y="241"/>
                  </a:lnTo>
                  <a:lnTo>
                    <a:pt x="719" y="244"/>
                  </a:lnTo>
                  <a:lnTo>
                    <a:pt x="716" y="249"/>
                  </a:lnTo>
                  <a:lnTo>
                    <a:pt x="711" y="254"/>
                  </a:lnTo>
                  <a:lnTo>
                    <a:pt x="707" y="258"/>
                  </a:lnTo>
                  <a:lnTo>
                    <a:pt x="702" y="265"/>
                  </a:lnTo>
                  <a:lnTo>
                    <a:pt x="696" y="272"/>
                  </a:lnTo>
                  <a:lnTo>
                    <a:pt x="690" y="279"/>
                  </a:lnTo>
                  <a:lnTo>
                    <a:pt x="696" y="277"/>
                  </a:lnTo>
                  <a:lnTo>
                    <a:pt x="704" y="274"/>
                  </a:lnTo>
                  <a:lnTo>
                    <a:pt x="713" y="269"/>
                  </a:lnTo>
                  <a:lnTo>
                    <a:pt x="723" y="263"/>
                  </a:lnTo>
                  <a:lnTo>
                    <a:pt x="734" y="255"/>
                  </a:lnTo>
                  <a:lnTo>
                    <a:pt x="741" y="249"/>
                  </a:lnTo>
                  <a:lnTo>
                    <a:pt x="750" y="243"/>
                  </a:lnTo>
                  <a:lnTo>
                    <a:pt x="756" y="237"/>
                  </a:lnTo>
                  <a:lnTo>
                    <a:pt x="762" y="235"/>
                  </a:lnTo>
                  <a:lnTo>
                    <a:pt x="768" y="234"/>
                  </a:lnTo>
                  <a:lnTo>
                    <a:pt x="776" y="229"/>
                  </a:lnTo>
                  <a:lnTo>
                    <a:pt x="782" y="224"/>
                  </a:lnTo>
                  <a:lnTo>
                    <a:pt x="788" y="220"/>
                  </a:lnTo>
                  <a:lnTo>
                    <a:pt x="795" y="215"/>
                  </a:lnTo>
                  <a:lnTo>
                    <a:pt x="801" y="213"/>
                  </a:lnTo>
                  <a:lnTo>
                    <a:pt x="807" y="213"/>
                  </a:lnTo>
                  <a:lnTo>
                    <a:pt x="807" y="220"/>
                  </a:lnTo>
                  <a:lnTo>
                    <a:pt x="803" y="227"/>
                  </a:lnTo>
                  <a:lnTo>
                    <a:pt x="798" y="235"/>
                  </a:lnTo>
                  <a:lnTo>
                    <a:pt x="792" y="243"/>
                  </a:lnTo>
                  <a:lnTo>
                    <a:pt x="785" y="251"/>
                  </a:lnTo>
                  <a:lnTo>
                    <a:pt x="777" y="255"/>
                  </a:lnTo>
                  <a:lnTo>
                    <a:pt x="773" y="258"/>
                  </a:lnTo>
                  <a:lnTo>
                    <a:pt x="767" y="260"/>
                  </a:lnTo>
                  <a:lnTo>
                    <a:pt x="771" y="255"/>
                  </a:lnTo>
                  <a:lnTo>
                    <a:pt x="776" y="251"/>
                  </a:lnTo>
                  <a:lnTo>
                    <a:pt x="777" y="248"/>
                  </a:lnTo>
                  <a:lnTo>
                    <a:pt x="782" y="243"/>
                  </a:lnTo>
                  <a:lnTo>
                    <a:pt x="786" y="238"/>
                  </a:lnTo>
                  <a:lnTo>
                    <a:pt x="791" y="235"/>
                  </a:lnTo>
                  <a:lnTo>
                    <a:pt x="794" y="230"/>
                  </a:lnTo>
                  <a:lnTo>
                    <a:pt x="798" y="226"/>
                  </a:lnTo>
                  <a:lnTo>
                    <a:pt x="795" y="224"/>
                  </a:lnTo>
                  <a:lnTo>
                    <a:pt x="791" y="226"/>
                  </a:lnTo>
                  <a:lnTo>
                    <a:pt x="785" y="227"/>
                  </a:lnTo>
                  <a:lnTo>
                    <a:pt x="777" y="232"/>
                  </a:lnTo>
                  <a:lnTo>
                    <a:pt x="759" y="241"/>
                  </a:lnTo>
                  <a:lnTo>
                    <a:pt x="738" y="257"/>
                  </a:lnTo>
                  <a:lnTo>
                    <a:pt x="714" y="271"/>
                  </a:lnTo>
                  <a:lnTo>
                    <a:pt x="695" y="285"/>
                  </a:lnTo>
                  <a:lnTo>
                    <a:pt x="677" y="296"/>
                  </a:lnTo>
                  <a:lnTo>
                    <a:pt x="666" y="300"/>
                  </a:lnTo>
                  <a:close/>
                  <a:moveTo>
                    <a:pt x="747" y="274"/>
                  </a:moveTo>
                  <a:lnTo>
                    <a:pt x="749" y="274"/>
                  </a:lnTo>
                  <a:lnTo>
                    <a:pt x="749" y="272"/>
                  </a:lnTo>
                  <a:lnTo>
                    <a:pt x="750" y="272"/>
                  </a:lnTo>
                  <a:lnTo>
                    <a:pt x="752" y="272"/>
                  </a:lnTo>
                  <a:lnTo>
                    <a:pt x="753" y="272"/>
                  </a:lnTo>
                  <a:lnTo>
                    <a:pt x="752" y="272"/>
                  </a:lnTo>
                  <a:lnTo>
                    <a:pt x="752" y="274"/>
                  </a:lnTo>
                  <a:lnTo>
                    <a:pt x="750" y="274"/>
                  </a:lnTo>
                  <a:lnTo>
                    <a:pt x="749" y="274"/>
                  </a:lnTo>
                  <a:lnTo>
                    <a:pt x="747" y="274"/>
                  </a:lnTo>
                  <a:close/>
                  <a:moveTo>
                    <a:pt x="759" y="268"/>
                  </a:moveTo>
                  <a:lnTo>
                    <a:pt x="759" y="268"/>
                  </a:lnTo>
                  <a:lnTo>
                    <a:pt x="761" y="268"/>
                  </a:lnTo>
                  <a:lnTo>
                    <a:pt x="762" y="268"/>
                  </a:lnTo>
                  <a:lnTo>
                    <a:pt x="761" y="268"/>
                  </a:lnTo>
                  <a:lnTo>
                    <a:pt x="759" y="268"/>
                  </a:lnTo>
                  <a:close/>
                  <a:moveTo>
                    <a:pt x="546" y="98"/>
                  </a:moveTo>
                  <a:lnTo>
                    <a:pt x="543" y="94"/>
                  </a:lnTo>
                  <a:lnTo>
                    <a:pt x="542" y="87"/>
                  </a:lnTo>
                  <a:lnTo>
                    <a:pt x="539" y="83"/>
                  </a:lnTo>
                  <a:lnTo>
                    <a:pt x="537" y="75"/>
                  </a:lnTo>
                  <a:lnTo>
                    <a:pt x="536" y="66"/>
                  </a:lnTo>
                  <a:lnTo>
                    <a:pt x="534" y="58"/>
                  </a:lnTo>
                  <a:lnTo>
                    <a:pt x="530" y="52"/>
                  </a:lnTo>
                  <a:lnTo>
                    <a:pt x="527" y="47"/>
                  </a:lnTo>
                  <a:lnTo>
                    <a:pt x="518" y="47"/>
                  </a:lnTo>
                  <a:lnTo>
                    <a:pt x="512" y="47"/>
                  </a:lnTo>
                  <a:lnTo>
                    <a:pt x="506" y="49"/>
                  </a:lnTo>
                  <a:lnTo>
                    <a:pt x="501" y="49"/>
                  </a:lnTo>
                  <a:lnTo>
                    <a:pt x="498" y="49"/>
                  </a:lnTo>
                  <a:lnTo>
                    <a:pt x="494" y="52"/>
                  </a:lnTo>
                  <a:lnTo>
                    <a:pt x="491" y="55"/>
                  </a:lnTo>
                  <a:lnTo>
                    <a:pt x="485" y="59"/>
                  </a:lnTo>
                  <a:lnTo>
                    <a:pt x="483" y="59"/>
                  </a:lnTo>
                  <a:lnTo>
                    <a:pt x="482" y="59"/>
                  </a:lnTo>
                  <a:lnTo>
                    <a:pt x="480" y="59"/>
                  </a:lnTo>
                  <a:lnTo>
                    <a:pt x="479" y="58"/>
                  </a:lnTo>
                  <a:lnTo>
                    <a:pt x="479" y="53"/>
                  </a:lnTo>
                  <a:lnTo>
                    <a:pt x="479" y="49"/>
                  </a:lnTo>
                  <a:lnTo>
                    <a:pt x="480" y="45"/>
                  </a:lnTo>
                  <a:lnTo>
                    <a:pt x="483" y="41"/>
                  </a:lnTo>
                  <a:lnTo>
                    <a:pt x="489" y="33"/>
                  </a:lnTo>
                  <a:lnTo>
                    <a:pt x="497" y="27"/>
                  </a:lnTo>
                  <a:lnTo>
                    <a:pt x="506" y="22"/>
                  </a:lnTo>
                  <a:lnTo>
                    <a:pt x="516" y="19"/>
                  </a:lnTo>
                  <a:lnTo>
                    <a:pt x="527" y="19"/>
                  </a:lnTo>
                  <a:lnTo>
                    <a:pt x="536" y="22"/>
                  </a:lnTo>
                  <a:lnTo>
                    <a:pt x="542" y="31"/>
                  </a:lnTo>
                  <a:lnTo>
                    <a:pt x="546" y="39"/>
                  </a:lnTo>
                  <a:lnTo>
                    <a:pt x="549" y="49"/>
                  </a:lnTo>
                  <a:lnTo>
                    <a:pt x="551" y="56"/>
                  </a:lnTo>
                  <a:lnTo>
                    <a:pt x="552" y="67"/>
                  </a:lnTo>
                  <a:lnTo>
                    <a:pt x="552" y="78"/>
                  </a:lnTo>
                  <a:lnTo>
                    <a:pt x="552" y="87"/>
                  </a:lnTo>
                  <a:lnTo>
                    <a:pt x="552" y="98"/>
                  </a:lnTo>
                  <a:lnTo>
                    <a:pt x="551" y="98"/>
                  </a:lnTo>
                  <a:lnTo>
                    <a:pt x="549" y="98"/>
                  </a:lnTo>
                  <a:lnTo>
                    <a:pt x="548" y="98"/>
                  </a:lnTo>
                  <a:lnTo>
                    <a:pt x="546" y="98"/>
                  </a:lnTo>
                  <a:close/>
                </a:path>
              </a:pathLst>
            </a:custGeom>
            <a:solidFill>
              <a:srgbClr val="ff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7504200" y="6042600"/>
              <a:ext cx="161280" cy="777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2" h="83">
                  <a:moveTo>
                    <a:pt x="93" y="83"/>
                  </a:moveTo>
                  <a:lnTo>
                    <a:pt x="81" y="81"/>
                  </a:lnTo>
                  <a:lnTo>
                    <a:pt x="69" y="78"/>
                  </a:lnTo>
                  <a:lnTo>
                    <a:pt x="58" y="73"/>
                  </a:lnTo>
                  <a:lnTo>
                    <a:pt x="46" y="67"/>
                  </a:lnTo>
                  <a:lnTo>
                    <a:pt x="39" y="61"/>
                  </a:lnTo>
                  <a:lnTo>
                    <a:pt x="28" y="55"/>
                  </a:lnTo>
                  <a:lnTo>
                    <a:pt x="18" y="50"/>
                  </a:lnTo>
                  <a:lnTo>
                    <a:pt x="10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7" y="8"/>
                  </a:lnTo>
                  <a:lnTo>
                    <a:pt x="34" y="11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5" y="19"/>
                  </a:lnTo>
                  <a:lnTo>
                    <a:pt x="64" y="20"/>
                  </a:lnTo>
                  <a:lnTo>
                    <a:pt x="76" y="23"/>
                  </a:lnTo>
                  <a:lnTo>
                    <a:pt x="88" y="27"/>
                  </a:lnTo>
                  <a:lnTo>
                    <a:pt x="102" y="31"/>
                  </a:lnTo>
                  <a:lnTo>
                    <a:pt x="115" y="36"/>
                  </a:lnTo>
                  <a:lnTo>
                    <a:pt x="126" y="41"/>
                  </a:lnTo>
                  <a:lnTo>
                    <a:pt x="136" y="47"/>
                  </a:lnTo>
                  <a:lnTo>
                    <a:pt x="142" y="55"/>
                  </a:lnTo>
                  <a:lnTo>
                    <a:pt x="142" y="58"/>
                  </a:lnTo>
                  <a:lnTo>
                    <a:pt x="142" y="61"/>
                  </a:lnTo>
                  <a:lnTo>
                    <a:pt x="142" y="62"/>
                  </a:lnTo>
                  <a:lnTo>
                    <a:pt x="142" y="65"/>
                  </a:lnTo>
                  <a:lnTo>
                    <a:pt x="142" y="67"/>
                  </a:lnTo>
                  <a:lnTo>
                    <a:pt x="142" y="70"/>
                  </a:lnTo>
                  <a:lnTo>
                    <a:pt x="141" y="73"/>
                  </a:lnTo>
                  <a:lnTo>
                    <a:pt x="135" y="76"/>
                  </a:lnTo>
                  <a:lnTo>
                    <a:pt x="129" y="79"/>
                  </a:lnTo>
                  <a:lnTo>
                    <a:pt x="123" y="81"/>
                  </a:lnTo>
                  <a:lnTo>
                    <a:pt x="117" y="83"/>
                  </a:lnTo>
                  <a:lnTo>
                    <a:pt x="112" y="83"/>
                  </a:lnTo>
                  <a:lnTo>
                    <a:pt x="106" y="83"/>
                  </a:lnTo>
                  <a:lnTo>
                    <a:pt x="99" y="83"/>
                  </a:lnTo>
                  <a:lnTo>
                    <a:pt x="93" y="8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7722360" y="5846760"/>
              <a:ext cx="462600" cy="25308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413" h="268">
                  <a:moveTo>
                    <a:pt x="206" y="268"/>
                  </a:moveTo>
                  <a:lnTo>
                    <a:pt x="179" y="266"/>
                  </a:lnTo>
                  <a:lnTo>
                    <a:pt x="153" y="262"/>
                  </a:lnTo>
                  <a:lnTo>
                    <a:pt x="128" y="260"/>
                  </a:lnTo>
                  <a:lnTo>
                    <a:pt x="101" y="255"/>
                  </a:lnTo>
                  <a:lnTo>
                    <a:pt x="75" y="251"/>
                  </a:lnTo>
                  <a:lnTo>
                    <a:pt x="50" y="246"/>
                  </a:lnTo>
                  <a:lnTo>
                    <a:pt x="24" y="240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3" y="224"/>
                  </a:lnTo>
                  <a:lnTo>
                    <a:pt x="5" y="221"/>
                  </a:lnTo>
                  <a:lnTo>
                    <a:pt x="8" y="218"/>
                  </a:lnTo>
                  <a:lnTo>
                    <a:pt x="9" y="215"/>
                  </a:lnTo>
                  <a:lnTo>
                    <a:pt x="11" y="210"/>
                  </a:lnTo>
                  <a:lnTo>
                    <a:pt x="11" y="206"/>
                  </a:lnTo>
                  <a:lnTo>
                    <a:pt x="9" y="198"/>
                  </a:lnTo>
                  <a:lnTo>
                    <a:pt x="9" y="196"/>
                  </a:lnTo>
                  <a:lnTo>
                    <a:pt x="8" y="193"/>
                  </a:lnTo>
                  <a:lnTo>
                    <a:pt x="6" y="192"/>
                  </a:lnTo>
                  <a:lnTo>
                    <a:pt x="6" y="190"/>
                  </a:lnTo>
                  <a:lnTo>
                    <a:pt x="5" y="188"/>
                  </a:lnTo>
                  <a:lnTo>
                    <a:pt x="3" y="187"/>
                  </a:lnTo>
                  <a:lnTo>
                    <a:pt x="3" y="185"/>
                  </a:lnTo>
                  <a:lnTo>
                    <a:pt x="2" y="184"/>
                  </a:lnTo>
                  <a:lnTo>
                    <a:pt x="6" y="184"/>
                  </a:lnTo>
                  <a:lnTo>
                    <a:pt x="9" y="185"/>
                  </a:lnTo>
                  <a:lnTo>
                    <a:pt x="12" y="187"/>
                  </a:lnTo>
                  <a:lnTo>
                    <a:pt x="15" y="187"/>
                  </a:lnTo>
                  <a:lnTo>
                    <a:pt x="20" y="187"/>
                  </a:lnTo>
                  <a:lnTo>
                    <a:pt x="23" y="190"/>
                  </a:lnTo>
                  <a:lnTo>
                    <a:pt x="27" y="192"/>
                  </a:lnTo>
                  <a:lnTo>
                    <a:pt x="32" y="193"/>
                  </a:lnTo>
                  <a:lnTo>
                    <a:pt x="60" y="199"/>
                  </a:lnTo>
                  <a:lnTo>
                    <a:pt x="87" y="207"/>
                  </a:lnTo>
                  <a:lnTo>
                    <a:pt x="116" y="213"/>
                  </a:lnTo>
                  <a:lnTo>
                    <a:pt x="143" y="216"/>
                  </a:lnTo>
                  <a:lnTo>
                    <a:pt x="158" y="218"/>
                  </a:lnTo>
                  <a:lnTo>
                    <a:pt x="171" y="218"/>
                  </a:lnTo>
                  <a:lnTo>
                    <a:pt x="185" y="216"/>
                  </a:lnTo>
                  <a:lnTo>
                    <a:pt x="200" y="213"/>
                  </a:lnTo>
                  <a:lnTo>
                    <a:pt x="212" y="209"/>
                  </a:lnTo>
                  <a:lnTo>
                    <a:pt x="227" y="204"/>
                  </a:lnTo>
                  <a:lnTo>
                    <a:pt x="240" y="196"/>
                  </a:lnTo>
                  <a:lnTo>
                    <a:pt x="252" y="187"/>
                  </a:lnTo>
                  <a:lnTo>
                    <a:pt x="270" y="168"/>
                  </a:lnTo>
                  <a:lnTo>
                    <a:pt x="285" y="148"/>
                  </a:lnTo>
                  <a:lnTo>
                    <a:pt x="300" y="126"/>
                  </a:lnTo>
                  <a:lnTo>
                    <a:pt x="314" y="105"/>
                  </a:lnTo>
                  <a:lnTo>
                    <a:pt x="327" y="83"/>
                  </a:lnTo>
                  <a:lnTo>
                    <a:pt x="342" y="63"/>
                  </a:lnTo>
                  <a:lnTo>
                    <a:pt x="356" y="41"/>
                  </a:lnTo>
                  <a:lnTo>
                    <a:pt x="371" y="21"/>
                  </a:lnTo>
                  <a:lnTo>
                    <a:pt x="377" y="14"/>
                  </a:lnTo>
                  <a:lnTo>
                    <a:pt x="381" y="10"/>
                  </a:lnTo>
                  <a:lnTo>
                    <a:pt x="384" y="5"/>
                  </a:lnTo>
                  <a:lnTo>
                    <a:pt x="389" y="2"/>
                  </a:lnTo>
                  <a:lnTo>
                    <a:pt x="393" y="2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3" y="0"/>
                  </a:lnTo>
                  <a:lnTo>
                    <a:pt x="413" y="13"/>
                  </a:lnTo>
                  <a:lnTo>
                    <a:pt x="411" y="27"/>
                  </a:lnTo>
                  <a:lnTo>
                    <a:pt x="408" y="39"/>
                  </a:lnTo>
                  <a:lnTo>
                    <a:pt x="404" y="55"/>
                  </a:lnTo>
                  <a:lnTo>
                    <a:pt x="393" y="83"/>
                  </a:lnTo>
                  <a:lnTo>
                    <a:pt x="381" y="111"/>
                  </a:lnTo>
                  <a:lnTo>
                    <a:pt x="365" y="139"/>
                  </a:lnTo>
                  <a:lnTo>
                    <a:pt x="350" y="165"/>
                  </a:lnTo>
                  <a:lnTo>
                    <a:pt x="335" y="188"/>
                  </a:lnTo>
                  <a:lnTo>
                    <a:pt x="320" y="213"/>
                  </a:lnTo>
                  <a:lnTo>
                    <a:pt x="314" y="221"/>
                  </a:lnTo>
                  <a:lnTo>
                    <a:pt x="309" y="227"/>
                  </a:lnTo>
                  <a:lnTo>
                    <a:pt x="303" y="235"/>
                  </a:lnTo>
                  <a:lnTo>
                    <a:pt x="297" y="243"/>
                  </a:lnTo>
                  <a:lnTo>
                    <a:pt x="291" y="249"/>
                  </a:lnTo>
                  <a:lnTo>
                    <a:pt x="284" y="254"/>
                  </a:lnTo>
                  <a:lnTo>
                    <a:pt x="278" y="258"/>
                  </a:lnTo>
                  <a:lnTo>
                    <a:pt x="269" y="260"/>
                  </a:lnTo>
                  <a:lnTo>
                    <a:pt x="261" y="263"/>
                  </a:lnTo>
                  <a:lnTo>
                    <a:pt x="254" y="265"/>
                  </a:lnTo>
                  <a:lnTo>
                    <a:pt x="245" y="266"/>
                  </a:lnTo>
                  <a:lnTo>
                    <a:pt x="237" y="268"/>
                  </a:lnTo>
                  <a:lnTo>
                    <a:pt x="228" y="268"/>
                  </a:lnTo>
                  <a:lnTo>
                    <a:pt x="221" y="268"/>
                  </a:lnTo>
                  <a:lnTo>
                    <a:pt x="213" y="268"/>
                  </a:lnTo>
                  <a:lnTo>
                    <a:pt x="206" y="26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7497720" y="5987520"/>
              <a:ext cx="206280" cy="1008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83" h="107">
                  <a:moveTo>
                    <a:pt x="157" y="107"/>
                  </a:moveTo>
                  <a:lnTo>
                    <a:pt x="160" y="107"/>
                  </a:lnTo>
                  <a:lnTo>
                    <a:pt x="165" y="106"/>
                  </a:lnTo>
                  <a:lnTo>
                    <a:pt x="168" y="103"/>
                  </a:lnTo>
                  <a:lnTo>
                    <a:pt x="172" y="100"/>
                  </a:lnTo>
                  <a:lnTo>
                    <a:pt x="175" y="95"/>
                  </a:lnTo>
                  <a:lnTo>
                    <a:pt x="178" y="90"/>
                  </a:lnTo>
                  <a:lnTo>
                    <a:pt x="181" y="87"/>
                  </a:lnTo>
                  <a:lnTo>
                    <a:pt x="183" y="84"/>
                  </a:lnTo>
                  <a:lnTo>
                    <a:pt x="169" y="82"/>
                  </a:lnTo>
                  <a:lnTo>
                    <a:pt x="157" y="79"/>
                  </a:lnTo>
                  <a:lnTo>
                    <a:pt x="145" y="76"/>
                  </a:lnTo>
                  <a:lnTo>
                    <a:pt x="135" y="73"/>
                  </a:lnTo>
                  <a:lnTo>
                    <a:pt x="123" y="67"/>
                  </a:lnTo>
                  <a:lnTo>
                    <a:pt x="114" y="62"/>
                  </a:lnTo>
                  <a:lnTo>
                    <a:pt x="103" y="56"/>
                  </a:lnTo>
                  <a:lnTo>
                    <a:pt x="93" y="48"/>
                  </a:lnTo>
                  <a:lnTo>
                    <a:pt x="85" y="40"/>
                  </a:lnTo>
                  <a:lnTo>
                    <a:pt x="73" y="31"/>
                  </a:lnTo>
                  <a:lnTo>
                    <a:pt x="60" y="22"/>
                  </a:lnTo>
                  <a:lnTo>
                    <a:pt x="48" y="12"/>
                  </a:lnTo>
                  <a:lnTo>
                    <a:pt x="33" y="5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30"/>
                  </a:lnTo>
                  <a:lnTo>
                    <a:pt x="7" y="39"/>
                  </a:lnTo>
                  <a:lnTo>
                    <a:pt x="13" y="44"/>
                  </a:lnTo>
                  <a:lnTo>
                    <a:pt x="21" y="50"/>
                  </a:lnTo>
                  <a:lnTo>
                    <a:pt x="33" y="56"/>
                  </a:lnTo>
                  <a:lnTo>
                    <a:pt x="43" y="61"/>
                  </a:lnTo>
                  <a:lnTo>
                    <a:pt x="55" y="65"/>
                  </a:lnTo>
                  <a:lnTo>
                    <a:pt x="69" y="68"/>
                  </a:lnTo>
                  <a:lnTo>
                    <a:pt x="94" y="76"/>
                  </a:lnTo>
                  <a:lnTo>
                    <a:pt x="121" y="82"/>
                  </a:lnTo>
                  <a:lnTo>
                    <a:pt x="132" y="87"/>
                  </a:lnTo>
                  <a:lnTo>
                    <a:pt x="142" y="93"/>
                  </a:lnTo>
                  <a:lnTo>
                    <a:pt x="151" y="100"/>
                  </a:lnTo>
                  <a:lnTo>
                    <a:pt x="157" y="10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7524720" y="5957280"/>
              <a:ext cx="197640" cy="1008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77" h="106">
                  <a:moveTo>
                    <a:pt x="144" y="106"/>
                  </a:moveTo>
                  <a:lnTo>
                    <a:pt x="149" y="106"/>
                  </a:lnTo>
                  <a:lnTo>
                    <a:pt x="153" y="106"/>
                  </a:lnTo>
                  <a:lnTo>
                    <a:pt x="156" y="106"/>
                  </a:lnTo>
                  <a:lnTo>
                    <a:pt x="161" y="104"/>
                  </a:lnTo>
                  <a:lnTo>
                    <a:pt x="165" y="103"/>
                  </a:lnTo>
                  <a:lnTo>
                    <a:pt x="170" y="101"/>
                  </a:lnTo>
                  <a:lnTo>
                    <a:pt x="173" y="99"/>
                  </a:lnTo>
                  <a:lnTo>
                    <a:pt x="177" y="96"/>
                  </a:lnTo>
                  <a:lnTo>
                    <a:pt x="177" y="90"/>
                  </a:lnTo>
                  <a:lnTo>
                    <a:pt x="176" y="84"/>
                  </a:lnTo>
                  <a:lnTo>
                    <a:pt x="173" y="79"/>
                  </a:lnTo>
                  <a:lnTo>
                    <a:pt x="171" y="73"/>
                  </a:lnTo>
                  <a:lnTo>
                    <a:pt x="161" y="67"/>
                  </a:lnTo>
                  <a:lnTo>
                    <a:pt x="147" y="61"/>
                  </a:lnTo>
                  <a:lnTo>
                    <a:pt x="135" y="56"/>
                  </a:lnTo>
                  <a:lnTo>
                    <a:pt x="123" y="53"/>
                  </a:lnTo>
                  <a:lnTo>
                    <a:pt x="113" y="48"/>
                  </a:lnTo>
                  <a:lnTo>
                    <a:pt x="105" y="43"/>
                  </a:lnTo>
                  <a:lnTo>
                    <a:pt x="93" y="40"/>
                  </a:lnTo>
                  <a:lnTo>
                    <a:pt x="80" y="36"/>
                  </a:lnTo>
                  <a:lnTo>
                    <a:pt x="68" y="33"/>
                  </a:lnTo>
                  <a:lnTo>
                    <a:pt x="59" y="28"/>
                  </a:lnTo>
                  <a:lnTo>
                    <a:pt x="48" y="23"/>
                  </a:lnTo>
                  <a:lnTo>
                    <a:pt x="38" y="16"/>
                  </a:lnTo>
                  <a:lnTo>
                    <a:pt x="29" y="8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9" y="26"/>
                  </a:lnTo>
                  <a:lnTo>
                    <a:pt x="15" y="28"/>
                  </a:lnTo>
                  <a:lnTo>
                    <a:pt x="21" y="31"/>
                  </a:lnTo>
                  <a:lnTo>
                    <a:pt x="27" y="33"/>
                  </a:lnTo>
                  <a:lnTo>
                    <a:pt x="32" y="36"/>
                  </a:lnTo>
                  <a:lnTo>
                    <a:pt x="36" y="39"/>
                  </a:lnTo>
                  <a:lnTo>
                    <a:pt x="42" y="42"/>
                  </a:lnTo>
                  <a:lnTo>
                    <a:pt x="56" y="53"/>
                  </a:lnTo>
                  <a:lnTo>
                    <a:pt x="66" y="62"/>
                  </a:lnTo>
                  <a:lnTo>
                    <a:pt x="77" y="70"/>
                  </a:lnTo>
                  <a:lnTo>
                    <a:pt x="89" y="78"/>
                  </a:lnTo>
                  <a:lnTo>
                    <a:pt x="101" y="85"/>
                  </a:lnTo>
                  <a:lnTo>
                    <a:pt x="114" y="93"/>
                  </a:lnTo>
                  <a:lnTo>
                    <a:pt x="129" y="99"/>
                  </a:lnTo>
                  <a:lnTo>
                    <a:pt x="144" y="10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7439040" y="5304240"/>
              <a:ext cx="950040" cy="74196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846" h="779">
                  <a:moveTo>
                    <a:pt x="392" y="779"/>
                  </a:moveTo>
                  <a:lnTo>
                    <a:pt x="402" y="779"/>
                  </a:lnTo>
                  <a:lnTo>
                    <a:pt x="413" y="778"/>
                  </a:lnTo>
                  <a:lnTo>
                    <a:pt x="422" y="778"/>
                  </a:lnTo>
                  <a:lnTo>
                    <a:pt x="431" y="776"/>
                  </a:lnTo>
                  <a:lnTo>
                    <a:pt x="441" y="775"/>
                  </a:lnTo>
                  <a:lnTo>
                    <a:pt x="450" y="773"/>
                  </a:lnTo>
                  <a:lnTo>
                    <a:pt x="461" y="770"/>
                  </a:lnTo>
                  <a:lnTo>
                    <a:pt x="471" y="767"/>
                  </a:lnTo>
                  <a:lnTo>
                    <a:pt x="486" y="759"/>
                  </a:lnTo>
                  <a:lnTo>
                    <a:pt x="497" y="751"/>
                  </a:lnTo>
                  <a:lnTo>
                    <a:pt x="510" y="740"/>
                  </a:lnTo>
                  <a:lnTo>
                    <a:pt x="521" y="728"/>
                  </a:lnTo>
                  <a:lnTo>
                    <a:pt x="540" y="702"/>
                  </a:lnTo>
                  <a:lnTo>
                    <a:pt x="560" y="674"/>
                  </a:lnTo>
                  <a:lnTo>
                    <a:pt x="576" y="644"/>
                  </a:lnTo>
                  <a:lnTo>
                    <a:pt x="596" y="614"/>
                  </a:lnTo>
                  <a:lnTo>
                    <a:pt x="603" y="602"/>
                  </a:lnTo>
                  <a:lnTo>
                    <a:pt x="614" y="588"/>
                  </a:lnTo>
                  <a:lnTo>
                    <a:pt x="624" y="576"/>
                  </a:lnTo>
                  <a:lnTo>
                    <a:pt x="636" y="565"/>
                  </a:lnTo>
                  <a:lnTo>
                    <a:pt x="639" y="563"/>
                  </a:lnTo>
                  <a:lnTo>
                    <a:pt x="644" y="562"/>
                  </a:lnTo>
                  <a:lnTo>
                    <a:pt x="648" y="560"/>
                  </a:lnTo>
                  <a:lnTo>
                    <a:pt x="654" y="558"/>
                  </a:lnTo>
                  <a:lnTo>
                    <a:pt x="659" y="558"/>
                  </a:lnTo>
                  <a:lnTo>
                    <a:pt x="665" y="558"/>
                  </a:lnTo>
                  <a:lnTo>
                    <a:pt x="669" y="560"/>
                  </a:lnTo>
                  <a:lnTo>
                    <a:pt x="672" y="563"/>
                  </a:lnTo>
                  <a:lnTo>
                    <a:pt x="672" y="579"/>
                  </a:lnTo>
                  <a:lnTo>
                    <a:pt x="671" y="596"/>
                  </a:lnTo>
                  <a:lnTo>
                    <a:pt x="668" y="611"/>
                  </a:lnTo>
                  <a:lnTo>
                    <a:pt x="663" y="628"/>
                  </a:lnTo>
                  <a:lnTo>
                    <a:pt x="656" y="644"/>
                  </a:lnTo>
                  <a:lnTo>
                    <a:pt x="648" y="660"/>
                  </a:lnTo>
                  <a:lnTo>
                    <a:pt x="641" y="675"/>
                  </a:lnTo>
                  <a:lnTo>
                    <a:pt x="632" y="691"/>
                  </a:lnTo>
                  <a:lnTo>
                    <a:pt x="632" y="692"/>
                  </a:lnTo>
                  <a:lnTo>
                    <a:pt x="632" y="694"/>
                  </a:lnTo>
                  <a:lnTo>
                    <a:pt x="632" y="695"/>
                  </a:lnTo>
                  <a:lnTo>
                    <a:pt x="632" y="697"/>
                  </a:lnTo>
                  <a:lnTo>
                    <a:pt x="632" y="698"/>
                  </a:lnTo>
                  <a:lnTo>
                    <a:pt x="638" y="695"/>
                  </a:lnTo>
                  <a:lnTo>
                    <a:pt x="645" y="692"/>
                  </a:lnTo>
                  <a:lnTo>
                    <a:pt x="654" y="686"/>
                  </a:lnTo>
                  <a:lnTo>
                    <a:pt x="665" y="681"/>
                  </a:lnTo>
                  <a:lnTo>
                    <a:pt x="683" y="664"/>
                  </a:lnTo>
                  <a:lnTo>
                    <a:pt x="704" y="646"/>
                  </a:lnTo>
                  <a:lnTo>
                    <a:pt x="723" y="627"/>
                  </a:lnTo>
                  <a:lnTo>
                    <a:pt x="741" y="608"/>
                  </a:lnTo>
                  <a:lnTo>
                    <a:pt x="756" y="591"/>
                  </a:lnTo>
                  <a:lnTo>
                    <a:pt x="768" y="579"/>
                  </a:lnTo>
                  <a:lnTo>
                    <a:pt x="773" y="572"/>
                  </a:lnTo>
                  <a:lnTo>
                    <a:pt x="777" y="566"/>
                  </a:lnTo>
                  <a:lnTo>
                    <a:pt x="780" y="560"/>
                  </a:lnTo>
                  <a:lnTo>
                    <a:pt x="785" y="554"/>
                  </a:lnTo>
                  <a:lnTo>
                    <a:pt x="789" y="548"/>
                  </a:lnTo>
                  <a:lnTo>
                    <a:pt x="794" y="540"/>
                  </a:lnTo>
                  <a:lnTo>
                    <a:pt x="798" y="534"/>
                  </a:lnTo>
                  <a:lnTo>
                    <a:pt x="803" y="529"/>
                  </a:lnTo>
                  <a:lnTo>
                    <a:pt x="806" y="520"/>
                  </a:lnTo>
                  <a:lnTo>
                    <a:pt x="809" y="510"/>
                  </a:lnTo>
                  <a:lnTo>
                    <a:pt x="812" y="503"/>
                  </a:lnTo>
                  <a:lnTo>
                    <a:pt x="815" y="495"/>
                  </a:lnTo>
                  <a:lnTo>
                    <a:pt x="818" y="487"/>
                  </a:lnTo>
                  <a:lnTo>
                    <a:pt x="821" y="479"/>
                  </a:lnTo>
                  <a:lnTo>
                    <a:pt x="825" y="471"/>
                  </a:lnTo>
                  <a:lnTo>
                    <a:pt x="828" y="464"/>
                  </a:lnTo>
                  <a:lnTo>
                    <a:pt x="834" y="443"/>
                  </a:lnTo>
                  <a:lnTo>
                    <a:pt x="839" y="423"/>
                  </a:lnTo>
                  <a:lnTo>
                    <a:pt x="842" y="403"/>
                  </a:lnTo>
                  <a:lnTo>
                    <a:pt x="845" y="384"/>
                  </a:lnTo>
                  <a:lnTo>
                    <a:pt x="846" y="363"/>
                  </a:lnTo>
                  <a:lnTo>
                    <a:pt x="845" y="344"/>
                  </a:lnTo>
                  <a:lnTo>
                    <a:pt x="842" y="324"/>
                  </a:lnTo>
                  <a:lnTo>
                    <a:pt x="836" y="305"/>
                  </a:lnTo>
                  <a:lnTo>
                    <a:pt x="833" y="286"/>
                  </a:lnTo>
                  <a:lnTo>
                    <a:pt x="825" y="271"/>
                  </a:lnTo>
                  <a:lnTo>
                    <a:pt x="818" y="255"/>
                  </a:lnTo>
                  <a:lnTo>
                    <a:pt x="810" y="240"/>
                  </a:lnTo>
                  <a:lnTo>
                    <a:pt x="801" y="226"/>
                  </a:lnTo>
                  <a:lnTo>
                    <a:pt x="792" y="212"/>
                  </a:lnTo>
                  <a:lnTo>
                    <a:pt x="785" y="198"/>
                  </a:lnTo>
                  <a:lnTo>
                    <a:pt x="779" y="184"/>
                  </a:lnTo>
                  <a:lnTo>
                    <a:pt x="759" y="159"/>
                  </a:lnTo>
                  <a:lnTo>
                    <a:pt x="737" y="134"/>
                  </a:lnTo>
                  <a:lnTo>
                    <a:pt x="713" y="114"/>
                  </a:lnTo>
                  <a:lnTo>
                    <a:pt x="689" y="92"/>
                  </a:lnTo>
                  <a:lnTo>
                    <a:pt x="663" y="73"/>
                  </a:lnTo>
                  <a:lnTo>
                    <a:pt x="636" y="56"/>
                  </a:lnTo>
                  <a:lnTo>
                    <a:pt x="608" y="42"/>
                  </a:lnTo>
                  <a:lnTo>
                    <a:pt x="579" y="28"/>
                  </a:lnTo>
                  <a:lnTo>
                    <a:pt x="549" y="17"/>
                  </a:lnTo>
                  <a:lnTo>
                    <a:pt x="521" y="10"/>
                  </a:lnTo>
                  <a:lnTo>
                    <a:pt x="491" y="5"/>
                  </a:lnTo>
                  <a:lnTo>
                    <a:pt x="458" y="2"/>
                  </a:lnTo>
                  <a:lnTo>
                    <a:pt x="428" y="0"/>
                  </a:lnTo>
                  <a:lnTo>
                    <a:pt x="396" y="3"/>
                  </a:lnTo>
                  <a:lnTo>
                    <a:pt x="383" y="7"/>
                  </a:lnTo>
                  <a:lnTo>
                    <a:pt x="366" y="10"/>
                  </a:lnTo>
                  <a:lnTo>
                    <a:pt x="351" y="11"/>
                  </a:lnTo>
                  <a:lnTo>
                    <a:pt x="335" y="17"/>
                  </a:lnTo>
                  <a:lnTo>
                    <a:pt x="317" y="21"/>
                  </a:lnTo>
                  <a:lnTo>
                    <a:pt x="296" y="25"/>
                  </a:lnTo>
                  <a:lnTo>
                    <a:pt x="278" y="31"/>
                  </a:lnTo>
                  <a:lnTo>
                    <a:pt x="260" y="39"/>
                  </a:lnTo>
                  <a:lnTo>
                    <a:pt x="242" y="49"/>
                  </a:lnTo>
                  <a:lnTo>
                    <a:pt x="224" y="56"/>
                  </a:lnTo>
                  <a:lnTo>
                    <a:pt x="206" y="66"/>
                  </a:lnTo>
                  <a:lnTo>
                    <a:pt x="188" y="73"/>
                  </a:lnTo>
                  <a:lnTo>
                    <a:pt x="171" y="86"/>
                  </a:lnTo>
                  <a:lnTo>
                    <a:pt x="156" y="100"/>
                  </a:lnTo>
                  <a:lnTo>
                    <a:pt x="140" y="114"/>
                  </a:lnTo>
                  <a:lnTo>
                    <a:pt x="128" y="126"/>
                  </a:lnTo>
                  <a:lnTo>
                    <a:pt x="114" y="140"/>
                  </a:lnTo>
                  <a:lnTo>
                    <a:pt x="102" y="156"/>
                  </a:lnTo>
                  <a:lnTo>
                    <a:pt x="90" y="170"/>
                  </a:lnTo>
                  <a:lnTo>
                    <a:pt x="78" y="185"/>
                  </a:lnTo>
                  <a:lnTo>
                    <a:pt x="69" y="201"/>
                  </a:lnTo>
                  <a:lnTo>
                    <a:pt x="60" y="218"/>
                  </a:lnTo>
                  <a:lnTo>
                    <a:pt x="51" y="235"/>
                  </a:lnTo>
                  <a:lnTo>
                    <a:pt x="42" y="252"/>
                  </a:lnTo>
                  <a:lnTo>
                    <a:pt x="27" y="291"/>
                  </a:lnTo>
                  <a:lnTo>
                    <a:pt x="14" y="332"/>
                  </a:lnTo>
                  <a:lnTo>
                    <a:pt x="8" y="342"/>
                  </a:lnTo>
                  <a:lnTo>
                    <a:pt x="5" y="353"/>
                  </a:lnTo>
                  <a:lnTo>
                    <a:pt x="2" y="366"/>
                  </a:lnTo>
                  <a:lnTo>
                    <a:pt x="0" y="378"/>
                  </a:lnTo>
                  <a:lnTo>
                    <a:pt x="0" y="405"/>
                  </a:lnTo>
                  <a:lnTo>
                    <a:pt x="2" y="431"/>
                  </a:lnTo>
                  <a:lnTo>
                    <a:pt x="5" y="459"/>
                  </a:lnTo>
                  <a:lnTo>
                    <a:pt x="12" y="485"/>
                  </a:lnTo>
                  <a:lnTo>
                    <a:pt x="20" y="510"/>
                  </a:lnTo>
                  <a:lnTo>
                    <a:pt x="27" y="534"/>
                  </a:lnTo>
                  <a:lnTo>
                    <a:pt x="33" y="546"/>
                  </a:lnTo>
                  <a:lnTo>
                    <a:pt x="42" y="562"/>
                  </a:lnTo>
                  <a:lnTo>
                    <a:pt x="51" y="574"/>
                  </a:lnTo>
                  <a:lnTo>
                    <a:pt x="60" y="590"/>
                  </a:lnTo>
                  <a:lnTo>
                    <a:pt x="69" y="604"/>
                  </a:lnTo>
                  <a:lnTo>
                    <a:pt x="80" y="618"/>
                  </a:lnTo>
                  <a:lnTo>
                    <a:pt x="90" y="630"/>
                  </a:lnTo>
                  <a:lnTo>
                    <a:pt x="102" y="642"/>
                  </a:lnTo>
                  <a:lnTo>
                    <a:pt x="110" y="641"/>
                  </a:lnTo>
                  <a:lnTo>
                    <a:pt x="117" y="641"/>
                  </a:lnTo>
                  <a:lnTo>
                    <a:pt x="125" y="642"/>
                  </a:lnTo>
                  <a:lnTo>
                    <a:pt x="132" y="642"/>
                  </a:lnTo>
                  <a:lnTo>
                    <a:pt x="140" y="644"/>
                  </a:lnTo>
                  <a:lnTo>
                    <a:pt x="146" y="646"/>
                  </a:lnTo>
                  <a:lnTo>
                    <a:pt x="155" y="647"/>
                  </a:lnTo>
                  <a:lnTo>
                    <a:pt x="164" y="650"/>
                  </a:lnTo>
                  <a:lnTo>
                    <a:pt x="173" y="650"/>
                  </a:lnTo>
                  <a:lnTo>
                    <a:pt x="180" y="650"/>
                  </a:lnTo>
                  <a:lnTo>
                    <a:pt x="191" y="649"/>
                  </a:lnTo>
                  <a:lnTo>
                    <a:pt x="200" y="649"/>
                  </a:lnTo>
                  <a:lnTo>
                    <a:pt x="209" y="649"/>
                  </a:lnTo>
                  <a:lnTo>
                    <a:pt x="216" y="649"/>
                  </a:lnTo>
                  <a:lnTo>
                    <a:pt x="227" y="650"/>
                  </a:lnTo>
                  <a:lnTo>
                    <a:pt x="236" y="650"/>
                  </a:lnTo>
                  <a:lnTo>
                    <a:pt x="249" y="655"/>
                  </a:lnTo>
                  <a:lnTo>
                    <a:pt x="261" y="661"/>
                  </a:lnTo>
                  <a:lnTo>
                    <a:pt x="267" y="666"/>
                  </a:lnTo>
                  <a:lnTo>
                    <a:pt x="270" y="669"/>
                  </a:lnTo>
                  <a:lnTo>
                    <a:pt x="275" y="672"/>
                  </a:lnTo>
                  <a:lnTo>
                    <a:pt x="276" y="677"/>
                  </a:lnTo>
                  <a:lnTo>
                    <a:pt x="278" y="681"/>
                  </a:lnTo>
                  <a:lnTo>
                    <a:pt x="278" y="684"/>
                  </a:lnTo>
                  <a:lnTo>
                    <a:pt x="276" y="689"/>
                  </a:lnTo>
                  <a:lnTo>
                    <a:pt x="275" y="694"/>
                  </a:lnTo>
                  <a:lnTo>
                    <a:pt x="270" y="698"/>
                  </a:lnTo>
                  <a:lnTo>
                    <a:pt x="264" y="705"/>
                  </a:lnTo>
                  <a:lnTo>
                    <a:pt x="257" y="709"/>
                  </a:lnTo>
                  <a:lnTo>
                    <a:pt x="248" y="715"/>
                  </a:lnTo>
                  <a:lnTo>
                    <a:pt x="249" y="722"/>
                  </a:lnTo>
                  <a:lnTo>
                    <a:pt x="249" y="726"/>
                  </a:lnTo>
                  <a:lnTo>
                    <a:pt x="251" y="733"/>
                  </a:lnTo>
                  <a:lnTo>
                    <a:pt x="254" y="736"/>
                  </a:lnTo>
                  <a:lnTo>
                    <a:pt x="258" y="739"/>
                  </a:lnTo>
                  <a:lnTo>
                    <a:pt x="263" y="742"/>
                  </a:lnTo>
                  <a:lnTo>
                    <a:pt x="270" y="745"/>
                  </a:lnTo>
                  <a:lnTo>
                    <a:pt x="278" y="750"/>
                  </a:lnTo>
                  <a:lnTo>
                    <a:pt x="302" y="756"/>
                  </a:lnTo>
                  <a:lnTo>
                    <a:pt x="320" y="759"/>
                  </a:lnTo>
                  <a:lnTo>
                    <a:pt x="335" y="764"/>
                  </a:lnTo>
                  <a:lnTo>
                    <a:pt x="347" y="767"/>
                  </a:lnTo>
                  <a:lnTo>
                    <a:pt x="357" y="768"/>
                  </a:lnTo>
                  <a:lnTo>
                    <a:pt x="368" y="771"/>
                  </a:lnTo>
                  <a:lnTo>
                    <a:pt x="378" y="776"/>
                  </a:lnTo>
                  <a:lnTo>
                    <a:pt x="392" y="77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7551360" y="5922720"/>
              <a:ext cx="162000" cy="914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42" h="95">
                  <a:moveTo>
                    <a:pt x="138" y="93"/>
                  </a:moveTo>
                  <a:lnTo>
                    <a:pt x="121" y="87"/>
                  </a:lnTo>
                  <a:lnTo>
                    <a:pt x="102" y="79"/>
                  </a:lnTo>
                  <a:lnTo>
                    <a:pt x="78" y="72"/>
                  </a:lnTo>
                  <a:lnTo>
                    <a:pt x="55" y="64"/>
                  </a:lnTo>
                  <a:lnTo>
                    <a:pt x="45" y="59"/>
                  </a:lnTo>
                  <a:lnTo>
                    <a:pt x="34" y="53"/>
                  </a:lnTo>
                  <a:lnTo>
                    <a:pt x="25" y="48"/>
                  </a:lnTo>
                  <a:lnTo>
                    <a:pt x="16" y="41"/>
                  </a:lnTo>
                  <a:lnTo>
                    <a:pt x="9" y="34"/>
                  </a:lnTo>
                  <a:lnTo>
                    <a:pt x="4" y="28"/>
                  </a:lnTo>
                  <a:lnTo>
                    <a:pt x="1" y="2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27" y="0"/>
                  </a:lnTo>
                  <a:lnTo>
                    <a:pt x="40" y="3"/>
                  </a:lnTo>
                  <a:lnTo>
                    <a:pt x="54" y="8"/>
                  </a:lnTo>
                  <a:lnTo>
                    <a:pt x="66" y="14"/>
                  </a:lnTo>
                  <a:lnTo>
                    <a:pt x="76" y="22"/>
                  </a:lnTo>
                  <a:lnTo>
                    <a:pt x="87" y="31"/>
                  </a:lnTo>
                  <a:lnTo>
                    <a:pt x="99" y="44"/>
                  </a:lnTo>
                  <a:lnTo>
                    <a:pt x="109" y="58"/>
                  </a:lnTo>
                  <a:lnTo>
                    <a:pt x="112" y="59"/>
                  </a:lnTo>
                  <a:lnTo>
                    <a:pt x="115" y="59"/>
                  </a:lnTo>
                  <a:lnTo>
                    <a:pt x="118" y="59"/>
                  </a:lnTo>
                  <a:lnTo>
                    <a:pt x="121" y="61"/>
                  </a:lnTo>
                  <a:lnTo>
                    <a:pt x="124" y="61"/>
                  </a:lnTo>
                  <a:lnTo>
                    <a:pt x="127" y="61"/>
                  </a:lnTo>
                  <a:lnTo>
                    <a:pt x="130" y="62"/>
                  </a:lnTo>
                  <a:lnTo>
                    <a:pt x="133" y="62"/>
                  </a:lnTo>
                  <a:lnTo>
                    <a:pt x="135" y="67"/>
                  </a:lnTo>
                  <a:lnTo>
                    <a:pt x="136" y="69"/>
                  </a:lnTo>
                  <a:lnTo>
                    <a:pt x="138" y="73"/>
                  </a:lnTo>
                  <a:lnTo>
                    <a:pt x="139" y="76"/>
                  </a:lnTo>
                  <a:lnTo>
                    <a:pt x="141" y="81"/>
                  </a:lnTo>
                  <a:lnTo>
                    <a:pt x="141" y="86"/>
                  </a:lnTo>
                  <a:lnTo>
                    <a:pt x="142" y="90"/>
                  </a:lnTo>
                  <a:lnTo>
                    <a:pt x="142" y="95"/>
                  </a:lnTo>
                  <a:lnTo>
                    <a:pt x="141" y="95"/>
                  </a:lnTo>
                  <a:lnTo>
                    <a:pt x="141" y="93"/>
                  </a:lnTo>
                  <a:lnTo>
                    <a:pt x="139" y="93"/>
                  </a:lnTo>
                  <a:lnTo>
                    <a:pt x="138" y="9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7362720" y="5702400"/>
              <a:ext cx="150480" cy="2851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135" h="300">
                  <a:moveTo>
                    <a:pt x="104" y="300"/>
                  </a:moveTo>
                  <a:lnTo>
                    <a:pt x="93" y="298"/>
                  </a:lnTo>
                  <a:lnTo>
                    <a:pt x="78" y="295"/>
                  </a:lnTo>
                  <a:lnTo>
                    <a:pt x="65" y="292"/>
                  </a:lnTo>
                  <a:lnTo>
                    <a:pt x="48" y="288"/>
                  </a:lnTo>
                  <a:lnTo>
                    <a:pt x="32" y="283"/>
                  </a:lnTo>
                  <a:lnTo>
                    <a:pt x="18" y="277"/>
                  </a:lnTo>
                  <a:lnTo>
                    <a:pt x="12" y="272"/>
                  </a:lnTo>
                  <a:lnTo>
                    <a:pt x="8" y="269"/>
                  </a:lnTo>
                  <a:lnTo>
                    <a:pt x="3" y="264"/>
                  </a:lnTo>
                  <a:lnTo>
                    <a:pt x="0" y="261"/>
                  </a:lnTo>
                  <a:lnTo>
                    <a:pt x="0" y="250"/>
                  </a:lnTo>
                  <a:lnTo>
                    <a:pt x="2" y="239"/>
                  </a:lnTo>
                  <a:lnTo>
                    <a:pt x="3" y="230"/>
                  </a:lnTo>
                  <a:lnTo>
                    <a:pt x="6" y="222"/>
                  </a:lnTo>
                  <a:lnTo>
                    <a:pt x="9" y="213"/>
                  </a:lnTo>
                  <a:lnTo>
                    <a:pt x="12" y="202"/>
                  </a:lnTo>
                  <a:lnTo>
                    <a:pt x="15" y="193"/>
                  </a:lnTo>
                  <a:lnTo>
                    <a:pt x="18" y="185"/>
                  </a:lnTo>
                  <a:lnTo>
                    <a:pt x="21" y="160"/>
                  </a:lnTo>
                  <a:lnTo>
                    <a:pt x="26" y="137"/>
                  </a:lnTo>
                  <a:lnTo>
                    <a:pt x="30" y="115"/>
                  </a:lnTo>
                  <a:lnTo>
                    <a:pt x="35" y="90"/>
                  </a:lnTo>
                  <a:lnTo>
                    <a:pt x="39" y="67"/>
                  </a:lnTo>
                  <a:lnTo>
                    <a:pt x="45" y="44"/>
                  </a:lnTo>
                  <a:lnTo>
                    <a:pt x="51" y="22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3" y="11"/>
                  </a:lnTo>
                  <a:lnTo>
                    <a:pt x="63" y="19"/>
                  </a:lnTo>
                  <a:lnTo>
                    <a:pt x="65" y="28"/>
                  </a:lnTo>
                  <a:lnTo>
                    <a:pt x="65" y="37"/>
                  </a:lnTo>
                  <a:lnTo>
                    <a:pt x="66" y="44"/>
                  </a:lnTo>
                  <a:lnTo>
                    <a:pt x="66" y="53"/>
                  </a:lnTo>
                  <a:lnTo>
                    <a:pt x="69" y="62"/>
                  </a:lnTo>
                  <a:lnTo>
                    <a:pt x="71" y="73"/>
                  </a:lnTo>
                  <a:lnTo>
                    <a:pt x="71" y="79"/>
                  </a:lnTo>
                  <a:lnTo>
                    <a:pt x="71" y="86"/>
                  </a:lnTo>
                  <a:lnTo>
                    <a:pt x="69" y="95"/>
                  </a:lnTo>
                  <a:lnTo>
                    <a:pt x="68" y="107"/>
                  </a:lnTo>
                  <a:lnTo>
                    <a:pt x="66" y="123"/>
                  </a:lnTo>
                  <a:lnTo>
                    <a:pt x="63" y="148"/>
                  </a:lnTo>
                  <a:lnTo>
                    <a:pt x="59" y="179"/>
                  </a:lnTo>
                  <a:lnTo>
                    <a:pt x="53" y="222"/>
                  </a:lnTo>
                  <a:lnTo>
                    <a:pt x="57" y="227"/>
                  </a:lnTo>
                  <a:lnTo>
                    <a:pt x="66" y="235"/>
                  </a:lnTo>
                  <a:lnTo>
                    <a:pt x="75" y="241"/>
                  </a:lnTo>
                  <a:lnTo>
                    <a:pt x="89" y="247"/>
                  </a:lnTo>
                  <a:lnTo>
                    <a:pt x="102" y="255"/>
                  </a:lnTo>
                  <a:lnTo>
                    <a:pt x="114" y="261"/>
                  </a:lnTo>
                  <a:lnTo>
                    <a:pt x="126" y="267"/>
                  </a:lnTo>
                  <a:lnTo>
                    <a:pt x="135" y="277"/>
                  </a:lnTo>
                  <a:lnTo>
                    <a:pt x="134" y="281"/>
                  </a:lnTo>
                  <a:lnTo>
                    <a:pt x="131" y="286"/>
                  </a:lnTo>
                  <a:lnTo>
                    <a:pt x="128" y="291"/>
                  </a:lnTo>
                  <a:lnTo>
                    <a:pt x="123" y="294"/>
                  </a:lnTo>
                  <a:lnTo>
                    <a:pt x="117" y="297"/>
                  </a:lnTo>
                  <a:lnTo>
                    <a:pt x="113" y="298"/>
                  </a:lnTo>
                  <a:lnTo>
                    <a:pt x="108" y="300"/>
                  </a:lnTo>
                  <a:lnTo>
                    <a:pt x="104" y="30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7641360" y="5932800"/>
              <a:ext cx="100800" cy="417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90" h="43">
                  <a:moveTo>
                    <a:pt x="60" y="43"/>
                  </a:moveTo>
                  <a:lnTo>
                    <a:pt x="65" y="43"/>
                  </a:lnTo>
                  <a:lnTo>
                    <a:pt x="68" y="42"/>
                  </a:lnTo>
                  <a:lnTo>
                    <a:pt x="71" y="42"/>
                  </a:lnTo>
                  <a:lnTo>
                    <a:pt x="74" y="40"/>
                  </a:lnTo>
                  <a:lnTo>
                    <a:pt x="77" y="37"/>
                  </a:lnTo>
                  <a:lnTo>
                    <a:pt x="81" y="34"/>
                  </a:lnTo>
                  <a:lnTo>
                    <a:pt x="84" y="31"/>
                  </a:lnTo>
                  <a:lnTo>
                    <a:pt x="90" y="26"/>
                  </a:lnTo>
                  <a:lnTo>
                    <a:pt x="87" y="21"/>
                  </a:lnTo>
                  <a:lnTo>
                    <a:pt x="84" y="15"/>
                  </a:lnTo>
                  <a:lnTo>
                    <a:pt x="80" y="10"/>
                  </a:lnTo>
                  <a:lnTo>
                    <a:pt x="75" y="7"/>
                  </a:lnTo>
                  <a:lnTo>
                    <a:pt x="63" y="3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8" y="10"/>
                  </a:lnTo>
                  <a:lnTo>
                    <a:pt x="15" y="17"/>
                  </a:lnTo>
                  <a:lnTo>
                    <a:pt x="20" y="21"/>
                  </a:lnTo>
                  <a:lnTo>
                    <a:pt x="26" y="28"/>
                  </a:lnTo>
                  <a:lnTo>
                    <a:pt x="32" y="34"/>
                  </a:lnTo>
                  <a:lnTo>
                    <a:pt x="39" y="37"/>
                  </a:lnTo>
                  <a:lnTo>
                    <a:pt x="48" y="42"/>
                  </a:lnTo>
                  <a:lnTo>
                    <a:pt x="60" y="4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7686360" y="5548320"/>
              <a:ext cx="303120" cy="3650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70" h="384">
                  <a:moveTo>
                    <a:pt x="34" y="384"/>
                  </a:moveTo>
                  <a:lnTo>
                    <a:pt x="45" y="384"/>
                  </a:lnTo>
                  <a:lnTo>
                    <a:pt x="55" y="383"/>
                  </a:lnTo>
                  <a:lnTo>
                    <a:pt x="64" y="380"/>
                  </a:lnTo>
                  <a:lnTo>
                    <a:pt x="72" y="377"/>
                  </a:lnTo>
                  <a:lnTo>
                    <a:pt x="81" y="373"/>
                  </a:lnTo>
                  <a:lnTo>
                    <a:pt x="88" y="367"/>
                  </a:lnTo>
                  <a:lnTo>
                    <a:pt x="96" y="363"/>
                  </a:lnTo>
                  <a:lnTo>
                    <a:pt x="102" y="356"/>
                  </a:lnTo>
                  <a:lnTo>
                    <a:pt x="114" y="344"/>
                  </a:lnTo>
                  <a:lnTo>
                    <a:pt x="126" y="327"/>
                  </a:lnTo>
                  <a:lnTo>
                    <a:pt x="136" y="311"/>
                  </a:lnTo>
                  <a:lnTo>
                    <a:pt x="148" y="294"/>
                  </a:lnTo>
                  <a:lnTo>
                    <a:pt x="165" y="266"/>
                  </a:lnTo>
                  <a:lnTo>
                    <a:pt x="177" y="237"/>
                  </a:lnTo>
                  <a:lnTo>
                    <a:pt x="190" y="206"/>
                  </a:lnTo>
                  <a:lnTo>
                    <a:pt x="202" y="176"/>
                  </a:lnTo>
                  <a:lnTo>
                    <a:pt x="213" y="145"/>
                  </a:lnTo>
                  <a:lnTo>
                    <a:pt x="223" y="114"/>
                  </a:lnTo>
                  <a:lnTo>
                    <a:pt x="232" y="84"/>
                  </a:lnTo>
                  <a:lnTo>
                    <a:pt x="240" y="55"/>
                  </a:lnTo>
                  <a:lnTo>
                    <a:pt x="241" y="55"/>
                  </a:lnTo>
                  <a:lnTo>
                    <a:pt x="241" y="53"/>
                  </a:lnTo>
                  <a:lnTo>
                    <a:pt x="243" y="53"/>
                  </a:lnTo>
                  <a:lnTo>
                    <a:pt x="243" y="52"/>
                  </a:lnTo>
                  <a:lnTo>
                    <a:pt x="244" y="52"/>
                  </a:lnTo>
                  <a:lnTo>
                    <a:pt x="246" y="52"/>
                  </a:lnTo>
                  <a:lnTo>
                    <a:pt x="249" y="50"/>
                  </a:lnTo>
                  <a:lnTo>
                    <a:pt x="250" y="55"/>
                  </a:lnTo>
                  <a:lnTo>
                    <a:pt x="250" y="58"/>
                  </a:lnTo>
                  <a:lnTo>
                    <a:pt x="252" y="61"/>
                  </a:lnTo>
                  <a:lnTo>
                    <a:pt x="253" y="66"/>
                  </a:lnTo>
                  <a:lnTo>
                    <a:pt x="255" y="70"/>
                  </a:lnTo>
                  <a:lnTo>
                    <a:pt x="255" y="75"/>
                  </a:lnTo>
                  <a:lnTo>
                    <a:pt x="256" y="81"/>
                  </a:lnTo>
                  <a:lnTo>
                    <a:pt x="256" y="86"/>
                  </a:lnTo>
                  <a:lnTo>
                    <a:pt x="258" y="87"/>
                  </a:lnTo>
                  <a:lnTo>
                    <a:pt x="259" y="87"/>
                  </a:lnTo>
                  <a:lnTo>
                    <a:pt x="261" y="87"/>
                  </a:lnTo>
                  <a:lnTo>
                    <a:pt x="264" y="87"/>
                  </a:lnTo>
                  <a:lnTo>
                    <a:pt x="265" y="87"/>
                  </a:lnTo>
                  <a:lnTo>
                    <a:pt x="268" y="87"/>
                  </a:lnTo>
                  <a:lnTo>
                    <a:pt x="270" y="87"/>
                  </a:lnTo>
                  <a:lnTo>
                    <a:pt x="270" y="86"/>
                  </a:lnTo>
                  <a:lnTo>
                    <a:pt x="265" y="75"/>
                  </a:lnTo>
                  <a:lnTo>
                    <a:pt x="262" y="64"/>
                  </a:lnTo>
                  <a:lnTo>
                    <a:pt x="259" y="53"/>
                  </a:lnTo>
                  <a:lnTo>
                    <a:pt x="256" y="41"/>
                  </a:lnTo>
                  <a:lnTo>
                    <a:pt x="253" y="28"/>
                  </a:lnTo>
                  <a:lnTo>
                    <a:pt x="250" y="17"/>
                  </a:lnTo>
                  <a:lnTo>
                    <a:pt x="246" y="10"/>
                  </a:lnTo>
                  <a:lnTo>
                    <a:pt x="241" y="0"/>
                  </a:lnTo>
                  <a:lnTo>
                    <a:pt x="240" y="0"/>
                  </a:lnTo>
                  <a:lnTo>
                    <a:pt x="238" y="2"/>
                  </a:lnTo>
                  <a:lnTo>
                    <a:pt x="237" y="2"/>
                  </a:lnTo>
                  <a:lnTo>
                    <a:pt x="235" y="3"/>
                  </a:lnTo>
                  <a:lnTo>
                    <a:pt x="235" y="7"/>
                  </a:lnTo>
                  <a:lnTo>
                    <a:pt x="235" y="8"/>
                  </a:lnTo>
                  <a:lnTo>
                    <a:pt x="237" y="11"/>
                  </a:lnTo>
                  <a:lnTo>
                    <a:pt x="237" y="14"/>
                  </a:lnTo>
                  <a:lnTo>
                    <a:pt x="237" y="16"/>
                  </a:lnTo>
                  <a:lnTo>
                    <a:pt x="237" y="19"/>
                  </a:lnTo>
                  <a:lnTo>
                    <a:pt x="237" y="22"/>
                  </a:lnTo>
                  <a:lnTo>
                    <a:pt x="237" y="27"/>
                  </a:lnTo>
                  <a:lnTo>
                    <a:pt x="234" y="39"/>
                  </a:lnTo>
                  <a:lnTo>
                    <a:pt x="228" y="50"/>
                  </a:lnTo>
                  <a:lnTo>
                    <a:pt x="220" y="61"/>
                  </a:lnTo>
                  <a:lnTo>
                    <a:pt x="213" y="72"/>
                  </a:lnTo>
                  <a:lnTo>
                    <a:pt x="204" y="83"/>
                  </a:lnTo>
                  <a:lnTo>
                    <a:pt x="196" y="92"/>
                  </a:lnTo>
                  <a:lnTo>
                    <a:pt x="186" y="100"/>
                  </a:lnTo>
                  <a:lnTo>
                    <a:pt x="175" y="109"/>
                  </a:lnTo>
                  <a:lnTo>
                    <a:pt x="166" y="117"/>
                  </a:lnTo>
                  <a:lnTo>
                    <a:pt x="156" y="125"/>
                  </a:lnTo>
                  <a:lnTo>
                    <a:pt x="144" y="129"/>
                  </a:lnTo>
                  <a:lnTo>
                    <a:pt x="132" y="136"/>
                  </a:lnTo>
                  <a:lnTo>
                    <a:pt x="121" y="140"/>
                  </a:lnTo>
                  <a:lnTo>
                    <a:pt x="109" y="143"/>
                  </a:lnTo>
                  <a:lnTo>
                    <a:pt x="96" y="146"/>
                  </a:lnTo>
                  <a:lnTo>
                    <a:pt x="85" y="148"/>
                  </a:lnTo>
                  <a:lnTo>
                    <a:pt x="72" y="148"/>
                  </a:lnTo>
                  <a:lnTo>
                    <a:pt x="60" y="145"/>
                  </a:lnTo>
                  <a:lnTo>
                    <a:pt x="49" y="142"/>
                  </a:lnTo>
                  <a:lnTo>
                    <a:pt x="37" y="137"/>
                  </a:lnTo>
                  <a:lnTo>
                    <a:pt x="28" y="129"/>
                  </a:lnTo>
                  <a:lnTo>
                    <a:pt x="21" y="123"/>
                  </a:lnTo>
                  <a:lnTo>
                    <a:pt x="13" y="114"/>
                  </a:lnTo>
                  <a:lnTo>
                    <a:pt x="9" y="103"/>
                  </a:lnTo>
                  <a:lnTo>
                    <a:pt x="4" y="103"/>
                  </a:lnTo>
                  <a:lnTo>
                    <a:pt x="1" y="104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7" y="125"/>
                  </a:lnTo>
                  <a:lnTo>
                    <a:pt x="13" y="129"/>
                  </a:lnTo>
                  <a:lnTo>
                    <a:pt x="19" y="136"/>
                  </a:lnTo>
                  <a:lnTo>
                    <a:pt x="25" y="140"/>
                  </a:lnTo>
                  <a:lnTo>
                    <a:pt x="31" y="157"/>
                  </a:lnTo>
                  <a:lnTo>
                    <a:pt x="36" y="173"/>
                  </a:lnTo>
                  <a:lnTo>
                    <a:pt x="40" y="190"/>
                  </a:lnTo>
                  <a:lnTo>
                    <a:pt x="43" y="207"/>
                  </a:lnTo>
                  <a:lnTo>
                    <a:pt x="45" y="227"/>
                  </a:lnTo>
                  <a:lnTo>
                    <a:pt x="46" y="244"/>
                  </a:lnTo>
                  <a:lnTo>
                    <a:pt x="46" y="263"/>
                  </a:lnTo>
                  <a:lnTo>
                    <a:pt x="45" y="282"/>
                  </a:lnTo>
                  <a:lnTo>
                    <a:pt x="36" y="293"/>
                  </a:lnTo>
                  <a:lnTo>
                    <a:pt x="25" y="308"/>
                  </a:lnTo>
                  <a:lnTo>
                    <a:pt x="18" y="322"/>
                  </a:lnTo>
                  <a:lnTo>
                    <a:pt x="10" y="338"/>
                  </a:lnTo>
                  <a:lnTo>
                    <a:pt x="7" y="347"/>
                  </a:lnTo>
                  <a:lnTo>
                    <a:pt x="6" y="353"/>
                  </a:lnTo>
                  <a:lnTo>
                    <a:pt x="7" y="359"/>
                  </a:lnTo>
                  <a:lnTo>
                    <a:pt x="9" y="367"/>
                  </a:lnTo>
                  <a:lnTo>
                    <a:pt x="12" y="373"/>
                  </a:lnTo>
                  <a:lnTo>
                    <a:pt x="18" y="378"/>
                  </a:lnTo>
                  <a:lnTo>
                    <a:pt x="25" y="383"/>
                  </a:lnTo>
                  <a:lnTo>
                    <a:pt x="34" y="38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8162640" y="5736240"/>
              <a:ext cx="141480" cy="896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6" h="94">
                  <a:moveTo>
                    <a:pt x="82" y="94"/>
                  </a:moveTo>
                  <a:lnTo>
                    <a:pt x="82" y="87"/>
                  </a:lnTo>
                  <a:lnTo>
                    <a:pt x="82" y="83"/>
                  </a:lnTo>
                  <a:lnTo>
                    <a:pt x="84" y="80"/>
                  </a:lnTo>
                  <a:lnTo>
                    <a:pt x="85" y="75"/>
                  </a:lnTo>
                  <a:lnTo>
                    <a:pt x="87" y="72"/>
                  </a:lnTo>
                  <a:lnTo>
                    <a:pt x="90" y="67"/>
                  </a:lnTo>
                  <a:lnTo>
                    <a:pt x="90" y="64"/>
                  </a:lnTo>
                  <a:lnTo>
                    <a:pt x="91" y="59"/>
                  </a:lnTo>
                  <a:lnTo>
                    <a:pt x="85" y="61"/>
                  </a:lnTo>
                  <a:lnTo>
                    <a:pt x="78" y="63"/>
                  </a:lnTo>
                  <a:lnTo>
                    <a:pt x="70" y="66"/>
                  </a:lnTo>
                  <a:lnTo>
                    <a:pt x="63" y="67"/>
                  </a:lnTo>
                  <a:lnTo>
                    <a:pt x="57" y="69"/>
                  </a:lnTo>
                  <a:lnTo>
                    <a:pt x="49" y="70"/>
                  </a:lnTo>
                  <a:lnTo>
                    <a:pt x="43" y="70"/>
                  </a:lnTo>
                  <a:lnTo>
                    <a:pt x="37" y="69"/>
                  </a:lnTo>
                  <a:lnTo>
                    <a:pt x="37" y="67"/>
                  </a:lnTo>
                  <a:lnTo>
                    <a:pt x="37" y="66"/>
                  </a:lnTo>
                  <a:lnTo>
                    <a:pt x="37" y="64"/>
                  </a:lnTo>
                  <a:lnTo>
                    <a:pt x="48" y="58"/>
                  </a:lnTo>
                  <a:lnTo>
                    <a:pt x="57" y="50"/>
                  </a:lnTo>
                  <a:lnTo>
                    <a:pt x="64" y="44"/>
                  </a:lnTo>
                  <a:lnTo>
                    <a:pt x="75" y="38"/>
                  </a:lnTo>
                  <a:lnTo>
                    <a:pt x="85" y="31"/>
                  </a:lnTo>
                  <a:lnTo>
                    <a:pt x="96" y="25"/>
                  </a:lnTo>
                  <a:lnTo>
                    <a:pt x="103" y="17"/>
                  </a:lnTo>
                  <a:lnTo>
                    <a:pt x="114" y="11"/>
                  </a:lnTo>
                  <a:lnTo>
                    <a:pt x="114" y="10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5" y="7"/>
                  </a:lnTo>
                  <a:lnTo>
                    <a:pt x="102" y="8"/>
                  </a:lnTo>
                  <a:lnTo>
                    <a:pt x="90" y="11"/>
                  </a:lnTo>
                  <a:lnTo>
                    <a:pt x="76" y="16"/>
                  </a:lnTo>
                  <a:lnTo>
                    <a:pt x="64" y="21"/>
                  </a:lnTo>
                  <a:lnTo>
                    <a:pt x="52" y="27"/>
                  </a:lnTo>
                  <a:lnTo>
                    <a:pt x="40" y="33"/>
                  </a:lnTo>
                  <a:lnTo>
                    <a:pt x="28" y="41"/>
                  </a:lnTo>
                  <a:lnTo>
                    <a:pt x="19" y="45"/>
                  </a:lnTo>
                  <a:lnTo>
                    <a:pt x="16" y="45"/>
                  </a:lnTo>
                  <a:lnTo>
                    <a:pt x="13" y="47"/>
                  </a:lnTo>
                  <a:lnTo>
                    <a:pt x="10" y="47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9" y="39"/>
                  </a:lnTo>
                  <a:lnTo>
                    <a:pt x="9" y="42"/>
                  </a:lnTo>
                  <a:lnTo>
                    <a:pt x="21" y="38"/>
                  </a:lnTo>
                  <a:lnTo>
                    <a:pt x="34" y="31"/>
                  </a:lnTo>
                  <a:lnTo>
                    <a:pt x="51" y="22"/>
                  </a:lnTo>
                  <a:lnTo>
                    <a:pt x="67" y="13"/>
                  </a:lnTo>
                  <a:lnTo>
                    <a:pt x="85" y="5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3"/>
                  </a:lnTo>
                  <a:lnTo>
                    <a:pt x="126" y="5"/>
                  </a:lnTo>
                  <a:lnTo>
                    <a:pt x="126" y="7"/>
                  </a:lnTo>
                  <a:lnTo>
                    <a:pt x="126" y="8"/>
                  </a:lnTo>
                  <a:lnTo>
                    <a:pt x="126" y="10"/>
                  </a:lnTo>
                  <a:lnTo>
                    <a:pt x="126" y="11"/>
                  </a:lnTo>
                  <a:lnTo>
                    <a:pt x="124" y="13"/>
                  </a:lnTo>
                  <a:lnTo>
                    <a:pt x="115" y="19"/>
                  </a:lnTo>
                  <a:lnTo>
                    <a:pt x="106" y="24"/>
                  </a:lnTo>
                  <a:lnTo>
                    <a:pt x="99" y="30"/>
                  </a:lnTo>
                  <a:lnTo>
                    <a:pt x="88" y="36"/>
                  </a:lnTo>
                  <a:lnTo>
                    <a:pt x="79" y="42"/>
                  </a:lnTo>
                  <a:lnTo>
                    <a:pt x="70" y="47"/>
                  </a:lnTo>
                  <a:lnTo>
                    <a:pt x="63" y="53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3"/>
                  </a:lnTo>
                  <a:lnTo>
                    <a:pt x="52" y="64"/>
                  </a:lnTo>
                  <a:lnTo>
                    <a:pt x="58" y="63"/>
                  </a:lnTo>
                  <a:lnTo>
                    <a:pt x="64" y="59"/>
                  </a:lnTo>
                  <a:lnTo>
                    <a:pt x="70" y="58"/>
                  </a:lnTo>
                  <a:lnTo>
                    <a:pt x="78" y="56"/>
                  </a:lnTo>
                  <a:lnTo>
                    <a:pt x="84" y="55"/>
                  </a:lnTo>
                  <a:lnTo>
                    <a:pt x="91" y="53"/>
                  </a:lnTo>
                  <a:lnTo>
                    <a:pt x="99" y="53"/>
                  </a:lnTo>
                  <a:lnTo>
                    <a:pt x="105" y="53"/>
                  </a:lnTo>
                  <a:lnTo>
                    <a:pt x="105" y="56"/>
                  </a:lnTo>
                  <a:lnTo>
                    <a:pt x="102" y="61"/>
                  </a:lnTo>
                  <a:lnTo>
                    <a:pt x="99" y="69"/>
                  </a:lnTo>
                  <a:lnTo>
                    <a:pt x="94" y="76"/>
                  </a:lnTo>
                  <a:lnTo>
                    <a:pt x="90" y="81"/>
                  </a:lnTo>
                  <a:lnTo>
                    <a:pt x="87" y="87"/>
                  </a:lnTo>
                  <a:lnTo>
                    <a:pt x="84" y="92"/>
                  </a:lnTo>
                  <a:lnTo>
                    <a:pt x="82" y="9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6" name="Freeform 23"/>
            <p:cNvSpPr/>
            <p:nvPr/>
          </p:nvSpPr>
          <p:spPr>
            <a:xfrm>
              <a:off x="8086320" y="5561640"/>
              <a:ext cx="219960" cy="1994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195" h="210">
                  <a:moveTo>
                    <a:pt x="35" y="210"/>
                  </a:moveTo>
                  <a:lnTo>
                    <a:pt x="33" y="210"/>
                  </a:lnTo>
                  <a:lnTo>
                    <a:pt x="33" y="209"/>
                  </a:lnTo>
                  <a:lnTo>
                    <a:pt x="33" y="207"/>
                  </a:lnTo>
                  <a:lnTo>
                    <a:pt x="33" y="206"/>
                  </a:lnTo>
                  <a:lnTo>
                    <a:pt x="32" y="204"/>
                  </a:lnTo>
                  <a:lnTo>
                    <a:pt x="56" y="185"/>
                  </a:lnTo>
                  <a:lnTo>
                    <a:pt x="71" y="171"/>
                  </a:lnTo>
                  <a:lnTo>
                    <a:pt x="84" y="160"/>
                  </a:lnTo>
                  <a:lnTo>
                    <a:pt x="95" y="153"/>
                  </a:lnTo>
                  <a:lnTo>
                    <a:pt x="101" y="148"/>
                  </a:lnTo>
                  <a:lnTo>
                    <a:pt x="105" y="143"/>
                  </a:lnTo>
                  <a:lnTo>
                    <a:pt x="107" y="140"/>
                  </a:lnTo>
                  <a:lnTo>
                    <a:pt x="108" y="139"/>
                  </a:lnTo>
                  <a:lnTo>
                    <a:pt x="114" y="136"/>
                  </a:lnTo>
                  <a:lnTo>
                    <a:pt x="123" y="128"/>
                  </a:lnTo>
                  <a:lnTo>
                    <a:pt x="132" y="120"/>
                  </a:lnTo>
                  <a:lnTo>
                    <a:pt x="144" y="112"/>
                  </a:lnTo>
                  <a:lnTo>
                    <a:pt x="155" y="101"/>
                  </a:lnTo>
                  <a:lnTo>
                    <a:pt x="165" y="92"/>
                  </a:lnTo>
                  <a:lnTo>
                    <a:pt x="171" y="84"/>
                  </a:lnTo>
                  <a:lnTo>
                    <a:pt x="174" y="78"/>
                  </a:lnTo>
                  <a:lnTo>
                    <a:pt x="155" y="84"/>
                  </a:lnTo>
                  <a:lnTo>
                    <a:pt x="135" y="92"/>
                  </a:lnTo>
                  <a:lnTo>
                    <a:pt x="117" y="101"/>
                  </a:lnTo>
                  <a:lnTo>
                    <a:pt x="99" y="112"/>
                  </a:lnTo>
                  <a:lnTo>
                    <a:pt x="83" y="122"/>
                  </a:lnTo>
                  <a:lnTo>
                    <a:pt x="65" y="132"/>
                  </a:lnTo>
                  <a:lnTo>
                    <a:pt x="48" y="145"/>
                  </a:lnTo>
                  <a:lnTo>
                    <a:pt x="30" y="156"/>
                  </a:lnTo>
                  <a:lnTo>
                    <a:pt x="26" y="159"/>
                  </a:lnTo>
                  <a:lnTo>
                    <a:pt x="24" y="162"/>
                  </a:lnTo>
                  <a:lnTo>
                    <a:pt x="20" y="164"/>
                  </a:lnTo>
                  <a:lnTo>
                    <a:pt x="15" y="165"/>
                  </a:lnTo>
                  <a:lnTo>
                    <a:pt x="12" y="167"/>
                  </a:lnTo>
                  <a:lnTo>
                    <a:pt x="8" y="167"/>
                  </a:lnTo>
                  <a:lnTo>
                    <a:pt x="3" y="167"/>
                  </a:lnTo>
                  <a:lnTo>
                    <a:pt x="0" y="167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8" y="154"/>
                  </a:lnTo>
                  <a:lnTo>
                    <a:pt x="17" y="146"/>
                  </a:lnTo>
                  <a:lnTo>
                    <a:pt x="24" y="139"/>
                  </a:lnTo>
                  <a:lnTo>
                    <a:pt x="33" y="131"/>
                  </a:lnTo>
                  <a:lnTo>
                    <a:pt x="42" y="123"/>
                  </a:lnTo>
                  <a:lnTo>
                    <a:pt x="51" y="115"/>
                  </a:lnTo>
                  <a:lnTo>
                    <a:pt x="60" y="109"/>
                  </a:lnTo>
                  <a:lnTo>
                    <a:pt x="69" y="103"/>
                  </a:lnTo>
                  <a:lnTo>
                    <a:pt x="78" y="90"/>
                  </a:lnTo>
                  <a:lnTo>
                    <a:pt x="90" y="80"/>
                  </a:lnTo>
                  <a:lnTo>
                    <a:pt x="102" y="70"/>
                  </a:lnTo>
                  <a:lnTo>
                    <a:pt x="117" y="58"/>
                  </a:lnTo>
                  <a:lnTo>
                    <a:pt x="131" y="47"/>
                  </a:lnTo>
                  <a:lnTo>
                    <a:pt x="144" y="38"/>
                  </a:lnTo>
                  <a:lnTo>
                    <a:pt x="155" y="27"/>
                  </a:lnTo>
                  <a:lnTo>
                    <a:pt x="161" y="17"/>
                  </a:lnTo>
                  <a:lnTo>
                    <a:pt x="161" y="16"/>
                  </a:lnTo>
                  <a:lnTo>
                    <a:pt x="159" y="16"/>
                  </a:lnTo>
                  <a:lnTo>
                    <a:pt x="159" y="14"/>
                  </a:lnTo>
                  <a:lnTo>
                    <a:pt x="156" y="16"/>
                  </a:lnTo>
                  <a:lnTo>
                    <a:pt x="153" y="17"/>
                  </a:lnTo>
                  <a:lnTo>
                    <a:pt x="149" y="19"/>
                  </a:lnTo>
                  <a:lnTo>
                    <a:pt x="146" y="21"/>
                  </a:lnTo>
                  <a:lnTo>
                    <a:pt x="143" y="22"/>
                  </a:lnTo>
                  <a:lnTo>
                    <a:pt x="140" y="24"/>
                  </a:lnTo>
                  <a:lnTo>
                    <a:pt x="137" y="24"/>
                  </a:lnTo>
                  <a:lnTo>
                    <a:pt x="134" y="24"/>
                  </a:lnTo>
                  <a:lnTo>
                    <a:pt x="140" y="19"/>
                  </a:lnTo>
                  <a:lnTo>
                    <a:pt x="146" y="16"/>
                  </a:lnTo>
                  <a:lnTo>
                    <a:pt x="150" y="13"/>
                  </a:lnTo>
                  <a:lnTo>
                    <a:pt x="156" y="8"/>
                  </a:lnTo>
                  <a:lnTo>
                    <a:pt x="162" y="5"/>
                  </a:lnTo>
                  <a:lnTo>
                    <a:pt x="167" y="3"/>
                  </a:lnTo>
                  <a:lnTo>
                    <a:pt x="173" y="2"/>
                  </a:lnTo>
                  <a:lnTo>
                    <a:pt x="180" y="0"/>
                  </a:lnTo>
                  <a:lnTo>
                    <a:pt x="179" y="7"/>
                  </a:lnTo>
                  <a:lnTo>
                    <a:pt x="174" y="14"/>
                  </a:lnTo>
                  <a:lnTo>
                    <a:pt x="167" y="21"/>
                  </a:lnTo>
                  <a:lnTo>
                    <a:pt x="161" y="27"/>
                  </a:lnTo>
                  <a:lnTo>
                    <a:pt x="152" y="33"/>
                  </a:lnTo>
                  <a:lnTo>
                    <a:pt x="143" y="39"/>
                  </a:lnTo>
                  <a:lnTo>
                    <a:pt x="137" y="44"/>
                  </a:lnTo>
                  <a:lnTo>
                    <a:pt x="131" y="50"/>
                  </a:lnTo>
                  <a:lnTo>
                    <a:pt x="119" y="63"/>
                  </a:lnTo>
                  <a:lnTo>
                    <a:pt x="102" y="75"/>
                  </a:lnTo>
                  <a:lnTo>
                    <a:pt x="87" y="86"/>
                  </a:lnTo>
                  <a:lnTo>
                    <a:pt x="71" y="100"/>
                  </a:lnTo>
                  <a:lnTo>
                    <a:pt x="56" y="114"/>
                  </a:lnTo>
                  <a:lnTo>
                    <a:pt x="41" y="126"/>
                  </a:lnTo>
                  <a:lnTo>
                    <a:pt x="27" y="140"/>
                  </a:lnTo>
                  <a:lnTo>
                    <a:pt x="18" y="153"/>
                  </a:lnTo>
                  <a:lnTo>
                    <a:pt x="24" y="153"/>
                  </a:lnTo>
                  <a:lnTo>
                    <a:pt x="29" y="151"/>
                  </a:lnTo>
                  <a:lnTo>
                    <a:pt x="35" y="148"/>
                  </a:lnTo>
                  <a:lnTo>
                    <a:pt x="41" y="143"/>
                  </a:lnTo>
                  <a:lnTo>
                    <a:pt x="47" y="139"/>
                  </a:lnTo>
                  <a:lnTo>
                    <a:pt x="54" y="136"/>
                  </a:lnTo>
                  <a:lnTo>
                    <a:pt x="60" y="131"/>
                  </a:lnTo>
                  <a:lnTo>
                    <a:pt x="66" y="129"/>
                  </a:lnTo>
                  <a:lnTo>
                    <a:pt x="78" y="120"/>
                  </a:lnTo>
                  <a:lnTo>
                    <a:pt x="93" y="111"/>
                  </a:lnTo>
                  <a:lnTo>
                    <a:pt x="110" y="100"/>
                  </a:lnTo>
                  <a:lnTo>
                    <a:pt x="128" y="89"/>
                  </a:lnTo>
                  <a:lnTo>
                    <a:pt x="146" y="80"/>
                  </a:lnTo>
                  <a:lnTo>
                    <a:pt x="164" y="73"/>
                  </a:lnTo>
                  <a:lnTo>
                    <a:pt x="171" y="70"/>
                  </a:lnTo>
                  <a:lnTo>
                    <a:pt x="180" y="69"/>
                  </a:lnTo>
                  <a:lnTo>
                    <a:pt x="188" y="67"/>
                  </a:lnTo>
                  <a:lnTo>
                    <a:pt x="195" y="67"/>
                  </a:lnTo>
                  <a:lnTo>
                    <a:pt x="195" y="69"/>
                  </a:lnTo>
                  <a:lnTo>
                    <a:pt x="195" y="70"/>
                  </a:lnTo>
                  <a:lnTo>
                    <a:pt x="195" y="72"/>
                  </a:lnTo>
                  <a:lnTo>
                    <a:pt x="195" y="73"/>
                  </a:lnTo>
                  <a:lnTo>
                    <a:pt x="194" y="73"/>
                  </a:lnTo>
                  <a:lnTo>
                    <a:pt x="194" y="75"/>
                  </a:lnTo>
                  <a:lnTo>
                    <a:pt x="180" y="86"/>
                  </a:lnTo>
                  <a:lnTo>
                    <a:pt x="167" y="98"/>
                  </a:lnTo>
                  <a:lnTo>
                    <a:pt x="152" y="111"/>
                  </a:lnTo>
                  <a:lnTo>
                    <a:pt x="138" y="120"/>
                  </a:lnTo>
                  <a:lnTo>
                    <a:pt x="125" y="132"/>
                  </a:lnTo>
                  <a:lnTo>
                    <a:pt x="110" y="145"/>
                  </a:lnTo>
                  <a:lnTo>
                    <a:pt x="96" y="156"/>
                  </a:lnTo>
                  <a:lnTo>
                    <a:pt x="84" y="170"/>
                  </a:lnTo>
                  <a:lnTo>
                    <a:pt x="95" y="168"/>
                  </a:lnTo>
                  <a:lnTo>
                    <a:pt x="105" y="164"/>
                  </a:lnTo>
                  <a:lnTo>
                    <a:pt x="119" y="157"/>
                  </a:lnTo>
                  <a:lnTo>
                    <a:pt x="132" y="150"/>
                  </a:lnTo>
                  <a:lnTo>
                    <a:pt x="147" y="142"/>
                  </a:lnTo>
                  <a:lnTo>
                    <a:pt x="162" y="134"/>
                  </a:lnTo>
                  <a:lnTo>
                    <a:pt x="174" y="126"/>
                  </a:lnTo>
                  <a:lnTo>
                    <a:pt x="188" y="120"/>
                  </a:lnTo>
                  <a:lnTo>
                    <a:pt x="189" y="120"/>
                  </a:lnTo>
                  <a:lnTo>
                    <a:pt x="191" y="120"/>
                  </a:lnTo>
                  <a:lnTo>
                    <a:pt x="192" y="120"/>
                  </a:lnTo>
                  <a:lnTo>
                    <a:pt x="192" y="122"/>
                  </a:lnTo>
                  <a:lnTo>
                    <a:pt x="192" y="123"/>
                  </a:lnTo>
                  <a:lnTo>
                    <a:pt x="192" y="125"/>
                  </a:lnTo>
                  <a:lnTo>
                    <a:pt x="192" y="126"/>
                  </a:lnTo>
                  <a:lnTo>
                    <a:pt x="192" y="128"/>
                  </a:lnTo>
                  <a:lnTo>
                    <a:pt x="183" y="137"/>
                  </a:lnTo>
                  <a:lnTo>
                    <a:pt x="170" y="148"/>
                  </a:lnTo>
                  <a:lnTo>
                    <a:pt x="155" y="162"/>
                  </a:lnTo>
                  <a:lnTo>
                    <a:pt x="137" y="176"/>
                  </a:lnTo>
                  <a:lnTo>
                    <a:pt x="120" y="190"/>
                  </a:lnTo>
                  <a:lnTo>
                    <a:pt x="105" y="199"/>
                  </a:lnTo>
                  <a:lnTo>
                    <a:pt x="95" y="207"/>
                  </a:lnTo>
                  <a:lnTo>
                    <a:pt x="87" y="210"/>
                  </a:lnTo>
                  <a:lnTo>
                    <a:pt x="96" y="201"/>
                  </a:lnTo>
                  <a:lnTo>
                    <a:pt x="110" y="192"/>
                  </a:lnTo>
                  <a:lnTo>
                    <a:pt x="123" y="182"/>
                  </a:lnTo>
                  <a:lnTo>
                    <a:pt x="137" y="171"/>
                  </a:lnTo>
                  <a:lnTo>
                    <a:pt x="150" y="160"/>
                  </a:lnTo>
                  <a:lnTo>
                    <a:pt x="162" y="151"/>
                  </a:lnTo>
                  <a:lnTo>
                    <a:pt x="170" y="142"/>
                  </a:lnTo>
                  <a:lnTo>
                    <a:pt x="174" y="132"/>
                  </a:lnTo>
                  <a:lnTo>
                    <a:pt x="158" y="140"/>
                  </a:lnTo>
                  <a:lnTo>
                    <a:pt x="140" y="150"/>
                  </a:lnTo>
                  <a:lnTo>
                    <a:pt x="123" y="157"/>
                  </a:lnTo>
                  <a:lnTo>
                    <a:pt x="107" y="167"/>
                  </a:lnTo>
                  <a:lnTo>
                    <a:pt x="90" y="178"/>
                  </a:lnTo>
                  <a:lnTo>
                    <a:pt x="74" y="187"/>
                  </a:lnTo>
                  <a:lnTo>
                    <a:pt x="59" y="198"/>
                  </a:lnTo>
                  <a:lnTo>
                    <a:pt x="42" y="209"/>
                  </a:lnTo>
                  <a:lnTo>
                    <a:pt x="41" y="209"/>
                  </a:lnTo>
                  <a:lnTo>
                    <a:pt x="41" y="210"/>
                  </a:lnTo>
                  <a:lnTo>
                    <a:pt x="39" y="210"/>
                  </a:lnTo>
                  <a:lnTo>
                    <a:pt x="38" y="210"/>
                  </a:lnTo>
                  <a:lnTo>
                    <a:pt x="36" y="210"/>
                  </a:lnTo>
                  <a:lnTo>
                    <a:pt x="35" y="2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>
              <a:off x="8076960" y="5609160"/>
              <a:ext cx="109800" cy="60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99" h="65">
                  <a:moveTo>
                    <a:pt x="0" y="65"/>
                  </a:move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2" y="58"/>
                  </a:lnTo>
                  <a:lnTo>
                    <a:pt x="5" y="53"/>
                  </a:lnTo>
                  <a:lnTo>
                    <a:pt x="9" y="47"/>
                  </a:lnTo>
                  <a:lnTo>
                    <a:pt x="14" y="40"/>
                  </a:lnTo>
                  <a:lnTo>
                    <a:pt x="20" y="34"/>
                  </a:lnTo>
                  <a:lnTo>
                    <a:pt x="24" y="30"/>
                  </a:lnTo>
                  <a:lnTo>
                    <a:pt x="30" y="28"/>
                  </a:lnTo>
                  <a:lnTo>
                    <a:pt x="33" y="28"/>
                  </a:lnTo>
                  <a:lnTo>
                    <a:pt x="32" y="30"/>
                  </a:lnTo>
                  <a:lnTo>
                    <a:pt x="30" y="33"/>
                  </a:lnTo>
                  <a:lnTo>
                    <a:pt x="27" y="36"/>
                  </a:lnTo>
                  <a:lnTo>
                    <a:pt x="24" y="37"/>
                  </a:lnTo>
                  <a:lnTo>
                    <a:pt x="23" y="40"/>
                  </a:lnTo>
                  <a:lnTo>
                    <a:pt x="20" y="44"/>
                  </a:lnTo>
                  <a:lnTo>
                    <a:pt x="17" y="47"/>
                  </a:lnTo>
                  <a:lnTo>
                    <a:pt x="15" y="50"/>
                  </a:lnTo>
                  <a:lnTo>
                    <a:pt x="15" y="51"/>
                  </a:lnTo>
                  <a:lnTo>
                    <a:pt x="17" y="51"/>
                  </a:lnTo>
                  <a:lnTo>
                    <a:pt x="17" y="53"/>
                  </a:lnTo>
                  <a:lnTo>
                    <a:pt x="26" y="48"/>
                  </a:lnTo>
                  <a:lnTo>
                    <a:pt x="35" y="44"/>
                  </a:lnTo>
                  <a:lnTo>
                    <a:pt x="45" y="36"/>
                  </a:lnTo>
                  <a:lnTo>
                    <a:pt x="57" y="28"/>
                  </a:lnTo>
                  <a:lnTo>
                    <a:pt x="69" y="20"/>
                  </a:lnTo>
                  <a:lnTo>
                    <a:pt x="80" y="13"/>
                  </a:lnTo>
                  <a:lnTo>
                    <a:pt x="90" y="5"/>
                  </a:lnTo>
                  <a:lnTo>
                    <a:pt x="99" y="0"/>
                  </a:lnTo>
                  <a:lnTo>
                    <a:pt x="99" y="2"/>
                  </a:lnTo>
                  <a:lnTo>
                    <a:pt x="99" y="3"/>
                  </a:lnTo>
                  <a:lnTo>
                    <a:pt x="87" y="13"/>
                  </a:lnTo>
                  <a:lnTo>
                    <a:pt x="75" y="20"/>
                  </a:lnTo>
                  <a:lnTo>
                    <a:pt x="66" y="28"/>
                  </a:lnTo>
                  <a:lnTo>
                    <a:pt x="54" y="36"/>
                  </a:lnTo>
                  <a:lnTo>
                    <a:pt x="42" y="44"/>
                  </a:lnTo>
                  <a:lnTo>
                    <a:pt x="32" y="51"/>
                  </a:lnTo>
                  <a:lnTo>
                    <a:pt x="20" y="59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0" y="6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8" name="Freeform 25"/>
            <p:cNvSpPr/>
            <p:nvPr/>
          </p:nvSpPr>
          <p:spPr>
            <a:xfrm>
              <a:off x="8122320" y="5610960"/>
              <a:ext cx="15120" cy="154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16">
                  <a:moveTo>
                    <a:pt x="0" y="16"/>
                  </a:moveTo>
                  <a:lnTo>
                    <a:pt x="0" y="14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89" name="Freeform 26"/>
            <p:cNvSpPr/>
            <p:nvPr/>
          </p:nvSpPr>
          <p:spPr>
            <a:xfrm>
              <a:off x="7733520" y="5386320"/>
              <a:ext cx="224640" cy="21672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201" h="228">
                  <a:moveTo>
                    <a:pt x="99" y="228"/>
                  </a:moveTo>
                  <a:lnTo>
                    <a:pt x="92" y="227"/>
                  </a:lnTo>
                  <a:lnTo>
                    <a:pt x="86" y="224"/>
                  </a:lnTo>
                  <a:lnTo>
                    <a:pt x="80" y="222"/>
                  </a:lnTo>
                  <a:lnTo>
                    <a:pt x="77" y="219"/>
                  </a:lnTo>
                  <a:lnTo>
                    <a:pt x="72" y="214"/>
                  </a:lnTo>
                  <a:lnTo>
                    <a:pt x="69" y="210"/>
                  </a:lnTo>
                  <a:lnTo>
                    <a:pt x="66" y="204"/>
                  </a:lnTo>
                  <a:lnTo>
                    <a:pt x="62" y="196"/>
                  </a:lnTo>
                  <a:lnTo>
                    <a:pt x="53" y="197"/>
                  </a:lnTo>
                  <a:lnTo>
                    <a:pt x="44" y="199"/>
                  </a:lnTo>
                  <a:lnTo>
                    <a:pt x="38" y="200"/>
                  </a:lnTo>
                  <a:lnTo>
                    <a:pt x="33" y="200"/>
                  </a:lnTo>
                  <a:lnTo>
                    <a:pt x="29" y="200"/>
                  </a:lnTo>
                  <a:lnTo>
                    <a:pt x="23" y="199"/>
                  </a:lnTo>
                  <a:lnTo>
                    <a:pt x="18" y="196"/>
                  </a:lnTo>
                  <a:lnTo>
                    <a:pt x="9" y="188"/>
                  </a:lnTo>
                  <a:lnTo>
                    <a:pt x="5" y="179"/>
                  </a:lnTo>
                  <a:lnTo>
                    <a:pt x="2" y="168"/>
                  </a:lnTo>
                  <a:lnTo>
                    <a:pt x="0" y="157"/>
                  </a:lnTo>
                  <a:lnTo>
                    <a:pt x="0" y="146"/>
                  </a:lnTo>
                  <a:lnTo>
                    <a:pt x="0" y="135"/>
                  </a:lnTo>
                  <a:lnTo>
                    <a:pt x="0" y="123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6" y="84"/>
                  </a:lnTo>
                  <a:lnTo>
                    <a:pt x="12" y="65"/>
                  </a:lnTo>
                  <a:lnTo>
                    <a:pt x="21" y="45"/>
                  </a:lnTo>
                  <a:lnTo>
                    <a:pt x="32" y="29"/>
                  </a:lnTo>
                  <a:lnTo>
                    <a:pt x="39" y="22"/>
                  </a:lnTo>
                  <a:lnTo>
                    <a:pt x="45" y="15"/>
                  </a:lnTo>
                  <a:lnTo>
                    <a:pt x="53" y="12"/>
                  </a:lnTo>
                  <a:lnTo>
                    <a:pt x="60" y="9"/>
                  </a:lnTo>
                  <a:lnTo>
                    <a:pt x="68" y="9"/>
                  </a:lnTo>
                  <a:lnTo>
                    <a:pt x="77" y="12"/>
                  </a:lnTo>
                  <a:lnTo>
                    <a:pt x="86" y="17"/>
                  </a:lnTo>
                  <a:lnTo>
                    <a:pt x="93" y="26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8" y="26"/>
                  </a:lnTo>
                  <a:lnTo>
                    <a:pt x="99" y="26"/>
                  </a:lnTo>
                  <a:lnTo>
                    <a:pt x="107" y="17"/>
                  </a:lnTo>
                  <a:lnTo>
                    <a:pt x="116" y="11"/>
                  </a:lnTo>
                  <a:lnTo>
                    <a:pt x="123" y="5"/>
                  </a:lnTo>
                  <a:lnTo>
                    <a:pt x="129" y="1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1" y="0"/>
                  </a:lnTo>
                  <a:lnTo>
                    <a:pt x="165" y="3"/>
                  </a:lnTo>
                  <a:lnTo>
                    <a:pt x="173" y="8"/>
                  </a:lnTo>
                  <a:lnTo>
                    <a:pt x="179" y="12"/>
                  </a:lnTo>
                  <a:lnTo>
                    <a:pt x="185" y="20"/>
                  </a:lnTo>
                  <a:lnTo>
                    <a:pt x="191" y="28"/>
                  </a:lnTo>
                  <a:lnTo>
                    <a:pt x="195" y="36"/>
                  </a:lnTo>
                  <a:lnTo>
                    <a:pt x="198" y="45"/>
                  </a:lnTo>
                  <a:lnTo>
                    <a:pt x="201" y="56"/>
                  </a:lnTo>
                  <a:lnTo>
                    <a:pt x="200" y="81"/>
                  </a:lnTo>
                  <a:lnTo>
                    <a:pt x="197" y="110"/>
                  </a:lnTo>
                  <a:lnTo>
                    <a:pt x="195" y="123"/>
                  </a:lnTo>
                  <a:lnTo>
                    <a:pt x="191" y="138"/>
                  </a:lnTo>
                  <a:lnTo>
                    <a:pt x="186" y="152"/>
                  </a:lnTo>
                  <a:lnTo>
                    <a:pt x="180" y="166"/>
                  </a:lnTo>
                  <a:lnTo>
                    <a:pt x="174" y="180"/>
                  </a:lnTo>
                  <a:lnTo>
                    <a:pt x="167" y="191"/>
                  </a:lnTo>
                  <a:lnTo>
                    <a:pt x="159" y="202"/>
                  </a:lnTo>
                  <a:lnTo>
                    <a:pt x="149" y="211"/>
                  </a:lnTo>
                  <a:lnTo>
                    <a:pt x="138" y="219"/>
                  </a:lnTo>
                  <a:lnTo>
                    <a:pt x="126" y="224"/>
                  </a:lnTo>
                  <a:lnTo>
                    <a:pt x="114" y="228"/>
                  </a:lnTo>
                  <a:lnTo>
                    <a:pt x="99" y="22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0" name="Freeform 27"/>
            <p:cNvSpPr/>
            <p:nvPr/>
          </p:nvSpPr>
          <p:spPr>
            <a:xfrm>
              <a:off x="8196120" y="5587920"/>
              <a:ext cx="36000" cy="169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19">
                  <a:moveTo>
                    <a:pt x="0" y="19"/>
                  </a:moveTo>
                  <a:lnTo>
                    <a:pt x="0" y="16"/>
                  </a:lnTo>
                  <a:lnTo>
                    <a:pt x="3" y="13"/>
                  </a:lnTo>
                  <a:lnTo>
                    <a:pt x="7" y="10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27" y="5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3" y="16"/>
                  </a:lnTo>
                  <a:lnTo>
                    <a:pt x="0" y="1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1" name="Freeform 28"/>
            <p:cNvSpPr/>
            <p:nvPr/>
          </p:nvSpPr>
          <p:spPr>
            <a:xfrm>
              <a:off x="8164800" y="5582160"/>
              <a:ext cx="18000" cy="133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7" h="14">
                  <a:moveTo>
                    <a:pt x="0" y="14"/>
                  </a:moveTo>
                  <a:lnTo>
                    <a:pt x="0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2" y="4"/>
                  </a:lnTo>
                  <a:lnTo>
                    <a:pt x="11" y="6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2" name="Freeform 29"/>
            <p:cNvSpPr/>
            <p:nvPr/>
          </p:nvSpPr>
          <p:spPr>
            <a:xfrm>
              <a:off x="8106480" y="5447160"/>
              <a:ext cx="161280" cy="1425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4" h="150">
                  <a:moveTo>
                    <a:pt x="3" y="150"/>
                  </a:moveTo>
                  <a:lnTo>
                    <a:pt x="3" y="149"/>
                  </a:lnTo>
                  <a:lnTo>
                    <a:pt x="2" y="147"/>
                  </a:lnTo>
                  <a:lnTo>
                    <a:pt x="2" y="146"/>
                  </a:lnTo>
                  <a:lnTo>
                    <a:pt x="2" y="144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5" y="141"/>
                  </a:lnTo>
                  <a:lnTo>
                    <a:pt x="6" y="140"/>
                  </a:lnTo>
                  <a:lnTo>
                    <a:pt x="8" y="138"/>
                  </a:lnTo>
                  <a:lnTo>
                    <a:pt x="11" y="138"/>
                  </a:lnTo>
                  <a:lnTo>
                    <a:pt x="14" y="138"/>
                  </a:lnTo>
                  <a:lnTo>
                    <a:pt x="17" y="138"/>
                  </a:lnTo>
                  <a:lnTo>
                    <a:pt x="20" y="130"/>
                  </a:lnTo>
                  <a:lnTo>
                    <a:pt x="23" y="122"/>
                  </a:lnTo>
                  <a:lnTo>
                    <a:pt x="27" y="116"/>
                  </a:lnTo>
                  <a:lnTo>
                    <a:pt x="33" y="110"/>
                  </a:lnTo>
                  <a:lnTo>
                    <a:pt x="44" y="98"/>
                  </a:lnTo>
                  <a:lnTo>
                    <a:pt x="57" y="85"/>
                  </a:lnTo>
                  <a:lnTo>
                    <a:pt x="71" y="76"/>
                  </a:lnTo>
                  <a:lnTo>
                    <a:pt x="81" y="63"/>
                  </a:lnTo>
                  <a:lnTo>
                    <a:pt x="87" y="57"/>
                  </a:lnTo>
                  <a:lnTo>
                    <a:pt x="93" y="51"/>
                  </a:lnTo>
                  <a:lnTo>
                    <a:pt x="96" y="46"/>
                  </a:lnTo>
                  <a:lnTo>
                    <a:pt x="101" y="38"/>
                  </a:lnTo>
                  <a:lnTo>
                    <a:pt x="96" y="40"/>
                  </a:lnTo>
                  <a:lnTo>
                    <a:pt x="92" y="42"/>
                  </a:lnTo>
                  <a:lnTo>
                    <a:pt x="87" y="43"/>
                  </a:lnTo>
                  <a:lnTo>
                    <a:pt x="83" y="45"/>
                  </a:lnTo>
                  <a:lnTo>
                    <a:pt x="78" y="46"/>
                  </a:lnTo>
                  <a:lnTo>
                    <a:pt x="75" y="48"/>
                  </a:lnTo>
                  <a:lnTo>
                    <a:pt x="71" y="48"/>
                  </a:lnTo>
                  <a:lnTo>
                    <a:pt x="66" y="48"/>
                  </a:lnTo>
                  <a:lnTo>
                    <a:pt x="60" y="52"/>
                  </a:lnTo>
                  <a:lnTo>
                    <a:pt x="54" y="56"/>
                  </a:lnTo>
                  <a:lnTo>
                    <a:pt x="48" y="59"/>
                  </a:lnTo>
                  <a:lnTo>
                    <a:pt x="42" y="63"/>
                  </a:lnTo>
                  <a:lnTo>
                    <a:pt x="36" y="66"/>
                  </a:lnTo>
                  <a:lnTo>
                    <a:pt x="30" y="68"/>
                  </a:lnTo>
                  <a:lnTo>
                    <a:pt x="24" y="70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24" y="59"/>
                  </a:lnTo>
                  <a:lnTo>
                    <a:pt x="29" y="54"/>
                  </a:lnTo>
                  <a:lnTo>
                    <a:pt x="33" y="48"/>
                  </a:lnTo>
                  <a:lnTo>
                    <a:pt x="36" y="45"/>
                  </a:lnTo>
                  <a:lnTo>
                    <a:pt x="41" y="40"/>
                  </a:lnTo>
                  <a:lnTo>
                    <a:pt x="44" y="35"/>
                  </a:lnTo>
                  <a:lnTo>
                    <a:pt x="48" y="32"/>
                  </a:lnTo>
                  <a:lnTo>
                    <a:pt x="54" y="29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48" y="17"/>
                  </a:lnTo>
                  <a:lnTo>
                    <a:pt x="41" y="20"/>
                  </a:lnTo>
                  <a:lnTo>
                    <a:pt x="35" y="23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3" y="26"/>
                  </a:lnTo>
                  <a:lnTo>
                    <a:pt x="20" y="26"/>
                  </a:lnTo>
                  <a:lnTo>
                    <a:pt x="15" y="26"/>
                  </a:lnTo>
                  <a:lnTo>
                    <a:pt x="15" y="23"/>
                  </a:lnTo>
                  <a:lnTo>
                    <a:pt x="17" y="20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2" y="4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0"/>
                  </a:lnTo>
                  <a:lnTo>
                    <a:pt x="77" y="4"/>
                  </a:lnTo>
                  <a:lnTo>
                    <a:pt x="75" y="9"/>
                  </a:lnTo>
                  <a:lnTo>
                    <a:pt x="72" y="12"/>
                  </a:lnTo>
                  <a:lnTo>
                    <a:pt x="69" y="17"/>
                  </a:lnTo>
                  <a:lnTo>
                    <a:pt x="66" y="20"/>
                  </a:lnTo>
                  <a:lnTo>
                    <a:pt x="62" y="23"/>
                  </a:lnTo>
                  <a:lnTo>
                    <a:pt x="59" y="26"/>
                  </a:lnTo>
                  <a:lnTo>
                    <a:pt x="54" y="28"/>
                  </a:lnTo>
                  <a:lnTo>
                    <a:pt x="54" y="31"/>
                  </a:lnTo>
                  <a:lnTo>
                    <a:pt x="51" y="34"/>
                  </a:lnTo>
                  <a:lnTo>
                    <a:pt x="48" y="38"/>
                  </a:lnTo>
                  <a:lnTo>
                    <a:pt x="45" y="43"/>
                  </a:lnTo>
                  <a:lnTo>
                    <a:pt x="42" y="48"/>
                  </a:lnTo>
                  <a:lnTo>
                    <a:pt x="39" y="51"/>
                  </a:lnTo>
                  <a:lnTo>
                    <a:pt x="36" y="54"/>
                  </a:lnTo>
                  <a:lnTo>
                    <a:pt x="35" y="57"/>
                  </a:lnTo>
                  <a:lnTo>
                    <a:pt x="42" y="56"/>
                  </a:lnTo>
                  <a:lnTo>
                    <a:pt x="51" y="52"/>
                  </a:lnTo>
                  <a:lnTo>
                    <a:pt x="62" y="48"/>
                  </a:lnTo>
                  <a:lnTo>
                    <a:pt x="72" y="45"/>
                  </a:lnTo>
                  <a:lnTo>
                    <a:pt x="83" y="40"/>
                  </a:lnTo>
                  <a:lnTo>
                    <a:pt x="93" y="34"/>
                  </a:lnTo>
                  <a:lnTo>
                    <a:pt x="105" y="31"/>
                  </a:lnTo>
                  <a:lnTo>
                    <a:pt x="114" y="29"/>
                  </a:lnTo>
                  <a:lnTo>
                    <a:pt x="113" y="35"/>
                  </a:lnTo>
                  <a:lnTo>
                    <a:pt x="110" y="43"/>
                  </a:lnTo>
                  <a:lnTo>
                    <a:pt x="102" y="51"/>
                  </a:lnTo>
                  <a:lnTo>
                    <a:pt x="95" y="60"/>
                  </a:lnTo>
                  <a:lnTo>
                    <a:pt x="84" y="68"/>
                  </a:lnTo>
                  <a:lnTo>
                    <a:pt x="77" y="76"/>
                  </a:lnTo>
                  <a:lnTo>
                    <a:pt x="69" y="84"/>
                  </a:lnTo>
                  <a:lnTo>
                    <a:pt x="62" y="87"/>
                  </a:lnTo>
                  <a:lnTo>
                    <a:pt x="59" y="91"/>
                  </a:lnTo>
                  <a:lnTo>
                    <a:pt x="56" y="94"/>
                  </a:lnTo>
                  <a:lnTo>
                    <a:pt x="53" y="99"/>
                  </a:lnTo>
                  <a:lnTo>
                    <a:pt x="48" y="104"/>
                  </a:lnTo>
                  <a:lnTo>
                    <a:pt x="44" y="108"/>
                  </a:lnTo>
                  <a:lnTo>
                    <a:pt x="39" y="115"/>
                  </a:lnTo>
                  <a:lnTo>
                    <a:pt x="33" y="122"/>
                  </a:lnTo>
                  <a:lnTo>
                    <a:pt x="27" y="129"/>
                  </a:lnTo>
                  <a:lnTo>
                    <a:pt x="33" y="127"/>
                  </a:lnTo>
                  <a:lnTo>
                    <a:pt x="41" y="124"/>
                  </a:lnTo>
                  <a:lnTo>
                    <a:pt x="50" y="119"/>
                  </a:lnTo>
                  <a:lnTo>
                    <a:pt x="60" y="113"/>
                  </a:lnTo>
                  <a:lnTo>
                    <a:pt x="71" y="105"/>
                  </a:lnTo>
                  <a:lnTo>
                    <a:pt x="78" y="99"/>
                  </a:lnTo>
                  <a:lnTo>
                    <a:pt x="87" y="93"/>
                  </a:lnTo>
                  <a:lnTo>
                    <a:pt x="93" y="87"/>
                  </a:lnTo>
                  <a:lnTo>
                    <a:pt x="99" y="85"/>
                  </a:lnTo>
                  <a:lnTo>
                    <a:pt x="105" y="84"/>
                  </a:lnTo>
                  <a:lnTo>
                    <a:pt x="113" y="79"/>
                  </a:lnTo>
                  <a:lnTo>
                    <a:pt x="119" y="74"/>
                  </a:lnTo>
                  <a:lnTo>
                    <a:pt x="125" y="70"/>
                  </a:lnTo>
                  <a:lnTo>
                    <a:pt x="132" y="65"/>
                  </a:lnTo>
                  <a:lnTo>
                    <a:pt x="138" y="63"/>
                  </a:lnTo>
                  <a:lnTo>
                    <a:pt x="144" y="63"/>
                  </a:lnTo>
                  <a:lnTo>
                    <a:pt x="144" y="70"/>
                  </a:lnTo>
                  <a:lnTo>
                    <a:pt x="140" y="77"/>
                  </a:lnTo>
                  <a:lnTo>
                    <a:pt x="135" y="85"/>
                  </a:lnTo>
                  <a:lnTo>
                    <a:pt x="129" y="93"/>
                  </a:lnTo>
                  <a:lnTo>
                    <a:pt x="122" y="101"/>
                  </a:lnTo>
                  <a:lnTo>
                    <a:pt x="114" y="105"/>
                  </a:lnTo>
                  <a:lnTo>
                    <a:pt x="110" y="108"/>
                  </a:lnTo>
                  <a:lnTo>
                    <a:pt x="104" y="110"/>
                  </a:lnTo>
                  <a:lnTo>
                    <a:pt x="108" y="105"/>
                  </a:lnTo>
                  <a:lnTo>
                    <a:pt x="113" y="101"/>
                  </a:lnTo>
                  <a:lnTo>
                    <a:pt x="114" y="98"/>
                  </a:lnTo>
                  <a:lnTo>
                    <a:pt x="119" y="93"/>
                  </a:lnTo>
                  <a:lnTo>
                    <a:pt x="123" y="88"/>
                  </a:lnTo>
                  <a:lnTo>
                    <a:pt x="128" y="85"/>
                  </a:lnTo>
                  <a:lnTo>
                    <a:pt x="131" y="80"/>
                  </a:lnTo>
                  <a:lnTo>
                    <a:pt x="135" y="76"/>
                  </a:lnTo>
                  <a:lnTo>
                    <a:pt x="132" y="74"/>
                  </a:lnTo>
                  <a:lnTo>
                    <a:pt x="128" y="76"/>
                  </a:lnTo>
                  <a:lnTo>
                    <a:pt x="122" y="77"/>
                  </a:lnTo>
                  <a:lnTo>
                    <a:pt x="114" y="82"/>
                  </a:lnTo>
                  <a:lnTo>
                    <a:pt x="96" y="91"/>
                  </a:lnTo>
                  <a:lnTo>
                    <a:pt x="75" y="107"/>
                  </a:lnTo>
                  <a:lnTo>
                    <a:pt x="51" y="121"/>
                  </a:lnTo>
                  <a:lnTo>
                    <a:pt x="32" y="135"/>
                  </a:lnTo>
                  <a:lnTo>
                    <a:pt x="14" y="146"/>
                  </a:lnTo>
                  <a:lnTo>
                    <a:pt x="3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3" name="Freeform 30"/>
            <p:cNvSpPr/>
            <p:nvPr/>
          </p:nvSpPr>
          <p:spPr>
            <a:xfrm>
              <a:off x="8202960" y="5564880"/>
              <a:ext cx="4320" cy="1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4" name="Freeform 31"/>
            <p:cNvSpPr/>
            <p:nvPr/>
          </p:nvSpPr>
          <p:spPr>
            <a:xfrm>
              <a:off x="8214120" y="5559480"/>
              <a:ext cx="4320" cy="1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5" name="Freeform 32"/>
            <p:cNvSpPr/>
            <p:nvPr/>
          </p:nvSpPr>
          <p:spPr>
            <a:xfrm>
              <a:off x="7899840" y="5323320"/>
              <a:ext cx="82800" cy="741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3" h="77">
                  <a:moveTo>
                    <a:pt x="67" y="77"/>
                  </a:moveTo>
                  <a:lnTo>
                    <a:pt x="64" y="73"/>
                  </a:lnTo>
                  <a:lnTo>
                    <a:pt x="63" y="66"/>
                  </a:lnTo>
                  <a:lnTo>
                    <a:pt x="60" y="62"/>
                  </a:lnTo>
                  <a:lnTo>
                    <a:pt x="58" y="54"/>
                  </a:lnTo>
                  <a:lnTo>
                    <a:pt x="57" y="45"/>
                  </a:lnTo>
                  <a:lnTo>
                    <a:pt x="55" y="37"/>
                  </a:lnTo>
                  <a:lnTo>
                    <a:pt x="51" y="31"/>
                  </a:lnTo>
                  <a:lnTo>
                    <a:pt x="48" y="26"/>
                  </a:lnTo>
                  <a:lnTo>
                    <a:pt x="39" y="26"/>
                  </a:lnTo>
                  <a:lnTo>
                    <a:pt x="33" y="26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15" y="31"/>
                  </a:lnTo>
                  <a:lnTo>
                    <a:pt x="12" y="34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4" y="20"/>
                  </a:lnTo>
                  <a:lnTo>
                    <a:pt x="10" y="12"/>
                  </a:lnTo>
                  <a:lnTo>
                    <a:pt x="18" y="6"/>
                  </a:lnTo>
                  <a:lnTo>
                    <a:pt x="27" y="1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57" y="1"/>
                  </a:lnTo>
                  <a:lnTo>
                    <a:pt x="63" y="10"/>
                  </a:lnTo>
                  <a:lnTo>
                    <a:pt x="67" y="18"/>
                  </a:lnTo>
                  <a:lnTo>
                    <a:pt x="70" y="28"/>
                  </a:lnTo>
                  <a:lnTo>
                    <a:pt x="72" y="35"/>
                  </a:lnTo>
                  <a:lnTo>
                    <a:pt x="73" y="46"/>
                  </a:lnTo>
                  <a:lnTo>
                    <a:pt x="73" y="57"/>
                  </a:lnTo>
                  <a:lnTo>
                    <a:pt x="73" y="66"/>
                  </a:lnTo>
                  <a:lnTo>
                    <a:pt x="73" y="77"/>
                  </a:lnTo>
                  <a:lnTo>
                    <a:pt x="72" y="77"/>
                  </a:lnTo>
                  <a:lnTo>
                    <a:pt x="70" y="77"/>
                  </a:lnTo>
                  <a:lnTo>
                    <a:pt x="69" y="77"/>
                  </a:lnTo>
                  <a:lnTo>
                    <a:pt x="67" y="7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6" name="Freeform 33"/>
            <p:cNvSpPr/>
            <p:nvPr/>
          </p:nvSpPr>
          <p:spPr>
            <a:xfrm>
              <a:off x="7706520" y="5787720"/>
              <a:ext cx="161280" cy="114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2" h="119">
                  <a:moveTo>
                    <a:pt x="9" y="119"/>
                  </a:moveTo>
                  <a:lnTo>
                    <a:pt x="4" y="115"/>
                  </a:lnTo>
                  <a:lnTo>
                    <a:pt x="1" y="109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" y="84"/>
                  </a:lnTo>
                  <a:lnTo>
                    <a:pt x="6" y="76"/>
                  </a:lnTo>
                  <a:lnTo>
                    <a:pt x="9" y="68"/>
                  </a:lnTo>
                  <a:lnTo>
                    <a:pt x="19" y="56"/>
                  </a:lnTo>
                  <a:lnTo>
                    <a:pt x="30" y="42"/>
                  </a:lnTo>
                  <a:lnTo>
                    <a:pt x="40" y="32"/>
                  </a:lnTo>
                  <a:lnTo>
                    <a:pt x="48" y="26"/>
                  </a:lnTo>
                  <a:lnTo>
                    <a:pt x="49" y="29"/>
                  </a:lnTo>
                  <a:lnTo>
                    <a:pt x="48" y="34"/>
                  </a:lnTo>
                  <a:lnTo>
                    <a:pt x="46" y="39"/>
                  </a:lnTo>
                  <a:lnTo>
                    <a:pt x="42" y="46"/>
                  </a:lnTo>
                  <a:lnTo>
                    <a:pt x="40" y="53"/>
                  </a:lnTo>
                  <a:lnTo>
                    <a:pt x="37" y="60"/>
                  </a:lnTo>
                  <a:lnTo>
                    <a:pt x="34" y="65"/>
                  </a:lnTo>
                  <a:lnTo>
                    <a:pt x="31" y="70"/>
                  </a:lnTo>
                  <a:lnTo>
                    <a:pt x="33" y="70"/>
                  </a:lnTo>
                  <a:lnTo>
                    <a:pt x="33" y="71"/>
                  </a:lnTo>
                  <a:lnTo>
                    <a:pt x="34" y="71"/>
                  </a:lnTo>
                  <a:lnTo>
                    <a:pt x="36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8" y="57"/>
                  </a:lnTo>
                  <a:lnTo>
                    <a:pt x="58" y="42"/>
                  </a:lnTo>
                  <a:lnTo>
                    <a:pt x="69" y="28"/>
                  </a:lnTo>
                  <a:lnTo>
                    <a:pt x="78" y="17"/>
                  </a:lnTo>
                  <a:lnTo>
                    <a:pt x="84" y="12"/>
                  </a:lnTo>
                  <a:lnTo>
                    <a:pt x="91" y="8"/>
                  </a:lnTo>
                  <a:lnTo>
                    <a:pt x="97" y="3"/>
                  </a:lnTo>
                  <a:lnTo>
                    <a:pt x="106" y="1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41" y="3"/>
                  </a:lnTo>
                  <a:lnTo>
                    <a:pt x="139" y="9"/>
                  </a:lnTo>
                  <a:lnTo>
                    <a:pt x="136" y="14"/>
                  </a:lnTo>
                  <a:lnTo>
                    <a:pt x="133" y="20"/>
                  </a:lnTo>
                  <a:lnTo>
                    <a:pt x="129" y="25"/>
                  </a:lnTo>
                  <a:lnTo>
                    <a:pt x="126" y="31"/>
                  </a:lnTo>
                  <a:lnTo>
                    <a:pt x="123" y="35"/>
                  </a:lnTo>
                  <a:lnTo>
                    <a:pt x="121" y="40"/>
                  </a:lnTo>
                  <a:lnTo>
                    <a:pt x="108" y="59"/>
                  </a:lnTo>
                  <a:lnTo>
                    <a:pt x="96" y="74"/>
                  </a:lnTo>
                  <a:lnTo>
                    <a:pt x="85" y="88"/>
                  </a:lnTo>
                  <a:lnTo>
                    <a:pt x="75" y="99"/>
                  </a:lnTo>
                  <a:lnTo>
                    <a:pt x="69" y="104"/>
                  </a:lnTo>
                  <a:lnTo>
                    <a:pt x="63" y="107"/>
                  </a:lnTo>
                  <a:lnTo>
                    <a:pt x="55" y="112"/>
                  </a:lnTo>
                  <a:lnTo>
                    <a:pt x="48" y="115"/>
                  </a:lnTo>
                  <a:lnTo>
                    <a:pt x="40" y="116"/>
                  </a:lnTo>
                  <a:lnTo>
                    <a:pt x="31" y="118"/>
                  </a:lnTo>
                  <a:lnTo>
                    <a:pt x="21" y="119"/>
                  </a:lnTo>
                  <a:lnTo>
                    <a:pt x="9" y="1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7" name="Freeform 34"/>
            <p:cNvSpPr/>
            <p:nvPr/>
          </p:nvSpPr>
          <p:spPr>
            <a:xfrm>
              <a:off x="7706520" y="5787720"/>
              <a:ext cx="161280" cy="1141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2" h="119">
                  <a:moveTo>
                    <a:pt x="9" y="119"/>
                  </a:moveTo>
                  <a:lnTo>
                    <a:pt x="4" y="115"/>
                  </a:lnTo>
                  <a:lnTo>
                    <a:pt x="1" y="109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3" y="84"/>
                  </a:lnTo>
                  <a:lnTo>
                    <a:pt x="6" y="76"/>
                  </a:lnTo>
                  <a:lnTo>
                    <a:pt x="9" y="68"/>
                  </a:lnTo>
                  <a:lnTo>
                    <a:pt x="19" y="56"/>
                  </a:lnTo>
                  <a:lnTo>
                    <a:pt x="30" y="42"/>
                  </a:lnTo>
                  <a:lnTo>
                    <a:pt x="40" y="32"/>
                  </a:lnTo>
                  <a:lnTo>
                    <a:pt x="48" y="26"/>
                  </a:lnTo>
                  <a:lnTo>
                    <a:pt x="49" y="29"/>
                  </a:lnTo>
                  <a:lnTo>
                    <a:pt x="48" y="34"/>
                  </a:lnTo>
                  <a:lnTo>
                    <a:pt x="46" y="39"/>
                  </a:lnTo>
                  <a:lnTo>
                    <a:pt x="42" y="46"/>
                  </a:lnTo>
                  <a:lnTo>
                    <a:pt x="40" y="53"/>
                  </a:lnTo>
                  <a:lnTo>
                    <a:pt x="37" y="60"/>
                  </a:lnTo>
                  <a:lnTo>
                    <a:pt x="34" y="65"/>
                  </a:lnTo>
                  <a:lnTo>
                    <a:pt x="31" y="70"/>
                  </a:lnTo>
                  <a:lnTo>
                    <a:pt x="33" y="70"/>
                  </a:lnTo>
                  <a:lnTo>
                    <a:pt x="33" y="71"/>
                  </a:lnTo>
                  <a:lnTo>
                    <a:pt x="34" y="71"/>
                  </a:lnTo>
                  <a:lnTo>
                    <a:pt x="36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8" y="57"/>
                  </a:lnTo>
                  <a:lnTo>
                    <a:pt x="58" y="42"/>
                  </a:lnTo>
                  <a:lnTo>
                    <a:pt x="69" y="28"/>
                  </a:lnTo>
                  <a:lnTo>
                    <a:pt x="78" y="17"/>
                  </a:lnTo>
                  <a:lnTo>
                    <a:pt x="84" y="12"/>
                  </a:lnTo>
                  <a:lnTo>
                    <a:pt x="91" y="8"/>
                  </a:lnTo>
                  <a:lnTo>
                    <a:pt x="97" y="3"/>
                  </a:lnTo>
                  <a:lnTo>
                    <a:pt x="106" y="1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41" y="3"/>
                  </a:lnTo>
                  <a:lnTo>
                    <a:pt x="139" y="9"/>
                  </a:lnTo>
                  <a:lnTo>
                    <a:pt x="136" y="14"/>
                  </a:lnTo>
                  <a:lnTo>
                    <a:pt x="133" y="20"/>
                  </a:lnTo>
                  <a:lnTo>
                    <a:pt x="129" y="25"/>
                  </a:lnTo>
                  <a:lnTo>
                    <a:pt x="126" y="31"/>
                  </a:lnTo>
                  <a:lnTo>
                    <a:pt x="123" y="35"/>
                  </a:lnTo>
                  <a:lnTo>
                    <a:pt x="121" y="40"/>
                  </a:lnTo>
                  <a:lnTo>
                    <a:pt x="108" y="59"/>
                  </a:lnTo>
                  <a:lnTo>
                    <a:pt x="96" y="74"/>
                  </a:lnTo>
                  <a:lnTo>
                    <a:pt x="85" y="88"/>
                  </a:lnTo>
                  <a:lnTo>
                    <a:pt x="75" y="99"/>
                  </a:lnTo>
                  <a:lnTo>
                    <a:pt x="69" y="104"/>
                  </a:lnTo>
                  <a:lnTo>
                    <a:pt x="63" y="107"/>
                  </a:lnTo>
                  <a:lnTo>
                    <a:pt x="55" y="112"/>
                  </a:lnTo>
                  <a:lnTo>
                    <a:pt x="48" y="115"/>
                  </a:lnTo>
                  <a:lnTo>
                    <a:pt x="40" y="116"/>
                  </a:lnTo>
                  <a:lnTo>
                    <a:pt x="31" y="118"/>
                  </a:lnTo>
                  <a:lnTo>
                    <a:pt x="21" y="119"/>
                  </a:lnTo>
                  <a:lnTo>
                    <a:pt x="9" y="11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98" name="Freeform 35"/>
            <p:cNvSpPr/>
            <p:nvPr/>
          </p:nvSpPr>
          <p:spPr>
            <a:xfrm>
              <a:off x="7010280" y="4952880"/>
              <a:ext cx="1828440" cy="1523880"/>
            </a:xfrm>
            <a:custGeom>
              <a:avLst/>
              <a:gdLst>
                <a:gd name="textAreaLeft" fmla="*/ 0 w 1828440"/>
                <a:gd name="textAreaRight" fmla="*/ 1828800 w 18284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1629" h="1602">
                  <a:moveTo>
                    <a:pt x="1252" y="1600"/>
                  </a:moveTo>
                  <a:lnTo>
                    <a:pt x="1239" y="1561"/>
                  </a:lnTo>
                  <a:lnTo>
                    <a:pt x="1224" y="1522"/>
                  </a:lnTo>
                  <a:lnTo>
                    <a:pt x="1206" y="1483"/>
                  </a:lnTo>
                  <a:lnTo>
                    <a:pt x="1188" y="1446"/>
                  </a:lnTo>
                  <a:lnTo>
                    <a:pt x="1167" y="1409"/>
                  </a:lnTo>
                  <a:lnTo>
                    <a:pt x="1146" y="1373"/>
                  </a:lnTo>
                  <a:lnTo>
                    <a:pt x="1123" y="1339"/>
                  </a:lnTo>
                  <a:lnTo>
                    <a:pt x="1099" y="1308"/>
                  </a:lnTo>
                  <a:lnTo>
                    <a:pt x="1089" y="1294"/>
                  </a:lnTo>
                  <a:lnTo>
                    <a:pt x="1078" y="1280"/>
                  </a:lnTo>
                  <a:lnTo>
                    <a:pt x="1065" y="1264"/>
                  </a:lnTo>
                  <a:lnTo>
                    <a:pt x="1051" y="1249"/>
                  </a:lnTo>
                  <a:lnTo>
                    <a:pt x="1038" y="1236"/>
                  </a:lnTo>
                  <a:lnTo>
                    <a:pt x="1023" y="1224"/>
                  </a:lnTo>
                  <a:lnTo>
                    <a:pt x="1017" y="1218"/>
                  </a:lnTo>
                  <a:lnTo>
                    <a:pt x="1011" y="1215"/>
                  </a:lnTo>
                  <a:lnTo>
                    <a:pt x="1003" y="1211"/>
                  </a:lnTo>
                  <a:lnTo>
                    <a:pt x="997" y="1210"/>
                  </a:lnTo>
                  <a:lnTo>
                    <a:pt x="990" y="1219"/>
                  </a:lnTo>
                  <a:lnTo>
                    <a:pt x="984" y="1230"/>
                  </a:lnTo>
                  <a:lnTo>
                    <a:pt x="981" y="1243"/>
                  </a:lnTo>
                  <a:lnTo>
                    <a:pt x="978" y="1257"/>
                  </a:lnTo>
                  <a:lnTo>
                    <a:pt x="975" y="1272"/>
                  </a:lnTo>
                  <a:lnTo>
                    <a:pt x="973" y="1288"/>
                  </a:lnTo>
                  <a:lnTo>
                    <a:pt x="972" y="1305"/>
                  </a:lnTo>
                  <a:lnTo>
                    <a:pt x="972" y="1322"/>
                  </a:lnTo>
                  <a:lnTo>
                    <a:pt x="972" y="1356"/>
                  </a:lnTo>
                  <a:lnTo>
                    <a:pt x="973" y="1389"/>
                  </a:lnTo>
                  <a:lnTo>
                    <a:pt x="975" y="1418"/>
                  </a:lnTo>
                  <a:lnTo>
                    <a:pt x="976" y="1442"/>
                  </a:lnTo>
                  <a:lnTo>
                    <a:pt x="976" y="1457"/>
                  </a:lnTo>
                  <a:lnTo>
                    <a:pt x="976" y="1473"/>
                  </a:lnTo>
                  <a:lnTo>
                    <a:pt x="976" y="1488"/>
                  </a:lnTo>
                  <a:lnTo>
                    <a:pt x="976" y="1504"/>
                  </a:lnTo>
                  <a:lnTo>
                    <a:pt x="976" y="1519"/>
                  </a:lnTo>
                  <a:lnTo>
                    <a:pt x="976" y="1536"/>
                  </a:lnTo>
                  <a:lnTo>
                    <a:pt x="975" y="1550"/>
                  </a:lnTo>
                  <a:lnTo>
                    <a:pt x="975" y="1567"/>
                  </a:lnTo>
                  <a:lnTo>
                    <a:pt x="976" y="1569"/>
                  </a:lnTo>
                  <a:lnTo>
                    <a:pt x="976" y="1571"/>
                  </a:lnTo>
                  <a:lnTo>
                    <a:pt x="976" y="1572"/>
                  </a:lnTo>
                  <a:lnTo>
                    <a:pt x="978" y="1574"/>
                  </a:lnTo>
                  <a:lnTo>
                    <a:pt x="978" y="1575"/>
                  </a:lnTo>
                  <a:lnTo>
                    <a:pt x="978" y="1578"/>
                  </a:lnTo>
                  <a:lnTo>
                    <a:pt x="978" y="1580"/>
                  </a:lnTo>
                  <a:lnTo>
                    <a:pt x="976" y="1580"/>
                  </a:lnTo>
                  <a:lnTo>
                    <a:pt x="975" y="1580"/>
                  </a:lnTo>
                  <a:lnTo>
                    <a:pt x="973" y="1580"/>
                  </a:lnTo>
                  <a:lnTo>
                    <a:pt x="972" y="1578"/>
                  </a:lnTo>
                  <a:lnTo>
                    <a:pt x="970" y="1578"/>
                  </a:lnTo>
                  <a:lnTo>
                    <a:pt x="969" y="1578"/>
                  </a:lnTo>
                  <a:lnTo>
                    <a:pt x="967" y="1578"/>
                  </a:lnTo>
                  <a:lnTo>
                    <a:pt x="966" y="1578"/>
                  </a:lnTo>
                  <a:lnTo>
                    <a:pt x="964" y="1580"/>
                  </a:lnTo>
                  <a:lnTo>
                    <a:pt x="964" y="1581"/>
                  </a:lnTo>
                  <a:lnTo>
                    <a:pt x="963" y="1583"/>
                  </a:lnTo>
                  <a:lnTo>
                    <a:pt x="963" y="1585"/>
                  </a:lnTo>
                  <a:lnTo>
                    <a:pt x="963" y="1586"/>
                  </a:lnTo>
                  <a:lnTo>
                    <a:pt x="961" y="1588"/>
                  </a:lnTo>
                  <a:lnTo>
                    <a:pt x="960" y="1588"/>
                  </a:lnTo>
                  <a:lnTo>
                    <a:pt x="958" y="1588"/>
                  </a:lnTo>
                  <a:lnTo>
                    <a:pt x="957" y="1588"/>
                  </a:lnTo>
                  <a:lnTo>
                    <a:pt x="955" y="1588"/>
                  </a:lnTo>
                  <a:lnTo>
                    <a:pt x="954" y="1588"/>
                  </a:lnTo>
                  <a:lnTo>
                    <a:pt x="954" y="1583"/>
                  </a:lnTo>
                  <a:lnTo>
                    <a:pt x="954" y="1574"/>
                  </a:lnTo>
                  <a:lnTo>
                    <a:pt x="955" y="1563"/>
                  </a:lnTo>
                  <a:lnTo>
                    <a:pt x="955" y="1549"/>
                  </a:lnTo>
                  <a:lnTo>
                    <a:pt x="957" y="1536"/>
                  </a:lnTo>
                  <a:lnTo>
                    <a:pt x="958" y="1524"/>
                  </a:lnTo>
                  <a:lnTo>
                    <a:pt x="958" y="1511"/>
                  </a:lnTo>
                  <a:lnTo>
                    <a:pt x="958" y="1502"/>
                  </a:lnTo>
                  <a:lnTo>
                    <a:pt x="955" y="1490"/>
                  </a:lnTo>
                  <a:lnTo>
                    <a:pt x="951" y="1477"/>
                  </a:lnTo>
                  <a:lnTo>
                    <a:pt x="948" y="1463"/>
                  </a:lnTo>
                  <a:lnTo>
                    <a:pt x="945" y="1452"/>
                  </a:lnTo>
                  <a:lnTo>
                    <a:pt x="942" y="1438"/>
                  </a:lnTo>
                  <a:lnTo>
                    <a:pt x="937" y="1426"/>
                  </a:lnTo>
                  <a:lnTo>
                    <a:pt x="934" y="1414"/>
                  </a:lnTo>
                  <a:lnTo>
                    <a:pt x="930" y="1401"/>
                  </a:lnTo>
                  <a:lnTo>
                    <a:pt x="919" y="1382"/>
                  </a:lnTo>
                  <a:lnTo>
                    <a:pt x="909" y="1359"/>
                  </a:lnTo>
                  <a:lnTo>
                    <a:pt x="897" y="1336"/>
                  </a:lnTo>
                  <a:lnTo>
                    <a:pt x="883" y="1311"/>
                  </a:lnTo>
                  <a:lnTo>
                    <a:pt x="870" y="1288"/>
                  </a:lnTo>
                  <a:lnTo>
                    <a:pt x="853" y="1269"/>
                  </a:lnTo>
                  <a:lnTo>
                    <a:pt x="846" y="1260"/>
                  </a:lnTo>
                  <a:lnTo>
                    <a:pt x="838" y="1253"/>
                  </a:lnTo>
                  <a:lnTo>
                    <a:pt x="831" y="1249"/>
                  </a:lnTo>
                  <a:lnTo>
                    <a:pt x="822" y="1246"/>
                  </a:lnTo>
                  <a:lnTo>
                    <a:pt x="820" y="1249"/>
                  </a:lnTo>
                  <a:lnTo>
                    <a:pt x="817" y="1253"/>
                  </a:lnTo>
                  <a:lnTo>
                    <a:pt x="813" y="1258"/>
                  </a:lnTo>
                  <a:lnTo>
                    <a:pt x="807" y="1263"/>
                  </a:lnTo>
                  <a:lnTo>
                    <a:pt x="804" y="1267"/>
                  </a:lnTo>
                  <a:lnTo>
                    <a:pt x="799" y="1270"/>
                  </a:lnTo>
                  <a:lnTo>
                    <a:pt x="793" y="1274"/>
                  </a:lnTo>
                  <a:lnTo>
                    <a:pt x="790" y="1275"/>
                  </a:lnTo>
                  <a:lnTo>
                    <a:pt x="769" y="1311"/>
                  </a:lnTo>
                  <a:lnTo>
                    <a:pt x="748" y="1345"/>
                  </a:lnTo>
                  <a:lnTo>
                    <a:pt x="729" y="1381"/>
                  </a:lnTo>
                  <a:lnTo>
                    <a:pt x="709" y="1417"/>
                  </a:lnTo>
                  <a:lnTo>
                    <a:pt x="691" y="1452"/>
                  </a:lnTo>
                  <a:lnTo>
                    <a:pt x="672" y="1488"/>
                  </a:lnTo>
                  <a:lnTo>
                    <a:pt x="652" y="1522"/>
                  </a:lnTo>
                  <a:lnTo>
                    <a:pt x="628" y="1557"/>
                  </a:lnTo>
                  <a:lnTo>
                    <a:pt x="628" y="1560"/>
                  </a:lnTo>
                  <a:lnTo>
                    <a:pt x="628" y="1561"/>
                  </a:lnTo>
                  <a:lnTo>
                    <a:pt x="628" y="1564"/>
                  </a:lnTo>
                  <a:lnTo>
                    <a:pt x="627" y="1566"/>
                  </a:lnTo>
                  <a:lnTo>
                    <a:pt x="627" y="1569"/>
                  </a:lnTo>
                  <a:lnTo>
                    <a:pt x="625" y="1572"/>
                  </a:lnTo>
                  <a:lnTo>
                    <a:pt x="625" y="1574"/>
                  </a:lnTo>
                  <a:lnTo>
                    <a:pt x="625" y="1575"/>
                  </a:lnTo>
                  <a:lnTo>
                    <a:pt x="621" y="1575"/>
                  </a:lnTo>
                  <a:lnTo>
                    <a:pt x="619" y="1575"/>
                  </a:lnTo>
                  <a:lnTo>
                    <a:pt x="618" y="1575"/>
                  </a:lnTo>
                  <a:lnTo>
                    <a:pt x="616" y="1575"/>
                  </a:lnTo>
                  <a:lnTo>
                    <a:pt x="615" y="1575"/>
                  </a:lnTo>
                  <a:lnTo>
                    <a:pt x="613" y="1575"/>
                  </a:lnTo>
                  <a:lnTo>
                    <a:pt x="613" y="1574"/>
                  </a:lnTo>
                  <a:lnTo>
                    <a:pt x="612" y="1574"/>
                  </a:lnTo>
                  <a:lnTo>
                    <a:pt x="615" y="1567"/>
                  </a:lnTo>
                  <a:lnTo>
                    <a:pt x="616" y="1558"/>
                  </a:lnTo>
                  <a:lnTo>
                    <a:pt x="619" y="1550"/>
                  </a:lnTo>
                  <a:lnTo>
                    <a:pt x="621" y="1543"/>
                  </a:lnTo>
                  <a:lnTo>
                    <a:pt x="624" y="1536"/>
                  </a:lnTo>
                  <a:lnTo>
                    <a:pt x="625" y="1529"/>
                  </a:lnTo>
                  <a:lnTo>
                    <a:pt x="627" y="1521"/>
                  </a:lnTo>
                  <a:lnTo>
                    <a:pt x="627" y="1513"/>
                  </a:lnTo>
                  <a:lnTo>
                    <a:pt x="633" y="1488"/>
                  </a:lnTo>
                  <a:lnTo>
                    <a:pt x="642" y="1452"/>
                  </a:lnTo>
                  <a:lnTo>
                    <a:pt x="649" y="1409"/>
                  </a:lnTo>
                  <a:lnTo>
                    <a:pt x="655" y="1362"/>
                  </a:lnTo>
                  <a:lnTo>
                    <a:pt x="658" y="1340"/>
                  </a:lnTo>
                  <a:lnTo>
                    <a:pt x="660" y="1317"/>
                  </a:lnTo>
                  <a:lnTo>
                    <a:pt x="661" y="1297"/>
                  </a:lnTo>
                  <a:lnTo>
                    <a:pt x="660" y="1277"/>
                  </a:lnTo>
                  <a:lnTo>
                    <a:pt x="660" y="1260"/>
                  </a:lnTo>
                  <a:lnTo>
                    <a:pt x="657" y="1244"/>
                  </a:lnTo>
                  <a:lnTo>
                    <a:pt x="654" y="1233"/>
                  </a:lnTo>
                  <a:lnTo>
                    <a:pt x="648" y="1225"/>
                  </a:lnTo>
                  <a:lnTo>
                    <a:pt x="642" y="1224"/>
                  </a:lnTo>
                  <a:lnTo>
                    <a:pt x="637" y="1222"/>
                  </a:lnTo>
                  <a:lnTo>
                    <a:pt x="633" y="1222"/>
                  </a:lnTo>
                  <a:lnTo>
                    <a:pt x="630" y="1224"/>
                  </a:lnTo>
                  <a:lnTo>
                    <a:pt x="627" y="1224"/>
                  </a:lnTo>
                  <a:lnTo>
                    <a:pt x="624" y="1225"/>
                  </a:lnTo>
                  <a:lnTo>
                    <a:pt x="619" y="1227"/>
                  </a:lnTo>
                  <a:lnTo>
                    <a:pt x="615" y="1229"/>
                  </a:lnTo>
                  <a:lnTo>
                    <a:pt x="588" y="1253"/>
                  </a:lnTo>
                  <a:lnTo>
                    <a:pt x="559" y="1278"/>
                  </a:lnTo>
                  <a:lnTo>
                    <a:pt x="532" y="1306"/>
                  </a:lnTo>
                  <a:lnTo>
                    <a:pt x="507" y="1334"/>
                  </a:lnTo>
                  <a:lnTo>
                    <a:pt x="483" y="1364"/>
                  </a:lnTo>
                  <a:lnTo>
                    <a:pt x="459" y="1393"/>
                  </a:lnTo>
                  <a:lnTo>
                    <a:pt x="448" y="1410"/>
                  </a:lnTo>
                  <a:lnTo>
                    <a:pt x="439" y="1426"/>
                  </a:lnTo>
                  <a:lnTo>
                    <a:pt x="429" y="1443"/>
                  </a:lnTo>
                  <a:lnTo>
                    <a:pt x="421" y="1460"/>
                  </a:lnTo>
                  <a:lnTo>
                    <a:pt x="415" y="1466"/>
                  </a:lnTo>
                  <a:lnTo>
                    <a:pt x="409" y="1477"/>
                  </a:lnTo>
                  <a:lnTo>
                    <a:pt x="405" y="1488"/>
                  </a:lnTo>
                  <a:lnTo>
                    <a:pt x="399" y="1499"/>
                  </a:lnTo>
                  <a:lnTo>
                    <a:pt x="393" y="1510"/>
                  </a:lnTo>
                  <a:lnTo>
                    <a:pt x="385" y="1519"/>
                  </a:lnTo>
                  <a:lnTo>
                    <a:pt x="382" y="1522"/>
                  </a:lnTo>
                  <a:lnTo>
                    <a:pt x="379" y="1525"/>
                  </a:lnTo>
                  <a:lnTo>
                    <a:pt x="376" y="1529"/>
                  </a:lnTo>
                  <a:lnTo>
                    <a:pt x="372" y="1529"/>
                  </a:lnTo>
                  <a:lnTo>
                    <a:pt x="370" y="1527"/>
                  </a:lnTo>
                  <a:lnTo>
                    <a:pt x="370" y="1525"/>
                  </a:lnTo>
                  <a:lnTo>
                    <a:pt x="370" y="1524"/>
                  </a:lnTo>
                  <a:lnTo>
                    <a:pt x="369" y="1522"/>
                  </a:lnTo>
                  <a:lnTo>
                    <a:pt x="369" y="1521"/>
                  </a:lnTo>
                  <a:lnTo>
                    <a:pt x="367" y="1521"/>
                  </a:lnTo>
                  <a:lnTo>
                    <a:pt x="366" y="1521"/>
                  </a:lnTo>
                  <a:lnTo>
                    <a:pt x="364" y="1521"/>
                  </a:lnTo>
                  <a:lnTo>
                    <a:pt x="363" y="1521"/>
                  </a:lnTo>
                  <a:lnTo>
                    <a:pt x="361" y="1521"/>
                  </a:lnTo>
                  <a:lnTo>
                    <a:pt x="360" y="1521"/>
                  </a:lnTo>
                  <a:lnTo>
                    <a:pt x="358" y="1519"/>
                  </a:lnTo>
                  <a:lnTo>
                    <a:pt x="360" y="1516"/>
                  </a:lnTo>
                  <a:lnTo>
                    <a:pt x="361" y="1516"/>
                  </a:lnTo>
                  <a:lnTo>
                    <a:pt x="363" y="1515"/>
                  </a:lnTo>
                  <a:lnTo>
                    <a:pt x="364" y="1515"/>
                  </a:lnTo>
                  <a:lnTo>
                    <a:pt x="366" y="1515"/>
                  </a:lnTo>
                  <a:lnTo>
                    <a:pt x="369" y="1515"/>
                  </a:lnTo>
                  <a:lnTo>
                    <a:pt x="372" y="1515"/>
                  </a:lnTo>
                  <a:lnTo>
                    <a:pt x="373" y="1513"/>
                  </a:lnTo>
                  <a:lnTo>
                    <a:pt x="373" y="1511"/>
                  </a:lnTo>
                  <a:lnTo>
                    <a:pt x="373" y="1510"/>
                  </a:lnTo>
                  <a:lnTo>
                    <a:pt x="373" y="1508"/>
                  </a:lnTo>
                  <a:lnTo>
                    <a:pt x="372" y="1507"/>
                  </a:lnTo>
                  <a:lnTo>
                    <a:pt x="372" y="1505"/>
                  </a:lnTo>
                  <a:lnTo>
                    <a:pt x="370" y="1505"/>
                  </a:lnTo>
                  <a:lnTo>
                    <a:pt x="372" y="1502"/>
                  </a:lnTo>
                  <a:lnTo>
                    <a:pt x="373" y="1499"/>
                  </a:lnTo>
                  <a:lnTo>
                    <a:pt x="375" y="1496"/>
                  </a:lnTo>
                  <a:lnTo>
                    <a:pt x="375" y="1493"/>
                  </a:lnTo>
                  <a:lnTo>
                    <a:pt x="376" y="1491"/>
                  </a:lnTo>
                  <a:lnTo>
                    <a:pt x="376" y="1488"/>
                  </a:lnTo>
                  <a:lnTo>
                    <a:pt x="378" y="1485"/>
                  </a:lnTo>
                  <a:lnTo>
                    <a:pt x="379" y="1485"/>
                  </a:lnTo>
                  <a:lnTo>
                    <a:pt x="381" y="1485"/>
                  </a:lnTo>
                  <a:lnTo>
                    <a:pt x="382" y="1485"/>
                  </a:lnTo>
                  <a:lnTo>
                    <a:pt x="384" y="1480"/>
                  </a:lnTo>
                  <a:lnTo>
                    <a:pt x="385" y="1476"/>
                  </a:lnTo>
                  <a:lnTo>
                    <a:pt x="387" y="1471"/>
                  </a:lnTo>
                  <a:lnTo>
                    <a:pt x="388" y="1468"/>
                  </a:lnTo>
                  <a:lnTo>
                    <a:pt x="390" y="1463"/>
                  </a:lnTo>
                  <a:lnTo>
                    <a:pt x="393" y="1462"/>
                  </a:lnTo>
                  <a:lnTo>
                    <a:pt x="394" y="1457"/>
                  </a:lnTo>
                  <a:lnTo>
                    <a:pt x="396" y="1454"/>
                  </a:lnTo>
                  <a:lnTo>
                    <a:pt x="408" y="1424"/>
                  </a:lnTo>
                  <a:lnTo>
                    <a:pt x="417" y="1393"/>
                  </a:lnTo>
                  <a:lnTo>
                    <a:pt x="427" y="1364"/>
                  </a:lnTo>
                  <a:lnTo>
                    <a:pt x="438" y="1334"/>
                  </a:lnTo>
                  <a:lnTo>
                    <a:pt x="447" y="1305"/>
                  </a:lnTo>
                  <a:lnTo>
                    <a:pt x="453" y="1274"/>
                  </a:lnTo>
                  <a:lnTo>
                    <a:pt x="459" y="1243"/>
                  </a:lnTo>
                  <a:lnTo>
                    <a:pt x="460" y="1213"/>
                  </a:lnTo>
                  <a:lnTo>
                    <a:pt x="459" y="1210"/>
                  </a:lnTo>
                  <a:lnTo>
                    <a:pt x="457" y="1207"/>
                  </a:lnTo>
                  <a:lnTo>
                    <a:pt x="454" y="1205"/>
                  </a:lnTo>
                  <a:lnTo>
                    <a:pt x="453" y="1204"/>
                  </a:lnTo>
                  <a:lnTo>
                    <a:pt x="451" y="1202"/>
                  </a:lnTo>
                  <a:lnTo>
                    <a:pt x="450" y="1201"/>
                  </a:lnTo>
                  <a:lnTo>
                    <a:pt x="448" y="1201"/>
                  </a:lnTo>
                  <a:lnTo>
                    <a:pt x="447" y="1201"/>
                  </a:lnTo>
                  <a:lnTo>
                    <a:pt x="442" y="1196"/>
                  </a:lnTo>
                  <a:lnTo>
                    <a:pt x="438" y="1191"/>
                  </a:lnTo>
                  <a:lnTo>
                    <a:pt x="435" y="1187"/>
                  </a:lnTo>
                  <a:lnTo>
                    <a:pt x="433" y="1183"/>
                  </a:lnTo>
                  <a:lnTo>
                    <a:pt x="432" y="1180"/>
                  </a:lnTo>
                  <a:lnTo>
                    <a:pt x="430" y="1176"/>
                  </a:lnTo>
                  <a:lnTo>
                    <a:pt x="430" y="1171"/>
                  </a:lnTo>
                  <a:lnTo>
                    <a:pt x="429" y="1166"/>
                  </a:lnTo>
                  <a:lnTo>
                    <a:pt x="418" y="1169"/>
                  </a:lnTo>
                  <a:lnTo>
                    <a:pt x="408" y="1174"/>
                  </a:lnTo>
                  <a:lnTo>
                    <a:pt x="396" y="1179"/>
                  </a:lnTo>
                  <a:lnTo>
                    <a:pt x="382" y="1187"/>
                  </a:lnTo>
                  <a:lnTo>
                    <a:pt x="372" y="1193"/>
                  </a:lnTo>
                  <a:lnTo>
                    <a:pt x="360" y="1201"/>
                  </a:lnTo>
                  <a:lnTo>
                    <a:pt x="349" y="1205"/>
                  </a:lnTo>
                  <a:lnTo>
                    <a:pt x="340" y="1210"/>
                  </a:lnTo>
                  <a:lnTo>
                    <a:pt x="322" y="1218"/>
                  </a:lnTo>
                  <a:lnTo>
                    <a:pt x="304" y="1225"/>
                  </a:lnTo>
                  <a:lnTo>
                    <a:pt x="283" y="1235"/>
                  </a:lnTo>
                  <a:lnTo>
                    <a:pt x="262" y="1244"/>
                  </a:lnTo>
                  <a:lnTo>
                    <a:pt x="240" y="1257"/>
                  </a:lnTo>
                  <a:lnTo>
                    <a:pt x="220" y="1269"/>
                  </a:lnTo>
                  <a:lnTo>
                    <a:pt x="202" y="1280"/>
                  </a:lnTo>
                  <a:lnTo>
                    <a:pt x="189" y="1291"/>
                  </a:lnTo>
                  <a:lnTo>
                    <a:pt x="187" y="1291"/>
                  </a:lnTo>
                  <a:lnTo>
                    <a:pt x="186" y="1291"/>
                  </a:lnTo>
                  <a:lnTo>
                    <a:pt x="183" y="1291"/>
                  </a:lnTo>
                  <a:lnTo>
                    <a:pt x="181" y="1291"/>
                  </a:lnTo>
                  <a:lnTo>
                    <a:pt x="180" y="1291"/>
                  </a:lnTo>
                  <a:lnTo>
                    <a:pt x="178" y="1291"/>
                  </a:lnTo>
                  <a:lnTo>
                    <a:pt x="177" y="1291"/>
                  </a:lnTo>
                  <a:lnTo>
                    <a:pt x="174" y="1291"/>
                  </a:lnTo>
                  <a:lnTo>
                    <a:pt x="174" y="1289"/>
                  </a:lnTo>
                  <a:lnTo>
                    <a:pt x="174" y="1288"/>
                  </a:lnTo>
                  <a:lnTo>
                    <a:pt x="174" y="1286"/>
                  </a:lnTo>
                  <a:lnTo>
                    <a:pt x="174" y="1284"/>
                  </a:lnTo>
                  <a:lnTo>
                    <a:pt x="174" y="1283"/>
                  </a:lnTo>
                  <a:lnTo>
                    <a:pt x="174" y="1281"/>
                  </a:lnTo>
                  <a:lnTo>
                    <a:pt x="174" y="1280"/>
                  </a:lnTo>
                  <a:lnTo>
                    <a:pt x="174" y="1278"/>
                  </a:lnTo>
                  <a:lnTo>
                    <a:pt x="196" y="1257"/>
                  </a:lnTo>
                  <a:lnTo>
                    <a:pt x="216" y="1233"/>
                  </a:lnTo>
                  <a:lnTo>
                    <a:pt x="237" y="1208"/>
                  </a:lnTo>
                  <a:lnTo>
                    <a:pt x="256" y="1183"/>
                  </a:lnTo>
                  <a:lnTo>
                    <a:pt x="274" y="1160"/>
                  </a:lnTo>
                  <a:lnTo>
                    <a:pt x="294" y="1132"/>
                  </a:lnTo>
                  <a:lnTo>
                    <a:pt x="309" y="1106"/>
                  </a:lnTo>
                  <a:lnTo>
                    <a:pt x="324" y="1079"/>
                  </a:lnTo>
                  <a:lnTo>
                    <a:pt x="324" y="1078"/>
                  </a:lnTo>
                  <a:lnTo>
                    <a:pt x="324" y="1076"/>
                  </a:lnTo>
                  <a:lnTo>
                    <a:pt x="324" y="1075"/>
                  </a:lnTo>
                  <a:lnTo>
                    <a:pt x="316" y="1070"/>
                  </a:lnTo>
                  <a:lnTo>
                    <a:pt x="310" y="1065"/>
                  </a:lnTo>
                  <a:lnTo>
                    <a:pt x="309" y="1061"/>
                  </a:lnTo>
                  <a:lnTo>
                    <a:pt x="306" y="1056"/>
                  </a:lnTo>
                  <a:lnTo>
                    <a:pt x="304" y="1051"/>
                  </a:lnTo>
                  <a:lnTo>
                    <a:pt x="303" y="1047"/>
                  </a:lnTo>
                  <a:lnTo>
                    <a:pt x="301" y="1040"/>
                  </a:lnTo>
                  <a:lnTo>
                    <a:pt x="301" y="1033"/>
                  </a:lnTo>
                  <a:lnTo>
                    <a:pt x="297" y="1033"/>
                  </a:lnTo>
                  <a:lnTo>
                    <a:pt x="292" y="1034"/>
                  </a:lnTo>
                  <a:lnTo>
                    <a:pt x="288" y="1034"/>
                  </a:lnTo>
                  <a:lnTo>
                    <a:pt x="283" y="1034"/>
                  </a:lnTo>
                  <a:lnTo>
                    <a:pt x="279" y="1036"/>
                  </a:lnTo>
                  <a:lnTo>
                    <a:pt x="274" y="1036"/>
                  </a:lnTo>
                  <a:lnTo>
                    <a:pt x="271" y="1037"/>
                  </a:lnTo>
                  <a:lnTo>
                    <a:pt x="267" y="1037"/>
                  </a:lnTo>
                  <a:lnTo>
                    <a:pt x="238" y="1048"/>
                  </a:lnTo>
                  <a:lnTo>
                    <a:pt x="210" y="1054"/>
                  </a:lnTo>
                  <a:lnTo>
                    <a:pt x="183" y="1061"/>
                  </a:lnTo>
                  <a:lnTo>
                    <a:pt x="154" y="1067"/>
                  </a:lnTo>
                  <a:lnTo>
                    <a:pt x="126" y="1073"/>
                  </a:lnTo>
                  <a:lnTo>
                    <a:pt x="97" y="1079"/>
                  </a:lnTo>
                  <a:lnTo>
                    <a:pt x="70" y="1087"/>
                  </a:lnTo>
                  <a:lnTo>
                    <a:pt x="43" y="1095"/>
                  </a:lnTo>
                  <a:lnTo>
                    <a:pt x="40" y="1095"/>
                  </a:lnTo>
                  <a:lnTo>
                    <a:pt x="36" y="1095"/>
                  </a:lnTo>
                  <a:lnTo>
                    <a:pt x="33" y="1095"/>
                  </a:lnTo>
                  <a:lnTo>
                    <a:pt x="30" y="1095"/>
                  </a:lnTo>
                  <a:lnTo>
                    <a:pt x="27" y="1095"/>
                  </a:lnTo>
                  <a:lnTo>
                    <a:pt x="25" y="1095"/>
                  </a:lnTo>
                  <a:lnTo>
                    <a:pt x="21" y="1095"/>
                  </a:lnTo>
                  <a:lnTo>
                    <a:pt x="18" y="1095"/>
                  </a:lnTo>
                  <a:lnTo>
                    <a:pt x="18" y="1090"/>
                  </a:lnTo>
                  <a:lnTo>
                    <a:pt x="19" y="1087"/>
                  </a:lnTo>
                  <a:lnTo>
                    <a:pt x="19" y="1084"/>
                  </a:lnTo>
                  <a:lnTo>
                    <a:pt x="21" y="1081"/>
                  </a:lnTo>
                  <a:lnTo>
                    <a:pt x="22" y="1079"/>
                  </a:lnTo>
                  <a:lnTo>
                    <a:pt x="25" y="1078"/>
                  </a:lnTo>
                  <a:lnTo>
                    <a:pt x="27" y="1075"/>
                  </a:lnTo>
                  <a:lnTo>
                    <a:pt x="30" y="1072"/>
                  </a:lnTo>
                  <a:lnTo>
                    <a:pt x="58" y="1051"/>
                  </a:lnTo>
                  <a:lnTo>
                    <a:pt x="91" y="1030"/>
                  </a:lnTo>
                  <a:lnTo>
                    <a:pt x="126" y="1003"/>
                  </a:lnTo>
                  <a:lnTo>
                    <a:pt x="159" y="975"/>
                  </a:lnTo>
                  <a:lnTo>
                    <a:pt x="175" y="960"/>
                  </a:lnTo>
                  <a:lnTo>
                    <a:pt x="190" y="944"/>
                  </a:lnTo>
                  <a:lnTo>
                    <a:pt x="204" y="928"/>
                  </a:lnTo>
                  <a:lnTo>
                    <a:pt x="217" y="911"/>
                  </a:lnTo>
                  <a:lnTo>
                    <a:pt x="228" y="894"/>
                  </a:lnTo>
                  <a:lnTo>
                    <a:pt x="237" y="877"/>
                  </a:lnTo>
                  <a:lnTo>
                    <a:pt x="241" y="860"/>
                  </a:lnTo>
                  <a:lnTo>
                    <a:pt x="244" y="841"/>
                  </a:lnTo>
                  <a:lnTo>
                    <a:pt x="238" y="827"/>
                  </a:lnTo>
                  <a:lnTo>
                    <a:pt x="229" y="812"/>
                  </a:lnTo>
                  <a:lnTo>
                    <a:pt x="217" y="798"/>
                  </a:lnTo>
                  <a:lnTo>
                    <a:pt x="205" y="785"/>
                  </a:lnTo>
                  <a:lnTo>
                    <a:pt x="193" y="771"/>
                  </a:lnTo>
                  <a:lnTo>
                    <a:pt x="178" y="759"/>
                  </a:lnTo>
                  <a:lnTo>
                    <a:pt x="163" y="748"/>
                  </a:lnTo>
                  <a:lnTo>
                    <a:pt x="147" y="737"/>
                  </a:lnTo>
                  <a:lnTo>
                    <a:pt x="115" y="717"/>
                  </a:lnTo>
                  <a:lnTo>
                    <a:pt x="82" y="702"/>
                  </a:lnTo>
                  <a:lnTo>
                    <a:pt x="51" y="688"/>
                  </a:lnTo>
                  <a:lnTo>
                    <a:pt x="24" y="680"/>
                  </a:lnTo>
                  <a:lnTo>
                    <a:pt x="21" y="677"/>
                  </a:lnTo>
                  <a:lnTo>
                    <a:pt x="18" y="675"/>
                  </a:lnTo>
                  <a:lnTo>
                    <a:pt x="15" y="674"/>
                  </a:lnTo>
                  <a:lnTo>
                    <a:pt x="12" y="672"/>
                  </a:lnTo>
                  <a:lnTo>
                    <a:pt x="9" y="670"/>
                  </a:lnTo>
                  <a:lnTo>
                    <a:pt x="6" y="669"/>
                  </a:lnTo>
                  <a:lnTo>
                    <a:pt x="3" y="667"/>
                  </a:lnTo>
                  <a:lnTo>
                    <a:pt x="0" y="666"/>
                  </a:lnTo>
                  <a:lnTo>
                    <a:pt x="0" y="664"/>
                  </a:lnTo>
                  <a:lnTo>
                    <a:pt x="0" y="663"/>
                  </a:lnTo>
                  <a:lnTo>
                    <a:pt x="0" y="661"/>
                  </a:lnTo>
                  <a:lnTo>
                    <a:pt x="0" y="660"/>
                  </a:lnTo>
                  <a:lnTo>
                    <a:pt x="0" y="658"/>
                  </a:lnTo>
                  <a:lnTo>
                    <a:pt x="0" y="656"/>
                  </a:lnTo>
                  <a:lnTo>
                    <a:pt x="0" y="655"/>
                  </a:lnTo>
                  <a:lnTo>
                    <a:pt x="0" y="653"/>
                  </a:lnTo>
                  <a:lnTo>
                    <a:pt x="19" y="655"/>
                  </a:lnTo>
                  <a:lnTo>
                    <a:pt x="40" y="658"/>
                  </a:lnTo>
                  <a:lnTo>
                    <a:pt x="61" y="663"/>
                  </a:lnTo>
                  <a:lnTo>
                    <a:pt x="84" y="667"/>
                  </a:lnTo>
                  <a:lnTo>
                    <a:pt x="105" y="672"/>
                  </a:lnTo>
                  <a:lnTo>
                    <a:pt x="129" y="675"/>
                  </a:lnTo>
                  <a:lnTo>
                    <a:pt x="150" y="678"/>
                  </a:lnTo>
                  <a:lnTo>
                    <a:pt x="172" y="680"/>
                  </a:lnTo>
                  <a:lnTo>
                    <a:pt x="178" y="680"/>
                  </a:lnTo>
                  <a:lnTo>
                    <a:pt x="184" y="680"/>
                  </a:lnTo>
                  <a:lnTo>
                    <a:pt x="189" y="680"/>
                  </a:lnTo>
                  <a:lnTo>
                    <a:pt x="195" y="678"/>
                  </a:lnTo>
                  <a:lnTo>
                    <a:pt x="201" y="678"/>
                  </a:lnTo>
                  <a:lnTo>
                    <a:pt x="205" y="678"/>
                  </a:lnTo>
                  <a:lnTo>
                    <a:pt x="211" y="678"/>
                  </a:lnTo>
                  <a:lnTo>
                    <a:pt x="217" y="677"/>
                  </a:lnTo>
                  <a:lnTo>
                    <a:pt x="223" y="674"/>
                  </a:lnTo>
                  <a:lnTo>
                    <a:pt x="229" y="669"/>
                  </a:lnTo>
                  <a:lnTo>
                    <a:pt x="234" y="664"/>
                  </a:lnTo>
                  <a:lnTo>
                    <a:pt x="238" y="660"/>
                  </a:lnTo>
                  <a:lnTo>
                    <a:pt x="240" y="653"/>
                  </a:lnTo>
                  <a:lnTo>
                    <a:pt x="241" y="647"/>
                  </a:lnTo>
                  <a:lnTo>
                    <a:pt x="243" y="642"/>
                  </a:lnTo>
                  <a:lnTo>
                    <a:pt x="243" y="636"/>
                  </a:lnTo>
                  <a:lnTo>
                    <a:pt x="241" y="621"/>
                  </a:lnTo>
                  <a:lnTo>
                    <a:pt x="238" y="605"/>
                  </a:lnTo>
                  <a:lnTo>
                    <a:pt x="232" y="590"/>
                  </a:lnTo>
                  <a:lnTo>
                    <a:pt x="225" y="574"/>
                  </a:lnTo>
                  <a:lnTo>
                    <a:pt x="207" y="541"/>
                  </a:lnTo>
                  <a:lnTo>
                    <a:pt x="189" y="513"/>
                  </a:lnTo>
                  <a:lnTo>
                    <a:pt x="171" y="490"/>
                  </a:lnTo>
                  <a:lnTo>
                    <a:pt x="160" y="473"/>
                  </a:lnTo>
                  <a:lnTo>
                    <a:pt x="157" y="465"/>
                  </a:lnTo>
                  <a:lnTo>
                    <a:pt x="153" y="459"/>
                  </a:lnTo>
                  <a:lnTo>
                    <a:pt x="148" y="454"/>
                  </a:lnTo>
                  <a:lnTo>
                    <a:pt x="142" y="448"/>
                  </a:lnTo>
                  <a:lnTo>
                    <a:pt x="130" y="436"/>
                  </a:lnTo>
                  <a:lnTo>
                    <a:pt x="117" y="425"/>
                  </a:lnTo>
                  <a:lnTo>
                    <a:pt x="103" y="414"/>
                  </a:lnTo>
                  <a:lnTo>
                    <a:pt x="94" y="403"/>
                  </a:lnTo>
                  <a:lnTo>
                    <a:pt x="91" y="397"/>
                  </a:lnTo>
                  <a:lnTo>
                    <a:pt x="88" y="391"/>
                  </a:lnTo>
                  <a:lnTo>
                    <a:pt x="87" y="384"/>
                  </a:lnTo>
                  <a:lnTo>
                    <a:pt x="87" y="380"/>
                  </a:lnTo>
                  <a:lnTo>
                    <a:pt x="102" y="381"/>
                  </a:lnTo>
                  <a:lnTo>
                    <a:pt x="120" y="389"/>
                  </a:lnTo>
                  <a:lnTo>
                    <a:pt x="138" y="398"/>
                  </a:lnTo>
                  <a:lnTo>
                    <a:pt x="156" y="409"/>
                  </a:lnTo>
                  <a:lnTo>
                    <a:pt x="174" y="420"/>
                  </a:lnTo>
                  <a:lnTo>
                    <a:pt x="193" y="431"/>
                  </a:lnTo>
                  <a:lnTo>
                    <a:pt x="210" y="442"/>
                  </a:lnTo>
                  <a:lnTo>
                    <a:pt x="229" y="451"/>
                  </a:lnTo>
                  <a:lnTo>
                    <a:pt x="241" y="461"/>
                  </a:lnTo>
                  <a:lnTo>
                    <a:pt x="261" y="470"/>
                  </a:lnTo>
                  <a:lnTo>
                    <a:pt x="280" y="479"/>
                  </a:lnTo>
                  <a:lnTo>
                    <a:pt x="303" y="487"/>
                  </a:lnTo>
                  <a:lnTo>
                    <a:pt x="312" y="489"/>
                  </a:lnTo>
                  <a:lnTo>
                    <a:pt x="322" y="490"/>
                  </a:lnTo>
                  <a:lnTo>
                    <a:pt x="333" y="489"/>
                  </a:lnTo>
                  <a:lnTo>
                    <a:pt x="343" y="487"/>
                  </a:lnTo>
                  <a:lnTo>
                    <a:pt x="351" y="484"/>
                  </a:lnTo>
                  <a:lnTo>
                    <a:pt x="358" y="478"/>
                  </a:lnTo>
                  <a:lnTo>
                    <a:pt x="364" y="470"/>
                  </a:lnTo>
                  <a:lnTo>
                    <a:pt x="370" y="459"/>
                  </a:lnTo>
                  <a:lnTo>
                    <a:pt x="369" y="437"/>
                  </a:lnTo>
                  <a:lnTo>
                    <a:pt x="364" y="417"/>
                  </a:lnTo>
                  <a:lnTo>
                    <a:pt x="357" y="395"/>
                  </a:lnTo>
                  <a:lnTo>
                    <a:pt x="349" y="375"/>
                  </a:lnTo>
                  <a:lnTo>
                    <a:pt x="342" y="355"/>
                  </a:lnTo>
                  <a:lnTo>
                    <a:pt x="331" y="336"/>
                  </a:lnTo>
                  <a:lnTo>
                    <a:pt x="321" y="318"/>
                  </a:lnTo>
                  <a:lnTo>
                    <a:pt x="310" y="300"/>
                  </a:lnTo>
                  <a:lnTo>
                    <a:pt x="310" y="299"/>
                  </a:lnTo>
                  <a:lnTo>
                    <a:pt x="310" y="297"/>
                  </a:lnTo>
                  <a:lnTo>
                    <a:pt x="310" y="296"/>
                  </a:lnTo>
                  <a:lnTo>
                    <a:pt x="312" y="294"/>
                  </a:lnTo>
                  <a:lnTo>
                    <a:pt x="312" y="293"/>
                  </a:lnTo>
                  <a:lnTo>
                    <a:pt x="312" y="291"/>
                  </a:lnTo>
                  <a:lnTo>
                    <a:pt x="313" y="291"/>
                  </a:lnTo>
                  <a:lnTo>
                    <a:pt x="315" y="291"/>
                  </a:lnTo>
                  <a:lnTo>
                    <a:pt x="316" y="291"/>
                  </a:lnTo>
                  <a:lnTo>
                    <a:pt x="318" y="291"/>
                  </a:lnTo>
                  <a:lnTo>
                    <a:pt x="319" y="291"/>
                  </a:lnTo>
                  <a:lnTo>
                    <a:pt x="321" y="291"/>
                  </a:lnTo>
                  <a:lnTo>
                    <a:pt x="322" y="293"/>
                  </a:lnTo>
                  <a:lnTo>
                    <a:pt x="322" y="294"/>
                  </a:lnTo>
                  <a:lnTo>
                    <a:pt x="324" y="296"/>
                  </a:lnTo>
                  <a:lnTo>
                    <a:pt x="325" y="297"/>
                  </a:lnTo>
                  <a:lnTo>
                    <a:pt x="327" y="299"/>
                  </a:lnTo>
                  <a:lnTo>
                    <a:pt x="327" y="300"/>
                  </a:lnTo>
                  <a:lnTo>
                    <a:pt x="328" y="302"/>
                  </a:lnTo>
                  <a:lnTo>
                    <a:pt x="330" y="304"/>
                  </a:lnTo>
                  <a:lnTo>
                    <a:pt x="337" y="307"/>
                  </a:lnTo>
                  <a:lnTo>
                    <a:pt x="345" y="313"/>
                  </a:lnTo>
                  <a:lnTo>
                    <a:pt x="351" y="318"/>
                  </a:lnTo>
                  <a:lnTo>
                    <a:pt x="358" y="325"/>
                  </a:lnTo>
                  <a:lnTo>
                    <a:pt x="372" y="339"/>
                  </a:lnTo>
                  <a:lnTo>
                    <a:pt x="384" y="353"/>
                  </a:lnTo>
                  <a:lnTo>
                    <a:pt x="399" y="367"/>
                  </a:lnTo>
                  <a:lnTo>
                    <a:pt x="415" y="378"/>
                  </a:lnTo>
                  <a:lnTo>
                    <a:pt x="423" y="381"/>
                  </a:lnTo>
                  <a:lnTo>
                    <a:pt x="432" y="386"/>
                  </a:lnTo>
                  <a:lnTo>
                    <a:pt x="442" y="387"/>
                  </a:lnTo>
                  <a:lnTo>
                    <a:pt x="451" y="387"/>
                  </a:lnTo>
                  <a:lnTo>
                    <a:pt x="456" y="381"/>
                  </a:lnTo>
                  <a:lnTo>
                    <a:pt x="457" y="373"/>
                  </a:lnTo>
                  <a:lnTo>
                    <a:pt x="460" y="369"/>
                  </a:lnTo>
                  <a:lnTo>
                    <a:pt x="462" y="366"/>
                  </a:lnTo>
                  <a:lnTo>
                    <a:pt x="462" y="364"/>
                  </a:lnTo>
                  <a:lnTo>
                    <a:pt x="463" y="363"/>
                  </a:lnTo>
                  <a:lnTo>
                    <a:pt x="463" y="361"/>
                  </a:lnTo>
                  <a:lnTo>
                    <a:pt x="465" y="361"/>
                  </a:lnTo>
                  <a:lnTo>
                    <a:pt x="465" y="332"/>
                  </a:lnTo>
                  <a:lnTo>
                    <a:pt x="463" y="304"/>
                  </a:lnTo>
                  <a:lnTo>
                    <a:pt x="459" y="272"/>
                  </a:lnTo>
                  <a:lnTo>
                    <a:pt x="454" y="246"/>
                  </a:lnTo>
                  <a:lnTo>
                    <a:pt x="450" y="218"/>
                  </a:lnTo>
                  <a:lnTo>
                    <a:pt x="444" y="190"/>
                  </a:lnTo>
                  <a:lnTo>
                    <a:pt x="438" y="162"/>
                  </a:lnTo>
                  <a:lnTo>
                    <a:pt x="430" y="134"/>
                  </a:lnTo>
                  <a:lnTo>
                    <a:pt x="430" y="122"/>
                  </a:lnTo>
                  <a:lnTo>
                    <a:pt x="427" y="108"/>
                  </a:lnTo>
                  <a:lnTo>
                    <a:pt x="424" y="95"/>
                  </a:lnTo>
                  <a:lnTo>
                    <a:pt x="420" y="83"/>
                  </a:lnTo>
                  <a:lnTo>
                    <a:pt x="417" y="69"/>
                  </a:lnTo>
                  <a:lnTo>
                    <a:pt x="414" y="56"/>
                  </a:lnTo>
                  <a:lnTo>
                    <a:pt x="411" y="44"/>
                  </a:lnTo>
                  <a:lnTo>
                    <a:pt x="409" y="31"/>
                  </a:lnTo>
                  <a:lnTo>
                    <a:pt x="411" y="31"/>
                  </a:lnTo>
                  <a:lnTo>
                    <a:pt x="411" y="30"/>
                  </a:lnTo>
                  <a:lnTo>
                    <a:pt x="412" y="30"/>
                  </a:lnTo>
                  <a:lnTo>
                    <a:pt x="414" y="30"/>
                  </a:lnTo>
                  <a:lnTo>
                    <a:pt x="415" y="30"/>
                  </a:lnTo>
                  <a:lnTo>
                    <a:pt x="418" y="30"/>
                  </a:lnTo>
                  <a:lnTo>
                    <a:pt x="420" y="30"/>
                  </a:lnTo>
                  <a:lnTo>
                    <a:pt x="420" y="31"/>
                  </a:lnTo>
                  <a:lnTo>
                    <a:pt x="421" y="33"/>
                  </a:lnTo>
                  <a:lnTo>
                    <a:pt x="421" y="36"/>
                  </a:lnTo>
                  <a:lnTo>
                    <a:pt x="421" y="39"/>
                  </a:lnTo>
                  <a:lnTo>
                    <a:pt x="423" y="45"/>
                  </a:lnTo>
                  <a:lnTo>
                    <a:pt x="423" y="50"/>
                  </a:lnTo>
                  <a:lnTo>
                    <a:pt x="438" y="84"/>
                  </a:lnTo>
                  <a:lnTo>
                    <a:pt x="451" y="120"/>
                  </a:lnTo>
                  <a:lnTo>
                    <a:pt x="466" y="154"/>
                  </a:lnTo>
                  <a:lnTo>
                    <a:pt x="483" y="187"/>
                  </a:lnTo>
                  <a:lnTo>
                    <a:pt x="490" y="202"/>
                  </a:lnTo>
                  <a:lnTo>
                    <a:pt x="499" y="218"/>
                  </a:lnTo>
                  <a:lnTo>
                    <a:pt x="510" y="232"/>
                  </a:lnTo>
                  <a:lnTo>
                    <a:pt x="522" y="248"/>
                  </a:lnTo>
                  <a:lnTo>
                    <a:pt x="532" y="263"/>
                  </a:lnTo>
                  <a:lnTo>
                    <a:pt x="544" y="276"/>
                  </a:lnTo>
                  <a:lnTo>
                    <a:pt x="558" y="290"/>
                  </a:lnTo>
                  <a:lnTo>
                    <a:pt x="573" y="304"/>
                  </a:lnTo>
                  <a:lnTo>
                    <a:pt x="580" y="305"/>
                  </a:lnTo>
                  <a:lnTo>
                    <a:pt x="586" y="305"/>
                  </a:lnTo>
                  <a:lnTo>
                    <a:pt x="592" y="305"/>
                  </a:lnTo>
                  <a:lnTo>
                    <a:pt x="600" y="304"/>
                  </a:lnTo>
                  <a:lnTo>
                    <a:pt x="606" y="300"/>
                  </a:lnTo>
                  <a:lnTo>
                    <a:pt x="613" y="297"/>
                  </a:lnTo>
                  <a:lnTo>
                    <a:pt x="619" y="293"/>
                  </a:lnTo>
                  <a:lnTo>
                    <a:pt x="625" y="288"/>
                  </a:lnTo>
                  <a:lnTo>
                    <a:pt x="627" y="271"/>
                  </a:lnTo>
                  <a:lnTo>
                    <a:pt x="628" y="255"/>
                  </a:lnTo>
                  <a:lnTo>
                    <a:pt x="630" y="238"/>
                  </a:lnTo>
                  <a:lnTo>
                    <a:pt x="630" y="223"/>
                  </a:lnTo>
                  <a:lnTo>
                    <a:pt x="630" y="206"/>
                  </a:lnTo>
                  <a:lnTo>
                    <a:pt x="630" y="192"/>
                  </a:lnTo>
                  <a:lnTo>
                    <a:pt x="630" y="174"/>
                  </a:lnTo>
                  <a:lnTo>
                    <a:pt x="630" y="159"/>
                  </a:lnTo>
                  <a:lnTo>
                    <a:pt x="631" y="157"/>
                  </a:lnTo>
                  <a:lnTo>
                    <a:pt x="633" y="157"/>
                  </a:lnTo>
                  <a:lnTo>
                    <a:pt x="634" y="157"/>
                  </a:lnTo>
                  <a:lnTo>
                    <a:pt x="636" y="157"/>
                  </a:lnTo>
                  <a:lnTo>
                    <a:pt x="637" y="157"/>
                  </a:lnTo>
                  <a:lnTo>
                    <a:pt x="639" y="157"/>
                  </a:lnTo>
                  <a:lnTo>
                    <a:pt x="642" y="157"/>
                  </a:lnTo>
                  <a:lnTo>
                    <a:pt x="643" y="168"/>
                  </a:lnTo>
                  <a:lnTo>
                    <a:pt x="646" y="182"/>
                  </a:lnTo>
                  <a:lnTo>
                    <a:pt x="649" y="198"/>
                  </a:lnTo>
                  <a:lnTo>
                    <a:pt x="655" y="216"/>
                  </a:lnTo>
                  <a:lnTo>
                    <a:pt x="661" y="234"/>
                  </a:lnTo>
                  <a:lnTo>
                    <a:pt x="669" y="249"/>
                  </a:lnTo>
                  <a:lnTo>
                    <a:pt x="673" y="255"/>
                  </a:lnTo>
                  <a:lnTo>
                    <a:pt x="678" y="262"/>
                  </a:lnTo>
                  <a:lnTo>
                    <a:pt x="682" y="266"/>
                  </a:lnTo>
                  <a:lnTo>
                    <a:pt x="688" y="269"/>
                  </a:lnTo>
                  <a:lnTo>
                    <a:pt x="696" y="269"/>
                  </a:lnTo>
                  <a:lnTo>
                    <a:pt x="702" y="269"/>
                  </a:lnTo>
                  <a:lnTo>
                    <a:pt x="709" y="269"/>
                  </a:lnTo>
                  <a:lnTo>
                    <a:pt x="715" y="269"/>
                  </a:lnTo>
                  <a:lnTo>
                    <a:pt x="721" y="268"/>
                  </a:lnTo>
                  <a:lnTo>
                    <a:pt x="727" y="265"/>
                  </a:lnTo>
                  <a:lnTo>
                    <a:pt x="732" y="260"/>
                  </a:lnTo>
                  <a:lnTo>
                    <a:pt x="735" y="257"/>
                  </a:lnTo>
                  <a:lnTo>
                    <a:pt x="742" y="246"/>
                  </a:lnTo>
                  <a:lnTo>
                    <a:pt x="750" y="234"/>
                  </a:lnTo>
                  <a:lnTo>
                    <a:pt x="754" y="221"/>
                  </a:lnTo>
                  <a:lnTo>
                    <a:pt x="759" y="206"/>
                  </a:lnTo>
                  <a:lnTo>
                    <a:pt x="763" y="176"/>
                  </a:lnTo>
                  <a:lnTo>
                    <a:pt x="765" y="145"/>
                  </a:lnTo>
                  <a:lnTo>
                    <a:pt x="765" y="117"/>
                  </a:lnTo>
                  <a:lnTo>
                    <a:pt x="765" y="94"/>
                  </a:lnTo>
                  <a:lnTo>
                    <a:pt x="765" y="83"/>
                  </a:lnTo>
                  <a:lnTo>
                    <a:pt x="765" y="70"/>
                  </a:lnTo>
                  <a:lnTo>
                    <a:pt x="763" y="58"/>
                  </a:lnTo>
                  <a:lnTo>
                    <a:pt x="763" y="47"/>
                  </a:lnTo>
                  <a:lnTo>
                    <a:pt x="762" y="36"/>
                  </a:lnTo>
                  <a:lnTo>
                    <a:pt x="762" y="24"/>
                  </a:lnTo>
                  <a:lnTo>
                    <a:pt x="760" y="11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5" y="0"/>
                  </a:lnTo>
                  <a:lnTo>
                    <a:pt x="766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5" y="21"/>
                  </a:lnTo>
                  <a:lnTo>
                    <a:pt x="781" y="41"/>
                  </a:lnTo>
                  <a:lnTo>
                    <a:pt x="786" y="61"/>
                  </a:lnTo>
                  <a:lnTo>
                    <a:pt x="790" y="83"/>
                  </a:lnTo>
                  <a:lnTo>
                    <a:pt x="795" y="103"/>
                  </a:lnTo>
                  <a:lnTo>
                    <a:pt x="799" y="122"/>
                  </a:lnTo>
                  <a:lnTo>
                    <a:pt x="804" y="143"/>
                  </a:lnTo>
                  <a:lnTo>
                    <a:pt x="807" y="164"/>
                  </a:lnTo>
                  <a:lnTo>
                    <a:pt x="816" y="182"/>
                  </a:lnTo>
                  <a:lnTo>
                    <a:pt x="823" y="201"/>
                  </a:lnTo>
                  <a:lnTo>
                    <a:pt x="831" y="223"/>
                  </a:lnTo>
                  <a:lnTo>
                    <a:pt x="840" y="243"/>
                  </a:lnTo>
                  <a:lnTo>
                    <a:pt x="846" y="263"/>
                  </a:lnTo>
                  <a:lnTo>
                    <a:pt x="855" y="283"/>
                  </a:lnTo>
                  <a:lnTo>
                    <a:pt x="867" y="302"/>
                  </a:lnTo>
                  <a:lnTo>
                    <a:pt x="879" y="319"/>
                  </a:lnTo>
                  <a:lnTo>
                    <a:pt x="898" y="308"/>
                  </a:lnTo>
                  <a:lnTo>
                    <a:pt x="916" y="297"/>
                  </a:lnTo>
                  <a:lnTo>
                    <a:pt x="933" y="283"/>
                  </a:lnTo>
                  <a:lnTo>
                    <a:pt x="949" y="269"/>
                  </a:lnTo>
                  <a:lnTo>
                    <a:pt x="966" y="254"/>
                  </a:lnTo>
                  <a:lnTo>
                    <a:pt x="982" y="238"/>
                  </a:lnTo>
                  <a:lnTo>
                    <a:pt x="997" y="224"/>
                  </a:lnTo>
                  <a:lnTo>
                    <a:pt x="1014" y="209"/>
                  </a:lnTo>
                  <a:lnTo>
                    <a:pt x="1024" y="193"/>
                  </a:lnTo>
                  <a:lnTo>
                    <a:pt x="1036" y="176"/>
                  </a:lnTo>
                  <a:lnTo>
                    <a:pt x="1048" y="160"/>
                  </a:lnTo>
                  <a:lnTo>
                    <a:pt x="1059" y="145"/>
                  </a:lnTo>
                  <a:lnTo>
                    <a:pt x="1069" y="128"/>
                  </a:lnTo>
                  <a:lnTo>
                    <a:pt x="1081" y="112"/>
                  </a:lnTo>
                  <a:lnTo>
                    <a:pt x="1090" y="94"/>
                  </a:lnTo>
                  <a:lnTo>
                    <a:pt x="1101" y="78"/>
                  </a:lnTo>
                  <a:lnTo>
                    <a:pt x="1105" y="67"/>
                  </a:lnTo>
                  <a:lnTo>
                    <a:pt x="1110" y="56"/>
                  </a:lnTo>
                  <a:lnTo>
                    <a:pt x="1114" y="45"/>
                  </a:lnTo>
                  <a:lnTo>
                    <a:pt x="1119" y="35"/>
                  </a:lnTo>
                  <a:lnTo>
                    <a:pt x="1122" y="25"/>
                  </a:lnTo>
                  <a:lnTo>
                    <a:pt x="1125" y="16"/>
                  </a:lnTo>
                  <a:lnTo>
                    <a:pt x="1126" y="10"/>
                  </a:lnTo>
                  <a:lnTo>
                    <a:pt x="1129" y="3"/>
                  </a:lnTo>
                  <a:lnTo>
                    <a:pt x="1131" y="3"/>
                  </a:lnTo>
                  <a:lnTo>
                    <a:pt x="1132" y="3"/>
                  </a:lnTo>
                  <a:lnTo>
                    <a:pt x="1134" y="3"/>
                  </a:lnTo>
                  <a:lnTo>
                    <a:pt x="1135" y="3"/>
                  </a:lnTo>
                  <a:lnTo>
                    <a:pt x="1137" y="10"/>
                  </a:lnTo>
                  <a:lnTo>
                    <a:pt x="1137" y="16"/>
                  </a:lnTo>
                  <a:lnTo>
                    <a:pt x="1137" y="22"/>
                  </a:lnTo>
                  <a:lnTo>
                    <a:pt x="1135" y="30"/>
                  </a:lnTo>
                  <a:lnTo>
                    <a:pt x="1131" y="44"/>
                  </a:lnTo>
                  <a:lnTo>
                    <a:pt x="1125" y="59"/>
                  </a:lnTo>
                  <a:lnTo>
                    <a:pt x="1119" y="75"/>
                  </a:lnTo>
                  <a:lnTo>
                    <a:pt x="1111" y="89"/>
                  </a:lnTo>
                  <a:lnTo>
                    <a:pt x="1105" y="103"/>
                  </a:lnTo>
                  <a:lnTo>
                    <a:pt x="1098" y="115"/>
                  </a:lnTo>
                  <a:lnTo>
                    <a:pt x="1090" y="140"/>
                  </a:lnTo>
                  <a:lnTo>
                    <a:pt x="1083" y="164"/>
                  </a:lnTo>
                  <a:lnTo>
                    <a:pt x="1074" y="190"/>
                  </a:lnTo>
                  <a:lnTo>
                    <a:pt x="1065" y="215"/>
                  </a:lnTo>
                  <a:lnTo>
                    <a:pt x="1059" y="240"/>
                  </a:lnTo>
                  <a:lnTo>
                    <a:pt x="1053" y="266"/>
                  </a:lnTo>
                  <a:lnTo>
                    <a:pt x="1050" y="293"/>
                  </a:lnTo>
                  <a:lnTo>
                    <a:pt x="1048" y="319"/>
                  </a:lnTo>
                  <a:lnTo>
                    <a:pt x="1050" y="322"/>
                  </a:lnTo>
                  <a:lnTo>
                    <a:pt x="1051" y="325"/>
                  </a:lnTo>
                  <a:lnTo>
                    <a:pt x="1053" y="328"/>
                  </a:lnTo>
                  <a:lnTo>
                    <a:pt x="1053" y="332"/>
                  </a:lnTo>
                  <a:lnTo>
                    <a:pt x="1054" y="335"/>
                  </a:lnTo>
                  <a:lnTo>
                    <a:pt x="1056" y="338"/>
                  </a:lnTo>
                  <a:lnTo>
                    <a:pt x="1057" y="341"/>
                  </a:lnTo>
                  <a:lnTo>
                    <a:pt x="1059" y="344"/>
                  </a:lnTo>
                  <a:lnTo>
                    <a:pt x="1066" y="349"/>
                  </a:lnTo>
                  <a:lnTo>
                    <a:pt x="1075" y="352"/>
                  </a:lnTo>
                  <a:lnTo>
                    <a:pt x="1084" y="353"/>
                  </a:lnTo>
                  <a:lnTo>
                    <a:pt x="1093" y="355"/>
                  </a:lnTo>
                  <a:lnTo>
                    <a:pt x="1104" y="353"/>
                  </a:lnTo>
                  <a:lnTo>
                    <a:pt x="1114" y="352"/>
                  </a:lnTo>
                  <a:lnTo>
                    <a:pt x="1125" y="349"/>
                  </a:lnTo>
                  <a:lnTo>
                    <a:pt x="1137" y="344"/>
                  </a:lnTo>
                  <a:lnTo>
                    <a:pt x="1161" y="333"/>
                  </a:lnTo>
                  <a:lnTo>
                    <a:pt x="1188" y="318"/>
                  </a:lnTo>
                  <a:lnTo>
                    <a:pt x="1213" y="302"/>
                  </a:lnTo>
                  <a:lnTo>
                    <a:pt x="1239" y="282"/>
                  </a:lnTo>
                  <a:lnTo>
                    <a:pt x="1266" y="262"/>
                  </a:lnTo>
                  <a:lnTo>
                    <a:pt x="1291" y="240"/>
                  </a:lnTo>
                  <a:lnTo>
                    <a:pt x="1314" y="220"/>
                  </a:lnTo>
                  <a:lnTo>
                    <a:pt x="1336" y="198"/>
                  </a:lnTo>
                  <a:lnTo>
                    <a:pt x="1374" y="162"/>
                  </a:lnTo>
                  <a:lnTo>
                    <a:pt x="1399" y="137"/>
                  </a:lnTo>
                  <a:lnTo>
                    <a:pt x="1401" y="137"/>
                  </a:lnTo>
                  <a:lnTo>
                    <a:pt x="1402" y="137"/>
                  </a:lnTo>
                  <a:lnTo>
                    <a:pt x="1404" y="137"/>
                  </a:lnTo>
                  <a:lnTo>
                    <a:pt x="1405" y="137"/>
                  </a:lnTo>
                  <a:lnTo>
                    <a:pt x="1407" y="137"/>
                  </a:lnTo>
                  <a:lnTo>
                    <a:pt x="1408" y="137"/>
                  </a:lnTo>
                  <a:lnTo>
                    <a:pt x="1408" y="143"/>
                  </a:lnTo>
                  <a:lnTo>
                    <a:pt x="1408" y="150"/>
                  </a:lnTo>
                  <a:lnTo>
                    <a:pt x="1408" y="156"/>
                  </a:lnTo>
                  <a:lnTo>
                    <a:pt x="1405" y="160"/>
                  </a:lnTo>
                  <a:lnTo>
                    <a:pt x="1396" y="173"/>
                  </a:lnTo>
                  <a:lnTo>
                    <a:pt x="1387" y="184"/>
                  </a:lnTo>
                  <a:lnTo>
                    <a:pt x="1375" y="196"/>
                  </a:lnTo>
                  <a:lnTo>
                    <a:pt x="1366" y="207"/>
                  </a:lnTo>
                  <a:lnTo>
                    <a:pt x="1356" y="220"/>
                  </a:lnTo>
                  <a:lnTo>
                    <a:pt x="1350" y="232"/>
                  </a:lnTo>
                  <a:lnTo>
                    <a:pt x="1333" y="251"/>
                  </a:lnTo>
                  <a:lnTo>
                    <a:pt x="1311" y="279"/>
                  </a:lnTo>
                  <a:lnTo>
                    <a:pt x="1287" y="314"/>
                  </a:lnTo>
                  <a:lnTo>
                    <a:pt x="1264" y="353"/>
                  </a:lnTo>
                  <a:lnTo>
                    <a:pt x="1254" y="373"/>
                  </a:lnTo>
                  <a:lnTo>
                    <a:pt x="1243" y="392"/>
                  </a:lnTo>
                  <a:lnTo>
                    <a:pt x="1236" y="414"/>
                  </a:lnTo>
                  <a:lnTo>
                    <a:pt x="1231" y="431"/>
                  </a:lnTo>
                  <a:lnTo>
                    <a:pt x="1230" y="450"/>
                  </a:lnTo>
                  <a:lnTo>
                    <a:pt x="1230" y="465"/>
                  </a:lnTo>
                  <a:lnTo>
                    <a:pt x="1231" y="473"/>
                  </a:lnTo>
                  <a:lnTo>
                    <a:pt x="1233" y="481"/>
                  </a:lnTo>
                  <a:lnTo>
                    <a:pt x="1237" y="489"/>
                  </a:lnTo>
                  <a:lnTo>
                    <a:pt x="1240" y="493"/>
                  </a:lnTo>
                  <a:lnTo>
                    <a:pt x="1252" y="498"/>
                  </a:lnTo>
                  <a:lnTo>
                    <a:pt x="1266" y="501"/>
                  </a:lnTo>
                  <a:lnTo>
                    <a:pt x="1278" y="504"/>
                  </a:lnTo>
                  <a:lnTo>
                    <a:pt x="1293" y="506"/>
                  </a:lnTo>
                  <a:lnTo>
                    <a:pt x="1306" y="506"/>
                  </a:lnTo>
                  <a:lnTo>
                    <a:pt x="1323" y="504"/>
                  </a:lnTo>
                  <a:lnTo>
                    <a:pt x="1338" y="503"/>
                  </a:lnTo>
                  <a:lnTo>
                    <a:pt x="1353" y="501"/>
                  </a:lnTo>
                  <a:lnTo>
                    <a:pt x="1384" y="495"/>
                  </a:lnTo>
                  <a:lnTo>
                    <a:pt x="1414" y="489"/>
                  </a:lnTo>
                  <a:lnTo>
                    <a:pt x="1443" y="481"/>
                  </a:lnTo>
                  <a:lnTo>
                    <a:pt x="1468" y="473"/>
                  </a:lnTo>
                  <a:lnTo>
                    <a:pt x="1480" y="465"/>
                  </a:lnTo>
                  <a:lnTo>
                    <a:pt x="1491" y="461"/>
                  </a:lnTo>
                  <a:lnTo>
                    <a:pt x="1500" y="456"/>
                  </a:lnTo>
                  <a:lnTo>
                    <a:pt x="1507" y="454"/>
                  </a:lnTo>
                  <a:lnTo>
                    <a:pt x="1513" y="451"/>
                  </a:lnTo>
                  <a:lnTo>
                    <a:pt x="1519" y="448"/>
                  </a:lnTo>
                  <a:lnTo>
                    <a:pt x="1527" y="443"/>
                  </a:lnTo>
                  <a:lnTo>
                    <a:pt x="1536" y="439"/>
                  </a:lnTo>
                  <a:lnTo>
                    <a:pt x="1542" y="436"/>
                  </a:lnTo>
                  <a:lnTo>
                    <a:pt x="1548" y="431"/>
                  </a:lnTo>
                  <a:lnTo>
                    <a:pt x="1552" y="426"/>
                  </a:lnTo>
                  <a:lnTo>
                    <a:pt x="1560" y="422"/>
                  </a:lnTo>
                  <a:lnTo>
                    <a:pt x="1567" y="419"/>
                  </a:lnTo>
                  <a:lnTo>
                    <a:pt x="1575" y="415"/>
                  </a:lnTo>
                  <a:lnTo>
                    <a:pt x="1582" y="414"/>
                  </a:lnTo>
                  <a:lnTo>
                    <a:pt x="1588" y="412"/>
                  </a:lnTo>
                  <a:lnTo>
                    <a:pt x="1590" y="414"/>
                  </a:lnTo>
                  <a:lnTo>
                    <a:pt x="1590" y="415"/>
                  </a:lnTo>
                  <a:lnTo>
                    <a:pt x="1591" y="417"/>
                  </a:lnTo>
                  <a:lnTo>
                    <a:pt x="1591" y="419"/>
                  </a:lnTo>
                  <a:lnTo>
                    <a:pt x="1591" y="420"/>
                  </a:lnTo>
                  <a:lnTo>
                    <a:pt x="1590" y="422"/>
                  </a:lnTo>
                  <a:lnTo>
                    <a:pt x="1588" y="422"/>
                  </a:lnTo>
                  <a:lnTo>
                    <a:pt x="1587" y="423"/>
                  </a:lnTo>
                  <a:lnTo>
                    <a:pt x="1585" y="423"/>
                  </a:lnTo>
                  <a:lnTo>
                    <a:pt x="1585" y="425"/>
                  </a:lnTo>
                  <a:lnTo>
                    <a:pt x="1584" y="426"/>
                  </a:lnTo>
                  <a:lnTo>
                    <a:pt x="1582" y="426"/>
                  </a:lnTo>
                  <a:lnTo>
                    <a:pt x="1581" y="428"/>
                  </a:lnTo>
                  <a:lnTo>
                    <a:pt x="1581" y="429"/>
                  </a:lnTo>
                  <a:lnTo>
                    <a:pt x="1581" y="431"/>
                  </a:lnTo>
                  <a:lnTo>
                    <a:pt x="1581" y="433"/>
                  </a:lnTo>
                  <a:lnTo>
                    <a:pt x="1581" y="434"/>
                  </a:lnTo>
                  <a:lnTo>
                    <a:pt x="1542" y="456"/>
                  </a:lnTo>
                  <a:lnTo>
                    <a:pt x="1504" y="479"/>
                  </a:lnTo>
                  <a:lnTo>
                    <a:pt x="1467" y="501"/>
                  </a:lnTo>
                  <a:lnTo>
                    <a:pt x="1432" y="524"/>
                  </a:lnTo>
                  <a:lnTo>
                    <a:pt x="1414" y="537"/>
                  </a:lnTo>
                  <a:lnTo>
                    <a:pt x="1398" y="551"/>
                  </a:lnTo>
                  <a:lnTo>
                    <a:pt x="1381" y="565"/>
                  </a:lnTo>
                  <a:lnTo>
                    <a:pt x="1366" y="579"/>
                  </a:lnTo>
                  <a:lnTo>
                    <a:pt x="1351" y="596"/>
                  </a:lnTo>
                  <a:lnTo>
                    <a:pt x="1336" y="611"/>
                  </a:lnTo>
                  <a:lnTo>
                    <a:pt x="1323" y="630"/>
                  </a:lnTo>
                  <a:lnTo>
                    <a:pt x="1308" y="649"/>
                  </a:lnTo>
                  <a:lnTo>
                    <a:pt x="1308" y="655"/>
                  </a:lnTo>
                  <a:lnTo>
                    <a:pt x="1309" y="660"/>
                  </a:lnTo>
                  <a:lnTo>
                    <a:pt x="1309" y="666"/>
                  </a:lnTo>
                  <a:lnTo>
                    <a:pt x="1309" y="670"/>
                  </a:lnTo>
                  <a:lnTo>
                    <a:pt x="1311" y="677"/>
                  </a:lnTo>
                  <a:lnTo>
                    <a:pt x="1312" y="681"/>
                  </a:lnTo>
                  <a:lnTo>
                    <a:pt x="1314" y="688"/>
                  </a:lnTo>
                  <a:lnTo>
                    <a:pt x="1315" y="694"/>
                  </a:lnTo>
                  <a:lnTo>
                    <a:pt x="1327" y="706"/>
                  </a:lnTo>
                  <a:lnTo>
                    <a:pt x="1339" y="717"/>
                  </a:lnTo>
                  <a:lnTo>
                    <a:pt x="1353" y="725"/>
                  </a:lnTo>
                  <a:lnTo>
                    <a:pt x="1368" y="733"/>
                  </a:lnTo>
                  <a:lnTo>
                    <a:pt x="1381" y="740"/>
                  </a:lnTo>
                  <a:lnTo>
                    <a:pt x="1398" y="748"/>
                  </a:lnTo>
                  <a:lnTo>
                    <a:pt x="1413" y="754"/>
                  </a:lnTo>
                  <a:lnTo>
                    <a:pt x="1431" y="757"/>
                  </a:lnTo>
                  <a:lnTo>
                    <a:pt x="1464" y="765"/>
                  </a:lnTo>
                  <a:lnTo>
                    <a:pt x="1498" y="773"/>
                  </a:lnTo>
                  <a:lnTo>
                    <a:pt x="1533" y="778"/>
                  </a:lnTo>
                  <a:lnTo>
                    <a:pt x="1564" y="782"/>
                  </a:lnTo>
                  <a:lnTo>
                    <a:pt x="1572" y="782"/>
                  </a:lnTo>
                  <a:lnTo>
                    <a:pt x="1581" y="781"/>
                  </a:lnTo>
                  <a:lnTo>
                    <a:pt x="1587" y="781"/>
                  </a:lnTo>
                  <a:lnTo>
                    <a:pt x="1596" y="782"/>
                  </a:lnTo>
                  <a:lnTo>
                    <a:pt x="1603" y="782"/>
                  </a:lnTo>
                  <a:lnTo>
                    <a:pt x="1612" y="784"/>
                  </a:lnTo>
                  <a:lnTo>
                    <a:pt x="1620" y="785"/>
                  </a:lnTo>
                  <a:lnTo>
                    <a:pt x="1627" y="787"/>
                  </a:lnTo>
                  <a:lnTo>
                    <a:pt x="1627" y="789"/>
                  </a:lnTo>
                  <a:lnTo>
                    <a:pt x="1627" y="790"/>
                  </a:lnTo>
                  <a:lnTo>
                    <a:pt x="1627" y="792"/>
                  </a:lnTo>
                  <a:lnTo>
                    <a:pt x="1629" y="792"/>
                  </a:lnTo>
                  <a:lnTo>
                    <a:pt x="1629" y="793"/>
                  </a:lnTo>
                  <a:lnTo>
                    <a:pt x="1629" y="795"/>
                  </a:lnTo>
                  <a:lnTo>
                    <a:pt x="1629" y="796"/>
                  </a:lnTo>
                  <a:lnTo>
                    <a:pt x="1629" y="798"/>
                  </a:lnTo>
                  <a:lnTo>
                    <a:pt x="1611" y="795"/>
                  </a:lnTo>
                  <a:lnTo>
                    <a:pt x="1590" y="793"/>
                  </a:lnTo>
                  <a:lnTo>
                    <a:pt x="1570" y="793"/>
                  </a:lnTo>
                  <a:lnTo>
                    <a:pt x="1549" y="793"/>
                  </a:lnTo>
                  <a:lnTo>
                    <a:pt x="1509" y="795"/>
                  </a:lnTo>
                  <a:lnTo>
                    <a:pt x="1467" y="801"/>
                  </a:lnTo>
                  <a:lnTo>
                    <a:pt x="1425" y="809"/>
                  </a:lnTo>
                  <a:lnTo>
                    <a:pt x="1384" y="817"/>
                  </a:lnTo>
                  <a:lnTo>
                    <a:pt x="1344" y="827"/>
                  </a:lnTo>
                  <a:lnTo>
                    <a:pt x="1308" y="835"/>
                  </a:lnTo>
                  <a:lnTo>
                    <a:pt x="1291" y="846"/>
                  </a:lnTo>
                  <a:lnTo>
                    <a:pt x="1281" y="855"/>
                  </a:lnTo>
                  <a:lnTo>
                    <a:pt x="1276" y="860"/>
                  </a:lnTo>
                  <a:lnTo>
                    <a:pt x="1275" y="863"/>
                  </a:lnTo>
                  <a:lnTo>
                    <a:pt x="1275" y="866"/>
                  </a:lnTo>
                  <a:lnTo>
                    <a:pt x="1275" y="871"/>
                  </a:lnTo>
                  <a:lnTo>
                    <a:pt x="1278" y="880"/>
                  </a:lnTo>
                  <a:lnTo>
                    <a:pt x="1285" y="891"/>
                  </a:lnTo>
                  <a:lnTo>
                    <a:pt x="1297" y="905"/>
                  </a:lnTo>
                  <a:lnTo>
                    <a:pt x="1308" y="924"/>
                  </a:lnTo>
                  <a:lnTo>
                    <a:pt x="1326" y="941"/>
                  </a:lnTo>
                  <a:lnTo>
                    <a:pt x="1344" y="960"/>
                  </a:lnTo>
                  <a:lnTo>
                    <a:pt x="1365" y="977"/>
                  </a:lnTo>
                  <a:lnTo>
                    <a:pt x="1384" y="991"/>
                  </a:lnTo>
                  <a:lnTo>
                    <a:pt x="1405" y="1006"/>
                  </a:lnTo>
                  <a:lnTo>
                    <a:pt x="1426" y="1020"/>
                  </a:lnTo>
                  <a:lnTo>
                    <a:pt x="1447" y="1036"/>
                  </a:lnTo>
                  <a:lnTo>
                    <a:pt x="1471" y="1051"/>
                  </a:lnTo>
                  <a:lnTo>
                    <a:pt x="1471" y="1053"/>
                  </a:lnTo>
                  <a:lnTo>
                    <a:pt x="1471" y="1054"/>
                  </a:lnTo>
                  <a:lnTo>
                    <a:pt x="1471" y="1056"/>
                  </a:lnTo>
                  <a:lnTo>
                    <a:pt x="1470" y="1058"/>
                  </a:lnTo>
                  <a:lnTo>
                    <a:pt x="1468" y="1058"/>
                  </a:lnTo>
                  <a:lnTo>
                    <a:pt x="1467" y="1059"/>
                  </a:lnTo>
                  <a:lnTo>
                    <a:pt x="1465" y="1059"/>
                  </a:lnTo>
                  <a:lnTo>
                    <a:pt x="1464" y="1059"/>
                  </a:lnTo>
                  <a:lnTo>
                    <a:pt x="1462" y="1059"/>
                  </a:lnTo>
                  <a:lnTo>
                    <a:pt x="1461" y="1059"/>
                  </a:lnTo>
                  <a:lnTo>
                    <a:pt x="1459" y="1059"/>
                  </a:lnTo>
                  <a:lnTo>
                    <a:pt x="1437" y="1045"/>
                  </a:lnTo>
                  <a:lnTo>
                    <a:pt x="1413" y="1031"/>
                  </a:lnTo>
                  <a:lnTo>
                    <a:pt x="1389" y="1019"/>
                  </a:lnTo>
                  <a:lnTo>
                    <a:pt x="1363" y="1011"/>
                  </a:lnTo>
                  <a:lnTo>
                    <a:pt x="1351" y="1006"/>
                  </a:lnTo>
                  <a:lnTo>
                    <a:pt x="1338" y="1005"/>
                  </a:lnTo>
                  <a:lnTo>
                    <a:pt x="1326" y="1002"/>
                  </a:lnTo>
                  <a:lnTo>
                    <a:pt x="1312" y="1002"/>
                  </a:lnTo>
                  <a:lnTo>
                    <a:pt x="1300" y="1000"/>
                  </a:lnTo>
                  <a:lnTo>
                    <a:pt x="1287" y="1002"/>
                  </a:lnTo>
                  <a:lnTo>
                    <a:pt x="1272" y="1003"/>
                  </a:lnTo>
                  <a:lnTo>
                    <a:pt x="1260" y="1005"/>
                  </a:lnTo>
                  <a:lnTo>
                    <a:pt x="1260" y="1014"/>
                  </a:lnTo>
                  <a:lnTo>
                    <a:pt x="1261" y="1023"/>
                  </a:lnTo>
                  <a:lnTo>
                    <a:pt x="1264" y="1033"/>
                  </a:lnTo>
                  <a:lnTo>
                    <a:pt x="1266" y="1042"/>
                  </a:lnTo>
                  <a:lnTo>
                    <a:pt x="1273" y="1059"/>
                  </a:lnTo>
                  <a:lnTo>
                    <a:pt x="1284" y="1078"/>
                  </a:lnTo>
                  <a:lnTo>
                    <a:pt x="1294" y="1095"/>
                  </a:lnTo>
                  <a:lnTo>
                    <a:pt x="1305" y="1113"/>
                  </a:lnTo>
                  <a:lnTo>
                    <a:pt x="1317" y="1131"/>
                  </a:lnTo>
                  <a:lnTo>
                    <a:pt x="1329" y="1148"/>
                  </a:lnTo>
                  <a:lnTo>
                    <a:pt x="1345" y="1166"/>
                  </a:lnTo>
                  <a:lnTo>
                    <a:pt x="1363" y="1187"/>
                  </a:lnTo>
                  <a:lnTo>
                    <a:pt x="1381" y="1207"/>
                  </a:lnTo>
                  <a:lnTo>
                    <a:pt x="1399" y="1227"/>
                  </a:lnTo>
                  <a:lnTo>
                    <a:pt x="1416" y="1247"/>
                  </a:lnTo>
                  <a:lnTo>
                    <a:pt x="1434" y="1269"/>
                  </a:lnTo>
                  <a:lnTo>
                    <a:pt x="1450" y="1291"/>
                  </a:lnTo>
                  <a:lnTo>
                    <a:pt x="1467" y="1314"/>
                  </a:lnTo>
                  <a:lnTo>
                    <a:pt x="1467" y="1319"/>
                  </a:lnTo>
                  <a:lnTo>
                    <a:pt x="1468" y="1322"/>
                  </a:lnTo>
                  <a:lnTo>
                    <a:pt x="1468" y="1325"/>
                  </a:lnTo>
                  <a:lnTo>
                    <a:pt x="1468" y="1328"/>
                  </a:lnTo>
                  <a:lnTo>
                    <a:pt x="1468" y="1330"/>
                  </a:lnTo>
                  <a:lnTo>
                    <a:pt x="1468" y="1331"/>
                  </a:lnTo>
                  <a:lnTo>
                    <a:pt x="1468" y="1334"/>
                  </a:lnTo>
                  <a:lnTo>
                    <a:pt x="1468" y="1336"/>
                  </a:lnTo>
                  <a:lnTo>
                    <a:pt x="1465" y="1336"/>
                  </a:lnTo>
                  <a:lnTo>
                    <a:pt x="1464" y="1336"/>
                  </a:lnTo>
                  <a:lnTo>
                    <a:pt x="1462" y="1336"/>
                  </a:lnTo>
                  <a:lnTo>
                    <a:pt x="1461" y="1336"/>
                  </a:lnTo>
                  <a:lnTo>
                    <a:pt x="1459" y="1336"/>
                  </a:lnTo>
                  <a:lnTo>
                    <a:pt x="1458" y="1334"/>
                  </a:lnTo>
                  <a:lnTo>
                    <a:pt x="1449" y="1319"/>
                  </a:lnTo>
                  <a:lnTo>
                    <a:pt x="1441" y="1305"/>
                  </a:lnTo>
                  <a:lnTo>
                    <a:pt x="1429" y="1291"/>
                  </a:lnTo>
                  <a:lnTo>
                    <a:pt x="1416" y="1277"/>
                  </a:lnTo>
                  <a:lnTo>
                    <a:pt x="1404" y="1264"/>
                  </a:lnTo>
                  <a:lnTo>
                    <a:pt x="1390" y="1252"/>
                  </a:lnTo>
                  <a:lnTo>
                    <a:pt x="1378" y="1239"/>
                  </a:lnTo>
                  <a:lnTo>
                    <a:pt x="1369" y="1230"/>
                  </a:lnTo>
                  <a:lnTo>
                    <a:pt x="1365" y="1227"/>
                  </a:lnTo>
                  <a:lnTo>
                    <a:pt x="1359" y="1222"/>
                  </a:lnTo>
                  <a:lnTo>
                    <a:pt x="1351" y="1216"/>
                  </a:lnTo>
                  <a:lnTo>
                    <a:pt x="1342" y="1210"/>
                  </a:lnTo>
                  <a:lnTo>
                    <a:pt x="1335" y="1204"/>
                  </a:lnTo>
                  <a:lnTo>
                    <a:pt x="1327" y="1199"/>
                  </a:lnTo>
                  <a:lnTo>
                    <a:pt x="1321" y="1194"/>
                  </a:lnTo>
                  <a:lnTo>
                    <a:pt x="1318" y="1190"/>
                  </a:lnTo>
                  <a:lnTo>
                    <a:pt x="1303" y="1183"/>
                  </a:lnTo>
                  <a:lnTo>
                    <a:pt x="1288" y="1174"/>
                  </a:lnTo>
                  <a:lnTo>
                    <a:pt x="1272" y="1166"/>
                  </a:lnTo>
                  <a:lnTo>
                    <a:pt x="1255" y="1159"/>
                  </a:lnTo>
                  <a:lnTo>
                    <a:pt x="1239" y="1151"/>
                  </a:lnTo>
                  <a:lnTo>
                    <a:pt x="1224" y="1141"/>
                  </a:lnTo>
                  <a:lnTo>
                    <a:pt x="1210" y="1132"/>
                  </a:lnTo>
                  <a:lnTo>
                    <a:pt x="1198" y="1124"/>
                  </a:lnTo>
                  <a:lnTo>
                    <a:pt x="1183" y="1121"/>
                  </a:lnTo>
                  <a:lnTo>
                    <a:pt x="1171" y="1118"/>
                  </a:lnTo>
                  <a:lnTo>
                    <a:pt x="1162" y="1118"/>
                  </a:lnTo>
                  <a:lnTo>
                    <a:pt x="1158" y="1121"/>
                  </a:lnTo>
                  <a:lnTo>
                    <a:pt x="1153" y="1126"/>
                  </a:lnTo>
                  <a:lnTo>
                    <a:pt x="1149" y="1134"/>
                  </a:lnTo>
                  <a:lnTo>
                    <a:pt x="1144" y="1145"/>
                  </a:lnTo>
                  <a:lnTo>
                    <a:pt x="1138" y="1160"/>
                  </a:lnTo>
                  <a:lnTo>
                    <a:pt x="1137" y="1183"/>
                  </a:lnTo>
                  <a:lnTo>
                    <a:pt x="1137" y="1207"/>
                  </a:lnTo>
                  <a:lnTo>
                    <a:pt x="1137" y="1232"/>
                  </a:lnTo>
                  <a:lnTo>
                    <a:pt x="1140" y="1253"/>
                  </a:lnTo>
                  <a:lnTo>
                    <a:pt x="1143" y="1277"/>
                  </a:lnTo>
                  <a:lnTo>
                    <a:pt x="1150" y="1302"/>
                  </a:lnTo>
                  <a:lnTo>
                    <a:pt x="1159" y="1323"/>
                  </a:lnTo>
                  <a:lnTo>
                    <a:pt x="1168" y="1348"/>
                  </a:lnTo>
                  <a:lnTo>
                    <a:pt x="1170" y="1351"/>
                  </a:lnTo>
                  <a:lnTo>
                    <a:pt x="1171" y="1358"/>
                  </a:lnTo>
                  <a:lnTo>
                    <a:pt x="1173" y="1362"/>
                  </a:lnTo>
                  <a:lnTo>
                    <a:pt x="1174" y="1367"/>
                  </a:lnTo>
                  <a:lnTo>
                    <a:pt x="1176" y="1373"/>
                  </a:lnTo>
                  <a:lnTo>
                    <a:pt x="1177" y="1378"/>
                  </a:lnTo>
                  <a:lnTo>
                    <a:pt x="1179" y="1382"/>
                  </a:lnTo>
                  <a:lnTo>
                    <a:pt x="1180" y="1387"/>
                  </a:lnTo>
                  <a:lnTo>
                    <a:pt x="1185" y="1396"/>
                  </a:lnTo>
                  <a:lnTo>
                    <a:pt x="1191" y="1407"/>
                  </a:lnTo>
                  <a:lnTo>
                    <a:pt x="1195" y="1420"/>
                  </a:lnTo>
                  <a:lnTo>
                    <a:pt x="1200" y="1431"/>
                  </a:lnTo>
                  <a:lnTo>
                    <a:pt x="1206" y="1442"/>
                  </a:lnTo>
                  <a:lnTo>
                    <a:pt x="1210" y="1455"/>
                  </a:lnTo>
                  <a:lnTo>
                    <a:pt x="1215" y="1466"/>
                  </a:lnTo>
                  <a:lnTo>
                    <a:pt x="1218" y="1479"/>
                  </a:lnTo>
                  <a:lnTo>
                    <a:pt x="1225" y="1491"/>
                  </a:lnTo>
                  <a:lnTo>
                    <a:pt x="1231" y="1505"/>
                  </a:lnTo>
                  <a:lnTo>
                    <a:pt x="1239" y="1521"/>
                  </a:lnTo>
                  <a:lnTo>
                    <a:pt x="1246" y="1536"/>
                  </a:lnTo>
                  <a:lnTo>
                    <a:pt x="1252" y="1552"/>
                  </a:lnTo>
                  <a:lnTo>
                    <a:pt x="1258" y="1569"/>
                  </a:lnTo>
                  <a:lnTo>
                    <a:pt x="1263" y="1585"/>
                  </a:lnTo>
                  <a:lnTo>
                    <a:pt x="1266" y="1602"/>
                  </a:lnTo>
                  <a:lnTo>
                    <a:pt x="1264" y="1602"/>
                  </a:lnTo>
                  <a:lnTo>
                    <a:pt x="1263" y="1602"/>
                  </a:lnTo>
                  <a:lnTo>
                    <a:pt x="1261" y="1602"/>
                  </a:lnTo>
                  <a:lnTo>
                    <a:pt x="1258" y="1602"/>
                  </a:lnTo>
                  <a:lnTo>
                    <a:pt x="1257" y="1602"/>
                  </a:lnTo>
                  <a:lnTo>
                    <a:pt x="1255" y="1600"/>
                  </a:lnTo>
                  <a:lnTo>
                    <a:pt x="1254" y="1600"/>
                  </a:lnTo>
                  <a:lnTo>
                    <a:pt x="1252" y="1600"/>
                  </a:lnTo>
                  <a:close/>
                  <a:moveTo>
                    <a:pt x="351" y="1536"/>
                  </a:moveTo>
                  <a:lnTo>
                    <a:pt x="351" y="1536"/>
                  </a:lnTo>
                  <a:lnTo>
                    <a:pt x="352" y="1536"/>
                  </a:lnTo>
                  <a:lnTo>
                    <a:pt x="354" y="1536"/>
                  </a:lnTo>
                  <a:lnTo>
                    <a:pt x="355" y="1536"/>
                  </a:lnTo>
                  <a:lnTo>
                    <a:pt x="355" y="1535"/>
                  </a:lnTo>
                  <a:lnTo>
                    <a:pt x="357" y="1533"/>
                  </a:lnTo>
                  <a:lnTo>
                    <a:pt x="357" y="1532"/>
                  </a:lnTo>
                  <a:lnTo>
                    <a:pt x="357" y="1530"/>
                  </a:lnTo>
                  <a:lnTo>
                    <a:pt x="358" y="1529"/>
                  </a:lnTo>
                  <a:lnTo>
                    <a:pt x="358" y="1527"/>
                  </a:lnTo>
                  <a:lnTo>
                    <a:pt x="357" y="1525"/>
                  </a:lnTo>
                  <a:lnTo>
                    <a:pt x="355" y="1525"/>
                  </a:lnTo>
                  <a:lnTo>
                    <a:pt x="355" y="1527"/>
                  </a:lnTo>
                  <a:lnTo>
                    <a:pt x="354" y="1527"/>
                  </a:lnTo>
                  <a:lnTo>
                    <a:pt x="354" y="1529"/>
                  </a:lnTo>
                  <a:lnTo>
                    <a:pt x="352" y="1529"/>
                  </a:lnTo>
                  <a:lnTo>
                    <a:pt x="351" y="1530"/>
                  </a:lnTo>
                  <a:lnTo>
                    <a:pt x="349" y="1532"/>
                  </a:lnTo>
                  <a:lnTo>
                    <a:pt x="349" y="1533"/>
                  </a:lnTo>
                  <a:lnTo>
                    <a:pt x="351" y="1535"/>
                  </a:lnTo>
                  <a:lnTo>
                    <a:pt x="351" y="1536"/>
                  </a:lnTo>
                  <a:close/>
                  <a:moveTo>
                    <a:pt x="640" y="1515"/>
                  </a:moveTo>
                  <a:lnTo>
                    <a:pt x="657" y="1487"/>
                  </a:lnTo>
                  <a:lnTo>
                    <a:pt x="670" y="1459"/>
                  </a:lnTo>
                  <a:lnTo>
                    <a:pt x="687" y="1429"/>
                  </a:lnTo>
                  <a:lnTo>
                    <a:pt x="702" y="1403"/>
                  </a:lnTo>
                  <a:lnTo>
                    <a:pt x="717" y="1375"/>
                  </a:lnTo>
                  <a:lnTo>
                    <a:pt x="733" y="1347"/>
                  </a:lnTo>
                  <a:lnTo>
                    <a:pt x="748" y="1317"/>
                  </a:lnTo>
                  <a:lnTo>
                    <a:pt x="765" y="1291"/>
                  </a:lnTo>
                  <a:lnTo>
                    <a:pt x="769" y="1284"/>
                  </a:lnTo>
                  <a:lnTo>
                    <a:pt x="775" y="1277"/>
                  </a:lnTo>
                  <a:lnTo>
                    <a:pt x="783" y="1272"/>
                  </a:lnTo>
                  <a:lnTo>
                    <a:pt x="790" y="1264"/>
                  </a:lnTo>
                  <a:lnTo>
                    <a:pt x="798" y="1257"/>
                  </a:lnTo>
                  <a:lnTo>
                    <a:pt x="804" y="1249"/>
                  </a:lnTo>
                  <a:lnTo>
                    <a:pt x="808" y="1241"/>
                  </a:lnTo>
                  <a:lnTo>
                    <a:pt x="813" y="1236"/>
                  </a:lnTo>
                  <a:lnTo>
                    <a:pt x="819" y="1236"/>
                  </a:lnTo>
                  <a:lnTo>
                    <a:pt x="823" y="1235"/>
                  </a:lnTo>
                  <a:lnTo>
                    <a:pt x="826" y="1235"/>
                  </a:lnTo>
                  <a:lnTo>
                    <a:pt x="829" y="1235"/>
                  </a:lnTo>
                  <a:lnTo>
                    <a:pt x="831" y="1235"/>
                  </a:lnTo>
                  <a:lnTo>
                    <a:pt x="834" y="1235"/>
                  </a:lnTo>
                  <a:lnTo>
                    <a:pt x="835" y="1235"/>
                  </a:lnTo>
                  <a:lnTo>
                    <a:pt x="838" y="1235"/>
                  </a:lnTo>
                  <a:lnTo>
                    <a:pt x="847" y="1241"/>
                  </a:lnTo>
                  <a:lnTo>
                    <a:pt x="858" y="1252"/>
                  </a:lnTo>
                  <a:lnTo>
                    <a:pt x="868" y="1266"/>
                  </a:lnTo>
                  <a:lnTo>
                    <a:pt x="877" y="1278"/>
                  </a:lnTo>
                  <a:lnTo>
                    <a:pt x="886" y="1294"/>
                  </a:lnTo>
                  <a:lnTo>
                    <a:pt x="897" y="1311"/>
                  </a:lnTo>
                  <a:lnTo>
                    <a:pt x="904" y="1325"/>
                  </a:lnTo>
                  <a:lnTo>
                    <a:pt x="912" y="1339"/>
                  </a:lnTo>
                  <a:lnTo>
                    <a:pt x="919" y="1350"/>
                  </a:lnTo>
                  <a:lnTo>
                    <a:pt x="927" y="1364"/>
                  </a:lnTo>
                  <a:lnTo>
                    <a:pt x="936" y="1382"/>
                  </a:lnTo>
                  <a:lnTo>
                    <a:pt x="943" y="1401"/>
                  </a:lnTo>
                  <a:lnTo>
                    <a:pt x="948" y="1421"/>
                  </a:lnTo>
                  <a:lnTo>
                    <a:pt x="954" y="1438"/>
                  </a:lnTo>
                  <a:lnTo>
                    <a:pt x="960" y="1455"/>
                  </a:lnTo>
                  <a:lnTo>
                    <a:pt x="964" y="1468"/>
                  </a:lnTo>
                  <a:lnTo>
                    <a:pt x="964" y="1460"/>
                  </a:lnTo>
                  <a:lnTo>
                    <a:pt x="964" y="1451"/>
                  </a:lnTo>
                  <a:lnTo>
                    <a:pt x="964" y="1440"/>
                  </a:lnTo>
                  <a:lnTo>
                    <a:pt x="964" y="1424"/>
                  </a:lnTo>
                  <a:lnTo>
                    <a:pt x="964" y="1406"/>
                  </a:lnTo>
                  <a:lnTo>
                    <a:pt x="963" y="1378"/>
                  </a:lnTo>
                  <a:lnTo>
                    <a:pt x="961" y="1340"/>
                  </a:lnTo>
                  <a:lnTo>
                    <a:pt x="960" y="1289"/>
                  </a:lnTo>
                  <a:lnTo>
                    <a:pt x="963" y="1274"/>
                  </a:lnTo>
                  <a:lnTo>
                    <a:pt x="966" y="1255"/>
                  </a:lnTo>
                  <a:lnTo>
                    <a:pt x="970" y="1236"/>
                  </a:lnTo>
                  <a:lnTo>
                    <a:pt x="976" y="1219"/>
                  </a:lnTo>
                  <a:lnTo>
                    <a:pt x="979" y="1211"/>
                  </a:lnTo>
                  <a:lnTo>
                    <a:pt x="982" y="1205"/>
                  </a:lnTo>
                  <a:lnTo>
                    <a:pt x="988" y="1201"/>
                  </a:lnTo>
                  <a:lnTo>
                    <a:pt x="994" y="1199"/>
                  </a:lnTo>
                  <a:lnTo>
                    <a:pt x="1002" y="1197"/>
                  </a:lnTo>
                  <a:lnTo>
                    <a:pt x="1009" y="1199"/>
                  </a:lnTo>
                  <a:lnTo>
                    <a:pt x="1018" y="1202"/>
                  </a:lnTo>
                  <a:lnTo>
                    <a:pt x="1027" y="1208"/>
                  </a:lnTo>
                  <a:lnTo>
                    <a:pt x="1041" y="1224"/>
                  </a:lnTo>
                  <a:lnTo>
                    <a:pt x="1054" y="1238"/>
                  </a:lnTo>
                  <a:lnTo>
                    <a:pt x="1068" y="1255"/>
                  </a:lnTo>
                  <a:lnTo>
                    <a:pt x="1081" y="1270"/>
                  </a:lnTo>
                  <a:lnTo>
                    <a:pt x="1093" y="1284"/>
                  </a:lnTo>
                  <a:lnTo>
                    <a:pt x="1108" y="1300"/>
                  </a:lnTo>
                  <a:lnTo>
                    <a:pt x="1122" y="1316"/>
                  </a:lnTo>
                  <a:lnTo>
                    <a:pt x="1134" y="1331"/>
                  </a:lnTo>
                  <a:lnTo>
                    <a:pt x="1138" y="1337"/>
                  </a:lnTo>
                  <a:lnTo>
                    <a:pt x="1143" y="1345"/>
                  </a:lnTo>
                  <a:lnTo>
                    <a:pt x="1147" y="1351"/>
                  </a:lnTo>
                  <a:lnTo>
                    <a:pt x="1152" y="1358"/>
                  </a:lnTo>
                  <a:lnTo>
                    <a:pt x="1156" y="1364"/>
                  </a:lnTo>
                  <a:lnTo>
                    <a:pt x="1159" y="1370"/>
                  </a:lnTo>
                  <a:lnTo>
                    <a:pt x="1162" y="1376"/>
                  </a:lnTo>
                  <a:lnTo>
                    <a:pt x="1165" y="1381"/>
                  </a:lnTo>
                  <a:lnTo>
                    <a:pt x="1161" y="1365"/>
                  </a:lnTo>
                  <a:lnTo>
                    <a:pt x="1156" y="1350"/>
                  </a:lnTo>
                  <a:lnTo>
                    <a:pt x="1150" y="1336"/>
                  </a:lnTo>
                  <a:lnTo>
                    <a:pt x="1144" y="1320"/>
                  </a:lnTo>
                  <a:lnTo>
                    <a:pt x="1140" y="1306"/>
                  </a:lnTo>
                  <a:lnTo>
                    <a:pt x="1135" y="1292"/>
                  </a:lnTo>
                  <a:lnTo>
                    <a:pt x="1131" y="1277"/>
                  </a:lnTo>
                  <a:lnTo>
                    <a:pt x="1129" y="1264"/>
                  </a:lnTo>
                  <a:lnTo>
                    <a:pt x="1125" y="1252"/>
                  </a:lnTo>
                  <a:lnTo>
                    <a:pt x="1125" y="1238"/>
                  </a:lnTo>
                  <a:lnTo>
                    <a:pt x="1123" y="1224"/>
                  </a:lnTo>
                  <a:lnTo>
                    <a:pt x="1123" y="1208"/>
                  </a:lnTo>
                  <a:lnTo>
                    <a:pt x="1125" y="1194"/>
                  </a:lnTo>
                  <a:lnTo>
                    <a:pt x="1125" y="1179"/>
                  </a:lnTo>
                  <a:lnTo>
                    <a:pt x="1126" y="1165"/>
                  </a:lnTo>
                  <a:lnTo>
                    <a:pt x="1126" y="1155"/>
                  </a:lnTo>
                  <a:lnTo>
                    <a:pt x="1131" y="1141"/>
                  </a:lnTo>
                  <a:lnTo>
                    <a:pt x="1132" y="1132"/>
                  </a:lnTo>
                  <a:lnTo>
                    <a:pt x="1135" y="1124"/>
                  </a:lnTo>
                  <a:lnTo>
                    <a:pt x="1140" y="1118"/>
                  </a:lnTo>
                  <a:lnTo>
                    <a:pt x="1144" y="1112"/>
                  </a:lnTo>
                  <a:lnTo>
                    <a:pt x="1152" y="1109"/>
                  </a:lnTo>
                  <a:lnTo>
                    <a:pt x="1159" y="1106"/>
                  </a:lnTo>
                  <a:lnTo>
                    <a:pt x="1173" y="1104"/>
                  </a:lnTo>
                  <a:lnTo>
                    <a:pt x="1195" y="1113"/>
                  </a:lnTo>
                  <a:lnTo>
                    <a:pt x="1221" y="1124"/>
                  </a:lnTo>
                  <a:lnTo>
                    <a:pt x="1245" y="1135"/>
                  </a:lnTo>
                  <a:lnTo>
                    <a:pt x="1269" y="1149"/>
                  </a:lnTo>
                  <a:lnTo>
                    <a:pt x="1293" y="1163"/>
                  </a:lnTo>
                  <a:lnTo>
                    <a:pt x="1317" y="1177"/>
                  </a:lnTo>
                  <a:lnTo>
                    <a:pt x="1339" y="1193"/>
                  </a:lnTo>
                  <a:lnTo>
                    <a:pt x="1363" y="1207"/>
                  </a:lnTo>
                  <a:lnTo>
                    <a:pt x="1363" y="1205"/>
                  </a:lnTo>
                  <a:lnTo>
                    <a:pt x="1363" y="1204"/>
                  </a:lnTo>
                  <a:lnTo>
                    <a:pt x="1353" y="1197"/>
                  </a:lnTo>
                  <a:lnTo>
                    <a:pt x="1342" y="1187"/>
                  </a:lnTo>
                  <a:lnTo>
                    <a:pt x="1333" y="1174"/>
                  </a:lnTo>
                  <a:lnTo>
                    <a:pt x="1323" y="1160"/>
                  </a:lnTo>
                  <a:lnTo>
                    <a:pt x="1312" y="1146"/>
                  </a:lnTo>
                  <a:lnTo>
                    <a:pt x="1303" y="1131"/>
                  </a:lnTo>
                  <a:lnTo>
                    <a:pt x="1296" y="1120"/>
                  </a:lnTo>
                  <a:lnTo>
                    <a:pt x="1288" y="1109"/>
                  </a:lnTo>
                  <a:lnTo>
                    <a:pt x="1287" y="1106"/>
                  </a:lnTo>
                  <a:lnTo>
                    <a:pt x="1284" y="1099"/>
                  </a:lnTo>
                  <a:lnTo>
                    <a:pt x="1281" y="1093"/>
                  </a:lnTo>
                  <a:lnTo>
                    <a:pt x="1276" y="1087"/>
                  </a:lnTo>
                  <a:lnTo>
                    <a:pt x="1270" y="1078"/>
                  </a:lnTo>
                  <a:lnTo>
                    <a:pt x="1264" y="1065"/>
                  </a:lnTo>
                  <a:lnTo>
                    <a:pt x="1257" y="1053"/>
                  </a:lnTo>
                  <a:lnTo>
                    <a:pt x="1248" y="1039"/>
                  </a:lnTo>
                  <a:lnTo>
                    <a:pt x="1246" y="1031"/>
                  </a:lnTo>
                  <a:lnTo>
                    <a:pt x="1246" y="1023"/>
                  </a:lnTo>
                  <a:lnTo>
                    <a:pt x="1245" y="1019"/>
                  </a:lnTo>
                  <a:lnTo>
                    <a:pt x="1245" y="1014"/>
                  </a:lnTo>
                  <a:lnTo>
                    <a:pt x="1243" y="1012"/>
                  </a:lnTo>
                  <a:lnTo>
                    <a:pt x="1243" y="1008"/>
                  </a:lnTo>
                  <a:lnTo>
                    <a:pt x="1243" y="1003"/>
                  </a:lnTo>
                  <a:lnTo>
                    <a:pt x="1242" y="997"/>
                  </a:lnTo>
                  <a:lnTo>
                    <a:pt x="1246" y="994"/>
                  </a:lnTo>
                  <a:lnTo>
                    <a:pt x="1251" y="992"/>
                  </a:lnTo>
                  <a:lnTo>
                    <a:pt x="1258" y="991"/>
                  </a:lnTo>
                  <a:lnTo>
                    <a:pt x="1266" y="989"/>
                  </a:lnTo>
                  <a:lnTo>
                    <a:pt x="1282" y="989"/>
                  </a:lnTo>
                  <a:lnTo>
                    <a:pt x="1302" y="991"/>
                  </a:lnTo>
                  <a:lnTo>
                    <a:pt x="1321" y="992"/>
                  </a:lnTo>
                  <a:lnTo>
                    <a:pt x="1339" y="994"/>
                  </a:lnTo>
                  <a:lnTo>
                    <a:pt x="1356" y="997"/>
                  </a:lnTo>
                  <a:lnTo>
                    <a:pt x="1369" y="998"/>
                  </a:lnTo>
                  <a:lnTo>
                    <a:pt x="1369" y="997"/>
                  </a:lnTo>
                  <a:lnTo>
                    <a:pt x="1369" y="995"/>
                  </a:lnTo>
                  <a:lnTo>
                    <a:pt x="1351" y="981"/>
                  </a:lnTo>
                  <a:lnTo>
                    <a:pt x="1333" y="966"/>
                  </a:lnTo>
                  <a:lnTo>
                    <a:pt x="1315" y="949"/>
                  </a:lnTo>
                  <a:lnTo>
                    <a:pt x="1299" y="932"/>
                  </a:lnTo>
                  <a:lnTo>
                    <a:pt x="1291" y="922"/>
                  </a:lnTo>
                  <a:lnTo>
                    <a:pt x="1284" y="913"/>
                  </a:lnTo>
                  <a:lnTo>
                    <a:pt x="1278" y="904"/>
                  </a:lnTo>
                  <a:lnTo>
                    <a:pt x="1272" y="893"/>
                  </a:lnTo>
                  <a:lnTo>
                    <a:pt x="1267" y="883"/>
                  </a:lnTo>
                  <a:lnTo>
                    <a:pt x="1266" y="873"/>
                  </a:lnTo>
                  <a:lnTo>
                    <a:pt x="1263" y="863"/>
                  </a:lnTo>
                  <a:lnTo>
                    <a:pt x="1263" y="852"/>
                  </a:lnTo>
                  <a:lnTo>
                    <a:pt x="1267" y="848"/>
                  </a:lnTo>
                  <a:lnTo>
                    <a:pt x="1272" y="843"/>
                  </a:lnTo>
                  <a:lnTo>
                    <a:pt x="1278" y="840"/>
                  </a:lnTo>
                  <a:lnTo>
                    <a:pt x="1284" y="837"/>
                  </a:lnTo>
                  <a:lnTo>
                    <a:pt x="1290" y="832"/>
                  </a:lnTo>
                  <a:lnTo>
                    <a:pt x="1296" y="829"/>
                  </a:lnTo>
                  <a:lnTo>
                    <a:pt x="1302" y="827"/>
                  </a:lnTo>
                  <a:lnTo>
                    <a:pt x="1308" y="824"/>
                  </a:lnTo>
                  <a:lnTo>
                    <a:pt x="1333" y="818"/>
                  </a:lnTo>
                  <a:lnTo>
                    <a:pt x="1359" y="812"/>
                  </a:lnTo>
                  <a:lnTo>
                    <a:pt x="1383" y="806"/>
                  </a:lnTo>
                  <a:lnTo>
                    <a:pt x="1408" y="801"/>
                  </a:lnTo>
                  <a:lnTo>
                    <a:pt x="1434" y="795"/>
                  </a:lnTo>
                  <a:lnTo>
                    <a:pt x="1459" y="792"/>
                  </a:lnTo>
                  <a:lnTo>
                    <a:pt x="1486" y="790"/>
                  </a:lnTo>
                  <a:lnTo>
                    <a:pt x="1513" y="789"/>
                  </a:lnTo>
                  <a:lnTo>
                    <a:pt x="1513" y="787"/>
                  </a:lnTo>
                  <a:lnTo>
                    <a:pt x="1512" y="787"/>
                  </a:lnTo>
                  <a:lnTo>
                    <a:pt x="1483" y="782"/>
                  </a:lnTo>
                  <a:lnTo>
                    <a:pt x="1455" y="776"/>
                  </a:lnTo>
                  <a:lnTo>
                    <a:pt x="1428" y="770"/>
                  </a:lnTo>
                  <a:lnTo>
                    <a:pt x="1401" y="761"/>
                  </a:lnTo>
                  <a:lnTo>
                    <a:pt x="1372" y="751"/>
                  </a:lnTo>
                  <a:lnTo>
                    <a:pt x="1348" y="737"/>
                  </a:lnTo>
                  <a:lnTo>
                    <a:pt x="1336" y="729"/>
                  </a:lnTo>
                  <a:lnTo>
                    <a:pt x="1326" y="722"/>
                  </a:lnTo>
                  <a:lnTo>
                    <a:pt x="1315" y="714"/>
                  </a:lnTo>
                  <a:lnTo>
                    <a:pt x="1306" y="703"/>
                  </a:lnTo>
                  <a:lnTo>
                    <a:pt x="1302" y="692"/>
                  </a:lnTo>
                  <a:lnTo>
                    <a:pt x="1300" y="683"/>
                  </a:lnTo>
                  <a:lnTo>
                    <a:pt x="1299" y="674"/>
                  </a:lnTo>
                  <a:lnTo>
                    <a:pt x="1299" y="664"/>
                  </a:lnTo>
                  <a:lnTo>
                    <a:pt x="1299" y="656"/>
                  </a:lnTo>
                  <a:lnTo>
                    <a:pt x="1300" y="647"/>
                  </a:lnTo>
                  <a:lnTo>
                    <a:pt x="1302" y="641"/>
                  </a:lnTo>
                  <a:lnTo>
                    <a:pt x="1305" y="633"/>
                  </a:lnTo>
                  <a:lnTo>
                    <a:pt x="1314" y="618"/>
                  </a:lnTo>
                  <a:lnTo>
                    <a:pt x="1324" y="604"/>
                  </a:lnTo>
                  <a:lnTo>
                    <a:pt x="1336" y="590"/>
                  </a:lnTo>
                  <a:lnTo>
                    <a:pt x="1350" y="576"/>
                  </a:lnTo>
                  <a:lnTo>
                    <a:pt x="1363" y="563"/>
                  </a:lnTo>
                  <a:lnTo>
                    <a:pt x="1377" y="548"/>
                  </a:lnTo>
                  <a:lnTo>
                    <a:pt x="1393" y="535"/>
                  </a:lnTo>
                  <a:lnTo>
                    <a:pt x="1410" y="524"/>
                  </a:lnTo>
                  <a:lnTo>
                    <a:pt x="1428" y="513"/>
                  </a:lnTo>
                  <a:lnTo>
                    <a:pt x="1444" y="503"/>
                  </a:lnTo>
                  <a:lnTo>
                    <a:pt x="1462" y="493"/>
                  </a:lnTo>
                  <a:lnTo>
                    <a:pt x="1479" y="482"/>
                  </a:lnTo>
                  <a:lnTo>
                    <a:pt x="1468" y="482"/>
                  </a:lnTo>
                  <a:lnTo>
                    <a:pt x="1456" y="485"/>
                  </a:lnTo>
                  <a:lnTo>
                    <a:pt x="1443" y="489"/>
                  </a:lnTo>
                  <a:lnTo>
                    <a:pt x="1428" y="493"/>
                  </a:lnTo>
                  <a:lnTo>
                    <a:pt x="1413" y="496"/>
                  </a:lnTo>
                  <a:lnTo>
                    <a:pt x="1401" y="501"/>
                  </a:lnTo>
                  <a:lnTo>
                    <a:pt x="1390" y="506"/>
                  </a:lnTo>
                  <a:lnTo>
                    <a:pt x="1383" y="509"/>
                  </a:lnTo>
                  <a:lnTo>
                    <a:pt x="1365" y="510"/>
                  </a:lnTo>
                  <a:lnTo>
                    <a:pt x="1345" y="513"/>
                  </a:lnTo>
                  <a:lnTo>
                    <a:pt x="1326" y="515"/>
                  </a:lnTo>
                  <a:lnTo>
                    <a:pt x="1305" y="515"/>
                  </a:lnTo>
                  <a:lnTo>
                    <a:pt x="1285" y="515"/>
                  </a:lnTo>
                  <a:lnTo>
                    <a:pt x="1266" y="513"/>
                  </a:lnTo>
                  <a:lnTo>
                    <a:pt x="1249" y="510"/>
                  </a:lnTo>
                  <a:lnTo>
                    <a:pt x="1231" y="504"/>
                  </a:lnTo>
                  <a:lnTo>
                    <a:pt x="1230" y="495"/>
                  </a:lnTo>
                  <a:lnTo>
                    <a:pt x="1225" y="489"/>
                  </a:lnTo>
                  <a:lnTo>
                    <a:pt x="1222" y="479"/>
                  </a:lnTo>
                  <a:lnTo>
                    <a:pt x="1221" y="470"/>
                  </a:lnTo>
                  <a:lnTo>
                    <a:pt x="1219" y="451"/>
                  </a:lnTo>
                  <a:lnTo>
                    <a:pt x="1222" y="433"/>
                  </a:lnTo>
                  <a:lnTo>
                    <a:pt x="1225" y="414"/>
                  </a:lnTo>
                  <a:lnTo>
                    <a:pt x="1231" y="394"/>
                  </a:lnTo>
                  <a:lnTo>
                    <a:pt x="1239" y="375"/>
                  </a:lnTo>
                  <a:lnTo>
                    <a:pt x="1249" y="356"/>
                  </a:lnTo>
                  <a:lnTo>
                    <a:pt x="1270" y="319"/>
                  </a:lnTo>
                  <a:lnTo>
                    <a:pt x="1294" y="283"/>
                  </a:lnTo>
                  <a:lnTo>
                    <a:pt x="1317" y="252"/>
                  </a:lnTo>
                  <a:lnTo>
                    <a:pt x="1336" y="224"/>
                  </a:lnTo>
                  <a:lnTo>
                    <a:pt x="1339" y="224"/>
                  </a:lnTo>
                  <a:lnTo>
                    <a:pt x="1342" y="221"/>
                  </a:lnTo>
                  <a:lnTo>
                    <a:pt x="1344" y="218"/>
                  </a:lnTo>
                  <a:lnTo>
                    <a:pt x="1347" y="215"/>
                  </a:lnTo>
                  <a:lnTo>
                    <a:pt x="1348" y="212"/>
                  </a:lnTo>
                  <a:lnTo>
                    <a:pt x="1350" y="209"/>
                  </a:lnTo>
                  <a:lnTo>
                    <a:pt x="1351" y="206"/>
                  </a:lnTo>
                  <a:lnTo>
                    <a:pt x="1351" y="202"/>
                  </a:lnTo>
                  <a:lnTo>
                    <a:pt x="1345" y="207"/>
                  </a:lnTo>
                  <a:lnTo>
                    <a:pt x="1339" y="212"/>
                  </a:lnTo>
                  <a:lnTo>
                    <a:pt x="1335" y="218"/>
                  </a:lnTo>
                  <a:lnTo>
                    <a:pt x="1329" y="223"/>
                  </a:lnTo>
                  <a:lnTo>
                    <a:pt x="1323" y="227"/>
                  </a:lnTo>
                  <a:lnTo>
                    <a:pt x="1317" y="232"/>
                  </a:lnTo>
                  <a:lnTo>
                    <a:pt x="1311" y="237"/>
                  </a:lnTo>
                  <a:lnTo>
                    <a:pt x="1305" y="241"/>
                  </a:lnTo>
                  <a:lnTo>
                    <a:pt x="1297" y="252"/>
                  </a:lnTo>
                  <a:lnTo>
                    <a:pt x="1288" y="263"/>
                  </a:lnTo>
                  <a:lnTo>
                    <a:pt x="1278" y="271"/>
                  </a:lnTo>
                  <a:lnTo>
                    <a:pt x="1267" y="280"/>
                  </a:lnTo>
                  <a:lnTo>
                    <a:pt x="1243" y="299"/>
                  </a:lnTo>
                  <a:lnTo>
                    <a:pt x="1219" y="313"/>
                  </a:lnTo>
                  <a:lnTo>
                    <a:pt x="1194" y="328"/>
                  </a:lnTo>
                  <a:lnTo>
                    <a:pt x="1167" y="342"/>
                  </a:lnTo>
                  <a:lnTo>
                    <a:pt x="1141" y="352"/>
                  </a:lnTo>
                  <a:lnTo>
                    <a:pt x="1119" y="361"/>
                  </a:lnTo>
                  <a:lnTo>
                    <a:pt x="1108" y="363"/>
                  </a:lnTo>
                  <a:lnTo>
                    <a:pt x="1099" y="363"/>
                  </a:lnTo>
                  <a:lnTo>
                    <a:pt x="1092" y="363"/>
                  </a:lnTo>
                  <a:lnTo>
                    <a:pt x="1084" y="363"/>
                  </a:lnTo>
                  <a:lnTo>
                    <a:pt x="1077" y="363"/>
                  </a:lnTo>
                  <a:lnTo>
                    <a:pt x="1069" y="361"/>
                  </a:lnTo>
                  <a:lnTo>
                    <a:pt x="1062" y="358"/>
                  </a:lnTo>
                  <a:lnTo>
                    <a:pt x="1053" y="355"/>
                  </a:lnTo>
                  <a:lnTo>
                    <a:pt x="1048" y="345"/>
                  </a:lnTo>
                  <a:lnTo>
                    <a:pt x="1042" y="335"/>
                  </a:lnTo>
                  <a:lnTo>
                    <a:pt x="1039" y="324"/>
                  </a:lnTo>
                  <a:lnTo>
                    <a:pt x="1038" y="311"/>
                  </a:lnTo>
                  <a:lnTo>
                    <a:pt x="1036" y="299"/>
                  </a:lnTo>
                  <a:lnTo>
                    <a:pt x="1038" y="285"/>
                  </a:lnTo>
                  <a:lnTo>
                    <a:pt x="1039" y="271"/>
                  </a:lnTo>
                  <a:lnTo>
                    <a:pt x="1041" y="258"/>
                  </a:lnTo>
                  <a:lnTo>
                    <a:pt x="1048" y="232"/>
                  </a:lnTo>
                  <a:lnTo>
                    <a:pt x="1054" y="206"/>
                  </a:lnTo>
                  <a:lnTo>
                    <a:pt x="1065" y="184"/>
                  </a:lnTo>
                  <a:lnTo>
                    <a:pt x="1074" y="164"/>
                  </a:lnTo>
                  <a:lnTo>
                    <a:pt x="1074" y="160"/>
                  </a:lnTo>
                  <a:lnTo>
                    <a:pt x="1074" y="159"/>
                  </a:lnTo>
                  <a:lnTo>
                    <a:pt x="1074" y="157"/>
                  </a:lnTo>
                  <a:lnTo>
                    <a:pt x="1075" y="154"/>
                  </a:lnTo>
                  <a:lnTo>
                    <a:pt x="1075" y="153"/>
                  </a:lnTo>
                  <a:lnTo>
                    <a:pt x="1075" y="150"/>
                  </a:lnTo>
                  <a:lnTo>
                    <a:pt x="1075" y="148"/>
                  </a:lnTo>
                  <a:lnTo>
                    <a:pt x="1075" y="145"/>
                  </a:lnTo>
                  <a:lnTo>
                    <a:pt x="1071" y="150"/>
                  </a:lnTo>
                  <a:lnTo>
                    <a:pt x="1065" y="157"/>
                  </a:lnTo>
                  <a:lnTo>
                    <a:pt x="1059" y="165"/>
                  </a:lnTo>
                  <a:lnTo>
                    <a:pt x="1053" y="174"/>
                  </a:lnTo>
                  <a:lnTo>
                    <a:pt x="1044" y="185"/>
                  </a:lnTo>
                  <a:lnTo>
                    <a:pt x="1035" y="196"/>
                  </a:lnTo>
                  <a:lnTo>
                    <a:pt x="1026" y="209"/>
                  </a:lnTo>
                  <a:lnTo>
                    <a:pt x="1018" y="220"/>
                  </a:lnTo>
                  <a:lnTo>
                    <a:pt x="1008" y="230"/>
                  </a:lnTo>
                  <a:lnTo>
                    <a:pt x="999" y="238"/>
                  </a:lnTo>
                  <a:lnTo>
                    <a:pt x="988" y="248"/>
                  </a:lnTo>
                  <a:lnTo>
                    <a:pt x="979" y="257"/>
                  </a:lnTo>
                  <a:lnTo>
                    <a:pt x="969" y="268"/>
                  </a:lnTo>
                  <a:lnTo>
                    <a:pt x="958" y="276"/>
                  </a:lnTo>
                  <a:lnTo>
                    <a:pt x="949" y="285"/>
                  </a:lnTo>
                  <a:lnTo>
                    <a:pt x="940" y="294"/>
                  </a:lnTo>
                  <a:lnTo>
                    <a:pt x="930" y="302"/>
                  </a:lnTo>
                  <a:lnTo>
                    <a:pt x="919" y="308"/>
                  </a:lnTo>
                  <a:lnTo>
                    <a:pt x="910" y="316"/>
                  </a:lnTo>
                  <a:lnTo>
                    <a:pt x="900" y="322"/>
                  </a:lnTo>
                  <a:lnTo>
                    <a:pt x="891" y="327"/>
                  </a:lnTo>
                  <a:lnTo>
                    <a:pt x="880" y="330"/>
                  </a:lnTo>
                  <a:lnTo>
                    <a:pt x="876" y="328"/>
                  </a:lnTo>
                  <a:lnTo>
                    <a:pt x="873" y="327"/>
                  </a:lnTo>
                  <a:lnTo>
                    <a:pt x="868" y="325"/>
                  </a:lnTo>
                  <a:lnTo>
                    <a:pt x="862" y="321"/>
                  </a:lnTo>
                  <a:lnTo>
                    <a:pt x="849" y="290"/>
                  </a:lnTo>
                  <a:lnTo>
                    <a:pt x="837" y="260"/>
                  </a:lnTo>
                  <a:lnTo>
                    <a:pt x="825" y="230"/>
                  </a:lnTo>
                  <a:lnTo>
                    <a:pt x="813" y="199"/>
                  </a:lnTo>
                  <a:lnTo>
                    <a:pt x="804" y="170"/>
                  </a:lnTo>
                  <a:lnTo>
                    <a:pt x="793" y="139"/>
                  </a:lnTo>
                  <a:lnTo>
                    <a:pt x="784" y="109"/>
                  </a:lnTo>
                  <a:lnTo>
                    <a:pt x="775" y="78"/>
                  </a:lnTo>
                  <a:lnTo>
                    <a:pt x="775" y="100"/>
                  </a:lnTo>
                  <a:lnTo>
                    <a:pt x="775" y="128"/>
                  </a:lnTo>
                  <a:lnTo>
                    <a:pt x="774" y="159"/>
                  </a:lnTo>
                  <a:lnTo>
                    <a:pt x="772" y="190"/>
                  </a:lnTo>
                  <a:lnTo>
                    <a:pt x="769" y="206"/>
                  </a:lnTo>
                  <a:lnTo>
                    <a:pt x="768" y="221"/>
                  </a:lnTo>
                  <a:lnTo>
                    <a:pt x="763" y="234"/>
                  </a:lnTo>
                  <a:lnTo>
                    <a:pt x="757" y="248"/>
                  </a:lnTo>
                  <a:lnTo>
                    <a:pt x="750" y="260"/>
                  </a:lnTo>
                  <a:lnTo>
                    <a:pt x="742" y="269"/>
                  </a:lnTo>
                  <a:lnTo>
                    <a:pt x="733" y="277"/>
                  </a:lnTo>
                  <a:lnTo>
                    <a:pt x="721" y="285"/>
                  </a:lnTo>
                  <a:lnTo>
                    <a:pt x="700" y="283"/>
                  </a:lnTo>
                  <a:lnTo>
                    <a:pt x="685" y="280"/>
                  </a:lnTo>
                  <a:lnTo>
                    <a:pt x="678" y="277"/>
                  </a:lnTo>
                  <a:lnTo>
                    <a:pt x="673" y="274"/>
                  </a:lnTo>
                  <a:lnTo>
                    <a:pt x="667" y="269"/>
                  </a:lnTo>
                  <a:lnTo>
                    <a:pt x="664" y="268"/>
                  </a:lnTo>
                  <a:lnTo>
                    <a:pt x="658" y="257"/>
                  </a:lnTo>
                  <a:lnTo>
                    <a:pt x="654" y="243"/>
                  </a:lnTo>
                  <a:lnTo>
                    <a:pt x="648" y="227"/>
                  </a:lnTo>
                  <a:lnTo>
                    <a:pt x="642" y="209"/>
                  </a:lnTo>
                  <a:lnTo>
                    <a:pt x="642" y="232"/>
                  </a:lnTo>
                  <a:lnTo>
                    <a:pt x="640" y="254"/>
                  </a:lnTo>
                  <a:lnTo>
                    <a:pt x="639" y="271"/>
                  </a:lnTo>
                  <a:lnTo>
                    <a:pt x="636" y="288"/>
                  </a:lnTo>
                  <a:lnTo>
                    <a:pt x="631" y="296"/>
                  </a:lnTo>
                  <a:lnTo>
                    <a:pt x="628" y="302"/>
                  </a:lnTo>
                  <a:lnTo>
                    <a:pt x="622" y="307"/>
                  </a:lnTo>
                  <a:lnTo>
                    <a:pt x="616" y="310"/>
                  </a:lnTo>
                  <a:lnTo>
                    <a:pt x="607" y="313"/>
                  </a:lnTo>
                  <a:lnTo>
                    <a:pt x="597" y="314"/>
                  </a:lnTo>
                  <a:lnTo>
                    <a:pt x="586" y="316"/>
                  </a:lnTo>
                  <a:lnTo>
                    <a:pt x="573" y="316"/>
                  </a:lnTo>
                  <a:lnTo>
                    <a:pt x="564" y="310"/>
                  </a:lnTo>
                  <a:lnTo>
                    <a:pt x="556" y="305"/>
                  </a:lnTo>
                  <a:lnTo>
                    <a:pt x="547" y="299"/>
                  </a:lnTo>
                  <a:lnTo>
                    <a:pt x="538" y="291"/>
                  </a:lnTo>
                  <a:lnTo>
                    <a:pt x="523" y="276"/>
                  </a:lnTo>
                  <a:lnTo>
                    <a:pt x="513" y="260"/>
                  </a:lnTo>
                  <a:lnTo>
                    <a:pt x="501" y="241"/>
                  </a:lnTo>
                  <a:lnTo>
                    <a:pt x="489" y="224"/>
                  </a:lnTo>
                  <a:lnTo>
                    <a:pt x="480" y="206"/>
                  </a:lnTo>
                  <a:lnTo>
                    <a:pt x="469" y="190"/>
                  </a:lnTo>
                  <a:lnTo>
                    <a:pt x="465" y="179"/>
                  </a:lnTo>
                  <a:lnTo>
                    <a:pt x="460" y="168"/>
                  </a:lnTo>
                  <a:lnTo>
                    <a:pt x="457" y="159"/>
                  </a:lnTo>
                  <a:lnTo>
                    <a:pt x="453" y="150"/>
                  </a:lnTo>
                  <a:lnTo>
                    <a:pt x="451" y="142"/>
                  </a:lnTo>
                  <a:lnTo>
                    <a:pt x="448" y="134"/>
                  </a:lnTo>
                  <a:lnTo>
                    <a:pt x="445" y="128"/>
                  </a:lnTo>
                  <a:lnTo>
                    <a:pt x="444" y="125"/>
                  </a:lnTo>
                  <a:lnTo>
                    <a:pt x="445" y="137"/>
                  </a:lnTo>
                  <a:lnTo>
                    <a:pt x="447" y="150"/>
                  </a:lnTo>
                  <a:lnTo>
                    <a:pt x="448" y="162"/>
                  </a:lnTo>
                  <a:lnTo>
                    <a:pt x="451" y="176"/>
                  </a:lnTo>
                  <a:lnTo>
                    <a:pt x="454" y="188"/>
                  </a:lnTo>
                  <a:lnTo>
                    <a:pt x="457" y="201"/>
                  </a:lnTo>
                  <a:lnTo>
                    <a:pt x="460" y="215"/>
                  </a:lnTo>
                  <a:lnTo>
                    <a:pt x="465" y="229"/>
                  </a:lnTo>
                  <a:lnTo>
                    <a:pt x="466" y="244"/>
                  </a:lnTo>
                  <a:lnTo>
                    <a:pt x="469" y="262"/>
                  </a:lnTo>
                  <a:lnTo>
                    <a:pt x="471" y="279"/>
                  </a:lnTo>
                  <a:lnTo>
                    <a:pt x="472" y="296"/>
                  </a:lnTo>
                  <a:lnTo>
                    <a:pt x="474" y="313"/>
                  </a:lnTo>
                  <a:lnTo>
                    <a:pt x="475" y="332"/>
                  </a:lnTo>
                  <a:lnTo>
                    <a:pt x="475" y="349"/>
                  </a:lnTo>
                  <a:lnTo>
                    <a:pt x="475" y="367"/>
                  </a:lnTo>
                  <a:lnTo>
                    <a:pt x="474" y="372"/>
                  </a:lnTo>
                  <a:lnTo>
                    <a:pt x="472" y="375"/>
                  </a:lnTo>
                  <a:lnTo>
                    <a:pt x="469" y="378"/>
                  </a:lnTo>
                  <a:lnTo>
                    <a:pt x="469" y="381"/>
                  </a:lnTo>
                  <a:lnTo>
                    <a:pt x="468" y="384"/>
                  </a:lnTo>
                  <a:lnTo>
                    <a:pt x="466" y="387"/>
                  </a:lnTo>
                  <a:lnTo>
                    <a:pt x="465" y="392"/>
                  </a:lnTo>
                  <a:lnTo>
                    <a:pt x="462" y="398"/>
                  </a:lnTo>
                  <a:lnTo>
                    <a:pt x="453" y="400"/>
                  </a:lnTo>
                  <a:lnTo>
                    <a:pt x="444" y="400"/>
                  </a:lnTo>
                  <a:lnTo>
                    <a:pt x="435" y="400"/>
                  </a:lnTo>
                  <a:lnTo>
                    <a:pt x="426" y="397"/>
                  </a:lnTo>
                  <a:lnTo>
                    <a:pt x="417" y="394"/>
                  </a:lnTo>
                  <a:lnTo>
                    <a:pt x="409" y="389"/>
                  </a:lnTo>
                  <a:lnTo>
                    <a:pt x="402" y="384"/>
                  </a:lnTo>
                  <a:lnTo>
                    <a:pt x="394" y="380"/>
                  </a:lnTo>
                  <a:lnTo>
                    <a:pt x="379" y="367"/>
                  </a:lnTo>
                  <a:lnTo>
                    <a:pt x="367" y="353"/>
                  </a:lnTo>
                  <a:lnTo>
                    <a:pt x="354" y="341"/>
                  </a:lnTo>
                  <a:lnTo>
                    <a:pt x="343" y="327"/>
                  </a:lnTo>
                  <a:lnTo>
                    <a:pt x="343" y="328"/>
                  </a:lnTo>
                  <a:lnTo>
                    <a:pt x="342" y="328"/>
                  </a:lnTo>
                  <a:lnTo>
                    <a:pt x="342" y="330"/>
                  </a:lnTo>
                  <a:lnTo>
                    <a:pt x="342" y="332"/>
                  </a:lnTo>
                  <a:lnTo>
                    <a:pt x="349" y="347"/>
                  </a:lnTo>
                  <a:lnTo>
                    <a:pt x="358" y="364"/>
                  </a:lnTo>
                  <a:lnTo>
                    <a:pt x="364" y="381"/>
                  </a:lnTo>
                  <a:lnTo>
                    <a:pt x="369" y="397"/>
                  </a:lnTo>
                  <a:lnTo>
                    <a:pt x="373" y="415"/>
                  </a:lnTo>
                  <a:lnTo>
                    <a:pt x="376" y="433"/>
                  </a:lnTo>
                  <a:lnTo>
                    <a:pt x="379" y="451"/>
                  </a:lnTo>
                  <a:lnTo>
                    <a:pt x="379" y="470"/>
                  </a:lnTo>
                  <a:lnTo>
                    <a:pt x="372" y="482"/>
                  </a:lnTo>
                  <a:lnTo>
                    <a:pt x="361" y="492"/>
                  </a:lnTo>
                  <a:lnTo>
                    <a:pt x="351" y="496"/>
                  </a:lnTo>
                  <a:lnTo>
                    <a:pt x="342" y="499"/>
                  </a:lnTo>
                  <a:lnTo>
                    <a:pt x="330" y="501"/>
                  </a:lnTo>
                  <a:lnTo>
                    <a:pt x="318" y="501"/>
                  </a:lnTo>
                  <a:lnTo>
                    <a:pt x="306" y="498"/>
                  </a:lnTo>
                  <a:lnTo>
                    <a:pt x="294" y="495"/>
                  </a:lnTo>
                  <a:lnTo>
                    <a:pt x="270" y="487"/>
                  </a:lnTo>
                  <a:lnTo>
                    <a:pt x="244" y="475"/>
                  </a:lnTo>
                  <a:lnTo>
                    <a:pt x="222" y="462"/>
                  </a:lnTo>
                  <a:lnTo>
                    <a:pt x="202" y="456"/>
                  </a:lnTo>
                  <a:lnTo>
                    <a:pt x="193" y="450"/>
                  </a:lnTo>
                  <a:lnTo>
                    <a:pt x="183" y="442"/>
                  </a:lnTo>
                  <a:lnTo>
                    <a:pt x="172" y="436"/>
                  </a:lnTo>
                  <a:lnTo>
                    <a:pt x="163" y="428"/>
                  </a:lnTo>
                  <a:lnTo>
                    <a:pt x="153" y="422"/>
                  </a:lnTo>
                  <a:lnTo>
                    <a:pt x="142" y="417"/>
                  </a:lnTo>
                  <a:lnTo>
                    <a:pt x="132" y="412"/>
                  </a:lnTo>
                  <a:lnTo>
                    <a:pt x="124" y="408"/>
                  </a:lnTo>
                  <a:lnTo>
                    <a:pt x="127" y="412"/>
                  </a:lnTo>
                  <a:lnTo>
                    <a:pt x="135" y="423"/>
                  </a:lnTo>
                  <a:lnTo>
                    <a:pt x="147" y="439"/>
                  </a:lnTo>
                  <a:lnTo>
                    <a:pt x="162" y="456"/>
                  </a:lnTo>
                  <a:lnTo>
                    <a:pt x="175" y="475"/>
                  </a:lnTo>
                  <a:lnTo>
                    <a:pt x="187" y="492"/>
                  </a:lnTo>
                  <a:lnTo>
                    <a:pt x="198" y="503"/>
                  </a:lnTo>
                  <a:lnTo>
                    <a:pt x="202" y="509"/>
                  </a:lnTo>
                  <a:lnTo>
                    <a:pt x="213" y="530"/>
                  </a:lnTo>
                  <a:lnTo>
                    <a:pt x="225" y="549"/>
                  </a:lnTo>
                  <a:lnTo>
                    <a:pt x="237" y="568"/>
                  </a:lnTo>
                  <a:lnTo>
                    <a:pt x="244" y="588"/>
                  </a:lnTo>
                  <a:lnTo>
                    <a:pt x="247" y="599"/>
                  </a:lnTo>
                  <a:lnTo>
                    <a:pt x="250" y="608"/>
                  </a:lnTo>
                  <a:lnTo>
                    <a:pt x="253" y="619"/>
                  </a:lnTo>
                  <a:lnTo>
                    <a:pt x="253" y="630"/>
                  </a:lnTo>
                  <a:lnTo>
                    <a:pt x="253" y="641"/>
                  </a:lnTo>
                  <a:lnTo>
                    <a:pt x="252" y="652"/>
                  </a:lnTo>
                  <a:lnTo>
                    <a:pt x="249" y="664"/>
                  </a:lnTo>
                  <a:lnTo>
                    <a:pt x="244" y="675"/>
                  </a:lnTo>
                  <a:lnTo>
                    <a:pt x="237" y="681"/>
                  </a:lnTo>
                  <a:lnTo>
                    <a:pt x="228" y="686"/>
                  </a:lnTo>
                  <a:lnTo>
                    <a:pt x="216" y="691"/>
                  </a:lnTo>
                  <a:lnTo>
                    <a:pt x="205" y="692"/>
                  </a:lnTo>
                  <a:lnTo>
                    <a:pt x="193" y="694"/>
                  </a:lnTo>
                  <a:lnTo>
                    <a:pt x="181" y="692"/>
                  </a:lnTo>
                  <a:lnTo>
                    <a:pt x="168" y="692"/>
                  </a:lnTo>
                  <a:lnTo>
                    <a:pt x="156" y="691"/>
                  </a:lnTo>
                  <a:lnTo>
                    <a:pt x="132" y="686"/>
                  </a:lnTo>
                  <a:lnTo>
                    <a:pt x="106" y="681"/>
                  </a:lnTo>
                  <a:lnTo>
                    <a:pt x="85" y="680"/>
                  </a:lnTo>
                  <a:lnTo>
                    <a:pt x="67" y="680"/>
                  </a:lnTo>
                  <a:lnTo>
                    <a:pt x="84" y="688"/>
                  </a:lnTo>
                  <a:lnTo>
                    <a:pt x="99" y="695"/>
                  </a:lnTo>
                  <a:lnTo>
                    <a:pt x="117" y="705"/>
                  </a:lnTo>
                  <a:lnTo>
                    <a:pt x="132" y="715"/>
                  </a:lnTo>
                  <a:lnTo>
                    <a:pt x="150" y="725"/>
                  </a:lnTo>
                  <a:lnTo>
                    <a:pt x="166" y="737"/>
                  </a:lnTo>
                  <a:lnTo>
                    <a:pt x="181" y="748"/>
                  </a:lnTo>
                  <a:lnTo>
                    <a:pt x="196" y="759"/>
                  </a:lnTo>
                  <a:lnTo>
                    <a:pt x="204" y="768"/>
                  </a:lnTo>
                  <a:lnTo>
                    <a:pt x="211" y="776"/>
                  </a:lnTo>
                  <a:lnTo>
                    <a:pt x="219" y="784"/>
                  </a:lnTo>
                  <a:lnTo>
                    <a:pt x="226" y="792"/>
                  </a:lnTo>
                  <a:lnTo>
                    <a:pt x="234" y="801"/>
                  </a:lnTo>
                  <a:lnTo>
                    <a:pt x="240" y="810"/>
                  </a:lnTo>
                  <a:lnTo>
                    <a:pt x="247" y="821"/>
                  </a:lnTo>
                  <a:lnTo>
                    <a:pt x="255" y="831"/>
                  </a:lnTo>
                  <a:lnTo>
                    <a:pt x="256" y="834"/>
                  </a:lnTo>
                  <a:lnTo>
                    <a:pt x="256" y="837"/>
                  </a:lnTo>
                  <a:lnTo>
                    <a:pt x="258" y="838"/>
                  </a:lnTo>
                  <a:lnTo>
                    <a:pt x="258" y="840"/>
                  </a:lnTo>
                  <a:lnTo>
                    <a:pt x="259" y="843"/>
                  </a:lnTo>
                  <a:lnTo>
                    <a:pt x="261" y="845"/>
                  </a:lnTo>
                  <a:lnTo>
                    <a:pt x="262" y="848"/>
                  </a:lnTo>
                  <a:lnTo>
                    <a:pt x="265" y="852"/>
                  </a:lnTo>
                  <a:lnTo>
                    <a:pt x="265" y="854"/>
                  </a:lnTo>
                  <a:lnTo>
                    <a:pt x="265" y="855"/>
                  </a:lnTo>
                  <a:lnTo>
                    <a:pt x="265" y="857"/>
                  </a:lnTo>
                  <a:lnTo>
                    <a:pt x="265" y="859"/>
                  </a:lnTo>
                  <a:lnTo>
                    <a:pt x="264" y="860"/>
                  </a:lnTo>
                  <a:lnTo>
                    <a:pt x="264" y="859"/>
                  </a:lnTo>
                  <a:lnTo>
                    <a:pt x="262" y="859"/>
                  </a:lnTo>
                  <a:lnTo>
                    <a:pt x="261" y="857"/>
                  </a:lnTo>
                  <a:lnTo>
                    <a:pt x="261" y="855"/>
                  </a:lnTo>
                  <a:lnTo>
                    <a:pt x="259" y="855"/>
                  </a:lnTo>
                  <a:lnTo>
                    <a:pt x="258" y="855"/>
                  </a:lnTo>
                  <a:lnTo>
                    <a:pt x="258" y="857"/>
                  </a:lnTo>
                  <a:lnTo>
                    <a:pt x="256" y="859"/>
                  </a:lnTo>
                  <a:lnTo>
                    <a:pt x="255" y="863"/>
                  </a:lnTo>
                  <a:lnTo>
                    <a:pt x="252" y="868"/>
                  </a:lnTo>
                  <a:lnTo>
                    <a:pt x="249" y="876"/>
                  </a:lnTo>
                  <a:lnTo>
                    <a:pt x="243" y="888"/>
                  </a:lnTo>
                  <a:lnTo>
                    <a:pt x="238" y="904"/>
                  </a:lnTo>
                  <a:lnTo>
                    <a:pt x="222" y="925"/>
                  </a:lnTo>
                  <a:lnTo>
                    <a:pt x="204" y="946"/>
                  </a:lnTo>
                  <a:lnTo>
                    <a:pt x="186" y="966"/>
                  </a:lnTo>
                  <a:lnTo>
                    <a:pt x="166" y="983"/>
                  </a:lnTo>
                  <a:lnTo>
                    <a:pt x="148" y="1002"/>
                  </a:lnTo>
                  <a:lnTo>
                    <a:pt x="129" y="1017"/>
                  </a:lnTo>
                  <a:lnTo>
                    <a:pt x="108" y="1034"/>
                  </a:lnTo>
                  <a:lnTo>
                    <a:pt x="87" y="1050"/>
                  </a:lnTo>
                  <a:lnTo>
                    <a:pt x="82" y="1051"/>
                  </a:lnTo>
                  <a:lnTo>
                    <a:pt x="76" y="1053"/>
                  </a:lnTo>
                  <a:lnTo>
                    <a:pt x="69" y="1058"/>
                  </a:lnTo>
                  <a:lnTo>
                    <a:pt x="63" y="1062"/>
                  </a:lnTo>
                  <a:lnTo>
                    <a:pt x="57" y="1067"/>
                  </a:lnTo>
                  <a:lnTo>
                    <a:pt x="51" y="1072"/>
                  </a:lnTo>
                  <a:lnTo>
                    <a:pt x="46" y="1076"/>
                  </a:lnTo>
                  <a:lnTo>
                    <a:pt x="43" y="1081"/>
                  </a:lnTo>
                  <a:lnTo>
                    <a:pt x="46" y="1081"/>
                  </a:lnTo>
                  <a:lnTo>
                    <a:pt x="52" y="1079"/>
                  </a:lnTo>
                  <a:lnTo>
                    <a:pt x="61" y="1076"/>
                  </a:lnTo>
                  <a:lnTo>
                    <a:pt x="73" y="1075"/>
                  </a:lnTo>
                  <a:lnTo>
                    <a:pt x="88" y="1070"/>
                  </a:lnTo>
                  <a:lnTo>
                    <a:pt x="103" y="1067"/>
                  </a:lnTo>
                  <a:lnTo>
                    <a:pt x="123" y="1062"/>
                  </a:lnTo>
                  <a:lnTo>
                    <a:pt x="144" y="1058"/>
                  </a:lnTo>
                  <a:lnTo>
                    <a:pt x="148" y="1056"/>
                  </a:lnTo>
                  <a:lnTo>
                    <a:pt x="154" y="1054"/>
                  </a:lnTo>
                  <a:lnTo>
                    <a:pt x="160" y="1053"/>
                  </a:lnTo>
                  <a:lnTo>
                    <a:pt x="165" y="1051"/>
                  </a:lnTo>
                  <a:lnTo>
                    <a:pt x="169" y="1051"/>
                  </a:lnTo>
                  <a:lnTo>
                    <a:pt x="175" y="1050"/>
                  </a:lnTo>
                  <a:lnTo>
                    <a:pt x="180" y="1048"/>
                  </a:lnTo>
                  <a:lnTo>
                    <a:pt x="186" y="1047"/>
                  </a:lnTo>
                  <a:lnTo>
                    <a:pt x="201" y="1044"/>
                  </a:lnTo>
                  <a:lnTo>
                    <a:pt x="214" y="1040"/>
                  </a:lnTo>
                  <a:lnTo>
                    <a:pt x="229" y="1037"/>
                  </a:lnTo>
                  <a:lnTo>
                    <a:pt x="244" y="1033"/>
                  </a:lnTo>
                  <a:lnTo>
                    <a:pt x="259" y="1028"/>
                  </a:lnTo>
                  <a:lnTo>
                    <a:pt x="273" y="1023"/>
                  </a:lnTo>
                  <a:lnTo>
                    <a:pt x="289" y="1020"/>
                  </a:lnTo>
                  <a:lnTo>
                    <a:pt x="304" y="1017"/>
                  </a:lnTo>
                  <a:lnTo>
                    <a:pt x="306" y="1016"/>
                  </a:lnTo>
                  <a:lnTo>
                    <a:pt x="306" y="1014"/>
                  </a:lnTo>
                  <a:lnTo>
                    <a:pt x="307" y="1014"/>
                  </a:lnTo>
                  <a:lnTo>
                    <a:pt x="307" y="1012"/>
                  </a:lnTo>
                  <a:lnTo>
                    <a:pt x="309" y="1011"/>
                  </a:lnTo>
                  <a:lnTo>
                    <a:pt x="309" y="1009"/>
                  </a:lnTo>
                  <a:lnTo>
                    <a:pt x="309" y="1008"/>
                  </a:lnTo>
                  <a:lnTo>
                    <a:pt x="309" y="1006"/>
                  </a:lnTo>
                  <a:lnTo>
                    <a:pt x="315" y="980"/>
                  </a:lnTo>
                  <a:lnTo>
                    <a:pt x="321" y="955"/>
                  </a:lnTo>
                  <a:lnTo>
                    <a:pt x="327" y="930"/>
                  </a:lnTo>
                  <a:lnTo>
                    <a:pt x="333" y="904"/>
                  </a:lnTo>
                  <a:lnTo>
                    <a:pt x="339" y="879"/>
                  </a:lnTo>
                  <a:lnTo>
                    <a:pt x="343" y="854"/>
                  </a:lnTo>
                  <a:lnTo>
                    <a:pt x="348" y="829"/>
                  </a:lnTo>
                  <a:lnTo>
                    <a:pt x="354" y="803"/>
                  </a:lnTo>
                  <a:lnTo>
                    <a:pt x="357" y="796"/>
                  </a:lnTo>
                  <a:lnTo>
                    <a:pt x="358" y="792"/>
                  </a:lnTo>
                  <a:lnTo>
                    <a:pt x="360" y="785"/>
                  </a:lnTo>
                  <a:lnTo>
                    <a:pt x="361" y="781"/>
                  </a:lnTo>
                  <a:lnTo>
                    <a:pt x="364" y="775"/>
                  </a:lnTo>
                  <a:lnTo>
                    <a:pt x="367" y="770"/>
                  </a:lnTo>
                  <a:lnTo>
                    <a:pt x="370" y="765"/>
                  </a:lnTo>
                  <a:lnTo>
                    <a:pt x="375" y="761"/>
                  </a:lnTo>
                  <a:lnTo>
                    <a:pt x="378" y="736"/>
                  </a:lnTo>
                  <a:lnTo>
                    <a:pt x="381" y="712"/>
                  </a:lnTo>
                  <a:lnTo>
                    <a:pt x="387" y="688"/>
                  </a:lnTo>
                  <a:lnTo>
                    <a:pt x="394" y="664"/>
                  </a:lnTo>
                  <a:lnTo>
                    <a:pt x="403" y="641"/>
                  </a:lnTo>
                  <a:lnTo>
                    <a:pt x="414" y="618"/>
                  </a:lnTo>
                  <a:lnTo>
                    <a:pt x="424" y="597"/>
                  </a:lnTo>
                  <a:lnTo>
                    <a:pt x="436" y="574"/>
                  </a:lnTo>
                  <a:lnTo>
                    <a:pt x="450" y="555"/>
                  </a:lnTo>
                  <a:lnTo>
                    <a:pt x="463" y="534"/>
                  </a:lnTo>
                  <a:lnTo>
                    <a:pt x="480" y="517"/>
                  </a:lnTo>
                  <a:lnTo>
                    <a:pt x="495" y="496"/>
                  </a:lnTo>
                  <a:lnTo>
                    <a:pt x="513" y="481"/>
                  </a:lnTo>
                  <a:lnTo>
                    <a:pt x="529" y="464"/>
                  </a:lnTo>
                  <a:lnTo>
                    <a:pt x="549" y="448"/>
                  </a:lnTo>
                  <a:lnTo>
                    <a:pt x="567" y="433"/>
                  </a:lnTo>
                  <a:lnTo>
                    <a:pt x="580" y="426"/>
                  </a:lnTo>
                  <a:lnTo>
                    <a:pt x="592" y="420"/>
                  </a:lnTo>
                  <a:lnTo>
                    <a:pt x="606" y="415"/>
                  </a:lnTo>
                  <a:lnTo>
                    <a:pt x="619" y="409"/>
                  </a:lnTo>
                  <a:lnTo>
                    <a:pt x="631" y="403"/>
                  </a:lnTo>
                  <a:lnTo>
                    <a:pt x="645" y="397"/>
                  </a:lnTo>
                  <a:lnTo>
                    <a:pt x="658" y="391"/>
                  </a:lnTo>
                  <a:lnTo>
                    <a:pt x="670" y="384"/>
                  </a:lnTo>
                  <a:lnTo>
                    <a:pt x="685" y="381"/>
                  </a:lnTo>
                  <a:lnTo>
                    <a:pt x="700" y="380"/>
                  </a:lnTo>
                  <a:lnTo>
                    <a:pt x="715" y="377"/>
                  </a:lnTo>
                  <a:lnTo>
                    <a:pt x="732" y="373"/>
                  </a:lnTo>
                  <a:lnTo>
                    <a:pt x="747" y="369"/>
                  </a:lnTo>
                  <a:lnTo>
                    <a:pt x="763" y="366"/>
                  </a:lnTo>
                  <a:lnTo>
                    <a:pt x="778" y="364"/>
                  </a:lnTo>
                  <a:lnTo>
                    <a:pt x="795" y="361"/>
                  </a:lnTo>
                  <a:lnTo>
                    <a:pt x="804" y="361"/>
                  </a:lnTo>
                  <a:lnTo>
                    <a:pt x="811" y="361"/>
                  </a:lnTo>
                  <a:lnTo>
                    <a:pt x="820" y="361"/>
                  </a:lnTo>
                  <a:lnTo>
                    <a:pt x="829" y="361"/>
                  </a:lnTo>
                  <a:lnTo>
                    <a:pt x="838" y="361"/>
                  </a:lnTo>
                  <a:lnTo>
                    <a:pt x="846" y="361"/>
                  </a:lnTo>
                  <a:lnTo>
                    <a:pt x="855" y="361"/>
                  </a:lnTo>
                  <a:lnTo>
                    <a:pt x="864" y="361"/>
                  </a:lnTo>
                  <a:lnTo>
                    <a:pt x="882" y="364"/>
                  </a:lnTo>
                  <a:lnTo>
                    <a:pt x="901" y="369"/>
                  </a:lnTo>
                  <a:lnTo>
                    <a:pt x="918" y="373"/>
                  </a:lnTo>
                  <a:lnTo>
                    <a:pt x="936" y="380"/>
                  </a:lnTo>
                  <a:lnTo>
                    <a:pt x="952" y="384"/>
                  </a:lnTo>
                  <a:lnTo>
                    <a:pt x="970" y="391"/>
                  </a:lnTo>
                  <a:lnTo>
                    <a:pt x="988" y="400"/>
                  </a:lnTo>
                  <a:lnTo>
                    <a:pt x="1009" y="408"/>
                  </a:lnTo>
                  <a:lnTo>
                    <a:pt x="1029" y="420"/>
                  </a:lnTo>
                  <a:lnTo>
                    <a:pt x="1050" y="434"/>
                  </a:lnTo>
                  <a:lnTo>
                    <a:pt x="1068" y="448"/>
                  </a:lnTo>
                  <a:lnTo>
                    <a:pt x="1087" y="461"/>
                  </a:lnTo>
                  <a:lnTo>
                    <a:pt x="1104" y="476"/>
                  </a:lnTo>
                  <a:lnTo>
                    <a:pt x="1122" y="493"/>
                  </a:lnTo>
                  <a:lnTo>
                    <a:pt x="1138" y="510"/>
                  </a:lnTo>
                  <a:lnTo>
                    <a:pt x="1156" y="530"/>
                  </a:lnTo>
                  <a:lnTo>
                    <a:pt x="1164" y="543"/>
                  </a:lnTo>
                  <a:lnTo>
                    <a:pt x="1173" y="557"/>
                  </a:lnTo>
                  <a:lnTo>
                    <a:pt x="1180" y="569"/>
                  </a:lnTo>
                  <a:lnTo>
                    <a:pt x="1189" y="585"/>
                  </a:lnTo>
                  <a:lnTo>
                    <a:pt x="1195" y="600"/>
                  </a:lnTo>
                  <a:lnTo>
                    <a:pt x="1204" y="614"/>
                  </a:lnTo>
                  <a:lnTo>
                    <a:pt x="1212" y="630"/>
                  </a:lnTo>
                  <a:lnTo>
                    <a:pt x="1219" y="644"/>
                  </a:lnTo>
                  <a:lnTo>
                    <a:pt x="1222" y="652"/>
                  </a:lnTo>
                  <a:lnTo>
                    <a:pt x="1224" y="658"/>
                  </a:lnTo>
                  <a:lnTo>
                    <a:pt x="1225" y="663"/>
                  </a:lnTo>
                  <a:lnTo>
                    <a:pt x="1225" y="666"/>
                  </a:lnTo>
                  <a:lnTo>
                    <a:pt x="1227" y="667"/>
                  </a:lnTo>
                  <a:lnTo>
                    <a:pt x="1227" y="669"/>
                  </a:lnTo>
                  <a:lnTo>
                    <a:pt x="1228" y="670"/>
                  </a:lnTo>
                  <a:lnTo>
                    <a:pt x="1228" y="672"/>
                  </a:lnTo>
                  <a:lnTo>
                    <a:pt x="1231" y="689"/>
                  </a:lnTo>
                  <a:lnTo>
                    <a:pt x="1234" y="708"/>
                  </a:lnTo>
                  <a:lnTo>
                    <a:pt x="1236" y="725"/>
                  </a:lnTo>
                  <a:lnTo>
                    <a:pt x="1236" y="743"/>
                  </a:lnTo>
                  <a:lnTo>
                    <a:pt x="1234" y="762"/>
                  </a:lnTo>
                  <a:lnTo>
                    <a:pt x="1233" y="781"/>
                  </a:lnTo>
                  <a:lnTo>
                    <a:pt x="1230" y="799"/>
                  </a:lnTo>
                  <a:lnTo>
                    <a:pt x="1225" y="818"/>
                  </a:lnTo>
                  <a:lnTo>
                    <a:pt x="1219" y="835"/>
                  </a:lnTo>
                  <a:lnTo>
                    <a:pt x="1213" y="854"/>
                  </a:lnTo>
                  <a:lnTo>
                    <a:pt x="1206" y="871"/>
                  </a:lnTo>
                  <a:lnTo>
                    <a:pt x="1197" y="890"/>
                  </a:lnTo>
                  <a:lnTo>
                    <a:pt x="1180" y="922"/>
                  </a:lnTo>
                  <a:lnTo>
                    <a:pt x="1161" y="953"/>
                  </a:lnTo>
                  <a:lnTo>
                    <a:pt x="1147" y="970"/>
                  </a:lnTo>
                  <a:lnTo>
                    <a:pt x="1128" y="988"/>
                  </a:lnTo>
                  <a:lnTo>
                    <a:pt x="1110" y="1009"/>
                  </a:lnTo>
                  <a:lnTo>
                    <a:pt x="1089" y="1030"/>
                  </a:lnTo>
                  <a:lnTo>
                    <a:pt x="1066" y="1048"/>
                  </a:lnTo>
                  <a:lnTo>
                    <a:pt x="1045" y="1064"/>
                  </a:lnTo>
                  <a:lnTo>
                    <a:pt x="1035" y="1072"/>
                  </a:lnTo>
                  <a:lnTo>
                    <a:pt x="1024" y="1078"/>
                  </a:lnTo>
                  <a:lnTo>
                    <a:pt x="1015" y="1082"/>
                  </a:lnTo>
                  <a:lnTo>
                    <a:pt x="1005" y="1085"/>
                  </a:lnTo>
                  <a:lnTo>
                    <a:pt x="997" y="1099"/>
                  </a:lnTo>
                  <a:lnTo>
                    <a:pt x="988" y="1115"/>
                  </a:lnTo>
                  <a:lnTo>
                    <a:pt x="981" y="1129"/>
                  </a:lnTo>
                  <a:lnTo>
                    <a:pt x="972" y="1145"/>
                  </a:lnTo>
                  <a:lnTo>
                    <a:pt x="961" y="1159"/>
                  </a:lnTo>
                  <a:lnTo>
                    <a:pt x="951" y="1171"/>
                  </a:lnTo>
                  <a:lnTo>
                    <a:pt x="942" y="1185"/>
                  </a:lnTo>
                  <a:lnTo>
                    <a:pt x="930" y="1199"/>
                  </a:lnTo>
                  <a:lnTo>
                    <a:pt x="919" y="1205"/>
                  </a:lnTo>
                  <a:lnTo>
                    <a:pt x="909" y="1210"/>
                  </a:lnTo>
                  <a:lnTo>
                    <a:pt x="898" y="1215"/>
                  </a:lnTo>
                  <a:lnTo>
                    <a:pt x="886" y="1218"/>
                  </a:lnTo>
                  <a:lnTo>
                    <a:pt x="876" y="1219"/>
                  </a:lnTo>
                  <a:lnTo>
                    <a:pt x="862" y="1221"/>
                  </a:lnTo>
                  <a:lnTo>
                    <a:pt x="850" y="1221"/>
                  </a:lnTo>
                  <a:lnTo>
                    <a:pt x="838" y="1219"/>
                  </a:lnTo>
                  <a:lnTo>
                    <a:pt x="813" y="1216"/>
                  </a:lnTo>
                  <a:lnTo>
                    <a:pt x="790" y="1213"/>
                  </a:lnTo>
                  <a:lnTo>
                    <a:pt x="766" y="1210"/>
                  </a:lnTo>
                  <a:lnTo>
                    <a:pt x="744" y="1208"/>
                  </a:lnTo>
                  <a:lnTo>
                    <a:pt x="742" y="1208"/>
                  </a:lnTo>
                  <a:lnTo>
                    <a:pt x="741" y="1207"/>
                  </a:lnTo>
                  <a:lnTo>
                    <a:pt x="739" y="1207"/>
                  </a:lnTo>
                  <a:lnTo>
                    <a:pt x="738" y="1205"/>
                  </a:lnTo>
                  <a:lnTo>
                    <a:pt x="736" y="1205"/>
                  </a:lnTo>
                  <a:lnTo>
                    <a:pt x="736" y="1204"/>
                  </a:lnTo>
                  <a:lnTo>
                    <a:pt x="735" y="1204"/>
                  </a:lnTo>
                  <a:lnTo>
                    <a:pt x="712" y="1201"/>
                  </a:lnTo>
                  <a:lnTo>
                    <a:pt x="690" y="1196"/>
                  </a:lnTo>
                  <a:lnTo>
                    <a:pt x="667" y="1190"/>
                  </a:lnTo>
                  <a:lnTo>
                    <a:pt x="648" y="1185"/>
                  </a:lnTo>
                  <a:lnTo>
                    <a:pt x="637" y="1183"/>
                  </a:lnTo>
                  <a:lnTo>
                    <a:pt x="628" y="1185"/>
                  </a:lnTo>
                  <a:lnTo>
                    <a:pt x="621" y="1187"/>
                  </a:lnTo>
                  <a:lnTo>
                    <a:pt x="613" y="1191"/>
                  </a:lnTo>
                  <a:lnTo>
                    <a:pt x="606" y="1197"/>
                  </a:lnTo>
                  <a:lnTo>
                    <a:pt x="600" y="1205"/>
                  </a:lnTo>
                  <a:lnTo>
                    <a:pt x="594" y="1216"/>
                  </a:lnTo>
                  <a:lnTo>
                    <a:pt x="591" y="1232"/>
                  </a:lnTo>
                  <a:lnTo>
                    <a:pt x="589" y="1232"/>
                  </a:lnTo>
                  <a:lnTo>
                    <a:pt x="588" y="1232"/>
                  </a:lnTo>
                  <a:lnTo>
                    <a:pt x="586" y="1232"/>
                  </a:lnTo>
                  <a:lnTo>
                    <a:pt x="585" y="1233"/>
                  </a:lnTo>
                  <a:lnTo>
                    <a:pt x="583" y="1233"/>
                  </a:lnTo>
                  <a:lnTo>
                    <a:pt x="580" y="1235"/>
                  </a:lnTo>
                  <a:lnTo>
                    <a:pt x="576" y="1238"/>
                  </a:lnTo>
                  <a:lnTo>
                    <a:pt x="570" y="1238"/>
                  </a:lnTo>
                  <a:lnTo>
                    <a:pt x="564" y="1239"/>
                  </a:lnTo>
                  <a:lnTo>
                    <a:pt x="558" y="1239"/>
                  </a:lnTo>
                  <a:lnTo>
                    <a:pt x="552" y="1241"/>
                  </a:lnTo>
                  <a:lnTo>
                    <a:pt x="544" y="1241"/>
                  </a:lnTo>
                  <a:lnTo>
                    <a:pt x="537" y="1241"/>
                  </a:lnTo>
                  <a:lnTo>
                    <a:pt x="529" y="1241"/>
                  </a:lnTo>
                  <a:lnTo>
                    <a:pt x="525" y="1239"/>
                  </a:lnTo>
                  <a:lnTo>
                    <a:pt x="522" y="1238"/>
                  </a:lnTo>
                  <a:lnTo>
                    <a:pt x="516" y="1236"/>
                  </a:lnTo>
                  <a:lnTo>
                    <a:pt x="508" y="1235"/>
                  </a:lnTo>
                  <a:lnTo>
                    <a:pt x="501" y="1232"/>
                  </a:lnTo>
                  <a:lnTo>
                    <a:pt x="495" y="1229"/>
                  </a:lnTo>
                  <a:lnTo>
                    <a:pt x="489" y="1227"/>
                  </a:lnTo>
                  <a:lnTo>
                    <a:pt x="484" y="1224"/>
                  </a:lnTo>
                  <a:lnTo>
                    <a:pt x="478" y="1222"/>
                  </a:lnTo>
                  <a:lnTo>
                    <a:pt x="474" y="1222"/>
                  </a:lnTo>
                  <a:lnTo>
                    <a:pt x="469" y="1243"/>
                  </a:lnTo>
                  <a:lnTo>
                    <a:pt x="465" y="1266"/>
                  </a:lnTo>
                  <a:lnTo>
                    <a:pt x="459" y="1286"/>
                  </a:lnTo>
                  <a:lnTo>
                    <a:pt x="453" y="1309"/>
                  </a:lnTo>
                  <a:lnTo>
                    <a:pt x="448" y="1331"/>
                  </a:lnTo>
                  <a:lnTo>
                    <a:pt x="442" y="1351"/>
                  </a:lnTo>
                  <a:lnTo>
                    <a:pt x="436" y="1375"/>
                  </a:lnTo>
                  <a:lnTo>
                    <a:pt x="430" y="1396"/>
                  </a:lnTo>
                  <a:lnTo>
                    <a:pt x="427" y="1400"/>
                  </a:lnTo>
                  <a:lnTo>
                    <a:pt x="424" y="1404"/>
                  </a:lnTo>
                  <a:lnTo>
                    <a:pt x="423" y="1410"/>
                  </a:lnTo>
                  <a:lnTo>
                    <a:pt x="420" y="1418"/>
                  </a:lnTo>
                  <a:lnTo>
                    <a:pt x="417" y="1424"/>
                  </a:lnTo>
                  <a:lnTo>
                    <a:pt x="415" y="1432"/>
                  </a:lnTo>
                  <a:lnTo>
                    <a:pt x="415" y="1438"/>
                  </a:lnTo>
                  <a:lnTo>
                    <a:pt x="415" y="1443"/>
                  </a:lnTo>
                  <a:lnTo>
                    <a:pt x="433" y="1414"/>
                  </a:lnTo>
                  <a:lnTo>
                    <a:pt x="454" y="1382"/>
                  </a:lnTo>
                  <a:lnTo>
                    <a:pt x="478" y="1350"/>
                  </a:lnTo>
                  <a:lnTo>
                    <a:pt x="502" y="1319"/>
                  </a:lnTo>
                  <a:lnTo>
                    <a:pt x="526" y="1289"/>
                  </a:lnTo>
                  <a:lnTo>
                    <a:pt x="555" y="1263"/>
                  </a:lnTo>
                  <a:lnTo>
                    <a:pt x="567" y="1249"/>
                  </a:lnTo>
                  <a:lnTo>
                    <a:pt x="582" y="1238"/>
                  </a:lnTo>
                  <a:lnTo>
                    <a:pt x="594" y="1227"/>
                  </a:lnTo>
                  <a:lnTo>
                    <a:pt x="609" y="1216"/>
                  </a:lnTo>
                  <a:lnTo>
                    <a:pt x="618" y="1213"/>
                  </a:lnTo>
                  <a:lnTo>
                    <a:pt x="627" y="1211"/>
                  </a:lnTo>
                  <a:lnTo>
                    <a:pt x="631" y="1211"/>
                  </a:lnTo>
                  <a:lnTo>
                    <a:pt x="637" y="1211"/>
                  </a:lnTo>
                  <a:lnTo>
                    <a:pt x="645" y="1213"/>
                  </a:lnTo>
                  <a:lnTo>
                    <a:pt x="651" y="1216"/>
                  </a:lnTo>
                  <a:lnTo>
                    <a:pt x="658" y="1221"/>
                  </a:lnTo>
                  <a:lnTo>
                    <a:pt x="667" y="1227"/>
                  </a:lnTo>
                  <a:lnTo>
                    <a:pt x="669" y="1263"/>
                  </a:lnTo>
                  <a:lnTo>
                    <a:pt x="669" y="1298"/>
                  </a:lnTo>
                  <a:lnTo>
                    <a:pt x="666" y="1334"/>
                  </a:lnTo>
                  <a:lnTo>
                    <a:pt x="663" y="1370"/>
                  </a:lnTo>
                  <a:lnTo>
                    <a:pt x="660" y="1406"/>
                  </a:lnTo>
                  <a:lnTo>
                    <a:pt x="654" y="1442"/>
                  </a:lnTo>
                  <a:lnTo>
                    <a:pt x="648" y="1479"/>
                  </a:lnTo>
                  <a:lnTo>
                    <a:pt x="640" y="1515"/>
                  </a:lnTo>
                  <a:close/>
                  <a:moveTo>
                    <a:pt x="210" y="1263"/>
                  </a:moveTo>
                  <a:lnTo>
                    <a:pt x="217" y="1258"/>
                  </a:lnTo>
                  <a:lnTo>
                    <a:pt x="223" y="1255"/>
                  </a:lnTo>
                  <a:lnTo>
                    <a:pt x="231" y="1250"/>
                  </a:lnTo>
                  <a:lnTo>
                    <a:pt x="238" y="1247"/>
                  </a:lnTo>
                  <a:lnTo>
                    <a:pt x="243" y="1243"/>
                  </a:lnTo>
                  <a:lnTo>
                    <a:pt x="250" y="1238"/>
                  </a:lnTo>
                  <a:lnTo>
                    <a:pt x="256" y="1236"/>
                  </a:lnTo>
                  <a:lnTo>
                    <a:pt x="264" y="1232"/>
                  </a:lnTo>
                  <a:lnTo>
                    <a:pt x="279" y="1227"/>
                  </a:lnTo>
                  <a:lnTo>
                    <a:pt x="295" y="1221"/>
                  </a:lnTo>
                  <a:lnTo>
                    <a:pt x="312" y="1213"/>
                  </a:lnTo>
                  <a:lnTo>
                    <a:pt x="331" y="1204"/>
                  </a:lnTo>
                  <a:lnTo>
                    <a:pt x="348" y="1194"/>
                  </a:lnTo>
                  <a:lnTo>
                    <a:pt x="367" y="1183"/>
                  </a:lnTo>
                  <a:lnTo>
                    <a:pt x="384" y="1174"/>
                  </a:lnTo>
                  <a:lnTo>
                    <a:pt x="400" y="1166"/>
                  </a:lnTo>
                  <a:lnTo>
                    <a:pt x="403" y="1165"/>
                  </a:lnTo>
                  <a:lnTo>
                    <a:pt x="406" y="1163"/>
                  </a:lnTo>
                  <a:lnTo>
                    <a:pt x="409" y="1162"/>
                  </a:lnTo>
                  <a:lnTo>
                    <a:pt x="412" y="1159"/>
                  </a:lnTo>
                  <a:lnTo>
                    <a:pt x="415" y="1157"/>
                  </a:lnTo>
                  <a:lnTo>
                    <a:pt x="418" y="1157"/>
                  </a:lnTo>
                  <a:lnTo>
                    <a:pt x="423" y="1155"/>
                  </a:lnTo>
                  <a:lnTo>
                    <a:pt x="427" y="1155"/>
                  </a:lnTo>
                  <a:lnTo>
                    <a:pt x="427" y="1154"/>
                  </a:lnTo>
                  <a:lnTo>
                    <a:pt x="427" y="1152"/>
                  </a:lnTo>
                  <a:lnTo>
                    <a:pt x="429" y="1151"/>
                  </a:lnTo>
                  <a:lnTo>
                    <a:pt x="429" y="1148"/>
                  </a:lnTo>
                  <a:lnTo>
                    <a:pt x="429" y="1145"/>
                  </a:lnTo>
                  <a:lnTo>
                    <a:pt x="430" y="1141"/>
                  </a:lnTo>
                  <a:lnTo>
                    <a:pt x="430" y="1137"/>
                  </a:lnTo>
                  <a:lnTo>
                    <a:pt x="430" y="1131"/>
                  </a:lnTo>
                  <a:lnTo>
                    <a:pt x="427" y="1127"/>
                  </a:lnTo>
                  <a:lnTo>
                    <a:pt x="424" y="1124"/>
                  </a:lnTo>
                  <a:lnTo>
                    <a:pt x="423" y="1120"/>
                  </a:lnTo>
                  <a:lnTo>
                    <a:pt x="421" y="1117"/>
                  </a:lnTo>
                  <a:lnTo>
                    <a:pt x="420" y="1112"/>
                  </a:lnTo>
                  <a:lnTo>
                    <a:pt x="418" y="1107"/>
                  </a:lnTo>
                  <a:lnTo>
                    <a:pt x="418" y="1104"/>
                  </a:lnTo>
                  <a:lnTo>
                    <a:pt x="417" y="1099"/>
                  </a:lnTo>
                  <a:lnTo>
                    <a:pt x="406" y="1096"/>
                  </a:lnTo>
                  <a:lnTo>
                    <a:pt x="397" y="1095"/>
                  </a:lnTo>
                  <a:lnTo>
                    <a:pt x="390" y="1092"/>
                  </a:lnTo>
                  <a:lnTo>
                    <a:pt x="382" y="1090"/>
                  </a:lnTo>
                  <a:lnTo>
                    <a:pt x="375" y="1089"/>
                  </a:lnTo>
                  <a:lnTo>
                    <a:pt x="364" y="1089"/>
                  </a:lnTo>
                  <a:lnTo>
                    <a:pt x="352" y="1085"/>
                  </a:lnTo>
                  <a:lnTo>
                    <a:pt x="337" y="1082"/>
                  </a:lnTo>
                  <a:lnTo>
                    <a:pt x="325" y="1104"/>
                  </a:lnTo>
                  <a:lnTo>
                    <a:pt x="312" y="1126"/>
                  </a:lnTo>
                  <a:lnTo>
                    <a:pt x="298" y="1149"/>
                  </a:lnTo>
                  <a:lnTo>
                    <a:pt x="282" y="1169"/>
                  </a:lnTo>
                  <a:lnTo>
                    <a:pt x="267" y="1193"/>
                  </a:lnTo>
                  <a:lnTo>
                    <a:pt x="249" y="1213"/>
                  </a:lnTo>
                  <a:lnTo>
                    <a:pt x="232" y="1233"/>
                  </a:lnTo>
                  <a:lnTo>
                    <a:pt x="214" y="1252"/>
                  </a:lnTo>
                  <a:lnTo>
                    <a:pt x="214" y="1253"/>
                  </a:lnTo>
                  <a:lnTo>
                    <a:pt x="213" y="1255"/>
                  </a:lnTo>
                  <a:lnTo>
                    <a:pt x="213" y="1257"/>
                  </a:lnTo>
                  <a:lnTo>
                    <a:pt x="211" y="1258"/>
                  </a:lnTo>
                  <a:lnTo>
                    <a:pt x="211" y="1260"/>
                  </a:lnTo>
                  <a:lnTo>
                    <a:pt x="210" y="1261"/>
                  </a:lnTo>
                  <a:lnTo>
                    <a:pt x="210" y="1263"/>
                  </a:lnTo>
                  <a:close/>
                  <a:moveTo>
                    <a:pt x="535" y="1227"/>
                  </a:moveTo>
                  <a:lnTo>
                    <a:pt x="541" y="1227"/>
                  </a:lnTo>
                  <a:lnTo>
                    <a:pt x="547" y="1227"/>
                  </a:lnTo>
                  <a:lnTo>
                    <a:pt x="553" y="1227"/>
                  </a:lnTo>
                  <a:lnTo>
                    <a:pt x="558" y="1227"/>
                  </a:lnTo>
                  <a:lnTo>
                    <a:pt x="564" y="1225"/>
                  </a:lnTo>
                  <a:lnTo>
                    <a:pt x="570" y="1224"/>
                  </a:lnTo>
                  <a:lnTo>
                    <a:pt x="576" y="1221"/>
                  </a:lnTo>
                  <a:lnTo>
                    <a:pt x="582" y="1218"/>
                  </a:lnTo>
                  <a:lnTo>
                    <a:pt x="582" y="1211"/>
                  </a:lnTo>
                  <a:lnTo>
                    <a:pt x="582" y="1208"/>
                  </a:lnTo>
                  <a:lnTo>
                    <a:pt x="582" y="1204"/>
                  </a:lnTo>
                  <a:lnTo>
                    <a:pt x="580" y="1202"/>
                  </a:lnTo>
                  <a:lnTo>
                    <a:pt x="580" y="1201"/>
                  </a:lnTo>
                  <a:lnTo>
                    <a:pt x="579" y="1199"/>
                  </a:lnTo>
                  <a:lnTo>
                    <a:pt x="577" y="1196"/>
                  </a:lnTo>
                  <a:lnTo>
                    <a:pt x="576" y="1193"/>
                  </a:lnTo>
                  <a:lnTo>
                    <a:pt x="558" y="1187"/>
                  </a:lnTo>
                  <a:lnTo>
                    <a:pt x="543" y="1182"/>
                  </a:lnTo>
                  <a:lnTo>
                    <a:pt x="525" y="1176"/>
                  </a:lnTo>
                  <a:lnTo>
                    <a:pt x="508" y="1169"/>
                  </a:lnTo>
                  <a:lnTo>
                    <a:pt x="492" y="1163"/>
                  </a:lnTo>
                  <a:lnTo>
                    <a:pt x="477" y="1159"/>
                  </a:lnTo>
                  <a:lnTo>
                    <a:pt x="460" y="1152"/>
                  </a:lnTo>
                  <a:lnTo>
                    <a:pt x="445" y="1146"/>
                  </a:lnTo>
                  <a:lnTo>
                    <a:pt x="442" y="1154"/>
                  </a:lnTo>
                  <a:lnTo>
                    <a:pt x="441" y="1160"/>
                  </a:lnTo>
                  <a:lnTo>
                    <a:pt x="441" y="1166"/>
                  </a:lnTo>
                  <a:lnTo>
                    <a:pt x="444" y="1174"/>
                  </a:lnTo>
                  <a:lnTo>
                    <a:pt x="450" y="1180"/>
                  </a:lnTo>
                  <a:lnTo>
                    <a:pt x="454" y="1188"/>
                  </a:lnTo>
                  <a:lnTo>
                    <a:pt x="462" y="1194"/>
                  </a:lnTo>
                  <a:lnTo>
                    <a:pt x="469" y="1201"/>
                  </a:lnTo>
                  <a:lnTo>
                    <a:pt x="487" y="1210"/>
                  </a:lnTo>
                  <a:lnTo>
                    <a:pt x="505" y="1218"/>
                  </a:lnTo>
                  <a:lnTo>
                    <a:pt x="522" y="1224"/>
                  </a:lnTo>
                  <a:lnTo>
                    <a:pt x="535" y="1227"/>
                  </a:lnTo>
                  <a:close/>
                  <a:moveTo>
                    <a:pt x="841" y="1205"/>
                  </a:moveTo>
                  <a:lnTo>
                    <a:pt x="850" y="1205"/>
                  </a:lnTo>
                  <a:lnTo>
                    <a:pt x="862" y="1205"/>
                  </a:lnTo>
                  <a:lnTo>
                    <a:pt x="873" y="1204"/>
                  </a:lnTo>
                  <a:lnTo>
                    <a:pt x="883" y="1202"/>
                  </a:lnTo>
                  <a:lnTo>
                    <a:pt x="894" y="1201"/>
                  </a:lnTo>
                  <a:lnTo>
                    <a:pt x="904" y="1199"/>
                  </a:lnTo>
                  <a:lnTo>
                    <a:pt x="913" y="1194"/>
                  </a:lnTo>
                  <a:lnTo>
                    <a:pt x="922" y="1188"/>
                  </a:lnTo>
                  <a:lnTo>
                    <a:pt x="928" y="1182"/>
                  </a:lnTo>
                  <a:lnTo>
                    <a:pt x="933" y="1176"/>
                  </a:lnTo>
                  <a:lnTo>
                    <a:pt x="937" y="1169"/>
                  </a:lnTo>
                  <a:lnTo>
                    <a:pt x="942" y="1163"/>
                  </a:lnTo>
                  <a:lnTo>
                    <a:pt x="946" y="1159"/>
                  </a:lnTo>
                  <a:lnTo>
                    <a:pt x="951" y="1152"/>
                  </a:lnTo>
                  <a:lnTo>
                    <a:pt x="955" y="1146"/>
                  </a:lnTo>
                  <a:lnTo>
                    <a:pt x="960" y="1140"/>
                  </a:lnTo>
                  <a:lnTo>
                    <a:pt x="973" y="1118"/>
                  </a:lnTo>
                  <a:lnTo>
                    <a:pt x="987" y="1093"/>
                  </a:lnTo>
                  <a:lnTo>
                    <a:pt x="1000" y="1068"/>
                  </a:lnTo>
                  <a:lnTo>
                    <a:pt x="1015" y="1042"/>
                  </a:lnTo>
                  <a:lnTo>
                    <a:pt x="1026" y="1016"/>
                  </a:lnTo>
                  <a:lnTo>
                    <a:pt x="1036" y="989"/>
                  </a:lnTo>
                  <a:lnTo>
                    <a:pt x="1039" y="977"/>
                  </a:lnTo>
                  <a:lnTo>
                    <a:pt x="1042" y="964"/>
                  </a:lnTo>
                  <a:lnTo>
                    <a:pt x="1044" y="950"/>
                  </a:lnTo>
                  <a:lnTo>
                    <a:pt x="1045" y="939"/>
                  </a:lnTo>
                  <a:lnTo>
                    <a:pt x="1036" y="941"/>
                  </a:lnTo>
                  <a:lnTo>
                    <a:pt x="1029" y="941"/>
                  </a:lnTo>
                  <a:lnTo>
                    <a:pt x="1023" y="944"/>
                  </a:lnTo>
                  <a:lnTo>
                    <a:pt x="1018" y="949"/>
                  </a:lnTo>
                  <a:lnTo>
                    <a:pt x="1014" y="952"/>
                  </a:lnTo>
                  <a:lnTo>
                    <a:pt x="1009" y="958"/>
                  </a:lnTo>
                  <a:lnTo>
                    <a:pt x="1005" y="964"/>
                  </a:lnTo>
                  <a:lnTo>
                    <a:pt x="997" y="972"/>
                  </a:lnTo>
                  <a:lnTo>
                    <a:pt x="985" y="991"/>
                  </a:lnTo>
                  <a:lnTo>
                    <a:pt x="973" y="1012"/>
                  </a:lnTo>
                  <a:lnTo>
                    <a:pt x="960" y="1033"/>
                  </a:lnTo>
                  <a:lnTo>
                    <a:pt x="946" y="1051"/>
                  </a:lnTo>
                  <a:lnTo>
                    <a:pt x="933" y="1072"/>
                  </a:lnTo>
                  <a:lnTo>
                    <a:pt x="918" y="1090"/>
                  </a:lnTo>
                  <a:lnTo>
                    <a:pt x="904" y="1110"/>
                  </a:lnTo>
                  <a:lnTo>
                    <a:pt x="888" y="1127"/>
                  </a:lnTo>
                  <a:lnTo>
                    <a:pt x="874" y="1138"/>
                  </a:lnTo>
                  <a:lnTo>
                    <a:pt x="859" y="1145"/>
                  </a:lnTo>
                  <a:lnTo>
                    <a:pt x="843" y="1151"/>
                  </a:lnTo>
                  <a:lnTo>
                    <a:pt x="829" y="1154"/>
                  </a:lnTo>
                  <a:lnTo>
                    <a:pt x="813" y="1157"/>
                  </a:lnTo>
                  <a:lnTo>
                    <a:pt x="798" y="1159"/>
                  </a:lnTo>
                  <a:lnTo>
                    <a:pt x="781" y="1159"/>
                  </a:lnTo>
                  <a:lnTo>
                    <a:pt x="766" y="1159"/>
                  </a:lnTo>
                  <a:lnTo>
                    <a:pt x="750" y="1154"/>
                  </a:lnTo>
                  <a:lnTo>
                    <a:pt x="733" y="1151"/>
                  </a:lnTo>
                  <a:lnTo>
                    <a:pt x="717" y="1146"/>
                  </a:lnTo>
                  <a:lnTo>
                    <a:pt x="700" y="1141"/>
                  </a:lnTo>
                  <a:lnTo>
                    <a:pt x="685" y="1138"/>
                  </a:lnTo>
                  <a:lnTo>
                    <a:pt x="669" y="1134"/>
                  </a:lnTo>
                  <a:lnTo>
                    <a:pt x="655" y="1129"/>
                  </a:lnTo>
                  <a:lnTo>
                    <a:pt x="640" y="1126"/>
                  </a:lnTo>
                  <a:lnTo>
                    <a:pt x="643" y="1131"/>
                  </a:lnTo>
                  <a:lnTo>
                    <a:pt x="645" y="1135"/>
                  </a:lnTo>
                  <a:lnTo>
                    <a:pt x="646" y="1141"/>
                  </a:lnTo>
                  <a:lnTo>
                    <a:pt x="646" y="1148"/>
                  </a:lnTo>
                  <a:lnTo>
                    <a:pt x="646" y="1152"/>
                  </a:lnTo>
                  <a:lnTo>
                    <a:pt x="645" y="1159"/>
                  </a:lnTo>
                  <a:lnTo>
                    <a:pt x="640" y="1163"/>
                  </a:lnTo>
                  <a:lnTo>
                    <a:pt x="636" y="1169"/>
                  </a:lnTo>
                  <a:lnTo>
                    <a:pt x="645" y="1173"/>
                  </a:lnTo>
                  <a:lnTo>
                    <a:pt x="658" y="1177"/>
                  </a:lnTo>
                  <a:lnTo>
                    <a:pt x="675" y="1182"/>
                  </a:lnTo>
                  <a:lnTo>
                    <a:pt x="694" y="1187"/>
                  </a:lnTo>
                  <a:lnTo>
                    <a:pt x="711" y="1190"/>
                  </a:lnTo>
                  <a:lnTo>
                    <a:pt x="729" y="1194"/>
                  </a:lnTo>
                  <a:lnTo>
                    <a:pt x="741" y="1196"/>
                  </a:lnTo>
                  <a:lnTo>
                    <a:pt x="748" y="1197"/>
                  </a:lnTo>
                  <a:lnTo>
                    <a:pt x="760" y="1199"/>
                  </a:lnTo>
                  <a:lnTo>
                    <a:pt x="771" y="1199"/>
                  </a:lnTo>
                  <a:lnTo>
                    <a:pt x="783" y="1201"/>
                  </a:lnTo>
                  <a:lnTo>
                    <a:pt x="795" y="1201"/>
                  </a:lnTo>
                  <a:lnTo>
                    <a:pt x="805" y="1201"/>
                  </a:lnTo>
                  <a:lnTo>
                    <a:pt x="819" y="1202"/>
                  </a:lnTo>
                  <a:lnTo>
                    <a:pt x="831" y="1204"/>
                  </a:lnTo>
                  <a:lnTo>
                    <a:pt x="841" y="1205"/>
                  </a:lnTo>
                  <a:close/>
                  <a:moveTo>
                    <a:pt x="592" y="1191"/>
                  </a:moveTo>
                  <a:lnTo>
                    <a:pt x="595" y="1191"/>
                  </a:lnTo>
                  <a:lnTo>
                    <a:pt x="598" y="1190"/>
                  </a:lnTo>
                  <a:lnTo>
                    <a:pt x="601" y="1188"/>
                  </a:lnTo>
                  <a:lnTo>
                    <a:pt x="604" y="1185"/>
                  </a:lnTo>
                  <a:lnTo>
                    <a:pt x="607" y="1182"/>
                  </a:lnTo>
                  <a:lnTo>
                    <a:pt x="609" y="1179"/>
                  </a:lnTo>
                  <a:lnTo>
                    <a:pt x="612" y="1176"/>
                  </a:lnTo>
                  <a:lnTo>
                    <a:pt x="613" y="1174"/>
                  </a:lnTo>
                  <a:lnTo>
                    <a:pt x="601" y="1171"/>
                  </a:lnTo>
                  <a:lnTo>
                    <a:pt x="592" y="1168"/>
                  </a:lnTo>
                  <a:lnTo>
                    <a:pt x="582" y="1165"/>
                  </a:lnTo>
                  <a:lnTo>
                    <a:pt x="571" y="1162"/>
                  </a:lnTo>
                  <a:lnTo>
                    <a:pt x="562" y="1159"/>
                  </a:lnTo>
                  <a:lnTo>
                    <a:pt x="555" y="1154"/>
                  </a:lnTo>
                  <a:lnTo>
                    <a:pt x="546" y="1149"/>
                  </a:lnTo>
                  <a:lnTo>
                    <a:pt x="535" y="1143"/>
                  </a:lnTo>
                  <a:lnTo>
                    <a:pt x="526" y="1135"/>
                  </a:lnTo>
                  <a:lnTo>
                    <a:pt x="517" y="1127"/>
                  </a:lnTo>
                  <a:lnTo>
                    <a:pt x="507" y="1121"/>
                  </a:lnTo>
                  <a:lnTo>
                    <a:pt x="496" y="1112"/>
                  </a:lnTo>
                  <a:lnTo>
                    <a:pt x="486" y="1104"/>
                  </a:lnTo>
                  <a:lnTo>
                    <a:pt x="477" y="1098"/>
                  </a:lnTo>
                  <a:lnTo>
                    <a:pt x="468" y="1092"/>
                  </a:lnTo>
                  <a:lnTo>
                    <a:pt x="457" y="1089"/>
                  </a:lnTo>
                  <a:lnTo>
                    <a:pt x="448" y="1089"/>
                  </a:lnTo>
                  <a:lnTo>
                    <a:pt x="442" y="1090"/>
                  </a:lnTo>
                  <a:lnTo>
                    <a:pt x="439" y="1092"/>
                  </a:lnTo>
                  <a:lnTo>
                    <a:pt x="439" y="1093"/>
                  </a:lnTo>
                  <a:lnTo>
                    <a:pt x="439" y="1096"/>
                  </a:lnTo>
                  <a:lnTo>
                    <a:pt x="441" y="1099"/>
                  </a:lnTo>
                  <a:lnTo>
                    <a:pt x="439" y="1103"/>
                  </a:lnTo>
                  <a:lnTo>
                    <a:pt x="435" y="1109"/>
                  </a:lnTo>
                  <a:lnTo>
                    <a:pt x="435" y="1110"/>
                  </a:lnTo>
                  <a:lnTo>
                    <a:pt x="435" y="1112"/>
                  </a:lnTo>
                  <a:lnTo>
                    <a:pt x="435" y="1113"/>
                  </a:lnTo>
                  <a:lnTo>
                    <a:pt x="435" y="1115"/>
                  </a:lnTo>
                  <a:lnTo>
                    <a:pt x="444" y="1123"/>
                  </a:lnTo>
                  <a:lnTo>
                    <a:pt x="451" y="1129"/>
                  </a:lnTo>
                  <a:lnTo>
                    <a:pt x="460" y="1135"/>
                  </a:lnTo>
                  <a:lnTo>
                    <a:pt x="471" y="1141"/>
                  </a:lnTo>
                  <a:lnTo>
                    <a:pt x="481" y="1148"/>
                  </a:lnTo>
                  <a:lnTo>
                    <a:pt x="492" y="1151"/>
                  </a:lnTo>
                  <a:lnTo>
                    <a:pt x="504" y="1155"/>
                  </a:lnTo>
                  <a:lnTo>
                    <a:pt x="517" y="1157"/>
                  </a:lnTo>
                  <a:lnTo>
                    <a:pt x="525" y="1160"/>
                  </a:lnTo>
                  <a:lnTo>
                    <a:pt x="534" y="1163"/>
                  </a:lnTo>
                  <a:lnTo>
                    <a:pt x="544" y="1165"/>
                  </a:lnTo>
                  <a:lnTo>
                    <a:pt x="556" y="1168"/>
                  </a:lnTo>
                  <a:lnTo>
                    <a:pt x="565" y="1173"/>
                  </a:lnTo>
                  <a:lnTo>
                    <a:pt x="577" y="1177"/>
                  </a:lnTo>
                  <a:lnTo>
                    <a:pt x="586" y="1183"/>
                  </a:lnTo>
                  <a:lnTo>
                    <a:pt x="592" y="1191"/>
                  </a:lnTo>
                  <a:close/>
                  <a:moveTo>
                    <a:pt x="603" y="1160"/>
                  </a:moveTo>
                  <a:lnTo>
                    <a:pt x="607" y="1160"/>
                  </a:lnTo>
                  <a:lnTo>
                    <a:pt x="612" y="1159"/>
                  </a:lnTo>
                  <a:lnTo>
                    <a:pt x="615" y="1159"/>
                  </a:lnTo>
                  <a:lnTo>
                    <a:pt x="619" y="1157"/>
                  </a:lnTo>
                  <a:lnTo>
                    <a:pt x="622" y="1157"/>
                  </a:lnTo>
                  <a:lnTo>
                    <a:pt x="627" y="1155"/>
                  </a:lnTo>
                  <a:lnTo>
                    <a:pt x="630" y="1152"/>
                  </a:lnTo>
                  <a:lnTo>
                    <a:pt x="633" y="1151"/>
                  </a:lnTo>
                  <a:lnTo>
                    <a:pt x="631" y="1143"/>
                  </a:lnTo>
                  <a:lnTo>
                    <a:pt x="628" y="1135"/>
                  </a:lnTo>
                  <a:lnTo>
                    <a:pt x="622" y="1129"/>
                  </a:lnTo>
                  <a:lnTo>
                    <a:pt x="615" y="1126"/>
                  </a:lnTo>
                  <a:lnTo>
                    <a:pt x="607" y="1121"/>
                  </a:lnTo>
                  <a:lnTo>
                    <a:pt x="600" y="1117"/>
                  </a:lnTo>
                  <a:lnTo>
                    <a:pt x="592" y="1113"/>
                  </a:lnTo>
                  <a:lnTo>
                    <a:pt x="588" y="1110"/>
                  </a:lnTo>
                  <a:lnTo>
                    <a:pt x="571" y="1106"/>
                  </a:lnTo>
                  <a:lnTo>
                    <a:pt x="556" y="1101"/>
                  </a:lnTo>
                  <a:lnTo>
                    <a:pt x="541" y="1095"/>
                  </a:lnTo>
                  <a:lnTo>
                    <a:pt x="526" y="1089"/>
                  </a:lnTo>
                  <a:lnTo>
                    <a:pt x="513" y="1084"/>
                  </a:lnTo>
                  <a:lnTo>
                    <a:pt x="499" y="1076"/>
                  </a:lnTo>
                  <a:lnTo>
                    <a:pt x="486" y="1067"/>
                  </a:lnTo>
                  <a:lnTo>
                    <a:pt x="474" y="1056"/>
                  </a:lnTo>
                  <a:lnTo>
                    <a:pt x="469" y="1061"/>
                  </a:lnTo>
                  <a:lnTo>
                    <a:pt x="465" y="1065"/>
                  </a:lnTo>
                  <a:lnTo>
                    <a:pt x="462" y="1067"/>
                  </a:lnTo>
                  <a:lnTo>
                    <a:pt x="460" y="1070"/>
                  </a:lnTo>
                  <a:lnTo>
                    <a:pt x="459" y="1072"/>
                  </a:lnTo>
                  <a:lnTo>
                    <a:pt x="459" y="1073"/>
                  </a:lnTo>
                  <a:lnTo>
                    <a:pt x="457" y="1075"/>
                  </a:lnTo>
                  <a:lnTo>
                    <a:pt x="457" y="1076"/>
                  </a:lnTo>
                  <a:lnTo>
                    <a:pt x="460" y="1078"/>
                  </a:lnTo>
                  <a:lnTo>
                    <a:pt x="463" y="1078"/>
                  </a:lnTo>
                  <a:lnTo>
                    <a:pt x="466" y="1079"/>
                  </a:lnTo>
                  <a:lnTo>
                    <a:pt x="469" y="1081"/>
                  </a:lnTo>
                  <a:lnTo>
                    <a:pt x="472" y="1082"/>
                  </a:lnTo>
                  <a:lnTo>
                    <a:pt x="475" y="1084"/>
                  </a:lnTo>
                  <a:lnTo>
                    <a:pt x="478" y="1084"/>
                  </a:lnTo>
                  <a:lnTo>
                    <a:pt x="481" y="1085"/>
                  </a:lnTo>
                  <a:lnTo>
                    <a:pt x="495" y="1095"/>
                  </a:lnTo>
                  <a:lnTo>
                    <a:pt x="510" y="1106"/>
                  </a:lnTo>
                  <a:lnTo>
                    <a:pt x="523" y="1117"/>
                  </a:lnTo>
                  <a:lnTo>
                    <a:pt x="537" y="1126"/>
                  </a:lnTo>
                  <a:lnTo>
                    <a:pt x="553" y="1137"/>
                  </a:lnTo>
                  <a:lnTo>
                    <a:pt x="567" y="1146"/>
                  </a:lnTo>
                  <a:lnTo>
                    <a:pt x="585" y="1154"/>
                  </a:lnTo>
                  <a:lnTo>
                    <a:pt x="603" y="1160"/>
                  </a:lnTo>
                  <a:close/>
                  <a:moveTo>
                    <a:pt x="775" y="1148"/>
                  </a:moveTo>
                  <a:lnTo>
                    <a:pt x="786" y="1148"/>
                  </a:lnTo>
                  <a:lnTo>
                    <a:pt x="795" y="1146"/>
                  </a:lnTo>
                  <a:lnTo>
                    <a:pt x="805" y="1146"/>
                  </a:lnTo>
                  <a:lnTo>
                    <a:pt x="813" y="1145"/>
                  </a:lnTo>
                  <a:lnTo>
                    <a:pt x="822" y="1143"/>
                  </a:lnTo>
                  <a:lnTo>
                    <a:pt x="832" y="1141"/>
                  </a:lnTo>
                  <a:lnTo>
                    <a:pt x="841" y="1138"/>
                  </a:lnTo>
                  <a:lnTo>
                    <a:pt x="852" y="1135"/>
                  </a:lnTo>
                  <a:lnTo>
                    <a:pt x="864" y="1126"/>
                  </a:lnTo>
                  <a:lnTo>
                    <a:pt x="876" y="1118"/>
                  </a:lnTo>
                  <a:lnTo>
                    <a:pt x="886" y="1107"/>
                  </a:lnTo>
                  <a:lnTo>
                    <a:pt x="898" y="1096"/>
                  </a:lnTo>
                  <a:lnTo>
                    <a:pt x="916" y="1073"/>
                  </a:lnTo>
                  <a:lnTo>
                    <a:pt x="936" y="1048"/>
                  </a:lnTo>
                  <a:lnTo>
                    <a:pt x="952" y="1022"/>
                  </a:lnTo>
                  <a:lnTo>
                    <a:pt x="969" y="995"/>
                  </a:lnTo>
                  <a:lnTo>
                    <a:pt x="985" y="970"/>
                  </a:lnTo>
                  <a:lnTo>
                    <a:pt x="1003" y="944"/>
                  </a:lnTo>
                  <a:lnTo>
                    <a:pt x="1008" y="941"/>
                  </a:lnTo>
                  <a:lnTo>
                    <a:pt x="1014" y="936"/>
                  </a:lnTo>
                  <a:lnTo>
                    <a:pt x="1020" y="933"/>
                  </a:lnTo>
                  <a:lnTo>
                    <a:pt x="1027" y="928"/>
                  </a:lnTo>
                  <a:lnTo>
                    <a:pt x="1036" y="925"/>
                  </a:lnTo>
                  <a:lnTo>
                    <a:pt x="1044" y="925"/>
                  </a:lnTo>
                  <a:lnTo>
                    <a:pt x="1051" y="927"/>
                  </a:lnTo>
                  <a:lnTo>
                    <a:pt x="1056" y="932"/>
                  </a:lnTo>
                  <a:lnTo>
                    <a:pt x="1057" y="947"/>
                  </a:lnTo>
                  <a:lnTo>
                    <a:pt x="1054" y="966"/>
                  </a:lnTo>
                  <a:lnTo>
                    <a:pt x="1053" y="981"/>
                  </a:lnTo>
                  <a:lnTo>
                    <a:pt x="1047" y="1000"/>
                  </a:lnTo>
                  <a:lnTo>
                    <a:pt x="1039" y="1017"/>
                  </a:lnTo>
                  <a:lnTo>
                    <a:pt x="1032" y="1034"/>
                  </a:lnTo>
                  <a:lnTo>
                    <a:pt x="1023" y="1050"/>
                  </a:lnTo>
                  <a:lnTo>
                    <a:pt x="1015" y="1064"/>
                  </a:lnTo>
                  <a:lnTo>
                    <a:pt x="1018" y="1064"/>
                  </a:lnTo>
                  <a:lnTo>
                    <a:pt x="1021" y="1062"/>
                  </a:lnTo>
                  <a:lnTo>
                    <a:pt x="1027" y="1059"/>
                  </a:lnTo>
                  <a:lnTo>
                    <a:pt x="1033" y="1054"/>
                  </a:lnTo>
                  <a:lnTo>
                    <a:pt x="1047" y="1047"/>
                  </a:lnTo>
                  <a:lnTo>
                    <a:pt x="1060" y="1034"/>
                  </a:lnTo>
                  <a:lnTo>
                    <a:pt x="1077" y="1020"/>
                  </a:lnTo>
                  <a:lnTo>
                    <a:pt x="1089" y="1009"/>
                  </a:lnTo>
                  <a:lnTo>
                    <a:pt x="1099" y="1000"/>
                  </a:lnTo>
                  <a:lnTo>
                    <a:pt x="1107" y="994"/>
                  </a:lnTo>
                  <a:lnTo>
                    <a:pt x="1129" y="967"/>
                  </a:lnTo>
                  <a:lnTo>
                    <a:pt x="1150" y="941"/>
                  </a:lnTo>
                  <a:lnTo>
                    <a:pt x="1168" y="916"/>
                  </a:lnTo>
                  <a:lnTo>
                    <a:pt x="1183" y="891"/>
                  </a:lnTo>
                  <a:lnTo>
                    <a:pt x="1195" y="866"/>
                  </a:lnTo>
                  <a:lnTo>
                    <a:pt x="1206" y="837"/>
                  </a:lnTo>
                  <a:lnTo>
                    <a:pt x="1215" y="806"/>
                  </a:lnTo>
                  <a:lnTo>
                    <a:pt x="1222" y="770"/>
                  </a:lnTo>
                  <a:lnTo>
                    <a:pt x="1225" y="750"/>
                  </a:lnTo>
                  <a:lnTo>
                    <a:pt x="1225" y="729"/>
                  </a:lnTo>
                  <a:lnTo>
                    <a:pt x="1224" y="712"/>
                  </a:lnTo>
                  <a:lnTo>
                    <a:pt x="1222" y="695"/>
                  </a:lnTo>
                  <a:lnTo>
                    <a:pt x="1218" y="678"/>
                  </a:lnTo>
                  <a:lnTo>
                    <a:pt x="1212" y="661"/>
                  </a:lnTo>
                  <a:lnTo>
                    <a:pt x="1206" y="642"/>
                  </a:lnTo>
                  <a:lnTo>
                    <a:pt x="1197" y="625"/>
                  </a:lnTo>
                  <a:lnTo>
                    <a:pt x="1191" y="610"/>
                  </a:lnTo>
                  <a:lnTo>
                    <a:pt x="1183" y="597"/>
                  </a:lnTo>
                  <a:lnTo>
                    <a:pt x="1177" y="586"/>
                  </a:lnTo>
                  <a:lnTo>
                    <a:pt x="1171" y="577"/>
                  </a:lnTo>
                  <a:lnTo>
                    <a:pt x="1167" y="569"/>
                  </a:lnTo>
                  <a:lnTo>
                    <a:pt x="1164" y="565"/>
                  </a:lnTo>
                  <a:lnTo>
                    <a:pt x="1161" y="560"/>
                  </a:lnTo>
                  <a:lnTo>
                    <a:pt x="1159" y="555"/>
                  </a:lnTo>
                  <a:lnTo>
                    <a:pt x="1149" y="541"/>
                  </a:lnTo>
                  <a:lnTo>
                    <a:pt x="1138" y="529"/>
                  </a:lnTo>
                  <a:lnTo>
                    <a:pt x="1126" y="517"/>
                  </a:lnTo>
                  <a:lnTo>
                    <a:pt x="1116" y="504"/>
                  </a:lnTo>
                  <a:lnTo>
                    <a:pt x="1105" y="493"/>
                  </a:lnTo>
                  <a:lnTo>
                    <a:pt x="1093" y="484"/>
                  </a:lnTo>
                  <a:lnTo>
                    <a:pt x="1083" y="473"/>
                  </a:lnTo>
                  <a:lnTo>
                    <a:pt x="1069" y="461"/>
                  </a:lnTo>
                  <a:lnTo>
                    <a:pt x="1057" y="456"/>
                  </a:lnTo>
                  <a:lnTo>
                    <a:pt x="1039" y="445"/>
                  </a:lnTo>
                  <a:lnTo>
                    <a:pt x="1017" y="431"/>
                  </a:lnTo>
                  <a:lnTo>
                    <a:pt x="990" y="417"/>
                  </a:lnTo>
                  <a:lnTo>
                    <a:pt x="966" y="403"/>
                  </a:lnTo>
                  <a:lnTo>
                    <a:pt x="943" y="392"/>
                  </a:lnTo>
                  <a:lnTo>
                    <a:pt x="933" y="387"/>
                  </a:lnTo>
                  <a:lnTo>
                    <a:pt x="924" y="386"/>
                  </a:lnTo>
                  <a:lnTo>
                    <a:pt x="918" y="386"/>
                  </a:lnTo>
                  <a:lnTo>
                    <a:pt x="913" y="387"/>
                  </a:lnTo>
                  <a:lnTo>
                    <a:pt x="912" y="387"/>
                  </a:lnTo>
                  <a:lnTo>
                    <a:pt x="912" y="386"/>
                  </a:lnTo>
                  <a:lnTo>
                    <a:pt x="912" y="384"/>
                  </a:lnTo>
                  <a:lnTo>
                    <a:pt x="912" y="383"/>
                  </a:lnTo>
                  <a:lnTo>
                    <a:pt x="912" y="381"/>
                  </a:lnTo>
                  <a:lnTo>
                    <a:pt x="904" y="381"/>
                  </a:lnTo>
                  <a:lnTo>
                    <a:pt x="898" y="381"/>
                  </a:lnTo>
                  <a:lnTo>
                    <a:pt x="894" y="381"/>
                  </a:lnTo>
                  <a:lnTo>
                    <a:pt x="889" y="381"/>
                  </a:lnTo>
                  <a:lnTo>
                    <a:pt x="883" y="380"/>
                  </a:lnTo>
                  <a:lnTo>
                    <a:pt x="879" y="378"/>
                  </a:lnTo>
                  <a:lnTo>
                    <a:pt x="874" y="378"/>
                  </a:lnTo>
                  <a:lnTo>
                    <a:pt x="868" y="375"/>
                  </a:lnTo>
                  <a:lnTo>
                    <a:pt x="868" y="377"/>
                  </a:lnTo>
                  <a:lnTo>
                    <a:pt x="867" y="377"/>
                  </a:lnTo>
                  <a:lnTo>
                    <a:pt x="865" y="378"/>
                  </a:lnTo>
                  <a:lnTo>
                    <a:pt x="865" y="380"/>
                  </a:lnTo>
                  <a:lnTo>
                    <a:pt x="864" y="378"/>
                  </a:lnTo>
                  <a:lnTo>
                    <a:pt x="861" y="378"/>
                  </a:lnTo>
                  <a:lnTo>
                    <a:pt x="858" y="378"/>
                  </a:lnTo>
                  <a:lnTo>
                    <a:pt x="852" y="378"/>
                  </a:lnTo>
                  <a:lnTo>
                    <a:pt x="843" y="377"/>
                  </a:lnTo>
                  <a:lnTo>
                    <a:pt x="832" y="377"/>
                  </a:lnTo>
                  <a:lnTo>
                    <a:pt x="814" y="375"/>
                  </a:lnTo>
                  <a:lnTo>
                    <a:pt x="793" y="375"/>
                  </a:lnTo>
                  <a:lnTo>
                    <a:pt x="792" y="375"/>
                  </a:lnTo>
                  <a:lnTo>
                    <a:pt x="790" y="375"/>
                  </a:lnTo>
                  <a:lnTo>
                    <a:pt x="787" y="377"/>
                  </a:lnTo>
                  <a:lnTo>
                    <a:pt x="781" y="377"/>
                  </a:lnTo>
                  <a:lnTo>
                    <a:pt x="774" y="377"/>
                  </a:lnTo>
                  <a:lnTo>
                    <a:pt x="765" y="378"/>
                  </a:lnTo>
                  <a:lnTo>
                    <a:pt x="751" y="380"/>
                  </a:lnTo>
                  <a:lnTo>
                    <a:pt x="742" y="381"/>
                  </a:lnTo>
                  <a:lnTo>
                    <a:pt x="733" y="384"/>
                  </a:lnTo>
                  <a:lnTo>
                    <a:pt x="723" y="387"/>
                  </a:lnTo>
                  <a:lnTo>
                    <a:pt x="712" y="391"/>
                  </a:lnTo>
                  <a:lnTo>
                    <a:pt x="702" y="392"/>
                  </a:lnTo>
                  <a:lnTo>
                    <a:pt x="693" y="394"/>
                  </a:lnTo>
                  <a:lnTo>
                    <a:pt x="682" y="397"/>
                  </a:lnTo>
                  <a:lnTo>
                    <a:pt x="673" y="398"/>
                  </a:lnTo>
                  <a:lnTo>
                    <a:pt x="663" y="405"/>
                  </a:lnTo>
                  <a:lnTo>
                    <a:pt x="651" y="409"/>
                  </a:lnTo>
                  <a:lnTo>
                    <a:pt x="639" y="415"/>
                  </a:lnTo>
                  <a:lnTo>
                    <a:pt x="627" y="419"/>
                  </a:lnTo>
                  <a:lnTo>
                    <a:pt x="615" y="425"/>
                  </a:lnTo>
                  <a:lnTo>
                    <a:pt x="603" y="429"/>
                  </a:lnTo>
                  <a:lnTo>
                    <a:pt x="592" y="436"/>
                  </a:lnTo>
                  <a:lnTo>
                    <a:pt x="580" y="442"/>
                  </a:lnTo>
                  <a:lnTo>
                    <a:pt x="561" y="454"/>
                  </a:lnTo>
                  <a:lnTo>
                    <a:pt x="544" y="467"/>
                  </a:lnTo>
                  <a:lnTo>
                    <a:pt x="528" y="481"/>
                  </a:lnTo>
                  <a:lnTo>
                    <a:pt x="514" y="495"/>
                  </a:lnTo>
                  <a:lnTo>
                    <a:pt x="499" y="510"/>
                  </a:lnTo>
                  <a:lnTo>
                    <a:pt x="486" y="526"/>
                  </a:lnTo>
                  <a:lnTo>
                    <a:pt x="474" y="541"/>
                  </a:lnTo>
                  <a:lnTo>
                    <a:pt x="462" y="558"/>
                  </a:lnTo>
                  <a:lnTo>
                    <a:pt x="451" y="576"/>
                  </a:lnTo>
                  <a:lnTo>
                    <a:pt x="442" y="594"/>
                  </a:lnTo>
                  <a:lnTo>
                    <a:pt x="432" y="611"/>
                  </a:lnTo>
                  <a:lnTo>
                    <a:pt x="423" y="632"/>
                  </a:lnTo>
                  <a:lnTo>
                    <a:pt x="408" y="670"/>
                  </a:lnTo>
                  <a:lnTo>
                    <a:pt x="391" y="714"/>
                  </a:lnTo>
                  <a:lnTo>
                    <a:pt x="388" y="734"/>
                  </a:lnTo>
                  <a:lnTo>
                    <a:pt x="385" y="754"/>
                  </a:lnTo>
                  <a:lnTo>
                    <a:pt x="385" y="775"/>
                  </a:lnTo>
                  <a:lnTo>
                    <a:pt x="385" y="793"/>
                  </a:lnTo>
                  <a:lnTo>
                    <a:pt x="387" y="813"/>
                  </a:lnTo>
                  <a:lnTo>
                    <a:pt x="390" y="832"/>
                  </a:lnTo>
                  <a:lnTo>
                    <a:pt x="394" y="852"/>
                  </a:lnTo>
                  <a:lnTo>
                    <a:pt x="400" y="871"/>
                  </a:lnTo>
                  <a:lnTo>
                    <a:pt x="406" y="890"/>
                  </a:lnTo>
                  <a:lnTo>
                    <a:pt x="415" y="908"/>
                  </a:lnTo>
                  <a:lnTo>
                    <a:pt x="423" y="927"/>
                  </a:lnTo>
                  <a:lnTo>
                    <a:pt x="433" y="944"/>
                  </a:lnTo>
                  <a:lnTo>
                    <a:pt x="445" y="961"/>
                  </a:lnTo>
                  <a:lnTo>
                    <a:pt x="456" y="978"/>
                  </a:lnTo>
                  <a:lnTo>
                    <a:pt x="469" y="994"/>
                  </a:lnTo>
                  <a:lnTo>
                    <a:pt x="484" y="1009"/>
                  </a:lnTo>
                  <a:lnTo>
                    <a:pt x="487" y="1009"/>
                  </a:lnTo>
                  <a:lnTo>
                    <a:pt x="490" y="1009"/>
                  </a:lnTo>
                  <a:lnTo>
                    <a:pt x="495" y="1009"/>
                  </a:lnTo>
                  <a:lnTo>
                    <a:pt x="498" y="1009"/>
                  </a:lnTo>
                  <a:lnTo>
                    <a:pt x="502" y="1009"/>
                  </a:lnTo>
                  <a:lnTo>
                    <a:pt x="507" y="1009"/>
                  </a:lnTo>
                  <a:lnTo>
                    <a:pt x="510" y="1009"/>
                  </a:lnTo>
                  <a:lnTo>
                    <a:pt x="514" y="1009"/>
                  </a:lnTo>
                  <a:lnTo>
                    <a:pt x="525" y="1012"/>
                  </a:lnTo>
                  <a:lnTo>
                    <a:pt x="538" y="1014"/>
                  </a:lnTo>
                  <a:lnTo>
                    <a:pt x="549" y="1016"/>
                  </a:lnTo>
                  <a:lnTo>
                    <a:pt x="559" y="1016"/>
                  </a:lnTo>
                  <a:lnTo>
                    <a:pt x="571" y="1017"/>
                  </a:lnTo>
                  <a:lnTo>
                    <a:pt x="585" y="1017"/>
                  </a:lnTo>
                  <a:lnTo>
                    <a:pt x="597" y="1017"/>
                  </a:lnTo>
                  <a:lnTo>
                    <a:pt x="610" y="1017"/>
                  </a:lnTo>
                  <a:lnTo>
                    <a:pt x="627" y="1022"/>
                  </a:lnTo>
                  <a:lnTo>
                    <a:pt x="640" y="1026"/>
                  </a:lnTo>
                  <a:lnTo>
                    <a:pt x="646" y="1030"/>
                  </a:lnTo>
                  <a:lnTo>
                    <a:pt x="651" y="1034"/>
                  </a:lnTo>
                  <a:lnTo>
                    <a:pt x="655" y="1037"/>
                  </a:lnTo>
                  <a:lnTo>
                    <a:pt x="658" y="1042"/>
                  </a:lnTo>
                  <a:lnTo>
                    <a:pt x="661" y="1047"/>
                  </a:lnTo>
                  <a:lnTo>
                    <a:pt x="661" y="1051"/>
                  </a:lnTo>
                  <a:lnTo>
                    <a:pt x="661" y="1056"/>
                  </a:lnTo>
                  <a:lnTo>
                    <a:pt x="658" y="1062"/>
                  </a:lnTo>
                  <a:lnTo>
                    <a:pt x="655" y="1068"/>
                  </a:lnTo>
                  <a:lnTo>
                    <a:pt x="649" y="1075"/>
                  </a:lnTo>
                  <a:lnTo>
                    <a:pt x="642" y="1081"/>
                  </a:lnTo>
                  <a:lnTo>
                    <a:pt x="633" y="1087"/>
                  </a:lnTo>
                  <a:lnTo>
                    <a:pt x="633" y="1090"/>
                  </a:lnTo>
                  <a:lnTo>
                    <a:pt x="633" y="1093"/>
                  </a:lnTo>
                  <a:lnTo>
                    <a:pt x="633" y="1096"/>
                  </a:lnTo>
                  <a:lnTo>
                    <a:pt x="634" y="1098"/>
                  </a:lnTo>
                  <a:lnTo>
                    <a:pt x="634" y="1099"/>
                  </a:lnTo>
                  <a:lnTo>
                    <a:pt x="634" y="1101"/>
                  </a:lnTo>
                  <a:lnTo>
                    <a:pt x="634" y="1104"/>
                  </a:lnTo>
                  <a:lnTo>
                    <a:pt x="636" y="1106"/>
                  </a:lnTo>
                  <a:lnTo>
                    <a:pt x="652" y="1113"/>
                  </a:lnTo>
                  <a:lnTo>
                    <a:pt x="667" y="1120"/>
                  </a:lnTo>
                  <a:lnTo>
                    <a:pt x="685" y="1124"/>
                  </a:lnTo>
                  <a:lnTo>
                    <a:pt x="703" y="1127"/>
                  </a:lnTo>
                  <a:lnTo>
                    <a:pt x="721" y="1132"/>
                  </a:lnTo>
                  <a:lnTo>
                    <a:pt x="739" y="1137"/>
                  </a:lnTo>
                  <a:lnTo>
                    <a:pt x="759" y="1141"/>
                  </a:lnTo>
                  <a:lnTo>
                    <a:pt x="775" y="1148"/>
                  </a:lnTo>
                  <a:close/>
                  <a:moveTo>
                    <a:pt x="618" y="1110"/>
                  </a:moveTo>
                  <a:lnTo>
                    <a:pt x="619" y="1110"/>
                  </a:lnTo>
                  <a:lnTo>
                    <a:pt x="621" y="1110"/>
                  </a:lnTo>
                  <a:lnTo>
                    <a:pt x="622" y="1112"/>
                  </a:lnTo>
                  <a:lnTo>
                    <a:pt x="624" y="1112"/>
                  </a:lnTo>
                  <a:lnTo>
                    <a:pt x="622" y="1107"/>
                  </a:lnTo>
                  <a:lnTo>
                    <a:pt x="622" y="1103"/>
                  </a:lnTo>
                  <a:lnTo>
                    <a:pt x="621" y="1098"/>
                  </a:lnTo>
                  <a:lnTo>
                    <a:pt x="619" y="1095"/>
                  </a:lnTo>
                  <a:lnTo>
                    <a:pt x="619" y="1092"/>
                  </a:lnTo>
                  <a:lnTo>
                    <a:pt x="618" y="1089"/>
                  </a:lnTo>
                  <a:lnTo>
                    <a:pt x="616" y="1087"/>
                  </a:lnTo>
                  <a:lnTo>
                    <a:pt x="615" y="1084"/>
                  </a:lnTo>
                  <a:lnTo>
                    <a:pt x="612" y="1084"/>
                  </a:lnTo>
                  <a:lnTo>
                    <a:pt x="609" y="1084"/>
                  </a:lnTo>
                  <a:lnTo>
                    <a:pt x="606" y="1082"/>
                  </a:lnTo>
                  <a:lnTo>
                    <a:pt x="603" y="1082"/>
                  </a:lnTo>
                  <a:lnTo>
                    <a:pt x="600" y="1082"/>
                  </a:lnTo>
                  <a:lnTo>
                    <a:pt x="598" y="1082"/>
                  </a:lnTo>
                  <a:lnTo>
                    <a:pt x="595" y="1082"/>
                  </a:lnTo>
                  <a:lnTo>
                    <a:pt x="592" y="1081"/>
                  </a:lnTo>
                  <a:lnTo>
                    <a:pt x="582" y="1067"/>
                  </a:lnTo>
                  <a:lnTo>
                    <a:pt x="571" y="1054"/>
                  </a:lnTo>
                  <a:lnTo>
                    <a:pt x="559" y="1045"/>
                  </a:lnTo>
                  <a:lnTo>
                    <a:pt x="549" y="1037"/>
                  </a:lnTo>
                  <a:lnTo>
                    <a:pt x="537" y="1030"/>
                  </a:lnTo>
                  <a:lnTo>
                    <a:pt x="523" y="1025"/>
                  </a:lnTo>
                  <a:lnTo>
                    <a:pt x="510" y="1022"/>
                  </a:lnTo>
                  <a:lnTo>
                    <a:pt x="493" y="1020"/>
                  </a:lnTo>
                  <a:lnTo>
                    <a:pt x="489" y="1026"/>
                  </a:lnTo>
                  <a:lnTo>
                    <a:pt x="486" y="1033"/>
                  </a:lnTo>
                  <a:lnTo>
                    <a:pt x="486" y="1039"/>
                  </a:lnTo>
                  <a:lnTo>
                    <a:pt x="486" y="1044"/>
                  </a:lnTo>
                  <a:lnTo>
                    <a:pt x="487" y="1050"/>
                  </a:lnTo>
                  <a:lnTo>
                    <a:pt x="490" y="1053"/>
                  </a:lnTo>
                  <a:lnTo>
                    <a:pt x="495" y="1058"/>
                  </a:lnTo>
                  <a:lnTo>
                    <a:pt x="499" y="1061"/>
                  </a:lnTo>
                  <a:lnTo>
                    <a:pt x="511" y="1068"/>
                  </a:lnTo>
                  <a:lnTo>
                    <a:pt x="523" y="1076"/>
                  </a:lnTo>
                  <a:lnTo>
                    <a:pt x="537" y="1082"/>
                  </a:lnTo>
                  <a:lnTo>
                    <a:pt x="549" y="1087"/>
                  </a:lnTo>
                  <a:lnTo>
                    <a:pt x="556" y="1089"/>
                  </a:lnTo>
                  <a:lnTo>
                    <a:pt x="564" y="1090"/>
                  </a:lnTo>
                  <a:lnTo>
                    <a:pt x="573" y="1092"/>
                  </a:lnTo>
                  <a:lnTo>
                    <a:pt x="582" y="1095"/>
                  </a:lnTo>
                  <a:lnTo>
                    <a:pt x="591" y="1098"/>
                  </a:lnTo>
                  <a:lnTo>
                    <a:pt x="600" y="1101"/>
                  </a:lnTo>
                  <a:lnTo>
                    <a:pt x="609" y="1106"/>
                  </a:lnTo>
                  <a:lnTo>
                    <a:pt x="618" y="1110"/>
                  </a:lnTo>
                  <a:close/>
                  <a:moveTo>
                    <a:pt x="418" y="1085"/>
                  </a:moveTo>
                  <a:lnTo>
                    <a:pt x="423" y="1085"/>
                  </a:lnTo>
                  <a:lnTo>
                    <a:pt x="426" y="1084"/>
                  </a:lnTo>
                  <a:lnTo>
                    <a:pt x="430" y="1082"/>
                  </a:lnTo>
                  <a:lnTo>
                    <a:pt x="435" y="1079"/>
                  </a:lnTo>
                  <a:lnTo>
                    <a:pt x="438" y="1076"/>
                  </a:lnTo>
                  <a:lnTo>
                    <a:pt x="442" y="1073"/>
                  </a:lnTo>
                  <a:lnTo>
                    <a:pt x="445" y="1070"/>
                  </a:lnTo>
                  <a:lnTo>
                    <a:pt x="447" y="1067"/>
                  </a:lnTo>
                  <a:lnTo>
                    <a:pt x="439" y="1058"/>
                  </a:lnTo>
                  <a:lnTo>
                    <a:pt x="429" y="1051"/>
                  </a:lnTo>
                  <a:lnTo>
                    <a:pt x="415" y="1044"/>
                  </a:lnTo>
                  <a:lnTo>
                    <a:pt x="403" y="1037"/>
                  </a:lnTo>
                  <a:lnTo>
                    <a:pt x="390" y="1031"/>
                  </a:lnTo>
                  <a:lnTo>
                    <a:pt x="379" y="1025"/>
                  </a:lnTo>
                  <a:lnTo>
                    <a:pt x="373" y="1020"/>
                  </a:lnTo>
                  <a:lnTo>
                    <a:pt x="369" y="1017"/>
                  </a:lnTo>
                  <a:lnTo>
                    <a:pt x="366" y="1014"/>
                  </a:lnTo>
                  <a:lnTo>
                    <a:pt x="363" y="1011"/>
                  </a:lnTo>
                  <a:lnTo>
                    <a:pt x="367" y="977"/>
                  </a:lnTo>
                  <a:lnTo>
                    <a:pt x="372" y="947"/>
                  </a:lnTo>
                  <a:lnTo>
                    <a:pt x="375" y="924"/>
                  </a:lnTo>
                  <a:lnTo>
                    <a:pt x="378" y="904"/>
                  </a:lnTo>
                  <a:lnTo>
                    <a:pt x="379" y="890"/>
                  </a:lnTo>
                  <a:lnTo>
                    <a:pt x="381" y="877"/>
                  </a:lnTo>
                  <a:lnTo>
                    <a:pt x="382" y="868"/>
                  </a:lnTo>
                  <a:lnTo>
                    <a:pt x="382" y="862"/>
                  </a:lnTo>
                  <a:lnTo>
                    <a:pt x="381" y="851"/>
                  </a:lnTo>
                  <a:lnTo>
                    <a:pt x="379" y="841"/>
                  </a:lnTo>
                  <a:lnTo>
                    <a:pt x="378" y="832"/>
                  </a:lnTo>
                  <a:lnTo>
                    <a:pt x="376" y="824"/>
                  </a:lnTo>
                  <a:lnTo>
                    <a:pt x="375" y="817"/>
                  </a:lnTo>
                  <a:lnTo>
                    <a:pt x="375" y="807"/>
                  </a:lnTo>
                  <a:lnTo>
                    <a:pt x="373" y="799"/>
                  </a:lnTo>
                  <a:lnTo>
                    <a:pt x="373" y="792"/>
                  </a:lnTo>
                  <a:lnTo>
                    <a:pt x="363" y="821"/>
                  </a:lnTo>
                  <a:lnTo>
                    <a:pt x="355" y="851"/>
                  </a:lnTo>
                  <a:lnTo>
                    <a:pt x="349" y="880"/>
                  </a:lnTo>
                  <a:lnTo>
                    <a:pt x="345" y="910"/>
                  </a:lnTo>
                  <a:lnTo>
                    <a:pt x="339" y="941"/>
                  </a:lnTo>
                  <a:lnTo>
                    <a:pt x="331" y="972"/>
                  </a:lnTo>
                  <a:lnTo>
                    <a:pt x="324" y="1003"/>
                  </a:lnTo>
                  <a:lnTo>
                    <a:pt x="313" y="1033"/>
                  </a:lnTo>
                  <a:lnTo>
                    <a:pt x="315" y="1040"/>
                  </a:lnTo>
                  <a:lnTo>
                    <a:pt x="318" y="1047"/>
                  </a:lnTo>
                  <a:lnTo>
                    <a:pt x="321" y="1051"/>
                  </a:lnTo>
                  <a:lnTo>
                    <a:pt x="325" y="1058"/>
                  </a:lnTo>
                  <a:lnTo>
                    <a:pt x="333" y="1062"/>
                  </a:lnTo>
                  <a:lnTo>
                    <a:pt x="339" y="1065"/>
                  </a:lnTo>
                  <a:lnTo>
                    <a:pt x="345" y="1068"/>
                  </a:lnTo>
                  <a:lnTo>
                    <a:pt x="354" y="1072"/>
                  </a:lnTo>
                  <a:lnTo>
                    <a:pt x="372" y="1076"/>
                  </a:lnTo>
                  <a:lnTo>
                    <a:pt x="388" y="1079"/>
                  </a:lnTo>
                  <a:lnTo>
                    <a:pt x="405" y="1082"/>
                  </a:lnTo>
                  <a:lnTo>
                    <a:pt x="418" y="1085"/>
                  </a:lnTo>
                  <a:close/>
                  <a:moveTo>
                    <a:pt x="624" y="1072"/>
                  </a:moveTo>
                  <a:lnTo>
                    <a:pt x="625" y="1072"/>
                  </a:lnTo>
                  <a:lnTo>
                    <a:pt x="627" y="1072"/>
                  </a:lnTo>
                  <a:lnTo>
                    <a:pt x="628" y="1072"/>
                  </a:lnTo>
                  <a:lnTo>
                    <a:pt x="630" y="1072"/>
                  </a:lnTo>
                  <a:lnTo>
                    <a:pt x="639" y="1065"/>
                  </a:lnTo>
                  <a:lnTo>
                    <a:pt x="645" y="1059"/>
                  </a:lnTo>
                  <a:lnTo>
                    <a:pt x="648" y="1054"/>
                  </a:lnTo>
                  <a:lnTo>
                    <a:pt x="646" y="1051"/>
                  </a:lnTo>
                  <a:lnTo>
                    <a:pt x="645" y="1047"/>
                  </a:lnTo>
                  <a:lnTo>
                    <a:pt x="640" y="1042"/>
                  </a:lnTo>
                  <a:lnTo>
                    <a:pt x="633" y="1039"/>
                  </a:lnTo>
                  <a:lnTo>
                    <a:pt x="627" y="1037"/>
                  </a:lnTo>
                  <a:lnTo>
                    <a:pt x="610" y="1033"/>
                  </a:lnTo>
                  <a:lnTo>
                    <a:pt x="592" y="1031"/>
                  </a:lnTo>
                  <a:lnTo>
                    <a:pt x="576" y="1030"/>
                  </a:lnTo>
                  <a:lnTo>
                    <a:pt x="564" y="1033"/>
                  </a:lnTo>
                  <a:lnTo>
                    <a:pt x="571" y="1039"/>
                  </a:lnTo>
                  <a:lnTo>
                    <a:pt x="577" y="1045"/>
                  </a:lnTo>
                  <a:lnTo>
                    <a:pt x="583" y="1051"/>
                  </a:lnTo>
                  <a:lnTo>
                    <a:pt x="589" y="1056"/>
                  </a:lnTo>
                  <a:lnTo>
                    <a:pt x="595" y="1061"/>
                  </a:lnTo>
                  <a:lnTo>
                    <a:pt x="603" y="1065"/>
                  </a:lnTo>
                  <a:lnTo>
                    <a:pt x="612" y="1070"/>
                  </a:lnTo>
                  <a:lnTo>
                    <a:pt x="624" y="1072"/>
                  </a:lnTo>
                  <a:close/>
                  <a:moveTo>
                    <a:pt x="453" y="1051"/>
                  </a:moveTo>
                  <a:lnTo>
                    <a:pt x="456" y="1051"/>
                  </a:lnTo>
                  <a:lnTo>
                    <a:pt x="457" y="1051"/>
                  </a:lnTo>
                  <a:lnTo>
                    <a:pt x="460" y="1051"/>
                  </a:lnTo>
                  <a:lnTo>
                    <a:pt x="462" y="1050"/>
                  </a:lnTo>
                  <a:lnTo>
                    <a:pt x="465" y="1048"/>
                  </a:lnTo>
                  <a:lnTo>
                    <a:pt x="466" y="1048"/>
                  </a:lnTo>
                  <a:lnTo>
                    <a:pt x="468" y="1047"/>
                  </a:lnTo>
                  <a:lnTo>
                    <a:pt x="469" y="1045"/>
                  </a:lnTo>
                  <a:lnTo>
                    <a:pt x="471" y="1040"/>
                  </a:lnTo>
                  <a:lnTo>
                    <a:pt x="471" y="1037"/>
                  </a:lnTo>
                  <a:lnTo>
                    <a:pt x="471" y="1033"/>
                  </a:lnTo>
                  <a:lnTo>
                    <a:pt x="471" y="1030"/>
                  </a:lnTo>
                  <a:lnTo>
                    <a:pt x="472" y="1028"/>
                  </a:lnTo>
                  <a:lnTo>
                    <a:pt x="472" y="1025"/>
                  </a:lnTo>
                  <a:lnTo>
                    <a:pt x="474" y="1022"/>
                  </a:lnTo>
                  <a:lnTo>
                    <a:pt x="474" y="1019"/>
                  </a:lnTo>
                  <a:lnTo>
                    <a:pt x="460" y="1006"/>
                  </a:lnTo>
                  <a:lnTo>
                    <a:pt x="450" y="991"/>
                  </a:lnTo>
                  <a:lnTo>
                    <a:pt x="438" y="977"/>
                  </a:lnTo>
                  <a:lnTo>
                    <a:pt x="426" y="960"/>
                  </a:lnTo>
                  <a:lnTo>
                    <a:pt x="415" y="941"/>
                  </a:lnTo>
                  <a:lnTo>
                    <a:pt x="408" y="925"/>
                  </a:lnTo>
                  <a:lnTo>
                    <a:pt x="400" y="908"/>
                  </a:lnTo>
                  <a:lnTo>
                    <a:pt x="393" y="894"/>
                  </a:lnTo>
                  <a:lnTo>
                    <a:pt x="390" y="907"/>
                  </a:lnTo>
                  <a:lnTo>
                    <a:pt x="387" y="921"/>
                  </a:lnTo>
                  <a:lnTo>
                    <a:pt x="384" y="935"/>
                  </a:lnTo>
                  <a:lnTo>
                    <a:pt x="381" y="949"/>
                  </a:lnTo>
                  <a:lnTo>
                    <a:pt x="379" y="964"/>
                  </a:lnTo>
                  <a:lnTo>
                    <a:pt x="379" y="978"/>
                  </a:lnTo>
                  <a:lnTo>
                    <a:pt x="378" y="992"/>
                  </a:lnTo>
                  <a:lnTo>
                    <a:pt x="378" y="1008"/>
                  </a:lnTo>
                  <a:lnTo>
                    <a:pt x="379" y="1009"/>
                  </a:lnTo>
                  <a:lnTo>
                    <a:pt x="379" y="1011"/>
                  </a:lnTo>
                  <a:lnTo>
                    <a:pt x="381" y="1011"/>
                  </a:lnTo>
                  <a:lnTo>
                    <a:pt x="384" y="1012"/>
                  </a:lnTo>
                  <a:lnTo>
                    <a:pt x="387" y="1014"/>
                  </a:lnTo>
                  <a:lnTo>
                    <a:pt x="391" y="1014"/>
                  </a:lnTo>
                  <a:lnTo>
                    <a:pt x="397" y="1016"/>
                  </a:lnTo>
                  <a:lnTo>
                    <a:pt x="403" y="1020"/>
                  </a:lnTo>
                  <a:lnTo>
                    <a:pt x="408" y="1023"/>
                  </a:lnTo>
                  <a:lnTo>
                    <a:pt x="412" y="1026"/>
                  </a:lnTo>
                  <a:lnTo>
                    <a:pt x="415" y="1030"/>
                  </a:lnTo>
                  <a:lnTo>
                    <a:pt x="421" y="1034"/>
                  </a:lnTo>
                  <a:lnTo>
                    <a:pt x="430" y="1039"/>
                  </a:lnTo>
                  <a:lnTo>
                    <a:pt x="441" y="1045"/>
                  </a:lnTo>
                  <a:lnTo>
                    <a:pt x="453" y="1051"/>
                  </a:lnTo>
                  <a:close/>
                  <a:moveTo>
                    <a:pt x="1453" y="1034"/>
                  </a:moveTo>
                  <a:lnTo>
                    <a:pt x="1455" y="1034"/>
                  </a:lnTo>
                  <a:lnTo>
                    <a:pt x="1456" y="1034"/>
                  </a:lnTo>
                  <a:lnTo>
                    <a:pt x="1456" y="1033"/>
                  </a:lnTo>
                  <a:lnTo>
                    <a:pt x="1458" y="1033"/>
                  </a:lnTo>
                  <a:lnTo>
                    <a:pt x="1458" y="1031"/>
                  </a:lnTo>
                  <a:lnTo>
                    <a:pt x="1456" y="1031"/>
                  </a:lnTo>
                  <a:lnTo>
                    <a:pt x="1456" y="1030"/>
                  </a:lnTo>
                  <a:lnTo>
                    <a:pt x="1455" y="1030"/>
                  </a:lnTo>
                  <a:lnTo>
                    <a:pt x="1453" y="1030"/>
                  </a:lnTo>
                  <a:lnTo>
                    <a:pt x="1453" y="1031"/>
                  </a:lnTo>
                  <a:lnTo>
                    <a:pt x="1452" y="1031"/>
                  </a:lnTo>
                  <a:lnTo>
                    <a:pt x="1452" y="1033"/>
                  </a:lnTo>
                  <a:lnTo>
                    <a:pt x="1453" y="1034"/>
                  </a:lnTo>
                  <a:close/>
                  <a:moveTo>
                    <a:pt x="636" y="1011"/>
                  </a:moveTo>
                  <a:lnTo>
                    <a:pt x="639" y="1011"/>
                  </a:lnTo>
                  <a:lnTo>
                    <a:pt x="643" y="1011"/>
                  </a:lnTo>
                  <a:lnTo>
                    <a:pt x="646" y="1011"/>
                  </a:lnTo>
                  <a:lnTo>
                    <a:pt x="649" y="1011"/>
                  </a:lnTo>
                  <a:lnTo>
                    <a:pt x="654" y="1011"/>
                  </a:lnTo>
                  <a:lnTo>
                    <a:pt x="657" y="1011"/>
                  </a:lnTo>
                  <a:lnTo>
                    <a:pt x="661" y="1011"/>
                  </a:lnTo>
                  <a:lnTo>
                    <a:pt x="663" y="1011"/>
                  </a:lnTo>
                  <a:lnTo>
                    <a:pt x="682" y="1002"/>
                  </a:lnTo>
                  <a:lnTo>
                    <a:pt x="699" y="989"/>
                  </a:lnTo>
                  <a:lnTo>
                    <a:pt x="714" y="975"/>
                  </a:lnTo>
                  <a:lnTo>
                    <a:pt x="727" y="960"/>
                  </a:lnTo>
                  <a:lnTo>
                    <a:pt x="739" y="941"/>
                  </a:lnTo>
                  <a:lnTo>
                    <a:pt x="751" y="924"/>
                  </a:lnTo>
                  <a:lnTo>
                    <a:pt x="763" y="904"/>
                  </a:lnTo>
                  <a:lnTo>
                    <a:pt x="771" y="883"/>
                  </a:lnTo>
                  <a:lnTo>
                    <a:pt x="789" y="841"/>
                  </a:lnTo>
                  <a:lnTo>
                    <a:pt x="805" y="799"/>
                  </a:lnTo>
                  <a:lnTo>
                    <a:pt x="819" y="757"/>
                  </a:lnTo>
                  <a:lnTo>
                    <a:pt x="834" y="720"/>
                  </a:lnTo>
                  <a:lnTo>
                    <a:pt x="835" y="715"/>
                  </a:lnTo>
                  <a:lnTo>
                    <a:pt x="837" y="709"/>
                  </a:lnTo>
                  <a:lnTo>
                    <a:pt x="838" y="703"/>
                  </a:lnTo>
                  <a:lnTo>
                    <a:pt x="840" y="697"/>
                  </a:lnTo>
                  <a:lnTo>
                    <a:pt x="841" y="691"/>
                  </a:lnTo>
                  <a:lnTo>
                    <a:pt x="843" y="684"/>
                  </a:lnTo>
                  <a:lnTo>
                    <a:pt x="846" y="680"/>
                  </a:lnTo>
                  <a:lnTo>
                    <a:pt x="849" y="678"/>
                  </a:lnTo>
                  <a:lnTo>
                    <a:pt x="849" y="680"/>
                  </a:lnTo>
                  <a:lnTo>
                    <a:pt x="850" y="684"/>
                  </a:lnTo>
                  <a:lnTo>
                    <a:pt x="852" y="691"/>
                  </a:lnTo>
                  <a:lnTo>
                    <a:pt x="853" y="697"/>
                  </a:lnTo>
                  <a:lnTo>
                    <a:pt x="856" y="703"/>
                  </a:lnTo>
                  <a:lnTo>
                    <a:pt x="858" y="708"/>
                  </a:lnTo>
                  <a:lnTo>
                    <a:pt x="859" y="712"/>
                  </a:lnTo>
                  <a:lnTo>
                    <a:pt x="861" y="715"/>
                  </a:lnTo>
                  <a:lnTo>
                    <a:pt x="864" y="715"/>
                  </a:lnTo>
                  <a:lnTo>
                    <a:pt x="865" y="715"/>
                  </a:lnTo>
                  <a:lnTo>
                    <a:pt x="868" y="715"/>
                  </a:lnTo>
                  <a:lnTo>
                    <a:pt x="870" y="714"/>
                  </a:lnTo>
                  <a:lnTo>
                    <a:pt x="873" y="714"/>
                  </a:lnTo>
                  <a:lnTo>
                    <a:pt x="874" y="712"/>
                  </a:lnTo>
                  <a:lnTo>
                    <a:pt x="874" y="709"/>
                  </a:lnTo>
                  <a:lnTo>
                    <a:pt x="874" y="706"/>
                  </a:lnTo>
                  <a:lnTo>
                    <a:pt x="871" y="700"/>
                  </a:lnTo>
                  <a:lnTo>
                    <a:pt x="868" y="688"/>
                  </a:lnTo>
                  <a:lnTo>
                    <a:pt x="864" y="674"/>
                  </a:lnTo>
                  <a:lnTo>
                    <a:pt x="859" y="656"/>
                  </a:lnTo>
                  <a:lnTo>
                    <a:pt x="855" y="642"/>
                  </a:lnTo>
                  <a:lnTo>
                    <a:pt x="849" y="632"/>
                  </a:lnTo>
                  <a:lnTo>
                    <a:pt x="846" y="627"/>
                  </a:lnTo>
                  <a:lnTo>
                    <a:pt x="843" y="625"/>
                  </a:lnTo>
                  <a:lnTo>
                    <a:pt x="840" y="625"/>
                  </a:lnTo>
                  <a:lnTo>
                    <a:pt x="837" y="627"/>
                  </a:lnTo>
                  <a:lnTo>
                    <a:pt x="837" y="630"/>
                  </a:lnTo>
                  <a:lnTo>
                    <a:pt x="837" y="633"/>
                  </a:lnTo>
                  <a:lnTo>
                    <a:pt x="837" y="636"/>
                  </a:lnTo>
                  <a:lnTo>
                    <a:pt x="838" y="638"/>
                  </a:lnTo>
                  <a:lnTo>
                    <a:pt x="838" y="641"/>
                  </a:lnTo>
                  <a:lnTo>
                    <a:pt x="838" y="642"/>
                  </a:lnTo>
                  <a:lnTo>
                    <a:pt x="840" y="646"/>
                  </a:lnTo>
                  <a:lnTo>
                    <a:pt x="840" y="650"/>
                  </a:lnTo>
                  <a:lnTo>
                    <a:pt x="835" y="663"/>
                  </a:lnTo>
                  <a:lnTo>
                    <a:pt x="829" y="674"/>
                  </a:lnTo>
                  <a:lnTo>
                    <a:pt x="822" y="684"/>
                  </a:lnTo>
                  <a:lnTo>
                    <a:pt x="814" y="695"/>
                  </a:lnTo>
                  <a:lnTo>
                    <a:pt x="805" y="706"/>
                  </a:lnTo>
                  <a:lnTo>
                    <a:pt x="798" y="715"/>
                  </a:lnTo>
                  <a:lnTo>
                    <a:pt x="789" y="723"/>
                  </a:lnTo>
                  <a:lnTo>
                    <a:pt x="778" y="733"/>
                  </a:lnTo>
                  <a:lnTo>
                    <a:pt x="768" y="740"/>
                  </a:lnTo>
                  <a:lnTo>
                    <a:pt x="757" y="748"/>
                  </a:lnTo>
                  <a:lnTo>
                    <a:pt x="745" y="754"/>
                  </a:lnTo>
                  <a:lnTo>
                    <a:pt x="735" y="759"/>
                  </a:lnTo>
                  <a:lnTo>
                    <a:pt x="723" y="764"/>
                  </a:lnTo>
                  <a:lnTo>
                    <a:pt x="711" y="767"/>
                  </a:lnTo>
                  <a:lnTo>
                    <a:pt x="699" y="770"/>
                  </a:lnTo>
                  <a:lnTo>
                    <a:pt x="687" y="773"/>
                  </a:lnTo>
                  <a:lnTo>
                    <a:pt x="673" y="770"/>
                  </a:lnTo>
                  <a:lnTo>
                    <a:pt x="663" y="768"/>
                  </a:lnTo>
                  <a:lnTo>
                    <a:pt x="651" y="764"/>
                  </a:lnTo>
                  <a:lnTo>
                    <a:pt x="640" y="759"/>
                  </a:lnTo>
                  <a:lnTo>
                    <a:pt x="631" y="754"/>
                  </a:lnTo>
                  <a:lnTo>
                    <a:pt x="625" y="747"/>
                  </a:lnTo>
                  <a:lnTo>
                    <a:pt x="618" y="737"/>
                  </a:lnTo>
                  <a:lnTo>
                    <a:pt x="613" y="725"/>
                  </a:lnTo>
                  <a:lnTo>
                    <a:pt x="610" y="726"/>
                  </a:lnTo>
                  <a:lnTo>
                    <a:pt x="609" y="726"/>
                  </a:lnTo>
                  <a:lnTo>
                    <a:pt x="606" y="726"/>
                  </a:lnTo>
                  <a:lnTo>
                    <a:pt x="604" y="726"/>
                  </a:lnTo>
                  <a:lnTo>
                    <a:pt x="603" y="726"/>
                  </a:lnTo>
                  <a:lnTo>
                    <a:pt x="601" y="726"/>
                  </a:lnTo>
                  <a:lnTo>
                    <a:pt x="601" y="728"/>
                  </a:lnTo>
                  <a:lnTo>
                    <a:pt x="598" y="729"/>
                  </a:lnTo>
                  <a:lnTo>
                    <a:pt x="600" y="734"/>
                  </a:lnTo>
                  <a:lnTo>
                    <a:pt x="601" y="739"/>
                  </a:lnTo>
                  <a:lnTo>
                    <a:pt x="604" y="743"/>
                  </a:lnTo>
                  <a:lnTo>
                    <a:pt x="609" y="750"/>
                  </a:lnTo>
                  <a:lnTo>
                    <a:pt x="612" y="754"/>
                  </a:lnTo>
                  <a:lnTo>
                    <a:pt x="616" y="757"/>
                  </a:lnTo>
                  <a:lnTo>
                    <a:pt x="621" y="761"/>
                  </a:lnTo>
                  <a:lnTo>
                    <a:pt x="625" y="765"/>
                  </a:lnTo>
                  <a:lnTo>
                    <a:pt x="631" y="781"/>
                  </a:lnTo>
                  <a:lnTo>
                    <a:pt x="636" y="796"/>
                  </a:lnTo>
                  <a:lnTo>
                    <a:pt x="640" y="815"/>
                  </a:lnTo>
                  <a:lnTo>
                    <a:pt x="643" y="832"/>
                  </a:lnTo>
                  <a:lnTo>
                    <a:pt x="646" y="851"/>
                  </a:lnTo>
                  <a:lnTo>
                    <a:pt x="648" y="868"/>
                  </a:lnTo>
                  <a:lnTo>
                    <a:pt x="648" y="888"/>
                  </a:lnTo>
                  <a:lnTo>
                    <a:pt x="646" y="905"/>
                  </a:lnTo>
                  <a:lnTo>
                    <a:pt x="637" y="916"/>
                  </a:lnTo>
                  <a:lnTo>
                    <a:pt x="628" y="932"/>
                  </a:lnTo>
                  <a:lnTo>
                    <a:pt x="619" y="946"/>
                  </a:lnTo>
                  <a:lnTo>
                    <a:pt x="612" y="963"/>
                  </a:lnTo>
                  <a:lnTo>
                    <a:pt x="609" y="972"/>
                  </a:lnTo>
                  <a:lnTo>
                    <a:pt x="607" y="978"/>
                  </a:lnTo>
                  <a:lnTo>
                    <a:pt x="607" y="986"/>
                  </a:lnTo>
                  <a:lnTo>
                    <a:pt x="610" y="992"/>
                  </a:lnTo>
                  <a:lnTo>
                    <a:pt x="613" y="998"/>
                  </a:lnTo>
                  <a:lnTo>
                    <a:pt x="619" y="1005"/>
                  </a:lnTo>
                  <a:lnTo>
                    <a:pt x="627" y="1008"/>
                  </a:lnTo>
                  <a:lnTo>
                    <a:pt x="636" y="1011"/>
                  </a:lnTo>
                  <a:close/>
                  <a:moveTo>
                    <a:pt x="631" y="997"/>
                  </a:moveTo>
                  <a:lnTo>
                    <a:pt x="642" y="997"/>
                  </a:lnTo>
                  <a:lnTo>
                    <a:pt x="652" y="995"/>
                  </a:lnTo>
                  <a:lnTo>
                    <a:pt x="661" y="994"/>
                  </a:lnTo>
                  <a:lnTo>
                    <a:pt x="669" y="991"/>
                  </a:lnTo>
                  <a:lnTo>
                    <a:pt x="676" y="988"/>
                  </a:lnTo>
                  <a:lnTo>
                    <a:pt x="684" y="984"/>
                  </a:lnTo>
                  <a:lnTo>
                    <a:pt x="690" y="980"/>
                  </a:lnTo>
                  <a:lnTo>
                    <a:pt x="696" y="977"/>
                  </a:lnTo>
                  <a:lnTo>
                    <a:pt x="706" y="964"/>
                  </a:lnTo>
                  <a:lnTo>
                    <a:pt x="717" y="950"/>
                  </a:lnTo>
                  <a:lnTo>
                    <a:pt x="729" y="935"/>
                  </a:lnTo>
                  <a:lnTo>
                    <a:pt x="741" y="918"/>
                  </a:lnTo>
                  <a:lnTo>
                    <a:pt x="744" y="908"/>
                  </a:lnTo>
                  <a:lnTo>
                    <a:pt x="748" y="904"/>
                  </a:lnTo>
                  <a:lnTo>
                    <a:pt x="751" y="897"/>
                  </a:lnTo>
                  <a:lnTo>
                    <a:pt x="754" y="893"/>
                  </a:lnTo>
                  <a:lnTo>
                    <a:pt x="756" y="888"/>
                  </a:lnTo>
                  <a:lnTo>
                    <a:pt x="757" y="885"/>
                  </a:lnTo>
                  <a:lnTo>
                    <a:pt x="759" y="882"/>
                  </a:lnTo>
                  <a:lnTo>
                    <a:pt x="760" y="879"/>
                  </a:lnTo>
                  <a:lnTo>
                    <a:pt x="744" y="880"/>
                  </a:lnTo>
                  <a:lnTo>
                    <a:pt x="732" y="882"/>
                  </a:lnTo>
                  <a:lnTo>
                    <a:pt x="721" y="887"/>
                  </a:lnTo>
                  <a:lnTo>
                    <a:pt x="711" y="891"/>
                  </a:lnTo>
                  <a:lnTo>
                    <a:pt x="700" y="897"/>
                  </a:lnTo>
                  <a:lnTo>
                    <a:pt x="693" y="904"/>
                  </a:lnTo>
                  <a:lnTo>
                    <a:pt x="684" y="913"/>
                  </a:lnTo>
                  <a:lnTo>
                    <a:pt x="673" y="925"/>
                  </a:lnTo>
                  <a:lnTo>
                    <a:pt x="672" y="932"/>
                  </a:lnTo>
                  <a:lnTo>
                    <a:pt x="669" y="936"/>
                  </a:lnTo>
                  <a:lnTo>
                    <a:pt x="667" y="941"/>
                  </a:lnTo>
                  <a:lnTo>
                    <a:pt x="666" y="942"/>
                  </a:lnTo>
                  <a:lnTo>
                    <a:pt x="664" y="944"/>
                  </a:lnTo>
                  <a:lnTo>
                    <a:pt x="663" y="947"/>
                  </a:lnTo>
                  <a:lnTo>
                    <a:pt x="663" y="949"/>
                  </a:lnTo>
                  <a:lnTo>
                    <a:pt x="661" y="952"/>
                  </a:lnTo>
                  <a:lnTo>
                    <a:pt x="658" y="952"/>
                  </a:lnTo>
                  <a:lnTo>
                    <a:pt x="657" y="952"/>
                  </a:lnTo>
                  <a:lnTo>
                    <a:pt x="655" y="952"/>
                  </a:lnTo>
                  <a:lnTo>
                    <a:pt x="654" y="952"/>
                  </a:lnTo>
                  <a:lnTo>
                    <a:pt x="652" y="952"/>
                  </a:lnTo>
                  <a:lnTo>
                    <a:pt x="652" y="950"/>
                  </a:lnTo>
                  <a:lnTo>
                    <a:pt x="652" y="944"/>
                  </a:lnTo>
                  <a:lnTo>
                    <a:pt x="655" y="939"/>
                  </a:lnTo>
                  <a:lnTo>
                    <a:pt x="657" y="935"/>
                  </a:lnTo>
                  <a:lnTo>
                    <a:pt x="660" y="928"/>
                  </a:lnTo>
                  <a:lnTo>
                    <a:pt x="663" y="924"/>
                  </a:lnTo>
                  <a:lnTo>
                    <a:pt x="664" y="919"/>
                  </a:lnTo>
                  <a:lnTo>
                    <a:pt x="666" y="914"/>
                  </a:lnTo>
                  <a:lnTo>
                    <a:pt x="666" y="910"/>
                  </a:lnTo>
                  <a:lnTo>
                    <a:pt x="658" y="916"/>
                  </a:lnTo>
                  <a:lnTo>
                    <a:pt x="648" y="927"/>
                  </a:lnTo>
                  <a:lnTo>
                    <a:pt x="639" y="939"/>
                  </a:lnTo>
                  <a:lnTo>
                    <a:pt x="630" y="950"/>
                  </a:lnTo>
                  <a:lnTo>
                    <a:pt x="627" y="956"/>
                  </a:lnTo>
                  <a:lnTo>
                    <a:pt x="624" y="964"/>
                  </a:lnTo>
                  <a:lnTo>
                    <a:pt x="622" y="970"/>
                  </a:lnTo>
                  <a:lnTo>
                    <a:pt x="622" y="977"/>
                  </a:lnTo>
                  <a:lnTo>
                    <a:pt x="622" y="981"/>
                  </a:lnTo>
                  <a:lnTo>
                    <a:pt x="624" y="988"/>
                  </a:lnTo>
                  <a:lnTo>
                    <a:pt x="628" y="992"/>
                  </a:lnTo>
                  <a:lnTo>
                    <a:pt x="631" y="997"/>
                  </a:lnTo>
                  <a:close/>
                  <a:moveTo>
                    <a:pt x="1107" y="919"/>
                  </a:moveTo>
                  <a:lnTo>
                    <a:pt x="1111" y="918"/>
                  </a:lnTo>
                  <a:lnTo>
                    <a:pt x="1114" y="914"/>
                  </a:lnTo>
                  <a:lnTo>
                    <a:pt x="1117" y="910"/>
                  </a:lnTo>
                  <a:lnTo>
                    <a:pt x="1120" y="904"/>
                  </a:lnTo>
                  <a:lnTo>
                    <a:pt x="1125" y="899"/>
                  </a:lnTo>
                  <a:lnTo>
                    <a:pt x="1126" y="893"/>
                  </a:lnTo>
                  <a:lnTo>
                    <a:pt x="1129" y="888"/>
                  </a:lnTo>
                  <a:lnTo>
                    <a:pt x="1132" y="883"/>
                  </a:lnTo>
                  <a:lnTo>
                    <a:pt x="1132" y="882"/>
                  </a:lnTo>
                  <a:lnTo>
                    <a:pt x="1132" y="880"/>
                  </a:lnTo>
                  <a:lnTo>
                    <a:pt x="1132" y="879"/>
                  </a:lnTo>
                  <a:lnTo>
                    <a:pt x="1132" y="877"/>
                  </a:lnTo>
                  <a:lnTo>
                    <a:pt x="1132" y="876"/>
                  </a:lnTo>
                  <a:lnTo>
                    <a:pt x="1126" y="876"/>
                  </a:lnTo>
                  <a:lnTo>
                    <a:pt x="1120" y="876"/>
                  </a:lnTo>
                  <a:lnTo>
                    <a:pt x="1114" y="877"/>
                  </a:lnTo>
                  <a:lnTo>
                    <a:pt x="1108" y="877"/>
                  </a:lnTo>
                  <a:lnTo>
                    <a:pt x="1102" y="879"/>
                  </a:lnTo>
                  <a:lnTo>
                    <a:pt x="1098" y="880"/>
                  </a:lnTo>
                  <a:lnTo>
                    <a:pt x="1092" y="883"/>
                  </a:lnTo>
                  <a:lnTo>
                    <a:pt x="1087" y="885"/>
                  </a:lnTo>
                  <a:lnTo>
                    <a:pt x="1086" y="883"/>
                  </a:lnTo>
                  <a:lnTo>
                    <a:pt x="1084" y="883"/>
                  </a:lnTo>
                  <a:lnTo>
                    <a:pt x="1084" y="882"/>
                  </a:lnTo>
                  <a:lnTo>
                    <a:pt x="1092" y="876"/>
                  </a:lnTo>
                  <a:lnTo>
                    <a:pt x="1101" y="871"/>
                  </a:lnTo>
                  <a:lnTo>
                    <a:pt x="1110" y="866"/>
                  </a:lnTo>
                  <a:lnTo>
                    <a:pt x="1119" y="860"/>
                  </a:lnTo>
                  <a:lnTo>
                    <a:pt x="1125" y="855"/>
                  </a:lnTo>
                  <a:lnTo>
                    <a:pt x="1134" y="849"/>
                  </a:lnTo>
                  <a:lnTo>
                    <a:pt x="1143" y="843"/>
                  </a:lnTo>
                  <a:lnTo>
                    <a:pt x="1152" y="838"/>
                  </a:lnTo>
                  <a:lnTo>
                    <a:pt x="1155" y="831"/>
                  </a:lnTo>
                  <a:lnTo>
                    <a:pt x="1153" y="826"/>
                  </a:lnTo>
                  <a:lnTo>
                    <a:pt x="1152" y="824"/>
                  </a:lnTo>
                  <a:lnTo>
                    <a:pt x="1147" y="823"/>
                  </a:lnTo>
                  <a:lnTo>
                    <a:pt x="1141" y="823"/>
                  </a:lnTo>
                  <a:lnTo>
                    <a:pt x="1137" y="823"/>
                  </a:lnTo>
                  <a:lnTo>
                    <a:pt x="1131" y="824"/>
                  </a:lnTo>
                  <a:lnTo>
                    <a:pt x="1128" y="824"/>
                  </a:lnTo>
                  <a:lnTo>
                    <a:pt x="1117" y="827"/>
                  </a:lnTo>
                  <a:lnTo>
                    <a:pt x="1105" y="832"/>
                  </a:lnTo>
                  <a:lnTo>
                    <a:pt x="1093" y="838"/>
                  </a:lnTo>
                  <a:lnTo>
                    <a:pt x="1083" y="845"/>
                  </a:lnTo>
                  <a:lnTo>
                    <a:pt x="1071" y="851"/>
                  </a:lnTo>
                  <a:lnTo>
                    <a:pt x="1059" y="855"/>
                  </a:lnTo>
                  <a:lnTo>
                    <a:pt x="1050" y="860"/>
                  </a:lnTo>
                  <a:lnTo>
                    <a:pt x="1039" y="862"/>
                  </a:lnTo>
                  <a:lnTo>
                    <a:pt x="1039" y="860"/>
                  </a:lnTo>
                  <a:lnTo>
                    <a:pt x="1039" y="859"/>
                  </a:lnTo>
                  <a:lnTo>
                    <a:pt x="1039" y="857"/>
                  </a:lnTo>
                  <a:lnTo>
                    <a:pt x="1039" y="855"/>
                  </a:lnTo>
                  <a:lnTo>
                    <a:pt x="1036" y="855"/>
                  </a:lnTo>
                  <a:lnTo>
                    <a:pt x="1033" y="855"/>
                  </a:lnTo>
                  <a:lnTo>
                    <a:pt x="1032" y="855"/>
                  </a:lnTo>
                  <a:lnTo>
                    <a:pt x="1030" y="857"/>
                  </a:lnTo>
                  <a:lnTo>
                    <a:pt x="1029" y="859"/>
                  </a:lnTo>
                  <a:lnTo>
                    <a:pt x="1027" y="860"/>
                  </a:lnTo>
                  <a:lnTo>
                    <a:pt x="1026" y="862"/>
                  </a:lnTo>
                  <a:lnTo>
                    <a:pt x="1023" y="863"/>
                  </a:lnTo>
                  <a:lnTo>
                    <a:pt x="1023" y="865"/>
                  </a:lnTo>
                  <a:lnTo>
                    <a:pt x="1023" y="866"/>
                  </a:lnTo>
                  <a:lnTo>
                    <a:pt x="1023" y="868"/>
                  </a:lnTo>
                  <a:lnTo>
                    <a:pt x="1023" y="869"/>
                  </a:lnTo>
                  <a:lnTo>
                    <a:pt x="1023" y="871"/>
                  </a:lnTo>
                  <a:lnTo>
                    <a:pt x="1027" y="873"/>
                  </a:lnTo>
                  <a:lnTo>
                    <a:pt x="1032" y="873"/>
                  </a:lnTo>
                  <a:lnTo>
                    <a:pt x="1038" y="871"/>
                  </a:lnTo>
                  <a:lnTo>
                    <a:pt x="1044" y="869"/>
                  </a:lnTo>
                  <a:lnTo>
                    <a:pt x="1057" y="865"/>
                  </a:lnTo>
                  <a:lnTo>
                    <a:pt x="1075" y="857"/>
                  </a:lnTo>
                  <a:lnTo>
                    <a:pt x="1092" y="849"/>
                  </a:lnTo>
                  <a:lnTo>
                    <a:pt x="1108" y="841"/>
                  </a:lnTo>
                  <a:lnTo>
                    <a:pt x="1125" y="837"/>
                  </a:lnTo>
                  <a:lnTo>
                    <a:pt x="1135" y="834"/>
                  </a:lnTo>
                  <a:lnTo>
                    <a:pt x="1135" y="835"/>
                  </a:lnTo>
                  <a:lnTo>
                    <a:pt x="1132" y="838"/>
                  </a:lnTo>
                  <a:lnTo>
                    <a:pt x="1126" y="841"/>
                  </a:lnTo>
                  <a:lnTo>
                    <a:pt x="1119" y="848"/>
                  </a:lnTo>
                  <a:lnTo>
                    <a:pt x="1105" y="857"/>
                  </a:lnTo>
                  <a:lnTo>
                    <a:pt x="1087" y="869"/>
                  </a:lnTo>
                  <a:lnTo>
                    <a:pt x="1062" y="887"/>
                  </a:lnTo>
                  <a:lnTo>
                    <a:pt x="1062" y="888"/>
                  </a:lnTo>
                  <a:lnTo>
                    <a:pt x="1062" y="890"/>
                  </a:lnTo>
                  <a:lnTo>
                    <a:pt x="1062" y="891"/>
                  </a:lnTo>
                  <a:lnTo>
                    <a:pt x="1062" y="893"/>
                  </a:lnTo>
                  <a:lnTo>
                    <a:pt x="1062" y="894"/>
                  </a:lnTo>
                  <a:lnTo>
                    <a:pt x="1068" y="896"/>
                  </a:lnTo>
                  <a:lnTo>
                    <a:pt x="1074" y="896"/>
                  </a:lnTo>
                  <a:lnTo>
                    <a:pt x="1081" y="894"/>
                  </a:lnTo>
                  <a:lnTo>
                    <a:pt x="1087" y="893"/>
                  </a:lnTo>
                  <a:lnTo>
                    <a:pt x="1093" y="891"/>
                  </a:lnTo>
                  <a:lnTo>
                    <a:pt x="1099" y="888"/>
                  </a:lnTo>
                  <a:lnTo>
                    <a:pt x="1107" y="887"/>
                  </a:lnTo>
                  <a:lnTo>
                    <a:pt x="1113" y="887"/>
                  </a:lnTo>
                  <a:lnTo>
                    <a:pt x="1111" y="891"/>
                  </a:lnTo>
                  <a:lnTo>
                    <a:pt x="1111" y="896"/>
                  </a:lnTo>
                  <a:lnTo>
                    <a:pt x="1110" y="899"/>
                  </a:lnTo>
                  <a:lnTo>
                    <a:pt x="1108" y="904"/>
                  </a:lnTo>
                  <a:lnTo>
                    <a:pt x="1108" y="905"/>
                  </a:lnTo>
                  <a:lnTo>
                    <a:pt x="1107" y="910"/>
                  </a:lnTo>
                  <a:lnTo>
                    <a:pt x="1107" y="914"/>
                  </a:lnTo>
                  <a:lnTo>
                    <a:pt x="1107" y="919"/>
                  </a:lnTo>
                  <a:close/>
                  <a:moveTo>
                    <a:pt x="1116" y="887"/>
                  </a:moveTo>
                  <a:lnTo>
                    <a:pt x="1116" y="887"/>
                  </a:lnTo>
                  <a:lnTo>
                    <a:pt x="1116" y="885"/>
                  </a:lnTo>
                  <a:lnTo>
                    <a:pt x="1114" y="885"/>
                  </a:lnTo>
                  <a:lnTo>
                    <a:pt x="1116" y="885"/>
                  </a:lnTo>
                  <a:lnTo>
                    <a:pt x="1116" y="887"/>
                  </a:lnTo>
                  <a:close/>
                  <a:moveTo>
                    <a:pt x="1044" y="852"/>
                  </a:moveTo>
                  <a:lnTo>
                    <a:pt x="1053" y="849"/>
                  </a:lnTo>
                  <a:lnTo>
                    <a:pt x="1065" y="841"/>
                  </a:lnTo>
                  <a:lnTo>
                    <a:pt x="1081" y="831"/>
                  </a:lnTo>
                  <a:lnTo>
                    <a:pt x="1096" y="818"/>
                  </a:lnTo>
                  <a:lnTo>
                    <a:pt x="1114" y="803"/>
                  </a:lnTo>
                  <a:lnTo>
                    <a:pt x="1128" y="790"/>
                  </a:lnTo>
                  <a:lnTo>
                    <a:pt x="1143" y="778"/>
                  </a:lnTo>
                  <a:lnTo>
                    <a:pt x="1152" y="768"/>
                  </a:lnTo>
                  <a:lnTo>
                    <a:pt x="1152" y="767"/>
                  </a:lnTo>
                  <a:lnTo>
                    <a:pt x="1152" y="765"/>
                  </a:lnTo>
                  <a:lnTo>
                    <a:pt x="1152" y="764"/>
                  </a:lnTo>
                  <a:lnTo>
                    <a:pt x="1152" y="762"/>
                  </a:lnTo>
                  <a:lnTo>
                    <a:pt x="1152" y="761"/>
                  </a:lnTo>
                  <a:lnTo>
                    <a:pt x="1152" y="759"/>
                  </a:lnTo>
                  <a:lnTo>
                    <a:pt x="1152" y="757"/>
                  </a:lnTo>
                  <a:lnTo>
                    <a:pt x="1147" y="757"/>
                  </a:lnTo>
                  <a:lnTo>
                    <a:pt x="1141" y="757"/>
                  </a:lnTo>
                  <a:lnTo>
                    <a:pt x="1135" y="759"/>
                  </a:lnTo>
                  <a:lnTo>
                    <a:pt x="1128" y="762"/>
                  </a:lnTo>
                  <a:lnTo>
                    <a:pt x="1117" y="768"/>
                  </a:lnTo>
                  <a:lnTo>
                    <a:pt x="1102" y="778"/>
                  </a:lnTo>
                  <a:lnTo>
                    <a:pt x="1089" y="785"/>
                  </a:lnTo>
                  <a:lnTo>
                    <a:pt x="1078" y="792"/>
                  </a:lnTo>
                  <a:lnTo>
                    <a:pt x="1066" y="796"/>
                  </a:lnTo>
                  <a:lnTo>
                    <a:pt x="1056" y="799"/>
                  </a:lnTo>
                  <a:lnTo>
                    <a:pt x="1056" y="798"/>
                  </a:lnTo>
                  <a:lnTo>
                    <a:pt x="1056" y="796"/>
                  </a:lnTo>
                  <a:lnTo>
                    <a:pt x="1066" y="789"/>
                  </a:lnTo>
                  <a:lnTo>
                    <a:pt x="1081" y="778"/>
                  </a:lnTo>
                  <a:lnTo>
                    <a:pt x="1096" y="765"/>
                  </a:lnTo>
                  <a:lnTo>
                    <a:pt x="1114" y="753"/>
                  </a:lnTo>
                  <a:lnTo>
                    <a:pt x="1129" y="739"/>
                  </a:lnTo>
                  <a:lnTo>
                    <a:pt x="1143" y="726"/>
                  </a:lnTo>
                  <a:lnTo>
                    <a:pt x="1147" y="719"/>
                  </a:lnTo>
                  <a:lnTo>
                    <a:pt x="1152" y="715"/>
                  </a:lnTo>
                  <a:lnTo>
                    <a:pt x="1155" y="709"/>
                  </a:lnTo>
                  <a:lnTo>
                    <a:pt x="1155" y="705"/>
                  </a:lnTo>
                  <a:lnTo>
                    <a:pt x="1149" y="705"/>
                  </a:lnTo>
                  <a:lnTo>
                    <a:pt x="1140" y="705"/>
                  </a:lnTo>
                  <a:lnTo>
                    <a:pt x="1132" y="708"/>
                  </a:lnTo>
                  <a:lnTo>
                    <a:pt x="1125" y="709"/>
                  </a:lnTo>
                  <a:lnTo>
                    <a:pt x="1105" y="717"/>
                  </a:lnTo>
                  <a:lnTo>
                    <a:pt x="1086" y="725"/>
                  </a:lnTo>
                  <a:lnTo>
                    <a:pt x="1066" y="736"/>
                  </a:lnTo>
                  <a:lnTo>
                    <a:pt x="1050" y="748"/>
                  </a:lnTo>
                  <a:lnTo>
                    <a:pt x="1035" y="756"/>
                  </a:lnTo>
                  <a:lnTo>
                    <a:pt x="1023" y="765"/>
                  </a:lnTo>
                  <a:lnTo>
                    <a:pt x="1018" y="768"/>
                  </a:lnTo>
                  <a:lnTo>
                    <a:pt x="1014" y="770"/>
                  </a:lnTo>
                  <a:lnTo>
                    <a:pt x="1009" y="773"/>
                  </a:lnTo>
                  <a:lnTo>
                    <a:pt x="1006" y="776"/>
                  </a:lnTo>
                  <a:lnTo>
                    <a:pt x="1002" y="778"/>
                  </a:lnTo>
                  <a:lnTo>
                    <a:pt x="997" y="781"/>
                  </a:lnTo>
                  <a:lnTo>
                    <a:pt x="993" y="782"/>
                  </a:lnTo>
                  <a:lnTo>
                    <a:pt x="988" y="782"/>
                  </a:lnTo>
                  <a:lnTo>
                    <a:pt x="988" y="781"/>
                  </a:lnTo>
                  <a:lnTo>
                    <a:pt x="1021" y="753"/>
                  </a:lnTo>
                  <a:lnTo>
                    <a:pt x="1048" y="728"/>
                  </a:lnTo>
                  <a:lnTo>
                    <a:pt x="1068" y="711"/>
                  </a:lnTo>
                  <a:lnTo>
                    <a:pt x="1084" y="697"/>
                  </a:lnTo>
                  <a:lnTo>
                    <a:pt x="1096" y="684"/>
                  </a:lnTo>
                  <a:lnTo>
                    <a:pt x="1108" y="675"/>
                  </a:lnTo>
                  <a:lnTo>
                    <a:pt x="1122" y="666"/>
                  </a:lnTo>
                  <a:lnTo>
                    <a:pt x="1134" y="653"/>
                  </a:lnTo>
                  <a:lnTo>
                    <a:pt x="1135" y="652"/>
                  </a:lnTo>
                  <a:lnTo>
                    <a:pt x="1137" y="649"/>
                  </a:lnTo>
                  <a:lnTo>
                    <a:pt x="1138" y="647"/>
                  </a:lnTo>
                  <a:lnTo>
                    <a:pt x="1138" y="646"/>
                  </a:lnTo>
                  <a:lnTo>
                    <a:pt x="1140" y="644"/>
                  </a:lnTo>
                  <a:lnTo>
                    <a:pt x="1140" y="642"/>
                  </a:lnTo>
                  <a:lnTo>
                    <a:pt x="1140" y="641"/>
                  </a:lnTo>
                  <a:lnTo>
                    <a:pt x="1140" y="639"/>
                  </a:lnTo>
                  <a:lnTo>
                    <a:pt x="1132" y="641"/>
                  </a:lnTo>
                  <a:lnTo>
                    <a:pt x="1122" y="644"/>
                  </a:lnTo>
                  <a:lnTo>
                    <a:pt x="1107" y="650"/>
                  </a:lnTo>
                  <a:lnTo>
                    <a:pt x="1092" y="658"/>
                  </a:lnTo>
                  <a:lnTo>
                    <a:pt x="1078" y="667"/>
                  </a:lnTo>
                  <a:lnTo>
                    <a:pt x="1065" y="675"/>
                  </a:lnTo>
                  <a:lnTo>
                    <a:pt x="1056" y="681"/>
                  </a:lnTo>
                  <a:lnTo>
                    <a:pt x="1053" y="686"/>
                  </a:lnTo>
                  <a:lnTo>
                    <a:pt x="1042" y="689"/>
                  </a:lnTo>
                  <a:lnTo>
                    <a:pt x="1033" y="694"/>
                  </a:lnTo>
                  <a:lnTo>
                    <a:pt x="1023" y="698"/>
                  </a:lnTo>
                  <a:lnTo>
                    <a:pt x="1014" y="706"/>
                  </a:lnTo>
                  <a:lnTo>
                    <a:pt x="1003" y="712"/>
                  </a:lnTo>
                  <a:lnTo>
                    <a:pt x="994" y="719"/>
                  </a:lnTo>
                  <a:lnTo>
                    <a:pt x="984" y="725"/>
                  </a:lnTo>
                  <a:lnTo>
                    <a:pt x="976" y="729"/>
                  </a:lnTo>
                  <a:lnTo>
                    <a:pt x="978" y="726"/>
                  </a:lnTo>
                  <a:lnTo>
                    <a:pt x="981" y="720"/>
                  </a:lnTo>
                  <a:lnTo>
                    <a:pt x="984" y="717"/>
                  </a:lnTo>
                  <a:lnTo>
                    <a:pt x="988" y="712"/>
                  </a:lnTo>
                  <a:lnTo>
                    <a:pt x="994" y="708"/>
                  </a:lnTo>
                  <a:lnTo>
                    <a:pt x="1000" y="703"/>
                  </a:lnTo>
                  <a:lnTo>
                    <a:pt x="1005" y="698"/>
                  </a:lnTo>
                  <a:lnTo>
                    <a:pt x="1008" y="695"/>
                  </a:lnTo>
                  <a:lnTo>
                    <a:pt x="1008" y="694"/>
                  </a:lnTo>
                  <a:lnTo>
                    <a:pt x="1008" y="692"/>
                  </a:lnTo>
                  <a:lnTo>
                    <a:pt x="1008" y="691"/>
                  </a:lnTo>
                  <a:lnTo>
                    <a:pt x="1008" y="689"/>
                  </a:lnTo>
                  <a:lnTo>
                    <a:pt x="1000" y="692"/>
                  </a:lnTo>
                  <a:lnTo>
                    <a:pt x="991" y="700"/>
                  </a:lnTo>
                  <a:lnTo>
                    <a:pt x="982" y="709"/>
                  </a:lnTo>
                  <a:lnTo>
                    <a:pt x="973" y="719"/>
                  </a:lnTo>
                  <a:lnTo>
                    <a:pt x="963" y="729"/>
                  </a:lnTo>
                  <a:lnTo>
                    <a:pt x="955" y="740"/>
                  </a:lnTo>
                  <a:lnTo>
                    <a:pt x="949" y="750"/>
                  </a:lnTo>
                  <a:lnTo>
                    <a:pt x="946" y="754"/>
                  </a:lnTo>
                  <a:lnTo>
                    <a:pt x="948" y="754"/>
                  </a:lnTo>
                  <a:lnTo>
                    <a:pt x="949" y="754"/>
                  </a:lnTo>
                  <a:lnTo>
                    <a:pt x="951" y="754"/>
                  </a:lnTo>
                  <a:lnTo>
                    <a:pt x="952" y="754"/>
                  </a:lnTo>
                  <a:lnTo>
                    <a:pt x="955" y="754"/>
                  </a:lnTo>
                  <a:lnTo>
                    <a:pt x="957" y="754"/>
                  </a:lnTo>
                  <a:lnTo>
                    <a:pt x="958" y="754"/>
                  </a:lnTo>
                  <a:lnTo>
                    <a:pt x="960" y="754"/>
                  </a:lnTo>
                  <a:lnTo>
                    <a:pt x="966" y="753"/>
                  </a:lnTo>
                  <a:lnTo>
                    <a:pt x="978" y="745"/>
                  </a:lnTo>
                  <a:lnTo>
                    <a:pt x="991" y="734"/>
                  </a:lnTo>
                  <a:lnTo>
                    <a:pt x="1009" y="722"/>
                  </a:lnTo>
                  <a:lnTo>
                    <a:pt x="1024" y="712"/>
                  </a:lnTo>
                  <a:lnTo>
                    <a:pt x="1039" y="702"/>
                  </a:lnTo>
                  <a:lnTo>
                    <a:pt x="1048" y="692"/>
                  </a:lnTo>
                  <a:lnTo>
                    <a:pt x="1053" y="688"/>
                  </a:lnTo>
                  <a:lnTo>
                    <a:pt x="1059" y="684"/>
                  </a:lnTo>
                  <a:lnTo>
                    <a:pt x="1066" y="681"/>
                  </a:lnTo>
                  <a:lnTo>
                    <a:pt x="1072" y="678"/>
                  </a:lnTo>
                  <a:lnTo>
                    <a:pt x="1080" y="675"/>
                  </a:lnTo>
                  <a:lnTo>
                    <a:pt x="1087" y="670"/>
                  </a:lnTo>
                  <a:lnTo>
                    <a:pt x="1093" y="667"/>
                  </a:lnTo>
                  <a:lnTo>
                    <a:pt x="1101" y="664"/>
                  </a:lnTo>
                  <a:lnTo>
                    <a:pt x="1108" y="661"/>
                  </a:lnTo>
                  <a:lnTo>
                    <a:pt x="1104" y="667"/>
                  </a:lnTo>
                  <a:lnTo>
                    <a:pt x="1089" y="681"/>
                  </a:lnTo>
                  <a:lnTo>
                    <a:pt x="1065" y="703"/>
                  </a:lnTo>
                  <a:lnTo>
                    <a:pt x="1039" y="725"/>
                  </a:lnTo>
                  <a:lnTo>
                    <a:pt x="1012" y="750"/>
                  </a:lnTo>
                  <a:lnTo>
                    <a:pt x="987" y="771"/>
                  </a:lnTo>
                  <a:lnTo>
                    <a:pt x="967" y="790"/>
                  </a:lnTo>
                  <a:lnTo>
                    <a:pt x="955" y="799"/>
                  </a:lnTo>
                  <a:lnTo>
                    <a:pt x="955" y="801"/>
                  </a:lnTo>
                  <a:lnTo>
                    <a:pt x="955" y="803"/>
                  </a:lnTo>
                  <a:lnTo>
                    <a:pt x="955" y="804"/>
                  </a:lnTo>
                  <a:lnTo>
                    <a:pt x="955" y="806"/>
                  </a:lnTo>
                  <a:lnTo>
                    <a:pt x="955" y="807"/>
                  </a:lnTo>
                  <a:lnTo>
                    <a:pt x="967" y="806"/>
                  </a:lnTo>
                  <a:lnTo>
                    <a:pt x="981" y="803"/>
                  </a:lnTo>
                  <a:lnTo>
                    <a:pt x="991" y="796"/>
                  </a:lnTo>
                  <a:lnTo>
                    <a:pt x="1005" y="790"/>
                  </a:lnTo>
                  <a:lnTo>
                    <a:pt x="1017" y="782"/>
                  </a:lnTo>
                  <a:lnTo>
                    <a:pt x="1027" y="773"/>
                  </a:lnTo>
                  <a:lnTo>
                    <a:pt x="1039" y="764"/>
                  </a:lnTo>
                  <a:lnTo>
                    <a:pt x="1050" y="756"/>
                  </a:lnTo>
                  <a:lnTo>
                    <a:pt x="1057" y="753"/>
                  </a:lnTo>
                  <a:lnTo>
                    <a:pt x="1066" y="748"/>
                  </a:lnTo>
                  <a:lnTo>
                    <a:pt x="1077" y="742"/>
                  </a:lnTo>
                  <a:lnTo>
                    <a:pt x="1089" y="736"/>
                  </a:lnTo>
                  <a:lnTo>
                    <a:pt x="1098" y="729"/>
                  </a:lnTo>
                  <a:lnTo>
                    <a:pt x="1108" y="726"/>
                  </a:lnTo>
                  <a:lnTo>
                    <a:pt x="1119" y="723"/>
                  </a:lnTo>
                  <a:lnTo>
                    <a:pt x="1128" y="722"/>
                  </a:lnTo>
                  <a:lnTo>
                    <a:pt x="1116" y="734"/>
                  </a:lnTo>
                  <a:lnTo>
                    <a:pt x="1096" y="750"/>
                  </a:lnTo>
                  <a:lnTo>
                    <a:pt x="1074" y="768"/>
                  </a:lnTo>
                  <a:lnTo>
                    <a:pt x="1051" y="790"/>
                  </a:lnTo>
                  <a:lnTo>
                    <a:pt x="1027" y="809"/>
                  </a:lnTo>
                  <a:lnTo>
                    <a:pt x="1008" y="827"/>
                  </a:lnTo>
                  <a:lnTo>
                    <a:pt x="993" y="840"/>
                  </a:lnTo>
                  <a:lnTo>
                    <a:pt x="987" y="849"/>
                  </a:lnTo>
                  <a:lnTo>
                    <a:pt x="988" y="849"/>
                  </a:lnTo>
                  <a:lnTo>
                    <a:pt x="990" y="851"/>
                  </a:lnTo>
                  <a:lnTo>
                    <a:pt x="991" y="851"/>
                  </a:lnTo>
                  <a:lnTo>
                    <a:pt x="993" y="851"/>
                  </a:lnTo>
                  <a:lnTo>
                    <a:pt x="994" y="851"/>
                  </a:lnTo>
                  <a:lnTo>
                    <a:pt x="996" y="851"/>
                  </a:lnTo>
                  <a:lnTo>
                    <a:pt x="999" y="851"/>
                  </a:lnTo>
                  <a:lnTo>
                    <a:pt x="1002" y="849"/>
                  </a:lnTo>
                  <a:lnTo>
                    <a:pt x="1017" y="840"/>
                  </a:lnTo>
                  <a:lnTo>
                    <a:pt x="1030" y="829"/>
                  </a:lnTo>
                  <a:lnTo>
                    <a:pt x="1045" y="821"/>
                  </a:lnTo>
                  <a:lnTo>
                    <a:pt x="1059" y="812"/>
                  </a:lnTo>
                  <a:lnTo>
                    <a:pt x="1074" y="803"/>
                  </a:lnTo>
                  <a:lnTo>
                    <a:pt x="1089" y="795"/>
                  </a:lnTo>
                  <a:lnTo>
                    <a:pt x="1104" y="787"/>
                  </a:lnTo>
                  <a:lnTo>
                    <a:pt x="1120" y="781"/>
                  </a:lnTo>
                  <a:lnTo>
                    <a:pt x="1122" y="781"/>
                  </a:lnTo>
                  <a:lnTo>
                    <a:pt x="1122" y="782"/>
                  </a:lnTo>
                  <a:lnTo>
                    <a:pt x="1123" y="782"/>
                  </a:lnTo>
                  <a:lnTo>
                    <a:pt x="1113" y="792"/>
                  </a:lnTo>
                  <a:lnTo>
                    <a:pt x="1102" y="798"/>
                  </a:lnTo>
                  <a:lnTo>
                    <a:pt x="1089" y="807"/>
                  </a:lnTo>
                  <a:lnTo>
                    <a:pt x="1078" y="817"/>
                  </a:lnTo>
                  <a:lnTo>
                    <a:pt x="1066" y="826"/>
                  </a:lnTo>
                  <a:lnTo>
                    <a:pt x="1056" y="832"/>
                  </a:lnTo>
                  <a:lnTo>
                    <a:pt x="1048" y="841"/>
                  </a:lnTo>
                  <a:lnTo>
                    <a:pt x="1042" y="851"/>
                  </a:lnTo>
                  <a:lnTo>
                    <a:pt x="1042" y="852"/>
                  </a:lnTo>
                  <a:lnTo>
                    <a:pt x="1044" y="852"/>
                  </a:lnTo>
                  <a:close/>
                  <a:moveTo>
                    <a:pt x="1138" y="834"/>
                  </a:moveTo>
                  <a:lnTo>
                    <a:pt x="1138" y="834"/>
                  </a:lnTo>
                  <a:lnTo>
                    <a:pt x="1138" y="832"/>
                  </a:lnTo>
                  <a:lnTo>
                    <a:pt x="1137" y="832"/>
                  </a:lnTo>
                  <a:lnTo>
                    <a:pt x="1138" y="832"/>
                  </a:lnTo>
                  <a:lnTo>
                    <a:pt x="1138" y="834"/>
                  </a:lnTo>
                  <a:close/>
                  <a:moveTo>
                    <a:pt x="1051" y="803"/>
                  </a:moveTo>
                  <a:lnTo>
                    <a:pt x="1051" y="801"/>
                  </a:lnTo>
                  <a:lnTo>
                    <a:pt x="1053" y="801"/>
                  </a:lnTo>
                  <a:lnTo>
                    <a:pt x="1053" y="799"/>
                  </a:lnTo>
                  <a:lnTo>
                    <a:pt x="1053" y="801"/>
                  </a:lnTo>
                  <a:lnTo>
                    <a:pt x="1051" y="801"/>
                  </a:lnTo>
                  <a:lnTo>
                    <a:pt x="1051" y="803"/>
                  </a:lnTo>
                  <a:close/>
                  <a:moveTo>
                    <a:pt x="981" y="790"/>
                  </a:moveTo>
                  <a:lnTo>
                    <a:pt x="981" y="790"/>
                  </a:lnTo>
                  <a:lnTo>
                    <a:pt x="981" y="792"/>
                  </a:lnTo>
                  <a:lnTo>
                    <a:pt x="982" y="792"/>
                  </a:lnTo>
                  <a:lnTo>
                    <a:pt x="982" y="790"/>
                  </a:lnTo>
                  <a:lnTo>
                    <a:pt x="984" y="790"/>
                  </a:lnTo>
                  <a:lnTo>
                    <a:pt x="985" y="789"/>
                  </a:lnTo>
                  <a:lnTo>
                    <a:pt x="985" y="787"/>
                  </a:lnTo>
                  <a:lnTo>
                    <a:pt x="987" y="787"/>
                  </a:lnTo>
                  <a:lnTo>
                    <a:pt x="988" y="785"/>
                  </a:lnTo>
                  <a:lnTo>
                    <a:pt x="988" y="784"/>
                  </a:lnTo>
                  <a:lnTo>
                    <a:pt x="987" y="784"/>
                  </a:lnTo>
                  <a:lnTo>
                    <a:pt x="987" y="782"/>
                  </a:lnTo>
                  <a:lnTo>
                    <a:pt x="985" y="784"/>
                  </a:lnTo>
                  <a:lnTo>
                    <a:pt x="985" y="785"/>
                  </a:lnTo>
                  <a:lnTo>
                    <a:pt x="984" y="785"/>
                  </a:lnTo>
                  <a:lnTo>
                    <a:pt x="982" y="787"/>
                  </a:lnTo>
                  <a:lnTo>
                    <a:pt x="982" y="789"/>
                  </a:lnTo>
                  <a:lnTo>
                    <a:pt x="981" y="789"/>
                  </a:lnTo>
                  <a:lnTo>
                    <a:pt x="981" y="790"/>
                  </a:lnTo>
                  <a:close/>
                  <a:moveTo>
                    <a:pt x="1125" y="781"/>
                  </a:moveTo>
                  <a:lnTo>
                    <a:pt x="1125" y="781"/>
                  </a:lnTo>
                  <a:lnTo>
                    <a:pt x="1123" y="781"/>
                  </a:lnTo>
                  <a:lnTo>
                    <a:pt x="1123" y="779"/>
                  </a:lnTo>
                  <a:lnTo>
                    <a:pt x="1123" y="781"/>
                  </a:lnTo>
                  <a:lnTo>
                    <a:pt x="1125" y="781"/>
                  </a:lnTo>
                  <a:close/>
                  <a:moveTo>
                    <a:pt x="741" y="688"/>
                  </a:moveTo>
                  <a:lnTo>
                    <a:pt x="753" y="686"/>
                  </a:lnTo>
                  <a:lnTo>
                    <a:pt x="765" y="684"/>
                  </a:lnTo>
                  <a:lnTo>
                    <a:pt x="772" y="681"/>
                  </a:lnTo>
                  <a:lnTo>
                    <a:pt x="781" y="678"/>
                  </a:lnTo>
                  <a:lnTo>
                    <a:pt x="790" y="672"/>
                  </a:lnTo>
                  <a:lnTo>
                    <a:pt x="796" y="666"/>
                  </a:lnTo>
                  <a:lnTo>
                    <a:pt x="804" y="658"/>
                  </a:lnTo>
                  <a:lnTo>
                    <a:pt x="808" y="650"/>
                  </a:lnTo>
                  <a:lnTo>
                    <a:pt x="819" y="635"/>
                  </a:lnTo>
                  <a:lnTo>
                    <a:pt x="828" y="614"/>
                  </a:lnTo>
                  <a:lnTo>
                    <a:pt x="835" y="596"/>
                  </a:lnTo>
                  <a:lnTo>
                    <a:pt x="841" y="576"/>
                  </a:lnTo>
                  <a:lnTo>
                    <a:pt x="844" y="558"/>
                  </a:lnTo>
                  <a:lnTo>
                    <a:pt x="846" y="540"/>
                  </a:lnTo>
                  <a:lnTo>
                    <a:pt x="846" y="521"/>
                  </a:lnTo>
                  <a:lnTo>
                    <a:pt x="844" y="504"/>
                  </a:lnTo>
                  <a:lnTo>
                    <a:pt x="841" y="495"/>
                  </a:lnTo>
                  <a:lnTo>
                    <a:pt x="840" y="489"/>
                  </a:lnTo>
                  <a:lnTo>
                    <a:pt x="835" y="481"/>
                  </a:lnTo>
                  <a:lnTo>
                    <a:pt x="831" y="475"/>
                  </a:lnTo>
                  <a:lnTo>
                    <a:pt x="825" y="467"/>
                  </a:lnTo>
                  <a:lnTo>
                    <a:pt x="819" y="462"/>
                  </a:lnTo>
                  <a:lnTo>
                    <a:pt x="811" y="457"/>
                  </a:lnTo>
                  <a:lnTo>
                    <a:pt x="804" y="456"/>
                  </a:lnTo>
                  <a:lnTo>
                    <a:pt x="795" y="456"/>
                  </a:lnTo>
                  <a:lnTo>
                    <a:pt x="786" y="456"/>
                  </a:lnTo>
                  <a:lnTo>
                    <a:pt x="777" y="456"/>
                  </a:lnTo>
                  <a:lnTo>
                    <a:pt x="769" y="459"/>
                  </a:lnTo>
                  <a:lnTo>
                    <a:pt x="760" y="462"/>
                  </a:lnTo>
                  <a:lnTo>
                    <a:pt x="753" y="467"/>
                  </a:lnTo>
                  <a:lnTo>
                    <a:pt x="747" y="473"/>
                  </a:lnTo>
                  <a:lnTo>
                    <a:pt x="741" y="479"/>
                  </a:lnTo>
                  <a:lnTo>
                    <a:pt x="735" y="478"/>
                  </a:lnTo>
                  <a:lnTo>
                    <a:pt x="730" y="473"/>
                  </a:lnTo>
                  <a:lnTo>
                    <a:pt x="726" y="470"/>
                  </a:lnTo>
                  <a:lnTo>
                    <a:pt x="723" y="467"/>
                  </a:lnTo>
                  <a:lnTo>
                    <a:pt x="718" y="464"/>
                  </a:lnTo>
                  <a:lnTo>
                    <a:pt x="715" y="462"/>
                  </a:lnTo>
                  <a:lnTo>
                    <a:pt x="709" y="461"/>
                  </a:lnTo>
                  <a:lnTo>
                    <a:pt x="702" y="461"/>
                  </a:lnTo>
                  <a:lnTo>
                    <a:pt x="693" y="470"/>
                  </a:lnTo>
                  <a:lnTo>
                    <a:pt x="682" y="479"/>
                  </a:lnTo>
                  <a:lnTo>
                    <a:pt x="675" y="489"/>
                  </a:lnTo>
                  <a:lnTo>
                    <a:pt x="666" y="498"/>
                  </a:lnTo>
                  <a:lnTo>
                    <a:pt x="661" y="507"/>
                  </a:lnTo>
                  <a:lnTo>
                    <a:pt x="655" y="520"/>
                  </a:lnTo>
                  <a:lnTo>
                    <a:pt x="651" y="530"/>
                  </a:lnTo>
                  <a:lnTo>
                    <a:pt x="646" y="541"/>
                  </a:lnTo>
                  <a:lnTo>
                    <a:pt x="643" y="554"/>
                  </a:lnTo>
                  <a:lnTo>
                    <a:pt x="642" y="566"/>
                  </a:lnTo>
                  <a:lnTo>
                    <a:pt x="640" y="579"/>
                  </a:lnTo>
                  <a:lnTo>
                    <a:pt x="640" y="591"/>
                  </a:lnTo>
                  <a:lnTo>
                    <a:pt x="642" y="605"/>
                  </a:lnTo>
                  <a:lnTo>
                    <a:pt x="643" y="618"/>
                  </a:lnTo>
                  <a:lnTo>
                    <a:pt x="646" y="632"/>
                  </a:lnTo>
                  <a:lnTo>
                    <a:pt x="649" y="644"/>
                  </a:lnTo>
                  <a:lnTo>
                    <a:pt x="658" y="652"/>
                  </a:lnTo>
                  <a:lnTo>
                    <a:pt x="663" y="656"/>
                  </a:lnTo>
                  <a:lnTo>
                    <a:pt x="669" y="658"/>
                  </a:lnTo>
                  <a:lnTo>
                    <a:pt x="673" y="658"/>
                  </a:lnTo>
                  <a:lnTo>
                    <a:pt x="679" y="656"/>
                  </a:lnTo>
                  <a:lnTo>
                    <a:pt x="687" y="656"/>
                  </a:lnTo>
                  <a:lnTo>
                    <a:pt x="696" y="655"/>
                  </a:lnTo>
                  <a:lnTo>
                    <a:pt x="706" y="656"/>
                  </a:lnTo>
                  <a:lnTo>
                    <a:pt x="709" y="663"/>
                  </a:lnTo>
                  <a:lnTo>
                    <a:pt x="712" y="667"/>
                  </a:lnTo>
                  <a:lnTo>
                    <a:pt x="715" y="672"/>
                  </a:lnTo>
                  <a:lnTo>
                    <a:pt x="718" y="677"/>
                  </a:lnTo>
                  <a:lnTo>
                    <a:pt x="723" y="680"/>
                  </a:lnTo>
                  <a:lnTo>
                    <a:pt x="729" y="681"/>
                  </a:lnTo>
                  <a:lnTo>
                    <a:pt x="735" y="684"/>
                  </a:lnTo>
                  <a:lnTo>
                    <a:pt x="741" y="688"/>
                  </a:lnTo>
                  <a:close/>
                  <a:moveTo>
                    <a:pt x="1024" y="680"/>
                  </a:moveTo>
                  <a:lnTo>
                    <a:pt x="1027" y="680"/>
                  </a:lnTo>
                  <a:lnTo>
                    <a:pt x="1030" y="678"/>
                  </a:lnTo>
                  <a:lnTo>
                    <a:pt x="1033" y="675"/>
                  </a:lnTo>
                  <a:lnTo>
                    <a:pt x="1038" y="674"/>
                  </a:lnTo>
                  <a:lnTo>
                    <a:pt x="1041" y="669"/>
                  </a:lnTo>
                  <a:lnTo>
                    <a:pt x="1042" y="666"/>
                  </a:lnTo>
                  <a:lnTo>
                    <a:pt x="1044" y="663"/>
                  </a:lnTo>
                  <a:lnTo>
                    <a:pt x="1045" y="660"/>
                  </a:lnTo>
                  <a:lnTo>
                    <a:pt x="1042" y="660"/>
                  </a:lnTo>
                  <a:lnTo>
                    <a:pt x="1039" y="660"/>
                  </a:lnTo>
                  <a:lnTo>
                    <a:pt x="1036" y="663"/>
                  </a:lnTo>
                  <a:lnTo>
                    <a:pt x="1033" y="664"/>
                  </a:lnTo>
                  <a:lnTo>
                    <a:pt x="1030" y="667"/>
                  </a:lnTo>
                  <a:lnTo>
                    <a:pt x="1027" y="670"/>
                  </a:lnTo>
                  <a:lnTo>
                    <a:pt x="1026" y="674"/>
                  </a:lnTo>
                  <a:lnTo>
                    <a:pt x="1023" y="675"/>
                  </a:lnTo>
                  <a:lnTo>
                    <a:pt x="1023" y="677"/>
                  </a:lnTo>
                  <a:lnTo>
                    <a:pt x="1023" y="678"/>
                  </a:lnTo>
                  <a:lnTo>
                    <a:pt x="1024" y="680"/>
                  </a:lnTo>
                  <a:close/>
                  <a:moveTo>
                    <a:pt x="745" y="675"/>
                  </a:moveTo>
                  <a:lnTo>
                    <a:pt x="750" y="675"/>
                  </a:lnTo>
                  <a:lnTo>
                    <a:pt x="754" y="674"/>
                  </a:lnTo>
                  <a:lnTo>
                    <a:pt x="757" y="674"/>
                  </a:lnTo>
                  <a:lnTo>
                    <a:pt x="762" y="672"/>
                  </a:lnTo>
                  <a:lnTo>
                    <a:pt x="765" y="670"/>
                  </a:lnTo>
                  <a:lnTo>
                    <a:pt x="769" y="669"/>
                  </a:lnTo>
                  <a:lnTo>
                    <a:pt x="772" y="667"/>
                  </a:lnTo>
                  <a:lnTo>
                    <a:pt x="777" y="664"/>
                  </a:lnTo>
                  <a:lnTo>
                    <a:pt x="772" y="658"/>
                  </a:lnTo>
                  <a:lnTo>
                    <a:pt x="771" y="650"/>
                  </a:lnTo>
                  <a:lnTo>
                    <a:pt x="769" y="644"/>
                  </a:lnTo>
                  <a:lnTo>
                    <a:pt x="769" y="638"/>
                  </a:lnTo>
                  <a:lnTo>
                    <a:pt x="769" y="632"/>
                  </a:lnTo>
                  <a:lnTo>
                    <a:pt x="772" y="624"/>
                  </a:lnTo>
                  <a:lnTo>
                    <a:pt x="775" y="618"/>
                  </a:lnTo>
                  <a:lnTo>
                    <a:pt x="778" y="611"/>
                  </a:lnTo>
                  <a:lnTo>
                    <a:pt x="783" y="605"/>
                  </a:lnTo>
                  <a:lnTo>
                    <a:pt x="787" y="602"/>
                  </a:lnTo>
                  <a:lnTo>
                    <a:pt x="792" y="599"/>
                  </a:lnTo>
                  <a:lnTo>
                    <a:pt x="798" y="596"/>
                  </a:lnTo>
                  <a:lnTo>
                    <a:pt x="802" y="594"/>
                  </a:lnTo>
                  <a:lnTo>
                    <a:pt x="807" y="594"/>
                  </a:lnTo>
                  <a:lnTo>
                    <a:pt x="813" y="597"/>
                  </a:lnTo>
                  <a:lnTo>
                    <a:pt x="819" y="600"/>
                  </a:lnTo>
                  <a:lnTo>
                    <a:pt x="822" y="590"/>
                  </a:lnTo>
                  <a:lnTo>
                    <a:pt x="826" y="580"/>
                  </a:lnTo>
                  <a:lnTo>
                    <a:pt x="829" y="571"/>
                  </a:lnTo>
                  <a:lnTo>
                    <a:pt x="832" y="563"/>
                  </a:lnTo>
                  <a:lnTo>
                    <a:pt x="834" y="555"/>
                  </a:lnTo>
                  <a:lnTo>
                    <a:pt x="835" y="544"/>
                  </a:lnTo>
                  <a:lnTo>
                    <a:pt x="835" y="535"/>
                  </a:lnTo>
                  <a:lnTo>
                    <a:pt x="835" y="526"/>
                  </a:lnTo>
                  <a:lnTo>
                    <a:pt x="832" y="512"/>
                  </a:lnTo>
                  <a:lnTo>
                    <a:pt x="828" y="499"/>
                  </a:lnTo>
                  <a:lnTo>
                    <a:pt x="822" y="490"/>
                  </a:lnTo>
                  <a:lnTo>
                    <a:pt x="817" y="481"/>
                  </a:lnTo>
                  <a:lnTo>
                    <a:pt x="811" y="475"/>
                  </a:lnTo>
                  <a:lnTo>
                    <a:pt x="805" y="470"/>
                  </a:lnTo>
                  <a:lnTo>
                    <a:pt x="799" y="467"/>
                  </a:lnTo>
                  <a:lnTo>
                    <a:pt x="793" y="465"/>
                  </a:lnTo>
                  <a:lnTo>
                    <a:pt x="786" y="467"/>
                  </a:lnTo>
                  <a:lnTo>
                    <a:pt x="780" y="468"/>
                  </a:lnTo>
                  <a:lnTo>
                    <a:pt x="772" y="471"/>
                  </a:lnTo>
                  <a:lnTo>
                    <a:pt x="766" y="478"/>
                  </a:lnTo>
                  <a:lnTo>
                    <a:pt x="759" y="484"/>
                  </a:lnTo>
                  <a:lnTo>
                    <a:pt x="751" y="492"/>
                  </a:lnTo>
                  <a:lnTo>
                    <a:pt x="744" y="499"/>
                  </a:lnTo>
                  <a:lnTo>
                    <a:pt x="738" y="510"/>
                  </a:lnTo>
                  <a:lnTo>
                    <a:pt x="732" y="529"/>
                  </a:lnTo>
                  <a:lnTo>
                    <a:pt x="723" y="549"/>
                  </a:lnTo>
                  <a:lnTo>
                    <a:pt x="715" y="574"/>
                  </a:lnTo>
                  <a:lnTo>
                    <a:pt x="711" y="602"/>
                  </a:lnTo>
                  <a:lnTo>
                    <a:pt x="709" y="614"/>
                  </a:lnTo>
                  <a:lnTo>
                    <a:pt x="711" y="627"/>
                  </a:lnTo>
                  <a:lnTo>
                    <a:pt x="712" y="639"/>
                  </a:lnTo>
                  <a:lnTo>
                    <a:pt x="715" y="649"/>
                  </a:lnTo>
                  <a:lnTo>
                    <a:pt x="720" y="658"/>
                  </a:lnTo>
                  <a:lnTo>
                    <a:pt x="727" y="666"/>
                  </a:lnTo>
                  <a:lnTo>
                    <a:pt x="735" y="672"/>
                  </a:lnTo>
                  <a:lnTo>
                    <a:pt x="745" y="675"/>
                  </a:lnTo>
                  <a:close/>
                  <a:moveTo>
                    <a:pt x="978" y="672"/>
                  </a:moveTo>
                  <a:lnTo>
                    <a:pt x="984" y="670"/>
                  </a:lnTo>
                  <a:lnTo>
                    <a:pt x="993" y="667"/>
                  </a:lnTo>
                  <a:lnTo>
                    <a:pt x="1000" y="664"/>
                  </a:lnTo>
                  <a:lnTo>
                    <a:pt x="1009" y="660"/>
                  </a:lnTo>
                  <a:lnTo>
                    <a:pt x="1024" y="647"/>
                  </a:lnTo>
                  <a:lnTo>
                    <a:pt x="1041" y="636"/>
                  </a:lnTo>
                  <a:lnTo>
                    <a:pt x="1054" y="624"/>
                  </a:lnTo>
                  <a:lnTo>
                    <a:pt x="1071" y="611"/>
                  </a:lnTo>
                  <a:lnTo>
                    <a:pt x="1080" y="607"/>
                  </a:lnTo>
                  <a:lnTo>
                    <a:pt x="1087" y="605"/>
                  </a:lnTo>
                  <a:lnTo>
                    <a:pt x="1095" y="602"/>
                  </a:lnTo>
                  <a:lnTo>
                    <a:pt x="1102" y="599"/>
                  </a:lnTo>
                  <a:lnTo>
                    <a:pt x="1102" y="604"/>
                  </a:lnTo>
                  <a:lnTo>
                    <a:pt x="1099" y="605"/>
                  </a:lnTo>
                  <a:lnTo>
                    <a:pt x="1095" y="610"/>
                  </a:lnTo>
                  <a:lnTo>
                    <a:pt x="1092" y="613"/>
                  </a:lnTo>
                  <a:lnTo>
                    <a:pt x="1087" y="618"/>
                  </a:lnTo>
                  <a:lnTo>
                    <a:pt x="1084" y="622"/>
                  </a:lnTo>
                  <a:lnTo>
                    <a:pt x="1080" y="627"/>
                  </a:lnTo>
                  <a:lnTo>
                    <a:pt x="1078" y="633"/>
                  </a:lnTo>
                  <a:lnTo>
                    <a:pt x="1077" y="633"/>
                  </a:lnTo>
                  <a:lnTo>
                    <a:pt x="1075" y="633"/>
                  </a:lnTo>
                  <a:lnTo>
                    <a:pt x="1074" y="635"/>
                  </a:lnTo>
                  <a:lnTo>
                    <a:pt x="1072" y="635"/>
                  </a:lnTo>
                  <a:lnTo>
                    <a:pt x="1071" y="635"/>
                  </a:lnTo>
                  <a:lnTo>
                    <a:pt x="1071" y="636"/>
                  </a:lnTo>
                  <a:lnTo>
                    <a:pt x="1071" y="638"/>
                  </a:lnTo>
                  <a:lnTo>
                    <a:pt x="1069" y="639"/>
                  </a:lnTo>
                  <a:lnTo>
                    <a:pt x="1069" y="641"/>
                  </a:lnTo>
                  <a:lnTo>
                    <a:pt x="1066" y="641"/>
                  </a:lnTo>
                  <a:lnTo>
                    <a:pt x="1065" y="641"/>
                  </a:lnTo>
                  <a:lnTo>
                    <a:pt x="1063" y="641"/>
                  </a:lnTo>
                  <a:lnTo>
                    <a:pt x="1062" y="642"/>
                  </a:lnTo>
                  <a:lnTo>
                    <a:pt x="1060" y="642"/>
                  </a:lnTo>
                  <a:lnTo>
                    <a:pt x="1059" y="642"/>
                  </a:lnTo>
                  <a:lnTo>
                    <a:pt x="1057" y="646"/>
                  </a:lnTo>
                  <a:lnTo>
                    <a:pt x="1057" y="647"/>
                  </a:lnTo>
                  <a:lnTo>
                    <a:pt x="1059" y="647"/>
                  </a:lnTo>
                  <a:lnTo>
                    <a:pt x="1060" y="647"/>
                  </a:lnTo>
                  <a:lnTo>
                    <a:pt x="1063" y="646"/>
                  </a:lnTo>
                  <a:lnTo>
                    <a:pt x="1066" y="644"/>
                  </a:lnTo>
                  <a:lnTo>
                    <a:pt x="1071" y="642"/>
                  </a:lnTo>
                  <a:lnTo>
                    <a:pt x="1074" y="642"/>
                  </a:lnTo>
                  <a:lnTo>
                    <a:pt x="1075" y="639"/>
                  </a:lnTo>
                  <a:lnTo>
                    <a:pt x="1078" y="638"/>
                  </a:lnTo>
                  <a:lnTo>
                    <a:pt x="1078" y="635"/>
                  </a:lnTo>
                  <a:lnTo>
                    <a:pt x="1086" y="632"/>
                  </a:lnTo>
                  <a:lnTo>
                    <a:pt x="1092" y="627"/>
                  </a:lnTo>
                  <a:lnTo>
                    <a:pt x="1099" y="621"/>
                  </a:lnTo>
                  <a:lnTo>
                    <a:pt x="1107" y="613"/>
                  </a:lnTo>
                  <a:lnTo>
                    <a:pt x="1113" y="605"/>
                  </a:lnTo>
                  <a:lnTo>
                    <a:pt x="1117" y="599"/>
                  </a:lnTo>
                  <a:lnTo>
                    <a:pt x="1122" y="590"/>
                  </a:lnTo>
                  <a:lnTo>
                    <a:pt x="1122" y="582"/>
                  </a:lnTo>
                  <a:lnTo>
                    <a:pt x="1117" y="582"/>
                  </a:lnTo>
                  <a:lnTo>
                    <a:pt x="1111" y="583"/>
                  </a:lnTo>
                  <a:lnTo>
                    <a:pt x="1105" y="585"/>
                  </a:lnTo>
                  <a:lnTo>
                    <a:pt x="1099" y="588"/>
                  </a:lnTo>
                  <a:lnTo>
                    <a:pt x="1086" y="596"/>
                  </a:lnTo>
                  <a:lnTo>
                    <a:pt x="1071" y="605"/>
                  </a:lnTo>
                  <a:lnTo>
                    <a:pt x="1056" y="614"/>
                  </a:lnTo>
                  <a:lnTo>
                    <a:pt x="1042" y="625"/>
                  </a:lnTo>
                  <a:lnTo>
                    <a:pt x="1029" y="635"/>
                  </a:lnTo>
                  <a:lnTo>
                    <a:pt x="1018" y="641"/>
                  </a:lnTo>
                  <a:lnTo>
                    <a:pt x="1017" y="641"/>
                  </a:lnTo>
                  <a:lnTo>
                    <a:pt x="1017" y="639"/>
                  </a:lnTo>
                  <a:lnTo>
                    <a:pt x="1015" y="638"/>
                  </a:lnTo>
                  <a:lnTo>
                    <a:pt x="1023" y="627"/>
                  </a:lnTo>
                  <a:lnTo>
                    <a:pt x="1033" y="616"/>
                  </a:lnTo>
                  <a:lnTo>
                    <a:pt x="1044" y="607"/>
                  </a:lnTo>
                  <a:lnTo>
                    <a:pt x="1053" y="597"/>
                  </a:lnTo>
                  <a:lnTo>
                    <a:pt x="1063" y="588"/>
                  </a:lnTo>
                  <a:lnTo>
                    <a:pt x="1072" y="579"/>
                  </a:lnTo>
                  <a:lnTo>
                    <a:pt x="1083" y="568"/>
                  </a:lnTo>
                  <a:lnTo>
                    <a:pt x="1092" y="558"/>
                  </a:lnTo>
                  <a:lnTo>
                    <a:pt x="1092" y="557"/>
                  </a:lnTo>
                  <a:lnTo>
                    <a:pt x="1092" y="555"/>
                  </a:lnTo>
                  <a:lnTo>
                    <a:pt x="1092" y="554"/>
                  </a:lnTo>
                  <a:lnTo>
                    <a:pt x="1092" y="552"/>
                  </a:lnTo>
                  <a:lnTo>
                    <a:pt x="1092" y="551"/>
                  </a:lnTo>
                  <a:lnTo>
                    <a:pt x="1092" y="549"/>
                  </a:lnTo>
                  <a:lnTo>
                    <a:pt x="1092" y="548"/>
                  </a:lnTo>
                  <a:lnTo>
                    <a:pt x="1083" y="548"/>
                  </a:lnTo>
                  <a:lnTo>
                    <a:pt x="1071" y="551"/>
                  </a:lnTo>
                  <a:lnTo>
                    <a:pt x="1060" y="554"/>
                  </a:lnTo>
                  <a:lnTo>
                    <a:pt x="1051" y="560"/>
                  </a:lnTo>
                  <a:lnTo>
                    <a:pt x="1041" y="565"/>
                  </a:lnTo>
                  <a:lnTo>
                    <a:pt x="1032" y="568"/>
                  </a:lnTo>
                  <a:lnTo>
                    <a:pt x="1023" y="571"/>
                  </a:lnTo>
                  <a:lnTo>
                    <a:pt x="1017" y="572"/>
                  </a:lnTo>
                  <a:lnTo>
                    <a:pt x="1020" y="568"/>
                  </a:lnTo>
                  <a:lnTo>
                    <a:pt x="1026" y="562"/>
                  </a:lnTo>
                  <a:lnTo>
                    <a:pt x="1033" y="554"/>
                  </a:lnTo>
                  <a:lnTo>
                    <a:pt x="1039" y="546"/>
                  </a:lnTo>
                  <a:lnTo>
                    <a:pt x="1045" y="540"/>
                  </a:lnTo>
                  <a:lnTo>
                    <a:pt x="1050" y="532"/>
                  </a:lnTo>
                  <a:lnTo>
                    <a:pt x="1053" y="526"/>
                  </a:lnTo>
                  <a:lnTo>
                    <a:pt x="1053" y="518"/>
                  </a:lnTo>
                  <a:lnTo>
                    <a:pt x="1045" y="520"/>
                  </a:lnTo>
                  <a:lnTo>
                    <a:pt x="1036" y="523"/>
                  </a:lnTo>
                  <a:lnTo>
                    <a:pt x="1026" y="526"/>
                  </a:lnTo>
                  <a:lnTo>
                    <a:pt x="1017" y="529"/>
                  </a:lnTo>
                  <a:lnTo>
                    <a:pt x="1008" y="530"/>
                  </a:lnTo>
                  <a:lnTo>
                    <a:pt x="999" y="534"/>
                  </a:lnTo>
                  <a:lnTo>
                    <a:pt x="993" y="537"/>
                  </a:lnTo>
                  <a:lnTo>
                    <a:pt x="988" y="540"/>
                  </a:lnTo>
                  <a:lnTo>
                    <a:pt x="988" y="541"/>
                  </a:lnTo>
                  <a:lnTo>
                    <a:pt x="988" y="543"/>
                  </a:lnTo>
                  <a:lnTo>
                    <a:pt x="988" y="544"/>
                  </a:lnTo>
                  <a:lnTo>
                    <a:pt x="988" y="546"/>
                  </a:lnTo>
                  <a:lnTo>
                    <a:pt x="988" y="548"/>
                  </a:lnTo>
                  <a:lnTo>
                    <a:pt x="993" y="548"/>
                  </a:lnTo>
                  <a:lnTo>
                    <a:pt x="999" y="548"/>
                  </a:lnTo>
                  <a:lnTo>
                    <a:pt x="1003" y="546"/>
                  </a:lnTo>
                  <a:lnTo>
                    <a:pt x="1009" y="544"/>
                  </a:lnTo>
                  <a:lnTo>
                    <a:pt x="1015" y="543"/>
                  </a:lnTo>
                  <a:lnTo>
                    <a:pt x="1018" y="541"/>
                  </a:lnTo>
                  <a:lnTo>
                    <a:pt x="1024" y="540"/>
                  </a:lnTo>
                  <a:lnTo>
                    <a:pt x="1029" y="540"/>
                  </a:lnTo>
                  <a:lnTo>
                    <a:pt x="1027" y="544"/>
                  </a:lnTo>
                  <a:lnTo>
                    <a:pt x="1023" y="551"/>
                  </a:lnTo>
                  <a:lnTo>
                    <a:pt x="1018" y="555"/>
                  </a:lnTo>
                  <a:lnTo>
                    <a:pt x="1014" y="562"/>
                  </a:lnTo>
                  <a:lnTo>
                    <a:pt x="1008" y="568"/>
                  </a:lnTo>
                  <a:lnTo>
                    <a:pt x="1003" y="572"/>
                  </a:lnTo>
                  <a:lnTo>
                    <a:pt x="997" y="577"/>
                  </a:lnTo>
                  <a:lnTo>
                    <a:pt x="993" y="582"/>
                  </a:lnTo>
                  <a:lnTo>
                    <a:pt x="993" y="583"/>
                  </a:lnTo>
                  <a:lnTo>
                    <a:pt x="993" y="585"/>
                  </a:lnTo>
                  <a:lnTo>
                    <a:pt x="993" y="586"/>
                  </a:lnTo>
                  <a:lnTo>
                    <a:pt x="993" y="588"/>
                  </a:lnTo>
                  <a:lnTo>
                    <a:pt x="993" y="590"/>
                  </a:lnTo>
                  <a:lnTo>
                    <a:pt x="993" y="591"/>
                  </a:lnTo>
                  <a:lnTo>
                    <a:pt x="1003" y="591"/>
                  </a:lnTo>
                  <a:lnTo>
                    <a:pt x="1012" y="588"/>
                  </a:lnTo>
                  <a:lnTo>
                    <a:pt x="1021" y="583"/>
                  </a:lnTo>
                  <a:lnTo>
                    <a:pt x="1032" y="579"/>
                  </a:lnTo>
                  <a:lnTo>
                    <a:pt x="1042" y="572"/>
                  </a:lnTo>
                  <a:lnTo>
                    <a:pt x="1053" y="568"/>
                  </a:lnTo>
                  <a:lnTo>
                    <a:pt x="1062" y="565"/>
                  </a:lnTo>
                  <a:lnTo>
                    <a:pt x="1074" y="563"/>
                  </a:lnTo>
                  <a:lnTo>
                    <a:pt x="1065" y="569"/>
                  </a:lnTo>
                  <a:lnTo>
                    <a:pt x="1053" y="582"/>
                  </a:lnTo>
                  <a:lnTo>
                    <a:pt x="1041" y="594"/>
                  </a:lnTo>
                  <a:lnTo>
                    <a:pt x="1027" y="607"/>
                  </a:lnTo>
                  <a:lnTo>
                    <a:pt x="1015" y="621"/>
                  </a:lnTo>
                  <a:lnTo>
                    <a:pt x="1005" y="633"/>
                  </a:lnTo>
                  <a:lnTo>
                    <a:pt x="996" y="644"/>
                  </a:lnTo>
                  <a:lnTo>
                    <a:pt x="991" y="653"/>
                  </a:lnTo>
                  <a:lnTo>
                    <a:pt x="988" y="653"/>
                  </a:lnTo>
                  <a:lnTo>
                    <a:pt x="987" y="655"/>
                  </a:lnTo>
                  <a:lnTo>
                    <a:pt x="985" y="655"/>
                  </a:lnTo>
                  <a:lnTo>
                    <a:pt x="984" y="655"/>
                  </a:lnTo>
                  <a:lnTo>
                    <a:pt x="982" y="656"/>
                  </a:lnTo>
                  <a:lnTo>
                    <a:pt x="981" y="658"/>
                  </a:lnTo>
                  <a:lnTo>
                    <a:pt x="979" y="660"/>
                  </a:lnTo>
                  <a:lnTo>
                    <a:pt x="975" y="661"/>
                  </a:lnTo>
                  <a:lnTo>
                    <a:pt x="975" y="663"/>
                  </a:lnTo>
                  <a:lnTo>
                    <a:pt x="975" y="664"/>
                  </a:lnTo>
                  <a:lnTo>
                    <a:pt x="975" y="666"/>
                  </a:lnTo>
                  <a:lnTo>
                    <a:pt x="975" y="667"/>
                  </a:lnTo>
                  <a:lnTo>
                    <a:pt x="976" y="669"/>
                  </a:lnTo>
                  <a:lnTo>
                    <a:pt x="976" y="670"/>
                  </a:lnTo>
                  <a:lnTo>
                    <a:pt x="978" y="672"/>
                  </a:lnTo>
                  <a:close/>
                  <a:moveTo>
                    <a:pt x="1111" y="661"/>
                  </a:moveTo>
                  <a:lnTo>
                    <a:pt x="1111" y="661"/>
                  </a:lnTo>
                  <a:lnTo>
                    <a:pt x="1113" y="661"/>
                  </a:lnTo>
                  <a:lnTo>
                    <a:pt x="1113" y="660"/>
                  </a:lnTo>
                  <a:lnTo>
                    <a:pt x="1114" y="660"/>
                  </a:lnTo>
                  <a:lnTo>
                    <a:pt x="1114" y="658"/>
                  </a:lnTo>
                  <a:lnTo>
                    <a:pt x="1114" y="656"/>
                  </a:lnTo>
                  <a:lnTo>
                    <a:pt x="1113" y="658"/>
                  </a:lnTo>
                  <a:lnTo>
                    <a:pt x="1111" y="658"/>
                  </a:lnTo>
                  <a:lnTo>
                    <a:pt x="1111" y="660"/>
                  </a:lnTo>
                  <a:lnTo>
                    <a:pt x="1110" y="660"/>
                  </a:lnTo>
                  <a:lnTo>
                    <a:pt x="1111" y="661"/>
                  </a:lnTo>
                  <a:close/>
                  <a:moveTo>
                    <a:pt x="676" y="647"/>
                  </a:moveTo>
                  <a:lnTo>
                    <a:pt x="678" y="647"/>
                  </a:lnTo>
                  <a:lnTo>
                    <a:pt x="679" y="647"/>
                  </a:lnTo>
                  <a:lnTo>
                    <a:pt x="681" y="647"/>
                  </a:lnTo>
                  <a:lnTo>
                    <a:pt x="682" y="647"/>
                  </a:lnTo>
                  <a:lnTo>
                    <a:pt x="684" y="647"/>
                  </a:lnTo>
                  <a:lnTo>
                    <a:pt x="684" y="646"/>
                  </a:lnTo>
                  <a:lnTo>
                    <a:pt x="684" y="644"/>
                  </a:lnTo>
                  <a:lnTo>
                    <a:pt x="684" y="642"/>
                  </a:lnTo>
                  <a:lnTo>
                    <a:pt x="676" y="635"/>
                  </a:lnTo>
                  <a:lnTo>
                    <a:pt x="673" y="624"/>
                  </a:lnTo>
                  <a:lnTo>
                    <a:pt x="670" y="613"/>
                  </a:lnTo>
                  <a:lnTo>
                    <a:pt x="672" y="604"/>
                  </a:lnTo>
                  <a:lnTo>
                    <a:pt x="673" y="599"/>
                  </a:lnTo>
                  <a:lnTo>
                    <a:pt x="675" y="594"/>
                  </a:lnTo>
                  <a:lnTo>
                    <a:pt x="678" y="591"/>
                  </a:lnTo>
                  <a:lnTo>
                    <a:pt x="682" y="586"/>
                  </a:lnTo>
                  <a:lnTo>
                    <a:pt x="685" y="585"/>
                  </a:lnTo>
                  <a:lnTo>
                    <a:pt x="690" y="582"/>
                  </a:lnTo>
                  <a:lnTo>
                    <a:pt x="696" y="580"/>
                  </a:lnTo>
                  <a:lnTo>
                    <a:pt x="700" y="580"/>
                  </a:lnTo>
                  <a:lnTo>
                    <a:pt x="703" y="568"/>
                  </a:lnTo>
                  <a:lnTo>
                    <a:pt x="706" y="557"/>
                  </a:lnTo>
                  <a:lnTo>
                    <a:pt x="711" y="544"/>
                  </a:lnTo>
                  <a:lnTo>
                    <a:pt x="717" y="532"/>
                  </a:lnTo>
                  <a:lnTo>
                    <a:pt x="721" y="521"/>
                  </a:lnTo>
                  <a:lnTo>
                    <a:pt x="726" y="509"/>
                  </a:lnTo>
                  <a:lnTo>
                    <a:pt x="727" y="498"/>
                  </a:lnTo>
                  <a:lnTo>
                    <a:pt x="729" y="489"/>
                  </a:lnTo>
                  <a:lnTo>
                    <a:pt x="724" y="482"/>
                  </a:lnTo>
                  <a:lnTo>
                    <a:pt x="718" y="478"/>
                  </a:lnTo>
                  <a:lnTo>
                    <a:pt x="714" y="476"/>
                  </a:lnTo>
                  <a:lnTo>
                    <a:pt x="709" y="475"/>
                  </a:lnTo>
                  <a:lnTo>
                    <a:pt x="703" y="476"/>
                  </a:lnTo>
                  <a:lnTo>
                    <a:pt x="699" y="478"/>
                  </a:lnTo>
                  <a:lnTo>
                    <a:pt x="696" y="481"/>
                  </a:lnTo>
                  <a:lnTo>
                    <a:pt x="691" y="485"/>
                  </a:lnTo>
                  <a:lnTo>
                    <a:pt x="682" y="495"/>
                  </a:lnTo>
                  <a:lnTo>
                    <a:pt x="675" y="507"/>
                  </a:lnTo>
                  <a:lnTo>
                    <a:pt x="669" y="518"/>
                  </a:lnTo>
                  <a:lnTo>
                    <a:pt x="664" y="527"/>
                  </a:lnTo>
                  <a:lnTo>
                    <a:pt x="661" y="538"/>
                  </a:lnTo>
                  <a:lnTo>
                    <a:pt x="657" y="555"/>
                  </a:lnTo>
                  <a:lnTo>
                    <a:pt x="654" y="572"/>
                  </a:lnTo>
                  <a:lnTo>
                    <a:pt x="651" y="593"/>
                  </a:lnTo>
                  <a:lnTo>
                    <a:pt x="651" y="604"/>
                  </a:lnTo>
                  <a:lnTo>
                    <a:pt x="652" y="611"/>
                  </a:lnTo>
                  <a:lnTo>
                    <a:pt x="654" y="621"/>
                  </a:lnTo>
                  <a:lnTo>
                    <a:pt x="657" y="628"/>
                  </a:lnTo>
                  <a:lnTo>
                    <a:pt x="660" y="636"/>
                  </a:lnTo>
                  <a:lnTo>
                    <a:pt x="663" y="642"/>
                  </a:lnTo>
                  <a:lnTo>
                    <a:pt x="669" y="646"/>
                  </a:lnTo>
                  <a:lnTo>
                    <a:pt x="676" y="647"/>
                  </a:lnTo>
                  <a:close/>
                  <a:moveTo>
                    <a:pt x="1008" y="646"/>
                  </a:moveTo>
                  <a:lnTo>
                    <a:pt x="1008" y="646"/>
                  </a:lnTo>
                  <a:lnTo>
                    <a:pt x="1008" y="647"/>
                  </a:lnTo>
                  <a:lnTo>
                    <a:pt x="1009" y="647"/>
                  </a:lnTo>
                  <a:lnTo>
                    <a:pt x="1011" y="646"/>
                  </a:lnTo>
                  <a:lnTo>
                    <a:pt x="1012" y="644"/>
                  </a:lnTo>
                  <a:lnTo>
                    <a:pt x="1014" y="642"/>
                  </a:lnTo>
                  <a:lnTo>
                    <a:pt x="1015" y="642"/>
                  </a:lnTo>
                  <a:lnTo>
                    <a:pt x="1015" y="641"/>
                  </a:lnTo>
                  <a:lnTo>
                    <a:pt x="1014" y="641"/>
                  </a:lnTo>
                  <a:lnTo>
                    <a:pt x="1014" y="639"/>
                  </a:lnTo>
                  <a:lnTo>
                    <a:pt x="1012" y="641"/>
                  </a:lnTo>
                  <a:lnTo>
                    <a:pt x="1012" y="642"/>
                  </a:lnTo>
                  <a:lnTo>
                    <a:pt x="1011" y="642"/>
                  </a:lnTo>
                  <a:lnTo>
                    <a:pt x="1009" y="642"/>
                  </a:lnTo>
                  <a:lnTo>
                    <a:pt x="1009" y="644"/>
                  </a:lnTo>
                  <a:lnTo>
                    <a:pt x="1008" y="644"/>
                  </a:lnTo>
                  <a:lnTo>
                    <a:pt x="1008" y="646"/>
                  </a:lnTo>
                  <a:close/>
                  <a:moveTo>
                    <a:pt x="1105" y="599"/>
                  </a:moveTo>
                  <a:lnTo>
                    <a:pt x="1105" y="599"/>
                  </a:lnTo>
                  <a:lnTo>
                    <a:pt x="1104" y="599"/>
                  </a:lnTo>
                  <a:lnTo>
                    <a:pt x="1104" y="597"/>
                  </a:lnTo>
                  <a:lnTo>
                    <a:pt x="1104" y="599"/>
                  </a:lnTo>
                  <a:lnTo>
                    <a:pt x="1105" y="599"/>
                  </a:lnTo>
                  <a:close/>
                  <a:moveTo>
                    <a:pt x="1032" y="538"/>
                  </a:moveTo>
                  <a:lnTo>
                    <a:pt x="1032" y="538"/>
                  </a:lnTo>
                  <a:lnTo>
                    <a:pt x="1030" y="538"/>
                  </a:lnTo>
                  <a:lnTo>
                    <a:pt x="1030" y="537"/>
                  </a:lnTo>
                  <a:lnTo>
                    <a:pt x="1030" y="538"/>
                  </a:lnTo>
                  <a:lnTo>
                    <a:pt x="1032" y="538"/>
                  </a:lnTo>
                  <a:close/>
                  <a:moveTo>
                    <a:pt x="858" y="470"/>
                  </a:moveTo>
                  <a:lnTo>
                    <a:pt x="859" y="470"/>
                  </a:lnTo>
                  <a:lnTo>
                    <a:pt x="861" y="470"/>
                  </a:lnTo>
                  <a:lnTo>
                    <a:pt x="862" y="470"/>
                  </a:lnTo>
                  <a:lnTo>
                    <a:pt x="864" y="470"/>
                  </a:lnTo>
                  <a:lnTo>
                    <a:pt x="865" y="470"/>
                  </a:lnTo>
                  <a:lnTo>
                    <a:pt x="867" y="470"/>
                  </a:lnTo>
                  <a:lnTo>
                    <a:pt x="867" y="459"/>
                  </a:lnTo>
                  <a:lnTo>
                    <a:pt x="867" y="448"/>
                  </a:lnTo>
                  <a:lnTo>
                    <a:pt x="867" y="437"/>
                  </a:lnTo>
                  <a:lnTo>
                    <a:pt x="865" y="426"/>
                  </a:lnTo>
                  <a:lnTo>
                    <a:pt x="862" y="417"/>
                  </a:lnTo>
                  <a:lnTo>
                    <a:pt x="859" y="408"/>
                  </a:lnTo>
                  <a:lnTo>
                    <a:pt x="855" y="398"/>
                  </a:lnTo>
                  <a:lnTo>
                    <a:pt x="849" y="389"/>
                  </a:lnTo>
                  <a:lnTo>
                    <a:pt x="841" y="387"/>
                  </a:lnTo>
                  <a:lnTo>
                    <a:pt x="835" y="387"/>
                  </a:lnTo>
                  <a:lnTo>
                    <a:pt x="828" y="389"/>
                  </a:lnTo>
                  <a:lnTo>
                    <a:pt x="820" y="391"/>
                  </a:lnTo>
                  <a:lnTo>
                    <a:pt x="814" y="394"/>
                  </a:lnTo>
                  <a:lnTo>
                    <a:pt x="808" y="398"/>
                  </a:lnTo>
                  <a:lnTo>
                    <a:pt x="804" y="403"/>
                  </a:lnTo>
                  <a:lnTo>
                    <a:pt x="799" y="408"/>
                  </a:lnTo>
                  <a:lnTo>
                    <a:pt x="795" y="412"/>
                  </a:lnTo>
                  <a:lnTo>
                    <a:pt x="792" y="417"/>
                  </a:lnTo>
                  <a:lnTo>
                    <a:pt x="790" y="419"/>
                  </a:lnTo>
                  <a:lnTo>
                    <a:pt x="789" y="423"/>
                  </a:lnTo>
                  <a:lnTo>
                    <a:pt x="790" y="426"/>
                  </a:lnTo>
                  <a:lnTo>
                    <a:pt x="792" y="429"/>
                  </a:lnTo>
                  <a:lnTo>
                    <a:pt x="795" y="431"/>
                  </a:lnTo>
                  <a:lnTo>
                    <a:pt x="799" y="433"/>
                  </a:lnTo>
                  <a:lnTo>
                    <a:pt x="807" y="425"/>
                  </a:lnTo>
                  <a:lnTo>
                    <a:pt x="814" y="420"/>
                  </a:lnTo>
                  <a:lnTo>
                    <a:pt x="822" y="419"/>
                  </a:lnTo>
                  <a:lnTo>
                    <a:pt x="829" y="419"/>
                  </a:lnTo>
                  <a:lnTo>
                    <a:pt x="835" y="419"/>
                  </a:lnTo>
                  <a:lnTo>
                    <a:pt x="841" y="423"/>
                  </a:lnTo>
                  <a:lnTo>
                    <a:pt x="846" y="431"/>
                  </a:lnTo>
                  <a:lnTo>
                    <a:pt x="850" y="443"/>
                  </a:lnTo>
                  <a:lnTo>
                    <a:pt x="852" y="447"/>
                  </a:lnTo>
                  <a:lnTo>
                    <a:pt x="852" y="450"/>
                  </a:lnTo>
                  <a:lnTo>
                    <a:pt x="852" y="453"/>
                  </a:lnTo>
                  <a:lnTo>
                    <a:pt x="852" y="456"/>
                  </a:lnTo>
                  <a:lnTo>
                    <a:pt x="852" y="461"/>
                  </a:lnTo>
                  <a:lnTo>
                    <a:pt x="852" y="464"/>
                  </a:lnTo>
                  <a:lnTo>
                    <a:pt x="855" y="467"/>
                  </a:lnTo>
                  <a:lnTo>
                    <a:pt x="858" y="470"/>
                  </a:lnTo>
                  <a:close/>
                  <a:moveTo>
                    <a:pt x="726" y="367"/>
                  </a:moveTo>
                  <a:lnTo>
                    <a:pt x="730" y="367"/>
                  </a:lnTo>
                  <a:lnTo>
                    <a:pt x="733" y="366"/>
                  </a:lnTo>
                  <a:lnTo>
                    <a:pt x="735" y="363"/>
                  </a:lnTo>
                  <a:lnTo>
                    <a:pt x="736" y="359"/>
                  </a:lnTo>
                  <a:lnTo>
                    <a:pt x="738" y="353"/>
                  </a:lnTo>
                  <a:lnTo>
                    <a:pt x="738" y="345"/>
                  </a:lnTo>
                  <a:lnTo>
                    <a:pt x="736" y="339"/>
                  </a:lnTo>
                  <a:lnTo>
                    <a:pt x="735" y="332"/>
                  </a:lnTo>
                  <a:lnTo>
                    <a:pt x="732" y="324"/>
                  </a:lnTo>
                  <a:lnTo>
                    <a:pt x="729" y="318"/>
                  </a:lnTo>
                  <a:lnTo>
                    <a:pt x="720" y="319"/>
                  </a:lnTo>
                  <a:lnTo>
                    <a:pt x="709" y="321"/>
                  </a:lnTo>
                  <a:lnTo>
                    <a:pt x="699" y="324"/>
                  </a:lnTo>
                  <a:lnTo>
                    <a:pt x="690" y="328"/>
                  </a:lnTo>
                  <a:lnTo>
                    <a:pt x="681" y="333"/>
                  </a:lnTo>
                  <a:lnTo>
                    <a:pt x="672" y="339"/>
                  </a:lnTo>
                  <a:lnTo>
                    <a:pt x="664" y="344"/>
                  </a:lnTo>
                  <a:lnTo>
                    <a:pt x="661" y="352"/>
                  </a:lnTo>
                  <a:lnTo>
                    <a:pt x="663" y="353"/>
                  </a:lnTo>
                  <a:lnTo>
                    <a:pt x="663" y="355"/>
                  </a:lnTo>
                  <a:lnTo>
                    <a:pt x="664" y="356"/>
                  </a:lnTo>
                  <a:lnTo>
                    <a:pt x="667" y="359"/>
                  </a:lnTo>
                  <a:lnTo>
                    <a:pt x="669" y="361"/>
                  </a:lnTo>
                  <a:lnTo>
                    <a:pt x="670" y="363"/>
                  </a:lnTo>
                  <a:lnTo>
                    <a:pt x="672" y="364"/>
                  </a:lnTo>
                  <a:lnTo>
                    <a:pt x="673" y="366"/>
                  </a:lnTo>
                  <a:lnTo>
                    <a:pt x="679" y="366"/>
                  </a:lnTo>
                  <a:lnTo>
                    <a:pt x="684" y="363"/>
                  </a:lnTo>
                  <a:lnTo>
                    <a:pt x="690" y="359"/>
                  </a:lnTo>
                  <a:lnTo>
                    <a:pt x="694" y="355"/>
                  </a:lnTo>
                  <a:lnTo>
                    <a:pt x="699" y="352"/>
                  </a:lnTo>
                  <a:lnTo>
                    <a:pt x="705" y="349"/>
                  </a:lnTo>
                  <a:lnTo>
                    <a:pt x="711" y="345"/>
                  </a:lnTo>
                  <a:lnTo>
                    <a:pt x="718" y="344"/>
                  </a:lnTo>
                  <a:lnTo>
                    <a:pt x="720" y="352"/>
                  </a:lnTo>
                  <a:lnTo>
                    <a:pt x="721" y="356"/>
                  </a:lnTo>
                  <a:lnTo>
                    <a:pt x="723" y="361"/>
                  </a:lnTo>
                  <a:lnTo>
                    <a:pt x="723" y="364"/>
                  </a:lnTo>
                  <a:lnTo>
                    <a:pt x="724" y="366"/>
                  </a:lnTo>
                  <a:lnTo>
                    <a:pt x="726" y="3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99" name="Picture 36" descr="5110-0090"/>
          <p:cNvPicPr/>
          <p:nvPr/>
        </p:nvPicPr>
        <p:blipFill>
          <a:blip r:embed="rId1"/>
          <a:stretch/>
        </p:blipFill>
        <p:spPr>
          <a:xfrm>
            <a:off x="1143000" y="1523880"/>
            <a:ext cx="2743200" cy="2705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5110-0090R"/>
          <p:cNvPicPr/>
          <p:nvPr/>
        </p:nvPicPr>
        <p:blipFill>
          <a:blip r:embed="rId2"/>
          <a:stretch/>
        </p:blipFill>
        <p:spPr>
          <a:xfrm>
            <a:off x="4572000" y="1523880"/>
            <a:ext cx="2971800" cy="2781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8"/>
          <p:cNvSpPr/>
          <p:nvPr/>
        </p:nvSpPr>
        <p:spPr>
          <a:xfrm>
            <a:off x="1981080" y="440856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ноябре 2008 года выпустили монету с изображением Н.Н.Носова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 advTm="20000">
    <p:randomBar dir="vert"/>
    <p:sndAc>
      <p:stSnd>
        <p:snd r:embed="rId3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9194-862D-4745-9F30-6893CEC6F88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BB44-C455-4CEF-BF86-21031AFBA0D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4" name="i-main-pic" descr="Картинка 1 из 1257"/>
          <p:cNvPicPr/>
          <p:nvPr/>
        </p:nvPicPr>
        <p:blipFill>
          <a:blip r:embed="rId1"/>
          <a:stretch/>
        </p:blipFill>
        <p:spPr>
          <a:xfrm>
            <a:off x="250920" y="765000"/>
            <a:ext cx="1971720" cy="3029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b37390"/>
          <p:cNvPicPr/>
          <p:nvPr/>
        </p:nvPicPr>
        <p:blipFill>
          <a:blip r:embed="rId2"/>
          <a:stretch/>
        </p:blipFill>
        <p:spPr>
          <a:xfrm>
            <a:off x="2411280" y="765000"/>
            <a:ext cx="2219400" cy="302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1000451554"/>
          <p:cNvPicPr/>
          <p:nvPr/>
        </p:nvPicPr>
        <p:blipFill>
          <a:blip r:embed="rId3"/>
          <a:stretch/>
        </p:blipFill>
        <p:spPr>
          <a:xfrm>
            <a:off x="4859280" y="765000"/>
            <a:ext cx="1905120" cy="300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p192330"/>
          <p:cNvPicPr/>
          <p:nvPr/>
        </p:nvPicPr>
        <p:blipFill>
          <a:blip r:embed="rId4"/>
          <a:stretch/>
        </p:blipFill>
        <p:spPr>
          <a:xfrm>
            <a:off x="6948360" y="765000"/>
            <a:ext cx="1789200" cy="2934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324000" y="3860640"/>
            <a:ext cx="1828800" cy="23623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484360" y="3789360"/>
            <a:ext cx="1905120" cy="2590920"/>
          </a:xfrm>
          <a:prstGeom prst="rect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i-main-pic" descr="Картинка 28 из 290"/>
          <p:cNvPicPr/>
          <p:nvPr/>
        </p:nvPicPr>
        <p:blipFill>
          <a:blip r:embed="rId7"/>
          <a:stretch/>
        </p:blipFill>
        <p:spPr>
          <a:xfrm>
            <a:off x="4859280" y="3933720"/>
            <a:ext cx="1676520" cy="2210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4"/>
          <p:cNvSpPr/>
          <p:nvPr/>
        </p:nvSpPr>
        <p:spPr>
          <a:xfrm>
            <a:off x="6877080" y="3789360"/>
            <a:ext cx="1905120" cy="2603520"/>
          </a:xfrm>
          <a:prstGeom prst="rect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 advTm="20000">
    <p:randomBar dir="vert"/>
    <p:sndAc>
      <p:stSnd>
        <p:snd r:embed="rId9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9360" y="68544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Как и многие знаменитые писатели, Николай Носов сначала сочинял сказки и рассказы просто так – для своего маленького сынишки. А потом один свой рассказ, он назывался «Затейники», он отнес в журнал «Мурзилка». Рассказ напечатали. Это было в 1938 году.</a:t>
            </a:r>
            <a:br>
              <a:rPr sz="2400"/>
            </a:b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3886200" cy="5516640"/>
          </a:xfrm>
          <a:prstGeom prst="rect">
            <a:avLst/>
          </a:prstGeom>
          <a:blipFill rotWithShape="0">
            <a:blip r:embed="rId1"/>
            <a:stretch/>
          </a:blipFill>
          <a:ln w="12600">
            <a:solidFill>
              <a:srgbClr val="8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609480"/>
            <a:ext cx="3886200" cy="551664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 advTm="30000">
    <p:randomBar dir="vert"/>
    <p:sndAc>
      <p:stSnd>
        <p:snd r:embed="rId3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33"/>
                </a:solidFill>
                <a:latin typeface="Calibri"/>
              </a:rPr>
              <a:t>Самая знаменитая книга - это конечно про Незнайку и его друзей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6" name="img_14" descr="40425109"/>
          <p:cNvPicPr/>
          <p:nvPr/>
        </p:nvPicPr>
        <p:blipFill>
          <a:blip r:embed="rId1"/>
          <a:stretch/>
        </p:blipFill>
        <p:spPr>
          <a:xfrm>
            <a:off x="4861080" y="2276640"/>
            <a:ext cx="4032000" cy="403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Картинка 15 из 45"/>
          <p:cNvPicPr/>
          <p:nvPr/>
        </p:nvPicPr>
        <p:blipFill>
          <a:blip r:embed="rId2"/>
          <a:stretch/>
        </p:blipFill>
        <p:spPr>
          <a:xfrm>
            <a:off x="684360" y="1628640"/>
            <a:ext cx="2900160" cy="431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1207150809_n"/>
          <p:cNvPicPr/>
          <p:nvPr/>
        </p:nvPicPr>
        <p:blipFill>
          <a:blip r:embed="rId3"/>
          <a:stretch/>
        </p:blipFill>
        <p:spPr>
          <a:xfrm>
            <a:off x="4859280" y="2276640"/>
            <a:ext cx="4076640" cy="4105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  <p:sndAc>
      <p:stSnd>
        <p:snd r:embed="rId4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5:04:50Z</dcterms:created>
  <dc:creator>Дом</dc:creator>
  <dc:description>http://aida.ucoz.ru</dc:description>
  <dc:language>en-US</dc:language>
  <cp:lastModifiedBy>9</cp:lastModifiedBy>
  <dcterms:modified xsi:type="dcterms:W3CDTF">2015-01-31T18:13:54Z</dcterms:modified>
  <cp:revision>28</cp:revision>
  <dc:subject/>
  <dc:title>Николай Николаевич Носов</dc:title>
</cp:coreProperties>
</file>