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885B-1AB3-43B9-97BE-EB31B165B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70B2-0D69-4567-A7A0-CF494F9B9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4BD2-7F97-4E3F-BEA6-548374FF8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887C-EBCC-4A60-B9CB-A2C7DDA312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02C3-0DC0-4E63-93E9-32FEB27FBD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760C-3FCA-43F4-BD77-29F1378B0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2F2F-9AC7-4A5B-92A2-5601BC6AB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8267-53B6-448B-9AFD-70473733C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39C2-3552-43E6-B9C1-37B93F57A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36E5-427E-4592-B199-D27C5A93A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56F1-56EE-4B31-8818-ADDBB968F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77F3-94BD-43C4-90A2-3771BDDCA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29C1AC-DC99-43F8-AE86-2227D851EED9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28800" y="571680"/>
            <a:ext cx="1904760" cy="1485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072120" y="500040"/>
            <a:ext cx="1600200" cy="1486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071880" y="4084560"/>
            <a:ext cx="3000240" cy="277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82560" y="2157480"/>
            <a:ext cx="821700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3200" spc="-1" strike="noStrike" u="sng">
                <a:solidFill>
                  <a:srgbClr val="19194d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сутствие крепкого, достаточно развитого мышечного корсажа – мышечной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олжительная болезнь или хронические заболевания, ослабляющие организ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ствия рахи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соответствующая росту мебел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удобная одежда и обу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71680" y="285840"/>
            <a:ext cx="8215200" cy="107136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авила для поддержания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авильной оса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1571760"/>
            <a:ext cx="6589800" cy="502596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Выполнять упражнения по укреплению мышц туловищ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Правильно сидеть за партой, столом, на стуле, не горби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При переносе тяжестей нужно равномерно нагружать рук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Спать на жесткой постели с невысокой подушк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Сидеть с максимально выпрямленной  спиной. Через каждые 15 минут нужно менять позу, двигать руками и ногами, потягиватьс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. Каждый день смотреть на себя в зеркало, которое подскажет, какая у вас  осан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404640"/>
            <a:ext cx="7772400" cy="114300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8 причин для поддержания правильной  осан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844640"/>
            <a:ext cx="8429760" cy="450072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красивее спина, тем увереннее личность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. Дыхание становится легким и более глубоки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. Улучшается дыхание и пищеварени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4. Вы выглядите более стройными и молоды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. Голос будет казаться лучш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6. Помогает мышцам и сустава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7. Улучшается мышлени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3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2640"/>
                <a:tab algn="l" pos="1427040"/>
                <a:tab algn="l" pos="2341440"/>
                <a:tab algn="l" pos="3255840"/>
                <a:tab algn="l" pos="4170240"/>
                <a:tab algn="l" pos="5084640"/>
                <a:tab algn="l" pos="5999040"/>
                <a:tab algn="l" pos="6913440"/>
                <a:tab algn="l" pos="7827840"/>
                <a:tab algn="l" pos="8742240"/>
                <a:tab algn="l" pos="9656640"/>
                <a:tab algn="l" pos="105710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8. Здоровый позвоночник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36920" y="981000"/>
            <a:ext cx="731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Что такое правильная осан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49228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Осанк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это правильное  положение тела при стоянии, ходьбе и сиден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1268280"/>
            <a:ext cx="5545080" cy="324036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ямое положение головы и позвоночни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мметричные надплечия, лопат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изонтальная линия ключиц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а треугольника талии совпадают по размер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мметричное положение ягодиц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истые отростки позвоночника образуют вертикальную линию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инаковая длина ног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ьное положение сто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74680"/>
            <a:ext cx="7500960" cy="72540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Признаки правильной осанк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95920" y="1085760"/>
            <a:ext cx="16765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4240" y="274680"/>
            <a:ext cx="7972560" cy="72540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Неправильная осан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204920"/>
            <a:ext cx="2879640" cy="214308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арушение осанки - это отклонения в положении позвоночника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635280" y="1773360"/>
            <a:ext cx="482436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85880" y="428760"/>
            <a:ext cx="7672320" cy="78552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Признаки неправильной осан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5880" y="1341360"/>
            <a:ext cx="7962840" cy="331164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Голова выдвинута за продольную ось тела (опущенная голов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Плечи сведены вперед, подняты ; 3.Круглая спина, запавшая грудная клетк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Живот выпячен, таз отставлен наз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Излишне увеличен поясничный изгиб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4200" y="285840"/>
            <a:ext cx="8786880" cy="150012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Позы, способствующие формированию неправильной оса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18200" y="2322360"/>
            <a:ext cx="30906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46200" y="2322360"/>
            <a:ext cx="307188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500040"/>
            <a:ext cx="7315200" cy="64296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 такое сколио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5320" y="1427040"/>
            <a:ext cx="4307040" cy="3154320"/>
          </a:xfrm>
          <a:prstGeom prst="rect">
            <a:avLst/>
          </a:prstGeom>
          <a:noFill/>
          <a:ln cap="sq"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колио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искривление позвоноч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чинается он, как правильно, в 8-10 лет. Лечится долго, иногда даже в больниц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70480" y="1517760"/>
            <a:ext cx="3024360" cy="38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7920" y="0"/>
            <a:ext cx="9124920" cy="6858000"/>
          </a:xfrm>
          <a:prstGeom prst="rect">
            <a:avLst/>
          </a:prstGeom>
          <a:ln cap="sq" w="255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Света</cp:lastModifiedBy>
  <dcterms:modified xsi:type="dcterms:W3CDTF">2015-01-31T12:26:24Z</dcterms:modified>
  <cp:revision>53</cp:revision>
  <dc:subject/>
  <dc:title>Слайд 1</dc:title>
</cp:coreProperties>
</file>