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F9E-0CD4-416F-A225-529CBE8F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F04-307B-4C20-A70D-348E2A3B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E9A9-01C2-4C63-AD83-9BACEFA4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D18-B533-4709-A667-7AEB2500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00CB-048A-4912-82FC-007223F7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8C1A-AE5C-4A8B-ACE0-A2A1C2FE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C8A-7DFE-4809-A367-C4FE734E1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B16A-9B74-47DE-86E9-E924833F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EB38-90AF-433D-94BF-25EE7D1D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881F-29AF-48FD-99FC-16EE3FB0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6610-33A6-4C43-B1F9-C71457A2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739-B3B5-4705-8D87-8D28BC6F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B376-C959-439F-A723-20C5FFEEC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s://ru.wikipedia.org/wiki/4_&#1086;&#1082;&#1090;&#1103;&#1073;&#1088;&#1103;" TargetMode="External"/><Relationship Id="rId3" Type="http://schemas.openxmlformats.org/officeDocument/2006/relationships/hyperlink" Target="https://ru.wikipedia.org/wiki/1957" TargetMode="External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89;&#1084;&#1080;&#1095;&#1077;&#1089;&#1082;&#1080;&#1081;_&#1072;&#1087;&#1087;&#1072;&#1088;&#1072;&#1090;" TargetMode="External"/><Relationship Id="rId2" Type="http://schemas.openxmlformats.org/officeDocument/2006/relationships/hyperlink" Target="https://ru.wikipedia.org/wiki/&#1054;&#1088;&#1073;&#1080;&#1090;&#1072;" TargetMode="External"/><Relationship Id="rId3" Type="http://schemas.openxmlformats.org/officeDocument/2006/relationships/hyperlink" Target="https://ru.wikipedia.org/wiki/&#1047;&#1077;&#1084;&#1083;&#1103;" TargetMode="External"/><Relationship Id="rId4" Type="http://schemas.openxmlformats.org/officeDocument/2006/relationships/hyperlink" Target="https://ru.wikipedia.org/wiki/&#1057;&#1086;&#1073;&#1072;&#1082;&#1072;" TargetMode="External"/><Relationship Id="rId5" Type="http://schemas.openxmlformats.org/officeDocument/2006/relationships/hyperlink" Target="https://ru.wikipedia.org/wiki/&#1051;&#1072;&#1081;&#1082;&#1072;_%28&#1089;&#1086;&#1073;&#1072;&#1082;&#1072;-&#1082;&#1086;&#1089;&#1084;&#1086;&#1085;&#1072;&#1074;&#1090;%29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&amp;scy;&amp;acy;&amp;mcy;&amp;ycy;&amp;jcy; &amp;pcy;&amp;iecy;&amp;rcy;&amp;vcy;&amp;ycy;&amp;jcy; &amp;tcy;&amp;iecy;&amp;lcy;&amp;iecy;&amp;scy;&amp;kcy;&amp;ocy;&amp;pcy;"/>
          <p:cNvPicPr/>
          <p:nvPr/>
        </p:nvPicPr>
        <p:blipFill>
          <a:blip r:embed="rId1"/>
          <a:stretch/>
        </p:blipFill>
        <p:spPr>
          <a:xfrm>
            <a:off x="5791320" y="2666880"/>
            <a:ext cx="3047760" cy="403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алилео Гали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1430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кий итальянский математик, физик и астроном. Ученый создает телескоп, который  позволяет Галилею сделать массу откры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4419720"/>
            <a:ext cx="533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сле детального изучения поверхности Луны он не только доказал, но еще и подробно описал горы, которые находятся на поверхности Лу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Млечный путь. Ученный доказал, что он состоит из скопления множества звез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Третьим самым весом и значимым открытием стали 4 спутника Юпи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19051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Самый мощный телескоп Галилея увеличивал изображение в 30 ра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3533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153280" cy="6111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343400" y="3110040"/>
            <a:ext cx="5010120" cy="3747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762600" y="0"/>
            <a:ext cx="238140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572000" y="838080"/>
            <a:ext cx="1969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2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5000" y="304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л О́лден А́рмстрон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 июля 1969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715000" y="2286000"/>
            <a:ext cx="3143160" cy="2386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867280" y="50292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ый шаг человека на Лу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6759720" cy="6819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238880" y="457200"/>
            <a:ext cx="1600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ая фотография, сделанная Нилом Армстронгом после выхода на поверхность Лу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4753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228600"/>
            <a:ext cx="73152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битальная станция «МИР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20 февраля 1986 года по 23 марта 2001 года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30492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К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5000760" cy="3314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3000240"/>
            <a:ext cx="6667560" cy="3857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457200"/>
            <a:ext cx="901080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аак Ньютон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2752560" cy="3429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518148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глийский физик, математик, механик и астро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16765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ьютон изобрел первый спектроскоп и применил его для исследования небесных объек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&amp;scy;&amp;ocy;&amp;zcy;&amp;dcy;&amp;acy;&amp;ncy;&amp;icy;&amp;iecy; &amp;scy;&amp;pcy;&amp;iecy;&amp;kcy;&amp;tcy;&amp;rcy;&amp;ocy;&amp;scy;&amp;kcy;&amp;ocy;&amp;pcy;&amp;acy;"/>
          <p:cNvPicPr/>
          <p:nvPr/>
        </p:nvPicPr>
        <p:blipFill>
          <a:blip r:embed="rId2"/>
          <a:stretch/>
        </p:blipFill>
        <p:spPr>
          <a:xfrm>
            <a:off x="5562720" y="2590920"/>
            <a:ext cx="3047760" cy="22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67080" y="487692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же самый простой спектроскоп позволяет исследовать свет и получить представление о его составляющих. Известно, что Ньютон, например, сравнивал солнечный свет со светом свечи, стараясь познать их при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81280" y="6091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стантин Эдуардович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Циолков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286000"/>
            <a:ext cx="4876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двинул идею об использовани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ке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космических полетов. Ракету для межпланетных сообщений он спроектировал в 1903 году. Формула Циолковского, определяющая скорость, которую развивает летательный аппарат под воздействием тяги ракетного двигателя, и сегодня составляет важную часть математического аппарата, используемого при проектировании ракет, в частности, при определении их основных массовых характерист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594216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усский и советский ученый-самоучка и изобретатель, школьный учи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1528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91320" y="4722840"/>
            <a:ext cx="28954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67400" y="2819520"/>
            <a:ext cx="4476600" cy="4038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рвый искусственный спутник Зем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24280" y="1676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4 октябр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957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Спутник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114800"/>
            <a:ext cx="4343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утник летал 92 дня, до 4 января 1958 года, совершив 1440 оборотов вокруг Земли (около 60 млн км), а его радиопередатчики работали в течение двух недель после старта. Из-за трения о верхние слои атмосферы спутник потерял скорость, вошёл в плотные слои атмосферы и сгорел вследствие трения о возду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пус спутника состоял из двух полусфер диаметром 58 см из алюминиевого сплава. В верхней полуоболочке располагались две антен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2286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утник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— второ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космический аппарат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, запущенный н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орбит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емли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3 ноября 1957, впервые выведший в космос живое существо —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собак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Лайк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Sputnik2 vsm.jpg"/>
          <p:cNvPicPr/>
          <p:nvPr/>
        </p:nvPicPr>
        <p:blipFill>
          <a:blip r:embed="rId6"/>
          <a:stretch/>
        </p:blipFill>
        <p:spPr>
          <a:xfrm>
            <a:off x="380880" y="1447920"/>
            <a:ext cx="3110040" cy="5086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6248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дель Спутника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5810400" y="1523880"/>
            <a:ext cx="3333600" cy="433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581280" y="1752480"/>
            <a:ext cx="236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рез 5—7 часов полёта физиологические данные более не передавались и начиная с четвёртого витка нельзя было получить никаких данных о состоянии собаки. Позднее исследования показали, что Лайка, вероятно, умерла от перегрева через 5—7 часов полё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пу́тник-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16765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августа 1960 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5909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борту корабля находи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соба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ка и Стрелка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40 мыш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 крыс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рас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4952880"/>
            <a:ext cx="5943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ппарат с выжившими животными успешно вернулся на землю на следующий день. Спутник был оборудован телекамерой, снимавшей поведение собак в полё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коре после приземления у Стрелки родились шесть здоровых щен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81280" y="1312920"/>
            <a:ext cx="434340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рабле «Восток» 12 апреля 1961 года лётчик-космонавт СССР Юрий Алексеевич Гагарин совершил первый в мире полет в косм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Gagarin in Sweden.jpg"/>
          <p:cNvPicPr/>
          <p:nvPr/>
        </p:nvPicPr>
        <p:blipFill>
          <a:blip r:embed="rId1"/>
          <a:stretch/>
        </p:blipFill>
        <p:spPr>
          <a:xfrm>
            <a:off x="685800" y="1676520"/>
            <a:ext cx="2724120" cy="3962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86200" y="20574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108-й минуте корабль завершил полё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791320" y="2743200"/>
            <a:ext cx="23810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152960" cy="49719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аленти́на Влади́мировна Терешко́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29200" y="266688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ственная в мире женщина, совершившая космический полёт в одиноч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3412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июня 1963 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2T18:59:43Z</dcterms:created>
  <dc:creator>Людмила</dc:creator>
  <dc:description/>
  <dc:language>en-US</dc:language>
  <cp:lastModifiedBy>Щетинина</cp:lastModifiedBy>
  <dcterms:modified xsi:type="dcterms:W3CDTF">2014-11-22T20:11:2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