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17B-D914-4C81-BAD1-6D14F88E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E931-5840-4098-B6C5-1E42876D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52A-26CA-439A-AD61-09B92E03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C68-7865-4703-B53C-D9578064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AC0-F097-476C-8906-CFDEEEE6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CB5-636B-4AD9-8489-F6BF1A0C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FB8-2DE3-47C9-9D23-67E21C0E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023-ED7B-4C04-A5A8-F7FDCFFC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2E0-3717-41C4-AAD6-4CB11E24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7F7-48D5-4CF0-8F45-DF0F9D88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6FF-A153-4C08-A984-A1C60EDE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208-B3DC-4337-A5B9-9226952C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267B-8351-4EC3-9062-A2A8C88F53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063.radikal.ru/0811/96/4764c865edd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ouvenirnn.ru/files/data/shop3/74c4febf3826cee21925cc6347ad8daa/i/logo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llbooks.alltrades.ru/images/items/123065.jpe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aleksde.narod.ru/belief/bible/bible2.gif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5/dilibom75.4/0_23f53_7da30f47_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d4you.ru/graf/oblo_b/1801_b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048.radikal.ru/0803/7f/d3df73729b4b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k.ru/upload/iblock/15a/45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hop.iddk.ru/image/cdrom/69943/front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Картинка 231 из 114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8721720" cy="63831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5"/>
          <p:cNvSpPr/>
          <p:nvPr/>
        </p:nvSpPr>
        <p:spPr>
          <a:xfrm>
            <a:off x="1187280" y="476280"/>
            <a:ext cx="6985080" cy="66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cc00"/>
                </a:solidFill>
                <a:latin typeface="Art-Nouveau Initial"/>
              </a:rPr>
              <a:t>От мудрости Востока к европейской христианской культуре: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cc00"/>
                </a:solidFill>
                <a:latin typeface="Art-Nouveau Initial"/>
              </a:rPr>
              <a:t>Библия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t-Nouveau Initial"/>
              </a:rPr>
              <a:t>Урок № 15-16 МХК 10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В Библии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189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глав, и в среднем человек может прочитать её за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80-100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часов. Если читать по 4 главы в день, Библию можно прочитать за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Картинка 116 из 114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637000"/>
            <a:ext cx="3591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00000"/>
                </a:solidFill>
                <a:latin typeface="Art-Nouveau Initial"/>
              </a:rPr>
              <a:t>Переводы Библ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56000" y="1628640"/>
            <a:ext cx="457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 информации Германского Библейского общества (2005 год), Библия полностью или частично переведена на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377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языков народов мира, полностью издана на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422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язы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Картинка 130 из 11422">
            <a:hlinkClick r:id="rId1"/>
          </p:cNvPr>
          <p:cNvPicPr/>
          <p:nvPr/>
        </p:nvPicPr>
        <p:blipFill>
          <a:blip r:embed="rId2"/>
          <a:srcRect l="13135" t="5661" r="16726" b="11159"/>
          <a:stretch/>
        </p:blipFill>
        <p:spPr>
          <a:xfrm>
            <a:off x="2050920" y="3284640"/>
            <a:ext cx="2305080" cy="3168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Картинка 71 из 11422">
            <a:hlinkClick r:id="rId3"/>
          </p:cNvPr>
          <p:cNvPicPr/>
          <p:nvPr/>
        </p:nvPicPr>
        <p:blipFill>
          <a:blip r:embed="rId4"/>
          <a:srcRect l="24507" t="1877" r="8061" b="3625"/>
          <a:stretch/>
        </p:blipFill>
        <p:spPr>
          <a:xfrm>
            <a:off x="179280" y="1557360"/>
            <a:ext cx="2376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00000"/>
                </a:solidFill>
                <a:latin typeface="Art-Nouveau Initial"/>
              </a:rPr>
              <a:t>Переводы Библ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X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веке Библия была переведена на язык, понятный восточным славянам. Перевод был предпринят братьями-миссионерами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Кириллом и Мефодием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— «первоучителями и просветителями славянскими». Их родным языком предположительно мог быть вариант старо-болгарского языка, на котором разговаривали в их родной Солуни; воспитание же и образование они получили гре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Файл:Biblia Ruska.jpg"/>
          <p:cNvPicPr/>
          <p:nvPr/>
        </p:nvPicPr>
        <p:blipFill>
          <a:blip r:embed="rId1"/>
          <a:stretch/>
        </p:blipFill>
        <p:spPr>
          <a:xfrm>
            <a:off x="324000" y="476280"/>
            <a:ext cx="390528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11640" y="98100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еревод Библии на славянский язык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Кирилл и Мефодий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осуществили с помощью составленной ими славянской азбуки — глаголицы; позже была создана кириллица на основе греческого алфав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 появлением на Руси книгопечатания книги Священного Писания стали печатать на церковно-славянском язы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Картинка 80 из 11422"/>
          <p:cNvPicPr/>
          <p:nvPr/>
        </p:nvPicPr>
        <p:blipFill>
          <a:blip r:embed="rId1"/>
          <a:stretch/>
        </p:blipFill>
        <p:spPr>
          <a:xfrm>
            <a:off x="1403280" y="1989000"/>
            <a:ext cx="62326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85928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егодня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Библия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- самая популярная книга в мире, имеющая самый большой тираж. Библия частично или полностью переведена на более чем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400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языков и доступна на родном языке более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90%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населения земного шара. По некоторым оценкам более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60 миллионов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копий Библии распространяется по миру ежегод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Картинка 116 из 11422"/>
          <p:cNvPicPr/>
          <p:nvPr/>
        </p:nvPicPr>
        <p:blipFill>
          <a:blip r:embed="rId1"/>
          <a:stretch/>
        </p:blipFill>
        <p:spPr>
          <a:xfrm>
            <a:off x="900000" y="1268280"/>
            <a:ext cx="3591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дание для истор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иблия и история. Неужели они могут быть связаны? Может быть, Библия – это лишь сказка, собрание миф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кова роль Библии в исторической нау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спомните исторические события, описанные в Ветхом Завете, имена исторических лиц, названия городов и государств, упомянутых в Ветхом Завет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для литературове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спорядок, суматоха, башня, распущенность, беспорядок, шум, суматоха, средство спас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ерите слова  вместе так, чтобы получились устойчивые выражения (фразеологизм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йте им современное толкование и объясните их происхожд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для искусствове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ите репродукции карт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, какой библейский герой или сюжет изображ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Всемирный потоп"/>
          <p:cNvPicPr/>
          <p:nvPr/>
        </p:nvPicPr>
        <p:blipFill>
          <a:blip r:embed="rId1"/>
          <a:stretch/>
        </p:blipFill>
        <p:spPr>
          <a:xfrm>
            <a:off x="0" y="3141720"/>
            <a:ext cx="3995640" cy="371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1" name="Picture 2" descr="Хождение по водам"/>
          <p:cNvPicPr/>
          <p:nvPr/>
        </p:nvPicPr>
        <p:blipFill>
          <a:blip r:embed="rId2"/>
          <a:stretch/>
        </p:blipFill>
        <p:spPr>
          <a:xfrm>
            <a:off x="5867280" y="2708280"/>
            <a:ext cx="2592360" cy="39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ем итог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прошли с вами сегодня лишь по некоторым страницам, лишь немного прикоснулись к этой великой книге. Были ли для вас открытия на этом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ем вы раньше не думали, а сегодня это произош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хочу вернуться к началу нашего урока, к нашей теме и спросить: является ли Библия памятником культуры.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79776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  <a:ea typeface="Times New Roman"/>
              </a:rPr>
              <a:t>Ты – правда тайны сокровенной,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  <a:ea typeface="Times New Roman"/>
              </a:rPr>
              <a:t>Ты – откровенье, ты – завет,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  <a:ea typeface="Times New Roman"/>
              </a:rPr>
              <a:t>Всевышним данный всей вселенной,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  <a:ea typeface="Times New Roman"/>
              </a:rPr>
              <a:t>Для прошлых и грядущих ле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Arial"/>
                <a:ea typeface="Times New Roman"/>
              </a:rPr>
              <a:t>В. Брюсов «Библ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сочи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Библия это памятник культуры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Библия"/>
          <p:cNvPicPr/>
          <p:nvPr/>
        </p:nvPicPr>
        <p:blipFill>
          <a:blip r:embed="rId1"/>
          <a:stretch/>
        </p:blipFill>
        <p:spPr>
          <a:xfrm>
            <a:off x="2050920" y="3141720"/>
            <a:ext cx="3311640" cy="3313080"/>
          </a:xfrm>
          <a:prstGeom prst="rect">
            <a:avLst/>
          </a:prstGeom>
          <a:ln w="3168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00000"/>
                </a:solidFill>
                <a:latin typeface="Art-Nouveau Initial"/>
              </a:rPr>
              <a:t>Источники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drevo.pravbeseda.ru/index.php?id=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И. Курбатов. «Загадки, коды и пророчества Библии». Изд-во «Эксмо», Москва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01"/>
          <p:cNvPicPr/>
          <p:nvPr/>
        </p:nvPicPr>
        <p:blipFill>
          <a:blip r:embed="rId1"/>
          <a:stretch/>
        </p:blipFill>
        <p:spPr>
          <a:xfrm>
            <a:off x="7020000" y="260280"/>
            <a:ext cx="1428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Работа выполнена учител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ГБОУ СОШ №21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Прийменко Еленой Валерье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Би́блия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(греч. - </a:t>
            </a:r>
            <a:r>
              <a:rPr b="0" lang="el-GR" sz="3200" spc="-1" strike="noStrike">
                <a:solidFill>
                  <a:srgbClr val="800000"/>
                </a:solidFill>
                <a:latin typeface="Arial"/>
              </a:rPr>
              <a:t>βιβλία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— мн. ч. от </a:t>
            </a:r>
            <a:r>
              <a:rPr b="0" lang="el-GR" sz="3200" spc="-1" strike="noStrike">
                <a:solidFill>
                  <a:srgbClr val="800000"/>
                </a:solidFill>
                <a:latin typeface="Arial"/>
              </a:rPr>
              <a:t>βιβλίον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— «книга, сочинение») — собрание священных текстов христиа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Картинка 9 из 114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916280"/>
            <a:ext cx="637056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43280" y="1197000"/>
            <a:ext cx="424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Христиане, говоря о Библии, часто употребляют термин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исание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(обязательно с большой буквы) или же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вященное Пис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Картинка 171 из 114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25360"/>
            <a:ext cx="45702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t-Nouveau Initial"/>
              </a:rPr>
              <a:t>Кто написал Библию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иблию создавали около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0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азличных авторов, которые писали на разных языках (древнееврейском, арамейском, греческом) и жили на трёх континентах (в Европе, Азии и Африк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же доказано, что большинство из них не знало и никогда не видело, а зачастую – и не подозревало о существовании друг друга. Более того, они жили в разное время, разделявшее их порою веками, а порою и тысячелет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так, Библия была написана примерно за период жизни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60-ти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поко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t-Nouveau Initial"/>
              </a:rPr>
              <a:t>Когда написана Библия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96472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амый поздний текст Библии написан примерно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1900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лет назад, самому древнему – около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4000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Не сохранилось оригиналов ни одного из древних текстов – только спис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Исследователи отмечают. Что все эти списки совпадают один с другим на уровне описок переписчиков, не влияющих на значение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становлено, что мы располагаем фрагментами списков, выполненных ещё при жизни тех, кто лично знал авторов Нового Заве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Библия состоит из многих частей, объединяемых в 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Ветхий Завет и Новый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Картинка 41 из 114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989000"/>
            <a:ext cx="6237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t-Nouveau Initial"/>
              </a:rPr>
              <a:t>Ветхий Заве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4220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етхий Завет состоит из 39 книг, в еврейской традиции искусственно считаемых за 22, по числу букв еврейского алфавита, или за 24, по числу букв алфавита греческого. Все 39 книг Ветхого Завета разделяются в иудаизме на три от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«Учение» (Тора) — содержит Пятикнижие Моисе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«Проро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«Пис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Картинка 43 из 114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341360"/>
            <a:ext cx="36846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t-Nouveau Initial"/>
              </a:rPr>
              <a:t>Новый Заве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92000" y="1197000"/>
            <a:ext cx="5651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торая часть христианской Библии —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овый Завет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, собрание из 27 христианских книг (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ключающее 4 Евангелия, деяния Апостолов, послания Апостолов и книгу Откровение Иоанна Богослова (Апокалипсис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), написанных в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в. н. э. и дошедших до нас на древнегреческом языке. Эта часть Библии наиболее важна для христианства, в то время как иудаизм боговдохновенной её не счит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Новый Завет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состоит из книг, принадлежащих восьми боговдохновенным писателям: Матфею, Марку, Луке, Иоанну, Петру, Павлу, Иакову и Иу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Картинка 45 из 11422">
            <a:hlinkClick r:id="rId1"/>
          </p:cNvPr>
          <p:cNvPicPr/>
          <p:nvPr/>
        </p:nvPicPr>
        <p:blipFill>
          <a:blip r:embed="rId2"/>
          <a:srcRect l="15997" t="0" r="0" b="0"/>
          <a:stretch/>
        </p:blipFill>
        <p:spPr>
          <a:xfrm>
            <a:off x="250920" y="177336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8:28:41Z</dcterms:created>
  <dc:creator>Admin</dc:creator>
  <dc:description/>
  <dc:language>en-US</dc:language>
  <cp:lastModifiedBy>учитель</cp:lastModifiedBy>
  <dcterms:modified xsi:type="dcterms:W3CDTF">2014-12-22T06:42:19Z</dcterms:modified>
  <cp:revision>84</cp:revision>
  <dc:subject/>
  <dc:title>Слайд 1</dc:title>
</cp:coreProperties>
</file>