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7.jpeg" ContentType="image/jpeg"/>
  <Override PartName="/ppt/media/image13.png" ContentType="image/pn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DCA20-6030-4562-BE61-9B7FD4D74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5392B-2158-4C27-AC9D-15514C42B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10C4C-6AE1-4275-8102-8149E08B1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73AE1-A86E-452B-BCD6-FF534F3F0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A0DF4-72D2-44D3-BCC9-C4ABB2CBA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E6E2C-0585-4B39-83C9-7FCF28941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B4BEB-3F76-48EC-9689-67E5EADF1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AD025-E14B-4F70-BB34-B11504094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2F0FD-2C9A-4A4D-9681-04C407FF5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53882-6078-44E2-868E-0C5D76394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02C08-1923-4CEA-A37E-B5E6343FE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57F56-37BC-4FC6-9A33-C3EAC80A7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52C49-D2AB-491A-B30C-11885506333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063.radikal.ru/0811/96/4764c865edd2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souvenirnn.ru/files/data/shop3/74c4febf3826cee21925cc6347ad8daa/i/logo0.jpg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allbooks.alltrades.ru/images/items/123065.jpeg" TargetMode="External"/><Relationship Id="rId2" Type="http://schemas.openxmlformats.org/officeDocument/2006/relationships/image" Target="../media/image9.jpeg"/><Relationship Id="rId3" Type="http://schemas.openxmlformats.org/officeDocument/2006/relationships/hyperlink" Target="http://aleksde.narod.ru/belief/bible/bible2.gif" TargetMode="External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g-fotki.yandex.ru/get/3005/dilibom75.4/0_23f53_7da30f47_L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cd4you.ru/graf/oblo_b/1801_b.jpg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048.radikal.ru/0803/7f/d3df73729b4b.jpg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mk.ru/upload/iblock/15a/450.jpg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shop.iddk.ru/image/cdrom/69943/front.jpg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4" descr="Картинка 231 из 1142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0920" y="189000"/>
            <a:ext cx="8721720" cy="638316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15"/>
          <p:cNvSpPr/>
          <p:nvPr/>
        </p:nvSpPr>
        <p:spPr>
          <a:xfrm>
            <a:off x="1187280" y="476280"/>
            <a:ext cx="6985080" cy="661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200" spc="-1" strike="noStrike">
                <a:solidFill>
                  <a:srgbClr val="ffcc00"/>
                </a:solidFill>
                <a:latin typeface="Art-Nouveau Initial"/>
              </a:rPr>
              <a:t>От мудрости Востока к европейской христианской культуре: 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0" spc="-1" strike="noStrike">
                <a:solidFill>
                  <a:srgbClr val="ffcc00"/>
                </a:solidFill>
                <a:latin typeface="Art-Nouveau Initial"/>
              </a:rPr>
              <a:t>Библия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t-Nouveau Initial"/>
              </a:rPr>
              <a:t>Урок № 15-16 МХК 10 кла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68360" y="260280"/>
            <a:ext cx="8229600" cy="254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800000"/>
                </a:solidFill>
                <a:latin typeface="Arial"/>
              </a:rPr>
              <a:t>В Библии </a:t>
            </a: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1189 </a:t>
            </a:r>
            <a:r>
              <a:rPr b="1" lang="ru-RU" sz="3200" spc="-1" strike="noStrike">
                <a:solidFill>
                  <a:srgbClr val="800000"/>
                </a:solidFill>
                <a:latin typeface="Arial"/>
              </a:rPr>
              <a:t>глав, и в среднем человек может прочитать её за </a:t>
            </a: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80-100</a:t>
            </a:r>
            <a:r>
              <a:rPr b="1" lang="ru-RU" sz="3200" spc="-1" strike="noStrike">
                <a:solidFill>
                  <a:srgbClr val="800000"/>
                </a:solidFill>
                <a:latin typeface="Arial"/>
              </a:rPr>
              <a:t> часов. Если читать по 4 главы в день, Библию можно прочитать за го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6" descr="Картинка 116 из 1142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627280" y="2637000"/>
            <a:ext cx="35910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800000"/>
                </a:solidFill>
                <a:latin typeface="Art-Nouveau Initial"/>
              </a:rPr>
              <a:t>Переводы Библии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356000" y="1628640"/>
            <a:ext cx="4570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800000"/>
                </a:solidFill>
                <a:latin typeface="Arial"/>
              </a:rPr>
              <a:t>По информации Германского Библейского общества (2005 год), Библия полностью или частично переведена на </a:t>
            </a: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2377</a:t>
            </a:r>
            <a:r>
              <a:rPr b="0" lang="ru-RU" sz="2800" spc="-1" strike="noStrike">
                <a:solidFill>
                  <a:srgbClr val="800000"/>
                </a:solidFill>
                <a:latin typeface="Arial"/>
              </a:rPr>
              <a:t> языков народов мира, полностью издана на </a:t>
            </a: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422 </a:t>
            </a:r>
            <a:r>
              <a:rPr b="0" lang="ru-RU" sz="2800" spc="-1" strike="noStrike">
                <a:solidFill>
                  <a:srgbClr val="800000"/>
                </a:solidFill>
                <a:latin typeface="Arial"/>
              </a:rPr>
              <a:t>языка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10" descr="Картинка 130 из 11422">
            <a:hlinkClick r:id="rId1"/>
          </p:cNvPr>
          <p:cNvPicPr/>
          <p:nvPr/>
        </p:nvPicPr>
        <p:blipFill>
          <a:blip r:embed="rId2"/>
          <a:srcRect l="13135" t="5661" r="16726" b="11159"/>
          <a:stretch/>
        </p:blipFill>
        <p:spPr>
          <a:xfrm>
            <a:off x="2050920" y="3284640"/>
            <a:ext cx="2305080" cy="31687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" descr="Картинка 71 из 11422">
            <a:hlinkClick r:id="rId3"/>
          </p:cNvPr>
          <p:cNvPicPr/>
          <p:nvPr/>
        </p:nvPicPr>
        <p:blipFill>
          <a:blip r:embed="rId4"/>
          <a:srcRect l="24507" t="1877" r="8061" b="3625"/>
          <a:stretch/>
        </p:blipFill>
        <p:spPr>
          <a:xfrm>
            <a:off x="179280" y="1557360"/>
            <a:ext cx="237672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800000"/>
                </a:solidFill>
                <a:latin typeface="Art-Nouveau Initial"/>
              </a:rPr>
              <a:t>Переводы Библии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800000"/>
                </a:solidFill>
                <a:latin typeface="Arial"/>
              </a:rPr>
              <a:t>В </a:t>
            </a: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IX</a:t>
            </a:r>
            <a:r>
              <a:rPr b="0" lang="ru-RU" sz="2800" spc="-1" strike="noStrike">
                <a:solidFill>
                  <a:srgbClr val="800000"/>
                </a:solidFill>
                <a:latin typeface="Arial"/>
              </a:rPr>
              <a:t> веке Библия была переведена на язык, понятный восточным славянам. Перевод был предпринят братьями-миссионерами </a:t>
            </a:r>
            <a:r>
              <a:rPr b="1" i="1" lang="ru-RU" sz="2800" spc="-1" strike="noStrike">
                <a:solidFill>
                  <a:srgbClr val="ff3300"/>
                </a:solidFill>
                <a:latin typeface="Arial"/>
              </a:rPr>
              <a:t>Кириллом и Мефодием</a:t>
            </a:r>
            <a:r>
              <a:rPr b="0" lang="ru-RU" sz="2800" spc="-1" strike="noStrike">
                <a:solidFill>
                  <a:srgbClr val="800000"/>
                </a:solidFill>
                <a:latin typeface="Arial"/>
              </a:rPr>
              <a:t> — «первоучителями и просветителями славянскими». Их родным языком предположительно мог быть вариант старо-болгарского языка, на котором разговаривали в их родной Солуни; воспитание же и образование они получили греческо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5" descr="Файл:Biblia Ruska.jpg"/>
          <p:cNvPicPr/>
          <p:nvPr/>
        </p:nvPicPr>
        <p:blipFill>
          <a:blip r:embed="rId1"/>
          <a:stretch/>
        </p:blipFill>
        <p:spPr>
          <a:xfrm>
            <a:off x="324000" y="476280"/>
            <a:ext cx="3905280" cy="57150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211640" y="981000"/>
            <a:ext cx="4681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800000"/>
                </a:solidFill>
                <a:latin typeface="Arial"/>
              </a:rPr>
              <a:t>Перевод Библии на славянский язык </a:t>
            </a: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Кирилл и Мефодий</a:t>
            </a:r>
            <a:r>
              <a:rPr b="0" lang="ru-RU" sz="2800" spc="-1" strike="noStrike">
                <a:solidFill>
                  <a:srgbClr val="800000"/>
                </a:solidFill>
                <a:latin typeface="Arial"/>
              </a:rPr>
              <a:t> осуществили с помощью составленной ими славянской азбуки — глаголицы; позже была создана кириллица на основе греческого алфави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539640" y="0"/>
            <a:ext cx="8229600" cy="21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800000"/>
                </a:solidFill>
                <a:latin typeface="Arial"/>
              </a:rPr>
              <a:t>С появлением на Руси книгопечатания книги Священного Писания стали печатать на церковно-славянском язы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5" descr="Картинка 80 из 11422"/>
          <p:cNvPicPr/>
          <p:nvPr/>
        </p:nvPicPr>
        <p:blipFill>
          <a:blip r:embed="rId1"/>
          <a:stretch/>
        </p:blipFill>
        <p:spPr>
          <a:xfrm>
            <a:off x="1403280" y="1989000"/>
            <a:ext cx="6232680" cy="467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4859280" y="620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800000"/>
                </a:solidFill>
                <a:latin typeface="Arial"/>
              </a:rPr>
              <a:t>Сегодня </a:t>
            </a:r>
            <a:r>
              <a:rPr b="1" i="1" lang="ru-RU" sz="2800" spc="-1" strike="noStrike">
                <a:solidFill>
                  <a:srgbClr val="800000"/>
                </a:solidFill>
                <a:latin typeface="Arial"/>
              </a:rPr>
              <a:t>Библия</a:t>
            </a:r>
            <a:r>
              <a:rPr b="0" lang="ru-RU" sz="2400" spc="-1" strike="noStrike">
                <a:solidFill>
                  <a:srgbClr val="800000"/>
                </a:solidFill>
                <a:latin typeface="Arial"/>
              </a:rPr>
              <a:t> - самая популярная книга в мире, имеющая самый большой тираж. Библия частично или полностью переведена на более чем 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2400 </a:t>
            </a:r>
            <a:r>
              <a:rPr b="0" lang="ru-RU" sz="2400" spc="-1" strike="noStrike">
                <a:solidFill>
                  <a:srgbClr val="800000"/>
                </a:solidFill>
                <a:latin typeface="Arial"/>
              </a:rPr>
              <a:t>языков и доступна на родном языке более 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90%</a:t>
            </a:r>
            <a:r>
              <a:rPr b="0" lang="ru-RU" sz="2400" spc="-1" strike="noStrike">
                <a:solidFill>
                  <a:srgbClr val="800000"/>
                </a:solidFill>
                <a:latin typeface="Arial"/>
              </a:rPr>
              <a:t> населения земного шара. По некоторым оценкам более 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60 миллионов</a:t>
            </a:r>
            <a:r>
              <a:rPr b="0" lang="ru-RU" sz="2400" spc="-1" strike="noStrike">
                <a:solidFill>
                  <a:srgbClr val="800000"/>
                </a:solidFill>
                <a:latin typeface="Arial"/>
              </a:rPr>
              <a:t> копий Библии распространяется по миру ежегодн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10" descr="Картинка 116 из 11422"/>
          <p:cNvPicPr/>
          <p:nvPr/>
        </p:nvPicPr>
        <p:blipFill>
          <a:blip r:embed="rId1"/>
          <a:stretch/>
        </p:blipFill>
        <p:spPr>
          <a:xfrm>
            <a:off x="900000" y="1268280"/>
            <a:ext cx="35910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Arial"/>
              </a:rPr>
              <a:t>Задание для историк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-5335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Библия и история. Неужели они могут быть связаны? Может быть, Библия – это лишь сказка, собрание мифов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прос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Какова роль Библии в исторической наук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Вспомните исторические события, описанные в Ветхом Завете, имена исторических лиц, названия городов и государств, упомянутых в Ветхом Завете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дание для литературовед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еспорядок, суматоха, башня, распущенность, беспорядок, шум, суматоха, средство спас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берите слова  вместе так, чтобы получились устойчивые выражения (фразеологизмы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айте им современное толкование и объясните их происхождени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дание для искусствовед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ссмотрите репродукции карти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пределите, какой библейский герой или сюжет изображе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2" descr="Всемирный потоп"/>
          <p:cNvPicPr/>
          <p:nvPr/>
        </p:nvPicPr>
        <p:blipFill>
          <a:blip r:embed="rId1"/>
          <a:stretch/>
        </p:blipFill>
        <p:spPr>
          <a:xfrm>
            <a:off x="0" y="3141720"/>
            <a:ext cx="3995640" cy="37162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81" name="Picture 2" descr="Хождение по водам"/>
          <p:cNvPicPr/>
          <p:nvPr/>
        </p:nvPicPr>
        <p:blipFill>
          <a:blip r:embed="rId2"/>
          <a:stretch/>
        </p:blipFill>
        <p:spPr>
          <a:xfrm>
            <a:off x="5867280" y="2708280"/>
            <a:ext cx="2592360" cy="39607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одведем итог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ы прошли с вами сегодня лишь по некоторым страницам, лишь немного прикоснулись к этой великой книге. Были ли для вас открытия на этом урок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 чем вы раньше не думали, а сегодня это произошл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Я хочу вернуться к началу нашего урока, к нашей теме и спросить: является ли Библия памятником культуры. Почем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1"/>
          <p:cNvSpPr/>
          <p:nvPr/>
        </p:nvSpPr>
        <p:spPr>
          <a:xfrm>
            <a:off x="0" y="797760"/>
            <a:ext cx="914400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Arial"/>
                <a:ea typeface="Times New Roman"/>
              </a:rPr>
              <a:t>Ты – правда тайны сокровенной,</a:t>
            </a:r>
            <a:br>
              <a:rPr sz="4400"/>
            </a:br>
            <a:r>
              <a:rPr b="0" lang="ru-RU" sz="4400" spc="-1" strike="noStrike">
                <a:solidFill>
                  <a:srgbClr val="c00000"/>
                </a:solidFill>
                <a:latin typeface="Arial"/>
                <a:ea typeface="Times New Roman"/>
              </a:rPr>
              <a:t>Ты – откровенье, ты – завет,</a:t>
            </a:r>
            <a:br>
              <a:rPr sz="4400"/>
            </a:br>
            <a:r>
              <a:rPr b="0" lang="ru-RU" sz="4400" spc="-1" strike="noStrike">
                <a:solidFill>
                  <a:srgbClr val="c00000"/>
                </a:solidFill>
                <a:latin typeface="Arial"/>
                <a:ea typeface="Times New Roman"/>
              </a:rPr>
              <a:t>Всевышним данный всей вселенной,</a:t>
            </a:r>
            <a:br>
              <a:rPr sz="4400"/>
            </a:br>
            <a:r>
              <a:rPr b="0" lang="ru-RU" sz="4400" spc="-1" strike="noStrike">
                <a:solidFill>
                  <a:srgbClr val="c00000"/>
                </a:solidFill>
                <a:latin typeface="Arial"/>
                <a:ea typeface="Times New Roman"/>
              </a:rPr>
              <a:t>Для прошлых и грядущих лет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c00000"/>
                </a:solidFill>
                <a:latin typeface="Arial"/>
                <a:ea typeface="Times New Roman"/>
              </a:rPr>
              <a:t>В. Брюсов «Библия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омашнее зада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-81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писать сочине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чему Библия это памятник культуры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Библия"/>
          <p:cNvPicPr/>
          <p:nvPr/>
        </p:nvPicPr>
        <p:blipFill>
          <a:blip r:embed="rId1"/>
          <a:stretch/>
        </p:blipFill>
        <p:spPr>
          <a:xfrm>
            <a:off x="2050920" y="3141720"/>
            <a:ext cx="3311640" cy="3313080"/>
          </a:xfrm>
          <a:prstGeom prst="rect">
            <a:avLst/>
          </a:prstGeom>
          <a:ln w="31680">
            <a:solidFill>
              <a:srgbClr val="ff99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27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800000"/>
                </a:solidFill>
                <a:latin typeface="Art-Nouveau Initial"/>
              </a:rPr>
              <a:t>Источники: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68360" y="2637000"/>
            <a:ext cx="8229600" cy="208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http://drevo.pravbeseda.ru/index.php?id=9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.И. Курбатов. «Загадки, коды и пророчества Библии». Изд-во «Эксмо», Москва, 2006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5" descr="01"/>
          <p:cNvPicPr/>
          <p:nvPr/>
        </p:nvPicPr>
        <p:blipFill>
          <a:blip r:embed="rId1"/>
          <a:stretch/>
        </p:blipFill>
        <p:spPr>
          <a:xfrm>
            <a:off x="7020000" y="260280"/>
            <a:ext cx="1428840" cy="16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3300"/>
                </a:solidFill>
                <a:latin typeface="Arial"/>
              </a:rPr>
              <a:t>Работа выполнена учителе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993300"/>
                </a:solidFill>
                <a:latin typeface="Arial"/>
              </a:rPr>
              <a:t>ГБОУ СОШ №217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993300"/>
                </a:solidFill>
                <a:uFillTx/>
                <a:latin typeface="Arial"/>
              </a:rPr>
              <a:t>Прийменко Еленой Валерьев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539640" y="189000"/>
            <a:ext cx="8229600" cy="158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3200" spc="-1" strike="noStrike" u="sng">
                <a:solidFill>
                  <a:srgbClr val="800000"/>
                </a:solidFill>
                <a:uFillTx/>
                <a:latin typeface="Arial"/>
              </a:rPr>
              <a:t>Би́блия </a:t>
            </a:r>
            <a:r>
              <a:rPr b="0" lang="ru-RU" sz="3200" spc="-1" strike="noStrike">
                <a:solidFill>
                  <a:srgbClr val="800000"/>
                </a:solidFill>
                <a:latin typeface="Arial"/>
              </a:rPr>
              <a:t>(греч. - </a:t>
            </a:r>
            <a:r>
              <a:rPr b="0" lang="el-GR" sz="3200" spc="-1" strike="noStrike">
                <a:solidFill>
                  <a:srgbClr val="800000"/>
                </a:solidFill>
                <a:latin typeface="Arial"/>
              </a:rPr>
              <a:t>βιβλία</a:t>
            </a:r>
            <a:r>
              <a:rPr b="0" lang="ru-RU" sz="3200" spc="-1" strike="noStrike">
                <a:solidFill>
                  <a:srgbClr val="800000"/>
                </a:solidFill>
                <a:latin typeface="Arial"/>
              </a:rPr>
              <a:t> — мн. ч. от </a:t>
            </a:r>
            <a:r>
              <a:rPr b="0" lang="el-GR" sz="3200" spc="-1" strike="noStrike">
                <a:solidFill>
                  <a:srgbClr val="800000"/>
                </a:solidFill>
                <a:latin typeface="Arial"/>
              </a:rPr>
              <a:t>βιβλίον</a:t>
            </a:r>
            <a:r>
              <a:rPr b="0" lang="ru-RU" sz="3200" spc="-1" strike="noStrike">
                <a:solidFill>
                  <a:srgbClr val="800000"/>
                </a:solidFill>
                <a:latin typeface="Arial"/>
              </a:rPr>
              <a:t> — «книга, сочинение») — собрание священных текстов христиан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" descr="Картинка 9 из 1142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32000" y="1916280"/>
            <a:ext cx="6370560" cy="476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643280" y="1197000"/>
            <a:ext cx="4245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800000"/>
                </a:solidFill>
                <a:latin typeface="Arial"/>
              </a:rPr>
              <a:t>Христиане, говоря о Библии, часто употребляют термин </a:t>
            </a: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Писание</a:t>
            </a: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800000"/>
                </a:solidFill>
                <a:latin typeface="Arial"/>
              </a:rPr>
              <a:t>(обязательно с большой буквы) или же </a:t>
            </a: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Священное Писа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12" descr="Картинка 171 из 1142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0920" y="1125360"/>
            <a:ext cx="4570200" cy="457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54936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800000"/>
                </a:solidFill>
                <a:latin typeface="Art-Nouveau Initial"/>
              </a:rPr>
              <a:t>Кто написал Библию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1773000"/>
            <a:ext cx="9144000" cy="413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Библию создавали около  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40 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различных авторов, которые писали на разных языках (древнееврейском, арамейском, греческом) и жили на трёх континентах (в Европе, Азии и Африке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Уже доказано, что большинство из них не знало и никогда не видело, а зачастую – и не подозревало о существовании друг друга. Более того, они жили в разное время, разделявшее их порою веками, а порою и тысячелетия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Итак, Библия была написана примерно за период жизни 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60-ти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 покол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9144000" cy="80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800000"/>
                </a:solidFill>
                <a:latin typeface="Art-Nouveau Initial"/>
              </a:rPr>
              <a:t>Когда написана Библия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1196640"/>
            <a:ext cx="8964720" cy="582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Самый поздний текст Библии написан примерно </a:t>
            </a: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1900 </a:t>
            </a: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лет назад, самому древнему – около </a:t>
            </a: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4000 </a:t>
            </a: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л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Не сохранилось оригиналов ни одного из древних текстов – только списки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Исследователи отмечают. Что все эти списки совпадают один с другим на уровне описок переписчиков, не влияющих на значение текс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Установлено, что мы располагаем фрагментами списков, выполненных ещё при жизни тех, кто лично знал авторов Нового Завета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68360" y="260280"/>
            <a:ext cx="8229600" cy="161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800000"/>
                </a:solidFill>
                <a:latin typeface="Arial"/>
              </a:rPr>
              <a:t>Библия состоит из многих частей, объединяемых в </a:t>
            </a:r>
            <a:r>
              <a:rPr b="1" i="1" lang="ru-RU" sz="3200" spc="-1" strike="noStrike" u="sng">
                <a:solidFill>
                  <a:srgbClr val="800000"/>
                </a:solidFill>
                <a:uFillTx/>
                <a:latin typeface="Arial"/>
              </a:rPr>
              <a:t>Ветхий Завет и Новый Зав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5" descr="Картинка 41 из 1142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47640" y="1989000"/>
            <a:ext cx="6237360" cy="467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800000"/>
                </a:solidFill>
                <a:latin typeface="Art-Nouveau Initial"/>
              </a:rPr>
              <a:t>Ветхий Завет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9640" y="4220640"/>
            <a:ext cx="8229600" cy="218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800000"/>
                </a:solidFill>
                <a:latin typeface="Arial"/>
              </a:rPr>
              <a:t>Ветхий Завет состоит из 39 книг, в еврейской традиции искусственно считаемых за 22, по числу букв еврейского алфавита, или за 24, по числу букв алфавита греческого. Все 39 книг Ветхого Завета разделяются в иудаизме на три отде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Arial"/>
              </a:rPr>
              <a:t>«Учение» (Тора) — содержит Пятикнижие Моисе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Arial"/>
              </a:rPr>
              <a:t>«Пророки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Arial"/>
              </a:rPr>
              <a:t>«Писания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Картинка 43 из 1142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56000" y="1341360"/>
            <a:ext cx="3684600" cy="27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800000"/>
                </a:solidFill>
                <a:latin typeface="Art-Nouveau Initial"/>
              </a:rPr>
              <a:t>Новый Завет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492000" y="1197000"/>
            <a:ext cx="565164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Arial"/>
              </a:rPr>
              <a:t>Вторая часть христианской Библии — </a:t>
            </a: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Новый Завет</a:t>
            </a:r>
            <a:r>
              <a:rPr b="0" lang="ru-RU" sz="2400" spc="-1" strike="noStrike">
                <a:solidFill>
                  <a:srgbClr val="800000"/>
                </a:solidFill>
                <a:latin typeface="Arial"/>
              </a:rPr>
              <a:t>, собрание из 27 христианских книг (</a:t>
            </a:r>
            <a:r>
              <a:rPr b="1" i="1" lang="ru-RU" sz="2400" spc="-1" strike="noStrike">
                <a:solidFill>
                  <a:srgbClr val="800000"/>
                </a:solidFill>
                <a:latin typeface="Arial"/>
              </a:rPr>
              <a:t>включающее 4 Евангелия, деяния Апостолов, послания Апостолов и книгу Откровение Иоанна Богослова (Апокалипсис</a:t>
            </a:r>
            <a:r>
              <a:rPr b="0" lang="ru-RU" sz="2400" spc="-1" strike="noStrike">
                <a:solidFill>
                  <a:srgbClr val="800000"/>
                </a:solidFill>
                <a:latin typeface="Arial"/>
              </a:rPr>
              <a:t>), написанных в </a:t>
            </a: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I</a:t>
            </a:r>
            <a:r>
              <a:rPr b="0" lang="ru-RU" sz="2400" spc="-1" strike="noStrike">
                <a:solidFill>
                  <a:srgbClr val="800000"/>
                </a:solidFill>
                <a:latin typeface="Arial"/>
              </a:rPr>
              <a:t> в. н. э. и дошедших до нас на древнегреческом языке. Эта часть Библии наиболее важна для христианства, в то время как иудаизм боговдохновенной её не счита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3300"/>
                </a:solidFill>
                <a:uFillTx/>
                <a:latin typeface="Arial"/>
              </a:rPr>
              <a:t>Новый Завет</a:t>
            </a:r>
            <a:r>
              <a:rPr b="0" lang="ru-RU" sz="2400" spc="-1" strike="noStrike">
                <a:solidFill>
                  <a:srgbClr val="800000"/>
                </a:solidFill>
                <a:latin typeface="Arial"/>
              </a:rPr>
              <a:t> состоит из книг, принадлежащих восьми боговдохновенным писателям: Матфею, Марку, Луке, Иоанну, Петру, Павлу, Иакову и Иуд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5" descr="Картинка 45 из 11422">
            <a:hlinkClick r:id="rId1"/>
          </p:cNvPr>
          <p:cNvPicPr/>
          <p:nvPr/>
        </p:nvPicPr>
        <p:blipFill>
          <a:blip r:embed="rId2"/>
          <a:srcRect l="15997" t="0" r="0" b="0"/>
          <a:stretch/>
        </p:blipFill>
        <p:spPr>
          <a:xfrm>
            <a:off x="250920" y="1773360"/>
            <a:ext cx="32004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1T18:28:41Z</dcterms:created>
  <dc:creator>Admin</dc:creator>
  <dc:description/>
  <dc:language>en-US</dc:language>
  <cp:lastModifiedBy>учитель</cp:lastModifiedBy>
  <dcterms:modified xsi:type="dcterms:W3CDTF">2014-12-22T06:42:19Z</dcterms:modified>
  <cp:revision>84</cp:revision>
  <dc:subject/>
  <dc:title>Слайд 1</dc:title>
</cp:coreProperties>
</file>