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5.gif" ContentType="image/gif"/>
  <Override PartName="/ppt/media/image35.gif" ContentType="image/gif"/>
  <Override PartName="/ppt/media/image13.png" ContentType="image/png"/>
  <Override PartName="/ppt/media/image30.jpeg" ContentType="image/jpeg"/>
  <Override PartName="/ppt/media/image15.png" ContentType="image/png"/>
  <Override PartName="/ppt/media/image27.png" ContentType="image/png"/>
  <Override PartName="/ppt/media/image34.gif" ContentType="image/gif"/>
  <Override PartName="/ppt/media/image3.png" ContentType="image/png"/>
  <Override PartName="/ppt/media/image26.png" ContentType="image/png"/>
  <Override PartName="/ppt/media/image33.gif" ContentType="image/gif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78F-24D5-43B3-B814-67451D05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7AA-3A1C-4703-8716-652BFA5C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88550-3F55-4721-A1C1-FE37F20D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E1BDA-26D8-463F-9CE9-153464AB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8686F-D59F-4349-BC32-5138DA50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7189B-B6B6-4F92-9953-8434499D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C4906-C9EC-4759-8997-0C6985A4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9F339-6725-4D51-B7E7-BE39BA43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9A19B-5F04-45CB-8F98-2E70861E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A630E-9F97-4EE7-B3E6-77F011BC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DF635-5429-4816-8CBF-88EDA10C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E7AD6-3537-4CC2-8017-362CB9AB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C19-6C4C-409E-BFC3-E67F6735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1F5D8-6A58-4771-9B85-8098B084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20FF3-8BC7-41AC-A485-EA66A4DB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8F889-82C0-45F5-B5C5-740B4664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E5BEA-8F71-4142-8B33-F26D9AA5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1980E-2C26-4AB7-A870-19EBAD3F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EC1A6-13B7-43D2-A91D-A097E80A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27E3D-C0F5-4F5E-AA98-C3825C16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70EE1-BB7B-48B5-9056-CC7A5BA9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C8E13-7FEC-4548-8319-1BC4DEF9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49A7B-26E5-4FB2-ABEC-8F6FA280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7FA-D523-49DE-B642-E8D90C50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4949C-8A77-4167-8985-44B68425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B94D1-55F7-4ED4-89E6-5AFF12E6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0A593-CCCB-4188-8CDC-C9DB594C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BB8A5-58A5-4CA7-B184-A5AE47D7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30450-0175-4833-B5D2-388319F5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00900-436A-4BBA-BA0B-3189006C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DA51B-311C-4CEA-816F-D1F8DC19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55813-33B3-45D9-BD7F-AEB7A1E1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BD95A-CF41-45CE-A9D0-CD1FE86B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DB47E-0FD8-4204-A60A-06D96AC7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3454-6319-4A33-A493-A7E786EB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287C6-1F1C-4D4B-9015-82712CE1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6B4EC-728E-469C-B3F4-4C44A407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06D67-8B3D-4F38-9003-060EFADE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67AC4-B592-49A3-B788-3675103B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DD60D-8215-4BEB-B234-CA94406A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C3F02-A989-4025-8FD1-8DCDC02A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1B59B-AB71-468F-B63D-A302F69A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575C7-3372-47BC-8D10-5E060C98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7DAEB-9B7D-4A7E-AE2F-E87E7424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2634B-DC39-43BA-B390-2D5B5805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4351-3EB7-4210-A835-75F9ADB8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65706-8042-49A9-A5D1-57D94708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0D3CA-28B8-486D-902B-892BC767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50BD3-19CF-4F54-9226-60A8E9DF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36383-C0E2-4ED2-B003-C1BAFBD4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38691-CA05-44F0-BF54-9E975708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68FF-6861-4B20-9612-3BC32401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D5A9-9189-4B65-8205-E0B4A7FE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E9BB-D0DD-4AB0-9559-01B92871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195C-D400-48AF-8871-E4B33968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057D-8E9D-4132-9B3B-3BC7F3F4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B83-CA4D-4D11-B68D-4800B45B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5410-9E24-4F3E-AA57-B056FA6D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3458-6004-41BC-B91D-6B85C3B6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4355-8909-4FE7-A9B2-ECE32E21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AFE7-00C2-4E9A-84ED-8EAC77C9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41E6-CF67-4CAA-9044-BF016725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D1B17-B5C2-4864-875D-99220A9A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9E3C8-4868-4B97-9529-2416606C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A3D79-32DE-480C-8458-5EE82B18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679E3-62A1-42AF-AE76-2393C438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A3968-32D6-45DB-B048-2A9F4B84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2350-6E0F-4BD9-AF79-F183B638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B0343-C19A-499A-87FB-79B2A177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6B35A-3351-4043-9F13-4D1364B7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93D76-33C5-43F3-8127-A8ED9268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5ACDF-E277-44E7-89CB-7C6B98FC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D7243-A38B-4C40-AADF-1EB21471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C3DF0-02BB-4FCC-9A21-369EBD44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B71ED-B7A4-4D85-A2BF-99162B0C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542E9-EA7E-4876-B91D-0A769261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0FB94-10E1-48EC-948B-5F9609B5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E4E30-53B1-45B8-9B0E-FE1D49C5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13A1-13EB-472B-9931-7FE1F8FF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D3940-FCD6-41F4-BE66-EACF91B3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4B3AE-188F-4A65-8CDF-5F42EC10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48F98-329D-4742-8FE0-0BE16C0A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7FF31-884B-4571-A23E-5D0AAEEE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AAA7E-732A-454B-95E2-D129AC48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AACC5-C362-4111-AFE0-0384FDF7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75831-D3F0-419A-8876-49DE3C17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B2BA8-8B4B-44B3-8C00-83EFA54F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16492-362D-4A93-8D3E-FFD92094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B60E6-6108-461E-A40C-05053D5F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6301-B517-4DB4-9D41-D4DE8976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4FCDE-FE92-4DD4-A99F-4B9FC324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F1164-B24C-4736-ACCC-78E45998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9E7BE-6D4C-45A4-A98E-8E76F6EC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68FA5-0710-4ACB-A4DC-CB08AB48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83A16-9433-41FF-BEA9-95F0B5FE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D6E40-B43E-4A83-BF4D-7408EC24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49F50-535B-4039-A3B8-7E875032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7EA42-709F-46AF-AB46-02FF139A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13A78-359C-4E96-8A07-9978E990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C7DFB-F34B-42C1-B38B-2199782F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84B-57C7-43FE-A001-76A3DD9D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D0DE1-72D8-444F-9757-78EFB0AF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48863-7C82-4ED4-8051-AB56B831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B300B-FDCF-49DC-946A-E26B8EDB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C61B2-19B4-411A-8B66-391341D7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0322F-4AA3-4416-9C88-AE46847D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12CCA-EEA9-49EC-8298-782A078B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DDA04-F27E-4C90-860D-6C763DEC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053D8-3985-4035-BCD4-B7FEC479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4645E-D331-439F-948D-3E2852F8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14540-1901-4F09-AD54-DB8EF82D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8F1-65AD-41E0-83CF-1F9BC85E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9E8CB-855A-46AD-B1CC-43DCAEDA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BE4CD-6F45-4253-A838-9404FCBE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99106-073E-4D1E-8D54-2DBAC39B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1B657-9820-4601-8214-CE2020FC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4C3F9-EAC8-43AA-9671-DA6DB6FD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5E2DC-0B4E-46BB-9038-29D6B24A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4F4BB-F59A-441E-BAB7-147A040B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E5B97-17AA-40BF-B322-20E453C6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37FB5-9E80-41D0-B9D0-06E10598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8B2C8-8C94-44C3-BC47-7903331E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966-A53B-47F7-8838-1CFFB3ED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C2BD9-3200-40B4-9E19-A13060FF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2BF97-04C7-4F32-B491-077329A7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C9F21-B95A-4113-A7F9-BB523142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F029F-EE7E-4A6D-AD29-D990C770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E73B4-39C5-4DEF-ABC3-978BA588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607CB-F251-4D77-9671-8AC5DD44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7A34D-B49C-4A93-9D2C-78FC9EFC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35BB0-8DDF-44F8-9F1D-3992B1A1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E2DC9-5F19-4D40-8329-1BC1CF43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1DA07-13D9-4BAE-9073-29566054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381-F25F-45E9-9DA9-6ED1970A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0F3EE-95CF-4E30-9A91-0F44D48D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D0AF9-6CB5-4AE4-B1AA-39668754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66CDD-8F2C-4F28-A567-6817CB0A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61275-D65B-47D4-8B33-4DFD9DE4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E2E1D-7A5A-4679-A506-963DD961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20194-9DFE-4BCF-9D66-BAAD04C8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D408A-3149-443B-8B99-64A46239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744CB-5A1A-4464-899C-A107418E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E759C-F1F0-41E0-A1E7-938A3BD8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5E148-E1A9-45AF-8169-D69AB753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733F-FCBA-4859-9C8B-16789356A63C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743E-FF23-4A86-AEA0-1442946C4465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F889-A1C7-4508-B804-8AEFBB1364AD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03DA-5418-4301-B918-3A3779B7BE66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77B5-0E80-4E68-A527-802FAF0908FF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73A8-88B7-4BBD-BEFD-6B75234892CE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F159-A06B-43D5-8770-484335B0926A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4E06-D584-4777-AA93-635A1BA07ADB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1F1A-9B38-41DC-8989-3BAE98439911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28A3-FDBC-494C-95C0-449F11852F73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00BC-B3B4-4EAD-A73F-6D2ED43432B6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6561-1CD8-45FD-979B-9694EAAA94EA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olidstate.karelia.ru/~KOF/OLD/abitur/images/condensator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ua.radioland.net.ua/images/Meter/izm_emkosti1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b.qrz.ru/files/images/engineer/power3/chapter2/2-73.jpg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Заголовок 1" descr=""/>
          <p:cNvPicPr/>
          <p:nvPr/>
        </p:nvPicPr>
        <p:blipFill>
          <a:blip r:embed="rId1"/>
          <a:stretch/>
        </p:blipFill>
        <p:spPr>
          <a:xfrm>
            <a:off x="622440" y="1401840"/>
            <a:ext cx="8624880" cy="2749320"/>
          </a:xfrm>
          <a:prstGeom prst="rect">
            <a:avLst/>
          </a:prstGeom>
          <a:ln w="0">
            <a:noFill/>
          </a:ln>
        </p:spPr>
      </p:pic>
      <p:pic>
        <p:nvPicPr>
          <p:cNvPr id="502" name="Рисунок 10" descr="240112165.jpg"/>
          <p:cNvPicPr/>
          <p:nvPr/>
        </p:nvPicPr>
        <p:blipFill>
          <a:blip r:embed="rId2"/>
          <a:stretch/>
        </p:blipFill>
        <p:spPr>
          <a:xfrm>
            <a:off x="928800" y="3786120"/>
            <a:ext cx="23572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Прямоугольник 3"/>
          <p:cNvSpPr/>
          <p:nvPr/>
        </p:nvSpPr>
        <p:spPr>
          <a:xfrm>
            <a:off x="571680" y="50004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9d9d9"/>
                </a:solidFill>
                <a:uFillTx/>
                <a:latin typeface="Bookman Old Style"/>
                <a:ea typeface="Times New Roman"/>
              </a:rPr>
              <a:t>Индуктивное сопротивление </a:t>
            </a:r>
            <a:r>
              <a:rPr b="1" lang="ru-RU" sz="3200" spc="-1" strike="noStrike">
                <a:solidFill>
                  <a:srgbClr val="d9d9d9"/>
                </a:solidFill>
                <a:latin typeface="Bookman Old Style"/>
                <a:ea typeface="Times New Roman"/>
              </a:rPr>
              <a:t>– это сопротивление возникающие в катушке индуктив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0" y="11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0" y="11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7" descr="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714240" y="2143080"/>
            <a:ext cx="7677360" cy="142884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9"/>
          <p:cNvSpPr/>
          <p:nvPr/>
        </p:nvSpPr>
        <p:spPr>
          <a:xfrm>
            <a:off x="0" y="11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0" y="1190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Картинка 4 из 172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052640"/>
            <a:ext cx="5112000" cy="554508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4"/>
          <p:cNvSpPr/>
          <p:nvPr/>
        </p:nvSpPr>
        <p:spPr>
          <a:xfrm>
            <a:off x="642960" y="3571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9d9d9"/>
                </a:solidFill>
                <a:uFillTx/>
                <a:latin typeface="Bookman Old Style"/>
                <a:ea typeface="Times New Roman"/>
              </a:rPr>
              <a:t>Конденса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Прямоугольник 5"/>
          <p:cNvSpPr/>
          <p:nvPr/>
        </p:nvSpPr>
        <p:spPr>
          <a:xfrm>
            <a:off x="214200" y="571680"/>
            <a:ext cx="471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9d9d9"/>
                </a:solidFill>
                <a:uFillTx/>
                <a:latin typeface="Bookman Old Style"/>
                <a:ea typeface="Times New Roman"/>
              </a:rPr>
              <a:t>Емкость – </a:t>
            </a:r>
            <a:r>
              <a:rPr b="1" lang="ru-RU" sz="3200" spc="-1" strike="noStrike">
                <a:solidFill>
                  <a:srgbClr val="d9d9d9"/>
                </a:solidFill>
                <a:latin typeface="Bookman Old Style"/>
                <a:ea typeface="Times New Roman"/>
              </a:rPr>
              <a:t>характеристика конденса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Прямоугольник 6" descr=""/>
          <p:cNvPicPr/>
          <p:nvPr/>
        </p:nvPicPr>
        <p:blipFill>
          <a:blip r:embed="rId1"/>
          <a:stretch/>
        </p:blipFill>
        <p:spPr>
          <a:xfrm>
            <a:off x="804960" y="3408480"/>
            <a:ext cx="5997600" cy="23223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" descr="Картинка 95 из 17236">
            <a:hlinkClick r:id="rId2"/>
          </p:cNvPr>
          <p:cNvPicPr/>
          <p:nvPr/>
        </p:nvPicPr>
        <p:blipFill>
          <a:blip r:embed="rId3"/>
          <a:srcRect l="43864" t="68611" r="41865" b="12469"/>
          <a:stretch/>
        </p:blipFill>
        <p:spPr>
          <a:xfrm>
            <a:off x="5286240" y="428760"/>
            <a:ext cx="34290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Прямоугольник 3"/>
          <p:cNvSpPr/>
          <p:nvPr/>
        </p:nvSpPr>
        <p:spPr>
          <a:xfrm>
            <a:off x="571680" y="50004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9d9d9"/>
                </a:solidFill>
                <a:uFillTx/>
                <a:latin typeface="Bookman Old Style"/>
                <a:ea typeface="Times New Roman"/>
              </a:rPr>
              <a:t>Емкостное сопротивление </a:t>
            </a:r>
            <a:r>
              <a:rPr b="1" lang="ru-RU" sz="3200" spc="-1" strike="noStrike">
                <a:solidFill>
                  <a:srgbClr val="d9d9d9"/>
                </a:solidFill>
                <a:latin typeface="Bookman Old Style"/>
                <a:ea typeface="Times New Roman"/>
              </a:rPr>
              <a:t>– это сопротивление возникающие в конденсато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0" y="11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4" descr="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1214280" y="1785960"/>
            <a:ext cx="6977160" cy="214308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6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Прямоугольник 3" descr=""/>
          <p:cNvPicPr/>
          <p:nvPr/>
        </p:nvPicPr>
        <p:blipFill>
          <a:blip r:embed="rId1"/>
          <a:stretch/>
        </p:blipFill>
        <p:spPr>
          <a:xfrm>
            <a:off x="749160" y="291960"/>
            <a:ext cx="7729560" cy="1944720"/>
          </a:xfrm>
          <a:prstGeom prst="rect">
            <a:avLst/>
          </a:prstGeom>
          <a:ln w="0">
            <a:noFill/>
          </a:ln>
        </p:spPr>
      </p:pic>
      <p:grpSp>
        <p:nvGrpSpPr>
          <p:cNvPr id="556" name="Группа 11"/>
          <p:cNvGrpSpPr/>
          <p:nvPr/>
        </p:nvGrpSpPr>
        <p:grpSpPr>
          <a:xfrm>
            <a:off x="1146240" y="2421000"/>
            <a:ext cx="6740640" cy="3618000"/>
            <a:chOff x="1146240" y="2421000"/>
            <a:chExt cx="6740640" cy="3618000"/>
          </a:xfrm>
        </p:grpSpPr>
        <p:pic>
          <p:nvPicPr>
            <p:cNvPr id="557" name="Рисунок 5" descr="welcome_back.gif"/>
            <p:cNvPicPr/>
            <p:nvPr/>
          </p:nvPicPr>
          <p:blipFill>
            <a:blip r:embed="rId2"/>
            <a:stretch/>
          </p:blipFill>
          <p:spPr>
            <a:xfrm rot="20694000">
              <a:off x="1332000" y="3923280"/>
              <a:ext cx="2741760" cy="178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Рисунок 6" descr="back_to_school_kids.gif"/>
            <p:cNvPicPr/>
            <p:nvPr/>
          </p:nvPicPr>
          <p:blipFill>
            <a:blip r:embed="rId3"/>
            <a:stretch/>
          </p:blipFill>
          <p:spPr>
            <a:xfrm>
              <a:off x="2423160" y="2926800"/>
              <a:ext cx="2741760" cy="30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Рисунок 7" descr="school_kids.gif"/>
            <p:cNvPicPr/>
            <p:nvPr/>
          </p:nvPicPr>
          <p:blipFill>
            <a:blip r:embed="rId4"/>
            <a:stretch/>
          </p:blipFill>
          <p:spPr>
            <a:xfrm>
              <a:off x="5145120" y="2421000"/>
              <a:ext cx="2741760" cy="250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Прямоугольник 11"/>
            <p:cNvSpPr/>
            <p:nvPr/>
          </p:nvSpPr>
          <p:spPr>
            <a:xfrm rot="20923200">
              <a:off x="3322080" y="4426200"/>
              <a:ext cx="1069200" cy="79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Заголовок 1" descr=""/>
          <p:cNvPicPr/>
          <p:nvPr/>
        </p:nvPicPr>
        <p:blipFill>
          <a:blip r:embed="rId1"/>
          <a:stretch/>
        </p:blipFill>
        <p:spPr>
          <a:xfrm>
            <a:off x="774720" y="585720"/>
            <a:ext cx="8021520" cy="2559240"/>
          </a:xfrm>
          <a:prstGeom prst="rect">
            <a:avLst/>
          </a:prstGeom>
          <a:ln w="0">
            <a:noFill/>
          </a:ln>
        </p:spPr>
      </p:pic>
      <p:sp>
        <p:nvSpPr>
          <p:cNvPr id="504" name="Полилиния 6"/>
          <p:cNvSpPr/>
          <p:nvPr/>
        </p:nvSpPr>
        <p:spPr>
          <a:xfrm>
            <a:off x="1928880" y="3500280"/>
            <a:ext cx="5376960" cy="1911600"/>
          </a:xfrm>
          <a:custGeom>
            <a:avLst/>
            <a:gdLst/>
            <a:ahLst/>
            <a:rect l="l" t="t" r="r" b="b"/>
            <a:pathLst>
              <a:path w="3330053" h="1910687">
                <a:moveTo>
                  <a:pt x="0" y="1910687"/>
                </a:moveTo>
                <a:cubicBezTo>
                  <a:pt x="243385" y="968991"/>
                  <a:pt x="486770" y="27296"/>
                  <a:pt x="668740" y="13648"/>
                </a:cubicBezTo>
                <a:cubicBezTo>
                  <a:pt x="850710" y="0"/>
                  <a:pt x="925772" y="1819703"/>
                  <a:pt x="1091820" y="1828801"/>
                </a:cubicBezTo>
                <a:cubicBezTo>
                  <a:pt x="1257868" y="1837899"/>
                  <a:pt x="1473957" y="70514"/>
                  <a:pt x="1665026" y="68239"/>
                </a:cubicBezTo>
                <a:cubicBezTo>
                  <a:pt x="1856095" y="65964"/>
                  <a:pt x="2047163" y="1815153"/>
                  <a:pt x="2238232" y="1815153"/>
                </a:cubicBezTo>
                <a:cubicBezTo>
                  <a:pt x="2429301" y="1815153"/>
                  <a:pt x="2629468" y="77337"/>
                  <a:pt x="2811438" y="68239"/>
                </a:cubicBezTo>
                <a:cubicBezTo>
                  <a:pt x="2993408" y="59141"/>
                  <a:pt x="3161730" y="909851"/>
                  <a:pt x="3330053" y="176056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62"/>
          <p:cNvSpPr/>
          <p:nvPr/>
        </p:nvSpPr>
        <p:spPr>
          <a:xfrm>
            <a:off x="357120" y="500040"/>
            <a:ext cx="56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Подзаголовок 2" descr=""/>
          <p:cNvPicPr/>
          <p:nvPr/>
        </p:nvPicPr>
        <p:blipFill>
          <a:blip r:embed="rId1"/>
          <a:stretch/>
        </p:blipFill>
        <p:spPr>
          <a:xfrm>
            <a:off x="566640" y="1822320"/>
            <a:ext cx="836928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Подзаголовок 2" descr=""/>
          <p:cNvPicPr/>
          <p:nvPr/>
        </p:nvPicPr>
        <p:blipFill>
          <a:blip r:embed="rId1"/>
          <a:stretch/>
        </p:blipFill>
        <p:spPr>
          <a:xfrm>
            <a:off x="281160" y="1133640"/>
            <a:ext cx="8918280" cy="1645920"/>
          </a:xfrm>
          <a:prstGeom prst="rect">
            <a:avLst/>
          </a:prstGeom>
          <a:ln w="0">
            <a:noFill/>
          </a:ln>
        </p:spPr>
      </p:pic>
      <p:pic>
        <p:nvPicPr>
          <p:cNvPr id="508" name="Прямоугольник 4" descr=""/>
          <p:cNvPicPr/>
          <p:nvPr/>
        </p:nvPicPr>
        <p:blipFill>
          <a:blip r:embed="rId2"/>
          <a:stretch/>
        </p:blipFill>
        <p:spPr>
          <a:xfrm>
            <a:off x="1414440" y="2389320"/>
            <a:ext cx="6364440" cy="2768400"/>
          </a:xfrm>
          <a:prstGeom prst="rect">
            <a:avLst/>
          </a:prstGeom>
          <a:ln w="0">
            <a:noFill/>
          </a:ln>
        </p:spPr>
      </p:pic>
      <p:pic>
        <p:nvPicPr>
          <p:cNvPr id="509" name="Подзаголовок 2" descr=""/>
          <p:cNvPicPr/>
          <p:nvPr/>
        </p:nvPicPr>
        <p:blipFill>
          <a:blip r:embed="rId3"/>
          <a:stretch/>
        </p:blipFill>
        <p:spPr>
          <a:xfrm>
            <a:off x="633240" y="-109440"/>
            <a:ext cx="78775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Подзаголовок 2" descr=""/>
          <p:cNvPicPr/>
          <p:nvPr/>
        </p:nvPicPr>
        <p:blipFill>
          <a:blip r:embed="rId1"/>
          <a:stretch/>
        </p:blipFill>
        <p:spPr>
          <a:xfrm>
            <a:off x="493560" y="1133640"/>
            <a:ext cx="8229600" cy="1645920"/>
          </a:xfrm>
          <a:prstGeom prst="rect">
            <a:avLst/>
          </a:prstGeom>
          <a:ln w="0">
            <a:noFill/>
          </a:ln>
        </p:spPr>
      </p:pic>
      <p:pic>
        <p:nvPicPr>
          <p:cNvPr id="511" name="Прямоугольник 4" descr=""/>
          <p:cNvPicPr/>
          <p:nvPr/>
        </p:nvPicPr>
        <p:blipFill>
          <a:blip r:embed="rId2"/>
          <a:stretch/>
        </p:blipFill>
        <p:spPr>
          <a:xfrm>
            <a:off x="291960" y="1646280"/>
            <a:ext cx="8139240" cy="3968640"/>
          </a:xfrm>
          <a:prstGeom prst="rect">
            <a:avLst/>
          </a:prstGeom>
          <a:ln w="0">
            <a:noFill/>
          </a:ln>
        </p:spPr>
      </p:pic>
      <p:pic>
        <p:nvPicPr>
          <p:cNvPr id="512" name="Подзаголовок 2" descr=""/>
          <p:cNvPicPr/>
          <p:nvPr/>
        </p:nvPicPr>
        <p:blipFill>
          <a:blip r:embed="rId3"/>
          <a:stretch/>
        </p:blipFill>
        <p:spPr>
          <a:xfrm>
            <a:off x="633240" y="-109440"/>
            <a:ext cx="78775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Подзаголовок 2" descr=""/>
          <p:cNvPicPr/>
          <p:nvPr/>
        </p:nvPicPr>
        <p:blipFill>
          <a:blip r:embed="rId1"/>
          <a:stretch/>
        </p:blipFill>
        <p:spPr>
          <a:xfrm>
            <a:off x="262080" y="853920"/>
            <a:ext cx="8955000" cy="2273400"/>
          </a:xfrm>
          <a:prstGeom prst="rect">
            <a:avLst/>
          </a:prstGeom>
          <a:ln w="0">
            <a:noFill/>
          </a:ln>
        </p:spPr>
      </p:pic>
      <p:pic>
        <p:nvPicPr>
          <p:cNvPr id="514" name="Подзаголовок 2" descr=""/>
          <p:cNvPicPr/>
          <p:nvPr/>
        </p:nvPicPr>
        <p:blipFill>
          <a:blip r:embed="rId2"/>
          <a:stretch/>
        </p:blipFill>
        <p:spPr>
          <a:xfrm>
            <a:off x="633240" y="-109440"/>
            <a:ext cx="7877520" cy="146844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1" descr=""/>
          <p:cNvPicPr/>
          <p:nvPr/>
        </p:nvPicPr>
        <p:blipFill>
          <a:blip r:embed="rId3"/>
          <a:stretch/>
        </p:blipFill>
        <p:spPr>
          <a:xfrm>
            <a:off x="571680" y="3071880"/>
            <a:ext cx="3352680" cy="10764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517" name="Rectangle 3"/>
          <p:cNvSpPr/>
          <p:nvPr/>
        </p:nvSpPr>
        <p:spPr>
          <a:xfrm>
            <a:off x="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214200" y="4214880"/>
            <a:ext cx="3638520" cy="107640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6"/>
          <p:cNvSpPr/>
          <p:nvPr/>
        </p:nvSpPr>
        <p:spPr>
          <a:xfrm>
            <a:off x="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7" descr=""/>
          <p:cNvPicPr/>
          <p:nvPr/>
        </p:nvPicPr>
        <p:blipFill>
          <a:blip r:embed="rId5">
            <a:lum bright="100000"/>
          </a:blip>
          <a:stretch/>
        </p:blipFill>
        <p:spPr>
          <a:xfrm>
            <a:off x="500040" y="5429160"/>
            <a:ext cx="3571920" cy="107640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9"/>
          <p:cNvSpPr/>
          <p:nvPr/>
        </p:nvSpPr>
        <p:spPr>
          <a:xfrm>
            <a:off x="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Подзаголовок 2" descr=""/>
          <p:cNvPicPr/>
          <p:nvPr/>
        </p:nvPicPr>
        <p:blipFill>
          <a:blip r:embed="rId6"/>
          <a:stretch/>
        </p:blipFill>
        <p:spPr>
          <a:xfrm>
            <a:off x="4011480" y="3279600"/>
            <a:ext cx="5059440" cy="633600"/>
          </a:xfrm>
          <a:prstGeom prst="rect">
            <a:avLst/>
          </a:prstGeom>
          <a:ln w="0">
            <a:noFill/>
          </a:ln>
        </p:spPr>
      </p:pic>
      <p:pic>
        <p:nvPicPr>
          <p:cNvPr id="524" name="Подзаголовок 2" descr=""/>
          <p:cNvPicPr/>
          <p:nvPr/>
        </p:nvPicPr>
        <p:blipFill>
          <a:blip r:embed="rId7"/>
          <a:stretch/>
        </p:blipFill>
        <p:spPr>
          <a:xfrm>
            <a:off x="3852720" y="4425840"/>
            <a:ext cx="5370480" cy="627120"/>
          </a:xfrm>
          <a:prstGeom prst="rect">
            <a:avLst/>
          </a:prstGeom>
          <a:ln w="0">
            <a:noFill/>
          </a:ln>
        </p:spPr>
      </p:pic>
      <p:pic>
        <p:nvPicPr>
          <p:cNvPr id="525" name="Подзаголовок 2" descr=""/>
          <p:cNvPicPr/>
          <p:nvPr/>
        </p:nvPicPr>
        <p:blipFill>
          <a:blip r:embed="rId8"/>
          <a:stretch/>
        </p:blipFill>
        <p:spPr>
          <a:xfrm>
            <a:off x="4206960" y="5638680"/>
            <a:ext cx="47289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Подзаголовок 2" descr=""/>
          <p:cNvPicPr/>
          <p:nvPr/>
        </p:nvPicPr>
        <p:blipFill>
          <a:blip r:embed="rId1"/>
          <a:stretch/>
        </p:blipFill>
        <p:spPr>
          <a:xfrm>
            <a:off x="585720" y="1395360"/>
            <a:ext cx="7351920" cy="3882960"/>
          </a:xfrm>
          <a:prstGeom prst="rect">
            <a:avLst/>
          </a:prstGeom>
          <a:ln w="0">
            <a:noFill/>
          </a:ln>
        </p:spPr>
      </p:pic>
      <p:pic>
        <p:nvPicPr>
          <p:cNvPr id="527" name="Подзаголовок 2" descr=""/>
          <p:cNvPicPr/>
          <p:nvPr/>
        </p:nvPicPr>
        <p:blipFill>
          <a:blip r:embed="rId2"/>
          <a:stretch/>
        </p:blipFill>
        <p:spPr>
          <a:xfrm>
            <a:off x="512640" y="-6480"/>
            <a:ext cx="8210520" cy="1365480"/>
          </a:xfrm>
          <a:prstGeom prst="rect">
            <a:avLst/>
          </a:prstGeom>
          <a:ln w="0">
            <a:noFill/>
          </a:ln>
        </p:spPr>
      </p:pic>
      <p:sp>
        <p:nvSpPr>
          <p:cNvPr id="528" name="TextBox 62"/>
          <p:cNvSpPr/>
          <p:nvPr/>
        </p:nvSpPr>
        <p:spPr>
          <a:xfrm>
            <a:off x="7215120" y="3357720"/>
            <a:ext cx="56052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!</a:t>
            </a:r>
            <a:endParaRPr b="0" lang="en-US" sz="1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http://im0-tub.yandex.net/i?id=42218707&amp;tov=0"/>
          <p:cNvPicPr/>
          <p:nvPr/>
        </p:nvPicPr>
        <p:blipFill>
          <a:blip r:embed="rId1"/>
          <a:stretch/>
        </p:blipFill>
        <p:spPr>
          <a:xfrm>
            <a:off x="2340000" y="1197000"/>
            <a:ext cx="4032360" cy="4762440"/>
          </a:xfrm>
          <a:prstGeom prst="rect">
            <a:avLst/>
          </a:prstGeom>
          <a:ln w="0">
            <a:noFill/>
          </a:ln>
        </p:spPr>
      </p:pic>
      <p:sp>
        <p:nvSpPr>
          <p:cNvPr id="530" name="Прямоугольник 5"/>
          <p:cNvSpPr/>
          <p:nvPr/>
        </p:nvSpPr>
        <p:spPr>
          <a:xfrm>
            <a:off x="642960" y="3571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9d9d9"/>
                </a:solidFill>
                <a:uFillTx/>
                <a:latin typeface="Bookman Old Style"/>
                <a:ea typeface="Times New Roman"/>
              </a:rPr>
              <a:t>Катушка индуктив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Картинка 80 из 1496">
            <a:hlinkClick r:id="rId1"/>
          </p:cNvPr>
          <p:cNvPicPr/>
          <p:nvPr/>
        </p:nvPicPr>
        <p:blipFill>
          <a:blip r:embed="rId2"/>
          <a:srcRect l="46441" t="0" r="21202" b="45505"/>
          <a:stretch/>
        </p:blipFill>
        <p:spPr>
          <a:xfrm>
            <a:off x="5000760" y="285840"/>
            <a:ext cx="3786120" cy="3457440"/>
          </a:xfrm>
          <a:prstGeom prst="rect">
            <a:avLst/>
          </a:prstGeom>
          <a:ln w="0">
            <a:noFill/>
          </a:ln>
        </p:spPr>
      </p:pic>
      <p:sp>
        <p:nvSpPr>
          <p:cNvPr id="532" name="Прямоугольник 5"/>
          <p:cNvSpPr/>
          <p:nvPr/>
        </p:nvSpPr>
        <p:spPr>
          <a:xfrm>
            <a:off x="214200" y="571680"/>
            <a:ext cx="4714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9d9d9"/>
                </a:solidFill>
                <a:uFillTx/>
                <a:latin typeface="Bookman Old Style"/>
                <a:ea typeface="Times New Roman"/>
              </a:rPr>
              <a:t>Индуктивность – </a:t>
            </a:r>
            <a:r>
              <a:rPr b="1" lang="ru-RU" sz="3200" spc="-1" strike="noStrike">
                <a:solidFill>
                  <a:srgbClr val="d9d9d9"/>
                </a:solidFill>
                <a:latin typeface="Bookman Old Style"/>
                <a:ea typeface="Times New Roman"/>
              </a:rPr>
              <a:t>характеристика катушки индуктив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Прямоугольник 6" descr=""/>
          <p:cNvPicPr/>
          <p:nvPr/>
        </p:nvPicPr>
        <p:blipFill>
          <a:blip r:embed="rId3"/>
          <a:stretch/>
        </p:blipFill>
        <p:spPr>
          <a:xfrm>
            <a:off x="615960" y="3408480"/>
            <a:ext cx="63817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6:32:55Z</dcterms:created>
  <dc:creator>Admin</dc:creator>
  <dc:description/>
  <dc:language>en-US</dc:language>
  <cp:lastModifiedBy>1</cp:lastModifiedBy>
  <dcterms:modified xsi:type="dcterms:W3CDTF">2015-01-31T06:24:24Z</dcterms:modified>
  <cp:revision>55</cp:revision>
  <dc:subject/>
  <dc:title>Переменный  ток</dc:title>
</cp:coreProperties>
</file>