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35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27.png" ContentType="image/png"/>
  <Override PartName="/ppt/media/image34.gif" ContentType="image/gif"/>
  <Override PartName="/ppt/media/image3.png" ContentType="image/png"/>
  <Override PartName="/ppt/media/image26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CEA-B768-4512-BEA4-8EA28680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5BE-6661-46E6-8864-1D71C713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FD635-0D47-4CC4-AB1B-8168A7F0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6A61E-2721-4BE9-A31F-ED10D6C8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18538-0282-4949-A219-93DD5FA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2AB0-E668-4E29-A8DA-D207F2A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5155C-7C5B-4D73-BE11-A45D083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2FB0F-3741-4BA7-A629-13AA975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64AB-E403-46A5-B2C6-37A1E32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B1047-0EC1-4C4F-ADD8-4B54C2A2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2ED5-5F7D-4D17-8516-31A1580F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8F22F-4D4F-4021-8FBE-B92555EC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EF5-D2C4-4074-9279-2C1EED74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C226-DDA0-43FD-9D9E-88D9310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DB89-E788-4950-8ED4-FA4300C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91AE8-F50D-48AA-855C-9AF09FD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A8FB0-13D2-4786-8B3F-54B4894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6800B-CD5E-4808-9DCB-DDD7FB9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2071D-7637-4392-85BE-300BF23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AE495-904D-44CF-9369-63558CB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7B64F-F18C-4201-AF91-00256FA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64F98-B5CA-41A5-9C7B-58B0E8E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86A3A-6290-494D-BC65-8597D992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B31-E2BA-4CE0-B43A-76457446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34583-3A31-4AE7-BFC1-944E0216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EC13C-4A32-49F6-ABD9-0F68742C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D124B-E7FC-49AB-A56C-0980D3A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F821C-B180-4BF7-B008-2FE4E3BF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E0C91-F9C2-4646-8D44-E5C967EB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D377B-29FE-4844-B0BA-444F4E8A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AFB3E-EC6F-4364-BD9C-296C95B7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7037A-F242-4981-B076-7DD46F7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AE5AE-61F5-45BA-B54C-1BC6D69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1AD18-F2EB-46A3-B975-D1A3D2A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D9C4-BA1E-4427-8EF4-03FF9A80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765D6-18E7-4441-85BB-13F9A552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860F-82F4-4A36-8BB0-F19158BC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29AB4-BA7A-45C8-9D75-2F5E5CA9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1B968-DD8D-4E9F-8F4C-694E6943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8A8B-2CB3-4B74-86C6-6F6C363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E0773-F7B1-4CD0-AA85-BBD616D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DC06-D73D-4954-A8CD-C816A3C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FD703-CA58-4C52-8155-B96174D0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C7B69-52CB-45F1-9068-B46E6A9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8DCBA-6590-425D-BD72-4C6C5A7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AC58-97CF-4954-AF56-1CB2B9C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C4E93-2CAB-4797-B4E0-5D4A0DC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7BD6-6E99-4F9A-9F6A-1FD45DD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FEC2D-F754-4053-8311-2604DB5A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E906A-15B8-4CC9-B5FF-149B698F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5744-FED2-4915-9D37-79685D03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A7E-9751-4224-8FB0-DEA9B587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DFF-D28B-4415-A0A5-38A71CA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7A30-0380-4283-82EE-DD0521B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EEDB-8D21-43C9-BC5F-83FD3D9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37A-5A60-4D58-8FF6-3A92662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052-F1EC-4CDE-AFC6-D7B8D48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EEF-B390-472C-912C-23C85B5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33B-CEC0-4B38-B4F0-BFD97350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05B2-6985-4E51-9126-53309D0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129-D722-482F-9635-117A8D0F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49AC-B157-44C5-BA72-7EFB9F97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3AF8-A9CD-45E9-A2AB-33576A85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CFB3-5C4B-4160-AE3E-F012B73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8303-998B-4312-818F-A1FF8140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37B4-ED74-4582-9FD2-95ABB581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0E25-4DE7-4CB9-8731-00F7948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E84-BFF5-4FF1-8231-9B790942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7D4D-0188-41A9-A5C6-EDFAA1C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FAE1-D6F3-48C2-8859-7D7B76F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3A81-DF93-4E5F-A0C1-CAC8A12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8B98-6C92-4C31-BEE2-0876218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A697-34BC-4941-9DDF-A0D0C50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31E7-5B27-4A31-9F3D-D6812F90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22B4-5417-41F1-922D-1998E6C3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E259-DEE3-4C14-981F-C5B81DD8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0A05-42A7-4839-A096-589921AD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4C78-CB92-4159-8AA9-E6E9006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F5B-8ACB-475B-BE3D-D15A82E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A427-5EBF-4CD9-89C3-83F0E84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8251-77DB-4B2A-85C5-4C8EE25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B7680-076F-441F-8F14-EBEDC5A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D889-B711-448A-9481-CAD3363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D265-4739-4669-984C-6C2CA24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98C1-ABC9-484D-82DC-E887B49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6314-512C-44AE-9F6E-CCA659D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C748-BBFE-4FDB-8FD4-D39112EF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2C9F-F33C-454B-BD55-5B4CAB40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CE1C-CCB1-4194-BA14-8D0DB7C3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1CF-026F-4EF2-8468-47A93B60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BCC40-691E-4769-A293-99E14F8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21B2-AECB-427D-B762-7469013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2BAA-B7BF-444D-B0CF-A4FF6BE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B03D-5B27-432A-86C0-7D9E281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7BC5C-34B9-4200-8850-5F88092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C988-95E0-4D14-91F3-1B3F1EB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219D-4FCC-4A40-8311-D4EBFAE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343C-9CB7-4BC6-B73F-2EA777C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2066-3C59-469C-84F1-F6B7634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DCD7-7BFD-4D9D-B84D-CE612D45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629-0C56-44EA-8586-BF7D5382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9C2B-687C-450B-93DD-83F3615D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C87B-E040-46E3-A8FE-9E7832C2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F98E-33EE-4DA5-B804-270794B8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276F-8092-4931-990C-F9FC4F7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F4D7-573B-4108-8A1A-6E29E3E2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E179-DFCF-4781-8C93-CBE01C4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75C1-C5D3-4BCD-95C6-CE89A5EC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2CD9-1FB8-4367-835E-0DE4AFD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C380A-6F39-47DF-BA37-953F603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BAE2E-F48D-42B1-ACF8-334C33A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CFF-674E-4DA0-BC2D-20D280A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7B4B-FD6F-4064-886A-6114BC4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131C-2E49-4A6D-807F-841C8B20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B594-A4B2-433E-852C-0135CE23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6F84-EF7B-44D0-998D-6DC6DF2D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B91D-D839-4CF8-8063-BC18AA5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A9F2-C6DD-40AC-9D56-D862E54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CCD5-3D98-4C0C-9666-025B4DB5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3153-F776-48A2-91F0-14598873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461D-FB8E-46A9-9CC6-112B6273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F99CD-9511-4FF7-8B62-77A82A9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D55-1DC4-43F5-BB22-71BEB07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B2A3-4389-48AB-BEFE-A95A293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8C06-D4AB-4E86-BC26-E515A9F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05140-9BE7-4AE8-8408-A5D4D05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420EE-62EB-4247-BE02-05BFF483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9D32-3CCF-4CD6-ABDC-AC4AA640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6FA0-3C06-4BA6-A89D-A10C1BC7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BA51F-333E-4F74-8D84-67CAE31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2E2A-B575-4DA6-972C-CB31A737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926B-5BCF-45B8-8786-4A3614C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E847-341B-4FAD-BFF2-302A7E9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681-6DA6-4734-9122-FE3F9BD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85E4-4B2E-4ED3-83F9-38D1259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61159-C23B-4762-A483-540F798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6FB09-1518-4B70-B321-1FFD51E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D0147-F666-4CC7-8F5B-1EE6274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B46B-7BAB-4884-9B47-96A02B4E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4E0C-A299-497B-B601-7BE7C946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AF00-9AC3-444B-9C5A-60B2FD02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01B43-D473-4FA4-AF6F-3831B73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89BC-EEE3-493B-B249-82938641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D5171-C9F6-40E2-B2E4-528C235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1E4A-F510-4D9C-B8F4-D4D06B673C6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B0E-5E65-4FA2-85AE-F47DF502173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2B5-E61F-4511-A578-85B15F1F3E2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4BB1-961C-46AE-9D86-71F61DCF360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51F-B232-444F-AB81-97E74F0DA3F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82D-D5FC-42B0-97AF-FD1A5FB690D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16C6-9889-441A-A8DC-0BDF6E23D22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1D7-16C0-4792-B01E-76CEAC91A46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915-CF75-4D2C-8C08-F4052463049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DC1-3FA9-4B37-900B-EFD94714404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67D7-FC2C-4FDC-B7B9-E314470DE64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9928-A5E4-48CA-ADAC-65EDDD4A605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olidstate.karelia.ru/~KOF/OLD/abitur/images/condensator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ua.radioland.net.ua/images/Meter/izm_emkosti1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.qrz.ru/files/images/engineer/power3/chapter2/2-73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622440" y="1401840"/>
            <a:ext cx="8624880" cy="27493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0" descr="240112165.jpg"/>
          <p:cNvPicPr/>
          <p:nvPr/>
        </p:nvPicPr>
        <p:blipFill>
          <a:blip r:embed="rId2"/>
          <a:stretch/>
        </p:blipFill>
        <p:spPr>
          <a:xfrm>
            <a:off x="928800" y="378612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3"/>
          <p:cNvSpPr/>
          <p:nvPr/>
        </p:nvSpPr>
        <p:spPr>
          <a:xfrm>
            <a:off x="571680" y="500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Индуктивное сопротивление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– это сопротивление возникающие в катушке индук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714240" y="2143080"/>
            <a:ext cx="7677360" cy="14288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9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1190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Картинка 4 из 172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052640"/>
            <a:ext cx="5112000" cy="5545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4"/>
          <p:cNvSpPr/>
          <p:nvPr/>
        </p:nvSpPr>
        <p:spPr>
          <a:xfrm>
            <a:off x="642960" y="357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Конденса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5"/>
          <p:cNvSpPr/>
          <p:nvPr/>
        </p:nvSpPr>
        <p:spPr>
          <a:xfrm>
            <a:off x="214200" y="57168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Емкость –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характеристика конденса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3408480"/>
            <a:ext cx="5997600" cy="232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Картинка 95 из 17236">
            <a:hlinkClick r:id="rId2"/>
          </p:cNvPr>
          <p:cNvPicPr/>
          <p:nvPr/>
        </p:nvPicPr>
        <p:blipFill>
          <a:blip r:embed="rId3"/>
          <a:srcRect l="43864" t="68611" r="41865" b="12469"/>
          <a:stretch/>
        </p:blipFill>
        <p:spPr>
          <a:xfrm>
            <a:off x="5286240" y="428760"/>
            <a:ext cx="34290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3"/>
          <p:cNvSpPr/>
          <p:nvPr/>
        </p:nvSpPr>
        <p:spPr>
          <a:xfrm>
            <a:off x="571680" y="500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Емкостное сопротивление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– это сопротивление возникающие в конденса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214280" y="1785960"/>
            <a:ext cx="6977160" cy="21430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6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7295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556" name="Группа 11"/>
          <p:cNvGrpSpPr/>
          <p:nvPr/>
        </p:nvGrpSpPr>
        <p:grpSpPr>
          <a:xfrm>
            <a:off x="1146240" y="2421000"/>
            <a:ext cx="6740640" cy="3618000"/>
            <a:chOff x="1146240" y="2421000"/>
            <a:chExt cx="6740640" cy="3618000"/>
          </a:xfrm>
        </p:grpSpPr>
        <p:pic>
          <p:nvPicPr>
            <p:cNvPr id="557" name="Рисунок 5" descr="welcome_back.gif"/>
            <p:cNvPicPr/>
            <p:nvPr/>
          </p:nvPicPr>
          <p:blipFill>
            <a:blip r:embed="rId2"/>
            <a:stretch/>
          </p:blipFill>
          <p:spPr>
            <a:xfrm rot="20694000">
              <a:off x="1332000" y="3923280"/>
              <a:ext cx="2741760" cy="178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Рисунок 6" descr="back_to_school_kids.gif"/>
            <p:cNvPicPr/>
            <p:nvPr/>
          </p:nvPicPr>
          <p:blipFill>
            <a:blip r:embed="rId3"/>
            <a:stretch/>
          </p:blipFill>
          <p:spPr>
            <a:xfrm>
              <a:off x="2423160" y="2926800"/>
              <a:ext cx="2741760" cy="30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Рисунок 7" descr="school_kids.gif"/>
            <p:cNvPicPr/>
            <p:nvPr/>
          </p:nvPicPr>
          <p:blipFill>
            <a:blip r:embed="rId4"/>
            <a:stretch/>
          </p:blipFill>
          <p:spPr>
            <a:xfrm>
              <a:off x="5145120" y="2421000"/>
              <a:ext cx="2741760" cy="25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Прямоугольник 11"/>
            <p:cNvSpPr/>
            <p:nvPr/>
          </p:nvSpPr>
          <p:spPr>
            <a:xfrm rot="20923200">
              <a:off x="3322080" y="4426200"/>
              <a:ext cx="1069200" cy="79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774720" y="585720"/>
            <a:ext cx="8021520" cy="2559240"/>
          </a:xfrm>
          <a:prstGeom prst="rect">
            <a:avLst/>
          </a:prstGeom>
          <a:ln w="0">
            <a:noFill/>
          </a:ln>
        </p:spPr>
      </p:pic>
      <p:sp>
        <p:nvSpPr>
          <p:cNvPr id="504" name="Полилиния 6"/>
          <p:cNvSpPr/>
          <p:nvPr/>
        </p:nvSpPr>
        <p:spPr>
          <a:xfrm>
            <a:off x="1928880" y="3500280"/>
            <a:ext cx="5376960" cy="1911600"/>
          </a:xfrm>
          <a:custGeom>
            <a:avLst/>
            <a:gdLst/>
            <a:ahLst/>
            <a:rect l="l" t="t" r="r" b="b"/>
            <a:pathLst>
              <a:path w="3330053" h="1910687">
                <a:moveTo>
                  <a:pt x="0" y="1910687"/>
                </a:moveTo>
                <a:cubicBezTo>
                  <a:pt x="243385" y="968991"/>
                  <a:pt x="486770" y="27296"/>
                  <a:pt x="668740" y="13648"/>
                </a:cubicBezTo>
                <a:cubicBezTo>
                  <a:pt x="850710" y="0"/>
                  <a:pt x="925772" y="1819703"/>
                  <a:pt x="1091820" y="1828801"/>
                </a:cubicBezTo>
                <a:cubicBezTo>
                  <a:pt x="1257868" y="1837899"/>
                  <a:pt x="1473957" y="70514"/>
                  <a:pt x="1665026" y="68239"/>
                </a:cubicBezTo>
                <a:cubicBezTo>
                  <a:pt x="1856095" y="65964"/>
                  <a:pt x="2047163" y="1815153"/>
                  <a:pt x="2238232" y="1815153"/>
                </a:cubicBezTo>
                <a:cubicBezTo>
                  <a:pt x="2429301" y="1815153"/>
                  <a:pt x="2629468" y="77337"/>
                  <a:pt x="2811438" y="68239"/>
                </a:cubicBezTo>
                <a:cubicBezTo>
                  <a:pt x="2993408" y="59141"/>
                  <a:pt x="3161730" y="909851"/>
                  <a:pt x="3330053" y="176056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62"/>
          <p:cNvSpPr/>
          <p:nvPr/>
        </p:nvSpPr>
        <p:spPr>
          <a:xfrm>
            <a:off x="357120" y="500040"/>
            <a:ext cx="56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Подзаголовок 2" descr=""/>
          <p:cNvPicPr/>
          <p:nvPr/>
        </p:nvPicPr>
        <p:blipFill>
          <a:blip r:embed="rId1"/>
          <a:stretch/>
        </p:blipFill>
        <p:spPr>
          <a:xfrm>
            <a:off x="566640" y="1822320"/>
            <a:ext cx="83692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Подзаголовок 2" descr=""/>
          <p:cNvPicPr/>
          <p:nvPr/>
        </p:nvPicPr>
        <p:blipFill>
          <a:blip r:embed="rId1"/>
          <a:stretch/>
        </p:blipFill>
        <p:spPr>
          <a:xfrm>
            <a:off x="281160" y="1133640"/>
            <a:ext cx="8918280" cy="164592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6364440" cy="2768400"/>
          </a:xfrm>
          <a:prstGeom prst="rect">
            <a:avLst/>
          </a:prstGeom>
          <a:ln w="0">
            <a:noFill/>
          </a:ln>
        </p:spPr>
      </p:pic>
      <p:pic>
        <p:nvPicPr>
          <p:cNvPr id="509" name="Подзаголовок 2" descr=""/>
          <p:cNvPicPr/>
          <p:nvPr/>
        </p:nvPicPr>
        <p:blipFill>
          <a:blip r:embed="rId3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Подзаголовок 2" descr=""/>
          <p:cNvPicPr/>
          <p:nvPr/>
        </p:nvPicPr>
        <p:blipFill>
          <a:blip r:embed="rId1"/>
          <a:stretch/>
        </p:blipFill>
        <p:spPr>
          <a:xfrm>
            <a:off x="493560" y="1133640"/>
            <a:ext cx="8229600" cy="1645920"/>
          </a:xfrm>
          <a:prstGeom prst="rect">
            <a:avLst/>
          </a:prstGeom>
          <a:ln w="0">
            <a:noFill/>
          </a:ln>
        </p:spPr>
      </p:pic>
      <p:pic>
        <p:nvPicPr>
          <p:cNvPr id="511" name="Прямоугольник 4" descr=""/>
          <p:cNvPicPr/>
          <p:nvPr/>
        </p:nvPicPr>
        <p:blipFill>
          <a:blip r:embed="rId2"/>
          <a:stretch/>
        </p:blipFill>
        <p:spPr>
          <a:xfrm>
            <a:off x="291960" y="1646280"/>
            <a:ext cx="8139240" cy="3968640"/>
          </a:xfrm>
          <a:prstGeom prst="rect">
            <a:avLst/>
          </a:prstGeom>
          <a:ln w="0">
            <a:noFill/>
          </a:ln>
        </p:spPr>
      </p:pic>
      <p:pic>
        <p:nvPicPr>
          <p:cNvPr id="512" name="Подзаголовок 2" descr=""/>
          <p:cNvPicPr/>
          <p:nvPr/>
        </p:nvPicPr>
        <p:blipFill>
          <a:blip r:embed="rId3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Подзаголовок 2" descr=""/>
          <p:cNvPicPr/>
          <p:nvPr/>
        </p:nvPicPr>
        <p:blipFill>
          <a:blip r:embed="rId1"/>
          <a:stretch/>
        </p:blipFill>
        <p:spPr>
          <a:xfrm>
            <a:off x="262080" y="853920"/>
            <a:ext cx="8955000" cy="2273400"/>
          </a:xfrm>
          <a:prstGeom prst="rect">
            <a:avLst/>
          </a:prstGeom>
          <a:ln w="0">
            <a:noFill/>
          </a:ln>
        </p:spPr>
      </p:pic>
      <p:pic>
        <p:nvPicPr>
          <p:cNvPr id="514" name="Подзаголовок 2" descr=""/>
          <p:cNvPicPr/>
          <p:nvPr/>
        </p:nvPicPr>
        <p:blipFill>
          <a:blip r:embed="rId2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1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3352680" cy="1076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517" name="Rectangle 3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214200" y="4214880"/>
            <a:ext cx="3638520" cy="10764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6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500040" y="5429160"/>
            <a:ext cx="3571920" cy="10764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9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Подзаголовок 2" descr=""/>
          <p:cNvPicPr/>
          <p:nvPr/>
        </p:nvPicPr>
        <p:blipFill>
          <a:blip r:embed="rId6"/>
          <a:stretch/>
        </p:blipFill>
        <p:spPr>
          <a:xfrm>
            <a:off x="4011480" y="3279600"/>
            <a:ext cx="5059440" cy="633600"/>
          </a:xfrm>
          <a:prstGeom prst="rect">
            <a:avLst/>
          </a:prstGeom>
          <a:ln w="0">
            <a:noFill/>
          </a:ln>
        </p:spPr>
      </p:pic>
      <p:pic>
        <p:nvPicPr>
          <p:cNvPr id="524" name="Подзаголовок 2" descr=""/>
          <p:cNvPicPr/>
          <p:nvPr/>
        </p:nvPicPr>
        <p:blipFill>
          <a:blip r:embed="rId7"/>
          <a:stretch/>
        </p:blipFill>
        <p:spPr>
          <a:xfrm>
            <a:off x="3852720" y="4425840"/>
            <a:ext cx="5370480" cy="627120"/>
          </a:xfrm>
          <a:prstGeom prst="rect">
            <a:avLst/>
          </a:prstGeom>
          <a:ln w="0">
            <a:noFill/>
          </a:ln>
        </p:spPr>
      </p:pic>
      <p:pic>
        <p:nvPicPr>
          <p:cNvPr id="525" name="Подзаголовок 2" descr=""/>
          <p:cNvPicPr/>
          <p:nvPr/>
        </p:nvPicPr>
        <p:blipFill>
          <a:blip r:embed="rId8"/>
          <a:stretch/>
        </p:blipFill>
        <p:spPr>
          <a:xfrm>
            <a:off x="4206960" y="5638680"/>
            <a:ext cx="47289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Подзаголовок 2" descr=""/>
          <p:cNvPicPr/>
          <p:nvPr/>
        </p:nvPicPr>
        <p:blipFill>
          <a:blip r:embed="rId1"/>
          <a:stretch/>
        </p:blipFill>
        <p:spPr>
          <a:xfrm>
            <a:off x="585720" y="1395360"/>
            <a:ext cx="7351920" cy="3882960"/>
          </a:xfrm>
          <a:prstGeom prst="rect">
            <a:avLst/>
          </a:prstGeom>
          <a:ln w="0">
            <a:noFill/>
          </a:ln>
        </p:spPr>
      </p:pic>
      <p:pic>
        <p:nvPicPr>
          <p:cNvPr id="527" name="Подзаголовок 2" descr=""/>
          <p:cNvPicPr/>
          <p:nvPr/>
        </p:nvPicPr>
        <p:blipFill>
          <a:blip r:embed="rId2"/>
          <a:stretch/>
        </p:blipFill>
        <p:spPr>
          <a:xfrm>
            <a:off x="512640" y="-6480"/>
            <a:ext cx="8210520" cy="13654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62"/>
          <p:cNvSpPr/>
          <p:nvPr/>
        </p:nvSpPr>
        <p:spPr>
          <a:xfrm>
            <a:off x="7215120" y="3357720"/>
            <a:ext cx="5605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!</a:t>
            </a:r>
            <a:endParaRPr b="0" lang="en-US" sz="1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http://im0-tub.yandex.net/i?id=42218707&amp;tov=0"/>
          <p:cNvPicPr/>
          <p:nvPr/>
        </p:nvPicPr>
        <p:blipFill>
          <a:blip r:embed="rId1"/>
          <a:stretch/>
        </p:blipFill>
        <p:spPr>
          <a:xfrm>
            <a:off x="2340000" y="1197000"/>
            <a:ext cx="4032360" cy="476244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5"/>
          <p:cNvSpPr/>
          <p:nvPr/>
        </p:nvSpPr>
        <p:spPr>
          <a:xfrm>
            <a:off x="642960" y="357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Катушка инду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Картинка 80 из 1496">
            <a:hlinkClick r:id="rId1"/>
          </p:cNvPr>
          <p:cNvPicPr/>
          <p:nvPr/>
        </p:nvPicPr>
        <p:blipFill>
          <a:blip r:embed="rId2"/>
          <a:srcRect l="46441" t="0" r="21202" b="45505"/>
          <a:stretch/>
        </p:blipFill>
        <p:spPr>
          <a:xfrm>
            <a:off x="5000760" y="285840"/>
            <a:ext cx="3786120" cy="345744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5"/>
          <p:cNvSpPr/>
          <p:nvPr/>
        </p:nvSpPr>
        <p:spPr>
          <a:xfrm>
            <a:off x="214200" y="571680"/>
            <a:ext cx="47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Индуктивность –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характеристика катушки инду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Прямоугольник 6" descr=""/>
          <p:cNvPicPr/>
          <p:nvPr/>
        </p:nvPicPr>
        <p:blipFill>
          <a:blip r:embed="rId3"/>
          <a:stretch/>
        </p:blipFill>
        <p:spPr>
          <a:xfrm>
            <a:off x="615960" y="3408480"/>
            <a:ext cx="6381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6:32:55Z</dcterms:created>
  <dc:creator>Admin</dc:creator>
  <dc:description/>
  <dc:language>en-US</dc:language>
  <cp:lastModifiedBy>1</cp:lastModifiedBy>
  <dcterms:modified xsi:type="dcterms:W3CDTF">2015-01-31T06:24:24Z</dcterms:modified>
  <cp:revision>55</cp:revision>
  <dc:subject/>
  <dc:title>Переменный  ток</dc:title>
</cp:coreProperties>
</file>