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0.jpeg" ContentType="image/jpeg"/>
  <Override PartName="/ppt/media/image12.png" ContentType="image/png"/>
  <Override PartName="/ppt/media/image18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433-AC23-4E74-B325-8F3FA50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335-A28B-445A-BA39-D02C5605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363-781D-4490-B550-05CB7779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69F-CE62-4F8C-B9A2-4052337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BF50-E4F7-413C-8828-715764C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8EAA-D0E1-4CC9-9FDB-DB40AE7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EB3-E22B-4E67-AD1B-152DDAB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A79-0036-4A6D-9AA6-D2F8DA0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22A-5F05-4056-90D2-A148594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A542-F2FF-480C-B6DA-E25623A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9DE-A9D7-4EA0-95A7-29C4418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FD6-25A1-4396-B4DE-FD6B4C0E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38A0-E163-4954-B75C-68C6027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7348-AAF7-4CC0-A26A-F6B7D5E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18AC-6934-4981-830B-DDF1603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608-3175-4643-ACC4-70249293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7A3-3C48-4510-94FE-EAC0693C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BAA-82E4-4037-8688-7F3CD4C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2FE-FEA6-4A7F-8DBB-FF0F036E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25E-703C-4D50-A255-9726DB1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A4-923D-43E5-AE11-29C4676C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17B-0F4E-4AB5-98DB-85A2E62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6EF-4824-4FB3-81B5-6D21B7B7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C1F-876A-4EC3-A500-C0682C5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62FA-311E-46DB-9743-44A05191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01A2-C1C9-4955-AFBF-B2D64C4B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4700520"/>
            <a:ext cx="9156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-79200"/>
            <a:ext cx="9448920" cy="104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Лилит - Форум &quot;Розы Мира&quot; Даниила Андреева"/>
          <p:cNvPicPr/>
          <p:nvPr/>
        </p:nvPicPr>
        <p:blipFill>
          <a:blip r:embed="rId2"/>
          <a:stretch/>
        </p:blipFill>
        <p:spPr>
          <a:xfrm>
            <a:off x="0" y="1052640"/>
            <a:ext cx="5295960" cy="31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Новость &quot;ВСЕ О МУЗЫКЕ. Часть первая.Первобытная музыка.&quot;, со…"/>
          <p:cNvPicPr/>
          <p:nvPr/>
        </p:nvPicPr>
        <p:blipFill>
          <a:blip r:embed="rId3"/>
          <a:stretch/>
        </p:blipFill>
        <p:spPr>
          <a:xfrm>
            <a:off x="4572000" y="1052640"/>
            <a:ext cx="4572000" cy="476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Испанские археологи раскопали уникальные наскальные рисунки возрастом 25 тыс. лет. Фото - Новости / ФРАЗА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60480"/>
            <a:ext cx="898056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628560" y="1054080"/>
            <a:ext cx="7875720" cy="59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s://upload.wikimedia.org/wikipedia/commons/thumb/6/6b/N%C3%A9olithique_0001.jpg/1024px-N%C3%A9olithique_0001.jpg"/>
          <p:cNvPicPr/>
          <p:nvPr/>
        </p:nvPicPr>
        <p:blipFill>
          <a:blip r:embed="rId3"/>
          <a:stretch/>
        </p:blipFill>
        <p:spPr>
          <a:xfrm>
            <a:off x="0" y="1628640"/>
            <a:ext cx="514836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4"/>
          <a:stretch/>
        </p:blipFill>
        <p:spPr>
          <a:xfrm>
            <a:off x="5059440" y="1676520"/>
            <a:ext cx="425592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158760"/>
            <a:ext cx="9192960" cy="13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IDF 2013: пропускная способность USB 3.0 вырастет вдвое"/>
          <p:cNvPicPr/>
          <p:nvPr/>
        </p:nvPicPr>
        <p:blipFill>
          <a:blip r:embed="rId2"/>
          <a:stretch/>
        </p:blipFill>
        <p:spPr>
          <a:xfrm>
            <a:off x="1523880" y="1771560"/>
            <a:ext cx="76201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-60480"/>
            <a:ext cx="942336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Монастырь Искушения Иерихон - Места Палестина Miroved"/>
          <p:cNvPicPr/>
          <p:nvPr/>
        </p:nvPicPr>
        <p:blipFill>
          <a:blip r:embed="rId2"/>
          <a:stretch/>
        </p:blipFill>
        <p:spPr>
          <a:xfrm>
            <a:off x="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337680" cy="2365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2871720"/>
            <a:ext cx="93628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79200"/>
            <a:ext cx="4584600" cy="21765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2359080"/>
            <a:ext cx="85345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Техника, - страница 2"/>
          <p:cNvPicPr/>
          <p:nvPr/>
        </p:nvPicPr>
        <p:blipFill>
          <a:blip r:embed="rId1"/>
          <a:stretch/>
        </p:blipFill>
        <p:spPr>
          <a:xfrm>
            <a:off x="0" y="0"/>
            <a:ext cx="537696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Словом &quot;дом&quot; первоначально обозначалась вся сфера &quot;своего, р…"/>
          <p:cNvPicPr/>
          <p:nvPr/>
        </p:nvPicPr>
        <p:blipFill>
          <a:blip r:embed="rId2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Новости NEWSru.com : Человек каменного века тоже ел йогурт"/>
          <p:cNvPicPr/>
          <p:nvPr/>
        </p:nvPicPr>
        <p:blipFill>
          <a:blip r:embed="rId3"/>
          <a:stretch/>
        </p:blipFill>
        <p:spPr>
          <a:xfrm>
            <a:off x="0" y="3174840"/>
            <a:ext cx="493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60480"/>
            <a:ext cx="7407000" cy="84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О каменных сковородках, &quot;фе&quot; и многом другом - СОКРОВИЩА ЗЕМ…"/>
          <p:cNvPicPr/>
          <p:nvPr/>
        </p:nvPicPr>
        <p:blipFill>
          <a:blip r:embed="rId2"/>
          <a:stretch/>
        </p:blipFill>
        <p:spPr>
          <a:xfrm>
            <a:off x="0" y="765000"/>
            <a:ext cx="4511520" cy="338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Самый древний человек * Наука"/>
          <p:cNvPicPr/>
          <p:nvPr/>
        </p:nvPicPr>
        <p:blipFill>
          <a:blip r:embed="rId3"/>
          <a:stretch/>
        </p:blipFill>
        <p:spPr>
          <a:xfrm>
            <a:off x="4067280" y="3166920"/>
            <a:ext cx="50767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Самосовершенствование / просветление Записи в рубрике Самосовершенствование / просветление LAIMA852 : LiveInternet - Российский"/>
          <p:cNvPicPr/>
          <p:nvPr/>
        </p:nvPicPr>
        <p:blipFill>
          <a:blip r:embed="rId1"/>
          <a:stretch/>
        </p:blipFill>
        <p:spPr>
          <a:xfrm>
            <a:off x="0" y="0"/>
            <a:ext cx="4238640" cy="570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Первобытный человек Занятия первобытных людей"/>
          <p:cNvPicPr/>
          <p:nvPr/>
        </p:nvPicPr>
        <p:blipFill>
          <a:blip r:embed="rId2"/>
          <a:stretch/>
        </p:blipFill>
        <p:spPr>
          <a:xfrm>
            <a:off x="3900600" y="2924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92160"/>
            <a:ext cx="909000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92160" y="1828800"/>
            <a:ext cx="8813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к нарисовать пещеру древних людей Учитесь рисовать"/>
          <p:cNvPicPr/>
          <p:nvPr/>
        </p:nvPicPr>
        <p:blipFill>
          <a:blip r:embed="rId1"/>
          <a:stretch/>
        </p:blipFill>
        <p:spPr>
          <a:xfrm>
            <a:off x="4137120" y="0"/>
            <a:ext cx="50068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Первобытное общество на территории Белоруссии, его материальное и духовная культура"/>
          <p:cNvPicPr/>
          <p:nvPr/>
        </p:nvPicPr>
        <p:blipFill>
          <a:blip r:embed="rId2"/>
          <a:stretch/>
        </p:blipFill>
        <p:spPr>
          <a:xfrm>
            <a:off x="0" y="0"/>
            <a:ext cx="427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-103320"/>
            <a:ext cx="951048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Древние инструменты стоматологов КУРЬЕЗЫ"/>
          <p:cNvPicPr/>
          <p:nvPr/>
        </p:nvPicPr>
        <p:blipFill>
          <a:blip r:embed="rId2"/>
          <a:stretch/>
        </p:blipFill>
        <p:spPr>
          <a:xfrm>
            <a:off x="2476440" y="2486160"/>
            <a:ext cx="6667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9:03Z</dcterms:created>
  <dc:creator>ppsworld.ru</dc:creator>
  <dc:description/>
  <dc:language>en-US</dc:language>
  <cp:lastModifiedBy>user</cp:lastModifiedBy>
  <dcterms:modified xsi:type="dcterms:W3CDTF">2015-01-31T08:05:13Z</dcterms:modified>
  <cp:revision>38</cp:revision>
  <dc:subject/>
  <dc:title>Слайд 1</dc:title>
</cp:coreProperties>
</file>