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CC2-5399-45D7-9E06-00DAD0DC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19E-F438-4BDE-9640-D9C8F753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7A5-45F6-4D94-ACCF-FD56892D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F0D-324C-4823-BBAA-E2A4C736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E68-A9EA-4E39-9170-FDEA5560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3AB-048E-4C27-9437-E1CACCBC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4BD-BE4E-4AF9-9AD9-5FBE9887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892-7252-4A6A-A055-AD33BC9A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163-D0B5-46F9-98FA-D885C2D1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A59-37B6-4CE1-96B3-7DFA0817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77B-D2DA-46B9-AB50-703B283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104-7600-4007-9ED0-97FAB084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CA2C-0101-4E85-9A2C-C41281AAC5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ПЕРВОЕ РОДИТЕЛЬСКОЕ СОБРАНИЕ В 1 КЛАСС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285920" y="1643040"/>
            <a:ext cx="67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Calibri"/>
              </a:rPr>
              <a:t>Тема: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«Первые дни ребёнка в школе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928960" y="507204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Классный руководитель 1 «Б»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Ложечникова Ольга Пет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мальчик в форме2.bmp"/>
          <p:cNvPicPr/>
          <p:nvPr/>
        </p:nvPicPr>
        <p:blipFill>
          <a:blip r:embed="rId1"/>
          <a:srcRect l="7019" t="0" r="22540" b="0"/>
          <a:stretch/>
        </p:blipFill>
        <p:spPr>
          <a:xfrm>
            <a:off x="214200" y="3429000"/>
            <a:ext cx="192888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девочка в форме1.bmp"/>
          <p:cNvPicPr/>
          <p:nvPr/>
        </p:nvPicPr>
        <p:blipFill>
          <a:blip r:embed="rId2"/>
          <a:stretch/>
        </p:blipFill>
        <p:spPr>
          <a:xfrm>
            <a:off x="6858000" y="3573360"/>
            <a:ext cx="2143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714240" y="2371680"/>
            <a:ext cx="7715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3399"/>
                </a:solidFill>
                <a:uFillTx/>
                <a:latin typeface="Calibri"/>
                <a:ea typeface="Times New Roman"/>
              </a:rPr>
              <a:t>  </a:t>
            </a:r>
            <a:r>
              <a:rPr b="1" i="1" lang="ru-RU" sz="4000" spc="-1" strike="noStrike" u="sng">
                <a:solidFill>
                  <a:srgbClr val="ff3399"/>
                </a:solidFill>
                <a:uFillTx/>
                <a:latin typeface="Calibri"/>
                <a:ea typeface="Times New Roman"/>
              </a:rPr>
              <a:t>Первая заповед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Родившийся ребенок в семье должен быть всегда желанны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&amp;Kcy;&amp;acy;&amp;rcy;&amp;tcy;&amp;icy;&amp;ncy;&amp;kcy;&amp;acy; 24 &amp;icy;&amp;zcy; 21765"/>
          <p:cNvPicPr/>
          <p:nvPr/>
        </p:nvPicPr>
        <p:blipFill>
          <a:blip r:embed="rId1"/>
          <a:stretch/>
        </p:blipFill>
        <p:spPr>
          <a:xfrm>
            <a:off x="2500200" y="214200"/>
            <a:ext cx="4572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57120" y="3086280"/>
            <a:ext cx="8429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99"/>
                </a:solidFill>
                <a:uFillTx/>
                <a:latin typeface="Calibri"/>
                <a:ea typeface="Times New Roman"/>
              </a:rPr>
              <a:t>Вторая заповедь:</a:t>
            </a:r>
            <a:r>
              <a:rPr b="0" lang="ru-RU" sz="4000" spc="-1" strike="noStrike">
                <a:solidFill>
                  <a:srgbClr val="ff3399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е оставляйте маленьких детей без присмот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&amp;Kcy;&amp;acy;&amp;rcy;&amp;tcy;&amp;icy;&amp;ncy;&amp;kcy;&amp;acy; 13 &amp;icy;&amp;zcy; 21765"/>
          <p:cNvPicPr/>
          <p:nvPr/>
        </p:nvPicPr>
        <p:blipFill>
          <a:blip r:embed="rId1"/>
          <a:stretch/>
        </p:blipFill>
        <p:spPr>
          <a:xfrm>
            <a:off x="2428920" y="214200"/>
            <a:ext cx="38577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571680" y="3297240"/>
            <a:ext cx="82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99"/>
                </a:solidFill>
                <a:uFillTx/>
                <a:latin typeface="Calibri"/>
                <a:ea typeface="Times New Roman"/>
              </a:rPr>
              <a:t>Третья заповедь:</a:t>
            </a:r>
            <a:r>
              <a:rPr b="0" lang="ru-RU" sz="4000" spc="-1" strike="noStrike">
                <a:solidFill>
                  <a:srgbClr val="ff3399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учите ребенка общаться с окружающим мир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&amp;Kcy;&amp;acy;&amp;rcy;&amp;tcy;&amp;icy;&amp;ncy;&amp;kcy;&amp;acy; 131 &amp;icy;&amp;zcy; 21765"/>
          <p:cNvPicPr/>
          <p:nvPr/>
        </p:nvPicPr>
        <p:blipFill>
          <a:blip r:embed="rId1"/>
          <a:stretch/>
        </p:blipFill>
        <p:spPr>
          <a:xfrm>
            <a:off x="1571760" y="214200"/>
            <a:ext cx="5857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785880" y="2643120"/>
            <a:ext cx="7715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99"/>
                </a:solidFill>
                <a:uFillTx/>
                <a:latin typeface="Calibri"/>
              </a:rPr>
              <a:t>Заповедь четвертая:</a:t>
            </a:r>
            <a:r>
              <a:rPr b="0" lang="ru-RU" sz="4000" spc="-1" strike="noStrike">
                <a:solidFill>
                  <a:srgbClr val="ff3399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учите ребенка распознавать добро и зло, истинные намерения люд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&amp;Kcy;&amp;acy;&amp;rcy;&amp;tcy;&amp;icy;&amp;ncy;&amp;kcy;&amp;acy; 15 &amp;icy;&amp;zcy; 21765"/>
          <p:cNvPicPr/>
          <p:nvPr/>
        </p:nvPicPr>
        <p:blipFill>
          <a:blip r:embed="rId1"/>
          <a:stretch/>
        </p:blipFill>
        <p:spPr>
          <a:xfrm>
            <a:off x="3143160" y="0"/>
            <a:ext cx="2657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785880" y="1306080"/>
            <a:ext cx="8072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99"/>
                </a:solidFill>
                <a:uFillTx/>
                <a:latin typeface="Calibri"/>
                <a:ea typeface="Times New Roman"/>
              </a:rPr>
              <a:t>Заповедь пятая:</a:t>
            </a:r>
            <a:r>
              <a:rPr b="0" lang="ru-RU" sz="4000" spc="-1" strike="noStrike">
                <a:solidFill>
                  <a:srgbClr val="ff3399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учите ребенка самостоятель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с честью и достоинство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без ущерба для жизн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выходить их сложных жизненных ситуац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57120" y="725400"/>
            <a:ext cx="842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дача родителей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dd4"/>
                </a:solidFill>
                <a:latin typeface="Calibri"/>
                <a:ea typeface="Times New Roman"/>
              </a:rPr>
              <a:t>поддержать первоклассников в их желании добиться успех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&amp;Kcy;&amp;acy;&amp;rcy;&amp;tcy;&amp;icy;&amp;ncy;&amp;kcy;&amp;acy; 41 &amp;icy;&amp;zcy; 162334"/>
          <p:cNvPicPr/>
          <p:nvPr/>
        </p:nvPicPr>
        <p:blipFill>
          <a:blip r:embed="rId1"/>
          <a:stretch/>
        </p:blipFill>
        <p:spPr>
          <a:xfrm>
            <a:off x="1857240" y="3857760"/>
            <a:ext cx="5143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42960" y="136980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Не скупитесь на похвалу, научитесь выделять в мор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ошибок островок успех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Хвалить – исполнителя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критиковать – испол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857160" y="78588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аждый день  говорите с детьм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&amp;Kcy;&amp;acy;&amp;rcy;&amp;tcy;&amp;icy;&amp;ncy;&amp;kcy;&amp;acy; 44 &amp;icy;&amp;zcy; 162333"/>
          <p:cNvPicPr/>
          <p:nvPr/>
        </p:nvPicPr>
        <p:blipFill>
          <a:blip r:embed="rId1"/>
          <a:stretch/>
        </p:blipFill>
        <p:spPr>
          <a:xfrm>
            <a:off x="2000160" y="2357280"/>
            <a:ext cx="50770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571680" y="121428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е стесняйтесь обращаться за советом и консультацией к учителю или школьному психологу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500040" y="114876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Никогда в присутствии ребёнка не обсуждайте учител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&amp;Kcy;&amp;acy;&amp;rcy;&amp;tcy;&amp;icy;&amp;ncy;&amp;kcy;&amp;acy; 169 &amp;icy;&amp;zcy; 162333"/>
          <p:cNvPicPr/>
          <p:nvPr/>
        </p:nvPicPr>
        <p:blipFill>
          <a:blip r:embed="rId1"/>
          <a:stretch/>
        </p:blipFill>
        <p:spPr>
          <a:xfrm>
            <a:off x="2714760" y="2643120"/>
            <a:ext cx="36432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214200" y="735840"/>
            <a:ext cx="878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"Семья и школа – это берег и м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На берегу, ребёнок делает свои первые шаг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а потом перед ним открывается необозримое море знаний, и курс в э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море прокладывает школа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Но это не значит, что он долже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совсем оторваться от берега”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48dd4"/>
                </a:solidFill>
                <a:latin typeface="Calibri"/>
                <a:ea typeface="Calibri"/>
              </a:rPr>
              <a:t>                                                                                                 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Л.Касси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&amp;Kcy;&amp;acy;&amp;rcy;&amp;tcy;&amp;icy;&amp;ncy;&amp;kcy;&amp;acy; 17 &amp;icy;&amp;zcy; 31853"/>
          <p:cNvPicPr/>
          <p:nvPr/>
        </p:nvPicPr>
        <p:blipFill>
          <a:blip r:embed="rId1"/>
          <a:stretch/>
        </p:blipFill>
        <p:spPr>
          <a:xfrm>
            <a:off x="928800" y="285840"/>
            <a:ext cx="7215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Ребенок не должен панически бояться ошиби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00040" y="1591200"/>
            <a:ext cx="3444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мните: для ребенка что-то не уметь и что-то не знать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это нормальное положение вещей. На то он и ребе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Этим нельзя попрекать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&amp;Kcy;&amp;acy;&amp;rcy;&amp;tcy;&amp;icy;&amp;ncy;&amp;kcy;&amp;acy; 7 &amp;icy;&amp;zcy; 162333"/>
          <p:cNvPicPr/>
          <p:nvPr/>
        </p:nvPicPr>
        <p:blipFill>
          <a:blip r:embed="rId1"/>
          <a:stretch/>
        </p:blipFill>
        <p:spPr>
          <a:xfrm>
            <a:off x="4357800" y="1428840"/>
            <a:ext cx="4071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500040" y="57744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Верьте в ребенка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верьте в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мальчик в форме2.bmp"/>
          <p:cNvPicPr/>
          <p:nvPr/>
        </p:nvPicPr>
        <p:blipFill>
          <a:blip r:embed="rId1"/>
          <a:srcRect l="7019" t="0" r="22540" b="0"/>
          <a:stretch/>
        </p:blipFill>
        <p:spPr>
          <a:xfrm>
            <a:off x="179280" y="3500280"/>
            <a:ext cx="1744920" cy="3141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девочка в форме2.bmp"/>
          <p:cNvPicPr/>
          <p:nvPr/>
        </p:nvPicPr>
        <p:blipFill>
          <a:blip r:embed="rId2"/>
          <a:stretch/>
        </p:blipFill>
        <p:spPr>
          <a:xfrm>
            <a:off x="1771560" y="3500280"/>
            <a:ext cx="1900440" cy="3068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девочка в форме1.bmp"/>
          <p:cNvPicPr/>
          <p:nvPr/>
        </p:nvPicPr>
        <p:blipFill>
          <a:blip r:embed="rId3"/>
          <a:stretch/>
        </p:blipFill>
        <p:spPr>
          <a:xfrm>
            <a:off x="3427560" y="3573360"/>
            <a:ext cx="1987560" cy="2997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мальчик в форме1.bmp"/>
          <p:cNvPicPr/>
          <p:nvPr/>
        </p:nvPicPr>
        <p:blipFill>
          <a:blip r:embed="rId4"/>
          <a:stretch/>
        </p:blipFill>
        <p:spPr>
          <a:xfrm>
            <a:off x="5084640" y="3500280"/>
            <a:ext cx="193536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учитель"/>
          <p:cNvPicPr/>
          <p:nvPr/>
        </p:nvPicPr>
        <p:blipFill>
          <a:blip r:embed="rId5"/>
          <a:srcRect l="4139" t="711" r="35674" b="2548"/>
          <a:stretch/>
        </p:blipFill>
        <p:spPr>
          <a:xfrm>
            <a:off x="6372360" y="1413000"/>
            <a:ext cx="2350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2786040" y="642960"/>
            <a:ext cx="24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ЛАДОШ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&amp;Kcy;&amp;acy;&amp;rcy;&amp;tcy;&amp;icy;&amp;ncy;&amp;kcy;&amp;acy; 373 &amp;icy;&amp;zcy; 157315"/>
          <p:cNvPicPr/>
          <p:nvPr/>
        </p:nvPicPr>
        <p:blipFill>
          <a:blip r:embed="rId1"/>
          <a:stretch/>
        </p:blipFill>
        <p:spPr>
          <a:xfrm>
            <a:off x="5572080" y="285840"/>
            <a:ext cx="1571760" cy="1976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71680" y="209232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Может быть, вы посоветуете, как бороться с какими-то вредными привычками наших учени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Может, вы предложите какие-то формы работы, направленные на объединение кла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Может вы можете организовать какую-то интересную экскурсию или провести с детьми беседу воспитатель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арак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 Свой листок нужно подпис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1928880" y="428760"/>
            <a:ext cx="71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ЫБОР АКТИВА РОДИТЕЛ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&amp;Kcy;&amp;acy;&amp;rcy;&amp;tcy;&amp;icy;&amp;ncy;&amp;kcy;&amp;acy; 29 &amp;icy;&amp;zcy; 42221"/>
          <p:cNvPicPr/>
          <p:nvPr/>
        </p:nvPicPr>
        <p:blipFill>
          <a:blip r:embed="rId1"/>
          <a:stretch/>
        </p:blipFill>
        <p:spPr>
          <a:xfrm>
            <a:off x="2143080" y="1285920"/>
            <a:ext cx="5000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1226880"/>
            <a:ext cx="8143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Благодарю всех за участие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Желаю вам процветания и благополучи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 новых встре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C:\Users\Alan\Downloads\День знаний\156768160.gif"/>
          <p:cNvPicPr/>
          <p:nvPr/>
        </p:nvPicPr>
        <p:blipFill>
          <a:blip r:embed="rId1"/>
          <a:stretch/>
        </p:blipFill>
        <p:spPr>
          <a:xfrm>
            <a:off x="6143760" y="4143240"/>
            <a:ext cx="2143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3071880" y="428760"/>
            <a:ext cx="35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Мозговой штур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57120" y="1150560"/>
            <a:ext cx="821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спомните, как обычно, входит в воду человек? (Робко, сначала испытывает дискомфорт, потом некоторы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постепенно, некоторые резко ныряют в вод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некоторым проще, когда их обрызгивают водой, …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&amp;Kcy;&amp;acy;&amp;rcy;&amp;tcy;&amp;icy;&amp;ncy;&amp;kcy;&amp;acy; 123 &amp;icy;&amp;zcy; 161079"/>
          <p:cNvPicPr/>
          <p:nvPr/>
        </p:nvPicPr>
        <p:blipFill>
          <a:blip r:embed="rId1"/>
          <a:stretch/>
        </p:blipFill>
        <p:spPr>
          <a:xfrm>
            <a:off x="1928880" y="2857680"/>
            <a:ext cx="5195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3299760" y="42876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ХЛОПОК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(1 эксперимен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571760" y="28576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Одна ладонь – вы, другая – 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00040" y="535788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Calibri"/>
              </a:rPr>
              <a:t>Я желаю вам всегда улыбаться, когда мы вместе с вами будем «делать хлопок» в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&amp;Kcy;&amp;acy;&amp;rcy;&amp;tcy;&amp;icy;&amp;ncy;&amp;kcy;&amp;acy; 236 &amp;icy;&amp;zcy; 157273"/>
          <p:cNvPicPr/>
          <p:nvPr/>
        </p:nvPicPr>
        <p:blipFill>
          <a:blip r:embed="rId1"/>
          <a:stretch/>
        </p:blipFill>
        <p:spPr>
          <a:xfrm>
            <a:off x="844560" y="298440"/>
            <a:ext cx="1628640" cy="2174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&amp;Kcy;&amp;acy;&amp;rcy;&amp;tcy;&amp;icy;&amp;ncy;&amp;kcy;&amp;acy; 265 &amp;icy;&amp;zcy; 157273"/>
          <p:cNvPicPr/>
          <p:nvPr/>
        </p:nvPicPr>
        <p:blipFill>
          <a:blip r:embed="rId2"/>
          <a:stretch/>
        </p:blipFill>
        <p:spPr>
          <a:xfrm>
            <a:off x="5929200" y="1000080"/>
            <a:ext cx="3019680" cy="198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Users\Alan\Downloads\День знаний\156768160.gif"/>
          <p:cNvPicPr/>
          <p:nvPr/>
        </p:nvPicPr>
        <p:blipFill>
          <a:blip r:embed="rId3"/>
          <a:stretch/>
        </p:blipFill>
        <p:spPr>
          <a:xfrm>
            <a:off x="3286080" y="3643200"/>
            <a:ext cx="16430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571680" y="732240"/>
            <a:ext cx="792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Calibri"/>
                <a:ea typeface="Times New Roman"/>
              </a:rPr>
              <a:t>Помните , каким бы профессиональным не был бы ваш учит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Calibri"/>
                <a:ea typeface="Times New Roman"/>
              </a:rPr>
              <a:t>пусть он будет даже мастером … никогда без Вашей помощ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Calibri"/>
                <a:ea typeface="Times New Roman"/>
              </a:rPr>
              <a:t>ему не сделать того, что можно сделать вмес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571680" y="42876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СЕ МЫ РАЗНЫЕ – И В ЭТОМ НАШЕ              БОГАТСТВО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( 2 эксперимен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Alan\Downloads\День знаний\x_09fe3510.jpg"/>
          <p:cNvPicPr/>
          <p:nvPr/>
        </p:nvPicPr>
        <p:blipFill>
          <a:blip r:embed="rId1"/>
          <a:stretch/>
        </p:blipFill>
        <p:spPr>
          <a:xfrm>
            <a:off x="571680" y="2500200"/>
            <a:ext cx="5572080" cy="414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&amp;Kcy;&amp;acy;&amp;rcy;&amp;tcy;&amp;icy;&amp;ncy;&amp;kcy;&amp;acy; 419 &amp;icy;&amp;zcy; 183566"/>
          <p:cNvPicPr/>
          <p:nvPr/>
        </p:nvPicPr>
        <p:blipFill>
          <a:blip r:embed="rId2"/>
          <a:stretch/>
        </p:blipFill>
        <p:spPr>
          <a:xfrm>
            <a:off x="6215040" y="1785960"/>
            <a:ext cx="26496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785880" y="733680"/>
            <a:ext cx="7500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  <a:ea typeface="Times New Roman"/>
              </a:rPr>
              <a:t>Помните, никогда не сравнивайте своего ребенка с другим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  <a:ea typeface="Times New Roman"/>
              </a:rPr>
              <a:t>Нет кого-то или чего-то лучше или хуже.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сть ДРУГО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Успехи ребёнка сравнивать с его предыдущими неудачами, а не с отметками в тетрад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Одолевать трудности нужно, начиная с какой – то одной, а не бороться со всеми одновремен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alibri"/>
              </a:rPr>
              <a:t>Чтобы избавить ребёнка от недостатков, замечайте их по возможности ре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Прощ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&amp;Kcy;&amp;acy;&amp;rcy;&amp;tcy;&amp;icy;&amp;ncy;&amp;kcy;&amp;acy; 222 &amp;icy;&amp;zcy; 21762"/>
          <p:cNvPicPr/>
          <p:nvPr/>
        </p:nvPicPr>
        <p:blipFill>
          <a:blip r:embed="rId1"/>
          <a:stretch/>
        </p:blipFill>
        <p:spPr>
          <a:xfrm>
            <a:off x="2286000" y="357120"/>
            <a:ext cx="4357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Alan</cp:lastModifiedBy>
  <dcterms:modified xsi:type="dcterms:W3CDTF">2012-08-31T14:18:42Z</dcterms:modified>
  <cp:revision>23</cp:revision>
  <dc:subject/>
  <dc:title>Презентация PowerPoint</dc:title>
</cp:coreProperties>
</file>