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9E52-8058-4C8A-BD49-E7AC0204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AEC-10CD-4840-9B5B-E906F6BA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ECF-8879-4AB9-BE6C-6253E118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C56-F5A4-4481-9C3A-9058390F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D6C-5695-4646-BBD3-126E307B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F362-ACB0-4F8B-9EEA-DE963C9F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3108-699C-4EA4-BE78-748A285E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F52-A15C-466A-8293-A005531F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9FD-6FD9-4981-98B7-17AF5A33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FD9-6629-496A-A7B3-F20F5893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CA7-E7D4-4515-9D3A-1A3413EB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3ED8-18CA-4864-857B-7C85672E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949D-DC64-44D3-9855-433FB161C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88000" y="76464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Урок математики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 клас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4000" y="292428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Тема: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исьменные прием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де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Учитель: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Блудшая Т.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222.gif"/>
          <p:cNvPicPr/>
          <p:nvPr/>
        </p:nvPicPr>
        <p:blipFill>
          <a:blip r:embed="rId2"/>
          <a:stretch/>
        </p:blipFill>
        <p:spPr>
          <a:xfrm rot="1185600">
            <a:off x="7308720" y="1341000"/>
            <a:ext cx="1835280" cy="1773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79640" y="2276640"/>
            <a:ext cx="57636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43640" y="5589720"/>
            <a:ext cx="57636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берите только те уравнения, которые решаются деле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8880" y="2133000"/>
            <a:ext cx="23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66"/>
                </a:solidFill>
                <a:latin typeface="Arial"/>
              </a:rPr>
              <a:t>х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 9 = 90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34160" y="4075920"/>
            <a:ext cx="362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100 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•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 </a:t>
            </a:r>
            <a:r>
              <a:rPr b="0" i="1" lang="en-US" sz="4000" spc="-1" strike="noStrike">
                <a:solidFill>
                  <a:srgbClr val="ff0066"/>
                </a:solidFill>
                <a:latin typeface="Arial"/>
              </a:rPr>
              <a:t>х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 = 6800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3080" y="3788640"/>
            <a:ext cx="266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66"/>
                </a:solidFill>
                <a:latin typeface="Arial"/>
              </a:rPr>
              <a:t>х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•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5 = 450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8520" y="5444280"/>
            <a:ext cx="26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66"/>
                </a:solidFill>
                <a:latin typeface="Arial"/>
              </a:rPr>
              <a:t>х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 1 = 999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8" descr="lebedi"/>
          <p:cNvPicPr/>
          <p:nvPr/>
        </p:nvPicPr>
        <p:blipFill>
          <a:blip r:embed="rId2"/>
          <a:stretch/>
        </p:blipFill>
        <p:spPr>
          <a:xfrm>
            <a:off x="1547640" y="1484280"/>
            <a:ext cx="583416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08000" y="404640"/>
            <a:ext cx="54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Задачи на дви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63640" y="2421000"/>
          <a:ext cx="5832000" cy="791280"/>
        </p:xfrm>
        <a:graphic>
          <a:graphicData uri="http://schemas.openxmlformats.org/drawingml/2006/table">
            <a:tbl>
              <a:tblPr/>
              <a:tblGrid>
                <a:gridCol w="1463760"/>
                <a:gridCol w="666000"/>
                <a:gridCol w="1464120"/>
                <a:gridCol w="666000"/>
                <a:gridCol w="1572120"/>
              </a:tblGrid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t=S: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v=S: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S=v• 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00"/>
                </a:solidFill>
                <a:latin typeface="Arial"/>
              </a:rPr>
              <a:t>Синяя птиц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&amp;Scy;&amp;icy;&amp;ncy;&amp;yacy;&amp;yacy; &amp;pcy;&amp;tcy;&amp;icy;&amp;tscy;&amp;acy; (&amp;pcy;&amp;tcy;&amp;icy;&amp;tscy;&amp;acy;)"/>
          <p:cNvPicPr/>
          <p:nvPr/>
        </p:nvPicPr>
        <p:blipFill>
          <a:blip r:embed="rId2"/>
          <a:stretch/>
        </p:blipFill>
        <p:spPr>
          <a:xfrm>
            <a:off x="2195640" y="1557360"/>
            <a:ext cx="5113080" cy="4608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667640" y="4149720"/>
            <a:ext cx="752400" cy="733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340000" y="2421000"/>
            <a:ext cx="752400" cy="863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692360" y="1268280"/>
            <a:ext cx="752400" cy="733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6300720" y="4005360"/>
            <a:ext cx="75240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56000" y="2133360"/>
            <a:ext cx="6262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Рефлексия урока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Что такое эколог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Белый медведь"/>
          <p:cNvPicPr/>
          <p:nvPr/>
        </p:nvPicPr>
        <p:blipFill>
          <a:blip r:embed="rId2"/>
          <a:stretch/>
        </p:blipFill>
        <p:spPr>
          <a:xfrm rot="20612400">
            <a:off x="5076720" y="4221000"/>
            <a:ext cx="3492720" cy="2060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лиса"/>
          <p:cNvPicPr/>
          <p:nvPr/>
        </p:nvPicPr>
        <p:blipFill>
          <a:blip r:embed="rId3"/>
          <a:stretch/>
        </p:blipFill>
        <p:spPr>
          <a:xfrm rot="20589600">
            <a:off x="755280" y="3933720"/>
            <a:ext cx="2879640" cy="2486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787012"/>
          <p:cNvPicPr/>
          <p:nvPr/>
        </p:nvPicPr>
        <p:blipFill>
          <a:blip r:embed="rId4"/>
          <a:stretch/>
        </p:blipFill>
        <p:spPr>
          <a:xfrm rot="1046400">
            <a:off x="539280" y="475920"/>
            <a:ext cx="258300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833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222.gif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773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5084640"/>
            <a:ext cx="576360" cy="6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12000" y="2708280"/>
            <a:ext cx="57636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5760" y="691560"/>
            <a:ext cx="625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Хорошо вы потрудились, 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Вам пора и отдыхать. 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Переменку веселитесь 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И начнем урок опять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140000" y="4365360"/>
            <a:ext cx="426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Д/з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полнить задания по карточке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ить задачу о животных, которые занесены в Красную книгу и решить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222.gif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773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3671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Игра «Истинно – ложн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492280"/>
            <a:ext cx="57600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5805360"/>
            <a:ext cx="576360" cy="6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101080" y="1844640"/>
            <a:ext cx="57636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44000" y="5516640"/>
            <a:ext cx="57600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933720"/>
            <a:ext cx="158400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844640"/>
            <a:ext cx="1728720" cy="1943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4005360"/>
            <a:ext cx="151272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349360"/>
            <a:ext cx="223200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43640" y="4076640"/>
            <a:ext cx="248436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1197000"/>
            <a:ext cx="57636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5805360"/>
            <a:ext cx="576000" cy="6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горитм 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05480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0066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Выделяем первое (неполное делимо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Делением находим (цифру частног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Умножаем, узнаём сколько (разделил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Вычитаем, находим (остато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Остаток сравниваем с (делителе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Остаток должен быть меньше дели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Решение примеров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4000" y="2133720"/>
            <a:ext cx="784836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1 столб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400 : 640 = 35                                         132500 : 5300 =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2 столб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720 : 440 = 38                                       252000 : 7200 =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79640" y="260280"/>
            <a:ext cx="5759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Arial"/>
              </a:rPr>
              <a:t>Снежный ба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76360" y="3141720"/>
            <a:ext cx="252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Снежный барс"/>
          <p:cNvPicPr/>
          <p:nvPr/>
        </p:nvPicPr>
        <p:blipFill>
          <a:blip r:embed="rId2"/>
          <a:stretch/>
        </p:blipFill>
        <p:spPr>
          <a:xfrm>
            <a:off x="1547640" y="1557360"/>
            <a:ext cx="6551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ползни, дятлы, сквор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Воробьинообразные - Поползень крошка"/>
          <p:cNvPicPr/>
          <p:nvPr/>
        </p:nvPicPr>
        <p:blipFill>
          <a:blip r:embed="rId2"/>
          <a:stretch/>
        </p:blipFill>
        <p:spPr>
          <a:xfrm>
            <a:off x="826920" y="1413000"/>
            <a:ext cx="3024360" cy="2238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276720" y="2781360"/>
            <a:ext cx="302400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Какие птицы возвращаются одними из первых"/>
          <p:cNvPicPr/>
          <p:nvPr/>
        </p:nvPicPr>
        <p:blipFill>
          <a:blip r:embed="rId4"/>
          <a:stretch/>
        </p:blipFill>
        <p:spPr>
          <a:xfrm>
            <a:off x="5867280" y="4005360"/>
            <a:ext cx="3024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222.gif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773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ff"/>
                </a:solidFill>
                <a:latin typeface="Arial"/>
              </a:rPr>
              <a:t>Физминут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jiv3325"/>
          <p:cNvPicPr/>
          <p:nvPr/>
        </p:nvPicPr>
        <p:blipFill>
          <a:blip r:embed="rId3"/>
          <a:stretch/>
        </p:blipFill>
        <p:spPr>
          <a:xfrm>
            <a:off x="6516720" y="4149720"/>
            <a:ext cx="1428840" cy="1728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1" descr="adf57feb4f3d.png"/>
          <p:cNvPicPr/>
          <p:nvPr/>
        </p:nvPicPr>
        <p:blipFill>
          <a:blip r:embed="rId4"/>
          <a:stretch/>
        </p:blipFill>
        <p:spPr>
          <a:xfrm>
            <a:off x="900000" y="3716280"/>
            <a:ext cx="2451240" cy="2414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 rot="2705400">
            <a:off x="1332360" y="187920"/>
            <a:ext cx="2592360" cy="1946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 rot="1830000">
            <a:off x="5435280" y="1916280"/>
            <a:ext cx="145728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Решение урав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878040" y="1432440"/>
            <a:ext cx="10866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 уровень                  2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320 : Х = 17600 : 400                    30 * Х = 60 *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320 : Х  =  44                                  30 *  Х = 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Х  = 1320 : 44                                    Х  =   180 :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Х = 30                                                Х 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---------------------------                         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320 : 30 = 44                                     30 * 6 = 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44 = 44                                         180 = 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528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Джейр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3827_file_thomsons_gazelle_balfour"/>
          <p:cNvPicPr/>
          <p:nvPr/>
        </p:nvPicPr>
        <p:blipFill>
          <a:blip r:embed="rId1"/>
          <a:stretch/>
        </p:blipFill>
        <p:spPr>
          <a:xfrm>
            <a:off x="1403280" y="1557360"/>
            <a:ext cx="6264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4:20:04Z</dcterms:created>
  <dc:creator>Инна</dc:creator>
  <dc:description/>
  <dc:language>en-US</dc:language>
  <cp:lastModifiedBy>Customer</cp:lastModifiedBy>
  <dcterms:modified xsi:type="dcterms:W3CDTF">2013-01-29T18:50:29Z</dcterms:modified>
  <cp:revision>9</cp:revision>
  <dc:subject/>
  <dc:title>Слайд 1</dc:title>
</cp:coreProperties>
</file>