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4B3-18B5-47FE-A21E-4EE72593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52C-660D-42B6-945D-C0677443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EA4-5BFB-4C20-BEE8-8454DB7E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B8F-1DE7-41CD-AEC7-3AD7AF5E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423C-59C4-4395-86CE-B60B9529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4E07-F64F-471C-B371-A9211AB7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7591-99EF-4B53-8BAA-219BFAF4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1DF2-7203-4445-B826-406ABC6F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4774-3FDD-4863-B72A-DB369379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AE69-81B0-4E73-93C3-EC9DF128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9AB3-9C5B-4A46-B080-4FCEEDB9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904-7545-4034-88B3-4016949D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255D-DBC6-4CC8-8DE5-4AFB2CE2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B644-A91B-4EEF-8E6F-0DF11F49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9DD9-5DEE-4264-B0F4-992A99C6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62FA-44D5-4BA0-AF3A-AE0E1936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E289-1491-46C5-8BFF-1FFEECA3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61B-F820-4A10-ADAC-4830DE7D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BEE-8593-47F6-A509-6CA06CAC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80D-AA84-43BF-B4F0-017BA8C0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A7F-FD2F-41EB-B40A-FE5FD6B1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0DB-FEE1-4418-8D59-938F298C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7DC-07EF-48CF-B5A7-EEFAF24E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3BD-0323-47E9-9841-657B896A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321C-AAF7-4CB4-8D80-80CDC52D3F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F6FF-7DE6-42BD-BD19-5ABB350094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539640" y="1628640"/>
            <a:ext cx="7993080" cy="348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 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cc00cc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Цветочный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cc00cc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род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cc00cc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5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6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8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9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0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1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2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3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4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5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6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7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8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9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0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1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2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3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4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5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6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27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8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9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0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1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2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3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4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5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6"/>
          <p:cNvSpPr/>
          <p:nvPr/>
        </p:nvSpPr>
        <p:spPr>
          <a:xfrm>
            <a:off x="395280" y="450864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7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8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9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0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1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2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3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4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5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6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7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8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9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0"/>
          <p:cNvSpPr/>
          <p:nvPr/>
        </p:nvSpPr>
        <p:spPr>
          <a:xfrm>
            <a:off x="111600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1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2"/>
          <p:cNvSpPr/>
          <p:nvPr/>
        </p:nvSpPr>
        <p:spPr>
          <a:xfrm>
            <a:off x="471888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5" descr="сиропчик и пончик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556240" y="0"/>
            <a:ext cx="3587760" cy="305424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7"/>
          <p:cNvSpPr/>
          <p:nvPr/>
        </p:nvSpPr>
        <p:spPr>
          <a:xfrm>
            <a:off x="5339160" y="5877000"/>
            <a:ext cx="2373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 Black"/>
              </a:rPr>
              <a:t>№ </a:t>
            </a:r>
            <a:r>
              <a:rPr b="1" lang="ru-RU" sz="4000" spc="-1" strike="noStrike">
                <a:solidFill>
                  <a:srgbClr val="ff3300"/>
                </a:solidFill>
                <a:latin typeface="Arial Black"/>
              </a:rPr>
              <a:t>5 с. 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6" descr="C:\Users\lego\Desktop\Рисунок1.png"/>
          <p:cNvPicPr/>
          <p:nvPr/>
        </p:nvPicPr>
        <p:blipFill>
          <a:blip r:embed="rId2"/>
          <a:stretch/>
        </p:blipFill>
        <p:spPr>
          <a:xfrm>
            <a:off x="428760" y="3714840"/>
            <a:ext cx="24955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80" dur="50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500" autoRev="1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84" dur="500" autoRev="1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85" dur="500" autoRev="1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497 -0.03215 C 0.18733 -0.0347 0.19167 -0.03238 0.18299 -0.04025 C 0.18056 -0.04233 0.1757 -0.04673 0.1757 -0.04673 C 0.17223 -0.05343 0.16754 -0.05737 0.1625 -0.06107 C 0.1599 -0.06292 0.15521 -0.06755 0.15521 -0.06755 C 0.15018 -0.07749 0.14462 -0.08651 0.13959 -0.09646 C 0.13403 -0.10756 0.1316 -0.12237 0.12275 -0.13023 C 0.1198 -0.1418 0.12205 -0.1374 0.11667 -0.14458 C 0.10955 -0.1728 0.1283 -0.21189 0.10816 -0.2297 C 0.09584 -0.2563 0.10209 -0.29239 0.10938 -0.32107 C 0.11355 -0.33727 0.11042 -0.31529 0.11302 -0.33079 C 0.11459 -0.3405 0.11424 -0.34027 0.11424 -0.34999 E">
                                      <p:cBhvr>
                                        <p:cTn id="189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34999 C 0.11493 -0.36363 0.11372 -0.37728 0.12275 -0.38515 C 0.12552 -0.39093 0.1257 -0.39417 0.13004 -0.3981 C 0.13195 -0.40828 0.14236 -0.42586 0.14931 -0.43187 C 0.15104 -0.43534 0.15365 -0.43766 0.15521 -0.44136 C 0.16268 -0.45917 0.15278 -0.4446 0.16129 -0.45593 C 0.16163 -0.45755 0.16163 -0.4594 0.1625 -0.46056 C 0.16563 -0.46449 0.16979 -0.46703 0.17327 -0.47027 C 0.17604 -0.47282 0.17813 -0.47675 0.18056 -0.47999 C 0.18368 -0.48415 0.1842 -0.49109 0.18785 -0.49433 C 0.19827 -0.50381 0.20972 -0.50775 0.22031 -0.51677 C 0.2224 -0.51862 0.22518 -0.51885 0.22761 -0.52001 C 0.23768 -0.5244 0.25 -0.52672 0.25886 -0.53458 C 0.26806 -0.55216 0.27934 -0.5473 0.29497 -0.5473 E">
                                      <p:cBhvr>
                                        <p:cTn id="197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ekaterinburg"/>
          <p:cNvPicPr/>
          <p:nvPr/>
        </p:nvPicPr>
        <p:blipFill>
          <a:blip r:embed="rId1"/>
          <a:stretch/>
        </p:blipFill>
        <p:spPr>
          <a:xfrm>
            <a:off x="684360" y="620640"/>
            <a:ext cx="41097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metro-spb"/>
          <p:cNvPicPr/>
          <p:nvPr/>
        </p:nvPicPr>
        <p:blipFill>
          <a:blip r:embed="rId1"/>
          <a:srcRect l="0" t="0" r="0" b="11123"/>
          <a:stretch/>
        </p:blipFill>
        <p:spPr>
          <a:xfrm>
            <a:off x="1403280" y="189000"/>
            <a:ext cx="691200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metro"/>
          <p:cNvPicPr/>
          <p:nvPr/>
        </p:nvPicPr>
        <p:blipFill>
          <a:blip r:embed="rId1"/>
          <a:stretch/>
        </p:blipFill>
        <p:spPr>
          <a:xfrm>
            <a:off x="205092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8216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7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9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8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1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3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4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6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8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9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0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428760" y="4500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0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1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2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3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4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5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8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9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0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1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2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3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4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4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5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9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0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1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2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3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4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5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6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7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2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3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428760" y="450072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973800" y="3789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0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2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3"/>
          <p:cNvSpPr/>
          <p:nvPr/>
        </p:nvSpPr>
        <p:spPr>
          <a:xfrm>
            <a:off x="327888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6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7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8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9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0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4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5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0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41" dur="10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42" dur="10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48" dur="10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49" dur="10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5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2" dur="10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0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9" dur="10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0" dur="10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6" dur="100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7" dur="100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83" dur="10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84" dur="100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4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5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6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8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0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1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2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3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5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6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7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8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4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5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6"/>
          <p:cNvSpPr/>
          <p:nvPr/>
        </p:nvSpPr>
        <p:spPr>
          <a:xfrm>
            <a:off x="395280" y="4508640"/>
            <a:ext cx="15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7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9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1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2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3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4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6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8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9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07" dur="10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08" dur="100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50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50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50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5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6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2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3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5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7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8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9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0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1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2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3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4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5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6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7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8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0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1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2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3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4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5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6"/>
          <p:cNvSpPr/>
          <p:nvPr/>
        </p:nvSpPr>
        <p:spPr>
          <a:xfrm>
            <a:off x="395280" y="4508640"/>
            <a:ext cx="15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7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8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9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0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1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2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3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6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7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8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9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0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1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2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6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2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6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7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8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9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1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2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3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4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25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6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7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8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9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0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1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2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3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4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5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6"/>
          <p:cNvSpPr/>
          <p:nvPr/>
        </p:nvSpPr>
        <p:spPr>
          <a:xfrm>
            <a:off x="395280" y="4508640"/>
            <a:ext cx="16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7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8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9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0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1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2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3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4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5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6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7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8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9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0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1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2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26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27" dur="500" autoRev="1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9" dur="25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31" dur="25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9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1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3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4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5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6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8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0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1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2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3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4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5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6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7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8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9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0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1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2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4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5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6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7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8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9"/>
          <p:cNvSpPr/>
          <p:nvPr/>
        </p:nvSpPr>
        <p:spPr>
          <a:xfrm>
            <a:off x="428760" y="4500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0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1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2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3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4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5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6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7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8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9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0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1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52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3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4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5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37" dur="500" autoRev="1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38" dur="500" autoRev="1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41" dur="50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42" dur="50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43" dur="50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2"/>
          <p:cNvSpPr/>
          <p:nvPr/>
        </p:nvSpPr>
        <p:spPr>
          <a:xfrm>
            <a:off x="1908000" y="1628640"/>
            <a:ext cx="4680000" cy="2952720"/>
          </a:xfrm>
          <a:custGeom>
            <a:avLst/>
            <a:gdLst>
              <a:gd name="textAreaLeft" fmla="*/ 0 w 4680000"/>
              <a:gd name="textAreaRight" fmla="*/ 4680360 w 4680000"/>
              <a:gd name="textAreaTop" fmla="*/ 0 h 2952720"/>
              <a:gd name="textAreaBottom" fmla="*/ 2953080 h 2952720"/>
            </a:gdLst>
            <a:ahLst/>
            <a:rect l="textAreaLeft" t="textAreaTop" r="textAreaRight" b="textAreaBottom"/>
            <a:pathLst>
              <a:path w="2948" h="1860">
                <a:moveTo>
                  <a:pt x="2948" y="0"/>
                </a:moveTo>
                <a:cubicBezTo>
                  <a:pt x="2793" y="136"/>
                  <a:pt x="2638" y="272"/>
                  <a:pt x="2449" y="363"/>
                </a:cubicBezTo>
                <a:cubicBezTo>
                  <a:pt x="2260" y="454"/>
                  <a:pt x="2018" y="462"/>
                  <a:pt x="1814" y="545"/>
                </a:cubicBezTo>
                <a:cubicBezTo>
                  <a:pt x="1610" y="628"/>
                  <a:pt x="1436" y="696"/>
                  <a:pt x="1224" y="862"/>
                </a:cubicBezTo>
                <a:cubicBezTo>
                  <a:pt x="1012" y="1028"/>
                  <a:pt x="748" y="1376"/>
                  <a:pt x="544" y="1542"/>
                </a:cubicBezTo>
                <a:cubicBezTo>
                  <a:pt x="340" y="1708"/>
                  <a:pt x="91" y="1807"/>
                  <a:pt x="0" y="1860"/>
                </a:cubicBezTo>
              </a:path>
            </a:pathLst>
          </a:custGeom>
          <a:noFill/>
          <a:ln w="165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"/>
          <p:cNvSpPr/>
          <p:nvPr/>
        </p:nvSpPr>
        <p:spPr>
          <a:xfrm>
            <a:off x="2556000" y="1413000"/>
            <a:ext cx="3887640" cy="3816360"/>
          </a:xfrm>
          <a:custGeom>
            <a:avLst/>
            <a:gdLst>
              <a:gd name="textAreaLeft" fmla="*/ 569160 w 3887640"/>
              <a:gd name="textAreaRight" fmla="*/ 3318480 w 388764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3" y="10800"/>
                </a:moveTo>
                <a:cubicBezTo>
                  <a:pt x="953" y="16238"/>
                  <a:pt x="5362" y="20647"/>
                  <a:pt x="10800" y="20647"/>
                </a:cubicBezTo>
                <a:cubicBezTo>
                  <a:pt x="16238" y="20647"/>
                  <a:pt x="20647" y="16238"/>
                  <a:pt x="20647" y="10800"/>
                </a:cubicBezTo>
                <a:cubicBezTo>
                  <a:pt x="20647" y="5362"/>
                  <a:pt x="16238" y="953"/>
                  <a:pt x="10800" y="953"/>
                </a:cubicBezTo>
                <a:cubicBezTo>
                  <a:pt x="5362" y="953"/>
                  <a:pt x="953" y="5362"/>
                  <a:pt x="95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4"/>
          <p:cNvSpPr/>
          <p:nvPr/>
        </p:nvSpPr>
        <p:spPr>
          <a:xfrm>
            <a:off x="2700360" y="1557360"/>
            <a:ext cx="3889440" cy="360036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450" h="2268">
                <a:moveTo>
                  <a:pt x="0" y="0"/>
                </a:moveTo>
                <a:cubicBezTo>
                  <a:pt x="106" y="132"/>
                  <a:pt x="212" y="264"/>
                  <a:pt x="363" y="408"/>
                </a:cubicBezTo>
                <a:cubicBezTo>
                  <a:pt x="514" y="552"/>
                  <a:pt x="725" y="740"/>
                  <a:pt x="907" y="861"/>
                </a:cubicBezTo>
                <a:cubicBezTo>
                  <a:pt x="1089" y="982"/>
                  <a:pt x="1271" y="937"/>
                  <a:pt x="1452" y="1134"/>
                </a:cubicBezTo>
                <a:cubicBezTo>
                  <a:pt x="1633" y="1331"/>
                  <a:pt x="1830" y="1852"/>
                  <a:pt x="1996" y="2041"/>
                </a:cubicBezTo>
                <a:cubicBezTo>
                  <a:pt x="2162" y="2230"/>
                  <a:pt x="2375" y="2230"/>
                  <a:pt x="2450" y="2268"/>
                </a:cubicBezTo>
              </a:path>
            </a:pathLst>
          </a:custGeom>
          <a:noFill/>
          <a:ln w="152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5"/>
          <p:cNvSpPr/>
          <p:nvPr/>
        </p:nvSpPr>
        <p:spPr>
          <a:xfrm>
            <a:off x="4356000" y="907920"/>
            <a:ext cx="746280" cy="4853160"/>
          </a:xfrm>
          <a:custGeom>
            <a:avLst/>
            <a:gdLst>
              <a:gd name="textAreaLeft" fmla="*/ 0 w 746280"/>
              <a:gd name="textAreaRight" fmla="*/ 746640 w 746280"/>
              <a:gd name="textAreaTop" fmla="*/ 0 h 4853160"/>
              <a:gd name="textAreaBottom" fmla="*/ 4853520 h 4853160"/>
            </a:gdLst>
            <a:ahLst/>
            <a:rect l="textAreaLeft" t="textAreaTop" r="textAreaRight" b="textAreaBottom"/>
            <a:pathLst>
              <a:path w="470" h="3057">
                <a:moveTo>
                  <a:pt x="171" y="0"/>
                </a:moveTo>
                <a:cubicBezTo>
                  <a:pt x="176" y="126"/>
                  <a:pt x="153" y="341"/>
                  <a:pt x="223" y="480"/>
                </a:cubicBezTo>
                <a:cubicBezTo>
                  <a:pt x="237" y="553"/>
                  <a:pt x="277" y="618"/>
                  <a:pt x="319" y="679"/>
                </a:cubicBezTo>
                <a:cubicBezTo>
                  <a:pt x="331" y="717"/>
                  <a:pt x="358" y="755"/>
                  <a:pt x="385" y="783"/>
                </a:cubicBezTo>
                <a:cubicBezTo>
                  <a:pt x="408" y="846"/>
                  <a:pt x="421" y="900"/>
                  <a:pt x="430" y="967"/>
                </a:cubicBezTo>
                <a:cubicBezTo>
                  <a:pt x="426" y="1251"/>
                  <a:pt x="470" y="1462"/>
                  <a:pt x="334" y="1691"/>
                </a:cubicBezTo>
                <a:cubicBezTo>
                  <a:pt x="321" y="1739"/>
                  <a:pt x="301" y="1785"/>
                  <a:pt x="282" y="1831"/>
                </a:cubicBezTo>
                <a:cubicBezTo>
                  <a:pt x="273" y="1852"/>
                  <a:pt x="278" y="1878"/>
                  <a:pt x="267" y="1898"/>
                </a:cubicBezTo>
                <a:cubicBezTo>
                  <a:pt x="239" y="1952"/>
                  <a:pt x="228" y="2016"/>
                  <a:pt x="193" y="2067"/>
                </a:cubicBezTo>
                <a:cubicBezTo>
                  <a:pt x="186" y="2110"/>
                  <a:pt x="174" y="2157"/>
                  <a:pt x="149" y="2193"/>
                </a:cubicBezTo>
                <a:cubicBezTo>
                  <a:pt x="140" y="2472"/>
                  <a:pt x="178" y="2704"/>
                  <a:pt x="60" y="2939"/>
                </a:cubicBezTo>
                <a:cubicBezTo>
                  <a:pt x="52" y="2974"/>
                  <a:pt x="35" y="3000"/>
                  <a:pt x="24" y="3035"/>
                </a:cubicBezTo>
                <a:cubicBezTo>
                  <a:pt x="21" y="3043"/>
                  <a:pt x="0" y="3057"/>
                  <a:pt x="9" y="3057"/>
                </a:cubicBezTo>
                <a:cubicBezTo>
                  <a:pt x="19" y="3057"/>
                  <a:pt x="31" y="3035"/>
                  <a:pt x="31" y="3035"/>
                </a:cubicBezTo>
              </a:path>
            </a:pathLst>
          </a:custGeom>
          <a:noFill/>
          <a:ln w="130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6"/>
          <p:cNvSpPr/>
          <p:nvPr/>
        </p:nvSpPr>
        <p:spPr>
          <a:xfrm>
            <a:off x="2843280" y="2997360"/>
            <a:ext cx="4392720" cy="262728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2767" h="1655">
                <a:moveTo>
                  <a:pt x="2767" y="67"/>
                </a:moveTo>
                <a:cubicBezTo>
                  <a:pt x="2601" y="40"/>
                  <a:pt x="2435" y="14"/>
                  <a:pt x="2223" y="22"/>
                </a:cubicBezTo>
                <a:cubicBezTo>
                  <a:pt x="2011" y="30"/>
                  <a:pt x="1724" y="0"/>
                  <a:pt x="1497" y="113"/>
                </a:cubicBezTo>
                <a:cubicBezTo>
                  <a:pt x="1270" y="226"/>
                  <a:pt x="1043" y="529"/>
                  <a:pt x="862" y="703"/>
                </a:cubicBezTo>
                <a:cubicBezTo>
                  <a:pt x="681" y="877"/>
                  <a:pt x="552" y="997"/>
                  <a:pt x="408" y="1156"/>
                </a:cubicBezTo>
                <a:cubicBezTo>
                  <a:pt x="264" y="1315"/>
                  <a:pt x="132" y="1485"/>
                  <a:pt x="0" y="1655"/>
                </a:cubicBezTo>
              </a:path>
            </a:pathLst>
          </a:custGeom>
          <a:noFill/>
          <a:ln w="155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500720" y="765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8"/>
          <p:cNvSpPr/>
          <p:nvPr/>
        </p:nvSpPr>
        <p:spPr>
          <a:xfrm>
            <a:off x="4572000" y="14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9"/>
          <p:cNvSpPr/>
          <p:nvPr/>
        </p:nvSpPr>
        <p:spPr>
          <a:xfrm>
            <a:off x="5796000" y="1989000"/>
            <a:ext cx="21600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0"/>
          <p:cNvSpPr/>
          <p:nvPr/>
        </p:nvSpPr>
        <p:spPr>
          <a:xfrm>
            <a:off x="6443640" y="1557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2556000" y="141300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2987640" y="1916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3"/>
          <p:cNvSpPr/>
          <p:nvPr/>
        </p:nvSpPr>
        <p:spPr>
          <a:xfrm>
            <a:off x="3924360" y="2781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4932360" y="227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4859280" y="321300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6"/>
          <p:cNvSpPr/>
          <p:nvPr/>
        </p:nvSpPr>
        <p:spPr>
          <a:xfrm>
            <a:off x="2700360" y="393372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7"/>
          <p:cNvSpPr/>
          <p:nvPr/>
        </p:nvSpPr>
        <p:spPr>
          <a:xfrm>
            <a:off x="3348000" y="47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8"/>
          <p:cNvSpPr/>
          <p:nvPr/>
        </p:nvSpPr>
        <p:spPr>
          <a:xfrm>
            <a:off x="5651640" y="458136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9"/>
          <p:cNvSpPr/>
          <p:nvPr/>
        </p:nvSpPr>
        <p:spPr>
          <a:xfrm>
            <a:off x="6227640" y="29242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0"/>
          <p:cNvSpPr/>
          <p:nvPr/>
        </p:nvSpPr>
        <p:spPr>
          <a:xfrm>
            <a:off x="1763640" y="4508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1"/>
          <p:cNvSpPr/>
          <p:nvPr/>
        </p:nvSpPr>
        <p:spPr>
          <a:xfrm>
            <a:off x="2700360" y="5516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2"/>
          <p:cNvSpPr/>
          <p:nvPr/>
        </p:nvSpPr>
        <p:spPr>
          <a:xfrm>
            <a:off x="6516720" y="508464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3"/>
          <p:cNvSpPr/>
          <p:nvPr/>
        </p:nvSpPr>
        <p:spPr>
          <a:xfrm>
            <a:off x="7236000" y="2997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24"/>
          <p:cNvSpPr/>
          <p:nvPr/>
        </p:nvSpPr>
        <p:spPr>
          <a:xfrm>
            <a:off x="2556000" y="292428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5"/>
          <p:cNvSpPr/>
          <p:nvPr/>
        </p:nvSpPr>
        <p:spPr>
          <a:xfrm>
            <a:off x="4500720" y="4221000"/>
            <a:ext cx="215640" cy="2178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6"/>
          <p:cNvSpPr/>
          <p:nvPr/>
        </p:nvSpPr>
        <p:spPr>
          <a:xfrm>
            <a:off x="4140360" y="4005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7"/>
          <p:cNvSpPr/>
          <p:nvPr/>
        </p:nvSpPr>
        <p:spPr>
          <a:xfrm>
            <a:off x="6156360" y="378936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8"/>
          <p:cNvSpPr/>
          <p:nvPr/>
        </p:nvSpPr>
        <p:spPr>
          <a:xfrm>
            <a:off x="3134160" y="404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м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9"/>
          <p:cNvSpPr/>
          <p:nvPr/>
        </p:nvSpPr>
        <p:spPr>
          <a:xfrm>
            <a:off x="7381800" y="2997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уб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0"/>
          <p:cNvSpPr/>
          <p:nvPr/>
        </p:nvSpPr>
        <p:spPr>
          <a:xfrm>
            <a:off x="6375240" y="3789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уванч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1"/>
          <p:cNvSpPr/>
          <p:nvPr/>
        </p:nvSpPr>
        <p:spPr>
          <a:xfrm>
            <a:off x="5943240" y="4437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ен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2"/>
          <p:cNvSpPr/>
          <p:nvPr/>
        </p:nvSpPr>
        <p:spPr>
          <a:xfrm>
            <a:off x="6734160" y="508464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3"/>
          <p:cNvSpPr/>
          <p:nvPr/>
        </p:nvSpPr>
        <p:spPr>
          <a:xfrm>
            <a:off x="3781440" y="5950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4"/>
          <p:cNvSpPr/>
          <p:nvPr/>
        </p:nvSpPr>
        <p:spPr>
          <a:xfrm>
            <a:off x="4645080" y="53006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льпа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5"/>
          <p:cNvSpPr/>
          <p:nvPr/>
        </p:nvSpPr>
        <p:spPr>
          <a:xfrm>
            <a:off x="1838160" y="580536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диол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6"/>
          <p:cNvSpPr/>
          <p:nvPr/>
        </p:nvSpPr>
        <p:spPr>
          <a:xfrm>
            <a:off x="395280" y="450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у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7"/>
          <p:cNvSpPr/>
          <p:nvPr/>
        </p:nvSpPr>
        <p:spPr>
          <a:xfrm>
            <a:off x="902160" y="3716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рико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8"/>
          <p:cNvSpPr/>
          <p:nvPr/>
        </p:nvSpPr>
        <p:spPr>
          <a:xfrm>
            <a:off x="1117800" y="19162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дар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9"/>
          <p:cNvSpPr/>
          <p:nvPr/>
        </p:nvSpPr>
        <p:spPr>
          <a:xfrm>
            <a:off x="6589440" y="1197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роп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0"/>
          <p:cNvSpPr/>
          <p:nvPr/>
        </p:nvSpPr>
        <p:spPr>
          <a:xfrm>
            <a:off x="4646880" y="4149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ти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1"/>
          <p:cNvSpPr/>
          <p:nvPr/>
        </p:nvSpPr>
        <p:spPr>
          <a:xfrm>
            <a:off x="1118880" y="83664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га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2"/>
          <p:cNvSpPr/>
          <p:nvPr/>
        </p:nvSpPr>
        <p:spPr>
          <a:xfrm>
            <a:off x="2918880" y="29242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ш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3061440" y="34290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4"/>
          <p:cNvSpPr/>
          <p:nvPr/>
        </p:nvSpPr>
        <p:spPr>
          <a:xfrm>
            <a:off x="5078880" y="321300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4644000" y="24922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кола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6302160" y="1989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мб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134880" y="42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н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8"/>
          <p:cNvSpPr/>
          <p:nvPr/>
        </p:nvSpPr>
        <p:spPr>
          <a:xfrm>
            <a:off x="4500720" y="5013360"/>
            <a:ext cx="21564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9"/>
          <p:cNvSpPr/>
          <p:nvPr/>
        </p:nvSpPr>
        <p:spPr>
          <a:xfrm>
            <a:off x="4211640" y="5734080"/>
            <a:ext cx="216000" cy="2174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0"/>
          <p:cNvSpPr/>
          <p:nvPr/>
        </p:nvSpPr>
        <p:spPr>
          <a:xfrm>
            <a:off x="1042920" y="27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ур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1"/>
          <p:cNvSpPr/>
          <p:nvPr/>
        </p:nvSpPr>
        <p:spPr>
          <a:xfrm>
            <a:off x="6446520" y="25653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ё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2"/>
          <p:cNvSpPr/>
          <p:nvPr/>
        </p:nvSpPr>
        <p:spPr>
          <a:xfrm>
            <a:off x="4790520" y="10526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енц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3" descr="тюбик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89000"/>
            <a:ext cx="2952720" cy="263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5" descr="незнайка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940360" y="476280"/>
            <a:ext cx="2135160" cy="330984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6"/>
          <p:cNvSpPr/>
          <p:nvPr/>
        </p:nvSpPr>
        <p:spPr>
          <a:xfrm>
            <a:off x="886680" y="5877000"/>
            <a:ext cx="6548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 Black"/>
              </a:rPr>
              <a:t>Решите задачу № 4 с. 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49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38 0.26024 C -0.07986 0.25492 -0.07691 0.25006 -0.07691 0.24451 C -0.07691 0.2075 -0.07847 0.17025 -0.07934 0.13324 C -0.08629 0.13648 -0.09323 0.1381 -0.10052 0.13949 C -0.11806 0.14759 -0.14375 0.14365 -0.15816 0.14412 C -0.17066 0.14851 -0.15191 0.14226 -0.17222 0.14735 C -0.17986 0.1492 -0.18715 0.15383 -0.19462 0.15661 C -0.2033 0.16447 -0.21024 0.17303 -0.22049 0.17696 C -0.22674 0.17141 -0.23142 0.16216 -0.23698 0.15522 C -0.23802 0.15383 -0.23819 0.15152 -0.23924 0.15036 C -0.24444 0.14412 -0.25365 0.13764 -0.26042 0.13486 C -0.26597 0.12977 -0.27188 0.12307 -0.27813 0.11913 C -0.29236 0.10988 -0.31406 0.10965 -0.32865 0.10965 E">
                                      <p:cBhvr>
                                        <p:cTn id="159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865 0.10964 C -0.32986 0.11057 -0.3309 0.11196 -0.33212 0.11265 C -0.33333 0.11334 -0.33472 0.11334 -0.33577 0.11427 C -0.3382 0.11612 -0.34271 0.12052 -0.34271 0.12075 C -0.34514 0.12514 -0.34809 0.13509 -0.35104 0.13948 C -0.36129 0.15452 -0.37136 0.17025 -0.38281 0.1832 C -0.38768 0.18876 -0.39011 0.19569 -0.39566 0.20055 C -0.39913 0.20356 -0.40625 0.20981 -0.40625 0.21004 C -0.41024 0.2179 -0.41597 0.21813 -0.42049 0.22715 C -0.42795 0.24219 -0.43733 0.25653 -0.44757 0.26787 C -0.45243 0.27319 -0.45504 0.28013 -0.46042 0.28522 C -0.46302 0.28013 -0.46615 0.27781 -0.46875 0.27272 C -0.47083 0.26 -0.47778 0.25052 -0.48038 0.23803 C -0.48004 0.20402 -0.48004 0.17025 -0.47934 0.13625 C -0.47899 0.12005 -0.46962 0.09276 -0.46163 0.08142 C -0.45938 0.07842 -0.45729 0.07564 -0.45573 0.07194 C -0.45278 0.0643 -0.44722 0.05621 -0.44514 0.04834 C -0.44254 0.03863 -0.44063 0.02845 -0.43802 0.01873 C -0.43768 0.0148 -0.43577 0.00601 -0.43577 0.00139 E">
                                      <p:cBhvr>
                                        <p:cTn id="173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8:50:40Z</dcterms:created>
  <dc:creator>АВ</dc:creator>
  <dc:description/>
  <dc:language>en-US</dc:language>
  <cp:lastModifiedBy>Александра</cp:lastModifiedBy>
  <dcterms:modified xsi:type="dcterms:W3CDTF">2015-01-31T16:35:48Z</dcterms:modified>
  <cp:revision>28</cp:revision>
  <dc:subject/>
  <dc:title>Слайд 1</dc:title>
</cp:coreProperties>
</file>