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5871-BE02-48AA-B371-F08DF45C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430A-284A-42F7-B638-6FDB86AE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B9E1C-EEAF-42B1-BF82-B218A455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FD777-990C-43B9-ADED-B7C702C4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87FB9-D69C-484E-B719-4E3EE45B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60CAB-8FCC-47C4-B1A6-DF790A3B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EB5F3-F94E-47A6-B93B-6E6EF5CA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49F79-699A-4FAA-B089-8CA5D505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5E7D4-D334-48AD-9D4B-6D1369DC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3837D-7BB6-4F32-9370-C11E033C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53909-CA43-487E-B2BB-4100C206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B9E-C4F7-47AA-815E-C349D2AA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44AC-FFC8-4AA3-9FAE-B31A1102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A4AC-8B98-4C24-9E9A-9CBEA5E1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3E44-DAE7-4175-8D03-30324355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0292-2F6C-457B-9B04-15A90B48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51C8-F909-48C5-806A-D16D8086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B6CD-12A2-4DE5-93A4-6EC01444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1C83-6DC2-436F-8AE2-AFF710FB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0ED2-6067-4EEB-852C-C4FC4599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00E0-03D4-4170-B1D3-D965BD3B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3FE3-EE5B-49F9-A8F1-E38F6C6C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5082-4BE4-4E14-B183-EAC378DC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E9DC-F136-4E94-AD6B-0D8D29C8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6C5C-A55E-492C-BAFA-C701B747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17C9-39C2-408E-8EAD-69EF78E3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15DCC-6C73-488D-BA17-A5AFCDFA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19004-791A-4D13-AB4D-0EDB91A1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6D175-7903-4243-B7EF-18765633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7E0CD-4A1E-489A-8910-8323C76A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35A15-181A-4E92-A0E9-ED9C34EB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89F7-17CA-47F8-AB8F-16599FE2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3A0F4-0A63-4CBC-94C3-0321282F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10764-7092-43EA-BEAF-EBC37064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207FB-A4F3-44E5-AFB7-19E9B4CD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E26B7-F486-4BE4-80C6-6DF9F6CE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A3FA3-8C1D-4EE5-892A-193A7560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8BDC3-F56D-4655-A670-4EEE8436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DA429-0E5D-4A9D-BC97-82AA8B15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6571B-D5DA-4B58-AF5C-84D5F8D7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CAB2E-889E-468D-836A-6616CBB1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51F79-DBD0-45E2-80E0-2C3BCC57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7A51-EE9F-4C4B-91D3-B5BB8416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C9A80-3539-4F5D-B283-861E9318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5F3D4-612C-4607-B538-B42F5061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FB64A-5493-42F6-AD5D-08A15B8F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60594-BC4E-4D28-8823-8648611B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F2E0D-4D91-4BE6-BB3E-17B0EEE2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5ABF9-68FE-4E74-9852-C1C81FB8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C6320-103C-43E5-B4E1-25A24E76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99E3E-8572-4D7C-BAA3-D796FA66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6680F-7787-4E74-9225-456759D8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5D32C-3F4C-4EF2-A77F-3FC8FD30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D43F-34E5-402D-9274-F56DB7E1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AE831-5C53-4F01-A55B-5FB5E91D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D8231-C318-432D-A016-36FCC4B3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49DCE-1E19-4FA4-867C-384C12E0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AA377-322A-45CE-9771-9681FC6A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49886-4DAF-44B9-AB05-8C8FCAD4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305F1-1CE3-4432-B59E-E2667E2C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D80AA-24E7-485C-ABDB-386E49F9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B7812-899A-459B-BA04-EBFEEFD4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73B16-8AA5-4949-9543-B3378E7E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9E270-0384-40C0-ABB3-1F59C5D2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A91C-B78C-439C-8D1A-B66933D1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31505-E378-4986-AC8A-42AD8BDA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4E4F7-0E86-4658-B7B8-30E7F2C3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C30AF-4EDD-4580-BAC6-FA172BAB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43F3A-98DE-45BC-9B56-ABE84D23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78AB2-BD7E-4D18-A40C-9BCD5ACF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0F6FF-C884-498B-BADB-0B11507B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1B77E-6795-449A-979B-EF2A7C3A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8531D-876D-4257-92E4-299083CB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541B0-9DA9-4823-974F-07CFDFE2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F140F-9B65-4D6C-B254-A6A259DF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A51F-B0DF-49EF-BCC9-408C528F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F8D42-62AB-4D5F-8289-F08EB5C1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5C353-62EF-45EB-BED3-4CA6FE49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EEC87-EF07-48B2-AAFE-B9E4042C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54777-7AFA-4634-BD61-CA18B6DA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23CF4-159A-417F-8550-4BF40A95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A9D87-A61A-4D59-A366-99639E1E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107B7-16C7-4DBD-94AD-9F0191B4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DBA8A-5DEC-487E-A9DA-487BD3FF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DDD2D-FCCC-4846-8FA6-CBBE37F0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B8F41-C71B-4BB1-8B49-04BB461E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7EBD-AACB-462D-A599-4175EDB4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CEAAE-3FEF-46AB-9A21-21468EDB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2F5D3-59CF-4AFA-B65F-E1B2C479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AB05E-F9D8-4061-A5F0-4734249D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A32A7-DB92-43FD-B948-E82CF005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71563-DA97-40C9-A7A3-022F8B68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4309D-CE62-4CFA-AB75-8A853D0C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7A5F3-CDB8-480B-A366-7E6EA625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CC5AD-017E-4133-BB78-53ACE789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73B0A-EF51-4535-914F-1DF6F872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66C45-72F7-45F5-9FC5-791607E6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42E8-0F7F-42CA-AD35-1B78E81C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31969-514C-41C6-98D8-AF4A1567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AB10D-6A4D-481C-B81B-EB8961AB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9F0A6-CC19-451D-9582-851B4CD6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33B7D-FCDE-4136-BE34-5DB32C7E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40E3F-F1A2-4303-8C36-E13576B4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5BDE7-6983-4B9B-BEB6-7D2A44C6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DBC8F-264E-44CF-89F0-695E4AA4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0AB9B-34F6-4D7A-8461-E40BC8E0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8FC9E-0B99-49B5-9668-D9BED900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20A9A-5ED4-4659-8100-2DD50169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4479-0378-4724-BF0B-4E410A37655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B5E2-4282-4F90-A9AF-8CBE18F5EF0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F4FD-1752-4966-9A11-94FD845DEBD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9936-64F9-4CD3-A378-4B6BF9E047F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6B0E-B0AA-4967-9557-2123BD09A6D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4237-FC07-4BE7-9694-3E7C4A82132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651C-D9B1-4FDF-9F83-88041FD467C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EE79-7688-479B-8260-47092DAB761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2B52-37C1-4F13-9880-01C5EA058AE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920880" y="847800"/>
            <a:ext cx="7540560" cy="14508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06000" y="3429000"/>
            <a:ext cx="403236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7529"/>
                </a:solidFill>
                <a:latin typeface="Comic Sans MS"/>
              </a:rPr>
              <a:t>Автор 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7529"/>
                </a:solidFill>
                <a:latin typeface="Comic Sans MS"/>
              </a:rPr>
              <a:t>Куренков Егор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7529"/>
                </a:solidFill>
                <a:latin typeface="Comic Sans MS"/>
              </a:rPr>
              <a:t>Ученик 3-б класс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4" descr="DSC_0519"/>
          <p:cNvPicPr/>
          <p:nvPr/>
        </p:nvPicPr>
        <p:blipFill>
          <a:blip r:embed="rId2"/>
          <a:stretch/>
        </p:blipFill>
        <p:spPr>
          <a:xfrm>
            <a:off x="5638680" y="3286080"/>
            <a:ext cx="1901880" cy="206712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5"/>
          <p:cNvSpPr/>
          <p:nvPr/>
        </p:nvSpPr>
        <p:spPr>
          <a:xfrm>
            <a:off x="336600" y="25430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17529"/>
                </a:solidFill>
                <a:latin typeface="Comic Sans MS"/>
              </a:rPr>
              <a:t>Почему люди врут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930240" y="208080"/>
            <a:ext cx="68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Муниципальное бюджет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Сычевская общеобразовательная средняя школа №2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336600" y="5349960"/>
            <a:ext cx="625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Козлова Валентина Павловна,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179280" y="260280"/>
            <a:ext cx="88567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e3b30"/>
                </a:solidFill>
                <a:latin typeface="Comic Sans MS"/>
              </a:rPr>
              <a:t>Вот и получается, что на все 100% узнать, где правда, а где ложь практически невозможно.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e3b30"/>
                </a:solidFill>
                <a:latin typeface="Comic Sans MS"/>
              </a:rPr>
              <a:t>                               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e3b30"/>
                </a:solidFill>
                <a:latin typeface="Comic Sans MS"/>
              </a:rPr>
              <a:t>Но всё-таки хочется надеяться, что даже если мы и лукавим и даже по </a:t>
            </a:r>
            <a:r>
              <a:rPr b="0" lang="ru-RU" sz="1900" spc="-1" strike="noStrike">
                <a:solidFill>
                  <a:srgbClr val="c17529"/>
                </a:solidFill>
                <a:latin typeface="Comic Sans MS"/>
              </a:rPr>
              <a:t>20 раз </a:t>
            </a:r>
            <a:r>
              <a:rPr b="0" lang="ru-RU" sz="1900" spc="-1" strike="noStrike">
                <a:solidFill>
                  <a:srgbClr val="4e3b30"/>
                </a:solidFill>
                <a:latin typeface="Comic Sans MS"/>
              </a:rPr>
              <a:t>в день ,и то не слишком в ущерб окружающим и всё-таки будем  стараться следовать другим народным мудростям: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17529"/>
                </a:solidFill>
                <a:latin typeface="Comic Sans MS"/>
              </a:rPr>
              <a:t>«Всё меняется, одна правда остаётся»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17529"/>
                </a:solidFill>
                <a:latin typeface="Comic Sans MS"/>
              </a:rPr>
              <a:t>«Правда в огне не горит и в воде не тонет» 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omic Sans MS"/>
              </a:rPr>
              <a:t>              </a:t>
            </a:r>
            <a:r>
              <a:rPr b="0" lang="ru-RU" sz="3200" spc="-1" strike="noStrike">
                <a:solidFill>
                  <a:srgbClr val="4e3b30"/>
                </a:solidFill>
                <a:latin typeface="Comic Sans MS"/>
              </a:rPr>
              <a:t>Я для себя сделал вывод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900000" y="4149720"/>
            <a:ext cx="777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omic Sans MS"/>
                <a:ea typeface="Arial"/>
              </a:rPr>
              <a:t>Ложь – результат неуверенности в своих силах и возможностях. Поэтому надо воспитать себя так, чтобы быть всегда уверенным в себе и своих силах, интеллектуально развитым и физически крепким. Тогда ложь станет бессмысленной.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259920"/>
            <a:ext cx="868680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Литература:</a:t>
            </a:r>
            <a:endParaRPr b="0" lang="en-US" sz="1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95280" y="990720"/>
            <a:ext cx="8686800" cy="38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1.Копилка народной мудрости \ сост.К.О.Соляник.-2011.-240с.\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2.Справочник необходимых знаний \сост В. Менделев, 2009.-240 с.\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3. Энциклопедия школьника «4000 увлекательных фактов» \Автор текста Джон Фардон\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TextBox 4"/>
          <p:cNvSpPr/>
          <p:nvPr/>
        </p:nvSpPr>
        <p:spPr>
          <a:xfrm>
            <a:off x="1123920" y="5884920"/>
            <a:ext cx="115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TextBox 2"/>
          <p:cNvSpPr/>
          <p:nvPr/>
        </p:nvSpPr>
        <p:spPr>
          <a:xfrm>
            <a:off x="428760" y="3213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3227"/>
                </a:solidFill>
                <a:latin typeface="Comic Sans MS"/>
              </a:rPr>
              <a:t>mail.ru/search_</a:t>
            </a: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523227"/>
                </a:solidFill>
                <a:latin typeface="Comic Sans MS"/>
              </a:rPr>
              <a:t>images</a:t>
            </a: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523227"/>
                </a:solidFill>
                <a:latin typeface="Comic Sans MS"/>
              </a:rPr>
              <a:t>?</a:t>
            </a: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523227"/>
                </a:solidFill>
                <a:latin typeface="Comic Sans MS"/>
              </a:rPr>
              <a:t>q=</a:t>
            </a: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картинки+детей%2</a:t>
            </a:r>
            <a:r>
              <a:rPr b="0" lang="en-US" sz="1800" spc="-1" strike="noStrike">
                <a:solidFill>
                  <a:srgbClr val="523227"/>
                </a:solidFill>
                <a:latin typeface="Comic Sans MS"/>
              </a:rPr>
              <a:t>C+</a:t>
            </a: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 которые+ вру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TextBox 3"/>
          <p:cNvSpPr/>
          <p:nvPr/>
        </p:nvSpPr>
        <p:spPr>
          <a:xfrm>
            <a:off x="520200" y="2421000"/>
            <a:ext cx="590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Использованы фотографии из семейного альбом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Картинки с сайта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9440" y="115920"/>
            <a:ext cx="8882280" cy="14382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"/>
          <p:cNvSpPr/>
          <p:nvPr/>
        </p:nvSpPr>
        <p:spPr>
          <a:xfrm>
            <a:off x="1476360" y="1341360"/>
            <a:ext cx="431964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  <a:ea typeface="Arial"/>
              </a:rPr>
              <a:t>1.Неужели все врут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  <a:ea typeface="Arial"/>
              </a:rPr>
              <a:t>2.Зачем люди врут?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  <a:ea typeface="Arial"/>
              </a:rPr>
              <a:t>3.Кто врет больше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  <a:ea typeface="Arial"/>
              </a:rPr>
              <a:t>4.Можно ли распознать  ложь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  <a:ea typeface="Arial"/>
              </a:rPr>
              <a:t>5.Как воспитать себя,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  <a:ea typeface="Arial"/>
              </a:rPr>
              <a:t>чтобы не приходилось врать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249120" y="476280"/>
            <a:ext cx="8686800" cy="8398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611280" y="1557360"/>
            <a:ext cx="82915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1.Выяснить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52322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Все ли  люди врут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52322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Как часто люди врут?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52322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Зачем люди врут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52322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Когда это спасает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52322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Возможно ли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         </a:t>
            </a:r>
            <a:r>
              <a:rPr b="0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распознать ложь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52322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Можно ли прожить не лукавя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52322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2.Изучить информацию по этому вопросу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3. Сделать выводы: стоит ли врать, когда это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не на пользу другим людям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Рисунок 3" descr=""/>
          <p:cNvPicPr/>
          <p:nvPr/>
        </p:nvPicPr>
        <p:blipFill>
          <a:blip r:embed="rId2"/>
          <a:stretch/>
        </p:blipFill>
        <p:spPr>
          <a:xfrm>
            <a:off x="5303880" y="1859040"/>
            <a:ext cx="298116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7" descr="NEWY01"/>
          <p:cNvPicPr/>
          <p:nvPr/>
        </p:nvPicPr>
        <p:blipFill>
          <a:blip r:embed="rId1"/>
          <a:stretch/>
        </p:blipFill>
        <p:spPr>
          <a:xfrm>
            <a:off x="6372360" y="363600"/>
            <a:ext cx="1604880" cy="20876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611280" y="764640"/>
            <a:ext cx="56894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Franklin Gothic Book"/>
              </a:rPr>
              <a:t>«</a:t>
            </a: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Больше всего людиобижаются на правду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«Говорить правду-терять дружбу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«Не любо - не слушай, а врать не мешай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«Не обманешь-не продашь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Эти и многие другие пословицы, поговорки, крылатые выражения говорят нам о том что,наряду с правдивостью, честностью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в нашей жизни неотъемлимо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присутствует  ложьи лукавство!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7288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TextBox 1"/>
          <p:cNvSpPr/>
          <p:nvPr/>
        </p:nvSpPr>
        <p:spPr>
          <a:xfrm>
            <a:off x="181080" y="404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5" name="Picture 6" descr=""/>
          <p:cNvPicPr/>
          <p:nvPr/>
        </p:nvPicPr>
        <p:blipFill>
          <a:blip r:embed="rId2"/>
          <a:stretch/>
        </p:blipFill>
        <p:spPr>
          <a:xfrm>
            <a:off x="5964120" y="2465280"/>
            <a:ext cx="24210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5" descr="lopás"/>
          <p:cNvPicPr/>
          <p:nvPr/>
        </p:nvPicPr>
        <p:blipFill>
          <a:blip r:embed="rId1"/>
          <a:stretch/>
        </p:blipFill>
        <p:spPr>
          <a:xfrm>
            <a:off x="1414440" y="706320"/>
            <a:ext cx="2700360" cy="20242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6"/>
          <p:cNvSpPr/>
          <p:nvPr/>
        </p:nvSpPr>
        <p:spPr>
          <a:xfrm>
            <a:off x="4211640" y="549360"/>
            <a:ext cx="4608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  <a:ea typeface="Arial"/>
              </a:rPr>
              <a:t>Да! 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23227"/>
                </a:solidFill>
                <a:latin typeface="Comic Sans MS"/>
                <a:ea typeface="Arial"/>
              </a:rPr>
              <a:t>Исс</a:t>
            </a:r>
            <a:r>
              <a:rPr b="0" i="1" lang="ru-RU" sz="1600" spc="-1" strike="noStrike">
                <a:solidFill>
                  <a:srgbClr val="4e3b30"/>
                </a:solidFill>
                <a:latin typeface="Comic Sans MS"/>
                <a:ea typeface="Arial"/>
              </a:rPr>
              <a:t>ледователи лжи- их называют </a:t>
            </a:r>
            <a:r>
              <a:rPr b="1" i="1" lang="ru-RU" sz="1600" spc="-1" strike="noStrike">
                <a:solidFill>
                  <a:srgbClr val="4e3b30"/>
                </a:solidFill>
                <a:latin typeface="Comic Sans MS"/>
                <a:ea typeface="Arial"/>
              </a:rPr>
              <a:t>МЕНТЕОЛОГИ,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e3b30"/>
                </a:solidFill>
                <a:latin typeface="Comic Sans MS"/>
                <a:ea typeface="Arial"/>
              </a:rPr>
              <a:t>обнаружили, что каждый из нас примерно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omic Sans MS"/>
                <a:ea typeface="Arial"/>
              </a:rPr>
              <a:t>20 раз </a:t>
            </a:r>
            <a:r>
              <a:rPr b="0" i="1" lang="ru-RU" sz="1600" spc="-1" strike="noStrike">
                <a:solidFill>
                  <a:srgbClr val="4e3b30"/>
                </a:solidFill>
                <a:latin typeface="Comic Sans MS"/>
                <a:ea typeface="Arial"/>
              </a:rPr>
              <a:t>в день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e3b30"/>
                </a:solidFill>
                <a:latin typeface="Comic Sans MS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4e3b30"/>
                </a:solidFill>
                <a:latin typeface="Comic Sans MS"/>
                <a:ea typeface="Arial"/>
              </a:rPr>
              <a:t>бывает не совсем искренен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TextBox 2"/>
          <p:cNvSpPr/>
          <p:nvPr/>
        </p:nvSpPr>
        <p:spPr>
          <a:xfrm>
            <a:off x="684360" y="3429000"/>
            <a:ext cx="431928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  <a:ea typeface="Arial"/>
              </a:rPr>
              <a:t>Британский доктор Вильям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  <a:ea typeface="Arial"/>
              </a:rPr>
              <a:t>Редди в ходе своих исследований пришел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  <a:ea typeface="Arial"/>
              </a:rPr>
              <a:t>к выводу, что люди начинают лгать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  <a:ea typeface="Arial"/>
              </a:rPr>
              <a:t>в возрасте примерно  6 месяцев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2"/>
          <a:stretch/>
        </p:blipFill>
        <p:spPr>
          <a:xfrm>
            <a:off x="5649840" y="3429000"/>
            <a:ext cx="17319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F:\DCIM\108___02\IMG_0440.JPG"/>
          <p:cNvPicPr/>
          <p:nvPr/>
        </p:nvPicPr>
        <p:blipFill>
          <a:blip r:embed="rId1"/>
          <a:stretch/>
        </p:blipFill>
        <p:spPr>
          <a:xfrm>
            <a:off x="5662440" y="1279440"/>
            <a:ext cx="2945160" cy="22813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178920" y="223560"/>
            <a:ext cx="576108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А в два года малыши уже могут лукавить, чтобы избежать наказания. Моему брату Матвею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сейчас 3 года. И если он напроказничал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– </a:t>
            </a: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что-то сломал, разбил, испортил – и его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спросить:-«Кто это сделал?» ,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он тут же ответит  : «Дядя»</a:t>
            </a:r>
            <a:r>
              <a:rPr b="0" lang="ru-RU" sz="1400" spc="-1" strike="noStrike">
                <a:solidFill>
                  <a:srgbClr val="523227"/>
                </a:solidFill>
                <a:latin typeface="Comic Sans MS"/>
              </a:rPr>
              <a:t>!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Ученые выяснили, что мужчины лгут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примерно на 20%чаще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А вот еще один интересный факт 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в то время как люди не имеющие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высшего образования, лгут при каждом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пятом</a:t>
            </a: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 разговоре, обладатели университетского диплома делают это уже в каждой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третьей </a:t>
            </a: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беседе!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179280" y="259920"/>
            <a:ext cx="85075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7529"/>
                </a:solidFill>
                <a:latin typeface="Comic Sans MS"/>
              </a:rPr>
              <a:t>Как же распознать ложь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Итак, если мы говорим ,что все бывают неискренними в тех или иных ситуациях, как же это увидеть?</a:t>
            </a:r>
            <a:r>
              <a:rPr b="0" lang="ru-RU" sz="1600" spc="-1" strike="noStrike">
                <a:solidFill>
                  <a:srgbClr val="523227"/>
                </a:solidFill>
                <a:latin typeface="Comic Sans MS"/>
              </a:rPr>
              <a:t> Можно ли заметить ложь собеседника?      </a:t>
            </a: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Конечно можно! Опытный, внимательный наблюдатель может отметить  непроизвольные сигналы тела лгуна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А именно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- кровь у врунишки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приливает к лицу(он краснеет)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-многие бессознательно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скрещивают руки или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вытягивают их перед собой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Некоторые касаются носа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или потирают его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23227"/>
                </a:solidFill>
                <a:latin typeface="Comic Sans MS"/>
              </a:rPr>
              <a:t>Другие сигналы тела:   </a:t>
            </a: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-облизывание губ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-вздохи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-углубленное дыхание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-бегающие глаза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-разворот  ладоней наружу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-пожимание плечами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950760" y="416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4" name="Picture 5" descr=""/>
          <p:cNvPicPr/>
          <p:nvPr/>
        </p:nvPicPr>
        <p:blipFill>
          <a:blip r:embed="rId1"/>
          <a:stretch/>
        </p:blipFill>
        <p:spPr>
          <a:xfrm>
            <a:off x="5119560" y="2717640"/>
            <a:ext cx="20844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4920" y="12240"/>
            <a:ext cx="8596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Medium"/>
              </a:rPr>
              <a:t>                 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1800" spc="-1" strike="noStrike">
                <a:solidFill>
                  <a:srgbClr val="4e3b30"/>
                </a:solidFill>
                <a:latin typeface="Comic Sans MS"/>
              </a:rPr>
              <a:t>По одному из этих признаков или по совокупности нескольких и можно определить, лжет ли вам собеседник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Конечно, только в редких случаях все эти признаки присутствуют одновременно. Но ведь существует возможность ,что человек говорит правду, а тереть нос или пожимать плечами-это всего лишь привычка, вовсе не связанная с неискренностью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                 </a:t>
            </a:r>
            <a:r>
              <a:rPr b="0" lang="ru-RU" sz="2200" spc="-1" strike="noStrike">
                <a:solidFill>
                  <a:srgbClr val="c17529"/>
                </a:solidFill>
                <a:latin typeface="Comic Sans MS"/>
              </a:rPr>
              <a:t>Почему люди  врут? Причины.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4e3b30"/>
                </a:solidFill>
                <a:latin typeface="Franklin Gothic Medium"/>
              </a:rPr>
              <a:t>                        </a:t>
            </a:r>
            <a:endParaRPr b="0" lang="en-US" sz="2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50920" y="3068280"/>
            <a:ext cx="8686800" cy="32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Одна из главных причин вранья – стремление избежать наказания и неприятных для себя последствий. 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Еще одна причина - боязнь разочаровать или обидеть окружающих, так многие на правду очень обижаются.  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Человек врет по необходимости: для успокоения, для предохранения, в страхе, приукрашая себя и действительность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Люди врут, когда им это выгодно (что-то нужно продать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и при этом нажиться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 </a:t>
            </a: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Стремление привлечь к себе внимание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«Святая ложь – ложь во спасение». 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Ложь из мести. 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Люди просто лукавят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Проводя данное исследование я попытался ответить еще на один вопрос: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7529"/>
                </a:solidFill>
                <a:latin typeface="Comic Sans MS"/>
              </a:rPr>
              <a:t>Есть ли способ более научный , более автоматизированный определять ложь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7529"/>
                </a:solidFill>
                <a:latin typeface="Comic Sans MS"/>
              </a:rPr>
              <a:t>И оказалось что есть!</a:t>
            </a: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Существует аппарат ,который так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и называется-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детектор лжи , или полиграф!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Полиграф</a:t>
            </a: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 –это прибор который проводит анализ изменения артериального давления, пульса, частоты дыхания, дыхательной активности и других параметров испытуемого, в то время когда он отвечает на вопросы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omic Sans MS"/>
              </a:rPr>
              <a:t>И на основе этого анализа делается вывод, лжёт человек или отвечает правдиво. Однако есть и здесь одно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«но» </a:t>
            </a:r>
            <a:r>
              <a:rPr b="0" lang="ru-RU" sz="2000" spc="-1" strike="noStrike">
                <a:solidFill>
                  <a:srgbClr val="4e3b30"/>
                </a:solidFill>
                <a:latin typeface="Comic Sans MS"/>
              </a:rPr>
              <a:t>ведь полиграф, т.е прибор не делает выводов сам, выводы делает человек, которого называют полиграфолог, опираясь на показания прибора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0:55:44Z</dcterms:created>
  <dc:creator>Anya</dc:creator>
  <dc:description/>
  <dc:language>en-US</dc:language>
  <cp:lastModifiedBy>User</cp:lastModifiedBy>
  <dcterms:modified xsi:type="dcterms:W3CDTF">2015-02-01T12:12:13Z</dcterms:modified>
  <cp:revision>41</cp:revision>
  <dc:subject/>
  <dc:title>Исследовательская работа</dc:title>
</cp:coreProperties>
</file>