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671-B8D4-4CDD-8187-4E2E1B81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8CA7-9F11-4ACC-ACBA-C64AD23C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AC930-D866-4AFF-92AA-0DAE3C00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DB45E-3C5A-4B28-A451-194E16A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0EF6-1592-4918-817D-D5D24B69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97DDE-6735-4FB0-B96D-A8734F4C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2A0DF-F367-446B-A0EE-ACBCE23F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AD58E-017F-4E0B-AA66-62CAEAB4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7833A-986D-4493-8C80-DA87D3B0B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2573B-2B10-4B64-83EE-38D327AE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85E21-AEC3-4963-A74E-A690BFE3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7E2-3E2D-4362-B282-4C1920409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E43-56C6-4975-B5DD-5A0D8E2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FE70-D722-4BC8-9C06-EFD978AB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1894-FA71-422E-B42D-199704BC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E2D1-4C87-40E7-BDA8-19DAA4E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C425-0482-4413-8584-4E056D03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1E9B-23A5-4AD2-8182-268D753D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0115-29A8-4C83-9AA9-C3DF0B72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4967-D9EB-40F4-9E37-076C7482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B0F-7512-4CA0-BDC3-2772730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53B2-EBB8-4F1B-8143-45D6B421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A13D-F3AF-448A-940E-EC43F97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F4F3-344E-46BF-83F5-43E482FEF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5654-642A-4F34-B23D-9A925BF3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6DE3-390E-4926-8A33-594B86C0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A7A34-70CC-423E-BCC1-52A6F0DF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A507-702D-44AE-9862-1BE0AA2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B6C2-B924-4715-BB9A-7A7DC0E3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EDB7-9830-4790-86C9-F4B9D6D7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64F7A-0866-40B6-A1DC-8F7D0DA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64D-1DAA-4246-B8A0-99096DA9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60E5-E8E5-49DB-8300-B688E7C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ABCED-42D0-4ACE-A4F3-60581F8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A4F77-E66E-4AFF-825D-9F52445B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8CC4-D9A8-4151-B42C-4980D109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4650E-A7D7-4966-ABA4-C3D8FA7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473A4-4616-43D4-9395-459FDCBF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9477-C430-4364-89DC-A6C7437F8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9A8AB-E109-4A65-85C1-D86B9E49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46826-3EB9-4EA8-B589-F55AB8C5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0AB56-BBBA-4594-9BE9-A1DCD4D4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D76-6D70-464E-92B5-1562AAEB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E1DB5-F67F-4480-9786-379122B2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032E5-A86D-41D6-A102-C2573324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52AC-C872-4EBD-A113-A8F2D9A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4015F-F4D6-4C58-A9A0-B8BB9377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72680-2584-4946-BBD7-A68FAF1B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2BF36-5569-4C14-A07D-A91608D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61AAD-07DA-4D1D-BA5C-03868E25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C0E2-0767-4266-A388-8D752674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E53A0-6A43-40F0-8919-AF33550B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F4240-13E8-43F6-90E4-B6B863EF7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131-8B17-4D6D-8AA3-F5CCE5D5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539C2-D283-4E18-A866-88D3D078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D0893-F8A3-41AA-8F3C-E92B5281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537DF-11B0-4247-B49C-8098E737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B0D22-5BA6-40C1-94DF-59A09EE3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95593-92B3-4794-9722-9AF63322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6D853-A398-41A0-B712-C25D1D6A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CF09-AF2F-45C4-AC66-CAC7AA79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7648-AE06-40D0-8A7F-0B569E9B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A6FB9-081E-4D55-AB50-43EEF889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0BE5F-39BB-4357-B399-68A8B92F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125-9FE4-475B-8817-EF0130F0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4B59-A3F9-4C8E-9A4C-F49A48A4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61751-C877-4B23-8591-10FBAA77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1C62-C8FB-41BF-859C-A9DB4E43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8303F-2DBD-4010-8D30-DF5E7A31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DB69A-A554-47BC-94B5-9C9ABB4A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B7004-6690-4E9B-A91B-EC8D151A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7F695-87A2-4771-A23F-2B0BBCC0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7C698-66C5-4784-BE85-2680C5A6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97D66-1DDB-4677-AE55-0D8407E8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A22D-E952-4380-B65D-034AA397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5B5-1DD9-4F03-8266-5D3C2F86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409E3-E7F5-4DE2-919A-C2B83851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5D03B-AA18-4EF8-AF27-FFDCEA03F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DF57A-93E9-4E70-AE4F-884573B5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851C0-28B4-490A-ABEA-ACD12BAF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2963F-592F-4D42-BFA8-81245288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DAAE2-B104-4EA6-96FE-404E001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46A42-816A-4C07-B6C1-C84C044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08A74-680E-405B-AAA7-ACCF9131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4693F-6580-428C-89DC-08FF572A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8133E-8440-4E20-A497-3F7CDBA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C85-906F-4595-9C11-5BFE9C90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A31E-C55E-48FF-BD0E-8CC910B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F824D-21AB-4EF8-9E0D-69D043B1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1F81D-A988-4904-88B6-225A9BCE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C9830-3A6C-4695-9BF2-D302D490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C6153-E2B4-400E-AF1A-D5D53473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E2385-0FD8-4AB8-A6BF-6CE4F713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09F6-FFBB-400C-8416-959079DC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025A2-B769-4B9B-BC11-D4C7AA97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39267-7069-405D-B95F-29D92B95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1A353-7EEA-4D9B-AC8B-9D2FFD2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AC0F-9AED-4A3F-B258-7120E51E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DB170-27B9-4738-8212-BD8D99E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3E01E-FE88-4129-BD4B-FC401F5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E4051-167E-4A96-9D16-7C996FB4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AC74-6A13-4B36-AF0B-926EC81C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FCD2-527F-478D-813F-364C6C54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8E25A-FE6A-44C6-9B5D-24180794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C2705-1916-4E4C-9F99-712FC91F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FF525-9D6D-4D79-B58E-F01FB810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4837E-BE07-4D95-BBFE-0A173379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06970-985B-4338-9B0F-C30AFF24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AAA3-037C-40C5-8A63-DAF022EF3E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115-9D32-416F-A650-2A0DC410789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668E-947B-4933-92C6-2C9CE5AE5A8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6903-B4E1-4E14-9138-9457262757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A7D1-04DE-4CFD-82E5-C320C96F2A5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B759-A08B-4127-AE11-A0DDF07DEF2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7C0D-3969-434B-B51C-D928BBFED6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C600-8C66-49BD-AD8E-6D03E94E619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3AAD-FCDA-4D6B-BAC8-19F6BB207BB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920880" y="847800"/>
            <a:ext cx="7540560" cy="14508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06000" y="3429000"/>
            <a:ext cx="40323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omic Sans MS"/>
              </a:rPr>
              <a:t>Автор :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omic Sans MS"/>
              </a:rPr>
              <a:t>Куренков Егор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17529"/>
                </a:solidFill>
                <a:latin typeface="Comic Sans MS"/>
              </a:rPr>
              <a:t>Ученик 3-б класс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1" name="Picture 4" descr="DSC_0519"/>
          <p:cNvPicPr/>
          <p:nvPr/>
        </p:nvPicPr>
        <p:blipFill>
          <a:blip r:embed="rId2"/>
          <a:stretch/>
        </p:blipFill>
        <p:spPr>
          <a:xfrm>
            <a:off x="5638680" y="3286080"/>
            <a:ext cx="1901880" cy="206712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"/>
          <p:cNvSpPr/>
          <p:nvPr/>
        </p:nvSpPr>
        <p:spPr>
          <a:xfrm>
            <a:off x="336600" y="25430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17529"/>
                </a:solidFill>
                <a:latin typeface="Comic Sans MS"/>
              </a:rPr>
              <a:t>Почему люди врут?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930240" y="208080"/>
            <a:ext cx="68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Муниципальное бюджетное 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Сычевская общеобразовательная средняя школа №2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36600" y="5349960"/>
            <a:ext cx="62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Руководитель: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Козлова Валентина Павловна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Вот и получается, что на все 100% узнать, где правда, а где ложь практически невозможно.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                                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Но всё-таки хочется надеяться, что даже если мы и лукавим и даже по </a:t>
            </a:r>
            <a:r>
              <a:rPr b="0" lang="ru-RU" sz="1900" spc="-1" strike="noStrike">
                <a:solidFill>
                  <a:srgbClr val="c17529"/>
                </a:solidFill>
                <a:latin typeface="Comic Sans MS"/>
              </a:rPr>
              <a:t>20 раз </a:t>
            </a:r>
            <a:r>
              <a:rPr b="0" lang="ru-RU" sz="1900" spc="-1" strike="noStrike">
                <a:solidFill>
                  <a:srgbClr val="4e3b30"/>
                </a:solidFill>
                <a:latin typeface="Comic Sans MS"/>
              </a:rPr>
              <a:t>в день ,и то не слишком в ущерб окружающим и всё-таки будем  стараться следовать другим народным мудростям: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7529"/>
                </a:solidFill>
                <a:latin typeface="Comic Sans MS"/>
              </a:rPr>
              <a:t>«Всё меняется, одна правда остаётся»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c17529"/>
                </a:solidFill>
                <a:latin typeface="Comic Sans MS"/>
              </a:rPr>
              <a:t>«Правда в огне не горит и в воде не тонет» </a:t>
            </a: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4e3b30"/>
                </a:solidFill>
                <a:latin typeface="Comic Sans MS"/>
              </a:rPr>
              <a:t>Я для себя сделал выв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TextBox 4"/>
          <p:cNvSpPr/>
          <p:nvPr/>
        </p:nvSpPr>
        <p:spPr>
          <a:xfrm>
            <a:off x="900000" y="4149720"/>
            <a:ext cx="7775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omic Sans MS"/>
                <a:ea typeface="Arial"/>
              </a:rPr>
              <a:t>Ложь – результат неуверенности в своих силах и возможностях. Поэтому надо воспитать себя так, чтобы быть всегда уверенным в себе и своих силах, интеллектуально развитым и физически крепким. Тогда ложь станет бессмысленной.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259920"/>
            <a:ext cx="86868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итература: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5280" y="990720"/>
            <a:ext cx="86868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1.Копилка народной мудрости \ сост.К.О.Соляник.-2011.-240с.\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2.Справочник необходимых знаний \сост В. Менделев, 2009.-240 с.\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3. Энциклопедия школьника «4000 увлекательных фактов» \Автор текста Джон Фардон\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TextBox 4"/>
          <p:cNvSpPr/>
          <p:nvPr/>
        </p:nvSpPr>
        <p:spPr>
          <a:xfrm>
            <a:off x="1123920" y="5884920"/>
            <a:ext cx="115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TextBox 2"/>
          <p:cNvSpPr/>
          <p:nvPr/>
        </p:nvSpPr>
        <p:spPr>
          <a:xfrm>
            <a:off x="428760" y="3213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mail.ru/search_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images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?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q=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картинки+детей%2</a:t>
            </a:r>
            <a:r>
              <a:rPr b="0" lang="en-US" sz="1800" spc="-1" strike="noStrike">
                <a:solidFill>
                  <a:srgbClr val="523227"/>
                </a:solidFill>
                <a:latin typeface="Comic Sans MS"/>
              </a:rPr>
              <a:t>C+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которые+ вру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TextBox 3"/>
          <p:cNvSpPr/>
          <p:nvPr/>
        </p:nvSpPr>
        <p:spPr>
          <a:xfrm>
            <a:off x="520200" y="2421000"/>
            <a:ext cx="59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Использованы фотографии из семейного альбо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Картинки с сайта: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109440" y="115920"/>
            <a:ext cx="8882280" cy="14382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1476360" y="1341360"/>
            <a:ext cx="431964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  <a:ea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1.Неужели все врут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2.Зачем люди врут?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3.Кто врет больше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4.Можно ли распознать  ложь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5.Как воспитать себя,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чтобы не приходилось врать?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49120" y="476280"/>
            <a:ext cx="8686800" cy="8398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611280" y="1557360"/>
            <a:ext cx="8291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1.Выяснить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Все ли  люди врут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Как часто люди врут?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Зачем люди врут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Когда это спасает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Возможно ли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        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распознать ложь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Можно ли прожить не лукавя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52322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2.Изучить информацию по этому вопросу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3. Сделать выводы: стоит ли врать, когда это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  <a:ea typeface="Arial"/>
              </a:rPr>
              <a:t>не на пользу другим людям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Рисунок 3" descr=""/>
          <p:cNvPicPr/>
          <p:nvPr/>
        </p:nvPicPr>
        <p:blipFill>
          <a:blip r:embed="rId2"/>
          <a:stretch/>
        </p:blipFill>
        <p:spPr>
          <a:xfrm>
            <a:off x="5303880" y="1859040"/>
            <a:ext cx="29811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7" descr="NEWY01"/>
          <p:cNvPicPr/>
          <p:nvPr/>
        </p:nvPicPr>
        <p:blipFill>
          <a:blip r:embed="rId1"/>
          <a:stretch/>
        </p:blipFill>
        <p:spPr>
          <a:xfrm>
            <a:off x="6372360" y="363600"/>
            <a:ext cx="1604880" cy="20876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611280" y="764640"/>
            <a:ext cx="5689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Franklin Gothic Book"/>
              </a:rPr>
              <a:t>«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Больше всего людиобижаются на правд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«Говорить правду-терять дружбу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«Не любо - не слушай, а врать не мешай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«Не обманешь-не продашь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Эти и многие другие пословицы, поговорки, крылатые выражения говорят нам о том что,наряду с правдивостью, честностью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в нашей жизни неотъемлим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присутствует  ложьи лукавство!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7288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TextBox 1"/>
          <p:cNvSpPr/>
          <p:nvPr/>
        </p:nvSpPr>
        <p:spPr>
          <a:xfrm>
            <a:off x="181080" y="404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5" name="Picture 6" descr=""/>
          <p:cNvPicPr/>
          <p:nvPr/>
        </p:nvPicPr>
        <p:blipFill>
          <a:blip r:embed="rId2"/>
          <a:stretch/>
        </p:blipFill>
        <p:spPr>
          <a:xfrm>
            <a:off x="5964120" y="2465280"/>
            <a:ext cx="24210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5" descr="lopás"/>
          <p:cNvPicPr/>
          <p:nvPr/>
        </p:nvPicPr>
        <p:blipFill>
          <a:blip r:embed="rId1"/>
          <a:stretch/>
        </p:blipFill>
        <p:spPr>
          <a:xfrm>
            <a:off x="1414440" y="706320"/>
            <a:ext cx="2700360" cy="202428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6"/>
          <p:cNvSpPr/>
          <p:nvPr/>
        </p:nvSpPr>
        <p:spPr>
          <a:xfrm>
            <a:off x="4211640" y="549360"/>
            <a:ext cx="46083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Да!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523227"/>
                </a:solidFill>
                <a:latin typeface="Comic Sans MS"/>
                <a:ea typeface="Arial"/>
              </a:rPr>
              <a:t>Исс</a:t>
            </a: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ледователи лжи- их называют </a:t>
            </a:r>
            <a:r>
              <a:rPr b="1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МЕНТЕОЛОГИ,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обнаружили, что каждый из нас примерно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omic Sans MS"/>
                <a:ea typeface="Arial"/>
              </a:rPr>
              <a:t>20 раз </a:t>
            </a: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в день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4e3b30"/>
                </a:solidFill>
                <a:latin typeface="Comic Sans MS"/>
                <a:ea typeface="Arial"/>
              </a:rPr>
              <a:t>бывает не совсем искренен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TextBox 2"/>
          <p:cNvSpPr/>
          <p:nvPr/>
        </p:nvSpPr>
        <p:spPr>
          <a:xfrm>
            <a:off x="684360" y="3429000"/>
            <a:ext cx="431928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Британский доктор Вильям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Редди в ходе своих исследований пришел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к выводу, что люди начинают лгать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  <a:ea typeface="Arial"/>
              </a:rPr>
              <a:t>в возрасте примерно  6 месяцев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2"/>
          <a:stretch/>
        </p:blipFill>
        <p:spPr>
          <a:xfrm>
            <a:off x="5649840" y="3429000"/>
            <a:ext cx="1731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F:\DCIM\108___02\IMG_0440.JPG"/>
          <p:cNvPicPr/>
          <p:nvPr/>
        </p:nvPicPr>
        <p:blipFill>
          <a:blip r:embed="rId1"/>
          <a:stretch/>
        </p:blipFill>
        <p:spPr>
          <a:xfrm>
            <a:off x="5662440" y="1279440"/>
            <a:ext cx="2945160" cy="228132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178920" y="223560"/>
            <a:ext cx="576108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6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А в два года малыши уже могут лукавить, чтобы избежать наказания. Моему брату Матвею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сейчас 3 года. И если он напроказничал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–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что-то сломал, разбил, испортил – и его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спросить:-«Кто это сделал?» ,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4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23227"/>
                </a:solidFill>
                <a:latin typeface="Comic Sans MS"/>
              </a:rPr>
              <a:t>он тут же ответит  : «Дядя»</a:t>
            </a:r>
            <a:r>
              <a:rPr b="0" lang="ru-RU" sz="1400" spc="-1" strike="noStrike">
                <a:solidFill>
                  <a:srgbClr val="523227"/>
                </a:solidFill>
                <a:latin typeface="Comic Sans MS"/>
              </a:rPr>
              <a:t>!</a:t>
            </a: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Ученые выяснили, что мужчины лгут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примерно на 20%чаще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А вот еще один интересный факт :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в то время как люди не имеющие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высшего образования, лгут при каждом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пятом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разговоре, обладатели университетского диплома делают это уже в каждой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ретьей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беседе!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6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179280" y="259920"/>
            <a:ext cx="85075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17529"/>
                </a:solidFill>
                <a:latin typeface="Comic Sans MS"/>
              </a:rPr>
              <a:t>Как же распознать ложь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Итак, если мы говорим ,что все бывают неискренними в тех или иных ситуациях, как же это увидеть?</a:t>
            </a:r>
            <a:r>
              <a:rPr b="0" lang="ru-RU" sz="1600" spc="-1" strike="noStrike">
                <a:solidFill>
                  <a:srgbClr val="523227"/>
                </a:solidFill>
                <a:latin typeface="Comic Sans MS"/>
              </a:rPr>
              <a:t> Можно ли заметить ложь собеседника?   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Конечно можно! Опытный, внимательный наблюдатель может отметить  непроизвольные сигналы тела лгун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А именно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 кровь у врунишк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приливает к лицу(он краснеет)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многие бессознательно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скрещивают руки ил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вытягивают их перед собо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Некоторые касаются носа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или потирают его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23227"/>
                </a:solidFill>
                <a:latin typeface="Comic Sans MS"/>
              </a:rPr>
              <a:t>Другие сигналы тела:   </a:t>
            </a: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облизывание губ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вздох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углубленное дыхание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бегающие глаза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разворот  ладоней наружу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Comic Sans MS"/>
              </a:rPr>
              <a:t>-пожимание плечами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95076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5119560" y="2717640"/>
            <a:ext cx="2084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12240"/>
            <a:ext cx="8596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Medium"/>
              </a:rPr>
              <a:t>                  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1" lang="ru-RU" sz="1800" spc="-1" strike="noStrike">
                <a:solidFill>
                  <a:srgbClr val="4e3b30"/>
                </a:solidFill>
                <a:latin typeface="Comic Sans MS"/>
              </a:rPr>
              <a:t>По одному из этих признаков или по совокупности нескольких и можно определить, лжет ли вам собеседник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Конечно, только в редких случаях все эти признаки присутствуют одновременно. Но ведь существует возможность ,что человек говорит правду, а тереть нос или пожимать плечами-это всего лишь привычка, вовсе не связанная с неискренностью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                </a:t>
            </a:r>
            <a:r>
              <a:rPr b="0" lang="ru-RU" sz="2200" spc="-1" strike="noStrike">
                <a:solidFill>
                  <a:srgbClr val="c17529"/>
                </a:solidFill>
                <a:latin typeface="Comic Sans MS"/>
              </a:rPr>
              <a:t>Почему люди  врут? Причины.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4e3b30"/>
                </a:solidFill>
                <a:latin typeface="Franklin Gothic Medium"/>
              </a:rPr>
              <a:t>                        </a:t>
            </a:r>
            <a:endParaRPr b="0" lang="en-US" sz="2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920" y="3068280"/>
            <a:ext cx="8686800" cy="32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Одна из главных причин вранья – стремление избежать наказания и неприятных для себя последствий.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Еще одна причина - боязнь разочаровать или обидеть окружающих, так многие на правду очень обижаются.  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Человек врет по необходимости: для успокоения, для предохранения, в страхе, приукрашая себя и действительность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юди врут, когда им это выгодно (что-то нужно продать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и при этом нажиться)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Стремление привлечь к себе внимание;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«Святая ложь – ложь во спасение». 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ожь из мести. 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Люди просто лукавят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Проводя данное исследование я попытался ответить еще на один вопрос: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7529"/>
                </a:solidFill>
                <a:latin typeface="Comic Sans MS"/>
              </a:rPr>
              <a:t>Есть ли способ более научный , более автоматизированный определять ложь?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17529"/>
                </a:solidFill>
                <a:latin typeface="Comic Sans MS"/>
              </a:rPr>
              <a:t>И оказалось что есть!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Существует аппарат ,который так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и называется-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детектор лжи , или полиграф!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omic Sans MS"/>
              </a:rPr>
              <a:t>Полиграф</a:t>
            </a:r>
            <a:r>
              <a:rPr b="0" lang="ru-RU" sz="1800" spc="-1" strike="noStrike">
                <a:solidFill>
                  <a:srgbClr val="4e3b30"/>
                </a:solidFill>
                <a:latin typeface="Comic Sans MS"/>
              </a:rPr>
              <a:t> –это прибор который проводит анализ изменения артериального давления, пульса, частоты дыхания, дыхательной активности и других параметров испытуемого, в то время когда он отвечает на вопросы. 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Comic Sans MS"/>
              </a:rPr>
              <a:t>И на основе этого анализа делается вывод, лжёт человек или отвечает правдиво. Однако есть и здесь одно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«но» </a:t>
            </a:r>
            <a:r>
              <a:rPr b="0" lang="ru-RU" sz="2000" spc="-1" strike="noStrike">
                <a:solidFill>
                  <a:srgbClr val="4e3b30"/>
                </a:solidFill>
                <a:latin typeface="Comic Sans MS"/>
              </a:rPr>
              <a:t>ведь полиграф, т.е прибор не делает выводов сам, выводы делает человек, которого называют полиграфолог, опираясь на показания прибор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0:55:44Z</dcterms:created>
  <dc:creator>Anya</dc:creator>
  <dc:description/>
  <dc:language>en-US</dc:language>
  <cp:lastModifiedBy>User</cp:lastModifiedBy>
  <dcterms:modified xsi:type="dcterms:W3CDTF">2015-02-01T12:12:13Z</dcterms:modified>
  <cp:revision>41</cp:revision>
  <dc:subject/>
  <dc:title>Исследовательская работа</dc:title>
</cp:coreProperties>
</file>