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FA808-EE02-4DA4-A9E1-6DB24206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4204F-664D-46E4-9059-5ED625EE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9B3FB-437B-4AC5-AB35-6A51F9F8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10647-8F48-4423-ADE6-A1E0EE23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B07D4-426C-4DC0-AFE7-14D99D03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A37CE-0874-4903-AB5B-5D393B0B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19BB9-B49E-401F-AE43-B4869824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5F8E3-5D85-4A0F-808E-1984F624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94A25-6469-4718-B6CB-C0F06F5D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77138-AC81-4FB7-B5F5-CC686C11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486A5-C2C7-4431-A7CE-51663157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719AB-B3C9-4880-9005-D1492B9C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2106B-3519-46E8-B310-4698019D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F4247-5577-49C5-95DF-6DEF1BCA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65CF1-3B80-4FA7-A331-B7CB77C5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B4228-B29C-46F9-81DF-BB140038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216F0-1A35-4BAE-A3F8-8CEB8978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7329F-0170-40DB-8EAD-7FA71E71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34467-7FCD-41CD-BA0A-BC9A537C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FBCE3-3A3C-44DC-8AA9-30730E61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A83C9-F91B-4CF0-A824-4671269E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72EF7-B3A5-40F1-9C2F-13DD7C9A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4D0EE-BF51-4960-B103-5B88A81E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BD888-34CF-4A95-B9E5-2D40C3FA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B9380-66B2-48E0-94CB-F18013A7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49D63-C87A-4CA0-A127-6645C0CE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0AE6A-AF12-46EF-89EB-0517701D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478DB-BDB7-40FC-8F52-4391B92C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5E630-558F-492C-8016-750C7BAB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D8911-7E69-45EA-85F3-98185F5B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7E6-4EB9-48D6-B8FA-EEA1F4FF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864FC-649C-4FC2-9DC8-F2B1FEFF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50B96-3D83-4783-B792-5F340063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31ABE-7770-4834-A563-5C6365D8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B5042-28B4-4305-A04A-FAE68AB3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F0367-5FF5-4753-845E-2B8D0F99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8FCED-CBFB-4F01-BE67-51153627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63594-8E52-4AA4-9832-66411E2E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6FD38-FD8E-4CD7-B146-8EF426E8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DAABD-B205-44DD-832A-9A44670E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55FFA-454B-4B37-B039-7B1F3E32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854-1020-488E-84F2-B548A005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9BCF3-E6BB-4D56-B020-50925D96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333E2-27CC-4F2C-83BC-FD9C30E2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7AFC2-AC08-4E52-9D77-216D1E66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8593B-0A76-44E7-88BA-212B3474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C938F-5CAB-40FD-8E11-FC26C47A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CFC05-5831-4727-ADC0-AC3BE8DB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B34F7-714E-4683-B80E-489F2A2C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41280-6121-4670-B01B-9D3A74E3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25671-0CFA-4A70-B690-E5564B90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53225-FE9C-46CF-8FE2-C02D2ADD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EF2-179C-4078-B6B8-F4221DC2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A7C6C-49EF-4FAF-8FEB-E27B34D8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AF92E-2DDC-4FEE-8B31-FB98FFF8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4472C-58F9-4A78-9A2B-A0E8EE2D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BC3D2-7A41-48DF-BB4B-127BD6F0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6408F-6C2A-4B9A-845D-1A9685ED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73128-5161-463A-BECC-45495106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299BE-25E4-4AB0-BA55-8165A3C9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C1A-CDA1-4EC8-A016-D7D5ABFE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7F3-84C3-40E5-AB1B-6CDEBD70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D46-3D3E-4EBF-AECA-11BCE365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3E7C-7838-4EDB-99E7-5C51784E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DD0-D61D-4B6A-ADBC-FB41E070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F57-1778-4132-805C-B999EE29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884-4886-4A34-9254-18FFB858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315-F118-45DE-AFCC-AFBB8F79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5FD-1D9C-471F-A1D8-D4DE1FD3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7AC5-7E95-4552-9913-B56C9125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B6EF-2830-40EE-B5D2-B17C97AA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2D93-9354-4C1A-904B-95881C00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9F17-F068-40AC-A156-FD4568F1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82AD-6DEB-4730-83F5-9EF430D9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CD7A-843B-4A4C-9BD8-D47A1F24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D419-D2E3-433B-9E5D-60AE40E4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D6D4-BA6E-4791-ADBD-62364027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F530-02C2-4908-8DCE-1589A4B6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9A31-D981-4884-AF83-B4E0F6A7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BB8C-3869-47FD-BA37-4C337AAD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9EC8-78E7-4B29-B8EC-AAF2D658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6B669-9E42-4242-9A3E-2CD070B2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F17F1-553A-404A-BFE5-EFDEB778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C5B04-804E-4A67-95C2-BE5940CE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86527-A150-4001-B09D-45840A41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60D22-6341-40AC-8D42-DB70C539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D5A6-275E-4C18-ACDE-BDF6363D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E9242-F2D5-4FFC-9562-70294792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C547A-FBC1-4C47-97B7-46D8913F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48217-8878-4550-AB11-B60C00B5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FD60A-59C1-4338-B6B6-DB2499D5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EA8C9-67D7-43CA-BF9F-347D831F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69EF7-DA94-4F4B-8C36-995EE9C9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8AEBD-66E0-46B7-B304-C976EE3E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50DB5-47D1-478F-8908-034FBCFD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C139B-FF80-4251-A988-7723079D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4A802-AE73-481B-880D-B9492598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E07EC-FD39-4F40-AC56-AC01AED4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DE408-E98E-4578-8B0E-5E640753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82FB8-9FA5-495F-AD1C-45C1CDE5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4499D-34E9-4A65-9DFE-E2778A4B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AAC01-20AE-479B-AD71-CF9E3D5C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2A413-1B7B-46BB-B2DF-A1C42C99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0E9A5-64ED-49BA-811F-25E22FC1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40570-7D8D-4B34-8E66-4A8DAEEC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C4886-1E75-4906-8AA9-FB70B711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3317E-C06F-40F7-A736-39980F1E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3EAC0-3BA6-4EA0-9F30-CADAD007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19BC2-F744-4FBA-ADA0-765DF668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AD71D-F73E-4AD6-A765-DD3EB8AC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BE389-5652-4F9D-A0A9-4340650B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196A2-5628-4163-8343-12400D6D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7E1EC-7059-4CF3-9E3D-9C8D53FE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5ED0E-3A3A-48E4-88B5-B985DFD3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6BBE0-74EC-4E0C-AACA-5CFE6967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D5C21-E41E-43A5-8D5E-20D1B6A5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46A25-B94A-4C4A-ABFE-0DB6E7EE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54FF7-67CF-4BEA-8245-75D88C3B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A13C3-F39E-4E04-B083-673553BD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6DC6B-DF99-4B20-8DE4-4DC63CBB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0219F-6152-4A99-BC91-DEC9C410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377EF-AB52-4015-9789-B31B0C40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188F7-7FAA-4F41-A2DA-76BAC03A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791E6-172E-4CD2-AD95-889E243C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BB35F-5D57-449F-B9F5-4A7053B4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14A0D-7168-424B-92EA-ED824CCA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DCF50-B545-48B8-B429-DAD89837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4994D-259B-46A6-94D8-C9DD9FFB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1A8B3-3444-4730-8E97-EC88F3D8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A9F15-253D-4F26-88A3-31116813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5BB54-599F-4A92-9E90-ED61CD3B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49AB3-090D-454E-8821-728265DA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B5E3C-8E7B-4333-81BA-D0335D5B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497F7-B3D0-4F86-991D-D96B638A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9F2AB-4EA5-40C6-9421-2B661CA9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6F195-72E0-4B24-8D2C-D33B43BA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740AE-7CEE-4FF2-8178-0208D13D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2648C-0744-485A-893A-DF770AB0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445AD-925A-4856-B2AB-2087ECD0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31C4B-EE6C-4C15-A66C-3B289EA6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7F39D-A718-425A-8945-E9E1A128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F50A8-CDE5-4335-BF13-06A07074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E1F6D-A815-4158-AD49-9B926AC4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3A9A2-42D6-4730-878F-4F54FF96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42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BE7F-C7AD-46E9-AAC1-84C42250EB19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5A5A-4394-4F51-8143-34A8214EBA4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7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FB33-4DDA-4007-AD01-BE9BB6DF2389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F2CA-CD61-49AF-AA43-F5C8BE598F0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1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A81E-1AF1-450D-AFF8-06A6E662E927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D47A-3701-4D96-BEDA-47D45596729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67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0A91-400B-4505-B514-68414902E308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D9C9-8300-43FA-80F9-6B835272EA8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0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A6A0-0EF1-4B47-B032-A16D82A1EE87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6AF3-391C-41AE-9EC7-1F63CEDE540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88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3B21-3FCE-45EF-B51C-E23FB9D18E77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0E0A-6E23-48CB-BEA1-EF29895C6AC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36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1FF5-2066-402F-BF88-6B8BBA1A06AD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7F81-2BB7-4795-A4AB-B2F04936BD8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2BF0-A0CF-4DCE-A1D2-304B12134F2D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B597-264A-4D9A-9049-BC87D92AD25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3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206C-ADE6-4F46-8F1E-D60197600A81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99C9-8D61-40DC-847E-F884A977A46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7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FC42-C4FB-4EC7-B3E5-CA45BFA3BB0C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9787-ABE0-4145-840C-DAC2D46A45F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2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CD44-7A84-4A05-BEA4-A3E2B1A9E11F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EB81-4D76-4925-A412-CDD4AB12CEC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7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34F7-AA0D-4C64-9222-EF1A2A24B428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BE1B-9CD5-4FE7-946D-3EB0575F492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1"/>
          <p:cNvSpPr/>
          <p:nvPr/>
        </p:nvSpPr>
        <p:spPr>
          <a:xfrm>
            <a:off x="611280" y="653760"/>
            <a:ext cx="82864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рганизационные и психолого-педагогические условия овладения детьми дошкольного возраста элементарными нормами и правил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дорового образа жиз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3c14ac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1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Жучкина Татьяна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1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ГБОУ СОШ №1 «О.Ц.» п.г.т. Стройкерам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1" lang="ru-RU" sz="1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труктурное подразделение «Детский сад «Радуг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Times New Roman"/>
              </a:rPr>
              <a:t>Самара, 201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Прямоугольник 2"/>
          <p:cNvSpPr/>
          <p:nvPr/>
        </p:nvSpPr>
        <p:spPr>
          <a:xfrm>
            <a:off x="900000" y="58680"/>
            <a:ext cx="712800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дровые изме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ДОО обеспечена непрерывность профессионального развития педагогических работников образовательного учреж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 происходит процесс ознакомлениея работников с инновационными образовательными программами и технологиями и их применения на практ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профессиональная переподготовка на курсах повышения квалификации  каждые 3 года в образовательных организациях, имеющих лицензию на осуществление образо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районных и городских методических мероприят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ы мастер-классы, семинары по теме «Здоровый образ жизн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а творческая инициативная группа «Мы за здоровый образ жиз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Прямоугольник 1"/>
          <p:cNvSpPr/>
          <p:nvPr/>
        </p:nvSpPr>
        <p:spPr>
          <a:xfrm>
            <a:off x="900000" y="-387360"/>
            <a:ext cx="7344000" cy="71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учно-методические изменения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иблиотеки методической литературы по теме «ЗОЖ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методичек и буклетов «О здоровь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ка и составление картотеки тематических игр дл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 - тематический подход  в планировании деятельности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свободного доступа и использование компьютера, интернет - ресурсов для подготовки к совместной деятельности воспитателя и воспитан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ценариев развлечений «Я здоровье берегу…», составление цикла бесед «На зарядку становись», «Чистота залог здоровь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риально-технические изме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технических средств обучения (компьютеры, проекторы, интерактивные доск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методической литературы с учётом требований государственного станда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ение предметно-развивающей среды по образовательной области «физическое развити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видеоматериалов по теме: «Я здоровье берег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1"/>
          <p:cNvSpPr/>
          <p:nvPr/>
        </p:nvSpPr>
        <p:spPr>
          <a:xfrm>
            <a:off x="755640" y="-1539720"/>
            <a:ext cx="6750000" cy="82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рмативно – правовые измен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ОН о правах человека. Зако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бразовании в Российской Федера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Д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ие изменений в календарно-тематическое план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е партнёрство с спортивно-оздоровительными организа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ормационные изменения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на стендах ДОО по теме: «Организационные и психолого-педагогические условия овладения детьми дошкольного возраста элементарными нормами и правилами здорового образа жизн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и групповые консульт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собрания «Мы за здоровый образ жизн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дней открытых дверей в ДОО с целью ознакомления с методикой формирования основ здорового образа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ыставок детского твор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я памяток, папок-передвижек: «В гостях у доктора Айболита», «Быть здоровыми хоти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тернет страничек на сайте ДО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ска по электронной поч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отчё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мастер-классов: «Уроки здоровь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иблиотеки методической и художественной лит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ка и создание видеотеки мультфиль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Прямоугольник 1"/>
          <p:cNvSpPr/>
          <p:nvPr/>
        </p:nvSpPr>
        <p:spPr>
          <a:xfrm>
            <a:off x="900000" y="1268280"/>
            <a:ext cx="80647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изационные изме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клуба «Папа, мама, Я – здоровая сем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оект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азличных экскур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стреч с врачами, спортсме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ая и безопасная организация самостоятельной деятельност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задач здоровьесбережения детей будет более эффективной при наличии целостной педагогической системы, построенной на базе теоретически обоснованных концепций по овладению детьми элементарных норм и правил ЗОЖ в условиях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ы научим детей с самого раннего возраст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ить, беречь и укреплять своё здоровье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ы будем личным примером демонстрировать здоровый образ жизни,  то только в этом случае можно надеяться, что будущие поколения будут более здоровы и развиты не только личностно, интеллектуально, духовно, но и физически.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Прямоугольник 1"/>
          <p:cNvSpPr/>
          <p:nvPr/>
        </p:nvSpPr>
        <p:spPr>
          <a:xfrm>
            <a:off x="468360" y="-3541680"/>
            <a:ext cx="8207280" cy="10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ямовская. В. «Как воспитать здорового ребёнк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аханева. М. «Воспитание здорового ребёнк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возная В.И., Коновалова И.Т. Организация воспитательной и оздоровительной работы в ДОУ. -М., ТЦ Сфера, 200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ордеева В.А. Инновационные подходы к физкультурно-оздоровительной работе в ДОУ //Управление ДОУ. №8, 200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анилина Т.А. Взаимодействие ДОУ с социумом – М.:АРКТИ, 200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ртушина М.Ю. Зеленый огонек здоровья //Управление ДОУ №3,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олодяжная Т.П. Управление современным дошкольным образовательным учреждением. -М., 200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рная основная общеобразовательная программа дошколь­ного образовани./ От рождения до школы. / под ред. Н. Е. Вераксы, Т. С. Комаровой, М. А. Васильевой. - М. : Мозаика-Синтез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РФ от 1 сентября 2013 г. № 273-ФЗ «Об образовании в Российской Федераци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Федеральный закон РФ от 21 ноября 2011 г. № 323-ФЗ «Об основах охраны здоровья граждан в Российской Федераци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Федеральный закон РФ от 30 марта 1999 г. № 52-ФЗ «О санитарно-эпидемиологическом благополучии населе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Указ Президента РФ от 1 июня 2012 г. N 761 «О Национальной стратегии действий в интересах детей на 2012 - 2017 го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СанПиН 2.4.1.3049-13 «Санитарно-эпидемиологические требования к устройству, содержанию и организации режима работы дошкольных образовательных организац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4"/>
          <p:cNvSpPr/>
          <p:nvPr/>
        </p:nvSpPr>
        <p:spPr>
          <a:xfrm>
            <a:off x="1066680" y="412560"/>
            <a:ext cx="78422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ndara"/>
              </a:rPr>
              <a:t>Актуальность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250920" y="860760"/>
            <a:ext cx="871524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охранение и укрепление здоровья детей  приоритетное направление в работе нашей группы «Цветик-семицветик»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регламентируется нормативно - правовыми документами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РФ от 1 сентября 2013 г. № 273-ФЗ «Об образовании в Российской Федераци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РФ от 21 ноября 2011 г. № 323-ФЗ «Об основах охраны здоровья граждан в Российской Федераци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РФ от 30 марта 1999 г. № 52-ФЗ «О санитарно-эпидемиологическом благополучии населе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резидента РФ от 1 июня 2012 г. N 761 «О Национальной стратегии действий в интересах детей на 2012 - 2017 го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ПиН 2.4.1.3049-13 «Санитарно-эпидемиологические требования к устройству, содержанию и организации режима работы дошкольных образовательных организац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ГОС ДО в рамках структурной единицы «физическое развитие» выдвигаются задачи охраны и укрепления психического - физического и  эмоционального здоровья детей, формирования ценностей здорового образ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"/>
          <p:cNvSpPr/>
          <p:nvPr/>
        </p:nvSpPr>
        <p:spPr>
          <a:xfrm>
            <a:off x="250920" y="954000"/>
            <a:ext cx="8501040" cy="56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584d3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А.Виноградов, Б.С.Ерасов, О.А.Мильштейн, В.А.Пономарчук, В.И.Столяров и др. рассматривают здоровый образ жизни как глобальную социальную проблему, составную часть жизни общества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абот В.А.Деркунской, С.А.Козловой, Л.Г. Касьяновой, О.А.Князевой, И.М. Новиковой и др. показывает, что уже в дошкольном возрасте у ребенка может появиться устойчивый интерес к своему здоровью и бережное отношение к своему организму, как ц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ребенка к своему здоровью служит фундаментом, на котором можно будет выстроить  потребность в здоровом образе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работка у детей осознанного отношения к своему организму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витие необходимых санитарно-гигиенических навыков,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учение здоровому образу жизни с раннего детств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2472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ые задачи  воспитателя и родителей  в  основном процессе и в условиях профессиональной деятельности: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971640" y="1844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теоретические основы процесса формирования элементарными нормами и правилами здорового образа жизни у детей дошкольного возраст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явить возрастные особенности  формирования здорового образа жизни для детей второй младшей группы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ссмотреть содержание и инновационные формы работы по формированию здорового образа жизни у дошкольников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этого необходимо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8"/>
          <p:cNvSpPr/>
          <p:nvPr/>
        </p:nvSpPr>
        <p:spPr>
          <a:xfrm>
            <a:off x="179280" y="836640"/>
            <a:ext cx="2880000" cy="5832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5"/>
          <p:cNvSpPr/>
          <p:nvPr/>
        </p:nvSpPr>
        <p:spPr>
          <a:xfrm>
            <a:off x="18288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28"/>
          <p:cNvSpPr/>
          <p:nvPr/>
        </p:nvSpPr>
        <p:spPr>
          <a:xfrm>
            <a:off x="3132000" y="836640"/>
            <a:ext cx="2880000" cy="5832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6086520" y="825480"/>
            <a:ext cx="2808360" cy="5832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21"/>
          <p:cNvSpPr/>
          <p:nvPr/>
        </p:nvSpPr>
        <p:spPr>
          <a:xfrm>
            <a:off x="250920" y="836640"/>
            <a:ext cx="273672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езульта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у всех детей сформированы навыки само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ребенк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сутству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арные представления о здоровье человека и о здоровом образе жиз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ая мотивация потребности в сохранении и укреплении собственного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я о влиянии окружающей среды на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я о правилах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2"/>
          <p:cNvSpPr/>
          <p:nvPr/>
        </p:nvSpPr>
        <p:spPr>
          <a:xfrm>
            <a:off x="3132000" y="836640"/>
            <a:ext cx="280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работы, осуществляемой педагогами ДО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здает у детей целостных представлений о З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ерегающие технологии недостаточно используются педагогами в режимных мом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владения педагогами новыми информационными технолог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3"/>
          <p:cNvSpPr/>
          <p:nvPr/>
        </p:nvSpPr>
        <p:spPr>
          <a:xfrm>
            <a:off x="6084720" y="836640"/>
            <a:ext cx="280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условиях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и редкая сменяемость пособий физкультурного угол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уголка релакс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условий в группе, ДОО для внедрения инновационных технологий по проблеме ЗО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7"/>
          <p:cNvSpPr/>
          <p:nvPr/>
        </p:nvSpPr>
        <p:spPr>
          <a:xfrm>
            <a:off x="4680" y="228600"/>
            <a:ext cx="8642520" cy="43164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им образом, проведённый анализ позволил выявить недоста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22"/>
          <p:cNvSpPr/>
          <p:nvPr/>
        </p:nvSpPr>
        <p:spPr>
          <a:xfrm>
            <a:off x="3132000" y="83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ff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ndara"/>
              </a:rPr>
              <a:t>Проблем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684360" y="177336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250920" y="96732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дагог не владеет умением организации самостоятельной игровой деятельности по здоровому образу жизни, т.к. в настоящее время в ДОО необходима переориентация педагогического процесса с существующей учебно-дисциплинарной модели н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но-ориентированную мод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содержании деятельности воспитателя ДОО нет системы по организации данной пробл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ятельность специалистов по физическому развитию, психологическому развитию не взаимосвязано  с деятельностью воспитателя ДО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т взаимосвязи с семьями воспитанников по формированию организационных и психолого-педагогических условий овладения детьми дошкольного возраста элементарных норм и правил здорового образа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развивающей предметно-пространственной среде нет периодической сменяемости оборудований, пособий, материалов, которые стимулируют самостоятельную игровую деятельность по здоровому образу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55"/>
          <p:cNvSpPr/>
          <p:nvPr/>
        </p:nvSpPr>
        <p:spPr>
          <a:xfrm>
            <a:off x="18288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вые ориентиры по овладению </a:t>
            </a: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ладшим дошкольником </a:t>
            </a: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элементарными нормами и правилами ЗОЖ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50328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79280" y="1341360"/>
            <a:ext cx="8713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ФГОС ДО у детей второй младшей группы должна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а крупная и мелкая моторика; он должен быть подвижен, владеть основными движениями, мог  контролировать свои движения и управлять и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бёнок  должен быть способным к волевым усилиям, мог следовать социальным нормам поведения и правилам в разных видах деятельности, во взаимоотношениях со взрослыми и сверстниками, должен соблюдать правила безопасного поведения и личной гигие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бёнок должен обладать развитым воображением, которое реализуется в разных видах деятельности, и прежде всего в игр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бёнок должен проявлять любознательность, задавать вопросы взрослым и сверстникам, интересоваться  причинно-следственными связями,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ытаться самостоятельно придумывать объяснения явлениям природ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меть наблюдать, экспериментиров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лжен обладать начальными знаниями о себе, о природном и социальном мире, в котором он живё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накомиться с произведениями детской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каждом образовательном моменте детской жизни воспитатель использует все возможности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успешного овладения детьми элементарными нормами и правилами здорового образа жизни. </a:t>
            </a:r>
            <a:br>
              <a:rPr sz="2800"/>
            </a:br>
            <a:br>
              <a:rPr sz="2400"/>
            </a:br>
            <a:r>
              <a:rPr b="0" lang="ru-RU" sz="2400" spc="-1" strike="noStrike" u="sng">
                <a:solidFill>
                  <a:srgbClr val="800080"/>
                </a:solidFill>
                <a:uFillTx/>
                <a:latin typeface="Times New Roman"/>
                <a:ea typeface="Times New Roman"/>
              </a:rPr>
              <a:t>В связи с этим произошли изменения :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дровых, в научно-методических, в материально-технических,     в информационных, в организационных, в нормативно правовых  условиях образовательного процесса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3:31:03Z</dcterms:created>
  <dc:creator>Владелец</dc:creator>
  <dc:description/>
  <dc:language>en-US</dc:language>
  <cp:lastModifiedBy>Customer</cp:lastModifiedBy>
  <cp:lastPrinted>2014-11-25T17:57:59Z</cp:lastPrinted>
  <dcterms:modified xsi:type="dcterms:W3CDTF">2015-01-30T21:25:21Z</dcterms:modified>
  <cp:revision>190</cp:revision>
  <dc:subject/>
  <dc:title>Слайд 1</dc:title>
</cp:coreProperties>
</file>