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7ECFDA-BA7C-4A9E-BE3F-D5F3E46EF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6011DF-D261-4B15-BBB7-644DB53F7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2C1910-D9BF-4FE8-AFA7-8BA28E9C4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01E281-651A-4362-BE40-FEAA0719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33AD57-6D8B-40F8-9D16-3F908B4E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77B855-42CE-4428-966E-D31804EAC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504523-8427-4FB1-9A54-C0F585AFC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19B60C-F6C2-41CE-9D9D-36180F47B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42DFA9-5634-4B2D-BFEB-21B9A457C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89C2D4-81D0-44BA-8863-374D799C0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40994D-85CA-4716-A06C-3D9B56A73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8B72DB-DA72-4735-9D60-8B0A13E9B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516732-9DA1-4D64-B762-E7729A388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C49186-7C62-4B18-9597-23D88369E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9C0277-11B0-4BD4-9D7F-73326159C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812A67-8DAC-465D-8251-3B310BFBB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A277C6-C89C-49D5-B18E-564AA733A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FBB8DC-F948-4F99-85F1-7A7AA691A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B47AA4-7F8A-4450-A56A-50F05E942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26AE95-F541-4580-9C45-4C890F686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E37D17-D63B-485D-B641-C6C95B87B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7BDB98-6B71-4EBD-9DA9-715686566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64B0E4-F810-441C-B386-31875427E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FD3301-DA6D-4CD8-BFC3-27A2A3642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06509B-3347-4A2B-86AC-0742023D1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035209-8F8A-4EE9-B1C3-2A53884B0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BB95F2-6D29-4521-9B4E-81C546531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FD3508-8C5E-44D9-ABF1-4730AD0E1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727BC1-2BD9-4ED4-9105-565E24CB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67997A-4147-42C1-978C-0FCD350C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26A0-3A5B-44D7-8337-9F6FDAC55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146B07-64A0-4592-9E99-03DC399E0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BF7B8A-28D1-415F-AD9B-B66738C7A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C2C349-A2E2-4980-9BDF-936E1CFA4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8B99C6-0232-4F41-BD42-497E43387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A4D4F2-F2FD-4359-B105-2F04E4DE1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D103DA-24A5-4598-B286-FB0613A17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85DF30-4767-4E03-91D5-54C33458F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DA384D-2D9B-48FB-9A1F-916289872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C96A60-2A52-4747-9C7B-4E542BA02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9E7CE4-BED1-465D-89A1-047F7567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D49A-2B27-49B2-97A5-195AA2CF3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645080-6901-4B12-8B54-E13D1340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C3FD02-4C9E-4BA5-ABFD-E28477B2D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903B62-AE28-425F-9179-267E0E8BB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30D095-1400-40E9-A093-A553397BA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8ACF7B-4F7E-40DC-BAE5-6B24C0560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F3892B-50FA-4FE6-92AC-D4A911158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597402-2B76-4136-81CB-185821712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9F53FC-EF52-4883-8DA9-1D8C45900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A0E8DC-C27D-4CEB-B892-AA126B07B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4E9930-9596-456E-9C3D-EF3423058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B43B-824B-4FAC-9C37-E9CCE2EE8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61E78E-882B-4F0D-95E7-04FF80DAB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EF2466-0348-4C96-83BE-C7E25E153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B39D82-FD8C-4333-905C-34AF0D5B7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E12B16-3854-4DDC-9795-860252D32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B577E2-431B-437B-ACEB-C37BF8213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4BF43A-EA22-427C-8CB8-29EE3F593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0340D8-A98A-4F52-9A8E-2387D76EB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B41B-0875-4A54-9EF1-D811155E7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22D9-91D7-480B-B818-2F61A1B23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EE7D-338B-4D5B-BCB5-D761D6716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F099-EB82-45EC-A833-B0EACD16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A8A8-44A5-4255-8FAF-F4C2E2E2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1BBD-CB30-487B-8FCA-8593475F3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2C76-CAC3-4413-9357-BBA1CACA5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B764-64B6-4AAA-8AC0-86408A4DA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E4F3-A402-40EF-B0D1-5F08D5997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919AD-7F33-4B53-A122-8F1CEACBC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1E33C-84AD-4F72-B2A1-4A2BE71E7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E8F38-99C4-451E-974B-B5974B9C1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70D9C-0409-4238-A02C-C18BBEC30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EBF54-EC7A-4BCE-BD4A-E1E362AFD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12186-3668-4BE5-845E-9CF191AF4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CF675-D012-47AA-8CA0-EAD8374A9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7B9E0-C1EC-4829-9FA3-8E1AD5B9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BC54E-546E-4A91-B945-AED22861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BCEAF-CD90-4316-AC51-AF8975753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1B04F-B622-4ECB-B022-9632B95A8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1CA46-1B08-4648-AAB5-03ECDA78A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AAC9B-A17C-4C2E-8598-CD4A0556A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E388C-229C-4737-98BB-CBA7C8324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0AE37-700F-47B1-92F7-2372693D5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EBFEF-7CB8-4111-BB09-5BA0D46E3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74A0A-BB11-4A6E-A4E4-EC5A309F1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5DAFF-75C5-4D1F-A307-75BF44AF6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703C2-2BB8-42E2-ADD5-69AB7770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C92E4-3FA3-40DD-9C9D-CD313F04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F50B7-B3D9-4DE9-B8F8-18ADCC9B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5B0D7-F07D-4E57-AF77-B5E1831D0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CC10A-CD7B-420B-96AD-8E0DCF1DF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E2B57-333D-46E4-9ADE-D000AF0DB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ECC38-322A-4B21-A962-3038EE03C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CCA94-F04D-44BC-8167-37C831666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FFC8C-1BE5-4057-8C05-E87DF457C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DF486-8F7D-462F-A52D-B86AD3DBA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35B92-AD67-48BD-A5D4-DE36F2E76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A4553-0192-43A1-A3F9-F5CDF14EB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0E783-5FE9-447E-859E-0B0D1BA0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0A89F-901F-4358-96FB-BB8C1495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A81D7-8B61-44AD-9BA4-015008F2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433C5-6F89-49CF-87D7-FEE503F9D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98E57-077E-4E23-8E8F-30C98FE77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5E3B0-3810-4A62-9F6E-16D07D7DA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921357-1C7C-4FDD-BC96-CB74AC571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3FCC54-09E3-4756-9F36-00CFE0816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153AE7-2923-4921-9038-752085188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267F49-3848-4B91-844C-93B61FCDE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2A644-EB13-480A-892E-814AA6F64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3AC4D-CDDC-4162-9A00-99C0ED290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9FAAA5-AC35-4D83-B0FD-90CC2945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EA76DA-8F0E-4C88-84CA-1ABDB3355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2BFD6-0550-4DCF-B19C-DBC341CA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E99F00-B5DD-4B7D-83AB-2EE4E32D1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DBE65-B074-493C-8E49-554D3C0A0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1084FA-1792-4DFA-80F6-BFD06D7EF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7DD3AE-6B7F-4BC1-A4B7-D1A277879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D1742-B041-40C8-BB4A-390474D4D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188EDD-1AAB-481C-9603-427275C07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AF78DD-AE55-41CC-97D3-252795791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E1B791-8A02-4A60-B1F4-89E00E7B1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A35A49-58C1-447F-AAE2-43ED7A8A6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002502-DFE1-47B3-9C6D-6675FC9E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8F93D8-21F0-487E-B9B7-00ADC9D7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F3A80F-DCDB-48DA-A386-74039A4C8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BAD48A-08EB-41DD-A63D-18D81A9FD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F26463-7E63-4530-9B1E-0FF0878A0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3ECBE6-851E-418F-821B-E95CDCE60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1AC273-796E-4CAC-9823-7690AB38B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83F23D-9C80-4C34-B3C2-2794C7824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10AEB3-6C45-4952-8BA1-804B6CAFC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02FEF7-551F-40B5-99ED-EEB2F8202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9951C0-9BD2-45B5-A03C-A7615E21D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CB8872-FF56-4DE4-BCB0-33D4C34BC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D364BE-5881-4CF3-B5A7-E4D09558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F7E5A6-FC62-46CD-B6A5-5C3934ED1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573AD4-D2EF-4545-BE4C-36753CCBB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5941AD-AC37-476F-8139-F590444F7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7FFA84-1840-4F7A-889E-39B521E7A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E538E1-53D4-41A5-A5CE-3800F6B2D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867A07-E45A-41C4-8DAE-418005014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1E787A-B27D-4444-89CF-6F60F0F2B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CBBE6B-A7C7-44B1-B072-9EE832991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42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25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67728-1D99-4371-9535-D65A363536BD}" type="datetime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ftr" idx="26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sldNum" idx="27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8C78C-83D0-47B6-8444-5181290115E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47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dt" idx="28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490F5-5D0F-4C30-BB74-A15BF4FC26CF}" type="datetime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ftr" idx="29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 type="sldNum" idx="30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5153D-7536-4B26-91BA-3E071BFEBBD8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519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F9D75-00D3-46B0-BB86-3A56B0CB0C12}" type="datetime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D7396-A9FF-4FF3-94D5-42856C3548EE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567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dt" idx="3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1DF39-4D9E-4549-A286-67A23935AF8F}" type="datetime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ftr" idx="3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 type="sldNum" idx="3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E2B66-75AF-4FE8-AD3C-F6C99021865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40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45D7C-B7EE-4A54-A7A3-5CE76B049D17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D2B77-6891-4057-AA1C-C92CF61E56D9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88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FF283-1114-42B5-835A-867EBADFB598}" type="datetime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98430-2B7A-45A9-BB1D-963F06F0CC2A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136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71C53-C661-4D43-A716-BBAB318440D4}" type="datetime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2F5C0-812F-4237-A8F9-6B69BA486384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A008A-2690-4B0C-9D78-B7241107C504}" type="datetime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613FE-4C1A-4C77-BC0A-82B4AB6C1336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31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38D8B-7DE0-4354-A38E-E542FAD0AC55}" type="datetime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21409-B420-4371-B4D1-3C2E3C596DD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79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8E212-B5A3-422F-A920-82DABD88F12C}" type="datetime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16A6B-35A3-40B3-A07B-8D692AB3A59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327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DA0E2-3D58-44B6-A2A7-9B32B36297BE}" type="datetime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26971-FD6B-4AB8-BAF0-2EC01A9561D6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37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dt" idx="22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D3602-3C2A-42B1-87D5-FF34ABCE85F2}" type="datetime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ftr" idx="23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sldNum" idx="24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0D378-9C97-4210-8A0C-05FF9B95285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1"/>
          <p:cNvSpPr/>
          <p:nvPr/>
        </p:nvSpPr>
        <p:spPr>
          <a:xfrm>
            <a:off x="611280" y="653760"/>
            <a:ext cx="828648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  <a:ea typeface="Times New Roman"/>
              </a:rPr>
              <a:t>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Организационные и психолого-педагогические условия овладения детьми дошкольного возраста элементарными нормами и правила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дорового образа жизн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ru-RU" sz="2000" spc="-1" strike="noStrike">
                <a:solidFill>
                  <a:srgbClr val="3c14ac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ru-RU" sz="16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                                      </a:t>
            </a:r>
            <a:r>
              <a:rPr b="1" lang="ru-RU" sz="16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Жучкина Татьяна Александр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ru-RU" sz="16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Воспитате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ru-RU" sz="16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                                                        </a:t>
            </a:r>
            <a:r>
              <a:rPr b="1" lang="ru-RU" sz="16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ГБОУ СОШ №1 «О.Ц.» п.г.т. Стройкерам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ru-RU" sz="16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                                                                  </a:t>
            </a:r>
            <a:r>
              <a:rPr b="1" lang="ru-RU" sz="16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структурное подразделение «Детский сад «Радуг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ru-RU" sz="1600" spc="-1" strike="noStrike">
                <a:solidFill>
                  <a:srgbClr val="2d2d8a"/>
                </a:solidFill>
                <a:latin typeface="Times New Roman"/>
              </a:rPr>
              <a:t>Самара, 2015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Прямоугольник 2"/>
          <p:cNvSpPr/>
          <p:nvPr/>
        </p:nvSpPr>
        <p:spPr>
          <a:xfrm>
            <a:off x="900000" y="58680"/>
            <a:ext cx="7128000" cy="56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адровые измен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 ДОО обеспечена непрерывность профессионального развития педагогических работников образовательного учрежд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епенно происходит процесс ознакомлениея работников с инновационными образовательными программами и технологиями и их применения на практик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ется профессиональная переподготовка на курсах повышения квалификации  каждые 3 года в образовательных организациях, имеющих лицензию на осуществление образовательно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в районных и городских методических мероприятия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ы мастер-классы, семинары по теме «Здоровый образ жизни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а творческая инициативная группа «Мы за здоровый образ жизн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Прямоугольник 1"/>
          <p:cNvSpPr/>
          <p:nvPr/>
        </p:nvSpPr>
        <p:spPr>
          <a:xfrm>
            <a:off x="900000" y="-387360"/>
            <a:ext cx="7344000" cy="71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учно-методические изменения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библиотеки методической литературы по теме «ЗОЖ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методичек и буклетов «О здоровье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борка и составление картотеки тематических игр для де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но - тематический подход  в планировании деятельности де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свободного доступа и использование компьютера, интернет - ресурсов для подготовки к совместной деятельности воспитателя и воспитанни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сценариев развлечений «Я здоровье берегу…», составление цикла бесед «На зарядку становись», «Чистота залог здоровь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атериально-технические измен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технических средств обучения (компьютеры, проекторы, интерактивные доски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бретение методической литературы с учётом требований государственного стандар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олнение предметно-развивающей среды по образовательной области «физическое развитие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бор видеоматериалов по теме: «Я здоровье берегу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Прямоугольник 1"/>
          <p:cNvSpPr/>
          <p:nvPr/>
        </p:nvSpPr>
        <p:spPr>
          <a:xfrm>
            <a:off x="755640" y="-1539720"/>
            <a:ext cx="6750000" cy="82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ормативно – правовые измене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венция ООН о правах человека. Закон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образовании в Российской Федераци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ГОС Д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сение изменений в календарно-тематическое планиро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ое партнёрство с спортивно-оздоровительными организаци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нформационные изменения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щение информации на стендах ДОО по теме: «Организационные и психолого-педагогические условия овладения детьми дошкольного возраста элементарными нормами и правилами здорового образа жизни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е и групповые консульт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ьские собрания «Мы за здоровый образ жизн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дней открытых дверей в ДОО с целью ознакомления с методикой формирования основ здорового образа жизн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выставок детского творче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я памяток, папок-передвижек: «В гостях у доктора Айболита», «Быть здоровыми хотим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интернет страничек на сайте ДО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писка по электронной поч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тоотчё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мастер-классов: «Уроки здоровья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библиотеки методической и художественной литерату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борка и создание видеотеки мультфильм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Прямоугольник 1"/>
          <p:cNvSpPr/>
          <p:nvPr/>
        </p:nvSpPr>
        <p:spPr>
          <a:xfrm>
            <a:off x="900000" y="1268280"/>
            <a:ext cx="806472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рганизационные измен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клуба «Папа, мама, Я – здоровая семь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проектн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различных экскурс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встреч с врачами, спортсмен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ффективная и безопасная организация самостоятельной деятельности д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 задач здоровьесбережения детей будет более эффективной при наличии целостной педагогической системы, построенной на базе теоретически обоснованных концепций по овладению детьми элементарных норм и правил ЗОЖ в условиях образовательного учреж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54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мы научим детей с самого раннего возраста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ить, беречь и укреплять своё здоровье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мы будем личным примером демонстрировать здоровый образ жизни,  то только в этом случае можно надеяться, что будущие поколения будут более здоровы и развиты не только личностно, интеллектуально, духовно, но и физически. 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Прямоугольник 1"/>
          <p:cNvSpPr/>
          <p:nvPr/>
        </p:nvSpPr>
        <p:spPr>
          <a:xfrm>
            <a:off x="468360" y="-3541680"/>
            <a:ext cx="8207280" cy="10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итератур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Алямовская. В. «Как воспитать здорового ребёнка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Маханева. М. «Воспитание здорового ребёнка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возная В.И., Коновалова И.Т. Организация воспитательной и оздоровительной работы в ДОУ. -М., ТЦ Сфера, 2006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Гордеева В.А. Инновационные подходы к физкультурно-оздоровительной работе в ДОУ //Управление ДОУ. №8, 2006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Данилина Т.А. Взаимодействие ДОУ с социумом – М.:АРКТИ, 2004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Картушина М.Ю. Зеленый огонек здоровья //Управление ДОУ №3, 200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Колодяжная Т.П. Управление современным дошкольным образовательным учреждением. -М., 2004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мерная основная общеобразовательная программа дошколь­ного образовани./ От рождения до школы. / под ред. Н. Е. Вераксы, Т. С. Комаровой, М. А. Васильевой. - М. : Мозаика-Синтез, 201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й закон РФ от 1 сентября 2013 г. № 273-ФЗ «Об образовании в Российской Федерации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Федеральный закон РФ от 21 ноября 2011 г. № 323-ФЗ «Об основах охраны здоровья граждан в Российской Федерации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Федеральный закон РФ от 30 марта 1999 г. № 52-ФЗ «О санитарно-эпидемиологическом благополучии населения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Указ Президента РФ от 1 июня 2012 г. N 761 «О Национальной стратегии действий в интересах детей на 2012 - 2017 годы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СанПиН 2.4.1.3049-13 «Санитарно-эпидемиологические требования к устройству, содержанию и организации режима работы дошкольных образовательных организаций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4"/>
          <p:cNvSpPr/>
          <p:nvPr/>
        </p:nvSpPr>
        <p:spPr>
          <a:xfrm>
            <a:off x="1066680" y="412560"/>
            <a:ext cx="784224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лагодарю за внимание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4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ndara"/>
              </a:rPr>
              <a:t>Актуальность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5" name="Rectangle 4"/>
          <p:cNvSpPr/>
          <p:nvPr/>
        </p:nvSpPr>
        <p:spPr>
          <a:xfrm>
            <a:off x="250920" y="860760"/>
            <a:ext cx="8715240" cy="57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Сохранение и укрепление здоровья детей  приоритетное направление в работе нашей группы «Цветик-семицветик»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регламентируется нормативно - правовыми документами</a:t>
            </a:r>
            <a:r>
              <a:rPr b="1" lang="ru-RU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й закон РФ от 1 сентября 2013 г. № 273-ФЗ «Об образовании в Российской Федерации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й закон РФ от 21 ноября 2011 г. № 323-ФЗ «Об основах охраны здоровья граждан в Российской Федерации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й закон РФ от 30 марта 1999 г. № 52-ФЗ «О санитарно-эпидемиологическом благополучии населения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 Президента РФ от 1 июня 2012 г. N 761 «О Национальной стратегии действий в интересах детей на 2012 - 2017 годы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ПиН 2.4.1.3049-13 «Санитарно-эпидемиологические требования к устройству, содержанию и организации режима работы дошкольных образовательных организаций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ГОС ДО в рамках структурной единицы «физическое развитие» выдвигаются задачи охраны и укрепления психического - физического и  эмоционального здоровья детей, формирования ценностей здорового образа жиз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1"/>
          <p:cNvSpPr/>
          <p:nvPr/>
        </p:nvSpPr>
        <p:spPr>
          <a:xfrm>
            <a:off x="250920" y="954000"/>
            <a:ext cx="8501040" cy="56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584d3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.А.Виноградов, Б.С.Ерасов, О.А.Мильштейн, В.А.Пономарчук, В.И.Столяров и др. рассматривают здоровый образ жизни как глобальную социальную проблему, составную часть жизни общества в цел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работ В.А.Деркунской, С.А.Козловой, Л.Г. Касьяновой, О.А.Князевой, И.М. Новиковой и др. показывает, что уже в дошкольном возрасте у ребенка может появиться устойчивый интерес к своему здоровью и бережное отношение к своему организму, как цен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ношение ребенка к своему здоровью служит фундаментом, на котором можно будет выстроить  потребность в здоровом образе жиз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 txBox="1"/>
          <p:nvPr/>
        </p:nvSpPr>
        <p:spPr>
          <a:xfrm>
            <a:off x="871560" y="1844280"/>
            <a:ext cx="74088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работка у детей осознанного отношения к своему организму;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ривитие необходимых санитарно-гигиенических навыков,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учение здоровому образу жизни с раннего детства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42472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лавные задачи  воспитателя и родителей  в  основном процессе и в условиях профессиональной деятельности: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 txBox="1"/>
          <p:nvPr/>
        </p:nvSpPr>
        <p:spPr>
          <a:xfrm>
            <a:off x="971640" y="184428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Изучить теоретические основы процесса формирования элементарными нормами и правилами здорового образа жизни у детей дошкольного возраста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31b6f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ыявить возрастные особенности  формирования здорового образа жизни для детей второй младшей группы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Рассмотреть содержание и инновационные формы работы по формированию здорового образа жизни у дошкольников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ля этого необходимо: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28"/>
          <p:cNvSpPr/>
          <p:nvPr/>
        </p:nvSpPr>
        <p:spPr>
          <a:xfrm>
            <a:off x="179280" y="836640"/>
            <a:ext cx="2880000" cy="583236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55"/>
          <p:cNvSpPr/>
          <p:nvPr/>
        </p:nvSpPr>
        <p:spPr>
          <a:xfrm>
            <a:off x="1828800" y="3048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28"/>
          <p:cNvSpPr/>
          <p:nvPr/>
        </p:nvSpPr>
        <p:spPr>
          <a:xfrm>
            <a:off x="3132000" y="836640"/>
            <a:ext cx="2880000" cy="583236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28"/>
          <p:cNvSpPr/>
          <p:nvPr/>
        </p:nvSpPr>
        <p:spPr>
          <a:xfrm>
            <a:off x="6086520" y="825480"/>
            <a:ext cx="2808360" cy="583236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21"/>
          <p:cNvSpPr/>
          <p:nvPr/>
        </p:nvSpPr>
        <p:spPr>
          <a:xfrm>
            <a:off x="250920" y="836640"/>
            <a:ext cx="2736720" cy="56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результат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 у всех детей сформированы навыки самообслужи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 ребенка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сутствую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ментарные представления о здоровье человека и о здоровом образе жизн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ойчивая мотивация потребности в сохранении и укреплении собственного здоров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ения о влиянии окружающей среды на здоров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ения о правилах безопас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22"/>
          <p:cNvSpPr/>
          <p:nvPr/>
        </p:nvSpPr>
        <p:spPr>
          <a:xfrm>
            <a:off x="3132000" y="836640"/>
            <a:ext cx="2808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ff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работы, осуществляемой педагогами ДО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оздает у детей целостных представлений о ЗО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ье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берегающие технологии недостаточно используются педагогами в режимных момент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ий уровень владения педагогами новыми информационными технология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23"/>
          <p:cNvSpPr/>
          <p:nvPr/>
        </p:nvSpPr>
        <p:spPr>
          <a:xfrm>
            <a:off x="6084720" y="836640"/>
            <a:ext cx="2808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условиях реал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ицит и редкая сменяемость пособий физкультурного уголк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утствие уголка релаксац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ицит условий в группе, ДОО для внедрения инновационных технологий по проблеме ЗОЖ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27"/>
          <p:cNvSpPr/>
          <p:nvPr/>
        </p:nvSpPr>
        <p:spPr>
          <a:xfrm>
            <a:off x="4680" y="228600"/>
            <a:ext cx="8642520" cy="43164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ким образом, проведённый анализ позволил выявить недостат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22"/>
          <p:cNvSpPr/>
          <p:nvPr/>
        </p:nvSpPr>
        <p:spPr>
          <a:xfrm>
            <a:off x="3132000" y="836640"/>
            <a:ext cx="28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ff"/>
                </a:solidFill>
                <a:latin typeface="Arial"/>
              </a:rPr>
              <a:t>         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процес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ndara"/>
              </a:rPr>
              <a:t>Проблема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1" name="Rectangle 5"/>
          <p:cNvSpPr/>
          <p:nvPr/>
        </p:nvSpPr>
        <p:spPr>
          <a:xfrm>
            <a:off x="684360" y="177336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6"/>
          <p:cNvSpPr/>
          <p:nvPr/>
        </p:nvSpPr>
        <p:spPr>
          <a:xfrm>
            <a:off x="250920" y="967320"/>
            <a:ext cx="8640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едагог не владеет умением организации самостоятельной игровой деятельности по здоровому образу жизни, т.к. в настоящее время в ДОО необходима переориентация педагогического процесса с существующей учебно-дисциплинарной модели на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етентностно-ориентированную модел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содержании деятельности воспитателя ДОО нет системы по организации данной проблем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еятельность специалистов по физическому развитию, психологическому развитию не взаимосвязано  с деятельностью воспитателя ДОО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т взаимосвязи с семьями воспитанников по формированию организационных и психолого-педагогических условий овладения детьми дошкольного возраста элементарных норм и правил здорового образа жизн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развивающей предметно-пространственной среде нет периодической сменяемости оборудований, пособий, материалов, которые стимулируют самостоятельную игровую деятельность по здоровому образу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55"/>
          <p:cNvSpPr/>
          <p:nvPr/>
        </p:nvSpPr>
        <p:spPr>
          <a:xfrm>
            <a:off x="1828800" y="3048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евые ориентиры по овладению </a:t>
            </a:r>
            <a:br>
              <a:rPr sz="2500"/>
            </a:br>
            <a:r>
              <a:rPr b="0" lang="ru-RU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ладшим дошкольником </a:t>
            </a:r>
            <a:br>
              <a:rPr sz="2500"/>
            </a:br>
            <a:r>
              <a:rPr b="0" lang="ru-RU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элементарными нормами и правилами ЗОЖ</a:t>
            </a:r>
            <a:endParaRPr b="0" lang="en-US" sz="2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5" name="Rectangle 4"/>
          <p:cNvSpPr/>
          <p:nvPr/>
        </p:nvSpPr>
        <p:spPr>
          <a:xfrm>
            <a:off x="503280" y="1557360"/>
            <a:ext cx="864072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5"/>
          <p:cNvSpPr/>
          <p:nvPr/>
        </p:nvSpPr>
        <p:spPr>
          <a:xfrm>
            <a:off x="179280" y="1341360"/>
            <a:ext cx="871380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но ФГОС ДО у детей второй младшей группы должна бы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азвита крупная и мелкая моторика; он должен быть подвижен, владеть основными движениями, мог  контролировать свои движения и управлять и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ебёнок  должен быть способным к волевым усилиям, мог следовать социальным нормам поведения и правилам в разных видах деятельности, во взаимоотношениях со взрослыми и сверстниками, должен соблюдать правила безопасного поведения и личной гигиен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ебёнок должен обладать развитым воображением, которое реализуется в разных видах деятельности, и прежде всего в игр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ебёнок должен проявлять любознательность, задавать вопросы взрослым и сверстникам, интересоваться  причинно-следственными связями,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ытаться самостоятельно придумывать объяснения явлениям природ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Уметь наблюдать, экспериментирова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олжен обладать начальными знаниями о себе, о природном и социальном мире, в котором он живё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Знакомиться с произведениями детской литера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80360" cy="576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каждом образовательном моменте детской жизни воспитатель использует все возможности 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ля успешного овладения детьми элементарными нормами и правилами здорового образа жизни. </a:t>
            </a:r>
            <a:br>
              <a:rPr sz="2800"/>
            </a:br>
            <a:br>
              <a:rPr sz="2400"/>
            </a:br>
            <a:r>
              <a:rPr b="0" lang="ru-RU" sz="2400" spc="-1" strike="noStrike" u="sng">
                <a:solidFill>
                  <a:srgbClr val="800080"/>
                </a:solidFill>
                <a:uFillTx/>
                <a:latin typeface="Times New Roman"/>
                <a:ea typeface="Times New Roman"/>
              </a:rPr>
              <a:t>В связи с этим произошли изменения :</a:t>
            </a:r>
            <a:br>
              <a:rPr sz="24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дровых, в научно-методических, в материально-технических,     в информационных, в организационных, в нормативно правовых  условиях образовательного процесса 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13:31:03Z</dcterms:created>
  <dc:creator>Владелец</dc:creator>
  <dc:description/>
  <dc:language>en-US</dc:language>
  <cp:lastModifiedBy>Customer</cp:lastModifiedBy>
  <cp:lastPrinted>2014-11-25T17:57:59Z</cp:lastPrinted>
  <dcterms:modified xsi:type="dcterms:W3CDTF">2015-01-30T21:25:21Z</dcterms:modified>
  <cp:revision>190</cp:revision>
  <dc:subject/>
  <dc:title>Слайд 1</dc:title>
</cp:coreProperties>
</file>