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309-6BD0-43C6-9C4A-AF277A0F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42E-F64A-4CC4-B4DE-DC1B5C47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6F0-3D6B-45AC-A6F3-52D1FFC2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5F4-BB07-4264-94A7-5F153C1A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4D81-E213-48FE-A62D-E6DFC101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2A05-FDCA-46DC-A3F2-71AFEDBD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A919-B07D-4057-90EC-0916055B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F93A-9F90-42BD-8C08-7F804479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AAA9-B10F-451D-80C0-BA70A73C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CBD0-1DEF-416F-A51C-EEC95D63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6FCF-5DC1-49BE-84FB-4F9BB7D2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CB0-6D96-4F35-A9E0-9BFFA061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8B9C-ED24-435E-A6F0-995800D1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B595-3390-4695-939A-174CA985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841B-6545-41B7-984F-E6452CB1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938E-DD69-4D11-ACA6-451E7AF3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C63F-3F73-45FC-80CE-33A4F1E3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B2CC-3E75-4D4B-9A04-E51EE486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0F98-1A2B-4356-8051-45CFDC27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0254-AA65-4BEE-997D-AE70EA26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A3504-E907-4D32-824B-6A4863B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06211-D94D-40FB-A672-45D00B55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E93-C20D-4AD1-8FDA-DAA75F46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D023-0336-4CB4-B962-080A7EFD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F1FA-D711-4D9F-B2B2-7582E56E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EC0B-209F-4772-9D8A-C4B3E921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7268-CF95-4B6C-9B30-368E4B03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5E1D-DEFD-44CC-854C-8439E0BF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58D4-E070-45C8-91D3-CBF5C914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1D75-F4B3-42B1-81C0-A2F3ED12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C9E3C-7270-4AC2-92E3-5280E9F3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5246C-69AB-4160-917C-C786E2AE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FF581-79F6-479D-A321-B2F9B9A4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700-6F9B-4C2E-BCFD-C25CF409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1F9B-10AD-45EF-99C9-B7876E62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3E3FF-27C8-49C1-8F24-65539103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332FF-E187-4A27-8C96-46B2EDCE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572CC-CFD1-48F1-B434-CCBECEFE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8BBC-B567-439A-86FA-8DD7F577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09ED0-30E7-44B3-9704-097562D7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24D31-9106-48F0-B89F-E1CE41B7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59636-ACA5-49EE-B8C6-388F0252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6EC7-FB7E-4671-92CB-7BC465BD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430A6-86B7-4AA4-A2D4-6AD300B4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352-0546-47C8-B481-B05D04BB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70D95-6BEE-4DB9-B85B-B42C93F5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B0C5F-512D-4E0E-A711-F65DB30E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82410-C12A-4B44-9A60-4A069B97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725A2-4568-4674-80CB-7A3E1524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4AAD-399C-434A-B7DB-1F0473A7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3AA0F-FB55-4E0B-9B49-DC7F8FA2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FFD73-25CF-4D7A-8053-42D3BA8E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5C7C3-A8B5-44D7-B1D6-635F7CB7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5ED9A-5FF5-461A-A0A5-202E03F6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03A1-AEBC-4FDB-BA88-6169AA36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BEB-8CC7-4EC9-91E0-F5623004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46BB-E7A2-488F-B243-DC8D5766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D0ED9-9B05-42F9-A3EB-1DEE5FCA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76C04-6571-4B3B-A5A0-05326E59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F575F-9A27-4B28-BA15-4C203BD5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DD174-0119-4E97-B0EC-22B9FE3A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5FDF0-AB8B-4509-9BF8-26BE6E33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B1586-FA89-4286-8EE0-7A717977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94328-4580-4EC6-A708-43D1D1CD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588FF-8E09-421F-B8E7-9406A409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686C9-41BA-4762-957E-852FD1EA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641-F73B-43EC-9BD0-9B773D24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43D68-C84E-4930-B4A3-EC86E60C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9081F-D9B1-49E5-8C6A-407F8581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DBE1-64B0-4928-8017-4E66B01E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D2EBC-4EA3-4B6D-963B-47173B75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93276-D236-423A-A2C1-E3D2239B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964E0-680E-42DB-AE2B-420AF5F0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04653-8192-430A-836F-00FFB454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C6D09-EC0E-4A5C-8DC1-BFC470CB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45BE4-3564-47E2-A8CA-833D119E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959C-58B4-494F-BDAB-D49E0BF6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638-BD20-4B1F-AEFC-C491BDE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B1D9E-811F-4E1A-8B2B-F1C70D48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ADE8D-D69D-4813-94A7-4036AAF8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47AFF-3663-41A7-89EA-63FEFDC4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D103F-B33B-474A-B7A3-8F853C89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E9549-AEFE-46E3-A400-D7A53CFA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62E66-8118-40EF-B90B-5DDA93D8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0C928-461A-4906-AD90-A3A31DED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B0F70-8070-4B7F-AC38-F9497E09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5167C-2043-47A2-B6C2-D70BE7B6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076F-8965-477F-9348-F1D25377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0FE-90F0-4817-A135-D26943E9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703D-AFAC-4BB8-BFEE-0625FCF6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24493-2101-4D1B-9970-1B5309D3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06B98-2BF8-42CC-A147-3A610C88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8FFBC-A793-4AC5-988D-E3314F5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95C4C-3162-444F-B9F8-53EBA46F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C7E3E-87B5-46F0-948D-06BE6BC9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657DE-5EFB-4441-8CEA-1E64E059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8C1F-AD4B-4AEE-89BD-80BDCB35D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6926-50A2-46E3-B683-FDDA6FE14BD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06BD-796C-4C5F-B664-9C3C56B1AC9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BE20-BD24-4661-BF3B-1A51577BF56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3B18-36A3-4207-BC5A-B162C48BD90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00D6-0E28-4B83-9AEA-E9B1E532719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4266-F57E-4CE7-BFCD-50962A3D351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82BC-2AF0-4614-8320-906CA4C2F84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b/&#1044;&#1078;&#1072;&#1085;&#1085;&#1080;_&#1056;&#1086;&#1076;&#1072;&#1088;&#1080;.jpg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&amp;Kcy;&amp;acy;&amp;rcy;&amp;tcy;&amp;ycy; &amp;Icy;&amp;tcy;&amp;acy;&amp;lcy;&amp;icy;&amp;icy; &amp;Pcy;&amp;ocy;&amp;dcy;&amp;rcy;&amp;ocy;&amp;bcy;&amp;ncy;&amp;acy;&amp;yacy; &amp;kcy;&amp;acy;&amp;rcy;&amp;tcy;&amp;acy; &amp;Icy;&amp;tcy;&amp;acy;&amp;lcy;&amp;icy;&amp;icy; &amp;ncy;&amp;acy; &amp;rcy;&amp;ucy;&amp;scy;&amp;scy;&amp;kcy;&amp;ocy;&amp;mcy; &amp;yacy;&amp;zcy;&amp;ycy;&amp;kcy;&amp;iecy; &amp;Kcy;&amp;ucy;&amp;rcy;&amp;ocy;&amp;rcy;&amp;tcy;&amp;ycy;…"/>
          <p:cNvPicPr/>
          <p:nvPr/>
        </p:nvPicPr>
        <p:blipFill>
          <a:blip r:embed="rId2"/>
          <a:stretch/>
        </p:blipFill>
        <p:spPr>
          <a:xfrm>
            <a:off x="0" y="0"/>
            <a:ext cx="914400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pro100_mica &amp;Ncy;&amp;ocy;&amp;yacy;&amp;bcy;&amp;rcy;&amp;softcy;&amp;scy;&amp;kcy;&amp;icy;&amp;jcy; &amp;fcy;&amp;ocy;&amp;tcy;&amp;ocy;&amp;kcy;&amp;vcy;&amp;icy;&amp;zcy;-11, &amp;ocy;&amp;tcy;&amp;vcy;&amp;iecy;&amp;tcy;&amp;ycy; &amp;icy; &amp;icy;&amp;tcy;&amp;ocy;&amp;gcy;&amp;icy;"/>
          <p:cNvPicPr/>
          <p:nvPr/>
        </p:nvPicPr>
        <p:blipFill>
          <a:blip r:embed="rId1"/>
          <a:stretch/>
        </p:blipFill>
        <p:spPr>
          <a:xfrm>
            <a:off x="2050920" y="549360"/>
            <a:ext cx="5191200" cy="47624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987640" y="5589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. Родари и С.Я. Марш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&amp;Dcy;&amp;zhcy;&amp;acy;&amp;ncy;&amp;ncy;&amp;icy; &amp;Rcy;&amp;ocy;&amp;dcy;&amp;acy;&amp;rcy;&amp;icy;. &amp;CHcy;&amp;iecy;&amp;mcy; &amp;pcy;&amp;acy;&amp;khcy;&amp;ncy;&amp;ucy;&amp;tcy; &amp;rcy;&amp;iecy;&amp;mcy;&amp;iecy;&amp;scy;&amp;lcy;&amp;acy;? &amp;icy;&amp;zcy; &amp;scy;&amp;iecy;&amp;rcy;&amp;icy;&amp;icy; &quot;&amp;Mcy;&amp;ocy;&amp;icy; &amp;pcy;&amp;iecy;&amp;rcy;&amp;vcy;&amp;ycy;&amp;iecy; &amp;kcy;&amp;ncy;&amp;icy;&amp;zhcy;&amp;kcy;&amp;icy;&quot;"/>
          <p:cNvPicPr/>
          <p:nvPr/>
        </p:nvPicPr>
        <p:blipFill>
          <a:blip r:embed="rId2"/>
          <a:stretch/>
        </p:blipFill>
        <p:spPr>
          <a:xfrm>
            <a:off x="179280" y="2276640"/>
            <a:ext cx="3210120" cy="4095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&amp;icy;&amp;shchcy;&amp;iecy;&amp;tcy;&amp;scy;&amp;yacy; &amp;rcy;&amp;acy;&amp;bcy;&amp;ocy;&amp;tcy;&amp;kcy;&amp;acy;"/>
          <p:cNvPicPr/>
          <p:nvPr/>
        </p:nvPicPr>
        <p:blipFill>
          <a:blip r:embed="rId3"/>
          <a:stretch/>
        </p:blipFill>
        <p:spPr>
          <a:xfrm>
            <a:off x="179280" y="333360"/>
            <a:ext cx="3792600" cy="2844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&amp;Dcy;&amp;icy;&amp;acy;&amp;fcy;&amp;icy;&amp;lcy;&amp;softcy;&amp;mcy;&amp;ycy; - rusmultik.ru"/>
          <p:cNvPicPr/>
          <p:nvPr/>
        </p:nvPicPr>
        <p:blipFill>
          <a:blip r:embed="rId4"/>
          <a:stretch/>
        </p:blipFill>
        <p:spPr>
          <a:xfrm>
            <a:off x="3708360" y="115920"/>
            <a:ext cx="5002200" cy="3751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&amp;icy;&amp;shchcy;&amp;iecy;&amp;tcy;&amp;scy;&amp;yacy; &amp;rcy;&amp;acy;&amp;bcy;&amp;ocy;&amp;tcy;&amp;kcy;&amp;acy;"/>
          <p:cNvPicPr/>
          <p:nvPr/>
        </p:nvPicPr>
        <p:blipFill>
          <a:blip r:embed="rId5"/>
          <a:stretch/>
        </p:blipFill>
        <p:spPr>
          <a:xfrm>
            <a:off x="3348000" y="3284640"/>
            <a:ext cx="370512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&amp;Dcy;&amp;icy;&amp;acy;&amp;Mcy;&amp;ucy;&amp;lcy;&amp;softcy;&amp;tcy;. &amp;Dcy;&amp;icy;&amp;acy;&amp;fcy;&amp;icy;&amp;lcy;&amp;softcy;&amp;mcy;&amp;ycy; &amp;dcy;&amp;lcy;&amp;yacy; &amp;dcy;&amp;iecy;&amp;tcy;&amp;iecy;&amp;jcy; &amp;icy; &amp;vcy;&amp;zcy;&amp;rcy;&amp;ocy;&amp;scy;&amp;lcy;&amp;ycy;&amp;khcy;. &amp;CHcy;&amp;iecy;&amp;mcy; &amp;pcy;&amp;acy;&amp;khcy;&amp;ncy;&amp;ucy;&amp;tcy; &amp;rcy;&amp;iecy;&amp;mcy;&amp;iocy;&amp;scy;&amp;lcy;&amp;acy;"/>
          <p:cNvPicPr/>
          <p:nvPr/>
        </p:nvPicPr>
        <p:blipFill>
          <a:blip r:embed="rId6"/>
          <a:stretch/>
        </p:blipFill>
        <p:spPr>
          <a:xfrm>
            <a:off x="5581800" y="4076640"/>
            <a:ext cx="35622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&amp;Scy;&amp;kcy;&amp;acy;&amp;zcy;&amp;kcy;&amp;ucy; &amp;icy;&amp;tcy;&amp;acy;&amp;lcy;&amp;softcy;&amp;yacy;&amp;ncy;&amp;scy;&amp;kcy;&amp;ocy;&amp;gcy;&amp;ocy; &amp;pcy;&amp;icy;&amp;scy;&amp;acy;&amp;tcy;&amp;iecy;&amp;lcy;&amp;yacy; &amp;Dcy;&amp;zhcy;&amp;acy;&amp;ncy;&amp;ncy;&amp;icy; &amp;Rcy;&amp;ocy;&amp;dcy;&amp;acy;&amp;rcy;&amp;icy; &amp;Pcy;&amp;rcy;&amp;icy;&amp;kcy;&amp;lcy;&amp;yucy;&amp;chcy;&amp;iecy;&amp;ncy;&amp;icy;&amp;yacy; &amp;CHcy;&amp;icy;&amp;pcy;&amp;ocy;&amp;lcy;&amp;lcy;&amp;icy;&amp;ncy;&amp;ocy; &amp;ocy; - 6 &amp;Fcy;&amp;iecy;&amp;vcy;&amp;rcy;&amp;acy;&amp;lcy;&amp;yacy; 2014 - Blog - Get-styles"/>
          <p:cNvPicPr/>
          <p:nvPr/>
        </p:nvPicPr>
        <p:blipFill>
          <a:blip r:embed="rId2"/>
          <a:stretch/>
        </p:blipFill>
        <p:spPr>
          <a:xfrm>
            <a:off x="3081240" y="195120"/>
            <a:ext cx="298152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Файл:Джанни Родари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0600" y="1047600"/>
            <a:ext cx="3322440" cy="431640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2"/>
          <p:cNvSpPr/>
          <p:nvPr/>
        </p:nvSpPr>
        <p:spPr>
          <a:xfrm>
            <a:off x="3163680" y="1484280"/>
            <a:ext cx="595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Джанни Родар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2593080" y="2708280"/>
            <a:ext cx="68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(Джова́нни Франче́ско Рода́р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Прямоугольник 5" descr=""/>
          <p:cNvPicPr/>
          <p:nvPr/>
        </p:nvPicPr>
        <p:blipFill>
          <a:blip r:embed="rId4"/>
          <a:stretch/>
        </p:blipFill>
        <p:spPr>
          <a:xfrm>
            <a:off x="4194000" y="4005360"/>
            <a:ext cx="40165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971640" y="620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дари родился 23 октября 1920 года в маленьком городке Оменья(Северная Италия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" descr="Information Omegna"/>
          <p:cNvPicPr/>
          <p:nvPr/>
        </p:nvPicPr>
        <p:blipFill>
          <a:blip r:embed="rId1"/>
          <a:stretch/>
        </p:blipFill>
        <p:spPr>
          <a:xfrm>
            <a:off x="2484360" y="2781360"/>
            <a:ext cx="42861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250920" y="26028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го отец Джузеппе, булочник по профессии, умер, когда Джанни было только десять ле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Рисунок 2" descr="http://life-scorpio.ucoz.ru/_pu/2/64926.jpg"/>
          <p:cNvPicPr/>
          <p:nvPr/>
        </p:nvPicPr>
        <p:blipFill>
          <a:blip r:embed="rId1"/>
          <a:stretch/>
        </p:blipFill>
        <p:spPr>
          <a:xfrm rot="21263400">
            <a:off x="539640" y="2133720"/>
            <a:ext cx="3357720" cy="4071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356000" y="2205000"/>
            <a:ext cx="37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мать осталась с тремя детьми на руках в весьма непростой материальной ситуации, потому она устроилась горничной. Денег, которые выплачивали женщине, еле-еле хватало на то, чтобы купить прод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2"/>
          <p:cNvSpPr/>
          <p:nvPr/>
        </p:nvSpPr>
        <p:spPr>
          <a:xfrm>
            <a:off x="250920" y="476280"/>
            <a:ext cx="442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частному Джанни нищета не позволила поступить в обычную школу, поэтому он учился в духовной семинарии. Уже в то время мальчику нравились литература, живопись и музыка. В семинарии ему было скучно, однако там была великолепная, огромнейшая библиотека, в которой он и познакомился с великими творениями выдающихся писа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" descr="&amp;Gcy;&amp;rcy;&amp;ucy;&amp;pcy;&amp;pcy;&amp;acy;: &amp;Dcy;&amp;Ocy;&amp;Bcy;&amp;Rcy;&amp;Ycy;&amp;IEcy; &amp;Scy;&amp;Kcy;&amp;Acy;&amp;Zcy;&amp;Ocy;&amp;CHcy;&amp;Ncy;&amp;Icy;&amp;Kcy;&amp;Icy;"/>
          <p:cNvPicPr/>
          <p:nvPr/>
        </p:nvPicPr>
        <p:blipFill>
          <a:blip r:embed="rId1"/>
          <a:stretch/>
        </p:blipFill>
        <p:spPr>
          <a:xfrm>
            <a:off x="4716360" y="260280"/>
            <a:ext cx="4140360" cy="37432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50920" y="4292640"/>
            <a:ext cx="835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7 лет Джанни закончил семинарию и стал работать в школе учителем. Эта работа принесла ему радость и удовольствие. Одновременно он посещает Миланский университет в качестве вольного слушател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46836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чень любил рассказывать детям истории про приключения Пинокки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609300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быть учителем ему оставалось недол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395280" y="54936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1951 году Родари опубликовал первый сборник стихов — «Книжка весёлых стихов», а также своё известнейшее произве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2" descr="http://www.meloman.kz/upload/images/35834_797341_13.jpg"/>
          <p:cNvPicPr/>
          <p:nvPr/>
        </p:nvPicPr>
        <p:blipFill>
          <a:blip r:embed="rId1"/>
          <a:stretch/>
        </p:blipFill>
        <p:spPr>
          <a:xfrm>
            <a:off x="4788000" y="620640"/>
            <a:ext cx="36766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2" descr="http://life-scorpio.ucoz.ru/_pu/2/14206.jpg"/>
          <p:cNvPicPr/>
          <p:nvPr/>
        </p:nvPicPr>
        <p:blipFill>
          <a:blip r:embed="rId1"/>
          <a:stretch/>
        </p:blipFill>
        <p:spPr>
          <a:xfrm>
            <a:off x="371520" y="1090440"/>
            <a:ext cx="3914640" cy="7347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Медаль Андерсена"/>
          <p:cNvPicPr/>
          <p:nvPr/>
        </p:nvPicPr>
        <p:blipFill>
          <a:blip r:embed="rId2"/>
          <a:stretch/>
        </p:blipFill>
        <p:spPr>
          <a:xfrm>
            <a:off x="5508720" y="3860640"/>
            <a:ext cx="2520720" cy="248616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"/>
          <p:cNvSpPr/>
          <p:nvPr/>
        </p:nvSpPr>
        <p:spPr>
          <a:xfrm>
            <a:off x="4429080" y="1785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1970 год  Джанни Родари был удостоен престижной премии имени Ганса Христиана Андерс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2" descr="C:\Documents and Settings\Admin\Мои документы\Мои рисунки\dae16173fa749239667b3dbc6aadc569.gif"/>
          <p:cNvPicPr/>
          <p:nvPr/>
        </p:nvPicPr>
        <p:blipFill>
          <a:blip r:embed="rId3"/>
          <a:stretch/>
        </p:blipFill>
        <p:spPr>
          <a:xfrm rot="4800000">
            <a:off x="3594600" y="-57960"/>
            <a:ext cx="1071360" cy="2286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C:\Documents and Settings\Admin\Мои документы\Мои рисунки\dae16173fa749239667b3dbc6aadc569.gif"/>
          <p:cNvPicPr/>
          <p:nvPr/>
        </p:nvPicPr>
        <p:blipFill>
          <a:blip r:embed="rId4"/>
          <a:stretch/>
        </p:blipFill>
        <p:spPr>
          <a:xfrm rot="4731600">
            <a:off x="6403320" y="-130680"/>
            <a:ext cx="1071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8:15:54Z</dcterms:created>
  <dc:creator>Александр</dc:creator>
  <dc:description/>
  <dc:language>en-US</dc:language>
  <cp:lastModifiedBy>Щетинина</cp:lastModifiedBy>
  <dcterms:modified xsi:type="dcterms:W3CDTF">2015-01-31T16:05:43Z</dcterms:modified>
  <cp:revision>8</cp:revision>
  <dc:subject/>
  <dc:title>Слайд 1</dc:title>
</cp:coreProperties>
</file>