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886-FA62-4810-A3D0-43976DA8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BF8-433F-4671-A38D-581B65E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151-5FE7-462E-936F-323970C8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B1F-2D86-41F4-9EA1-EC0A2975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63A0-971E-4168-8E57-ECDE788D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B9A0-3934-44C1-BE2D-848D8D6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E54C-C3CD-47AE-BE41-8AF3DD1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1AD6-B860-45C5-8999-9BC5927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7FFD-E3B9-4AEE-800B-EBD56AC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BDDF-439E-4519-B4D2-0AC4D11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3E7D-7C3C-4B93-B979-90BEFC4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29F-7325-425B-B874-7F9A510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B8DF-6960-4F83-B36F-1C576BA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1E56-6EF4-4907-AB61-7503B7D6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15B-2DE3-472F-BAC9-C6D845A3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FFFE-18D8-474D-84AE-7F30AE88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8822-82F1-4D00-8837-5D837574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6C94-0811-48DD-B517-3E905C91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8A1F-0ED2-4A43-88E6-F585BCC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2C0A-7869-459D-A60E-AA370B0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B3D7-ED4C-4392-B376-08EC845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8E42-2F07-4B56-8CA4-2B7E6EC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A76-97E8-4FBC-9FD6-DC1D7EF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069B-26B6-4714-B73C-1C6F509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129B-7CEA-4037-8A06-CAB32E4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A87D-F930-4EA0-9522-6C98E21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36AB-B574-40E5-B914-152E596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8885-9205-4B8B-B807-7A0866F3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448E-53D5-4AF5-92BD-F6CA0A51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AFC4-A0AD-41D7-9953-944E9CC5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2B18-3726-4758-B2AE-E9C30666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DF19-D955-43C7-8865-E659D93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3239-CB41-4496-9D46-5E7E7C7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074-751E-4CCF-B2C5-D3E36A7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FF66-93A1-4C48-A18E-2DACBFCA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4163-3A04-48F9-882E-9B0A354A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AA64-AF7C-4A74-B589-AC2D722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F488-410B-4FFC-BC9F-7C93BD7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901C-6D0E-4C3F-84BF-ABC2ED0B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A3F6-6F70-4042-8522-E7D48B0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F199-1426-4CB0-9618-1D30D46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57CF-B34E-4831-B48B-40F364C8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FF31-B3EE-4965-A031-E1DFE28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519D-1C48-4F81-99E7-90838162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C7A-49C0-4EC1-9581-706ED684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56E9-D4F4-4AFA-94A0-B9EE6C6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6BF7-2DE5-458A-AFEB-37478AC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C2420-9513-441A-8B05-4F10785A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1E16-49ED-4A48-A19D-39D4F65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546F-8C2D-48E1-9EBE-4A9C0C0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9370-A60A-4CBC-AAEA-7300C02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61FF-45AB-4E29-8813-CCFC896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6B4B-BD83-4210-8B58-AC2095B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89841-87EA-4CAC-974F-38C9F2A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BEAE-A103-48EE-BFFB-F85CE283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46C-86C0-4096-A085-5534FF5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0B2D-2BCB-4458-AF2C-73085216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D8FB-CC2C-478D-9F69-D7DA1689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BAE3-6B6A-4099-8C0D-AFAEBF7F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F74A-0FBB-4106-8F0F-66BE42C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0A05-B239-4577-92B6-88D1B247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47FE3-3F00-4653-8D2F-6B04B58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6273-E1BA-48D7-B135-FC7FB7A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2FE8-1B77-478C-9323-B6DB1FB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8166-13AA-4C39-8111-53ED5E2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973B0-6F0C-44B4-A9A6-822CC70A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F23-6535-421C-846E-E9809C7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8797-EDF5-4C28-A4E3-13655EC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4476-D4EF-46C2-B6B6-BC8E9C2E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EAFBE-1D5B-4B61-8BCD-0EDFDC15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DD85-FE8B-4EB5-A10C-AD4F8921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7FF5-823E-480A-B50B-AD7BAFD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414A-8A7E-4650-8959-8463862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6AA3-0757-4162-A8D4-15D2C9AE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50CC-E1DB-4CE7-ADBB-15B4D27C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37B39-CC52-4180-9E9C-A822179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0AEBF-512C-47B4-BD96-E021C16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BF0-36D7-4C09-BBBB-A1E6EFD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B46B-108E-4D4A-BF9E-F619585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2CAAC-CAEF-476A-A7BD-69B7398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606B-4B97-4A4F-BDF6-5C9BFB1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8AA8-F530-48A1-A880-B04300F2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C95C-5F21-4492-BA2F-8244F8A5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9391-64B6-42B0-8A78-C3A2D724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BA4C4-6DD9-493E-B5B9-172FE93C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D057-F792-476A-BFE1-7F857D78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EFFA-7A8D-4638-A2AB-2155902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0565-4020-4995-B679-8E1A5792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3B0-368E-4ADA-A66E-4D8397B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97F77-96A2-4EA3-8EEA-98A3126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4E6B-1099-495E-BEFC-753D7DE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93E8-4F99-417D-87FA-B53AF12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A40FF-4BE2-47CF-8893-D0059CD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FDAE-C805-412D-8B5E-44B69E5A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EFE81-2304-4326-B0B9-4AB9BE1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D41C8-0164-42DA-820F-C500537E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2FD-CB10-473C-BBE4-0EA8A3F0E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C921-BBC6-4D7B-B777-1AFBCFDEAEB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2D4-0A0B-4E9B-ADA3-845C72BF0BD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4C78-468D-41B0-AE45-EFEC57B38CE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8C9-39C5-4531-9F0B-15B812B276E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AEDA-195F-4978-A740-3B1C978888D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C17-F9FC-42DC-ACBA-E314E9D8725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3B7A-46FF-435E-9CD8-331DAB5F2F7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b/&#1044;&#1078;&#1072;&#1085;&#1085;&#1080;_&#1056;&#1086;&#1076;&#1072;&#1088;&#1080;.jp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&amp;Kcy;&amp;acy;&amp;rcy;&amp;tcy;&amp;ycy; &amp;Icy;&amp;tcy;&amp;acy;&amp;lcy;&amp;icy;&amp;icy; &amp;Pcy;&amp;ocy;&amp;dcy;&amp;rcy;&amp;ocy;&amp;bcy;&amp;ncy;&amp;acy;&amp;yacy; &amp;kcy;&amp;acy;&amp;rcy;&amp;tcy;&amp;acy; &amp;Icy;&amp;tcy;&amp;acy;&amp;lcy;&amp;icy;&amp;icy; &amp;ncy;&amp;acy; &amp;rcy;&amp;ucy;&amp;scy;&amp;scy;&amp;kcy;&amp;ocy;&amp;mcy; &amp;yacy;&amp;zcy;&amp;ycy;&amp;kcy;&amp;iecy; &amp;Kcy;&amp;ucy;&amp;rcy;&amp;ocy;&amp;rcy;&amp;tcy;&amp;ycy;…"/>
          <p:cNvPicPr/>
          <p:nvPr/>
        </p:nvPicPr>
        <p:blipFill>
          <a:blip r:embed="rId2"/>
          <a:stretch/>
        </p:blipFill>
        <p:spPr>
          <a:xfrm>
            <a:off x="0" y="0"/>
            <a:ext cx="914400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pro100_mica &amp;Ncy;&amp;ocy;&amp;yacy;&amp;bcy;&amp;rcy;&amp;softcy;&amp;scy;&amp;kcy;&amp;icy;&amp;jcy; &amp;fcy;&amp;ocy;&amp;tcy;&amp;ocy;&amp;kcy;&amp;vcy;&amp;icy;&amp;zcy;-11, &amp;ocy;&amp;tcy;&amp;vcy;&amp;iecy;&amp;tcy;&amp;ycy; &amp;icy; &amp;icy;&amp;tcy;&amp;ocy;&amp;gcy;&amp;icy;"/>
          <p:cNvPicPr/>
          <p:nvPr/>
        </p:nvPicPr>
        <p:blipFill>
          <a:blip r:embed="rId1"/>
          <a:stretch/>
        </p:blipFill>
        <p:spPr>
          <a:xfrm>
            <a:off x="2050920" y="549360"/>
            <a:ext cx="5191200" cy="4762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987640" y="558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 Родари и С.Я. Марш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&amp;Dcy;&amp;zhcy;&amp;acy;&amp;ncy;&amp;ncy;&amp;icy; &amp;Rcy;&amp;ocy;&amp;dcy;&amp;acy;&amp;rcy;&amp;icy;. &amp;CHcy;&amp;iecy;&amp;mcy; &amp;pcy;&amp;acy;&amp;khcy;&amp;ncy;&amp;ucy;&amp;tcy; &amp;rcy;&amp;iecy;&amp;mcy;&amp;iecy;&amp;scy;&amp;lcy;&amp;acy;? &amp;icy;&amp;zcy; &amp;scy;&amp;iecy;&amp;rcy;&amp;icy;&amp;icy; &quot;&amp;Mcy;&amp;ocy;&amp;icy; &amp;pcy;&amp;iecy;&amp;rcy;&amp;vcy;&amp;ycy;&amp;iecy; &amp;kcy;&amp;ncy;&amp;icy;&amp;zhcy;&amp;kcy;&amp;icy;&quot;"/>
          <p:cNvPicPr/>
          <p:nvPr/>
        </p:nvPicPr>
        <p:blipFill>
          <a:blip r:embed="rId2"/>
          <a:stretch/>
        </p:blipFill>
        <p:spPr>
          <a:xfrm>
            <a:off x="179280" y="2276640"/>
            <a:ext cx="3210120" cy="4095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&amp;icy;&amp;shchcy;&amp;iecy;&amp;tcy;&amp;scy;&amp;yacy; &amp;rcy;&amp;acy;&amp;bcy;&amp;ocy;&amp;tcy;&amp;kcy;&amp;acy;"/>
          <p:cNvPicPr/>
          <p:nvPr/>
        </p:nvPicPr>
        <p:blipFill>
          <a:blip r:embed="rId3"/>
          <a:stretch/>
        </p:blipFill>
        <p:spPr>
          <a:xfrm>
            <a:off x="179280" y="333360"/>
            <a:ext cx="3792600" cy="2844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&amp;Dcy;&amp;icy;&amp;acy;&amp;fcy;&amp;icy;&amp;lcy;&amp;softcy;&amp;mcy;&amp;ycy; - rusmultik.ru"/>
          <p:cNvPicPr/>
          <p:nvPr/>
        </p:nvPicPr>
        <p:blipFill>
          <a:blip r:embed="rId4"/>
          <a:stretch/>
        </p:blipFill>
        <p:spPr>
          <a:xfrm>
            <a:off x="3708360" y="115920"/>
            <a:ext cx="5002200" cy="37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&amp;icy;&amp;shchcy;&amp;iecy;&amp;tcy;&amp;scy;&amp;yacy; &amp;rcy;&amp;acy;&amp;bcy;&amp;ocy;&amp;tcy;&amp;kcy;&amp;acy;"/>
          <p:cNvPicPr/>
          <p:nvPr/>
        </p:nvPicPr>
        <p:blipFill>
          <a:blip r:embed="rId5"/>
          <a:stretch/>
        </p:blipFill>
        <p:spPr>
          <a:xfrm>
            <a:off x="3348000" y="3284640"/>
            <a:ext cx="370512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&amp;Dcy;&amp;icy;&amp;acy;&amp;Mcy;&amp;ucy;&amp;lcy;&amp;softcy;&amp;tcy;. &amp;Dcy;&amp;icy;&amp;acy;&amp;fcy;&amp;icy;&amp;lcy;&amp;softcy;&amp;mcy;&amp;ycy; &amp;dcy;&amp;lcy;&amp;yacy; &amp;dcy;&amp;iecy;&amp;tcy;&amp;iecy;&amp;jcy; &amp;icy; &amp;vcy;&amp;zcy;&amp;rcy;&amp;ocy;&amp;scy;&amp;lcy;&amp;ycy;&amp;khcy;. &amp;CHcy;&amp;iecy;&amp;mcy; &amp;pcy;&amp;acy;&amp;khcy;&amp;ncy;&amp;ucy;&amp;tcy; &amp;rcy;&amp;iecy;&amp;mcy;&amp;iocy;&amp;scy;&amp;lcy;&amp;acy;"/>
          <p:cNvPicPr/>
          <p:nvPr/>
        </p:nvPicPr>
        <p:blipFill>
          <a:blip r:embed="rId6"/>
          <a:stretch/>
        </p:blipFill>
        <p:spPr>
          <a:xfrm>
            <a:off x="5581800" y="4076640"/>
            <a:ext cx="3562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&amp;Scy;&amp;kcy;&amp;acy;&amp;zcy;&amp;kcy;&amp;ucy; &amp;icy;&amp;tcy;&amp;acy;&amp;lcy;&amp;softcy;&amp;yacy;&amp;ncy;&amp;scy;&amp;kcy;&amp;ocy;&amp;gcy;&amp;ocy; &amp;pcy;&amp;icy;&amp;scy;&amp;acy;&amp;tcy;&amp;iecy;&amp;lcy;&amp;yacy; &amp;Dcy;&amp;zhcy;&amp;acy;&amp;ncy;&amp;ncy;&amp;icy; &amp;Rcy;&amp;ocy;&amp;dcy;&amp;acy;&amp;rcy;&amp;icy; &amp;Pcy;&amp;rcy;&amp;icy;&amp;kcy;&amp;lcy;&amp;yucy;&amp;chcy;&amp;iecy;&amp;ncy;&amp;icy;&amp;yacy; &amp;CHcy;&amp;icy;&amp;pcy;&amp;ocy;&amp;lcy;&amp;lcy;&amp;icy;&amp;ncy;&amp;ocy; &amp;ocy; - 6 &amp;Fcy;&amp;iecy;&amp;vcy;&amp;rcy;&amp;acy;&amp;lcy;&amp;yacy; 2014 - Blog - Get-styles"/>
          <p:cNvPicPr/>
          <p:nvPr/>
        </p:nvPicPr>
        <p:blipFill>
          <a:blip r:embed="rId2"/>
          <a:stretch/>
        </p:blipFill>
        <p:spPr>
          <a:xfrm>
            <a:off x="3081240" y="195120"/>
            <a:ext cx="298152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Файл:Джанни Родари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0600" y="1047600"/>
            <a:ext cx="3322440" cy="43164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3163680" y="1484280"/>
            <a:ext cx="59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Джанни Рода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2593080" y="270828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(Джова́нни Франче́ско Рода́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Прямоугольник 5" descr=""/>
          <p:cNvPicPr/>
          <p:nvPr/>
        </p:nvPicPr>
        <p:blipFill>
          <a:blip r:embed="rId4"/>
          <a:stretch/>
        </p:blipFill>
        <p:spPr>
          <a:xfrm>
            <a:off x="4194000" y="4005360"/>
            <a:ext cx="4016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97164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ари родился 23 октября 1920 года в маленьком городке Оменья(Северная Италия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" descr="Information Omegna"/>
          <p:cNvPicPr/>
          <p:nvPr/>
        </p:nvPicPr>
        <p:blipFill>
          <a:blip r:embed="rId1"/>
          <a:stretch/>
        </p:blipFill>
        <p:spPr>
          <a:xfrm>
            <a:off x="2484360" y="278136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250920" y="26028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го отец Джузеппе, булочник по профессии, умер, когда Джанни было только десять л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Рисунок 2" descr="http://life-scorpio.ucoz.ru/_pu/2/64926.jpg"/>
          <p:cNvPicPr/>
          <p:nvPr/>
        </p:nvPicPr>
        <p:blipFill>
          <a:blip r:embed="rId1"/>
          <a:stretch/>
        </p:blipFill>
        <p:spPr>
          <a:xfrm rot="21263400">
            <a:off x="539640" y="2133720"/>
            <a:ext cx="3357720" cy="4071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356000" y="220500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мать осталась с тремя детьми на руках в весьма непростой материальной ситуации, потому она устроилась горничной. Денег, которые выплачивали женщине, еле-еле хватало на то, чтобы купить прод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2"/>
          <p:cNvSpPr/>
          <p:nvPr/>
        </p:nvSpPr>
        <p:spPr>
          <a:xfrm>
            <a:off x="250920" y="476280"/>
            <a:ext cx="44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му Джанни нищета не позволила поступить в обычную школу, поэтому он учился в духовной семинарии. Уже в то время мальчику нравились литература, живопись и музыка. В семинарии ему было скучно, однако там была великолепная, огромнейшая библиотека, в которой он и познакомился с великими творениями выдающихся писа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" descr="&amp;Gcy;&amp;rcy;&amp;ucy;&amp;pcy;&amp;pcy;&amp;acy;: &amp;Dcy;&amp;Ocy;&amp;Bcy;&amp;Rcy;&amp;Ycy;&amp;IEcy; &amp;Scy;&amp;Kcy;&amp;Acy;&amp;Zcy;&amp;Ocy;&amp;CHcy;&amp;Ncy;&amp;Icy;&amp;Kcy;&amp;Icy;"/>
          <p:cNvPicPr/>
          <p:nvPr/>
        </p:nvPicPr>
        <p:blipFill>
          <a:blip r:embed="rId1"/>
          <a:stretch/>
        </p:blipFill>
        <p:spPr>
          <a:xfrm>
            <a:off x="4716360" y="260280"/>
            <a:ext cx="4140360" cy="3743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50920" y="429264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 лет Джанни закончил семинарию и стал работать в школе учителем. Эта работа принесла ему радость и удовольствие. Одновременно он посещает Миланский университет в качестве вольного слушате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чень любил рассказывать детям истории про приключения Пинокки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6093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быть учителем ему оставалось недол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95280" y="54936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51 году Родари опубликовал первый сборник стихов — «Книжка весёлых стихов», а также своё известнейшее произве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http://www.meloman.kz/upload/images/35834_797341_13.jpg"/>
          <p:cNvPicPr/>
          <p:nvPr/>
        </p:nvPicPr>
        <p:blipFill>
          <a:blip r:embed="rId1"/>
          <a:stretch/>
        </p:blipFill>
        <p:spPr>
          <a:xfrm>
            <a:off x="4788000" y="620640"/>
            <a:ext cx="3676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http://life-scorpio.ucoz.ru/_pu/2/14206.jpg"/>
          <p:cNvPicPr/>
          <p:nvPr/>
        </p:nvPicPr>
        <p:blipFill>
          <a:blip r:embed="rId1"/>
          <a:stretch/>
        </p:blipFill>
        <p:spPr>
          <a:xfrm>
            <a:off x="371520" y="1090440"/>
            <a:ext cx="3914640" cy="734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Медаль Андерсена"/>
          <p:cNvPicPr/>
          <p:nvPr/>
        </p:nvPicPr>
        <p:blipFill>
          <a:blip r:embed="rId2"/>
          <a:stretch/>
        </p:blipFill>
        <p:spPr>
          <a:xfrm>
            <a:off x="5508720" y="3860640"/>
            <a:ext cx="2520720" cy="248616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4429080" y="1785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1970 год  Джанни Родари был удостоен престижной премии имени Ганса Христиана Андерс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C:\Documents and Settings\Admin\Мои документы\Мои рисунки\dae16173fa749239667b3dbc6aadc569.gif"/>
          <p:cNvPicPr/>
          <p:nvPr/>
        </p:nvPicPr>
        <p:blipFill>
          <a:blip r:embed="rId3"/>
          <a:stretch/>
        </p:blipFill>
        <p:spPr>
          <a:xfrm rot="4800000">
            <a:off x="3594600" y="-57960"/>
            <a:ext cx="1071360" cy="228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Admin\Мои документы\Мои рисунки\dae16173fa749239667b3dbc6aadc569.gif"/>
          <p:cNvPicPr/>
          <p:nvPr/>
        </p:nvPicPr>
        <p:blipFill>
          <a:blip r:embed="rId4"/>
          <a:stretch/>
        </p:blipFill>
        <p:spPr>
          <a:xfrm rot="4731600">
            <a:off x="6403320" y="-130680"/>
            <a:ext cx="107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8:15:54Z</dcterms:created>
  <dc:creator>Александр</dc:creator>
  <dc:description/>
  <dc:language>en-US</dc:language>
  <cp:lastModifiedBy>Щетинина</cp:lastModifiedBy>
  <dcterms:modified xsi:type="dcterms:W3CDTF">2015-01-31T16:05:43Z</dcterms:modified>
  <cp:revision>8</cp:revision>
  <dc:subject/>
  <dc:title>Слайд 1</dc:title>
</cp:coreProperties>
</file>