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B9C-BE04-4344-91D2-F5D48FA8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CA6-4511-4EDC-9D1F-2C0FADA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EB8-DE1F-4160-BC7B-3F7CC8C7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195-AD9A-4FC4-9FFC-133468F4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A7CA-858B-4C20-8D30-EDDCCB76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4B2B-D009-4257-9CCE-5D65641F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9024-A850-48C2-8283-DE67A703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1AC5-CE14-40E0-962A-841E4563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9FA8-5145-4B7E-AFA1-EC36C9F6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B6DF-98E6-4087-B02E-D756805D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B29B-C8D2-4801-8F0A-21DBC0C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237-E549-42C3-90CE-A75E3C46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A18D-E8F5-4DF3-82F6-A483D654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90AC-9A4D-4198-BBC3-93C4D56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F17C-79B0-4E73-99FB-B6835B16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3263-7143-4B98-ABF1-26407771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F484-C88D-4D7C-8018-3056E97A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CE2-B273-48DF-8926-B5B6DC23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159-CAD1-4A2E-B4EB-B8EDCCB9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EF0-29FF-4813-A25C-BE221A5A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973-57A0-409B-BD54-A0352825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DEE-71AE-491F-9560-512BE7A0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F9B-38DB-46B7-92DE-1BA15C1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E5A-5769-40B1-AD2B-821696A4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3C0D-0187-407C-8416-C9C60DC86C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6311-85EC-4032-9EB3-4833441030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3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РООБРАЗЫ ИНСТРУМЕН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2846160" cy="3938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2897280" cy="3887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48000" y="3068640"/>
            <a:ext cx="24814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Гитарообразный фидель</a:t>
            </a:r>
            <a:br>
              <a:rPr sz="48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(Венеция 1505 г. деталь алтаря церкви святого Захария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28526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КРИПКА ГВАРНЕР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2421000"/>
            <a:ext cx="3384360" cy="1466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Италия отмечает юбилей скрипичного&#13;&#10; мастера Джузеппе Гварнери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635280" y="4292640"/>
            <a:ext cx="1800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ahoma"/>
              </a:rPr>
              <a:t>КРЕМОНА НА КАРТЕ</a:t>
            </a:r>
            <a:br>
              <a:rPr sz="28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АМЯТНИК СТРАДИВАРИ НА УЛИЦЕ КРЕМОН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322440" cy="284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63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04:58Z</dcterms:created>
  <dc:creator>Larisa</dc:creator>
  <dc:description/>
  <dc:language>en-US</dc:language>
  <cp:lastModifiedBy>Larisa</cp:lastModifiedBy>
  <dcterms:modified xsi:type="dcterms:W3CDTF">2015-01-31T09:13:43Z</dcterms:modified>
  <cp:revision>1</cp:revision>
  <dc:subject/>
  <dc:title>ПРООБРАЗЫ ИНСТРУМЕНТА</dc:title>
</cp:coreProperties>
</file>