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EBE-7159-4913-814B-0663DB9D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F41-68AA-4FE7-BAEE-FED6E03F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16C-88DB-4EC6-A319-07C03811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643-1BDD-4DAF-8859-0563731A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4C12-672B-40FB-93E7-5D57741D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959-14FD-431B-812C-B9F4495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836-D247-4A26-89A3-62FFBFB1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813-4489-42F5-A6F4-218617A5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6241-9128-4C3A-8856-FCD10C9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2921-99A1-431D-AB07-789C1281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5F8-23F9-4C7D-8BB7-2D8C2FD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B3D-B207-4FCB-B0CF-AFC16C9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1C1E-2355-4BAE-B5A3-B6A54BA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D0DD-9A56-400E-9B0D-8D1F625F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584-6CA1-4E0D-B49D-08B29A6D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F936-0756-4BDC-AB36-DAB54CCA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C038-FDAF-4D93-8160-407027E0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AE1-CB8D-45FB-9B88-340A8A2D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076-E2A3-4F92-8B6F-A86A5ABB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F4F-BFA1-4614-ADD3-24A0E586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099-C1A1-48AE-8402-C7636D48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AAD-345D-4018-874B-A835CA1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804-2A9D-4AFB-B8B0-FBE4A0B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8D6-2B89-4FDB-8CD3-DCB4A71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9893-6394-494B-BE29-5104298891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5C77-248A-40C3-AB8E-68C35D97CC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3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РООБРАЗЫ ИНСТРУМЕН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846160" cy="3938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2897280" cy="3887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24814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Гитарообразный фидель</a:t>
            </a:r>
            <a:br>
              <a:rPr sz="48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(Венеция 1505 г. деталь алтаря церкви святого Захария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8526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КРИПКА ГВАРНЕР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2421000"/>
            <a:ext cx="3384360" cy="1466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Италия отмечает юбилей скрипичного&#13;&#10; мастера Джузеппе Гварнери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635280" y="4292640"/>
            <a:ext cx="1800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ahoma"/>
              </a:rPr>
              <a:t>КРЕМОНА НА КАРТЕ</a:t>
            </a:r>
            <a:br>
              <a:rPr sz="28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АМЯТНИК СТРАДИВАРИ НА УЛИЦЕ КРЕМОН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322440" cy="284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63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09:04:58Z</dcterms:created>
  <dc:creator>Larisa</dc:creator>
  <dc:description/>
  <dc:language>en-US</dc:language>
  <cp:lastModifiedBy>Larisa</cp:lastModifiedBy>
  <dcterms:modified xsi:type="dcterms:W3CDTF">2015-01-31T09:13:43Z</dcterms:modified>
  <cp:revision>1</cp:revision>
  <dc:subject/>
  <dc:title>ПРООБРАЗЫ ИНСТРУМЕНТА</dc:title>
</cp:coreProperties>
</file>