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AF196-FDA4-498E-8A55-F0487381A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42262-5E39-4790-BFCF-3E9DC47EB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9E83E-CCD1-43F4-99A2-C60CD3A28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4B431-6B5B-484C-B68F-5F0C60669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07794-E478-4B40-A5DA-8AABA02F6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E35C1-82D5-4010-BF91-99BB5487D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8C2D9-F201-4BE8-B970-FB748A1D4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BF817-BE31-4BB8-8386-A844EDD74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FAA7E-5270-44CF-B439-1DF0D3A4E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D6750-5144-449F-B65B-D1BDF5522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15292-F2F0-4E3A-B743-4086182D2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C3954-C7DD-4D97-B899-45AABB461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1AA52-F01F-43B1-9C78-BC201F8AE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6D75D-8D1D-4195-B090-8ED8D7694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B91DB-8A64-4ADC-A513-287602941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43EBB-9329-40B1-8589-348191DCCA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62E1E-4584-4938-9D0A-A373F4D53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27D804F-BD19-4F5C-B696-32DECB5A2C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7A5F83-72B5-4622-A889-F4BB3E37E2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3CE3C0-BB2A-4B4F-A32E-58B539FB9B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F5B56C-081A-4571-8D6B-5B10242835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40B481-D74C-4BF2-9B63-FF568B74A5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52DE0-A857-45E6-868B-01C55EB40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9DB459-CC94-489C-B858-63CEE29A26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9581F0-E52F-4BBA-A334-B7189116D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707AF9-C5C6-4894-9BEC-0FB6FC077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0AFBEC-3B18-4837-BBD7-F1EF6ABF0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A2671D3-7D7A-48F0-B643-67990152E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2A317AC-97BF-43FD-9EE4-A1424B5026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A703809-2AE2-4D01-A744-F0A239C468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2982BA-DE92-4252-AB9B-2FEDB4A770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3F6C8-AB39-4C79-8FF1-4A13F7AC7E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E8093A-036D-4EB5-8642-908AB70588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37942-EA0A-42D4-B9FC-A92A8318C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050FAA-1BB6-44E4-93F2-40DDFFAC0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1891C-444F-4527-A8CF-C9CB0C1ED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E954D-D9D4-4971-85F2-C9334B28B9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7E86E-21C0-4005-BD2C-97E147C1E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F6DA4-B4D1-44EF-925B-247B345FC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3C9F4-5F96-4C25-87B8-78EB44DC3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FE70A-7FF8-4B60-84B1-4A7D865DA5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832B77-C53F-48C8-8A93-AB36EEE1E0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1D55F8-EBC2-4EA8-AF86-629C964363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9C363-96CC-410E-AD54-8B742529C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9C6C9-7ED8-4F7D-8E7D-16D8C61E4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6234A-8B91-4575-B5A3-E2EDC8416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02D6-FD91-4346-8B29-8DF4368D2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24F28-0676-43AB-B516-A44795D52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1164-901A-4D7D-928A-7900BA9A501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Прямоугольник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Прямоугольник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Прямоугольник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Скругленный прямоугольник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Скругленный прямоугольник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Прямоугольник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Прямоугольник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Прямоугольник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Прямоугольник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B2D1-DEED-4824-8E86-BA33AD8B0AD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62C8-EFD0-4558-979F-B2860BE0FD0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6F4A-13D8-4DCC-ABB0-15E116A0455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300560" y="5013000"/>
            <a:ext cx="4843440" cy="1400040"/>
          </a:xfrm>
          <a:prstGeom prst="rect">
            <a:avLst/>
          </a:prstGeom>
          <a:noFill/>
          <a:ln w="0">
            <a:noFill/>
          </a:ln>
        </p:spPr>
        <p:txBody>
          <a:bodyPr lIns="90000" rIns="90000" tIns="46800" bIns="46800" anchor="t">
            <a:noAutofit/>
          </a:bodyPr>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424456"/>
                </a:solidFill>
                <a:latin typeface="Georgia"/>
              </a:rPr>
              <a:t>Презентацию выполнила:</a:t>
            </a:r>
            <a:endParaRPr b="0" lang="en-US" sz="23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424456"/>
                </a:solidFill>
                <a:latin typeface="Georgia"/>
              </a:rPr>
              <a:t>Ученица 4Б класса</a:t>
            </a:r>
            <a:endParaRPr b="0" lang="en-US" sz="23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424456"/>
                </a:solidFill>
                <a:latin typeface="Georgia"/>
              </a:rPr>
              <a:t>МБОУ Лицея №</a:t>
            </a:r>
            <a:r>
              <a:rPr b="0" lang="en-US" sz="2300" spc="-1" strike="noStrike">
                <a:solidFill>
                  <a:srgbClr val="424456"/>
                </a:solidFill>
                <a:latin typeface="Georgia"/>
              </a:rPr>
              <a:t> </a:t>
            </a:r>
            <a:r>
              <a:rPr b="0" lang="ru-RU" sz="2300" spc="-1" strike="noStrike">
                <a:solidFill>
                  <a:srgbClr val="424456"/>
                </a:solidFill>
                <a:latin typeface="Georgia"/>
              </a:rPr>
              <a:t>21</a:t>
            </a:r>
            <a:endParaRPr b="0" lang="en-US" sz="2300" spc="-1" strike="noStrike">
              <a:solidFill>
                <a:srgbClr val="000000"/>
              </a:solidFill>
              <a:latin typeface="Georgia"/>
            </a:endParaRPr>
          </a:p>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424456"/>
                </a:solidFill>
                <a:latin typeface="Georgia"/>
              </a:rPr>
              <a:t>Белоусова Мария</a:t>
            </a:r>
            <a:endParaRPr b="0" lang="en-US" sz="2300" spc="-1" strike="noStrike">
              <a:solidFill>
                <a:srgbClr val="000000"/>
              </a:solidFill>
              <a:latin typeface="Georgia"/>
            </a:endParaRPr>
          </a:p>
        </p:txBody>
      </p:sp>
      <p:sp>
        <p:nvSpPr>
          <p:cNvPr id="215" name=""/>
          <p:cNvSpPr txBox="1"/>
          <p:nvPr/>
        </p:nvSpPr>
        <p:spPr>
          <a:xfrm>
            <a:off x="1835280" y="765000"/>
            <a:ext cx="6200640" cy="254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резентация книги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В. Катаева «Сын полка»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360" y="998640"/>
            <a:ext cx="5257800" cy="5859360"/>
          </a:xfrm>
          <a:prstGeom prst="rect">
            <a:avLst/>
          </a:prstGeom>
          <a:noFill/>
          <a:ln w="0">
            <a:noFill/>
          </a:ln>
        </p:spPr>
        <p:txBody>
          <a:bodyPr lIns="90000" rIns="90000" tIns="46800" bIns="46800" anchor="t">
            <a:normAutofit fontScale="98000"/>
          </a:bodyPr>
          <a:p>
            <a:pPr marL="357480" indent="-250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Валентин Петрович Катаев родился в г. Одесса в семье учителя 28. 01. 1897 г. </a:t>
            </a:r>
            <a:endParaRPr b="0" lang="en-US" sz="2400" spc="-1" strike="noStrike">
              <a:solidFill>
                <a:srgbClr val="000000"/>
              </a:solidFill>
              <a:latin typeface="Georgia"/>
            </a:endParaRPr>
          </a:p>
          <a:p>
            <a:pPr marL="357480" indent="-250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За свою долгую творческую жизнь он написал много  талантливых произведений.</a:t>
            </a:r>
            <a:endParaRPr b="0" lang="en-US" sz="2400" spc="-1" strike="noStrike">
              <a:solidFill>
                <a:srgbClr val="000000"/>
              </a:solidFill>
              <a:latin typeface="Georgia"/>
            </a:endParaRPr>
          </a:p>
          <a:p>
            <a:pPr marL="357480" indent="-250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Книгу-повесть «Сын полка»  Валентин Петрович написал в годы ВОВ. На войне он был военным корреспондентом, ему очень часто приходилось выезжать на передовые позиции боевых действий. Катаев объясняет читателям, что многое ему пришлось повидать. Но больше всего он запомнил мальчиков – обездоленных, нищих, угрюмо шагавших по дорогам войны. </a:t>
            </a:r>
            <a:endParaRPr b="0" lang="en-US" sz="2400" spc="-1" strike="noStrike">
              <a:solidFill>
                <a:srgbClr val="000000"/>
              </a:solidFill>
              <a:latin typeface="Georgia"/>
            </a:endParaRPr>
          </a:p>
        </p:txBody>
      </p:sp>
      <p:pic>
        <p:nvPicPr>
          <p:cNvPr id="217" name="Picture 8" descr="Катаев В"/>
          <p:cNvPicPr/>
          <p:nvPr/>
        </p:nvPicPr>
        <p:blipFill>
          <a:blip r:embed="rId1"/>
          <a:srcRect l="9136" t="4150" r="5447" b="1678"/>
          <a:stretch/>
        </p:blipFill>
        <p:spPr>
          <a:xfrm>
            <a:off x="5572080" y="785880"/>
            <a:ext cx="3384720" cy="489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213840" y="785880"/>
            <a:ext cx="8929800" cy="55735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Вот таким, спящим в окопчике, нашли солдаты мальчика. Лицо его было покрыто царапинами и синяками. На переносице виднелся сгусток запёкшейся крови.</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19" name="Picture 2" descr="http://diafilmy.su/uploads/posts/2012-01/1326834633_11.jpg"/>
          <p:cNvPicPr/>
          <p:nvPr/>
        </p:nvPicPr>
        <p:blipFill>
          <a:blip r:embed="rId1"/>
          <a:srcRect l="5136" t="0" r="4452" b="27334"/>
          <a:stretch/>
        </p:blipFill>
        <p:spPr>
          <a:xfrm>
            <a:off x="1000080" y="2571840"/>
            <a:ext cx="6643800" cy="400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457200" y="928440"/>
            <a:ext cx="4114800" cy="564516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Солдаты хотели забрать малька к себе, как вдруг…  В палатку  вошёл сержант Егоров и сказал, что командир батареи приказал отправить мальчишку в тыл. </a:t>
            </a:r>
            <a:endParaRPr b="0" lang="en-US" sz="2800" spc="-1" strike="noStrike">
              <a:solidFill>
                <a:srgbClr val="000000"/>
              </a:solidFill>
              <a:latin typeface="Georgia"/>
            </a:endParaRPr>
          </a:p>
        </p:txBody>
      </p:sp>
      <p:pic>
        <p:nvPicPr>
          <p:cNvPr id="221" name="Picture 7" descr="Лаптев А"/>
          <p:cNvPicPr/>
          <p:nvPr/>
        </p:nvPicPr>
        <p:blipFill>
          <a:blip r:embed="rId1"/>
          <a:stretch/>
        </p:blipFill>
        <p:spPr>
          <a:xfrm>
            <a:off x="5286240" y="785880"/>
            <a:ext cx="3454560" cy="43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456840" y="928440"/>
            <a:ext cx="4900680" cy="56451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Мальчика отправили в тыл в сопровождении капитана Биденко. По дороге Ване дважды удалось сбежать и, после встречи с капитаном Енакиевым, его отправляют обратно в лагерь.</a:t>
            </a:r>
            <a:endParaRPr b="0" lang="en-US" sz="2800" spc="-1" strike="noStrike">
              <a:solidFill>
                <a:srgbClr val="000000"/>
              </a:solidFill>
              <a:latin typeface="Georgia"/>
            </a:endParaRPr>
          </a:p>
        </p:txBody>
      </p:sp>
      <p:pic>
        <p:nvPicPr>
          <p:cNvPr id="223" name="Picture 6" descr="Катаев Сын полка"/>
          <p:cNvPicPr/>
          <p:nvPr/>
        </p:nvPicPr>
        <p:blipFill>
          <a:blip r:embed="rId1"/>
          <a:srcRect l="17217" t="35984" r="11064" b="0"/>
          <a:stretch/>
        </p:blipFill>
        <p:spPr>
          <a:xfrm>
            <a:off x="5286240" y="1357200"/>
            <a:ext cx="354348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456840" y="642600"/>
            <a:ext cx="4257720" cy="593100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Georgia"/>
              </a:rPr>
              <a:t>Прошло время… Капитан Енакиев сам  лично решил воспитывать Ваню. Теперь Ваня находится не у разведчиков, а  на батарее капитана Енакиева, где стояли пушки. Капитан Енакиев прикомандировал Ваню к первому орудию первого взвода в качестве запасного номера.</a:t>
            </a:r>
            <a:endParaRPr b="0" lang="en-US" sz="2600" spc="-1" strike="noStrike">
              <a:solidFill>
                <a:srgbClr val="000000"/>
              </a:solidFill>
              <a:latin typeface="Georgia"/>
            </a:endParaRPr>
          </a:p>
        </p:txBody>
      </p:sp>
      <p:pic>
        <p:nvPicPr>
          <p:cNvPr id="225" name="Picture 8" descr="противотанковая пушка 45пятка"/>
          <p:cNvPicPr/>
          <p:nvPr/>
        </p:nvPicPr>
        <p:blipFill>
          <a:blip r:embed="rId1"/>
          <a:stretch/>
        </p:blipFill>
        <p:spPr>
          <a:xfrm>
            <a:off x="4606920" y="2060640"/>
            <a:ext cx="4316400" cy="258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0" y="836280"/>
            <a:ext cx="4284720" cy="5737320"/>
          </a:xfrm>
          <a:prstGeom prst="rect">
            <a:avLst/>
          </a:prstGeom>
          <a:noFill/>
          <a:ln w="0">
            <a:noFill/>
          </a:ln>
        </p:spPr>
        <p:txBody>
          <a:bodyPr lIns="90000" rIns="90000" tIns="46800" bIns="46800" anchor="t">
            <a:normAutofit fontScale="99000"/>
          </a:bodyPr>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800" spc="-1" strike="noStrike">
                <a:solidFill>
                  <a:srgbClr val="000000"/>
                </a:solidFill>
                <a:latin typeface="Georgia"/>
              </a:rPr>
              <a:t>Енакиев попытался отослать мальчика в тыл, но тот наотрез отказался. Тогда капитан пошёл на хитрость. Он что-то написал на клочке бумаги, вложил записку в конверт и велел Ване отнести послание начальнику штаба, на командный пункт дивизиона. </a:t>
            </a:r>
            <a:endParaRPr b="0" lang="en-US" sz="1800" spc="-1" strike="noStrike">
              <a:solidFill>
                <a:srgbClr val="000000"/>
              </a:solidFill>
              <a:latin typeface="Georgia"/>
            </a:endParaRPr>
          </a:p>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r>
              <a:rPr b="0" lang="ru-RU" sz="1800" spc="-1" strike="noStrike">
                <a:solidFill>
                  <a:srgbClr val="000000"/>
                </a:solidFill>
                <a:latin typeface="Georgia"/>
              </a:rPr>
              <a:t>Доставив пакет, Ваня вернулся назад. Он не знал, что все уже кончено — немцы продолжали наседать, и капитан Енакиев «вызвал огонь батарей дивизиона на себя». Погиб весь расчёт первого орудия, в том числе и капитан. Перед гибелью Енакиев успел написать письмо, в котором прощался со всей батареей, и просил похоронить себя в родной земле. Попросил он озаботиться и о Ване, сделать из него хорошего солдата и достойного офицера. </a:t>
            </a:r>
            <a:endParaRPr b="0" lang="en-US" sz="1800" spc="-1" strike="noStrike">
              <a:solidFill>
                <a:srgbClr val="000000"/>
              </a:solidFill>
              <a:latin typeface="Georgia"/>
            </a:endParaRPr>
          </a:p>
        </p:txBody>
      </p:sp>
      <p:pic>
        <p:nvPicPr>
          <p:cNvPr id="227" name="Picture 2" descr="http://img11.nnm.me/c/6/e/a/e/65cc44f9ff4c3e416ede57bffd3.jpg"/>
          <p:cNvPicPr/>
          <p:nvPr/>
        </p:nvPicPr>
        <p:blipFill>
          <a:blip r:embed="rId1"/>
          <a:stretch/>
        </p:blipFill>
        <p:spPr>
          <a:xfrm>
            <a:off x="4356000" y="981000"/>
            <a:ext cx="4537080" cy="489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250920" y="1413000"/>
            <a:ext cx="4171680" cy="465768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сьбы Енакиева выполнили. После торжественных похорон ефрейтор Биденко отвёз Ваню Солнцева на учёбу в суворовское училище одного старинного русского города. </a:t>
            </a:r>
            <a:endParaRPr b="0" lang="en-US" sz="2400" spc="-1" strike="noStrike">
              <a:solidFill>
                <a:srgbClr val="000000"/>
              </a:solidFill>
              <a:latin typeface="Georgia"/>
            </a:endParaRPr>
          </a:p>
        </p:txBody>
      </p:sp>
      <p:graphicFrame>
        <p:nvGraphicFramePr>
          <p:cNvPr id="229" name="Текст 12"/>
          <p:cNvGraphicFramePr/>
          <p:nvPr/>
        </p:nvGraphicFramePr>
        <p:xfrm>
          <a:off x="4932360" y="1052640"/>
          <a:ext cx="3672000" cy="5332320"/>
        </p:xfrm>
        <a:graphic>
          <a:graphicData uri="http://schemas.openxmlformats.org/presentationml/2006/ole">
            <p:oleObj r:id="rId1" spid="">
              <p:embed/>
              <p:pic>
                <p:nvPicPr>
                  <p:cNvPr id="230" name="Текст 12" descr=""/>
                  <p:cNvPicPr/>
                  <p:nvPr/>
                </p:nvPicPr>
                <p:blipFill>
                  <a:blip r:embed="rId2"/>
                  <a:stretch/>
                </p:blipFill>
                <p:spPr>
                  <a:xfrm>
                    <a:off x="4932360" y="1052640"/>
                    <a:ext cx="3672000" cy="53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684360" y="2349360"/>
            <a:ext cx="7775280" cy="208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пасибо за вним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5T19:47:50Z</dcterms:created>
  <dc:creator>Andrew</dc:creator>
  <dc:description/>
  <dc:language>en-US</dc:language>
  <cp:lastModifiedBy>Татьяна Белоусова</cp:lastModifiedBy>
  <dcterms:modified xsi:type="dcterms:W3CDTF">2014-12-16T13:18:14Z</dcterms:modified>
  <cp:revision>8</cp:revision>
  <dc:subject/>
  <dc:title>Презентация книги  В. Катаева «Сын полка» </dc:title>
</cp:coreProperties>
</file>