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CAB-A7E1-4660-9E43-477BD114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3C0-3789-43A4-9C5E-3438AEDF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88E-FCA6-4AE7-9BA0-5DEA1759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220-2BFD-4C34-891E-F16C8AC9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B73-91E4-4B34-AB7D-B2B59960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9F1-1157-4F70-93F3-1C13A98E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F6F-C67A-4F19-88A0-54C540D8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2C1-917E-47E4-BC35-06C533EA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0BF-77C5-4E38-91D7-A0C6644E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F93-4A0E-400F-B539-64768F00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DD4-004B-4890-94A8-6F9EF728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831-B331-4CDB-BDD8-4B307E0B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FB45-6126-4165-83DC-982B19830D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63128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222268"/>
                </a:solidFill>
                <a:latin typeface="Arial"/>
              </a:rPr>
              <a:t>Центральные и вписанные уг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42920" y="5076360"/>
            <a:ext cx="6049800" cy="12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уче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052a"/>
          <p:cNvPicPr/>
          <p:nvPr/>
        </p:nvPicPr>
        <p:blipFill>
          <a:blip r:embed="rId1"/>
          <a:stretch/>
        </p:blipFill>
        <p:spPr>
          <a:xfrm>
            <a:off x="971640" y="3213000"/>
            <a:ext cx="31320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2268"/>
                </a:solidFill>
                <a:latin typeface="Arial"/>
              </a:rPr>
              <a:t>Какие углы являются центральными углами окружности с центром 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4"/>
          <p:cNvSpPr/>
          <p:nvPr/>
        </p:nvSpPr>
        <p:spPr>
          <a:xfrm>
            <a:off x="1476360" y="1989000"/>
            <a:ext cx="2951280" cy="25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2340000" y="206064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 flipH="1">
            <a:off x="2195280" y="2133720"/>
            <a:ext cx="143964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 flipH="1">
            <a:off x="3564000" y="2133720"/>
            <a:ext cx="7128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1116000" y="2781360"/>
            <a:ext cx="151128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564000" y="1792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473640" y="438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2034000" y="431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1241280" y="3089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2105280" y="179244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2825640" y="2800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052a"/>
          <p:cNvPicPr/>
          <p:nvPr/>
        </p:nvPicPr>
        <p:blipFill>
          <a:blip r:embed="rId1"/>
          <a:stretch/>
        </p:blipFill>
        <p:spPr>
          <a:xfrm>
            <a:off x="5210280" y="3716280"/>
            <a:ext cx="3267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Точка О- центр окружности, угол АОВ=95</a:t>
            </a:r>
            <a:r>
              <a:rPr b="1" i="1" lang="en-US" sz="3600" spc="-1" strike="noStrike">
                <a:solidFill>
                  <a:srgbClr val="222268"/>
                </a:solidFill>
                <a:latin typeface="Arial"/>
                <a:ea typeface="Arial"/>
              </a:rPr>
              <a:t>°</a:t>
            </a:r>
            <a:r>
              <a:rPr b="1" i="1" lang="ru-RU" sz="3600" spc="-1" strike="noStrike">
                <a:solidFill>
                  <a:srgbClr val="222268"/>
                </a:solidFill>
                <a:latin typeface="Arial"/>
                <a:ea typeface="Arial"/>
              </a:rPr>
              <a:t>, дуга АВ=АД. Найдите градусную меру угла 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1835280" y="2205000"/>
            <a:ext cx="3673440" cy="31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3203640" y="2276640"/>
            <a:ext cx="50472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635280" y="3789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H="1">
            <a:off x="2195640" y="3789360"/>
            <a:ext cx="1512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1835280" y="321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363528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689280" y="3521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129640" y="467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034000" y="46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2897280" y="19368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348000" y="40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474000" y="4024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2119320"/>
            <a:ext cx="692316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5" descr="052a"/>
          <p:cNvPicPr/>
          <p:nvPr/>
        </p:nvPicPr>
        <p:blipFill>
          <a:blip r:embed="rId1"/>
          <a:stretch/>
        </p:blipFill>
        <p:spPr>
          <a:xfrm>
            <a:off x="5796000" y="3789360"/>
            <a:ext cx="30240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2268"/>
                </a:solidFill>
                <a:latin typeface="Arial"/>
              </a:rPr>
              <a:t>Какие из углов являются вписанны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2268360" y="2133720"/>
            <a:ext cx="3527640" cy="33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2556000" y="2852640"/>
            <a:ext cx="482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 flipV="1">
            <a:off x="3419640" y="3213000"/>
            <a:ext cx="396072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V="1">
            <a:off x="3419640" y="3141720"/>
            <a:ext cx="223200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556000" y="2852640"/>
            <a:ext cx="3240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2411280" y="3141720"/>
            <a:ext cx="93672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 flipH="1">
            <a:off x="1332000" y="3141720"/>
            <a:ext cx="107928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2394360" y="244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5561280" y="265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705640" y="395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7361280" y="294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4067280" y="3789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3708360" y="3665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3278160" y="5300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2050920" y="2873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1097280" y="44560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5" descr="052a"/>
          <p:cNvPicPr/>
          <p:nvPr/>
        </p:nvPicPr>
        <p:blipFill>
          <a:blip r:embed="rId1"/>
          <a:stretch/>
        </p:blipFill>
        <p:spPr>
          <a:xfrm>
            <a:off x="5934240" y="4581360"/>
            <a:ext cx="3025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2268"/>
                </a:solidFill>
                <a:latin typeface="Arial"/>
              </a:rPr>
              <a:t>Найдите угол ВДО, </a:t>
            </a:r>
            <a:br>
              <a:rPr sz="4000"/>
            </a:br>
            <a:r>
              <a:rPr b="1" i="1" lang="ru-RU" sz="4000" spc="-1" strike="noStrike">
                <a:solidFill>
                  <a:srgbClr val="222268"/>
                </a:solidFill>
                <a:latin typeface="Arial"/>
              </a:rPr>
              <a:t>если дуга ВДО = 160 </a:t>
            </a:r>
            <a:r>
              <a:rPr b="1" i="1" lang="en-US" sz="4000" spc="-1" strike="noStrike">
                <a:solidFill>
                  <a:srgbClr val="222268"/>
                </a:solidFill>
                <a:latin typeface="Arial"/>
                <a:ea typeface="Arial"/>
              </a:rPr>
              <a:t>°</a:t>
            </a:r>
            <a:r>
              <a:rPr b="1" i="1" lang="ru-RU" sz="4000" spc="-1" strike="noStrike">
                <a:solidFill>
                  <a:srgbClr val="222268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2627280" y="2276640"/>
            <a:ext cx="3457440" cy="32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 flipV="1">
            <a:off x="2771640" y="2349360"/>
            <a:ext cx="223200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4932360" y="2349360"/>
            <a:ext cx="115236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394360" y="438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842000" y="19368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137280" y="3592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5" descr="052a"/>
          <p:cNvPicPr/>
          <p:nvPr/>
        </p:nvPicPr>
        <p:blipFill>
          <a:blip r:embed="rId1"/>
          <a:stretch/>
        </p:blipFill>
        <p:spPr>
          <a:xfrm>
            <a:off x="6084720" y="4751280"/>
            <a:ext cx="246384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Найдите два вписанных угла, которые опираются на одну дуг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2124000" y="2205000"/>
            <a:ext cx="2879640" cy="27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 flipV="1">
            <a:off x="2411280" y="2349360"/>
            <a:ext cx="172908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4140360" y="2349360"/>
            <a:ext cx="7128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2124000" y="2565000"/>
            <a:ext cx="2448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H="1">
            <a:off x="2411280" y="2565360"/>
            <a:ext cx="2160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V="1">
            <a:off x="2411280" y="2781360"/>
            <a:ext cx="2376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4211640" y="2781360"/>
            <a:ext cx="504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769280" y="258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194360" y="467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2033640" y="424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121280" y="19368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481280" y="22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217836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1889280" y="330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5" descr="052a"/>
          <p:cNvPicPr/>
          <p:nvPr/>
        </p:nvPicPr>
        <p:blipFill>
          <a:blip r:embed="rId1"/>
          <a:stretch/>
        </p:blipFill>
        <p:spPr>
          <a:xfrm>
            <a:off x="5865840" y="3687840"/>
            <a:ext cx="309888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0:35:40Z</dcterms:created>
  <dc:creator>Балабина </dc:creator>
  <dc:description/>
  <dc:language>en-US</dc:language>
  <cp:lastModifiedBy>Алла</cp:lastModifiedBy>
  <dcterms:modified xsi:type="dcterms:W3CDTF">2015-01-31T16:40:07Z</dcterms:modified>
  <cp:revision>6</cp:revision>
  <dc:subject/>
  <dc:title>Центральные и вписанные угла</dc:title>
</cp:coreProperties>
</file>