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69A-B5A3-4689-9F2C-16473A87E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DBD-1175-4259-B702-C977AD3F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E68-DD5A-4CA9-9A16-8538243C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0C88-8778-4778-873F-7141B6E0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2F7-E77F-46E6-AB74-66E1E9AD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CDD9-9950-4A64-AAA3-73FB8668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846-46D6-48D1-BD12-31C75AE3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9F6-A3B5-4510-B661-446BC0D6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2F0-DCBD-480F-9A96-F237D76A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F7C-F101-4FD9-A7A9-5169F8D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EC7-83D9-4D2A-BF64-4BC6D805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EEA-68D7-47C6-8EFB-76EC0DE4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29E9-700A-4602-A4E6-541AB9EB2A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765000"/>
            <a:ext cx="763128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222268"/>
                </a:solidFill>
                <a:latin typeface="Arial"/>
              </a:rPr>
              <a:t>Центральные и вписанные уг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42920" y="5076360"/>
            <a:ext cx="6049800" cy="12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ла уче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052a"/>
          <p:cNvPicPr/>
          <p:nvPr/>
        </p:nvPicPr>
        <p:blipFill>
          <a:blip r:embed="rId1"/>
          <a:stretch/>
        </p:blipFill>
        <p:spPr>
          <a:xfrm>
            <a:off x="971640" y="3213000"/>
            <a:ext cx="31320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Какие углы являются центральными углами окружности с центром 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4"/>
          <p:cNvSpPr/>
          <p:nvPr/>
        </p:nvSpPr>
        <p:spPr>
          <a:xfrm>
            <a:off x="1476360" y="1989000"/>
            <a:ext cx="2951280" cy="25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2340000" y="2060640"/>
            <a:ext cx="122400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2195280" y="2133720"/>
            <a:ext cx="1439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7"/>
          <p:cNvSpPr/>
          <p:nvPr/>
        </p:nvSpPr>
        <p:spPr>
          <a:xfrm flipH="1">
            <a:off x="3564000" y="2133720"/>
            <a:ext cx="7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1116000" y="2781360"/>
            <a:ext cx="151128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564000" y="1792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473640" y="438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2034000" y="431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241280" y="3089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2105280" y="179244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825640" y="2800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052a"/>
          <p:cNvPicPr/>
          <p:nvPr/>
        </p:nvPicPr>
        <p:blipFill>
          <a:blip r:embed="rId1"/>
          <a:stretch/>
        </p:blipFill>
        <p:spPr>
          <a:xfrm>
            <a:off x="5210280" y="3716280"/>
            <a:ext cx="3267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222268"/>
                </a:solidFill>
                <a:latin typeface="Arial"/>
              </a:rPr>
              <a:t>Точка О- центр окружности, угол АОВ=95</a:t>
            </a:r>
            <a:r>
              <a:rPr b="1" i="1" lang="en-US" sz="3600" spc="-1" strike="noStrike">
                <a:solidFill>
                  <a:srgbClr val="222268"/>
                </a:solidFill>
                <a:latin typeface="Arial"/>
                <a:ea typeface="Arial"/>
              </a:rPr>
              <a:t>°</a:t>
            </a:r>
            <a:r>
              <a:rPr b="1" i="1" lang="ru-RU" sz="3600" spc="-1" strike="noStrike">
                <a:solidFill>
                  <a:srgbClr val="222268"/>
                </a:solidFill>
                <a:latin typeface="Arial"/>
                <a:ea typeface="Arial"/>
              </a:rPr>
              <a:t>, дуга АВ=АД. Найдите градусную меру угла 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1835280" y="2205000"/>
            <a:ext cx="367344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3203640" y="2276640"/>
            <a:ext cx="50472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3635280" y="3789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 flipH="1">
            <a:off x="2195640" y="3789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183528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>
            <a:off x="3635280" y="522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689280" y="3521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2964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2034000" y="460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2897280" y="1936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4"/>
          <p:cNvSpPr/>
          <p:nvPr/>
        </p:nvSpPr>
        <p:spPr>
          <a:xfrm>
            <a:off x="3348000" y="4005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3474000" y="4024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2119320"/>
            <a:ext cx="692316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052a"/>
          <p:cNvPicPr/>
          <p:nvPr/>
        </p:nvPicPr>
        <p:blipFill>
          <a:blip r:embed="rId1"/>
          <a:stretch/>
        </p:blipFill>
        <p:spPr>
          <a:xfrm>
            <a:off x="5796000" y="3789360"/>
            <a:ext cx="3024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Какие из углов являются вписанным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"/>
          <p:cNvSpPr/>
          <p:nvPr/>
        </p:nvSpPr>
        <p:spPr>
          <a:xfrm>
            <a:off x="2268360" y="2133720"/>
            <a:ext cx="3527640" cy="33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2556000" y="2852640"/>
            <a:ext cx="4824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 flipV="1">
            <a:off x="3419640" y="3213000"/>
            <a:ext cx="396072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V="1">
            <a:off x="3419640" y="3141720"/>
            <a:ext cx="22320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2556000" y="2852640"/>
            <a:ext cx="324000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411280" y="3141720"/>
            <a:ext cx="93672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 flipH="1">
            <a:off x="1332000" y="3141720"/>
            <a:ext cx="107928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394360" y="244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561280" y="265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705640" y="3952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7361280" y="2944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6"/>
          <p:cNvSpPr/>
          <p:nvPr/>
        </p:nvSpPr>
        <p:spPr>
          <a:xfrm>
            <a:off x="4067280" y="378936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3708360" y="3665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"/>
          <p:cNvSpPr/>
          <p:nvPr/>
        </p:nvSpPr>
        <p:spPr>
          <a:xfrm>
            <a:off x="3278160" y="5300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0"/>
          <p:cNvSpPr/>
          <p:nvPr/>
        </p:nvSpPr>
        <p:spPr>
          <a:xfrm>
            <a:off x="2050920" y="28735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1097280" y="445608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5" descr="052a"/>
          <p:cNvPicPr/>
          <p:nvPr/>
        </p:nvPicPr>
        <p:blipFill>
          <a:blip r:embed="rId1"/>
          <a:stretch/>
        </p:blipFill>
        <p:spPr>
          <a:xfrm>
            <a:off x="5934240" y="4581360"/>
            <a:ext cx="3025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Найдите угол ВДО, </a:t>
            </a:r>
            <a:br>
              <a:rPr sz="4000"/>
            </a:b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если дуга ВДО = 160 </a:t>
            </a:r>
            <a:r>
              <a:rPr b="1" i="1" lang="en-US" sz="4000" spc="-1" strike="noStrike">
                <a:solidFill>
                  <a:srgbClr val="222268"/>
                </a:solidFill>
                <a:latin typeface="Arial"/>
                <a:ea typeface="Arial"/>
              </a:rPr>
              <a:t>°</a:t>
            </a:r>
            <a:r>
              <a:rPr b="1" i="1" lang="ru-RU" sz="4000" spc="-1" strike="noStrike">
                <a:solidFill>
                  <a:srgbClr val="222268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2627280" y="2276640"/>
            <a:ext cx="3457440" cy="32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 flipV="1">
            <a:off x="2771640" y="2349360"/>
            <a:ext cx="223200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"/>
          <p:cNvSpPr/>
          <p:nvPr/>
        </p:nvSpPr>
        <p:spPr>
          <a:xfrm>
            <a:off x="4932360" y="2349360"/>
            <a:ext cx="115236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394360" y="438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42000" y="1936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6137280" y="3592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5" descr="052a"/>
          <p:cNvPicPr/>
          <p:nvPr/>
        </p:nvPicPr>
        <p:blipFill>
          <a:blip r:embed="rId1"/>
          <a:stretch/>
        </p:blipFill>
        <p:spPr>
          <a:xfrm>
            <a:off x="6084720" y="4751280"/>
            <a:ext cx="246384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22268"/>
                </a:solidFill>
                <a:latin typeface="Arial"/>
              </a:rPr>
              <a:t>Найдите два вписанных угла, которые опираются на одну дуг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4"/>
          <p:cNvSpPr/>
          <p:nvPr/>
        </p:nvSpPr>
        <p:spPr>
          <a:xfrm>
            <a:off x="2124000" y="2205000"/>
            <a:ext cx="2879640" cy="27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 flipV="1">
            <a:off x="2411280" y="2349360"/>
            <a:ext cx="172908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140360" y="2349360"/>
            <a:ext cx="7128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"/>
          <p:cNvSpPr/>
          <p:nvPr/>
        </p:nvSpPr>
        <p:spPr>
          <a:xfrm flipV="1">
            <a:off x="2124000" y="2565000"/>
            <a:ext cx="244800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 flipH="1">
            <a:off x="2411280" y="2565360"/>
            <a:ext cx="21607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V="1">
            <a:off x="2411280" y="2781360"/>
            <a:ext cx="2376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211640" y="2781360"/>
            <a:ext cx="50472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769280" y="258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194360" y="4673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2033640" y="424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4121280" y="19368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481280" y="222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217836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889280" y="3305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5" descr="052a"/>
          <p:cNvPicPr/>
          <p:nvPr/>
        </p:nvPicPr>
        <p:blipFill>
          <a:blip r:embed="rId1"/>
          <a:stretch/>
        </p:blipFill>
        <p:spPr>
          <a:xfrm>
            <a:off x="5865840" y="3687840"/>
            <a:ext cx="309888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00:35:40Z</dcterms:created>
  <dc:creator>Балабина </dc:creator>
  <dc:description/>
  <dc:language>en-US</dc:language>
  <cp:lastModifiedBy>Алла</cp:lastModifiedBy>
  <dcterms:modified xsi:type="dcterms:W3CDTF">2015-01-31T16:40:07Z</dcterms:modified>
  <cp:revision>6</cp:revision>
  <dc:subject/>
  <dc:title>Центральные и вписанные угла</dc:title>
</cp:coreProperties>
</file>