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gif" ContentType="image/gif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874F-F0E7-4797-92FB-E461CF5BD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C3CF-505C-4A38-91BD-7B9BCB18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BB91-592A-4C8B-8F22-0ECB3488F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CD06-8339-47E7-971A-F81B0607A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5F1B-E187-4EDD-8238-BA71FCD8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05FA-43B4-4A6D-9AF9-12D3C89F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46A0-5822-4924-ACEC-A4CCDBB1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EBAE-FA4A-40AE-B8E5-55DDE735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4184-A6E6-4032-8182-AE29BD8A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677C-2A69-4F59-93FB-FD885382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D4C2-8361-4D63-9057-101D4FD4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1412-47E7-4A50-BD5E-40F1EB43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369F-21F6-425C-991F-FD4F97B3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A6B3-EBCB-4EA9-948E-9A650A9B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0C92-3930-4BF6-BDC0-9707A387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FA30-EE6F-4047-9191-662A8FA3F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743E-8C05-4664-A05F-0A3438D0C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152D6-851E-49F4-8821-E8E402AE9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0FC41-9C3A-4DF3-B567-E557F8BF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AD709-D167-403F-BBC9-4009A38E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29018-6320-4CE8-9E6B-BF8B1117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FA65E-C4E0-4675-921C-DBAB8CFE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7248-98E2-431C-93C9-EC4FCA09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557E9-DFBC-434D-82F7-4FDFD487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AFBFC-3900-40FF-8FCA-FC576FA0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5F259-2300-4287-95D8-114E70F6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71961-9BA8-4A8F-871B-14A335F8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4B5E8-AFEC-4418-B20D-6298AE2B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4433A-ED37-42BA-93A6-3DB28FA1C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2B8B2-417F-456E-958A-82A99F457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97C01-B89C-40E6-9AC7-A4686CFBA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38529-A1DD-46C3-B38F-6419CC0D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62BB3-F8A3-4D40-B9B6-2B110C56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89D0-AC12-4F3C-83C8-FA605BF2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E2DB7-D1AF-456E-AADB-ADF26C8C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B463D-F314-4CB1-AED6-0C44B3F7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B63F6-70CB-4AB5-910D-410CBF1F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BC72E-94F3-4843-9137-8D40CB82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1FE47-E169-42BC-894A-CBEEF16F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6A4E1-E403-483F-B0C3-F12A7A5A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A0695-AA9E-4A77-9DEE-5F181D52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C4A88-7E02-4FF7-802B-775C747B2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F81D8-C15B-4EC4-8B0D-046B94A82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DEBF8-EF6C-4272-A507-B5CB13DC5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3B44-B1E7-4C4A-AFD2-52A0ADAC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419B8-B51E-4825-91D3-0C1A8A17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1411B-484C-42B8-B64F-7A1B64CB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2E8D1-E599-4025-8C64-D3A67D6C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262C1-D530-47A4-944F-136884CA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C01CB-E2ED-4CD0-A9DF-59431A28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A8E58-1D52-45FB-9B1E-6E48360A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867E0-90A5-481D-A657-D38408B3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DA20A-8A14-409E-A19F-C9BE2B25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F7C78-F36D-473E-A2AB-9BA67EF8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684FB-238E-4B5B-A7DF-44E0D0F91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3825-A635-454C-B339-72F887F6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176E5-F51F-4D6D-99BE-C07F54899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1FFCC-920C-492D-A21F-AF208CECF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CD233-893A-4579-8C68-DE0873B8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6AB93-1170-47AC-82E4-E4836C4A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D2DC9-FB34-4121-A312-2D2445BF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54D03-3C0E-4C3D-8AF7-F5A0B482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44423-035E-4387-A2E0-AE6AF8EA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B5BD6-7963-4791-BE68-E34ADEE0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DB0F8-B787-4285-B27E-47E7AD94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02EEC-A0BD-4EA5-83AA-3DBD0D45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AF33-4923-4FF2-A4D9-299A7EA3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6015F-7F2D-4A0A-8BFC-9FE6F627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5416B-938A-4617-9EB3-07B154A9E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1A4C1-D8F2-4ED7-A922-987B3A8F0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6BF71-7D71-406A-B071-022132F07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0D93A-7ACB-4EF2-979B-720A9D05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FE072-6016-4AF3-9B19-CA3DD516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13FA5-7372-4F90-9873-80D7B2F4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6E88B-5455-498E-B37D-67B01362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5831D-3B0A-443B-8B7C-08B07C95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0E17B-AB6F-4354-8B9A-763812CC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3F77-6B49-47DD-8CA6-F5DAAEDD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FB11D-9EA8-4B87-847D-4857B20A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4F231-C000-4F8F-B4AD-3FC7A0AC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1DDB5-E81E-44B1-87ED-B168C7FE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C4206-F574-485B-93BD-86175ED92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5F9AC-493E-4BFE-8E62-165674799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8F6C-F536-4C12-8A5C-0CB4AD98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uchportal.ru/load/26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hyperlink" Target="http://www.uchportal.ru/load/26" TargetMode="External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D84A-1FE6-4271-BE78-FD99D680AC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46"/>
          <p:cNvSpPr/>
          <p:nvPr/>
        </p:nvSpPr>
        <p:spPr>
          <a:xfrm flipH="1">
            <a:off x="2086920" y="6453360"/>
            <a:ext cx="6948360" cy="36036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48"/>
          <p:cNvSpPr/>
          <p:nvPr/>
        </p:nvSpPr>
        <p:spPr>
          <a:xfrm flipV="1">
            <a:off x="1908000" y="6453000"/>
            <a:ext cx="0" cy="36036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57"/>
          <p:cNvSpPr/>
          <p:nvPr/>
        </p:nvSpPr>
        <p:spPr>
          <a:xfrm flipH="1">
            <a:off x="2050200" y="6453360"/>
            <a:ext cx="71640" cy="360360"/>
          </a:xfrm>
          <a:prstGeom prst="rect">
            <a:avLst/>
          </a:prstGeom>
          <a:solidFill>
            <a:srgbClr val="e3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55"/>
          <p:cNvSpPr/>
          <p:nvPr/>
        </p:nvSpPr>
        <p:spPr>
          <a:xfrm>
            <a:off x="1440" y="189000"/>
            <a:ext cx="914256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129"/>
          <p:cNvSpPr/>
          <p:nvPr/>
        </p:nvSpPr>
        <p:spPr>
          <a:xfrm flipV="1">
            <a:off x="108000" y="6453000"/>
            <a:ext cx="0" cy="36036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54"/>
          <p:cNvSpPr/>
          <p:nvPr/>
        </p:nvSpPr>
        <p:spPr>
          <a:xfrm>
            <a:off x="108000" y="306360"/>
            <a:ext cx="8567640" cy="9828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131"/>
          <p:cNvSpPr/>
          <p:nvPr/>
        </p:nvSpPr>
        <p:spPr>
          <a:xfrm flipH="1">
            <a:off x="108000" y="260280"/>
            <a:ext cx="864072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32" descr="rabo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0"/>
            <a:ext cx="1225800" cy="1225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1628640"/>
            <a:ext cx="9144000" cy="3240360"/>
          </a:xfrm>
          <a:prstGeom prst="rect">
            <a:avLst/>
          </a:prstGeom>
          <a:gradFill rotWithShape="0">
            <a:gsLst>
              <a:gs pos="0">
                <a:srgbClr val="71c4f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1628640"/>
            <a:ext cx="9144000" cy="3529080"/>
          </a:xfrm>
          <a:prstGeom prst="rect">
            <a:avLst/>
          </a:prstGeom>
          <a:blipFill rotWithShape="0">
            <a:blip r:embed="rId2">
              <a:alphaModFix amt="4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solidFill>
            <a:srgbClr val="244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0" y="5156280"/>
            <a:ext cx="9144000" cy="144360"/>
          </a:xfrm>
          <a:prstGeom prst="rect">
            <a:avLst/>
          </a:prstGeom>
          <a:solidFill>
            <a:srgbClr val="244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>
            <a:off x="755640" y="2421000"/>
            <a:ext cx="756144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5" descr="GEARS4"/>
          <p:cNvPicPr/>
          <p:nvPr/>
        </p:nvPicPr>
        <p:blipFill>
          <a:blip r:embed="rId3"/>
          <a:stretch/>
        </p:blipFill>
        <p:spPr>
          <a:xfrm>
            <a:off x="7812000" y="260280"/>
            <a:ext cx="1017720" cy="1068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7" descr="rabo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3860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4" descr="06"/>
          <p:cNvPicPr/>
          <p:nvPr/>
        </p:nvPicPr>
        <p:blipFill>
          <a:blip r:embed="rId6"/>
          <a:stretch/>
        </p:blipFill>
        <p:spPr>
          <a:xfrm>
            <a:off x="826920" y="5300640"/>
            <a:ext cx="1081080" cy="717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D5DE-97DA-46B4-83EC-47AA884F2C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9DC8-6165-41B9-BB46-A7969DB05B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DC7C-C3F7-4DE0-A73C-2E786C2C53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43E1-9397-4542-B59F-FB94161FD9CA}" type="slidenum">
              <a:rPr b="0" lang="en-US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98D0-EE5D-469C-8A0D-5E423F0672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9156-AC94-4F77-9459-53A7CBDC57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2924280"/>
            <a:ext cx="766764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 u="sng">
                <a:solidFill>
                  <a:srgbClr val="c00000"/>
                </a:solidFill>
                <a:uFillTx/>
                <a:latin typeface="Calibri Light"/>
              </a:rPr>
              <a:t>Отличный способ привлечь знания… учиться!</a:t>
            </a:r>
            <a:br>
              <a:rPr sz="4300"/>
            </a:b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211640" y="5373360"/>
            <a:ext cx="4248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37052"/>
                </a:solidFill>
                <a:latin typeface="Calibri Light"/>
              </a:rPr>
              <a:t>ПРЕЗЕНТАЦИЮ ПОДГОТОВИЛА УЧИТЕЛЬ МАТЕМАТИКИ МБОУ «ЗСОШ №6» 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37052"/>
                </a:solidFill>
                <a:latin typeface="Calibri Light"/>
              </a:rPr>
              <a:t>РОГОЖНИКОВА АННА ИВАНОВНА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Прямоугольник 2"/>
          <p:cNvSpPr/>
          <p:nvPr/>
        </p:nvSpPr>
        <p:spPr>
          <a:xfrm>
            <a:off x="2277000" y="452520"/>
            <a:ext cx="462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f7b63"/>
                </a:solidFill>
                <a:latin typeface="Arial"/>
              </a:rPr>
              <a:t>Эпиграф к уро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604000" y="-6081120"/>
            <a:ext cx="82440" cy="68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 algn="ctr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404040"/>
                </a:solidFill>
                <a:latin typeface="Calibri"/>
              </a:rPr>
              <a:t>3(2х-5) =</a:t>
            </a:r>
            <a:endParaRPr b="0" lang="en-US" sz="41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ru-RU" sz="4100" spc="-1" strike="noStrike">
                <a:solidFill>
                  <a:srgbClr val="404040"/>
                </a:solidFill>
                <a:latin typeface="Calibri"/>
              </a:rPr>
              <a:t>=3*2х-3*5=</a:t>
            </a:r>
            <a:endParaRPr b="0" lang="en-US" sz="41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404040"/>
                </a:solidFill>
                <a:latin typeface="Calibri"/>
              </a:rPr>
              <a:t>=6х-15</a:t>
            </a:r>
            <a:endParaRPr b="0" lang="en-US" sz="41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404040"/>
                </a:solidFill>
                <a:latin typeface="Calibri"/>
              </a:rPr>
              <a:t>Чтобы умножить одночлен на многочлен, нужно умножить этот одночлен на каждый член многочлена и полученные произведения сложить.</a:t>
            </a:r>
            <a:endParaRPr b="0" lang="en-US" sz="41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2998e3"/>
                </a:solidFill>
                <a:latin typeface="Calibri"/>
              </a:rPr>
              <a:t>   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900000" y="4794120"/>
            <a:ext cx="7632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6" descr="algebra_md_wht"/>
          <p:cNvPicPr/>
          <p:nvPr/>
        </p:nvPicPr>
        <p:blipFill>
          <a:blip r:embed="rId1"/>
          <a:stretch/>
        </p:blipFill>
        <p:spPr>
          <a:xfrm>
            <a:off x="7893000" y="5499000"/>
            <a:ext cx="1143000" cy="6667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 Light"/>
              </a:rPr>
              <a:t>ПРИМЕР 1:</a:t>
            </a:r>
            <a:br>
              <a:rPr sz="3200"/>
            </a:b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4"/>
          <p:cNvSpPr/>
          <p:nvPr/>
        </p:nvSpPr>
        <p:spPr>
          <a:xfrm>
            <a:off x="755640" y="1557360"/>
            <a:ext cx="770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множим одночлен</a:t>
            </a:r>
            <a:r>
              <a:rPr b="1" i="1" lang="ru-RU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-3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y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i="1" lang="ru-RU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многочлен   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y+4xy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684360" y="2924280"/>
            <a:ext cx="784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998e3"/>
                </a:solidFill>
                <a:latin typeface="Arial"/>
              </a:rPr>
              <a:t>-3</a:t>
            </a:r>
            <a:r>
              <a:rPr b="1" i="1" lang="en-US" sz="3600" spc="-1" strike="noStrike">
                <a:solidFill>
                  <a:srgbClr val="2998e3"/>
                </a:solidFill>
                <a:latin typeface="Arial"/>
              </a:rPr>
              <a:t>xy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∙(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y+4xy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-1)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755640" y="3933720"/>
            <a:ext cx="806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998e3"/>
                </a:solidFill>
                <a:latin typeface="Arial"/>
              </a:rPr>
              <a:t>=-3</a:t>
            </a:r>
            <a:r>
              <a:rPr b="1" i="1" lang="en-US" sz="3600" spc="-1" strike="noStrike">
                <a:solidFill>
                  <a:srgbClr val="2998e3"/>
                </a:solidFill>
                <a:latin typeface="Arial"/>
              </a:rPr>
              <a:t>xy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∙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y+(</a:t>
            </a:r>
            <a:r>
              <a:rPr b="1" i="1" lang="ru-RU" sz="3600" spc="-1" strike="noStrike">
                <a:solidFill>
                  <a:srgbClr val="2998e3"/>
                </a:solidFill>
                <a:latin typeface="Arial"/>
              </a:rPr>
              <a:t>-3</a:t>
            </a:r>
            <a:r>
              <a:rPr b="1" i="1" lang="en-US" sz="3600" spc="-1" strike="noStrike">
                <a:solidFill>
                  <a:srgbClr val="2998e3"/>
                </a:solidFill>
                <a:latin typeface="Arial"/>
              </a:rPr>
              <a:t>xy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)∙4xy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+(</a:t>
            </a:r>
            <a:r>
              <a:rPr b="1" i="1" lang="ru-RU" sz="3600" spc="-1" strike="noStrike">
                <a:solidFill>
                  <a:srgbClr val="2998e3"/>
                </a:solidFill>
                <a:latin typeface="Arial"/>
              </a:rPr>
              <a:t>-3</a:t>
            </a:r>
            <a:r>
              <a:rPr b="1" i="1" lang="en-US" sz="3600" spc="-1" strike="noStrike">
                <a:solidFill>
                  <a:srgbClr val="2998e3"/>
                </a:solidFill>
                <a:latin typeface="Arial"/>
              </a:rPr>
              <a:t>xy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)∙(-1)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7"/>
          <p:cNvSpPr/>
          <p:nvPr/>
        </p:nvSpPr>
        <p:spPr>
          <a:xfrm>
            <a:off x="539640" y="501336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=-6x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-12x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+3x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ПРИМЕР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простим выражение: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4a(2a+5)+2a(3a-1)-1,5a(2a-4)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1" name="Text Box 5"/>
          <p:cNvSpPr/>
          <p:nvPr/>
        </p:nvSpPr>
        <p:spPr>
          <a:xfrm>
            <a:off x="755640" y="2971800"/>
            <a:ext cx="691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4a(2a+5)+2a(3a-1)-1,5a(2a-4)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755640" y="3860640"/>
            <a:ext cx="7129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i="1" lang="en-US" sz="3600" spc="-1" strike="noStrike">
                <a:solidFill>
                  <a:srgbClr val="2998e3"/>
                </a:solidFill>
                <a:latin typeface="Arial"/>
              </a:rPr>
              <a:t>8a</a:t>
            </a:r>
            <a:r>
              <a:rPr b="1" i="1" lang="en-US" sz="3600" spc="-1" strike="noStrike" baseline="30000">
                <a:solidFill>
                  <a:srgbClr val="2998e3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+20a+</a:t>
            </a:r>
            <a:r>
              <a:rPr b="1" i="1" lang="en-US" sz="3600" spc="-1" strike="noStrike">
                <a:solidFill>
                  <a:srgbClr val="2998e3"/>
                </a:solidFill>
                <a:latin typeface="Arial"/>
              </a:rPr>
              <a:t>6a</a:t>
            </a:r>
            <a:r>
              <a:rPr b="1" i="1" lang="en-US" sz="3600" spc="-1" strike="noStrike" baseline="30000">
                <a:solidFill>
                  <a:srgbClr val="2998e3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-2a</a:t>
            </a:r>
            <a:r>
              <a:rPr b="1" i="1" lang="en-US" sz="3600" spc="-1" strike="noStrike">
                <a:solidFill>
                  <a:srgbClr val="2998e3"/>
                </a:solidFill>
                <a:latin typeface="Arial"/>
              </a:rPr>
              <a:t>-3a</a:t>
            </a:r>
            <a:r>
              <a:rPr b="1" i="1" lang="en-US" sz="3600" spc="-1" strike="noStrike" baseline="30000">
                <a:solidFill>
                  <a:srgbClr val="2998e3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+6a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2411280" y="4653000"/>
            <a:ext cx="44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1a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+24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404040"/>
                </a:solidFill>
                <a:latin typeface="Arial"/>
              </a:rPr>
              <a:t>№</a:t>
            </a:r>
            <a:r>
              <a:rPr b="0" i="1" lang="ru-RU" sz="4800" spc="-1" strike="noStrike">
                <a:solidFill>
                  <a:srgbClr val="404040"/>
                </a:solidFill>
                <a:latin typeface="Arial"/>
              </a:rPr>
              <a:t>621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3068640"/>
            <a:ext cx="52671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б) -а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(3а -5) +4а(а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–а)=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= -3а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+5а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+4а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- 4а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6" name="AutoShape 4">
            <a:hlinkClick r:id="rId1" action="ppaction://hlinksldjump"/>
          </p:cNvPr>
          <p:cNvSpPr/>
          <p:nvPr/>
        </p:nvSpPr>
        <p:spPr>
          <a:xfrm>
            <a:off x="8388360" y="6021360"/>
            <a:ext cx="682560" cy="395280"/>
          </a:xfrm>
          <a:custGeom>
            <a:avLst/>
            <a:gdLst>
              <a:gd name="textAreaLeft" fmla="*/ 25560 w 682560"/>
              <a:gd name="textAreaRight" fmla="*/ 657000 w 68256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37284" h="21600">
                <a:moveTo>
                  <a:pt x="0" y="0"/>
                </a:moveTo>
                <a:lnTo>
                  <a:pt x="37284" y="0"/>
                </a:lnTo>
                <a:lnTo>
                  <a:pt x="37284" y="21600"/>
                </a:lnTo>
                <a:lnTo>
                  <a:pt x="0" y="21600"/>
                </a:lnTo>
                <a:close/>
              </a:path>
              <a:path fill="lightenLess" w="37284" h="21600">
                <a:moveTo>
                  <a:pt x="0" y="0"/>
                </a:moveTo>
                <a:lnTo>
                  <a:pt x="37284" y="0"/>
                </a:lnTo>
                <a:lnTo>
                  <a:pt x="35884" y="1400"/>
                </a:lnTo>
                <a:lnTo>
                  <a:pt x="1400" y="1400"/>
                </a:lnTo>
                <a:close/>
              </a:path>
              <a:path fill="darken" w="37284" h="21600">
                <a:moveTo>
                  <a:pt x="37284" y="0"/>
                </a:moveTo>
                <a:lnTo>
                  <a:pt x="37284" y="21600"/>
                </a:lnTo>
                <a:lnTo>
                  <a:pt x="35884" y="20200"/>
                </a:lnTo>
                <a:lnTo>
                  <a:pt x="35884" y="1400"/>
                </a:lnTo>
                <a:close/>
              </a:path>
              <a:path fill="darkenLess" w="37284" h="21600">
                <a:moveTo>
                  <a:pt x="372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84" y="20200"/>
                </a:lnTo>
                <a:close/>
              </a:path>
              <a:path fill="lighten" w="372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284" h="21600">
                <a:moveTo>
                  <a:pt x="11636" y="10800"/>
                </a:moveTo>
                <a:lnTo>
                  <a:pt x="25649" y="3794"/>
                </a:lnTo>
                <a:lnTo>
                  <a:pt x="25649" y="17806"/>
                </a:lnTo>
                <a:close/>
              </a:path>
            </a:pathLst>
          </a:custGeom>
          <a:solidFill>
            <a:srgbClr val="005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1"/>
          <p:cNvSpPr/>
          <p:nvPr/>
        </p:nvSpPr>
        <p:spPr>
          <a:xfrm>
            <a:off x="5148360" y="22766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998e3"/>
                </a:solidFill>
                <a:latin typeface="Arial"/>
              </a:rPr>
              <a:t>7х</a:t>
            </a:r>
            <a:r>
              <a:rPr b="1" i="1" lang="ru-RU" sz="3200" spc="-1" strike="noStrike" baseline="30000">
                <a:solidFill>
                  <a:srgbClr val="2998e3"/>
                </a:solidFill>
                <a:latin typeface="Arial"/>
              </a:rPr>
              <a:t>2</a:t>
            </a:r>
            <a:r>
              <a:rPr b="1" i="1" lang="ru-RU" sz="3200" spc="-1" strike="noStrike">
                <a:solidFill>
                  <a:srgbClr val="2998e3"/>
                </a:solidFill>
                <a:latin typeface="Arial"/>
              </a:rPr>
              <a:t> - 20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2"/>
          <p:cNvSpPr/>
          <p:nvPr/>
        </p:nvSpPr>
        <p:spPr>
          <a:xfrm>
            <a:off x="806400" y="1731960"/>
            <a:ext cx="526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а) 6х(х-3) –х(2 – х)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=6 х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- 18х -  2х+ х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5"/>
          <p:cNvSpPr/>
          <p:nvPr/>
        </p:nvSpPr>
        <p:spPr>
          <a:xfrm>
            <a:off x="5328000" y="3681360"/>
            <a:ext cx="14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998e3"/>
                </a:solidFill>
                <a:latin typeface="Arial"/>
              </a:rPr>
              <a:t>а</a:t>
            </a:r>
            <a:r>
              <a:rPr b="1" i="1" lang="ru-RU" sz="3600" spc="-1" strike="noStrike" baseline="30000">
                <a:solidFill>
                  <a:srgbClr val="2998e3"/>
                </a:solidFill>
                <a:latin typeface="Arial"/>
              </a:rPr>
              <a:t>3 </a:t>
            </a:r>
            <a:r>
              <a:rPr b="1" i="1" lang="ru-RU" sz="3600" spc="-1" strike="noStrike">
                <a:solidFill>
                  <a:srgbClr val="2998e3"/>
                </a:solidFill>
                <a:latin typeface="Arial"/>
              </a:rPr>
              <a:t>+ а</a:t>
            </a:r>
            <a:r>
              <a:rPr b="1" i="1" lang="ru-RU" sz="3600" spc="-1" strike="noStrike" baseline="30000">
                <a:solidFill>
                  <a:srgbClr val="2998e3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14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404040"/>
                </a:solidFill>
                <a:latin typeface="Calibri Light"/>
              </a:rPr>
              <a:t>№ </a:t>
            </a:r>
            <a:r>
              <a:rPr b="0" i="1" lang="ru-RU" sz="4800" spc="-1" strike="noStrike">
                <a:solidFill>
                  <a:srgbClr val="404040"/>
                </a:solidFill>
                <a:latin typeface="Calibri Light"/>
              </a:rPr>
              <a:t>629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1" i="1" lang="ru-RU" sz="2000" spc="-1" strike="noStrike">
                <a:solidFill>
                  <a:srgbClr val="404040"/>
                </a:solidFill>
                <a:latin typeface="Arial"/>
              </a:rPr>
              <a:t>Докажите, что выражение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Arial"/>
              </a:rPr>
              <a:t>2х(х-6) -3(х</a:t>
            </a:r>
            <a:r>
              <a:rPr b="1" i="1" lang="ru-RU" sz="2000" spc="-1" strike="noStrike" baseline="30000">
                <a:solidFill>
                  <a:srgbClr val="40404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404040"/>
                </a:solidFill>
                <a:latin typeface="Arial"/>
              </a:rPr>
              <a:t>-4х+1)при любых значениях х принимает отрицательное значение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250920" y="342900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х(х-6) -3 (х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4х +1) = 2х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-12х -3х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+12х - 3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1547640" y="429264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686"/>
                </a:solidFill>
                <a:latin typeface="Arial"/>
              </a:rPr>
              <a:t>= -х</a:t>
            </a:r>
            <a:r>
              <a:rPr b="1" lang="ru-RU" sz="3600" spc="-1" strike="noStrike" baseline="30000">
                <a:solidFill>
                  <a:srgbClr val="005686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5686"/>
                </a:solidFill>
                <a:latin typeface="Arial"/>
              </a:rPr>
              <a:t> -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2124000" y="530064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98e3"/>
                </a:solidFill>
                <a:latin typeface="Arial"/>
              </a:rPr>
              <a:t>Х</a:t>
            </a:r>
            <a:r>
              <a:rPr b="1" lang="ru-RU" sz="3200" spc="-1" strike="noStrike" baseline="30000">
                <a:solidFill>
                  <a:srgbClr val="2998e3"/>
                </a:solidFill>
                <a:latin typeface="Arial"/>
              </a:rPr>
              <a:t>2 </a:t>
            </a:r>
            <a:r>
              <a:rPr b="1" lang="en-US" sz="3200" spc="-1" strike="noStrike">
                <a:solidFill>
                  <a:srgbClr val="2998e3"/>
                </a:solidFill>
                <a:latin typeface="Arial"/>
                <a:ea typeface="Arial"/>
              </a:rPr>
              <a:t>≥0</a:t>
            </a:r>
            <a:r>
              <a:rPr b="1" lang="ru-RU" sz="3200" spc="-1" strike="noStrike">
                <a:solidFill>
                  <a:srgbClr val="2998e3"/>
                </a:solidFill>
                <a:latin typeface="Arial"/>
                <a:ea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8"/>
          <p:cNvSpPr/>
          <p:nvPr/>
        </p:nvSpPr>
        <p:spPr>
          <a:xfrm>
            <a:off x="4140360" y="529740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686"/>
                </a:solidFill>
                <a:latin typeface="Arial"/>
              </a:rPr>
              <a:t>-х</a:t>
            </a:r>
            <a:r>
              <a:rPr b="1" lang="ru-RU" sz="3200" spc="-1" strike="noStrike" baseline="30000">
                <a:solidFill>
                  <a:srgbClr val="005686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5686"/>
                </a:solidFill>
                <a:latin typeface="Arial"/>
                <a:ea typeface="Arial"/>
              </a:rPr>
              <a:t>≤</a:t>
            </a:r>
            <a:r>
              <a:rPr b="1" lang="en-US" sz="3200" spc="-1" strike="noStrike">
                <a:solidFill>
                  <a:srgbClr val="005686"/>
                </a:solidFill>
                <a:latin typeface="Arial"/>
                <a:ea typeface="Arial"/>
              </a:rPr>
              <a:t>0</a:t>
            </a:r>
            <a:r>
              <a:rPr b="1" lang="ru-RU" sz="3200" spc="-1" strike="noStrike">
                <a:solidFill>
                  <a:srgbClr val="005686"/>
                </a:solidFill>
                <a:latin typeface="Arial"/>
                <a:ea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0"/>
          <p:cNvSpPr/>
          <p:nvPr/>
        </p:nvSpPr>
        <p:spPr>
          <a:xfrm>
            <a:off x="6084720" y="5229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686"/>
                </a:solidFill>
                <a:latin typeface="Arial"/>
              </a:rPr>
              <a:t>-х</a:t>
            </a:r>
            <a:r>
              <a:rPr b="1" lang="ru-RU" sz="3200" spc="-1" strike="noStrike" baseline="30000">
                <a:solidFill>
                  <a:srgbClr val="005686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5686"/>
                </a:solidFill>
                <a:latin typeface="Arial"/>
              </a:rPr>
              <a:t>-3</a:t>
            </a:r>
            <a:r>
              <a:rPr b="1" lang="ru-RU" sz="3200" spc="-1" strike="noStrike">
                <a:solidFill>
                  <a:srgbClr val="005686"/>
                </a:solidFill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5686"/>
                </a:solidFill>
                <a:latin typeface="Arial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33440" y="-1834560"/>
            <a:ext cx="69840" cy="68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6518520" y="2132640"/>
            <a:ext cx="225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722400" y="329472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9" descr="i (2)"/>
          <p:cNvPicPr/>
          <p:nvPr/>
        </p:nvPicPr>
        <p:blipFill>
          <a:blip r:embed="rId1"/>
          <a:stretch/>
        </p:blipFill>
        <p:spPr>
          <a:xfrm>
            <a:off x="5148360" y="1989000"/>
            <a:ext cx="3373200" cy="3373560"/>
          </a:xfrm>
          <a:prstGeom prst="rect">
            <a:avLst/>
          </a:prstGeom>
          <a:ln w="0">
            <a:noFill/>
          </a:ln>
        </p:spPr>
      </p:pic>
      <p:pic>
        <p:nvPicPr>
          <p:cNvPr id="401" name="Прямоугольник 1" descr=""/>
          <p:cNvPicPr/>
          <p:nvPr/>
        </p:nvPicPr>
        <p:blipFill>
          <a:blip r:embed="rId2"/>
          <a:stretch/>
        </p:blipFill>
        <p:spPr>
          <a:xfrm>
            <a:off x="828720" y="2468520"/>
            <a:ext cx="4468680" cy="2097000"/>
          </a:xfrm>
          <a:prstGeom prst="rect">
            <a:avLst/>
          </a:prstGeom>
          <a:ln w="0">
            <a:noFill/>
          </a:ln>
        </p:spPr>
      </p:pic>
      <p:sp>
        <p:nvSpPr>
          <p:cNvPr id="402" name="Прямоугольник 3"/>
          <p:cNvSpPr/>
          <p:nvPr/>
        </p:nvSpPr>
        <p:spPr>
          <a:xfrm>
            <a:off x="2862360" y="80172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ния ОГЭ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Calibri Light"/>
              </a:rPr>
              <a:t>Самостоятельная работа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Ответы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Оценки: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«5» – нет ошибок;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«4» – одна ошибка;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«3» – две ошибки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2411280" y="2637000"/>
          <a:ext cx="6096240" cy="7412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9cc"/>
                    </a:solidFill>
                  </a:tcPr>
                </a:tc>
              </a:tr>
            </a:tbl>
          </a:graphicData>
        </a:graphic>
      </p:graphicFrame>
    </p:spTree>
  </p:cSld>
  <p:transition spd="med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404040"/>
                </a:solidFill>
                <a:uFillTx/>
                <a:latin typeface="Calibri"/>
              </a:rPr>
              <a:t>Математика - наш друг, а друзей мы любим !</a:t>
            </a:r>
            <a:endParaRPr b="0" lang="en-US" sz="5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Calibri Light"/>
              </a:rPr>
              <a:t>Что знаем?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пределение многочлена</a:t>
            </a:r>
            <a:r>
              <a:rPr b="0" lang="ru-RU" sz="26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998e3"/>
                </a:solidFill>
                <a:latin typeface="Calibri"/>
              </a:rPr>
              <a:t>Многочлен – это сумма одночленов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одобные члены многочлена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998e3"/>
                </a:solidFill>
                <a:latin typeface="Calibri"/>
              </a:rPr>
              <a:t>Это одночлены, имеющие одинаковую буквенную часть</a:t>
            </a:r>
            <a:r>
              <a:rPr b="0" lang="ru-RU" sz="2600" spc="-1" strike="noStrike">
                <a:solidFill>
                  <a:srgbClr val="2998e3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тандартный вид многочлена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998e3"/>
                </a:solidFill>
                <a:latin typeface="Calibri"/>
              </a:rPr>
              <a:t>Если каждый член многочлена является одночленом стандартного вида и не содержит подобных членов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тепень многочлена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998e3"/>
                </a:solidFill>
                <a:latin typeface="Calibri"/>
              </a:rPr>
              <a:t>Это наибольшая из степеней входящих в него одночленов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1436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Calibri Light"/>
              </a:rPr>
              <a:t>Что умеем?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водить многочлен к стандартному виду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ходить значение многочлена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пределять степень многочлена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ыполнять сложение и вычитание многочленов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checker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404040"/>
                </a:solidFill>
                <a:latin typeface="Calibri Light"/>
              </a:rPr>
              <a:t>     </a:t>
            </a:r>
            <a:r>
              <a:rPr b="1" i="1" lang="ru-RU" sz="4300" spc="-1" strike="noStrike">
                <a:solidFill>
                  <a:srgbClr val="404040"/>
                </a:solidFill>
                <a:latin typeface="Arial"/>
              </a:rPr>
              <a:t>Распределительный закон умножения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539640" y="213336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998e3"/>
                </a:solidFill>
                <a:latin typeface="Arial"/>
              </a:rPr>
              <a:t>Чтобы умножить число на сумму, можно умножить это число на каждое слагаемое и результаты сложить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1042920" y="4383000"/>
            <a:ext cx="648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2998e3"/>
                </a:solidFill>
                <a:latin typeface="Arial"/>
              </a:rPr>
              <a:t>а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 (в+ с) = </a:t>
            </a:r>
            <a:r>
              <a:rPr b="0" i="1" lang="ru-RU" sz="4800" spc="-1" strike="noStrike">
                <a:solidFill>
                  <a:srgbClr val="2998e3"/>
                </a:solidFill>
                <a:latin typeface="Arial"/>
              </a:rPr>
              <a:t>а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в+</a:t>
            </a:r>
            <a:r>
              <a:rPr b="0" i="1" lang="ru-RU" sz="4800" spc="-1" strike="noStrike">
                <a:solidFill>
                  <a:srgbClr val="2998e3"/>
                </a:solidFill>
                <a:latin typeface="Arial"/>
              </a:rPr>
              <a:t>а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14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040"/>
                </a:solidFill>
                <a:latin typeface="Arial"/>
              </a:rPr>
              <a:t>Раскройте скобки: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611280" y="17002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(2х-5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2050920" y="17002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98e3"/>
                </a:solidFill>
                <a:latin typeface="Arial"/>
              </a:rPr>
              <a:t>6х-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684360" y="24922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5а-1) 4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2268360" y="24670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98e3"/>
                </a:solidFill>
                <a:latin typeface="Arial"/>
              </a:rPr>
              <a:t>20а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755640" y="3284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9"/>
          <p:cNvSpPr/>
          <p:nvPr/>
        </p:nvSpPr>
        <p:spPr>
          <a:xfrm>
            <a:off x="914400" y="31417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0"/>
          <p:cNvSpPr/>
          <p:nvPr/>
        </p:nvSpPr>
        <p:spPr>
          <a:xfrm>
            <a:off x="971640" y="350028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1"/>
          <p:cNvSpPr/>
          <p:nvPr/>
        </p:nvSpPr>
        <p:spPr>
          <a:xfrm>
            <a:off x="90000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1258920" y="32590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4 +2у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2627280" y="32590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98e3"/>
                </a:solidFill>
                <a:latin typeface="Arial"/>
              </a:rPr>
              <a:t>-2- 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4"/>
          <p:cNvSpPr/>
          <p:nvPr/>
        </p:nvSpPr>
        <p:spPr>
          <a:xfrm>
            <a:off x="468360" y="4149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5 (3р-8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5"/>
          <p:cNvSpPr/>
          <p:nvPr/>
        </p:nvSpPr>
        <p:spPr>
          <a:xfrm>
            <a:off x="2050920" y="41241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98e3"/>
                </a:solidFill>
                <a:latin typeface="Arial"/>
              </a:rPr>
              <a:t>-15р +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6"/>
          <p:cNvSpPr/>
          <p:nvPr/>
        </p:nvSpPr>
        <p:spPr>
          <a:xfrm>
            <a:off x="4427640" y="1484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7"/>
          <p:cNvSpPr/>
          <p:nvPr/>
        </p:nvSpPr>
        <p:spPr>
          <a:xfrm>
            <a:off x="4498920" y="184464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8"/>
          <p:cNvSpPr/>
          <p:nvPr/>
        </p:nvSpPr>
        <p:spPr>
          <a:xfrm>
            <a:off x="4427640" y="177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9"/>
          <p:cNvSpPr/>
          <p:nvPr/>
        </p:nvSpPr>
        <p:spPr>
          <a:xfrm>
            <a:off x="4716360" y="162864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-1)*(-3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20"/>
          <p:cNvSpPr/>
          <p:nvPr/>
        </p:nvSpPr>
        <p:spPr>
          <a:xfrm>
            <a:off x="4282920" y="155736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1"/>
          <p:cNvSpPr/>
          <p:nvPr/>
        </p:nvSpPr>
        <p:spPr>
          <a:xfrm>
            <a:off x="6300720" y="16034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98e3"/>
                </a:solidFill>
                <a:latin typeface="Arial"/>
              </a:rPr>
              <a:t>-х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2"/>
          <p:cNvSpPr/>
          <p:nvPr/>
        </p:nvSpPr>
        <p:spPr>
          <a:xfrm>
            <a:off x="4211640" y="2421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7 (3а -10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3"/>
          <p:cNvSpPr/>
          <p:nvPr/>
        </p:nvSpPr>
        <p:spPr>
          <a:xfrm>
            <a:off x="6084720" y="2421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98e3"/>
                </a:solidFill>
                <a:latin typeface="Arial"/>
              </a:rPr>
              <a:t>2,1а -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4"/>
          <p:cNvSpPr/>
          <p:nvPr/>
        </p:nvSpPr>
        <p:spPr>
          <a:xfrm>
            <a:off x="3995640" y="33577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3( 9- 0,5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5"/>
          <p:cNvSpPr/>
          <p:nvPr/>
        </p:nvSpPr>
        <p:spPr>
          <a:xfrm>
            <a:off x="5724360" y="335772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98e3"/>
                </a:solidFill>
                <a:latin typeface="Arial"/>
              </a:rPr>
              <a:t>-27 + 1,5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6"/>
          <p:cNvSpPr/>
          <p:nvPr/>
        </p:nvSpPr>
        <p:spPr>
          <a:xfrm>
            <a:off x="3995640" y="4149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 -х -2у)* (- 3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7"/>
          <p:cNvSpPr/>
          <p:nvPr/>
        </p:nvSpPr>
        <p:spPr>
          <a:xfrm>
            <a:off x="6227640" y="4149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98e3"/>
                </a:solidFill>
                <a:latin typeface="Arial"/>
              </a:rPr>
              <a:t>3х + 6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8"/>
          <p:cNvSpPr/>
          <p:nvPr/>
        </p:nvSpPr>
        <p:spPr>
          <a:xfrm>
            <a:off x="324000" y="486900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bc2"/>
                </a:solidFill>
                <a:latin typeface="Arial"/>
              </a:rPr>
              <a:t>Распределительный закон умножения   (а + в)</a:t>
            </a:r>
            <a:r>
              <a:rPr b="0" i="1" lang="ru-RU" sz="3200" spc="-1" strike="noStrike">
                <a:solidFill>
                  <a:srgbClr val="2998e3"/>
                </a:solidFill>
                <a:latin typeface="Arial"/>
              </a:rPr>
              <a:t>с</a:t>
            </a:r>
            <a:r>
              <a:rPr b="0" i="1" lang="ru-RU" sz="3200" spc="-1" strike="noStrike">
                <a:solidFill>
                  <a:srgbClr val="007bc2"/>
                </a:solidFill>
                <a:latin typeface="Arial"/>
              </a:rPr>
              <a:t> = а</a:t>
            </a:r>
            <a:r>
              <a:rPr b="0" i="1" lang="ru-RU" sz="3200" spc="-1" strike="noStrike">
                <a:solidFill>
                  <a:srgbClr val="2998e3"/>
                </a:solidFill>
                <a:latin typeface="Arial"/>
              </a:rPr>
              <a:t>с</a:t>
            </a:r>
            <a:r>
              <a:rPr b="0" i="1" lang="ru-RU" sz="3200" spc="-1" strike="noStrike">
                <a:solidFill>
                  <a:srgbClr val="007bc2"/>
                </a:solidFill>
                <a:latin typeface="Arial"/>
              </a:rPr>
              <a:t> + в</a:t>
            </a:r>
            <a:r>
              <a:rPr b="0" i="1" lang="ru-RU" sz="3200" spc="-1" strike="noStrike">
                <a:solidFill>
                  <a:srgbClr val="2998e3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1"/>
          <p:cNvSpPr/>
          <p:nvPr/>
        </p:nvSpPr>
        <p:spPr>
          <a:xfrm>
            <a:off x="684360" y="765360"/>
            <a:ext cx="800100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дночленом называют сумму числовых и буквенных множите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уквенный множитель одночлена, записанного в стандартном виде, называют коэффициентом одночле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ое выражение, которое содержит произведение чисел и букв, называют одночлен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умма показателей степеней всех букв входящих в одночлен называют степенью одночле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бы раскрыть скобки, перед которыми стоит знак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скобки надо опустить, сохранив знак каждого члена, который был заключен в скоб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гда раскрываем скобки, перед которыми стоит знак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скобки опускаем, и знаки членов, которые были заключены в скобки, меняют на противополож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Calibri Light"/>
              </a:rPr>
              <a:t>Проверка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85920"/>
            <a:ext cx="697248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1. —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2. —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3. +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4. +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5. +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6. +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2843280" y="3786120"/>
            <a:ext cx="604980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3 жетона - </a:t>
            </a:r>
            <a:r>
              <a:rPr b="0" i="1" lang="ru-RU" sz="3400" spc="-1" strike="noStrike">
                <a:solidFill>
                  <a:srgbClr val="000000"/>
                </a:solidFill>
                <a:latin typeface="Calibri"/>
              </a:rPr>
              <a:t>ошибок нет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2 жетона</a:t>
            </a:r>
            <a:r>
              <a:rPr b="0" lang="ru-RU" sz="34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3400" spc="-1" strike="noStrike">
                <a:solidFill>
                  <a:srgbClr val="000000"/>
                </a:solidFill>
                <a:latin typeface="Calibri"/>
              </a:rPr>
              <a:t>одна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400" spc="-1" strike="noStrike">
                <a:solidFill>
                  <a:srgbClr val="000000"/>
                </a:solidFill>
                <a:latin typeface="Calibri"/>
              </a:rPr>
              <a:t> ошибка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1 жетон - две</a:t>
            </a: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400" spc="-1" strike="noStrike">
                <a:solidFill>
                  <a:srgbClr val="000000"/>
                </a:solidFill>
                <a:latin typeface="Calibri"/>
              </a:rPr>
              <a:t>ошибки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0 жетонов - </a:t>
            </a:r>
            <a:r>
              <a:rPr b="0" i="1" lang="ru-RU" sz="3400" spc="-1" strike="noStrike">
                <a:solidFill>
                  <a:srgbClr val="000000"/>
                </a:solidFill>
                <a:latin typeface="Calibri"/>
              </a:rPr>
              <a:t>больше двух ошибок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Rectangle 2" descr=""/>
          <p:cNvPicPr/>
          <p:nvPr/>
        </p:nvPicPr>
        <p:blipFill>
          <a:blip r:embed="rId1"/>
          <a:stretch/>
        </p:blipFill>
        <p:spPr>
          <a:xfrm>
            <a:off x="2998800" y="2571840"/>
            <a:ext cx="5572080" cy="11412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404040"/>
                </a:solidFill>
                <a:latin typeface="Calibri Light"/>
              </a:rPr>
              <a:t>Чему хотим научиться?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1.Изучить правило умножения многочлена на одночлен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2. Научиться применять его при преобразовании  выражений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и решении уравнений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AutoShape 4">
            <a:hlinkClick r:id="rId1" action="ppaction://hlinksldjump"/>
          </p:cNvPr>
          <p:cNvSpPr/>
          <p:nvPr/>
        </p:nvSpPr>
        <p:spPr>
          <a:xfrm>
            <a:off x="8459640" y="6381720"/>
            <a:ext cx="611280" cy="322200"/>
          </a:xfrm>
          <a:custGeom>
            <a:avLst/>
            <a:gdLst>
              <a:gd name="textAreaLeft" fmla="*/ 20880 w 611280"/>
              <a:gd name="textAreaRight" fmla="*/ 590400 w 6112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40958" h="21600">
                <a:moveTo>
                  <a:pt x="0" y="0"/>
                </a:moveTo>
                <a:lnTo>
                  <a:pt x="40958" y="0"/>
                </a:lnTo>
                <a:lnTo>
                  <a:pt x="40958" y="21600"/>
                </a:lnTo>
                <a:lnTo>
                  <a:pt x="0" y="21600"/>
                </a:lnTo>
                <a:close/>
              </a:path>
              <a:path fill="lightenLess" w="40958" h="21600">
                <a:moveTo>
                  <a:pt x="0" y="0"/>
                </a:moveTo>
                <a:lnTo>
                  <a:pt x="40958" y="0"/>
                </a:lnTo>
                <a:lnTo>
                  <a:pt x="39558" y="1400"/>
                </a:lnTo>
                <a:lnTo>
                  <a:pt x="1400" y="1400"/>
                </a:lnTo>
                <a:close/>
              </a:path>
              <a:path fill="darken" w="40958" h="21600">
                <a:moveTo>
                  <a:pt x="40958" y="0"/>
                </a:moveTo>
                <a:lnTo>
                  <a:pt x="40958" y="21600"/>
                </a:lnTo>
                <a:lnTo>
                  <a:pt x="39558" y="20200"/>
                </a:lnTo>
                <a:lnTo>
                  <a:pt x="39558" y="1400"/>
                </a:lnTo>
                <a:close/>
              </a:path>
              <a:path fill="darkenLess" w="40958" h="21600">
                <a:moveTo>
                  <a:pt x="40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58" y="20200"/>
                </a:lnTo>
                <a:close/>
              </a:path>
              <a:path fill="lighten" w="40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58" h="21600">
                <a:moveTo>
                  <a:pt x="13473" y="3794"/>
                </a:moveTo>
                <a:lnTo>
                  <a:pt x="27485" y="10800"/>
                </a:lnTo>
                <a:lnTo>
                  <a:pt x="13473" y="17806"/>
                </a:lnTo>
                <a:close/>
              </a:path>
            </a:pathLst>
          </a:custGeom>
          <a:solidFill>
            <a:srgbClr val="005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55280" y="2781360"/>
            <a:ext cx="766764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 Light"/>
              </a:rPr>
              <a:t>Умножение одночлена на многочлен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8360" y="4085280"/>
            <a:ext cx="71280" cy="1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" spc="-1" strike="noStrike">
              <a:solidFill>
                <a:srgbClr val="637052"/>
              </a:solidFill>
              <a:latin typeface="Calibri Light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2124000" y="5486400"/>
            <a:ext cx="59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998e3"/>
                </a:solidFill>
                <a:latin typeface="Arial"/>
              </a:rPr>
              <a:t>«Корень учения горек, зато плод его слад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611280" y="1989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ема 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10:43:38Z</dcterms:created>
  <dc:creator>Дизайнер</dc:creator>
  <dc:description/>
  <dc:language>en-US</dc:language>
  <cp:lastModifiedBy>ПК</cp:lastModifiedBy>
  <dcterms:modified xsi:type="dcterms:W3CDTF">2015-01-31T17:40:40Z</dcterms:modified>
  <cp:revision>78</cp:revision>
  <dc:subject/>
  <dc:title>шаблон для презентаций</dc:title>
</cp:coreProperties>
</file>