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B4D-DA3A-4908-AB33-ABDD4454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AC8-4FD6-46B7-A6DF-757F368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A7F-7F7E-45D3-BE58-9BA176C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7BC-099F-4F77-B2A9-931AFA00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7A04-95AB-4047-8837-EB2D2DD8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B454-EBAE-4039-81FC-092EBCD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20A5-A35D-4306-BB78-B38F7C6C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C59-00AF-4C33-927F-35AB1D8B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06C4-95AD-4153-BB08-760531D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605-DB53-457C-A753-70B63A8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E553-F458-4C67-A094-8C1E9D8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757-3B59-429D-935C-581B8C3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A10-4BD5-481A-A1DD-97CD403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2456-9DF4-42B8-B343-A7E4405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0EB9-C5AD-496D-BB50-CE71BEAA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F079-B5D9-4B5E-BF52-BEE99D14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5035-A478-42D3-9832-9EADCA39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EE61-BFC0-4CBC-9B45-7F8C7F06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EBE5-7A13-4A61-9D33-6BC7BF4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0FFC-C96F-412B-A620-1D33F00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4E56-53AE-460E-BB0B-47D89A67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8EF0-44A2-428B-8B35-7B71129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4CC-B17F-4BBF-9B0B-8185195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D4FB-1410-4663-919B-812F49E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77D1-F18C-4B5E-AA6D-0CF5CFD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85B9-03EF-4F38-BF24-BE828B3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E83A-F806-4D1B-ACA6-D84053B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39CE-516D-4A11-9A0C-07D4B48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645E-EE8A-46D1-A837-724B5CB6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C65A-5A20-4FF3-BE1B-C7AF7ECC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D76A-3406-49E5-AAF2-C00F9C11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5463-45D5-4DB1-8349-30B83491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48E4-A3B7-4E8E-9E66-E94A307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4EF-490C-4600-B2D4-5450C7A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5777-4504-42D4-82C8-59AE69F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95EE-DB62-4771-8DC5-7AC9690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1051-B26D-4001-8A12-B9E19F74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D408-0B0E-4DEE-8118-396E47D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EE32-5BA7-445A-9C92-E6E170E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CD46-84CB-4864-8974-5D4ACD6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90D5-2866-4DDA-9A95-B442FCF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9D54-129C-42E3-A8EE-EF9D3B20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454E-ED51-4084-950E-8CED9902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CBEE5-223B-4C93-A68C-FB1D39C1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E65-9E13-43B2-9F0F-14AD23D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450E-57DB-4421-9389-4666C94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3603-D2C4-46D4-A787-C46BE90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9784-51AA-4675-BEA2-EBA60D3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B7C4-4627-4296-83A6-2CBD4B0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6D24-981B-44F6-81DA-84E1FE3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44F2-11EA-4DF3-9769-6010AF1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72A6-9482-4589-AD48-1FAD9A6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82F3-05EC-4219-9918-F80807A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0EC3-B2EF-4B08-B852-B939DF0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95DD-5B1C-4D3C-BC04-B11A2725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E58-4E9F-4DBE-B914-E6BA3BB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4D91-3BB6-49A3-80A6-DACC4A0B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9ACE-2166-4232-9781-6104D22C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3893-3787-4EA5-9753-C8E7E592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2847-5195-4AD1-B062-56CE9B3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6E9D-44E4-449E-A2A9-4ED99BE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2B48-DD30-4ACE-8379-3F4BAEA2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83D9-3A15-4DCC-8F54-C926840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19BC-3118-4C5C-B58D-20D1C45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AB6D0-39DF-4743-A82F-2109787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3E1EA-0B1A-4808-87FF-4091792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100-61B8-40FB-A546-DE13070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EDA1-F940-4D1A-94DF-AC02AB6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FF9E-4808-4616-962F-72CEFEAA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8D86-EF53-4E84-8399-17E7510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12C8-61FE-47C9-AC47-F56EA6B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28B4-FCC3-4B06-B3AA-4ED7D450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5F2AC-9B39-481F-90FD-7AB7F8E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8118-6096-4BB4-A1D5-5F925B0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AE0E-DA61-4EB5-A846-F2489B5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3CE2-278B-400C-8D7C-9DB91AF5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7A7CE-2558-4409-94C7-9840E37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80B-20D5-4037-AEDD-19249DD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C436D-2F51-4EEF-B2A8-B45BBBC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288F-2860-42CC-9D9E-5CAAD34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FB3F-8E7C-4B3C-A9B6-F2DC9B9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FF74-08D8-4ADD-A50E-99CDE19A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D0C3-18A4-479A-ABF1-D57EE91B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5BA-C4CF-415A-8225-CD02814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FC7-F3F1-4176-AA55-2EAE791703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7637-8C11-4CD3-8C4B-47395F5C3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A37-B547-4A3B-9F5D-03494EF531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E33-1402-424F-A823-DC298068D6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042-1CD4-4787-A9E7-9312FC6D3B21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566-9D2F-430C-9873-364C020710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0BA-8B22-4A16-9E3F-452C17D192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292428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Calibri Light"/>
              </a:rPr>
              <a:t>Отличный способ привлечь знания… учиться!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211640" y="5373360"/>
            <a:ext cx="424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37052"/>
                </a:solidFill>
                <a:latin typeface="Calibri Light"/>
              </a:rPr>
              <a:t>ПРЕЗЕНТАЦИЮ ПОДГОТОВИЛА УЧИТЕЛЬ МАТЕМАТИКИ МБОУ «ЗСОШ №6»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37052"/>
                </a:solidFill>
                <a:latin typeface="Calibri Light"/>
              </a:rPr>
              <a:t>РОГОЖНИКОВА АННА ИВАНОВНА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2277000" y="452520"/>
            <a:ext cx="46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f7b63"/>
                </a:solidFill>
                <a:latin typeface="Arial"/>
              </a:rPr>
              <a:t>Эпиграф к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04000" y="-6081120"/>
            <a:ext cx="82440" cy="68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3(2х-5) =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=3*2х-3*5=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=6х-15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404040"/>
                </a:solidFill>
                <a:latin typeface="Calibri"/>
              </a:rPr>
              <a:t>Чтобы умножить одночлен на многочлен, нужно умножить этот одночлен на каждый член многочлена и полученные произведения сложить.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2998e3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00000" y="4794120"/>
            <a:ext cx="7632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algebra_md_wht"/>
          <p:cNvPicPr/>
          <p:nvPr/>
        </p:nvPicPr>
        <p:blipFill>
          <a:blip r:embed="rId1"/>
          <a:stretch/>
        </p:blipFill>
        <p:spPr>
          <a:xfrm>
            <a:off x="7893000" y="549900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 Light"/>
              </a:rPr>
              <a:t>ПРИМЕР 1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755640" y="155736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множим одночлен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y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ногочлен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684360" y="2924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(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755640" y="393372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=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(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(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539640" y="501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-6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2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3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остим выражение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755640" y="2971800"/>
            <a:ext cx="69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55640" y="3860640"/>
            <a:ext cx="712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8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0a+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6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2a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-3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6a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411280" y="4653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1a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4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Arial"/>
              </a:rPr>
              <a:t>№</a:t>
            </a:r>
            <a:r>
              <a:rPr b="0" i="1" lang="ru-RU" sz="4800" spc="-1" strike="noStrike">
                <a:solidFill>
                  <a:srgbClr val="404040"/>
                </a:solidFill>
                <a:latin typeface="Arial"/>
              </a:rPr>
              <a:t>62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3068640"/>
            <a:ext cx="526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) -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3а -5) +4а(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а)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-3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5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AutoShape 4">
            <a:hlinkClick r:id="rId1" action="ppaction://hlinksldjump"/>
          </p:cNvPr>
          <p:cNvSpPr/>
          <p:nvPr/>
        </p:nvSpPr>
        <p:spPr>
          <a:xfrm>
            <a:off x="8388360" y="6021360"/>
            <a:ext cx="682560" cy="395280"/>
          </a:xfrm>
          <a:custGeom>
            <a:avLst/>
            <a:gdLst>
              <a:gd name="textAreaLeft" fmla="*/ 25560 w 682560"/>
              <a:gd name="textAreaRight" fmla="*/ 657000 w 682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7284" h="21600">
                <a:moveTo>
                  <a:pt x="0" y="0"/>
                </a:moveTo>
                <a:lnTo>
                  <a:pt x="37284" y="0"/>
                </a:lnTo>
                <a:lnTo>
                  <a:pt x="37284" y="21600"/>
                </a:lnTo>
                <a:lnTo>
                  <a:pt x="0" y="21600"/>
                </a:lnTo>
                <a:close/>
              </a:path>
              <a:path fill="lightenLess" w="37284" h="21600">
                <a:moveTo>
                  <a:pt x="0" y="0"/>
                </a:moveTo>
                <a:lnTo>
                  <a:pt x="37284" y="0"/>
                </a:lnTo>
                <a:lnTo>
                  <a:pt x="35884" y="1400"/>
                </a:lnTo>
                <a:lnTo>
                  <a:pt x="1400" y="1400"/>
                </a:lnTo>
                <a:close/>
              </a:path>
              <a:path fill="darken" w="37284" h="21600">
                <a:moveTo>
                  <a:pt x="37284" y="0"/>
                </a:moveTo>
                <a:lnTo>
                  <a:pt x="37284" y="21600"/>
                </a:lnTo>
                <a:lnTo>
                  <a:pt x="35884" y="20200"/>
                </a:lnTo>
                <a:lnTo>
                  <a:pt x="35884" y="1400"/>
                </a:lnTo>
                <a:close/>
              </a:path>
              <a:path fill="darkenLess" w="37284" h="21600">
                <a:moveTo>
                  <a:pt x="3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4" y="20200"/>
                </a:lnTo>
                <a:close/>
              </a:path>
              <a:path fill="lighten" w="3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4" h="21600">
                <a:moveTo>
                  <a:pt x="11636" y="10800"/>
                </a:moveTo>
                <a:lnTo>
                  <a:pt x="25649" y="3794"/>
                </a:lnTo>
                <a:lnTo>
                  <a:pt x="25649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5148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98e3"/>
                </a:solidFill>
                <a:latin typeface="Arial"/>
              </a:rPr>
              <a:t>7х</a:t>
            </a:r>
            <a:r>
              <a:rPr b="1" i="1" lang="ru-RU" sz="32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2998e3"/>
                </a:solidFill>
                <a:latin typeface="Arial"/>
              </a:rPr>
              <a:t> - 2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806400" y="1731960"/>
            <a:ext cx="52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) 6х(х-3) –х(2 – х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6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18х -  2х+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5328000" y="368136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1" i="1" lang="ru-RU" sz="3600" spc="-1" strike="noStrike" baseline="30000">
                <a:solidFill>
                  <a:srgbClr val="2998e3"/>
                </a:solidFill>
                <a:latin typeface="Arial"/>
              </a:rPr>
              <a:t>3 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+ а</a:t>
            </a:r>
            <a:r>
              <a:rPr b="1" i="1" lang="ru-RU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Calibri Light"/>
              </a:rPr>
              <a:t>№ </a:t>
            </a:r>
            <a:r>
              <a:rPr b="0" i="1" lang="ru-RU" sz="4800" spc="-1" strike="noStrike">
                <a:solidFill>
                  <a:srgbClr val="404040"/>
                </a:solidFill>
                <a:latin typeface="Calibri Light"/>
              </a:rPr>
              <a:t>629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Докажите, что выражение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2х(х-6) -3(х</a:t>
            </a:r>
            <a:r>
              <a:rPr b="1" i="1" lang="ru-RU" sz="2000" spc="-1" strike="noStrike" baseline="30000">
                <a:solidFill>
                  <a:srgbClr val="40404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-4х+1)при любых значениях х принимает отрицательное зна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250920" y="3429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х(х-6) -3 (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4х +1) = 2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12х -3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12х - 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547640" y="4292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= -х</a:t>
            </a:r>
            <a:r>
              <a:rPr b="1" lang="ru-RU" sz="36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2124000" y="5300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8e3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2998e3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2998e3"/>
                </a:solidFill>
                <a:latin typeface="Arial"/>
                <a:ea typeface="Arial"/>
              </a:rPr>
              <a:t>≥0</a:t>
            </a:r>
            <a:r>
              <a:rPr b="1" lang="ru-RU" sz="3200" spc="-1" strike="noStrike">
                <a:solidFill>
                  <a:srgbClr val="2998e3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140360" y="52974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≤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08472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3</a:t>
            </a:r>
            <a:r>
              <a:rPr b="1" lang="ru-RU" sz="3200" spc="-1" strike="noStrike">
                <a:solidFill>
                  <a:srgbClr val="005686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3440" y="-1834560"/>
            <a:ext cx="69840" cy="68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518520" y="2132640"/>
            <a:ext cx="225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22400" y="329472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9" descr="i (2)"/>
          <p:cNvPicPr/>
          <p:nvPr/>
        </p:nvPicPr>
        <p:blipFill>
          <a:blip r:embed="rId1"/>
          <a:stretch/>
        </p:blipFill>
        <p:spPr>
          <a:xfrm>
            <a:off x="5148360" y="1989000"/>
            <a:ext cx="3373200" cy="337356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1" descr=""/>
          <p:cNvPicPr/>
          <p:nvPr/>
        </p:nvPicPr>
        <p:blipFill>
          <a:blip r:embed="rId2"/>
          <a:stretch/>
        </p:blipFill>
        <p:spPr>
          <a:xfrm>
            <a:off x="828720" y="2468520"/>
            <a:ext cx="4468680" cy="2097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3"/>
          <p:cNvSpPr/>
          <p:nvPr/>
        </p:nvSpPr>
        <p:spPr>
          <a:xfrm>
            <a:off x="2862360" y="8017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я ОГЭ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Самостоятельная работ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тветы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ценки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5» – нет ошибок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4» – одна ошибка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3» – две ошибк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411280" y="263700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404040"/>
                </a:solidFill>
                <a:uFillTx/>
                <a:latin typeface="Calibri"/>
              </a:rPr>
              <a:t>Математика - наш друг, а друзей мы любим !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 Light"/>
              </a:rPr>
              <a:t>Что знаем?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ределение многочлена</a:t>
            </a: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Многочлен – это сумма одно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бные члены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Это одночлены, имеющие одинаковую буквенную часть</a:t>
            </a:r>
            <a:r>
              <a:rPr b="0" lang="ru-RU" sz="2600" spc="-1" strike="noStrike">
                <a:solidFill>
                  <a:srgbClr val="2998e3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андартный вид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Если каждый член многочлена является одночленом стандартного вида и не содержит подобных 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епень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Это наибольшая из степеней входящих в него одно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 Light"/>
              </a:rPr>
              <a:t>Что умеем?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водить многочлен к стандартному вид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ходить значение многочле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ять степень многочле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 сложение и вычитание многочленов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04040"/>
                </a:solidFill>
                <a:latin typeface="Calibri Light"/>
              </a:rPr>
              <a:t>     </a:t>
            </a:r>
            <a:r>
              <a:rPr b="1" i="1" lang="ru-RU" sz="4300" spc="-1" strike="noStrike">
                <a:solidFill>
                  <a:srgbClr val="404040"/>
                </a:solidFill>
                <a:latin typeface="Arial"/>
              </a:rPr>
              <a:t>Распределительный закон умноже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98e3"/>
                </a:solidFill>
                <a:latin typeface="Arial"/>
              </a:rPr>
              <a:t>Чтобы умножить число на сумму, можно умножить это число на каждое слагаемое и результаты сложить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4383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(в+ с) = </a:t>
            </a: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Раскройте скобки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11280" y="17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(2х-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50920" y="170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6х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84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5а-1)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268360" y="2467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20а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75564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14400" y="3141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971640" y="3500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258920" y="3259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4 +2у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627280" y="3259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2-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468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5 (3р-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2050920" y="41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15р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442764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4498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427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716360" y="1628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-1)*(-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4282920" y="155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300720" y="1603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х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4211640" y="242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 (3а 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6084720" y="24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2,1а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99564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( 9- 0,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724360" y="33577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27 + 1,5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3995640" y="414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-х -2у)* (- 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622764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3х + 6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324000" y="4869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Распределительный закон умножения   (а + в)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= а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+ в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684360" y="765360"/>
            <a:ext cx="8001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членом называют сумму числовых и буквенных множ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енный множитель одночлена, записанного в стандартном виде, называют коэффициентом одночл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е выражение, которое содержит произведение чисел и букв, называют одночле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показателей степеней всех букв входящих в одночлен называют степенью одночл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раскрыть скобки, перед которыми стоит зна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кобки надо опустить, сохранив знак каждого члена, который был заключен в ск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раскрываем скобки, перед которыми стоит зна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кобки опускаем, и знаки членов, которые были заключены в скобки, меняют на противопо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верка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85920"/>
            <a:ext cx="69724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 —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 —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5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6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2843280" y="3786120"/>
            <a:ext cx="604980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3 жетона 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шибок нет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2 жетона</a:t>
            </a: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 ошиб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 жетон - две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шиб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0 жетонов 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больше двух ошиб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998800" y="2571840"/>
            <a:ext cx="5572080" cy="114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Calibri Light"/>
              </a:rPr>
              <a:t>Чему хотим научиться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1.Изучить правило умножения многочлена на одночлен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. Научиться применять его при преобразовании  выражений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 решении уравнений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AutoShape 4">
            <a:hlinkClick r:id="rId1" action="ppaction://hlinksldjump"/>
          </p:cNvPr>
          <p:cNvSpPr/>
          <p:nvPr/>
        </p:nvSpPr>
        <p:spPr>
          <a:xfrm>
            <a:off x="8459640" y="6381720"/>
            <a:ext cx="611280" cy="322200"/>
          </a:xfrm>
          <a:custGeom>
            <a:avLst/>
            <a:gdLst>
              <a:gd name="textAreaLeft" fmla="*/ 20880 w 611280"/>
              <a:gd name="textAreaRight" fmla="*/ 590400 w 611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958" h="21600">
                <a:moveTo>
                  <a:pt x="0" y="0"/>
                </a:moveTo>
                <a:lnTo>
                  <a:pt x="40958" y="0"/>
                </a:lnTo>
                <a:lnTo>
                  <a:pt x="40958" y="21600"/>
                </a:lnTo>
                <a:lnTo>
                  <a:pt x="0" y="21600"/>
                </a:lnTo>
                <a:close/>
              </a:path>
              <a:path fill="lightenLess" w="40958" h="21600">
                <a:moveTo>
                  <a:pt x="0" y="0"/>
                </a:moveTo>
                <a:lnTo>
                  <a:pt x="40958" y="0"/>
                </a:lnTo>
                <a:lnTo>
                  <a:pt x="39558" y="1400"/>
                </a:lnTo>
                <a:lnTo>
                  <a:pt x="1400" y="1400"/>
                </a:lnTo>
                <a:close/>
              </a:path>
              <a:path fill="darken" w="40958" h="21600">
                <a:moveTo>
                  <a:pt x="40958" y="0"/>
                </a:moveTo>
                <a:lnTo>
                  <a:pt x="40958" y="21600"/>
                </a:lnTo>
                <a:lnTo>
                  <a:pt x="39558" y="20200"/>
                </a:lnTo>
                <a:lnTo>
                  <a:pt x="39558" y="1400"/>
                </a:lnTo>
                <a:close/>
              </a:path>
              <a:path fill="darkenLess" w="40958" h="21600">
                <a:moveTo>
                  <a:pt x="4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8" y="20200"/>
                </a:lnTo>
                <a:close/>
              </a:path>
              <a:path fill="lighten" w="4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8" h="21600">
                <a:moveTo>
                  <a:pt x="13473" y="3794"/>
                </a:moveTo>
                <a:lnTo>
                  <a:pt x="27485" y="10800"/>
                </a:lnTo>
                <a:lnTo>
                  <a:pt x="13473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Умножение одночлена на многочлен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8360" y="4085280"/>
            <a:ext cx="71280" cy="1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637052"/>
              </a:solidFill>
              <a:latin typeface="Calibri Light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124000" y="54864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98e3"/>
                </a:solidFill>
                <a:latin typeface="Arial"/>
              </a:rPr>
              <a:t>«Корень учения горек, зато плод его слад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1128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ПК</cp:lastModifiedBy>
  <dcterms:modified xsi:type="dcterms:W3CDTF">2015-01-31T17:40:40Z</dcterms:modified>
  <cp:revision>78</cp:revision>
  <dc:subject/>
  <dc:title>шаблон для презентаций</dc:title>
</cp:coreProperties>
</file>