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9.gif" ContentType="image/gif"/>
  <Override PartName="/ppt/media/image10.gif" ContentType="image/gif"/>
  <Override PartName="/ppt/media/image8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6.jpeg" ContentType="image/jpeg"/>
  <Override PartName="/ppt/media/image4.png" ContentType="image/png"/>
  <Override PartName="/ppt/media/image24.gif" ContentType="image/gif"/>
  <Override PartName="/ppt/media/image2.jpeg" ContentType="image/jpeg"/>
  <Override PartName="/ppt/media/image23.jpeg" ContentType="image/jpeg"/>
  <Override PartName="/ppt/media/image26.png" ContentType="image/png"/>
  <Override PartName="/ppt/media/image22.gif" ContentType="image/gif"/>
  <Override PartName="/ppt/media/image25.png" ContentType="image/png"/>
  <Override PartName="/ppt/media/image20.gif" ContentType="image/gif"/>
  <Override PartName="/ppt/media/image18.jpeg" ContentType="image/jpeg"/>
  <Override PartName="/ppt/media/image19.gif" ContentType="image/gif"/>
  <Override PartName="/ppt/media/image1.jpeg" ContentType="image/jpeg"/>
  <Override PartName="/ppt/media/image5.png" ContentType="image/png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3E8-0622-4A9A-996D-9AD2C0DC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AB6-F2B0-4FD4-B134-1D62127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066-FDA7-463B-8D22-DBA37F61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F0A-B38F-468D-9182-6C5EEA3B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8DF-940B-4BD1-8CB9-DFFEC9E9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5A1-72BB-4C18-B39D-A0009A61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D4A-05AD-4D6B-ADA4-809CE111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FF8-1F98-4D2D-BD59-462601E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3E1-7361-4D3B-8877-62A8440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9FE-909C-4F76-AB4B-A14C8E07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895-C221-4482-B4A3-9986579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835-2EC1-415B-81D0-C6959B7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0defef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BDA-0657-4BC4-8772-D77963467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9.gi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hyperlink" Target="file:///&#1089;&#1083;&#1072;&#1081;&#1076;%2015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Изображение 007"/>
          <p:cNvPicPr/>
          <p:nvPr/>
        </p:nvPicPr>
        <p:blipFill>
          <a:blip r:embed="rId1"/>
          <a:stretch/>
        </p:blipFill>
        <p:spPr>
          <a:xfrm>
            <a:off x="250920" y="33336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Изображение 009"/>
          <p:cNvPicPr/>
          <p:nvPr/>
        </p:nvPicPr>
        <p:blipFill>
          <a:blip r:embed="rId2"/>
          <a:stretch/>
        </p:blipFill>
        <p:spPr>
          <a:xfrm>
            <a:off x="5940360" y="4437000"/>
            <a:ext cx="2664000" cy="2016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476360" y="0"/>
            <a:ext cx="6076800" cy="672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рок русского языка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4 (1-4)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Разработан: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чителем начальных классов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МОУ СОШ с.Работки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Шульпиной Ольгой Германовной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Соедините глаголы с соответствующими картинками, определите род гла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095726"/>
          <p:cNvPicPr/>
          <p:nvPr/>
        </p:nvPicPr>
        <p:blipFill>
          <a:blip r:embed="rId2"/>
          <a:stretch/>
        </p:blipFill>
        <p:spPr>
          <a:xfrm>
            <a:off x="684360" y="1773360"/>
            <a:ext cx="183816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J0095737"/>
          <p:cNvPicPr/>
          <p:nvPr/>
        </p:nvPicPr>
        <p:blipFill>
          <a:blip r:embed="rId3"/>
          <a:stretch/>
        </p:blipFill>
        <p:spPr>
          <a:xfrm>
            <a:off x="3059280" y="1700280"/>
            <a:ext cx="2495520" cy="128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BD13705_"/>
          <p:cNvPicPr/>
          <p:nvPr/>
        </p:nvPicPr>
        <p:blipFill>
          <a:blip r:embed="rId4"/>
          <a:stretch/>
        </p:blipFill>
        <p:spPr>
          <a:xfrm>
            <a:off x="6659640" y="1484280"/>
            <a:ext cx="1257120" cy="1728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718200" y="4030560"/>
            <a:ext cx="14608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ле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694680" y="4005360"/>
            <a:ext cx="14655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ле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723000" y="3951360"/>
            <a:ext cx="127656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уле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V="1">
            <a:off x="4427640" y="3141360"/>
            <a:ext cx="2449440" cy="863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2123640" y="2924280"/>
            <a:ext cx="5256360" cy="1009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1476360" y="2781360"/>
            <a:ext cx="2664000" cy="1224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708360" y="5157720"/>
            <a:ext cx="137016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мужской 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669000" y="5157720"/>
            <a:ext cx="1377000" cy="703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ж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781920" y="5157720"/>
            <a:ext cx="1328400" cy="703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сре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03184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187920" y="6165720"/>
            <a:ext cx="873036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Как определить род глагола в прошедшем време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1041 C 0.1092 0.00648 0.21545 -0.00092 0.32153 -0.00092 E">
                                      <p:cBhvr>
                                        <p:cTn id="17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92 C 0.11753 0.00786 0.05104 0.00347 0.31441 -0.00092 C 0.3184 -0.00092 0.32604 -0.00416 0.32604 -0.00416 E">
                                      <p:cBhvr>
                                        <p:cTn id="1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393 C -0.04861 0.00139 -0.09878 0.00162 -0.14947 0.00439 C -0.31423 0.03746 -0.48507 0.00231 -0.64913 0.00231 E">
                                      <p:cBhvr>
                                        <p:cTn id="18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рочитайте глаголы, распределите их по группам по самостоятельно найденному призн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1916280"/>
            <a:ext cx="14396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гово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948560" y="1916280"/>
            <a:ext cx="14792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вет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25120" y="1916280"/>
            <a:ext cx="13100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игр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645360" y="2755800"/>
            <a:ext cx="13694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и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588000" y="1916280"/>
            <a:ext cx="210816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споминал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435640" y="3500280"/>
            <a:ext cx="1655640" cy="82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ылетел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219640" y="2755800"/>
            <a:ext cx="1800360" cy="825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ступило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908000" y="1916280"/>
            <a:ext cx="1368720" cy="734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рыгал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979640" y="2755800"/>
            <a:ext cx="1368360" cy="734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лови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50920" y="2755800"/>
            <a:ext cx="1295280" cy="8254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белело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050920" y="3573360"/>
            <a:ext cx="1366920" cy="1038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инел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3708360" y="3554280"/>
            <a:ext cx="1368360" cy="8254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шуршал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50920" y="3548160"/>
            <a:ext cx="1511280" cy="8254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осадил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7380360" y="2755800"/>
            <a:ext cx="1441440" cy="8254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осеяла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7451640" y="3500280"/>
            <a:ext cx="1440000" cy="825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звенела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7" descr="AG00317_"/>
          <p:cNvPicPr/>
          <p:nvPr/>
        </p:nvPicPr>
        <p:blipFill>
          <a:blip r:embed="rId17"/>
          <a:stretch/>
        </p:blipFill>
        <p:spPr>
          <a:xfrm>
            <a:off x="6659640" y="4221000"/>
            <a:ext cx="1906560" cy="244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4"/>
          <p:cNvSpPr txBox="1"/>
          <p:nvPr/>
        </p:nvSpPr>
        <p:spPr>
          <a:xfrm>
            <a:off x="539640" y="5516640"/>
            <a:ext cx="583272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08092E-006 L 0.18907 -0.11352 E">
                                      <p:cBhvr>
                                        <p:cTn id="19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879 L -0.18125 0.12232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8 L -0.16979 0.36532 E">
                                      <p:cBhvr>
                                        <p:cTn id="20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1133 C -0.03802 0.05133 -0.07014 0.09133 -0.13281 0.10867 C -0.19548 0.12601 -0.34045 0.11422 -0.38194 0.11492 E">
                                      <p:cBhvr>
                                        <p:cTn id="20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104 L -0.33576 0.00879 E">
                                      <p:cBhvr>
                                        <p:cTn id="21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17709 -0.00185 E">
                                      <p:cBhvr>
                                        <p:cTn id="22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092E-006 C -0.03576 0.10682 -0.07135 0.21387 -0.1118 0.27122 C -0.15208 0.32879 -0.20035 0.33087 -0.24271 0.34451 C -0.28507 0.35838 -0.34583 0.35191 -0.36614 0.3533 E">
                                      <p:cBhvr>
                                        <p:cTn id="22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68360" y="404640"/>
            <a:ext cx="8280360" cy="57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Рисунок1"/>
          <p:cNvPicPr/>
          <p:nvPr/>
        </p:nvPicPr>
        <p:blipFill>
          <a:blip r:embed="rId2"/>
          <a:stretch/>
        </p:blipFill>
        <p:spPr>
          <a:xfrm>
            <a:off x="539640" y="1125360"/>
            <a:ext cx="2374920" cy="3745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910240" y="1197000"/>
            <a:ext cx="585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Какие оконч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имеют глаголы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прошедш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реме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620640"/>
          <a:ext cx="8229600" cy="5688000"/>
        </p:xfrm>
        <a:graphic>
          <a:graphicData uri="http://schemas.openxmlformats.org/drawingml/2006/table">
            <a:tbl>
              <a:tblPr/>
              <a:tblGrid>
                <a:gridCol w="2530440"/>
                <a:gridCol w="2736720"/>
                <a:gridCol w="29624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Един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Множестве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ужско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Женск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Средн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6" name="Rectangle 99"/>
          <p:cNvSpPr/>
          <p:nvPr/>
        </p:nvSpPr>
        <p:spPr>
          <a:xfrm>
            <a:off x="3995640" y="184464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1"/>
          <p:cNvSpPr/>
          <p:nvPr/>
        </p:nvSpPr>
        <p:spPr>
          <a:xfrm>
            <a:off x="3995640" y="270828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2"/>
          <p:cNvSpPr/>
          <p:nvPr/>
        </p:nvSpPr>
        <p:spPr>
          <a:xfrm>
            <a:off x="3995640" y="3645000"/>
            <a:ext cx="936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5"/>
          <p:cNvSpPr/>
          <p:nvPr/>
        </p:nvSpPr>
        <p:spPr>
          <a:xfrm>
            <a:off x="6732720" y="4941720"/>
            <a:ext cx="93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-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Сравните глаголы в неопределенной форме и в прошедшем времени. Какой суффикс пишется перед суффиксом –л-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52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тро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стро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Брос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брос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ер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и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 вер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та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е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  се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ид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е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вид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Зате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 зате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е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я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 ве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Слыш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 слыш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Нач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ть-       нач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?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у доски"/>
          <p:cNvPicPr/>
          <p:nvPr/>
        </p:nvPicPr>
        <p:blipFill>
          <a:blip r:embed="rId3"/>
          <a:stretch/>
        </p:blipFill>
        <p:spPr>
          <a:xfrm>
            <a:off x="6804000" y="3573360"/>
            <a:ext cx="1809720" cy="28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5364000" y="1916280"/>
            <a:ext cx="2232360" cy="1368360"/>
          </a:xfrm>
          <a:prstGeom prst="cloudCallout">
            <a:avLst>
              <a:gd name="adj1" fmla="val 14152"/>
              <a:gd name="adj2" fmla="val 218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524560" y="2133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172200" y="22766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748560" y="20606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172200" y="2708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595840" y="26370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675480" y="2492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148360" y="335772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4643280" y="1700280"/>
            <a:ext cx="50508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4067280" y="2133720"/>
            <a:ext cx="504720" cy="5760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>
            <a:off x="3924360" y="386064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9"/>
          <p:cNvSpPr/>
          <p:nvPr/>
        </p:nvSpPr>
        <p:spPr>
          <a:xfrm>
            <a:off x="4572000" y="422100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3708360" y="472428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1"/>
          <p:cNvSpPr/>
          <p:nvPr/>
        </p:nvSpPr>
        <p:spPr>
          <a:xfrm>
            <a:off x="4716360" y="5084640"/>
            <a:ext cx="50508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851280" y="5589720"/>
            <a:ext cx="504720" cy="5760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4500720" y="256536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3419640" y="2997360"/>
            <a:ext cx="504720" cy="5760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4211640" y="3429000"/>
            <a:ext cx="504720" cy="57636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8" descr="Голубые холмы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рочитайте пословицы, поговорки, фразеологические обороты. Объедините их в группы по общему признаку,объясн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478080" y="206064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Душа в пятки у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876560" y="2060640"/>
            <a:ext cx="33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Дернуло за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1197720" y="3357720"/>
            <a:ext cx="64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Пропал, как камень в воду ка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87840" y="479736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ровь застыла в жи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149800" y="479736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орвалось с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1128240" y="5950080"/>
            <a:ext cx="72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Он словно сквозь землю провал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>
            <a:hlinkClick r:id="rId3"/>
          </p:cNvPr>
          <p:cNvSpPr/>
          <p:nvPr/>
        </p:nvSpPr>
        <p:spPr>
          <a:xfrm>
            <a:off x="755640" y="2637000"/>
            <a:ext cx="485640" cy="2160360"/>
          </a:xfrm>
          <a:prstGeom prst="upDownArrow">
            <a:avLst>
              <a:gd name="adj1" fmla="val 50000"/>
              <a:gd name="adj2" fmla="val 885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4643280" y="3860640"/>
            <a:ext cx="486000" cy="2016360"/>
          </a:xfrm>
          <a:prstGeom prst="upDownArrow">
            <a:avLst>
              <a:gd name="adj1" fmla="val 50000"/>
              <a:gd name="adj2" fmla="val 8259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7524720" y="2708280"/>
            <a:ext cx="485640" cy="2160720"/>
          </a:xfrm>
          <a:prstGeom prst="upDownArrow">
            <a:avLst>
              <a:gd name="adj1" fmla="val 50000"/>
              <a:gd name="adj2" fmla="val 8857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AG00315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00280"/>
            <a:ext cx="2333880" cy="28083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6"/>
          <p:cNvSpPr txBox="1"/>
          <p:nvPr/>
        </p:nvSpPr>
        <p:spPr>
          <a:xfrm>
            <a:off x="684360" y="836640"/>
            <a:ext cx="741672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_0379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260280"/>
            <a:ext cx="8569080" cy="6166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26" name="Picture 4" descr="AG00319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5262480"/>
            <a:ext cx="2322720" cy="1595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1"/>
          <p:cNvSpPr/>
          <p:nvPr/>
        </p:nvSpPr>
        <p:spPr>
          <a:xfrm>
            <a:off x="2901960" y="476280"/>
            <a:ext cx="287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Мы зн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84360" y="1125360"/>
            <a:ext cx="100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голы в прошедшем времени отвечают на вопрос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делал? что сделал? что делала? что сделала? что дела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сделало? что делали? что сдел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61680" y="2204280"/>
            <a:ext cx="65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лаголы в прошедшем времени имеют суффикс -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53760" y="285228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голы в прошедшем времени изменяются по числ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единственном числе и по 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653760" y="378900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д глагола определяется по роду имени существительн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 которым глагол связан в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-7200" y="4581000"/>
            <a:ext cx="82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лаголах прошедшего времени перед суффиксом -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шется тот же суффикс, что и перед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в неопред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Andromeda"/>
          <p:cNvPicPr/>
          <p:nvPr/>
        </p:nvPicPr>
        <p:blipFill>
          <a:blip r:embed="rId1"/>
          <a:stretch/>
        </p:blipFill>
        <p:spPr>
          <a:xfrm>
            <a:off x="611280" y="549360"/>
            <a:ext cx="8001000" cy="568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439800" y="110016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орф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4500720" y="4869000"/>
            <a:ext cx="3990960" cy="1295280"/>
          </a:xfrm>
          <a:prstGeom prst="rect">
            <a:avLst/>
          </a:prstGeom>
          <a:ln w="9360">
            <a:solidFill>
              <a:srgbClr val="66ff33"/>
            </a:solidFill>
            <a:miter/>
          </a:ln>
        </p:spPr>
      </p:pic>
      <p:pic>
        <p:nvPicPr>
          <p:cNvPr id="236" name="Picture 8" descr="J0095737"/>
          <p:cNvPicPr/>
          <p:nvPr/>
        </p:nvPicPr>
        <p:blipFill>
          <a:blip r:embed="rId3"/>
          <a:stretch/>
        </p:blipFill>
        <p:spPr>
          <a:xfrm>
            <a:off x="1116000" y="1197000"/>
            <a:ext cx="1800360" cy="936720"/>
          </a:xfrm>
          <a:prstGeom prst="rect">
            <a:avLst/>
          </a:prstGeom>
          <a:ln w="0">
            <a:noFill/>
          </a:ln>
        </p:spPr>
      </p:pic>
      <p:pic>
        <p:nvPicPr>
          <p:cNvPr id="237" name="4.PAN DANA - THE GOOD THE BAD.mp3" descr=""/>
          <p:cNvPicPr/>
          <p:nvPr/>
        </p:nvPicPr>
        <p:blipFill>
          <a:blip r:embed="rId4"/>
          <a:stretch/>
        </p:blipFill>
        <p:spPr>
          <a:xfrm>
            <a:off x="1042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4 -0.06913 C 0.13298 -0.08763 0.16909 -0.10612 0.18593 -0.11352 C 0.20277 -0.12092 0.18003 -0.11306 0.19861 -0.11352 C 0.21718 -0.11399 0.2618 -0.11537 0.29704 -0.1156 C 0.33229 -0.11583 0.36979 -0.11583 0.40972 -0.1156 C 0.44965 -0.11537 0.49965 -0.11537 0.53663 -0.11352 C 0.57361 -0.11167 0.61111 -0.11953 0.63194 -0.1052 C 0.65277 -0.09086 0.65625 -0.05109 0.66198 -0.02682 C 0.6677 -0.00254 0.68593 0.02197 0.66684 0.0407 C 0.64774 0.05943 0.58402 0.07885 0.54774 0.08509 C 0.51145 0.09133 0.48333 0.07908 0.44913 0.07885 C 0.41527 0.07862 0.38559 0.08208 0.34305 0.08301 C 0.30052 0.08393 0.24114 0.08509 0.19375 0.08509 C 0.14635 0.08509 0.09288 0.08324 0.05885 0.08301 C 0.02482 0.08278 0.00868 0.07284 -0.01094 0.08301 C -0.03056 0.09318 -0.04688 0.12671 -0.05851 0.14428 C -0.07014 0.16185 -0.0816 0.17249 -0.08073 0.18867 C -0.07986 0.20486 -0.08021 0.23168 -0.05382 0.24162 C -0.02743 0.25156 0.03437 0.24717 0.07795 0.24786 C 0.12152 0.24856 0.1651 0.24717 0.20816 0.24578 C 0.25121 0.2444 0.28507 0.23954 0.33645 0.23954 C 0.38819 0.23954 0.47465 0.24301 0.51753 0.24578 C 0.56041 0.24856 0.57152 0.2518 0.59375 0.25642 C 0.61597 0.26104 0.6401 0.26266 0.65086 0.2733 C 0.66163 0.28393 0.65642 0.30428 0.65885 0.31977 C 0.66128 0.33526 0.67152 0.3533 0.66527 0.36625 C 0.65902 0.37919 0.64357 0.39307 0.62083 0.39792 C 0.59809 0.40278 0.56041 0.39561 0.52864 0.39584 C 0.49687 0.39607 0.46267 0.39931 0.4302 0.4 C 0.39791 0.4007 0.37014 0.39954 0.33507 0.4 C 0.29982 0.40047 0.26163 0.40162 0.21927 0.40232 C 0.17691 0.40301 0.1151 0.40301 0.08107 0.4044 C 0.04687 0.40578 0.03559 0.40786 0.01441 0.41064 C -0.00677 0.41341 -0.02969 0.41364 -0.04584 0.42128 C -0.06198 0.42891 -0.075 0.4444 -0.08247 0.45711 C -0.08993 0.46983 -0.09184 0.47908 -0.09028 0.49734 C -0.08872 0.51561 -0.08768 0.55515 -0.07292 0.56717 C -0.05816 0.57919 -0.02917 0.56925 -0.00139 0.56925 C 0.02639 0.56925 0.05746 0.57041 0.09375 0.56717 C 0.13003 0.56393 0.18507 0.55284 0.21597 0.55029 C 0.24687 0.54775 0.26944 0.55307 0.27951 0.55237 E">
                                      <p:cBhvr>
                                        <p:cTn id="404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252379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Andromeda"/>
          <p:cNvPicPr/>
          <p:nvPr/>
        </p:nvPicPr>
        <p:blipFill>
          <a:blip r:embed="rId1"/>
          <a:stretch/>
        </p:blipFill>
        <p:spPr>
          <a:xfrm>
            <a:off x="611280" y="549360"/>
            <a:ext cx="8001000" cy="568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439800" y="110016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орф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095737"/>
          <p:cNvPicPr/>
          <p:nvPr/>
        </p:nvPicPr>
        <p:blipFill>
          <a:blip r:embed="rId2"/>
          <a:stretch/>
        </p:blipFill>
        <p:spPr>
          <a:xfrm>
            <a:off x="1258920" y="5373720"/>
            <a:ext cx="163188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4.PAN DANA - THE GOOD THE BAD.mp3" descr=""/>
          <p:cNvPicPr/>
          <p:nvPr/>
        </p:nvPicPr>
        <p:blipFill>
          <a:blip r:embed="rId3"/>
          <a:stretch/>
        </p:blipFill>
        <p:spPr>
          <a:xfrm>
            <a:off x="78588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5896E-006 C 0.01302 0.00486 0.02448 0.00717 0.0382 0.00879 C 0.08959 0.02566 0.13073 0.02636 0.18577 0.02775 C 0.22153 0.02197 0.25434 0.02197 0.29063 0.02358 C 0.29584 0.02428 0.30139 0.02335 0.30643 0.02566 C 0.30973 0.02705 0.31129 0.03191 0.31441 0.03422 C 0.32188 0.04023 0.33039 0.04578 0.33802 0.0511 C 0.35782 0.05017 0.37726 0.05017 0.3967 0.04902 C 0.41164 0.04809 0.42639 0.04023 0.44132 0.03838 C 0.45261 0.0326 0.46476 0.03121 0.47622 0.02566 C 0.48229 0.02266 0.48681 0.0178 0.49219 0.01295 C 0.49479 0.01064 0.49861 0.01156 0.50174 0.01087 C 0.5033 0.00948 0.50469 0.0074 0.50643 0.0067 C 0.50851 0.00555 0.51094 0.00578 0.51285 0.00462 C 0.51424 0.0037 0.51476 0.00139 0.51598 2.65896E-006 C 0.53143 -0.01526 0.52049 -0.00116 0.53021 -0.0148 C 0.53299 -0.0289 0.53802 -0.03746 0.54445 -0.0504 C 0.54705 -0.05572 0.54566 -0.05919 0.54775 -0.0652 C 0.54896 -0.06844 0.55087 -0.07098 0.55243 -0.07399 C 0.54827 -0.08208 0.54532 -0.08185 0.5382 -0.08416 C 0.44584 -0.08093 0.35278 -0.08717 0.26042 -0.08879 C 0.24028 -0.09225 0.21979 -0.09595 0.2 -0.10104 C 0.18837 -0.10751 0.17587 -0.10751 0.16354 -0.11168 C 0.11771 -0.10173 0.07101 -0.10983 0.02552 -0.11815 C 0.01059 -0.1237 -0.00139 -0.12509 -0.01736 -0.12647 C -0.02864 -0.13133 -0.01545 -0.12624 -0.03646 -0.13064 C -0.04288 -0.13202 -0.04913 -0.13549 -0.05555 -0.13711 C -0.06354 -0.14127 -0.07118 -0.14266 -0.07934 -0.14543 C -0.08646 -0.15214 -0.09444 -0.15607 -0.10156 -0.16254 C -0.10555 -0.1704 -0.11024 -0.1778 -0.11423 -0.18566 C -0.11267 -0.1963 -0.1125 -0.20116 -0.10468 -0.20462 C -0.08541 -0.22266 -0.05 -0.20948 -0.03333 -0.20902 C -0.02239 -0.20555 -0.01284 -0.20439 -0.00156 -0.20254 C 0.01459 -0.19977 0.03004 -0.19145 0.04618 -0.18983 C 0.05782 -0.18867 0.06945 -0.18844 0.08108 -0.18775 C 0.09983 -0.1815 0.12066 -0.1711 0.13976 -0.16879 C 0.17813 -0.16393 0.21719 -0.16393 0.25556 -0.16254 C 0.2974 -0.14197 0.28907 -0.15214 0.35886 -0.15399 C 0.39219 -0.15584 0.4165 -0.16093 0.4507 -0.16254 C 0.46493 -0.16416 0.47813 -0.16717 0.49219 -0.16879 C 0.50104 -0.17272 0.5099 -0.17503 0.5191 -0.17734 C 0.52518 -0.18243 0.53177 -0.18566 0.5382 -0.18983 C 0.54306 -0.19676 0.54775 -0.19699 0.554 -0.20046 C 0.56632 -0.2074 0.56441 -0.20601 0.57153 -0.21526 C 0.57257 -0.21803 0.57448 -0.22058 0.57466 -0.22382 C 0.57657 -0.2541 0.56598 -0.25688 0.54775 -0.25965 C 0.51111 -0.27145 0.46615 -0.26728 0.43177 -0.26821 C 0.41216 -0.25942 0.36424 -0.2622 0.33976 -0.25965 C 0.32674 -0.2548 0.31511 -0.25156 0.30174 -0.24902 C 0.27657 -0.23815 0.23785 -0.24139 0.21598 -0.24069 C 0.2007 -0.24324 0.18542 -0.24532 0.16997 -0.24694 C 0.12118 -0.25965 0.01789 -0.25295 -0.01111 -0.25341 C -0.02257 -0.25503 -0.03316 -0.25757 -0.04444 -0.25965 C -0.05173 -0.26613 -0.05989 -0.26751 -0.06823 -0.27029 C -0.07569 -0.2726 -0.0809 -0.27699 -0.08889 -0.27861 C -0.09618 -0.28555 -0.09097 -0.28185 -0.10156 -0.28509 C -0.10573 -0.28647 -0.11423 -0.28925 -0.11423 -0.28925 C -0.11545 -0.29017 -0.1243 -0.29549 -0.12534 -0.2978 C -0.12708 -0.3015 -0.12847 -0.31052 -0.12847 -0.31052 C -0.12691 -0.32809 -0.12656 -0.3341 -0.11423 -0.34012 C -0.09896 -0.36 -0.1026 -0.3526 -0.07291 -0.34636 C -0.06632 -0.34197 -0.06111 -0.33225 -0.05382 -0.33156 C -0.02725 -0.32948 -0.01823 -0.32879 0.01111 -0.32532 C 0.01598 -0.32486 0.02066 -0.32324 0.02552 -0.32301 C 0.06736 -0.32162 0.10903 -0.32162 0.15087 -0.32093 C 0.18872 -0.31376 0.22848 -0.31029 0.26667 -0.30821 C 0.28403 -0.29919 0.30556 -0.30127 0.32396 -0.29988 C 0.35209 -0.29457 0.35 -0.2941 0.3967 -0.29988 C 0.39948 -0.30012 0.40087 -0.30474 0.40313 -0.30613 C 0.4158 -0.3126 0.44254 -0.3133 0.45243 -0.31468 C 0.46337 -0.31815 0.47275 -0.31954 0.4842 -0.32093 C 0.49393 -0.33017 0.52674 -0.33249 0.5382 -0.33364 C 0.54809 -0.33688 0.55834 -0.33988 0.56841 -0.3422 C 0.57761 -0.35145 0.57917 -0.34543 0.5842 -0.35908 C 0.58368 -0.36532 0.5842 -0.37202 0.58264 -0.37803 C 0.58073 -0.3859 0.57587 -0.38451 0.57153 -0.38659 C 0.56407 -0.39029 0.55695 -0.39376 0.54931 -0.39699 C 0.5349 -0.40994 0.50417 -0.40809 0.49063 -0.40971 C 0.42761 -0.40832 0.36476 -0.40717 0.30174 -0.40347 C 0.2099 -0.40439 0.14445 -0.40462 0.06198 -0.40971 C 0.03438 -0.41364 0.00764 -0.4185 -0.02048 -0.42035 C -0.03003 -0.42289 -0.03941 -0.42728 -0.04913 -0.4289 C -0.0618 -0.43121 -0.07448 -0.43121 -0.08715 -0.43306 C -0.09705 -0.43815 -0.09861 -0.43538 -0.10312 -0.44786 C -0.1026 -0.45711 -0.1033 -0.46659 -0.10156 -0.47538 C -0.09896 -0.48856 -0.08958 -0.49156 -0.08246 -0.4985 C -0.05121 -0.49665 -0.02014 -0.49249 0.01111 -0.49017 C 0.04167 -0.48069 0.02466 -0.48416 0.06198 -0.48162 C 0.06459 -0.48093 0.06736 -0.48023 0.06979 -0.47954 C 0.07414 -0.47815 0.08264 -0.47538 0.08264 -0.47538 C 0.14584 -0.47954 0.16181 -0.47723 0.22865 -0.47538 C 0.27726 -0.47006 0.26667 -0.47075 0.34775 -0.4689 C 0.39792 -0.46382 0.33802 -0.46936 0.4349 -0.46474 C 0.45625 -0.46382 0.49844 -0.46058 0.49844 -0.46058 C 0.53716 -0.45341 0.52778 -0.45434 0.58733 -0.45619 C 0.5941 -0.46081 0.59445 -0.45896 0.59688 -0.4689 C 0.59827 -0.47445 0.6 -0.48578 0.6 -0.48578 C 0.58907 -0.48994 0.5757 -0.50127 0.56511 -0.50289 C 0.5507 -0.5052 0.53664 -0.5059 0.52223 -0.50913 C 0.50504 -0.51676 0.47518 -0.51445 0.45886 -0.51538 C 0.44948 -0.51769 0.44132 -0.52023 0.43177 -0.52185 C 0.40539 -0.53364 0.36598 -0.53202 0.33664 -0.53457 C 0.27934 -0.55306 0.21302 -0.53434 0.15243 -0.54497 C 0.13646 -0.53064 0.11493 -0.54104 0.09688 -0.54497 C 0.08854 -0.55075 0.09132 -0.54613 0.08889 -0.55769 C 0.08837 -0.55977 0.08733 -0.56416 0.08733 -0.56416 E">
                                      <p:cBhvr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5640" y="981000"/>
            <a:ext cx="763272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« Правописание глаголов прошедшего времен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b3"/>
          <p:cNvPicPr/>
          <p:nvPr/>
        </p:nvPicPr>
        <p:blipFill>
          <a:blip r:embed="rId2"/>
          <a:stretch/>
        </p:blipFill>
        <p:spPr>
          <a:xfrm>
            <a:off x="5867280" y="1484280"/>
            <a:ext cx="1828800" cy="179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58920" y="836640"/>
            <a:ext cx="865080" cy="547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76364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1258920" y="501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258920" y="4365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1258920" y="566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1258920" y="220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76364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258920" y="155736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403280" y="620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332000" y="170028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95280" y="2852640"/>
            <a:ext cx="849780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25892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212400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313200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14036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507672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4"/>
          <p:cNvSpPr/>
          <p:nvPr/>
        </p:nvSpPr>
        <p:spPr>
          <a:xfrm>
            <a:off x="601200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>
            <a:off x="788508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6948360" y="765000"/>
            <a:ext cx="936720" cy="360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694836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6877080" y="364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6948360" y="2133720"/>
            <a:ext cx="936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6948360" y="1413000"/>
            <a:ext cx="936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6948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394280" y="126828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1292400" y="191628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1403280" y="270828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260360" y="3429000"/>
            <a:ext cx="9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366560" y="4076640"/>
            <a:ext cx="6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1302480" y="4724280"/>
            <a:ext cx="7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356120" y="537372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7084080" y="47628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7134480" y="1197000"/>
            <a:ext cx="6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7118280" y="1989000"/>
            <a:ext cx="66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7153200" y="2708280"/>
            <a:ext cx="63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7134480" y="3429000"/>
            <a:ext cx="6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omic Sans MS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6948360" y="2852640"/>
            <a:ext cx="9367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6877080" y="3645000"/>
            <a:ext cx="100800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1"/>
          <p:cNvSpPr/>
          <p:nvPr/>
        </p:nvSpPr>
        <p:spPr>
          <a:xfrm>
            <a:off x="694836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788508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3"/>
          <p:cNvSpPr/>
          <p:nvPr/>
        </p:nvSpPr>
        <p:spPr>
          <a:xfrm>
            <a:off x="2124000" y="2852640"/>
            <a:ext cx="0" cy="792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>
            <a:off x="1258920" y="220500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1258920" y="436572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6"/>
          <p:cNvSpPr/>
          <p:nvPr/>
        </p:nvSpPr>
        <p:spPr>
          <a:xfrm>
            <a:off x="1258920" y="501336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9"/>
          <p:cNvSpPr/>
          <p:nvPr/>
        </p:nvSpPr>
        <p:spPr>
          <a:xfrm>
            <a:off x="1258920" y="5661000"/>
            <a:ext cx="865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2268360" y="3860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1"/>
          <p:cNvSpPr/>
          <p:nvPr/>
        </p:nvSpPr>
        <p:spPr>
          <a:xfrm>
            <a:off x="2556000" y="3860640"/>
            <a:ext cx="4608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Милли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н задачек с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Мне решит пом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щник м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Он с одним огр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мным гл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И с квадратной голов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Он всегда мне даст сов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Е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На люб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й вопр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с-отв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Е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2"/>
          <p:cNvSpPr/>
          <p:nvPr/>
        </p:nvSpPr>
        <p:spPr>
          <a:xfrm>
            <a:off x="492840" y="2708280"/>
            <a:ext cx="6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3"/>
          <p:cNvSpPr/>
          <p:nvPr/>
        </p:nvSpPr>
        <p:spPr>
          <a:xfrm>
            <a:off x="2300400" y="2708280"/>
            <a:ext cx="82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3276720" y="2708280"/>
            <a:ext cx="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5"/>
          <p:cNvSpPr/>
          <p:nvPr/>
        </p:nvSpPr>
        <p:spPr>
          <a:xfrm>
            <a:off x="4311360" y="2708280"/>
            <a:ext cx="6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6"/>
          <p:cNvSpPr/>
          <p:nvPr/>
        </p:nvSpPr>
        <p:spPr>
          <a:xfrm>
            <a:off x="5087520" y="2708280"/>
            <a:ext cx="84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7"/>
          <p:cNvSpPr/>
          <p:nvPr/>
        </p:nvSpPr>
        <p:spPr>
          <a:xfrm>
            <a:off x="6197760" y="2708280"/>
            <a:ext cx="60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8"/>
          <p:cNvSpPr/>
          <p:nvPr/>
        </p:nvSpPr>
        <p:spPr>
          <a:xfrm>
            <a:off x="8116200" y="2589120"/>
            <a:ext cx="6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6948360" y="2852640"/>
            <a:ext cx="93672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2" descr="j0195384"/>
          <p:cNvPicPr/>
          <p:nvPr/>
        </p:nvPicPr>
        <p:blipFill>
          <a:blip r:embed="rId3"/>
          <a:stretch/>
        </p:blipFill>
        <p:spPr>
          <a:xfrm>
            <a:off x="3564000" y="47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468360" y="404640"/>
            <a:ext cx="8280360" cy="57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исунок1"/>
          <p:cNvPicPr/>
          <p:nvPr/>
        </p:nvPicPr>
        <p:blipFill>
          <a:blip r:embed="rId2"/>
          <a:stretch/>
        </p:blipFill>
        <p:spPr>
          <a:xfrm>
            <a:off x="539640" y="1125360"/>
            <a:ext cx="2374920" cy="3745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830320" y="1197000"/>
            <a:ext cx="617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На какие вопрос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отвечают глаг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 прошедш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реме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611280" y="690480"/>
            <a:ext cx="7920000" cy="545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Прочитай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от_мнело, зел_нели, зат_нулось, росла,шуршал, выгл_нул, прибл_жалась, тр_щали, расцв_ла, бр_сали, тор_пился, см_ялось, шёл, затр_слись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Запиши, ставя к глаголам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Вставь пропущенные буквы. Выдели суффикс </a:t>
            </a:r>
            <a:r>
              <a:rPr b="1" i="1" lang="ru-RU" sz="3200" spc="-1" strike="noStrike">
                <a:solidFill>
                  <a:srgbClr val="990000"/>
                </a:solidFill>
                <a:latin typeface="Comic Sans MS"/>
              </a:rPr>
              <a:t>-л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Comic Sans MS"/>
              </a:rPr>
              <a:t>Прове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9900"/>
                </a:solidFill>
                <a:latin typeface="Comic Sans MS"/>
              </a:rPr>
              <a:t>Пот мнело, зел нели, зат нулось, росла, шуршал, выгл нул, прибл жалась, тр щали, расцв ла, бр сали, тор пился, см ялось, шёл,затр с-лис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908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17880" y="-7477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278960" y="-77328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372360" y="-81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5508360" y="-84456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8008200" y="-84456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413520" y="-9176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871320" y="-98892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7451640" y="-9889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900000" y="-9889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2837520" y="-89208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8532360" y="-917640"/>
            <a:ext cx="4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ill Sans MT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22r6"/>
          <p:cNvPicPr/>
          <p:nvPr/>
        </p:nvPicPr>
        <p:blipFill>
          <a:blip r:embed="rId2"/>
          <a:stretch/>
        </p:blipFill>
        <p:spPr>
          <a:xfrm>
            <a:off x="6516720" y="620640"/>
            <a:ext cx="1584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4624E-007 L 0.15868 0.51353 E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9.82659E-007 L -0.00677 0.51723 E">
                                      <p:cBhvr>
                                        <p:cTn id="9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47 L 3.88889E-006 0.52346 E">
                                      <p:cBhvr>
                                        <p:cTn id="9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323 L -0.03889 0.60115 E">
                                      <p:cBhvr>
                                        <p:cTn id="9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0323 L -0.03941 0.60439 E">
                                      <p:cBhvr>
                                        <p:cTn id="10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347 L -0.05382 0.68856 E">
                                      <p:cBhvr>
                                        <p:cTn id="10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L -0.13281 0.69549 E">
                                      <p:cBhvr>
                                        <p:cTn id="11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346 L -0.03923 0.69549 E">
                                      <p:cBhvr>
                                        <p:cTn id="11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346 L 0.06302 0.76185 E">
                                      <p:cBhvr>
                                        <p:cTn id="11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347 L 0.08907 0.75145 E">
                                      <p:cBhvr>
                                        <p:cTn id="12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0347 L -0.14896 0.75145 E">
                                      <p:cBhvr>
                                        <p:cTn id="12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53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Найдите глаголы в прошедшем времени и подпишите  рисунок, составьте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G00203_"/>
          <p:cNvPicPr/>
          <p:nvPr/>
        </p:nvPicPr>
        <p:blipFill>
          <a:blip r:embed="rId2"/>
          <a:stretch/>
        </p:blipFill>
        <p:spPr>
          <a:xfrm>
            <a:off x="684360" y="2060640"/>
            <a:ext cx="1361880" cy="942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AG00185_"/>
          <p:cNvPicPr/>
          <p:nvPr/>
        </p:nvPicPr>
        <p:blipFill>
          <a:blip r:embed="rId3"/>
          <a:stretch/>
        </p:blipFill>
        <p:spPr>
          <a:xfrm>
            <a:off x="4716360" y="1989000"/>
            <a:ext cx="1714680" cy="1175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AG00211_"/>
          <p:cNvPicPr/>
          <p:nvPr/>
        </p:nvPicPr>
        <p:blipFill>
          <a:blip r:embed="rId4"/>
          <a:stretch/>
        </p:blipFill>
        <p:spPr>
          <a:xfrm>
            <a:off x="2411280" y="3716280"/>
            <a:ext cx="162576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G00209_"/>
          <p:cNvPicPr/>
          <p:nvPr/>
        </p:nvPicPr>
        <p:blipFill>
          <a:blip r:embed="rId5"/>
          <a:stretch/>
        </p:blipFill>
        <p:spPr>
          <a:xfrm>
            <a:off x="6732720" y="3860640"/>
            <a:ext cx="1600200" cy="102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489040" y="1822320"/>
            <a:ext cx="12214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ры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507760" y="2398680"/>
            <a:ext cx="121392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ры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319120" y="2973240"/>
            <a:ext cx="157536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зарыч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58120" y="5062680"/>
            <a:ext cx="146844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танц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4960" y="4414680"/>
            <a:ext cx="1698480" cy="45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танце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85040" y="5783400"/>
            <a:ext cx="162540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танц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726600" y="1822320"/>
            <a:ext cx="1591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об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946920" y="2398680"/>
            <a:ext cx="1204920" cy="459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815880" y="2973240"/>
            <a:ext cx="1381680" cy="459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е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219640" y="4365720"/>
            <a:ext cx="733320" cy="45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076720" y="5013360"/>
            <a:ext cx="1016280" cy="459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ъ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973760" y="5710320"/>
            <a:ext cx="1060200" cy="459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ъ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19. PAUL MAURIAT - ALOUETTE .mp3" descr=""/>
          <p:cNvPicPr/>
          <p:nvPr/>
        </p:nvPicPr>
        <p:blipFill>
          <a:blip r:embed="rId18"/>
          <a:stretch/>
        </p:blipFill>
        <p:spPr>
          <a:xfrm>
            <a:off x="3924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2786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71 0.01457 C -0.06736 0.01619 -0.07135 0.01665 -0.07482 0.01873 C -0.07656 0.01966 -0.07795 0.02174 -0.07969 0.02289 C -0.08125 0.02382 -0.08281 0.02451 -0.08437 0.02521 C -0.10295 0.04948 -0.08698 0.02521 -0.09392 0.04209 C -0.09583 0.04648 -0.10035 0.0548 -0.10035 0.05503 C -0.10243 0.06289 -0.10538 0.07214 -0.10989 0.07792 C -0.11285 0.09041 -0.10903 0.07908 -0.11614 0.08856 C -0.12135 0.0955 -0.12396 0.10382 -0.13038 0.1096 C -0.146 0.14035 -0.17378 0.12024 -0.20347 0.12024 E">
                                      <p:cBhvr>
                                        <p:cTn id="13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0.03306 C -0.11458 0.05688 -0.09566 0.0437 -0.17239 0.04578 C -0.17708 0.04647 -0.18194 0.04624 -0.18663 0.04786 C -0.19687 0.05156 -0.18211 0.05364 -0.19461 0.05433 C -0.2052 0.05503 -0.2158 0.05433 -0.22639 0.05433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87 0.03237 C 0.09219 0.06543 0.07309 0.02243 0.08368 0.06197 C 0.0868 0.07376 0.09427 0.08023 0.09965 0.08948 C 0.10087 0.09156 0.10121 0.0941 0.10278 0.09572 C 0.10417 0.09711 0.10608 0.09711 0.10764 0.0978 C 0.1118 0.12093 0.11094 0.12809 0.12986 0.12948 C 0.14462 0.13064 0.15955 0.13133 0.1743 0.13156 C 0.19757 0.13202 0.22083 0.13156 0.2441 0.13156 E">
                                      <p:cBhvr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71 0.00855 C 0.09532 0.00855 0.1441 0.00855 0.19271 0.00855 E">
                                      <p:cBhvr>
                                        <p:cTn id="14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468360" y="404640"/>
            <a:ext cx="8280360" cy="579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Рисунок1"/>
          <p:cNvPicPr/>
          <p:nvPr/>
        </p:nvPicPr>
        <p:blipFill>
          <a:blip r:embed="rId2"/>
          <a:stretch/>
        </p:blipFill>
        <p:spPr>
          <a:xfrm>
            <a:off x="539640" y="1125360"/>
            <a:ext cx="2374920" cy="3745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700360" y="1197000"/>
            <a:ext cx="545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Как изменяю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глаголы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прошедше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време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02:07Z</dcterms:created>
  <dc:creator>qwert</dc:creator>
  <dc:description/>
  <dc:language>en-US</dc:language>
  <cp:lastModifiedBy>Админ</cp:lastModifiedBy>
  <dcterms:modified xsi:type="dcterms:W3CDTF">2015-01-31T11:16:34Z</dcterms:modified>
  <cp:revision>30</cp:revision>
  <dc:subject/>
  <dc:title>Слайд 1</dc:title>
</cp:coreProperties>
</file>