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CF84-046D-440B-8007-6D033B8A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DC21-37DB-4560-88E8-EF41A9D3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C2ED-D07C-4244-BFCA-5E8C2442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C6B9-13D8-4881-8E94-45531F9A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A734-9319-4368-8F8C-55CDA72C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E620-B419-4D47-9937-90497EA5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73CD0-DA65-4D2C-BE24-7E27DD2B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C803-F85C-4504-B53F-17ED31B1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F581-2EF8-42E0-9F61-E926C668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394A-F04B-4629-B051-4B2AB8D1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28AA-602D-4675-88B0-A22E435C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542-3C68-436B-8A28-C87EA469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5C67-EBB6-4ABE-AB4D-B73FB13A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FA598-D5D8-44BE-AC72-AB94BB0C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3A19-CA01-4EEA-A7F3-69A1AFCA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8A98-0314-4B7B-8501-131614280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E6B4-9F57-4E5F-907C-464E100C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258D-2189-4D3C-8923-97AE4929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5246-BA53-4DD9-9E4E-ED0D5180A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0BAF-854F-42AE-AD72-A21F3747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0CF4-99EA-49CE-AA30-3D06F8F9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565A-82A7-4941-98E0-B4A4BEE1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5200-59D4-4150-BE26-EEC9DF8C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80E6-FA9E-499D-8E76-3137C184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A58D-6461-4A7D-9061-04C0C84E5D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50EB-5388-48FD-A596-C90F866BD62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c0039"/>
                </a:solidFill>
                <a:latin typeface="Arial"/>
              </a:rPr>
              <a:t>ВСЕ ПРОФЕССИИ НУЖНЫ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00000" y="3357720"/>
            <a:ext cx="93600" cy="712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24480" bIns="244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ЧЕЛОВЕК И ИСКУССТВО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ЖИССЁР И АРТИСТ(ПЕВИ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3124080" cy="4495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195640" y="2349360"/>
            <a:ext cx="3384360" cy="424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651640" y="1628640"/>
            <a:ext cx="3240000" cy="480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ЧЕЛОВЕК И НАУКА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ОХИМИК И АСТРО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3124080" cy="4495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556000" y="2349360"/>
            <a:ext cx="2879640" cy="3816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724360" y="1628640"/>
            <a:ext cx="309564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39640" y="-4240080"/>
            <a:ext cx="9828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38280" y="189000"/>
            <a:ext cx="64008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Столько профессий, и все хорош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Каждый способен найти для душ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Стряпает торты и кексы кондитер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Груз на машине привозит водите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Смелый пожарный потушит огон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Спляшет на сцене артист под гармо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Ловит рыбак судака и треск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Клоуны в цирке разгонят тос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В цехе портные одежду сошью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А продавцы ее нам прода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Каждое дело по своему цѐнн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И пригодится всегда непременно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Можешь ли сейчас поня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Кем ты хочешь после ста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Где работать, кем трудить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На кого пойти учитьс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Да, вопросы сложноват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Но решенье есть, ребят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Нужно пробовать, мечт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О профессиях чит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В разные кружки ходи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8c0039"/>
                </a:solidFill>
                <a:latin typeface="Arial"/>
              </a:rPr>
              <a:t>Чтоб понять, кем хочешь быт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-4240080"/>
            <a:ext cx="69840" cy="886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339640" y="1530360"/>
            <a:ext cx="9828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771640" y="260280"/>
            <a:ext cx="604836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ОФЕССИИ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3124080" cy="4495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411280" y="1628640"/>
            <a:ext cx="648180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ЧЕЛОВЕК И ЖИВАЯ ПРИРОДА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ГРОНОМ И ВЕТЕРИН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3124080" cy="4495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340000" y="2205000"/>
            <a:ext cx="3311640" cy="4464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580000" y="1628640"/>
            <a:ext cx="341964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ЧЕЛОВЕК И ТЕХНИКА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ДИТЕЛЬ И ЛЁТ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3124080" cy="4495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627280" y="2492280"/>
            <a:ext cx="3024360" cy="3384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724360" y="1628640"/>
            <a:ext cx="34196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ЧЕЛОВЕК И ТЕХНИКА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КАРЬ И ЭЛЕКТРОСВАРЩ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3124080" cy="44956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484360" y="2421000"/>
            <a:ext cx="3240000" cy="3678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796000" y="1557360"/>
            <a:ext cx="334800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ЧЕЛОВЕК И ТЕХНИКА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ШВЕЯ И КОНДИТ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3124080" cy="4495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305080" y="2060640"/>
            <a:ext cx="3346560" cy="4537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724360" y="1628640"/>
            <a:ext cx="316872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ЧЕЛОВЕК И ЧЕЛОВЕК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ДАВЕЦ И МЕНЕДЖ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3124080" cy="4495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68360" y="2276640"/>
            <a:ext cx="3095640" cy="4392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651640" y="1628640"/>
            <a:ext cx="349236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ЧЕЛОВЕК И ЧЕЛОВЕК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РАЗ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3124080" cy="44956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124000" y="1989000"/>
            <a:ext cx="3384720" cy="4869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724360" y="1557360"/>
            <a:ext cx="324036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ЧЕЛОВЕК И ЧЕЛОВЕК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РАВОО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3124080" cy="4495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195640" y="2205000"/>
            <a:ext cx="3384360" cy="4486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724360" y="1628640"/>
            <a:ext cx="3240360" cy="468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8:48:58Z</dcterms:created>
  <dc:creator>admin</dc:creator>
  <dc:description/>
  <dc:language>en-US</dc:language>
  <cp:lastModifiedBy>admin</cp:lastModifiedBy>
  <dcterms:modified xsi:type="dcterms:W3CDTF">2014-01-10T19:28:03Z</dcterms:modified>
  <cp:revision>2</cp:revision>
  <dc:subject/>
  <dc:title>ВСЕ ПРОФЕССИИ НУЖНЫ.</dc:title>
</cp:coreProperties>
</file>