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5F18-A518-4BCF-AB71-16E87E9A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A29C-F54D-48C6-B540-F0A93AF1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F470-ECAC-45D2-A842-20CAAA6D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7079-487C-4AA1-89B5-BD00681B0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2935-38C6-4277-B4EB-4983D624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526E-055F-40F0-A64C-7FB1AD3D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957F-2F0E-4C8C-BCF5-16F32B89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67D3-DD4F-44B8-B8DA-9297D822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9ECB-FB79-40B0-AAC7-47129479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AE10-8A68-4294-BB12-0F977CDC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7FB5-E1D6-472D-A593-A9F33A3F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2898-640D-4ADC-9D72-76725A58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53C2-FAF4-4FAB-9AD9-63D2375E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D496-9833-4673-8588-10A68EC2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E303-18DD-46F6-B295-F3E51CAE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8030-336B-4003-9365-FBAA1D9A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74B0-8C8B-427C-ADC8-7B0193C5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68EF-A708-4FF0-ACF8-C3320B13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C1BC-3092-41F1-B710-1E5EC36E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B239-A3B5-4790-8CED-1A61C364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F164-2C3D-434D-81A1-6BD59C93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C4B5-1F3E-43F3-B34D-77A5CFB6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7681-65AB-4C3C-8209-83DDD4B7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76A6-E5FB-4D71-9A94-8E51D61B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5BBB-71FC-4630-9B1D-CF6C2EF3B0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7FD5-1FA0-4437-B565-CAD82C4A3D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c0039"/>
                </a:solidFill>
                <a:latin typeface="Arial"/>
              </a:rPr>
              <a:t>ВСЕ ПРОФЕССИИ НУЖН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00000" y="3357720"/>
            <a:ext cx="93600" cy="712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24480" bIns="244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ЧЕЛОВЕК И ИСКУССТВО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ЖИССЁР И АРТИСТ(ПЕВИЦ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3124080" cy="4495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195640" y="2349360"/>
            <a:ext cx="3384360" cy="4248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651640" y="1628640"/>
            <a:ext cx="3240000" cy="480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ЧЕЛОВЕК И НАУКА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ОХИМИК И АСТРО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3124080" cy="4495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556000" y="2349360"/>
            <a:ext cx="2879640" cy="3816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724360" y="1628640"/>
            <a:ext cx="309564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39640" y="-4240080"/>
            <a:ext cx="9828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38280" y="189000"/>
            <a:ext cx="64008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Столько профессий, и все хорош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Каждый способен найти для душ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Стряпает торты и кексы кондит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Груз на машине привозит води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Смелый пожарный потушит огон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Спляшет на сцене артист под гармо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Ловит рыбак судака и треск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Клоуны в цирке разгонят тос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В цехе портные одежду сошью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А продавцы ее нам прода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Каждое дело по своему цѐнн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И пригодится всегда непременн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Можешь ли сейчас поня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Кем ты хочешь после ста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Где работать, кем трудить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На кого пойти учитьс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Да, вопросы сложноват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Но решенье есть, ребят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Нужно пробовать, мечт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О профессиях чит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В разные кружки ходи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Чтоб понять, кем хочешь быть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-4240080"/>
            <a:ext cx="6984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339640" y="1530360"/>
            <a:ext cx="9828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771640" y="260280"/>
            <a:ext cx="604836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РОФЕССИИ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3124080" cy="4495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411280" y="1628640"/>
            <a:ext cx="648180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ЧЕЛОВЕК И ЖИВАЯ ПРИРОДА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ГРОНОМ И ВЕТЕРИН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3124080" cy="4495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340000" y="2205000"/>
            <a:ext cx="3311640" cy="4464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580000" y="1628640"/>
            <a:ext cx="3419640" cy="44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ЧЕЛОВЕК И ТЕХНИКА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ДИТЕЛЬ И ЛЁТЧ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3124080" cy="4495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627280" y="2492280"/>
            <a:ext cx="3024360" cy="3384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724360" y="1628640"/>
            <a:ext cx="34196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ЧЕЛОВЕК И ТЕХНИКА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КАРЬ И ЭЛЕКТРОСВАРЩ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3124080" cy="4495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484360" y="2421000"/>
            <a:ext cx="3240000" cy="3678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796000" y="1557360"/>
            <a:ext cx="33480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ЧЕЛОВЕК И ТЕХНИКА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ВЕЯ И КОНДИ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3124080" cy="4495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305080" y="2060640"/>
            <a:ext cx="3346560" cy="4537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724360" y="1628640"/>
            <a:ext cx="316872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ЧЕЛОВЕК И ЧЕЛОВЕК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ДАВЕЦ И МЕНЕДЖ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3124080" cy="4495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268360" y="2276640"/>
            <a:ext cx="3095640" cy="4392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651640" y="1628640"/>
            <a:ext cx="349236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ЧЕЛОВЕК И ЧЕЛОВЕК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РАЗ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3124080" cy="4495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124000" y="1989000"/>
            <a:ext cx="3384720" cy="4869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724360" y="1557360"/>
            <a:ext cx="324036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ЧЕЛОВЕК И ЧЕЛОВЕК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ДРАВОО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3124080" cy="4495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195640" y="2205000"/>
            <a:ext cx="3384360" cy="4486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724360" y="1628640"/>
            <a:ext cx="32403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8:48:58Z</dcterms:created>
  <dc:creator>admin</dc:creator>
  <dc:description/>
  <dc:language>en-US</dc:language>
  <cp:lastModifiedBy>admin</cp:lastModifiedBy>
  <dcterms:modified xsi:type="dcterms:W3CDTF">2014-01-10T19:28:03Z</dcterms:modified>
  <cp:revision>2</cp:revision>
  <dc:subject/>
  <dc:title>ВСЕ ПРОФЕССИИ НУЖНЫ.</dc:title>
</cp:coreProperties>
</file>