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AE0-3E40-4A07-B746-86699B7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163-8352-4ED3-903B-45AF5141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42E-A150-497D-B818-C5562543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0CD-70DD-4DD3-9ED5-DB8EB54B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FA8-B16C-43DC-9B4D-669B280A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588-736F-436B-91BE-CED7E9EA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217-C0F2-4BDC-B980-F64408A3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8FA-BEC2-4938-8FF7-685757E6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19F-4707-40BA-B660-E2570A82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0E1-9C97-4F1F-90CA-441C3DE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232-1E2D-4486-B06A-9217E6E5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B95-CCBB-4A21-98E9-75C147EE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B4B3-9FD8-4EF7-B9D6-4CFABE94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55832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50920" y="3357720"/>
            <a:ext cx="2286000" cy="219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51280" y="404640"/>
            <a:ext cx="2241720" cy="134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669960"/>
            <a:ext cx="1297080" cy="115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11640" y="1557360"/>
            <a:ext cx="72072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417600" cy="56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356000" y="2349360"/>
            <a:ext cx="79236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356000" y="3860640"/>
            <a:ext cx="1446480" cy="262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84720" y="2060640"/>
            <a:ext cx="2581560" cy="371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466400">
            <a:off x="0" y="259920"/>
            <a:ext cx="1963800" cy="267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-252360" y="2349360"/>
            <a:ext cx="2031840" cy="296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-468360" y="4292640"/>
            <a:ext cx="21211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867280" y="4869000"/>
            <a:ext cx="3587760" cy="25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13707600">
            <a:off x="7634520" y="-785160"/>
            <a:ext cx="1795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6:35:23Z</dcterms:created>
  <dc:creator>Serega</dc:creator>
  <dc:description/>
  <dc:language>en-US</dc:language>
  <cp:lastModifiedBy>Serega</cp:lastModifiedBy>
  <dcterms:modified xsi:type="dcterms:W3CDTF">2012-05-06T16:45:22Z</dcterms:modified>
  <cp:revision>2</cp:revision>
  <dc:subject/>
  <dc:title>Слайд 1</dc:title>
</cp:coreProperties>
</file>