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7013-6064-4AE8-8AE3-DFF6D7B4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0CC-A99C-4A97-87AB-CC98C68B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2E0F-CAB3-4B9D-8692-D0A0ACDC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8CC7-4141-49F1-A3F2-E8FCFB42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601-E276-476A-93C5-F64D0F77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B1E-1DC5-4800-A0F9-F188D6CB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33F-2ED3-4A02-B8BE-77692DBB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69DC-121F-4DA8-9D49-EC01B295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0805-8F9B-4E2F-A6D1-71B48D10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86E-674E-4D66-952C-EB632D4E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65B6-4744-478C-97BE-2D6CCD25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204-9646-4329-B7CA-F9355DE4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AB13-246D-4B57-9553-55AD5F981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0.png"/><Relationship Id="rId13" Type="http://schemas.openxmlformats.org/officeDocument/2006/relationships/image" Target="../media/image12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55832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050920" y="3357720"/>
            <a:ext cx="2286000" cy="2199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51280" y="404640"/>
            <a:ext cx="2241720" cy="1346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203640" y="669960"/>
            <a:ext cx="1297080" cy="1154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211640" y="1557360"/>
            <a:ext cx="720720" cy="59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003640" y="1773360"/>
            <a:ext cx="417600" cy="560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356000" y="2349360"/>
            <a:ext cx="792360" cy="66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356000" y="3860640"/>
            <a:ext cx="1446480" cy="262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084720" y="2060640"/>
            <a:ext cx="2581560" cy="3716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 rot="1466400">
            <a:off x="0" y="259920"/>
            <a:ext cx="1963800" cy="2679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-252360" y="2349360"/>
            <a:ext cx="2031840" cy="2967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-468360" y="4292640"/>
            <a:ext cx="2121120" cy="2895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5867280" y="4869000"/>
            <a:ext cx="3587760" cy="2543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 rot="13707600">
            <a:off x="7634520" y="-785160"/>
            <a:ext cx="17953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6:35:23Z</dcterms:created>
  <dc:creator>Serega</dc:creator>
  <dc:description/>
  <dc:language>en-US</dc:language>
  <cp:lastModifiedBy>Serega</cp:lastModifiedBy>
  <dcterms:modified xsi:type="dcterms:W3CDTF">2012-05-06T16:45:22Z</dcterms:modified>
  <cp:revision>2</cp:revision>
  <dc:subject/>
  <dc:title>Слайд 1</dc:title>
</cp:coreProperties>
</file>