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F30-8C79-426D-93BA-E4E09946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C3BC-465F-46D8-86FA-1F1F4CD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BA7-9248-4B31-B43B-9FDD03CF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9A9-DF11-4237-A56A-8EA42394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7607-684E-4A00-A6C9-44C1D350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A83E-2771-41D2-916D-3A59306F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7490-C4E8-4D9C-AF43-B5F9F06C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E46A-046E-40B3-B60D-5A69DDC5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EB6A-7847-463D-AEA4-2BD41260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A91A-D6F9-4F54-9E37-15A338FA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CF73-E49F-46D3-AEEE-BB25F249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007-8B36-410F-AC55-4C1DD857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77E8B-79C9-4C17-ACF3-F5F6FF75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92FF-EE44-425C-986F-D6E3D5BC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E4FD-31BC-4F39-BF3E-10C9BCD9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1FDA6-A43D-4894-98CB-55DD67A2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9D97-05A6-4D20-98A4-719EF8BC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46C70-8F8B-4089-9113-48605AF6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A0BB-B6B8-474F-BED2-C3D6B27BE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8C822-F60C-4486-BEDE-B70ABA3B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9DF9E-0139-4671-86EF-0E9EDBAB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BD378-7E72-4115-910E-8F93156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C2B-61A3-49CD-9D3C-F8072E41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AE8C-F623-4B37-9BA9-D6210291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CF85-52DD-49FD-A3DE-9D20A9A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DD5C-D80C-4589-8613-93D685C3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00F92-7C7A-41A9-B0D9-E0A8AA8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6E74-2873-4761-9241-26CC661D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1D31E-D09F-4C4D-9043-2021EE76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6C000-6F53-4D5B-86C3-3A5F78B32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E446A-11A3-4D5F-85C4-CA64A6A7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BEE35-B9CA-46C2-9842-7DD03461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338A7-1221-49A2-BF24-34764B3A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7AE-02ED-4344-8D57-FE373C6B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F5E0-4834-4845-A4CF-76DBE1F7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26C4C-B2BA-41AD-80C2-802348C7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E0A67-AD69-4DAA-9139-BF81CA56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AF7B-A379-4035-87EE-203F2592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18642-FAB3-4AE0-8D46-0233B8C5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7E381-2DBF-45DC-AC12-64FF4EB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282D8-AAE2-41F3-898A-70689D23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81CE-6697-4AB1-A1FE-8D496460C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A91D8-A51E-4E62-9E48-BC032A27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EB2-6AF5-4C39-BF7C-3EB414E9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2E5B-A3AC-405F-ABF7-ACB1ECDBD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AAD-1B7D-4416-9219-DEAE85C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A9D-6E5A-4D9B-992B-0F2A1C09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F1D-5FBD-42E2-8CA0-7D21C7BE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BAC6-89A6-4108-9F0A-C0A1BA95678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E697-2D76-4F73-A224-733D4B19847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462-F63E-4B4C-927A-4EC9871CAB1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F470-7038-4E76-B458-F8C36B2B827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92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2745"/>
                </a:solidFill>
                <a:latin typeface="Trebuchet MS"/>
              </a:rPr>
              <a:t>«Активизация познавательной деятельности учащихся на уроке в соответствии с требованиями новых образовательных стандартов»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2987640" y="189000"/>
            <a:ext cx="6127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Ребенок, словно чистый лист бумаг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Неосторожно не сомни его судьб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Ты помоги ему, придай отваг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egoe Script"/>
              </a:rPr>
              <a:t>И научи выигрывать борьб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542880" y="1487520"/>
            <a:ext cx="7772400" cy="1888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5867280" y="5013360"/>
            <a:ext cx="324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дготовила: учитель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БОУ СОШ №1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имени В.Я.Алексее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Мельцова В.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828720" y="255600"/>
            <a:ext cx="7705800" cy="9208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684000" y="1412640"/>
            <a:ext cx="8248680" cy="13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и учащиеся любят решать проблемные, поисковые, нестандартные задач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17080" indent="-1731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тремятся к самовыражению через различные виды творчеств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6560" y="3763440"/>
            <a:ext cx="392940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ужны специальные приемы, стимулирующие творческую деятельность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5003640" y="3735360"/>
            <a:ext cx="392940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оздавать условия для самореализации личности, возможности выразить свое особое отношение к мир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52" name="Прямая со стрелкой 5"/>
          <p:cNvCxnSpPr/>
          <p:nvPr/>
        </p:nvCxnSpPr>
        <p:spPr>
          <a:xfrm flipH="1">
            <a:off x="1824840" y="2739600"/>
            <a:ext cx="648360" cy="74700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53" name="Прямая со стрелкой 6"/>
          <p:cNvCxnSpPr/>
          <p:nvPr/>
        </p:nvCxnSpPr>
        <p:spPr>
          <a:xfrm>
            <a:off x="6708600" y="2739960"/>
            <a:ext cx="519840" cy="88488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81160" y="-73080"/>
            <a:ext cx="8637480" cy="1567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3"/>
          <p:cNvSpPr/>
          <p:nvPr/>
        </p:nvSpPr>
        <p:spPr>
          <a:xfrm>
            <a:off x="274680" y="1484280"/>
            <a:ext cx="4160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1.При объяснении нового материала, использую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опросы, требующие сходства или различия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Вопросы на установление причинно – следственных связ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Ряд приемов под названием «необычная ситуаци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17676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Прием исправления заранее запланированных «ошибок учител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4599000" y="1484280"/>
            <a:ext cx="4160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2.При закреплении учебного материала, использую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ндивидуальные карточки- зад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Тематические сборники интересных фактор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Поиск стихов, поговорок, пословиц, слов из словар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Задания, требующие знакомства со смежными предме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Задания трех уровней сл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684360" y="4724280"/>
            <a:ext cx="4160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3. При применении знаний на практик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Соревнован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Конкурс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Интеллектуальные марафоны и т. 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4844880" y="4730760"/>
            <a:ext cx="416088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414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4. Посредством использования ИК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1400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Rectangle 2" descr=""/>
          <p:cNvPicPr/>
          <p:nvPr/>
        </p:nvPicPr>
        <p:blipFill>
          <a:blip r:embed="rId1"/>
          <a:stretch/>
        </p:blipFill>
        <p:spPr>
          <a:xfrm>
            <a:off x="1328760" y="347760"/>
            <a:ext cx="6516720" cy="1646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.  Активизировать процессы восприятия, мышления, воображения, памяти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2.  Мобилизовать внимание обучаемого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3.  Быть точным и объективным в оценке знаний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4.  Формировать мотивацию к учению и познавательный интерес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5. Повышать качество знаний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6. Помогать преодолеть трудности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7. Создавать благоприятные условия для лучшего взаимопонимания учителя и учащихся и их сотрудничества в учебном процессе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indent="0" algn="just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2" descr=""/>
          <p:cNvPicPr/>
          <p:nvPr/>
        </p:nvPicPr>
        <p:blipFill>
          <a:blip r:embed="rId1"/>
          <a:stretch/>
        </p:blipFill>
        <p:spPr>
          <a:xfrm>
            <a:off x="609480" y="-109440"/>
            <a:ext cx="8064720" cy="1762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730080" y="1557000"/>
            <a:ext cx="780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04040"/>
                </a:solidFill>
                <a:uFillTx/>
                <a:latin typeface="Trebuchet MS"/>
              </a:rPr>
              <a:t>ДЕТИ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Наив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Непосредственн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Открыты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88280" indent="-188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                                                                          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Прямоугольник 2"/>
          <p:cNvSpPr/>
          <p:nvPr/>
        </p:nvSpPr>
        <p:spPr>
          <a:xfrm>
            <a:off x="730080" y="4005360"/>
            <a:ext cx="7802640" cy="25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Если взрослый поощряет активнос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азвиваются новые психические образов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- Развивается  личность ребё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3" descr=""/>
          <p:cNvPicPr/>
          <p:nvPr/>
        </p:nvPicPr>
        <p:blipFill>
          <a:blip r:embed="rId1"/>
          <a:stretch/>
        </p:blipFill>
        <p:spPr>
          <a:xfrm>
            <a:off x="250920" y="731880"/>
            <a:ext cx="835344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11280" y="404640"/>
            <a:ext cx="813744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91d34"/>
                </a:solidFill>
                <a:latin typeface="Trebuchet MS"/>
              </a:rPr>
              <a:t>Познавательная активность-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just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91d34"/>
                </a:solidFill>
                <a:latin typeface="Trebuchet MS"/>
              </a:rPr>
              <a:t>качество деятельности ученика, которое проявляется в его отношении к содержанию и процессу учения, в стремлении к эффективному овладению знаниям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ctangle 12" descr=""/>
          <p:cNvPicPr/>
          <p:nvPr/>
        </p:nvPicPr>
        <p:blipFill>
          <a:blip r:embed="rId1"/>
          <a:stretch/>
        </p:blipFill>
        <p:spPr>
          <a:xfrm>
            <a:off x="1547640" y="133200"/>
            <a:ext cx="6510600" cy="1311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084640" y="1688760"/>
            <a:ext cx="417672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Свободный выбор деятельности ребёнком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Положительная мотивац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rebuchet MS"/>
              </a:rPr>
              <a:t>Учебный материал, предназначенный для поля сознания, должен быть эмоционально окрашен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191880" indent="-15300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907920" y="1709640"/>
            <a:ext cx="417672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200880" indent="-160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Повышение качества ЗУН посредством приемов и методов , стимулирующих познавательную деятельность учащих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0880" indent="-16056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Расширение и совершенствование методов дифференцированного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2" descr=""/>
          <p:cNvPicPr/>
          <p:nvPr/>
        </p:nvPicPr>
        <p:blipFill>
          <a:blip r:embed="rId1"/>
          <a:stretch/>
        </p:blipFill>
        <p:spPr>
          <a:xfrm>
            <a:off x="396720" y="201600"/>
            <a:ext cx="8259840" cy="1560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2071440"/>
            <a:ext cx="822960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Отношение к учени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Качество знаний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550"/>
              </a:spcBef>
              <a:buClr>
                <a:srgbClr val="c3260c"/>
              </a:buClr>
              <a:buSzPct val="13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Характерные особенности учебной деятельност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rebuchet MS"/>
              </a:rPr>
              <a:t>- Отношение к внеучебной познавательной деятельност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3360">
              <a:lnSpc>
                <a:spcPct val="80000"/>
              </a:lnSpc>
              <a:spcBef>
                <a:spcPts val="700"/>
              </a:spcBef>
              <a:buClr>
                <a:srgbClr val="c3260c"/>
              </a:buClr>
              <a:buSzPct val="13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1243080" y="225360"/>
            <a:ext cx="6864120" cy="23655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971280" y="2923920"/>
            <a:ext cx="33462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1 этап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- обучение творчеству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404040"/>
                </a:solidFill>
                <a:uFillTx/>
                <a:latin typeface="Trebuchet MS"/>
              </a:rPr>
              <a:t>2 этап 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–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исследовательская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деятельность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0" y="2781000"/>
            <a:ext cx="334656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Благоприятная </a:t>
            </a:r>
            <a:r>
              <a:rPr b="1" i="1" lang="ru-RU" sz="2400" spc="-1" strike="noStrike">
                <a:solidFill>
                  <a:srgbClr val="404040"/>
                </a:solidFill>
                <a:latin typeface="Trebuchet MS"/>
              </a:rPr>
              <a:t>окружающая</a:t>
            </a: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 сред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Знания на основе опыта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Мотивация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404040"/>
                </a:solidFill>
                <a:latin typeface="Trebuchet MS"/>
              </a:rPr>
              <a:t>Творчество (креативность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542880" y="152280"/>
            <a:ext cx="8277120" cy="23655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755640" y="2491920"/>
            <a:ext cx="77040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тремлением добывать знания, необходимые для выполнения конкретной практической работы, самостоятельности в выборе и решении задач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истемой работ, связанных с исследователь-ской деятельностью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ысоким уровнем активности учащихся, быстротой обучаемости, смекалки и изобретательности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90000"/>
              </a:lnSpc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4" descr=""/>
          <p:cNvPicPr/>
          <p:nvPr/>
        </p:nvPicPr>
        <p:blipFill>
          <a:blip r:embed="rId1"/>
          <a:stretch/>
        </p:blipFill>
        <p:spPr>
          <a:xfrm>
            <a:off x="1206360" y="963720"/>
            <a:ext cx="6510600" cy="9936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755640" y="1844640"/>
            <a:ext cx="806616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ети пассивные, ожидают привычного давления со стороны учител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т заинтересованности в работе, не умеют работать самостоятельно, их активность возрастает постепенно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30000" y="4076280"/>
            <a:ext cx="33462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водить минутки психологической разгрузки, создавать особую эмоциональную атмосферу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5076720" y="4005360"/>
            <a:ext cx="334656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е предлагать заданий, требующих быстрого перехода от одного вида деятельности к друг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3" name="Прямая со стрелкой 2"/>
          <p:cNvCxnSpPr/>
          <p:nvPr/>
        </p:nvCxnSpPr>
        <p:spPr>
          <a:xfrm flipH="1">
            <a:off x="1969920" y="3236400"/>
            <a:ext cx="648360" cy="74700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34" name="Прямая со стрелкой 7"/>
          <p:cNvCxnSpPr/>
          <p:nvPr/>
        </p:nvCxnSpPr>
        <p:spPr>
          <a:xfrm>
            <a:off x="6345000" y="3258720"/>
            <a:ext cx="378360" cy="74700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sp>
        <p:nvSpPr>
          <p:cNvPr id="235" name="Прямоугольник 1"/>
          <p:cNvSpPr/>
          <p:nvPr/>
        </p:nvSpPr>
        <p:spPr>
          <a:xfrm>
            <a:off x="1969920" y="36036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Уровни активности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4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7778880" cy="12193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684000" y="119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оропливы. Охотно приступают к новым видам работы, но при затруднениях быстро теряют к ним интерес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Заинтересованность появляется только в связи с интересной темой или необычными приемами преподав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003320" y="4149360"/>
            <a:ext cx="392904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Для них очень важна эмоциональная поддержка, интеллектуальная атмосфера во время всего урок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4932360" y="4149720"/>
            <a:ext cx="392904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х внимание можно держать только вопросами, которые задают сами учащиеся после урока по те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40" name="Прямая со стрелкой 5"/>
          <p:cNvCxnSpPr/>
          <p:nvPr/>
        </p:nvCxnSpPr>
        <p:spPr>
          <a:xfrm>
            <a:off x="6516720" y="2781360"/>
            <a:ext cx="380160" cy="138816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41" name="Прямая со стрелкой 6"/>
          <p:cNvCxnSpPr/>
          <p:nvPr/>
        </p:nvCxnSpPr>
        <p:spPr>
          <a:xfrm flipH="1">
            <a:off x="1978920" y="2781360"/>
            <a:ext cx="648360" cy="138816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4" descr=""/>
          <p:cNvPicPr/>
          <p:nvPr/>
        </p:nvPicPr>
        <p:blipFill>
          <a:blip r:embed="rId1"/>
          <a:stretch/>
        </p:blipFill>
        <p:spPr>
          <a:xfrm>
            <a:off x="609480" y="182520"/>
            <a:ext cx="7925040" cy="10130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539640" y="1267920"/>
            <a:ext cx="7910640" cy="18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стематически выполняют домашнее задание. Работают преимущественно самостоятельно, предлагают оригинальные пути реш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ачинают скучать, если материал прост или учитель занят со слабыми учениками, постепенно отвыкают искать нестандартные реш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840" y="4436640"/>
            <a:ext cx="39290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Нужно побуждать их к самостоятельности, стимулировать их проблемными, частично поисковыми ситуациям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45" name="Прямая со стрелкой 4"/>
          <p:cNvCxnSpPr/>
          <p:nvPr/>
        </p:nvCxnSpPr>
        <p:spPr>
          <a:xfrm flipH="1">
            <a:off x="2123280" y="3284640"/>
            <a:ext cx="577080" cy="100872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cxnSp>
        <p:nvCxnSpPr>
          <p:cNvPr id="246" name="Прямая со стрелкой 5"/>
          <p:cNvCxnSpPr/>
          <p:nvPr/>
        </p:nvCxnSpPr>
        <p:spPr>
          <a:xfrm>
            <a:off x="6156360" y="3044520"/>
            <a:ext cx="596160" cy="1353240"/>
          </a:xfrm>
          <a:prstGeom prst="straightConnector1">
            <a:avLst/>
          </a:prstGeom>
          <a:ln w="76320">
            <a:solidFill>
              <a:srgbClr val="f14124"/>
            </a:solidFill>
            <a:miter/>
            <a:tailEnd len="med" type="arrow" w="med"/>
          </a:ln>
        </p:spPr>
      </p:cxnSp>
      <p:sp>
        <p:nvSpPr>
          <p:cNvPr id="247" name="Rectangle 6"/>
          <p:cNvSpPr/>
          <p:nvPr/>
        </p:nvSpPr>
        <p:spPr>
          <a:xfrm>
            <a:off x="4788000" y="4387680"/>
            <a:ext cx="392904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Формы контроля для них должны отличаться от привычной репродукции зн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1T01:34:43Z</dcterms:created>
  <dc:creator>ученик</dc:creator>
  <dc:description/>
  <dc:language>en-US</dc:language>
  <cp:lastModifiedBy>User</cp:lastModifiedBy>
  <dcterms:modified xsi:type="dcterms:W3CDTF">2014-12-13T16:59:08Z</dcterms:modified>
  <cp:revision>21</cp:revision>
  <dc:subject/>
  <dc:title>Педсовет на тему:</dc:title>
</cp:coreProperties>
</file>