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992-2DD6-4EBB-A5A4-2808D210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E51-17A5-4262-950C-FC9EC96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DF6-8612-4E89-8F55-854494D3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418-9BA1-4734-8991-6DE9E0D1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7C39-A86A-4485-B1B4-BF5DC562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EE11-8A74-49E8-AA38-DA1C2EC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AD00-31DF-4374-BA16-05BCF86F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BC90-1D41-44FC-9A65-ABD018D4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78CE-1A67-4DBD-99DC-DCBFCE9F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FC96-DB34-4F52-A3FE-E708E89F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628E-FA56-406D-9E3C-B4C2C16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B7D-4D86-4C09-9A78-0F5CCACA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B82-06AB-4A85-B55C-C149CA8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997D-5B97-4FFB-800D-B149639C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E9DF-565C-49FB-AA26-3B2C6068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5A1E-A141-4014-BB72-211E79C1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ACBF-65C1-4FFF-92EE-ED6778CF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9696-6677-4606-B015-62D167E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DA9B-B2B3-46AF-9E88-76C9985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0F1C-F3AD-40AD-9CED-49E46B1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903E-62DB-47C7-BB04-B801C816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791C-A78E-498C-B782-E4F6566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C66-0CD1-41A4-825E-D0FD837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543D-3C92-4EB5-AC2E-647568CA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E4715-0B1F-461A-9932-C23E427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397A-EA82-4B4C-8E76-B818FD7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8CE3-6660-4D1D-90F2-AE72493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2DCE-4B6D-4229-8E51-0BA3492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372F-A649-4EA7-85A6-327C40F2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5608-8DC6-4D75-BCE5-292BE3D9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1776-D304-465A-BB14-31284472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4C12-13EC-4254-9CDD-22B8637A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39FE-906A-4025-AE68-0ECA548B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F2C-50F2-454B-A222-E4FEE299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ACF78-3AB4-4E65-8D02-DA4C983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02BB-1715-4F74-9D6F-B3B0F172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6EC0-F369-417C-809B-8BFB71C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225A4-0CC4-4242-BFBD-8C3E88E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56680-580F-4DCB-9522-6B2A233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2898-DE8C-4BCF-B244-2882D1E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1848-9204-4EAA-8DD3-524130F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EA63-BFC3-4EEA-AA54-179C2015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F3BD0-3DFE-42EF-B8FC-10E6DACA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3F1-5057-4C09-A2F2-4C12904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5AA-C21D-4068-B78F-C25B95E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7F0-8A9D-4759-8211-0D74231B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BE7-BEDC-4B7D-AF01-DAA78F8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247-70C7-490F-81AC-71E575B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61B7-A86E-4914-B32B-5D7E6F86DC4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FA92-C274-43E1-80D3-A84B7F406A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DD38-61F8-4D2A-A2B2-9E5A4E51389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1C07-45D3-4922-92D8-02CA562B06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rebuchet MS"/>
              </a:rPr>
              <a:t>«Активизация познавательной деятельности учащихся на уроке в соответствии с требованиями новых образовательных стандартов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2987640" y="189000"/>
            <a:ext cx="612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Ребенок, словно чистый лист бума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Неосторожно не сомни его судьб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Ты помоги ему, придай отва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И научи выигрывать борьб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542880" y="1487520"/>
            <a:ext cx="7772400" cy="1888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5867280" y="5013360"/>
            <a:ext cx="32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дготовила: учит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БОУ СОШ №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мени В.Я.Алексее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ельцова В.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828720" y="255600"/>
            <a:ext cx="7705800" cy="920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684000" y="1412640"/>
            <a:ext cx="824868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и учащиеся любят решать проблемные, поисковые, нестандартные задач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тремятся к самовыражению через различные виды творче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3763440"/>
            <a:ext cx="39294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ужны специальные приемы, стимулирующие творческую деятельнос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003640" y="3735360"/>
            <a:ext cx="39294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здавать условия для самореализации личности, возможности выразить свое особое отношение к мир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2" name="Прямая со стрелкой 5"/>
          <p:cNvCxnSpPr/>
          <p:nvPr/>
        </p:nvCxnSpPr>
        <p:spPr>
          <a:xfrm flipH="1">
            <a:off x="1824840" y="2739600"/>
            <a:ext cx="648360" cy="74700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53" name="Прямая со стрелкой 6"/>
          <p:cNvCxnSpPr/>
          <p:nvPr/>
        </p:nvCxnSpPr>
        <p:spPr>
          <a:xfrm>
            <a:off x="6708600" y="2739960"/>
            <a:ext cx="519840" cy="88488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81160" y="-73080"/>
            <a:ext cx="8637480" cy="1567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3"/>
          <p:cNvSpPr/>
          <p:nvPr/>
        </p:nvSpPr>
        <p:spPr>
          <a:xfrm>
            <a:off x="274680" y="1484280"/>
            <a:ext cx="4160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1.При объяснении нового материала, использую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опросы, требующие сходства или различи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опросы на установление причинно – следственных связ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Ряд приемов под названием «необычная ситуаци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Прием исправления заранее запланированных «ошибок учител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4599000" y="1484280"/>
            <a:ext cx="4160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2.При закреплении учебного материала, использую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ндивидуальные карточки- зад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ематические сборники интересных фактор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Поиск стихов, поговорок, пословиц, слов из словар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Задания, требующие знакомства со смежными предме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Задания трех уровней сл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84360" y="4724280"/>
            <a:ext cx="41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3. При применении знаний на практик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оревнов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Конкурс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нтеллектуальные марафоны и т. 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844880" y="4730760"/>
            <a:ext cx="416088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14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. Посредством использования ИК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14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1328760" y="347760"/>
            <a:ext cx="6516720" cy="1646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  Активизировать процессы восприятия, мышления, воображения, памя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  Мобилизовать внимание обучаемог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  Быть точным и объективным в оценке знани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  Формировать мотивацию к учению и познавательный интерес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. Повышать качество знаний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6. Помогать преодолеть трудности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7. Создавать благоприятные условия для лучшего взаимопонимания учителя и учащихся и их сотрудничества в учебном процесс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609480" y="-109440"/>
            <a:ext cx="8064720" cy="1762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730080" y="1557000"/>
            <a:ext cx="780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ДЕ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Наив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Непосредствен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Откры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730080" y="4005360"/>
            <a:ext cx="780264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Если взрослый поощряет активнос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ваются новые психические образ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- Развивается  личность ребё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50920" y="731880"/>
            <a:ext cx="835344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11280" y="404640"/>
            <a:ext cx="8137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91d34"/>
                </a:solidFill>
                <a:latin typeface="Trebuchet MS"/>
              </a:rPr>
              <a:t>Познавательная активность-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1d34"/>
                </a:solidFill>
                <a:latin typeface="Trebuchet MS"/>
              </a:rPr>
              <a:t>качество деятельности ученика, которое проявляется в его отношении к содержанию и процессу учения, в стремлении к эффективному овладению знания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12" descr=""/>
          <p:cNvPicPr/>
          <p:nvPr/>
        </p:nvPicPr>
        <p:blipFill>
          <a:blip r:embed="rId1"/>
          <a:stretch/>
        </p:blipFill>
        <p:spPr>
          <a:xfrm>
            <a:off x="15476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084640" y="1688760"/>
            <a:ext cx="41767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Свободный выбор деятельности ребёнк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Положительная мотивац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Учебный материал, предназначенный для поля сознания, должен быть эмоционально окраше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907920" y="1709640"/>
            <a:ext cx="41767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160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Повышение качества ЗУН посредством приемов и методов , стимулирующих познавательную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0880" indent="-160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Расширение и совершенствование методов дифференцированного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259840" cy="1560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07144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Отношение к учени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Качество знани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Характерные особенности учебной дея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Отношение к внеучебной познавательной деятель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243080" y="225360"/>
            <a:ext cx="6864120" cy="2365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971280" y="2923920"/>
            <a:ext cx="33462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1 этап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- обучение творчеству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2 этап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исследовательская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деятельност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0" y="278100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Благоприятная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окружающая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сред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Знания на основе опы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Мотивац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Творчество (креативность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8277120" cy="2365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755640" y="2491920"/>
            <a:ext cx="770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тремлением добывать знания, необходимые для выполнения конкретной практической работы, самостоятельности в выборе и решении задач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истемой работ, связанных с исследователь-ской деятельность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соким уровнем активности учащихся, быстротой обучаемости, смекалки и изобретательност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4" descr=""/>
          <p:cNvPicPr/>
          <p:nvPr/>
        </p:nvPicPr>
        <p:blipFill>
          <a:blip r:embed="rId1"/>
          <a:stretch/>
        </p:blipFill>
        <p:spPr>
          <a:xfrm>
            <a:off x="1206360" y="963720"/>
            <a:ext cx="6510600" cy="99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755640" y="1844640"/>
            <a:ext cx="8066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ети пассивные, ожидают привычного давления со стороны учител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т заинтересованности в работе, не умеют работать самостоятельно, их активность возрастает постепенн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0000" y="4076280"/>
            <a:ext cx="33462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водить минутки психологической разгрузки, создавать особую эмоциональную атмосфе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076720" y="4005360"/>
            <a:ext cx="33465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 предлагать заданий, требующих быстрого перехода от одного вида деятельности к друг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3" name="Прямая со стрелкой 2"/>
          <p:cNvCxnSpPr/>
          <p:nvPr/>
        </p:nvCxnSpPr>
        <p:spPr>
          <a:xfrm flipH="1">
            <a:off x="1969920" y="3236400"/>
            <a:ext cx="648360" cy="74700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34" name="Прямая со стрелкой 7"/>
          <p:cNvCxnSpPr/>
          <p:nvPr/>
        </p:nvCxnSpPr>
        <p:spPr>
          <a:xfrm>
            <a:off x="6345000" y="3258720"/>
            <a:ext cx="378360" cy="74700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sp>
        <p:nvSpPr>
          <p:cNvPr id="235" name="Прямоугольник 1"/>
          <p:cNvSpPr/>
          <p:nvPr/>
        </p:nvSpPr>
        <p:spPr>
          <a:xfrm>
            <a:off x="1969920" y="36036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Уровни активност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7778880" cy="1219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84000" y="119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оропливы. Охотно приступают к новым видам работы, но при затруднениях быстро теряют к ним интерес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интересованность появляется только в связи с интересной темой или необычными приемами препода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03320" y="4149360"/>
            <a:ext cx="39290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них очень важна эмоциональная поддержка, интеллектуальная атмосфера во время всего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4932360" y="4149720"/>
            <a:ext cx="39290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х внимание можно держать только вопросами, которые задают сами учащиеся после урока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0" name="Прямая со стрелкой 5"/>
          <p:cNvCxnSpPr/>
          <p:nvPr/>
        </p:nvCxnSpPr>
        <p:spPr>
          <a:xfrm>
            <a:off x="6516720" y="2781360"/>
            <a:ext cx="380160" cy="138816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41" name="Прямая со стрелкой 6"/>
          <p:cNvCxnSpPr/>
          <p:nvPr/>
        </p:nvCxnSpPr>
        <p:spPr>
          <a:xfrm flipH="1">
            <a:off x="1978920" y="2781360"/>
            <a:ext cx="648360" cy="138816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4" descr=""/>
          <p:cNvPicPr/>
          <p:nvPr/>
        </p:nvPicPr>
        <p:blipFill>
          <a:blip r:embed="rId1"/>
          <a:stretch/>
        </p:blipFill>
        <p:spPr>
          <a:xfrm>
            <a:off x="609480" y="182520"/>
            <a:ext cx="7925040" cy="1013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9640" y="1267920"/>
            <a:ext cx="791064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стематически выполняют домашнее задание. Работают преимущественно самостоятельно, предлагают оригинальные пути реш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чинают скучать, если материал прост или учитель занят со слабыми учениками, постепенно отвыкают искать нестандартные реш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840" y="4436640"/>
            <a:ext cx="39290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ужно побуждать их к самостоятельности, стимулировать их проблемными, частично поисковыми ситуация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45" name="Прямая со стрелкой 4"/>
          <p:cNvCxnSpPr/>
          <p:nvPr/>
        </p:nvCxnSpPr>
        <p:spPr>
          <a:xfrm flipH="1">
            <a:off x="2123280" y="3284640"/>
            <a:ext cx="577080" cy="100872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46" name="Прямая со стрелкой 5"/>
          <p:cNvCxnSpPr/>
          <p:nvPr/>
        </p:nvCxnSpPr>
        <p:spPr>
          <a:xfrm>
            <a:off x="6156360" y="3044520"/>
            <a:ext cx="596160" cy="135324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sp>
        <p:nvSpPr>
          <p:cNvPr id="247" name="Rectangle 6"/>
          <p:cNvSpPr/>
          <p:nvPr/>
        </p:nvSpPr>
        <p:spPr>
          <a:xfrm>
            <a:off x="4788000" y="4387680"/>
            <a:ext cx="392904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ормы контроля для них должны отличаться от привычной репродукции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1:34:43Z</dcterms:created>
  <dc:creator>ученик</dc:creator>
  <dc:description/>
  <dc:language>en-US</dc:language>
  <cp:lastModifiedBy>User</cp:lastModifiedBy>
  <dcterms:modified xsi:type="dcterms:W3CDTF">2014-12-13T16:59:08Z</dcterms:modified>
  <cp:revision>21</cp:revision>
  <dc:subject/>
  <dc:title>Педсовет на тему:</dc:title>
</cp:coreProperties>
</file>