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18C-00FC-4996-80BC-750C4807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D69-7245-4587-B51E-2A03F0F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EFA-2CBF-4759-9561-A8A7C567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589-122A-463D-BFEE-B1ED8578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2D9C-843F-4892-99E2-1256E37F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9DBF-542F-4E8D-99BF-F336F48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A6D-8E01-4CD1-9AD4-5F606780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6DE2-61A8-4C1B-B007-05B1660B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9BF4-FE5B-4EA9-BE7D-20BFEDC4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105-8217-44F6-8B56-A006D73E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0828-9441-4DD7-ADDA-67F807DB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BCC-4448-480A-BEE8-65C1DED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7BDB-03A6-4066-8D3F-7EFE77E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0948-87B8-41EE-A9A0-4F0C041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0D75-2D8D-478A-B1F6-DC79D928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22C7-0B1E-45DF-9F4A-8EDBBB55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5B39-536C-4921-B7C6-A73EBC15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D73D-4117-457C-882F-D2663243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5367-CBD4-4529-A659-0785CAB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10D0-C01B-4A5A-9D06-CC892F9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6837-46FD-4D2C-88FB-7A8F9A5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53BD-F619-4D7E-82A4-76AA8E9E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ACF-409D-479F-AD6C-E79EC48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F98C-0BAF-4856-998C-3707AA82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CA4C-EAD4-48CC-8660-E9575C8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9548-F691-4FE8-959E-C929DF02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B236-39C8-444D-B245-9CAF9AD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CDC7-DF27-45EE-A00B-D06207BC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3ADD-FA49-44CF-B903-82A7A428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BC05-D02E-4730-A6A5-0F73AFC0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D4C4-5B24-47E7-BCEA-34A72312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CAAB-7BF4-4B13-9F95-6F5FB08A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274D-3D0A-4A84-A4D8-A4E4D662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65F-CBA0-4E7F-B9C7-D28F38B2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238E-3CDA-4C38-A5CE-4F2DEB5F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BB62-6F1B-4933-B6C6-7474BE7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ED63-60D3-4B11-B016-345FCC8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BE67-794D-4953-ABEF-C8B60BD6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8DF1-1096-4BFA-88B3-249A195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11CB-7BEC-4523-9DCC-5173889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80FA-19DE-4527-ACCA-439FEE57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BD92-6077-4838-89B1-F75167D9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A1D9-62C2-4174-861C-980B225A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E8B-F657-431F-AE0E-6AC4759D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126-3B61-414F-844D-E7BF20F7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662-551A-4583-8673-FD224CE7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CB1-6DAE-494C-9EA7-ECA11E7C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266-DBF4-4FE1-9E93-A5E4873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B84-28B6-4EA1-9FE1-06D5AFC2B4C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A74B-ABED-4728-B0D1-F9D20B339B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5FF-1A63-4E25-AF42-05D472417D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2B1E-0A51-414C-8D5E-8409B1C059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Подготовила Воронцова Ксе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817560" y="2962440"/>
            <a:ext cx="7174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328760" y="-66600"/>
            <a:ext cx="4754520" cy="1682640"/>
          </a:xfrm>
          <a:prstGeom prst="rect">
            <a:avLst/>
          </a:prstGeom>
          <a:ln w="0">
            <a:noFill/>
          </a:ln>
        </p:spPr>
      </p:pic>
      <p:pic>
        <p:nvPicPr>
          <p:cNvPr id="217" name="Объект 4" descr=""/>
          <p:cNvPicPr/>
          <p:nvPr/>
        </p:nvPicPr>
        <p:blipFill>
          <a:blip r:embed="rId2"/>
          <a:stretch/>
        </p:blipFill>
        <p:spPr>
          <a:xfrm>
            <a:off x="4500720" y="1589040"/>
            <a:ext cx="4016160" cy="3379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1600200"/>
            <a:ext cx="3008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лекула аммиака имеет форму треугольной пирамиды с атомом азота на вершин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3"/>
          <a:stretch/>
        </p:blipFill>
        <p:spPr>
          <a:xfrm>
            <a:off x="7236000" y="404640"/>
            <a:ext cx="14382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407960" y="133200"/>
            <a:ext cx="6845400" cy="1311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332000" y="170028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ммиак – бесцветный газ с резким запахом, почти в 2 раза легче воздуха. Ядовит. Очень хорошо растворим в воде      (при 20°С в 1 объеме воды растворяется около 710 объемов аммиака). 10% раствор аммиака называется нашатырным спирт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к раствору аммиака прилить несколько капель фенолфталеина, то он окрасится в малиновый цвет, т. е. покажет щелочную среду, так как гидрат аммиака диссоцииру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292400" y="133200"/>
            <a:ext cx="6876720" cy="1311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дный раствор аммиака («нашатырный спирт») имеет слабощелочную реакцию из-за протекания процесс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H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+ H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 ↔ NH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действуя с кислотами даёт соответствующие соли аммо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→ (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действует с кислородом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3O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→ 2N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6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457280" y="133200"/>
            <a:ext cx="6516720" cy="131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01560" y="1455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стеклянную палочку или стакан, смоченные раствором аммиака, поднести к другой палочке или стакану, смоченным соляной кислотой, то появится густой белый дым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 HCl → NH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2"/>
          <a:stretch/>
        </p:blipFill>
        <p:spPr>
          <a:xfrm>
            <a:off x="2773440" y="4078440"/>
            <a:ext cx="3889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5476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87280" y="1844280"/>
            <a:ext cx="64008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мышленный способ получения аммиака основан на прямом взаимодействии водорода и азо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+ 3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↔ 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 91,84 кДж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аборатории аммиак получают действием гашеной извести на соли аммо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(OH)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 → CaCl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↑ + 2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139760" y="-66600"/>
            <a:ext cx="6900840" cy="131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964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изводства азотных удобрен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изводства взрывчатых веществ и полимер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изводства азотной кислоты и соды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 холодильной технике используется в качестве холодильного агента (R717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 медицине (10 % раствор аммиака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 строительстве (как ускоритель процесса затвердевания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2"/>
          <a:stretch/>
        </p:blipFill>
        <p:spPr>
          <a:xfrm>
            <a:off x="3206880" y="4267080"/>
            <a:ext cx="2365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536400" y="2249640"/>
            <a:ext cx="82234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Яна</cp:lastModifiedBy>
  <dcterms:modified xsi:type="dcterms:W3CDTF">2015-02-01T20:21:26Z</dcterms:modified>
  <cp:revision>20</cp:revision>
  <dc:subject/>
  <dc:title>Презентация PowerPoint</dc:title>
</cp:coreProperties>
</file>