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C97-79BB-4FDB-A1D0-5FF3DF61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EB5-BB95-450B-88D6-1331D74F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6787-61A1-40BE-B2C2-0320E084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A6A5-DF21-4A3A-A6FC-E7A229F4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2179-E050-4B84-AC4C-FC6733EF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14AA-520B-4133-A85E-7A5D63D1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9629-B131-4616-B707-538B959E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714A-84AC-4522-98CE-845926A1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61C1-C053-4E51-A251-0F4CEB16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D933-76C4-4079-9531-17E5EE0A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263D-08E9-4B08-B6EF-BFDD5BA4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A1A-D0CC-4174-A40C-A7A589A1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B796-7E99-42A7-9629-13E01DF8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881D-289D-4F0E-9B78-6F9D730A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B2E4-EF52-4883-B262-DEEDB5D0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C77B-4C8A-4652-8EF0-4773C3C7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3EC4-6D12-4782-93A6-CDFFF2A4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AADBB-1B0D-4C9E-B360-BC8FF53C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24383-E188-42B5-A3A3-AC756369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995A4-160E-41BA-8DEA-5AF0ED6E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A09F9-7577-4B97-92C1-AFBCCA20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35F9D-3BEC-40E3-BC98-628328A9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0D9-87AA-4BD2-82E9-E137D1ED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C6D3F-533C-4D46-88BD-CDB63841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B5E10-CC77-4950-A29A-F90DB087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ECBF5-D54F-4FCA-B983-C6688649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E64E5-2C55-4E54-A122-ACDED07A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47168-33AF-4CA7-91E4-A107FD4F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7F8C9-53B9-4D5C-A408-F00651D7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F2F7D-8982-4A1C-AF74-3A0D9200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C649D-4ABF-4527-A2F1-28873B38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140E2-6A86-444F-8F76-6C76B6CC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515DA-4BF7-45F3-AE4E-2D771090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A20-7223-4AE0-ABEE-608EFFE6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D3523-F857-466F-858F-A526540E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30E1A-05F6-4FCC-80FE-2606AF2A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C4A4C-66D1-4E97-9C74-76AD4DB9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0CD8C-FB98-40A2-9710-4CCD4138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7AE47-CA60-4238-BDFD-812BEC74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A4B76-65D2-4D76-95C2-16503E89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2E694-ED7F-421F-A5A9-654A877D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FC220-E1D6-4AFC-AC54-588E20D9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CFDC6-313C-4300-A86B-036047AB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2D4-F854-4A2A-BFDB-B504DC9C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E16-FCA4-47F1-9DAD-81581741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A91-3FCB-4A01-83F9-D8FD2FEE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87D-F5EC-48AE-A092-C85295FC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67B-73DB-432C-AC19-5C5A5C9D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C74C-C3A4-43A1-8234-F876BECF5F1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F413-C8D5-49DA-9A05-F6DBD876DF8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AABD-B81C-4724-A663-6E37E1E70B2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058D-8114-4DD2-A186-0B84D0A4D05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Подготовила Воронцова Ксен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817560" y="2962440"/>
            <a:ext cx="717408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1328760" y="-66600"/>
            <a:ext cx="4754520" cy="1682640"/>
          </a:xfrm>
          <a:prstGeom prst="rect">
            <a:avLst/>
          </a:prstGeom>
          <a:ln w="0">
            <a:noFill/>
          </a:ln>
        </p:spPr>
      </p:pic>
      <p:pic>
        <p:nvPicPr>
          <p:cNvPr id="217" name="Объект 4" descr=""/>
          <p:cNvPicPr/>
          <p:nvPr/>
        </p:nvPicPr>
        <p:blipFill>
          <a:blip r:embed="rId2"/>
          <a:stretch/>
        </p:blipFill>
        <p:spPr>
          <a:xfrm>
            <a:off x="4500720" y="1589040"/>
            <a:ext cx="4016160" cy="33796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1600200"/>
            <a:ext cx="3008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лекула аммиака имеет форму треугольной пирамиды с атомом азота на вершин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3"/>
          <a:stretch/>
        </p:blipFill>
        <p:spPr>
          <a:xfrm>
            <a:off x="7236000" y="404640"/>
            <a:ext cx="143820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1407960" y="133200"/>
            <a:ext cx="6845400" cy="13114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1332000" y="1700280"/>
            <a:ext cx="6400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ммиак – бесцветный газ с резким запахом, почти в 2 раза легче воздуха. Ядовит. Очень хорошо растворим в воде      (при 20°С в 1 объеме воды растворяется около 710 объемов аммиака). 10% раствор аммиака называется нашатырным спирто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к раствору аммиака прилить несколько капель фенолфталеина, то он окрасится в малиновый цвет, т. е. покажет щелочную среду, так как гидрат аммиака диссоциирует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292400" y="133200"/>
            <a:ext cx="6876720" cy="1311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736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дный раствор аммиака («нашатырный спирт») имеет слабощелочную реакцию из-за протекания процесс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87360" indent="-3430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H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+ H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 ↔ NH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H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736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заимодействуя с кислотами даёт соответствующие соли аммони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87360" indent="-34308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NH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H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O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→ (NH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O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8736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заимодействует с кислородом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87360" indent="-3430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NH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3O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→ 2N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6H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7360" indent="-3430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87360" indent="-3430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1457280" y="133200"/>
            <a:ext cx="6516720" cy="1311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601560" y="14558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стеклянную палочку или стакан, смоченные раствором аммиака, поднести к другой палочке или стакану, смоченным соляной кислотой, то появится густой белый дым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+ HCl → NH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l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Рисунок 3" descr=""/>
          <p:cNvPicPr/>
          <p:nvPr/>
        </p:nvPicPr>
        <p:blipFill>
          <a:blip r:embed="rId2"/>
          <a:stretch/>
        </p:blipFill>
        <p:spPr>
          <a:xfrm>
            <a:off x="2773440" y="4078440"/>
            <a:ext cx="38894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1547640" y="133200"/>
            <a:ext cx="6510600" cy="1311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1187280" y="1844280"/>
            <a:ext cx="640080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736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мышленный способ получения аммиака основан на прямом взаимодействии водорода и азот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8736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+ 3H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↔ 2NH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+ 91,84 кДж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8736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лаборатории аммиак получают действием гашеной извести на соли аммони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8736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(OH)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2NH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l → CaCl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2NH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↑ + 2H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8736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1139760" y="-66600"/>
            <a:ext cx="6900840" cy="1315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539640" y="1267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изводства азотных удобрений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изводства взрывчатых веществ и полимеро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изводства азотной кислоты и соды. 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 холодильной технике используется в качестве холодильного агента (R717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 медицине (10 % раствор аммиака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 строительстве (как ускоритель процесса затвердевания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Рисунок 3" descr=""/>
          <p:cNvPicPr/>
          <p:nvPr/>
        </p:nvPicPr>
        <p:blipFill>
          <a:blip r:embed="rId2"/>
          <a:stretch/>
        </p:blipFill>
        <p:spPr>
          <a:xfrm>
            <a:off x="3206880" y="4267080"/>
            <a:ext cx="23652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536400" y="2249640"/>
            <a:ext cx="82234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0T16:10:27Z</dcterms:created>
  <dc:creator>Катенок</dc:creator>
  <dc:description/>
  <dc:language>en-US</dc:language>
  <cp:lastModifiedBy>Яна</cp:lastModifiedBy>
  <dcterms:modified xsi:type="dcterms:W3CDTF">2015-02-01T20:21:26Z</dcterms:modified>
  <cp:revision>20</cp:revision>
  <dc:subject/>
  <dc:title>Презентация PowerPoint</dc:title>
</cp:coreProperties>
</file>