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156-6F9E-45EC-BFFA-CB580C2F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66D-EA2C-4981-8860-605CCB7E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301-C0AE-4483-B6CF-B0F120BA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AB8-AA76-41F3-BCBC-274084A2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31AC-2105-4B79-8B0F-4303E634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B785-A56E-4125-B7B9-9757CE47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B8D8-01AB-4985-B160-959F13CD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F410-82F0-433B-8FF9-CC68F210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41AD-005E-454D-BA94-B80863EC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F14D-C677-4031-B410-DAA4723B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512F-DF29-4F75-8E77-297758C1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57E-1BEE-420E-9B87-F045B7E9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F3D3-06E2-4376-9140-627A812A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AEC8-4FA3-42BF-8611-6C53E4DE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5FF3-39F9-4712-B7B7-31BBDAD8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5099-F5B5-4BA8-9E46-B818B34F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404B-B90B-464E-85D8-00FBD48D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23D-0D06-4888-91CB-709DB01D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5C5E-0AFE-49EE-B1EA-FD198263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8E4-E4C4-413A-B44E-416CA81D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897-B093-43A7-A13D-B365234F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7C3-7BBB-49F7-9B1D-9B3B874E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FBB-7618-4073-904D-B0F8D95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C4F-0A66-484D-BD5A-25E729D6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5994-37B2-4818-A463-4679690C1F4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D837-49F5-4F67-94E8-19B4B17C3A4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632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Жил на свете человек…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Picture 6" descr="Петр I"/>
          <p:cNvPicPr/>
          <p:nvPr/>
        </p:nvPicPr>
        <p:blipFill>
          <a:blip r:embed="rId1"/>
          <a:stretch/>
        </p:blipFill>
        <p:spPr>
          <a:xfrm>
            <a:off x="4572000" y="1916280"/>
            <a:ext cx="1771560" cy="197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Ломоносов"/>
          <p:cNvPicPr/>
          <p:nvPr/>
        </p:nvPicPr>
        <p:blipFill>
          <a:blip r:embed="rId2"/>
          <a:stretch/>
        </p:blipFill>
        <p:spPr>
          <a:xfrm>
            <a:off x="6732720" y="21337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Ленин"/>
          <p:cNvPicPr/>
          <p:nvPr/>
        </p:nvPicPr>
        <p:blipFill>
          <a:blip r:embed="rId3"/>
          <a:stretch/>
        </p:blipFill>
        <p:spPr>
          <a:xfrm>
            <a:off x="395280" y="3860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Терешкова"/>
          <p:cNvPicPr/>
          <p:nvPr/>
        </p:nvPicPr>
        <p:blipFill>
          <a:blip r:embed="rId4"/>
          <a:stretch/>
        </p:blipFill>
        <p:spPr>
          <a:xfrm>
            <a:off x="2340000" y="4221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Иван Грозный"/>
          <p:cNvPicPr/>
          <p:nvPr/>
        </p:nvPicPr>
        <p:blipFill>
          <a:blip r:embed="rId5"/>
          <a:stretch/>
        </p:blipFill>
        <p:spPr>
          <a:xfrm>
            <a:off x="2556000" y="1773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Ельцин"/>
          <p:cNvPicPr/>
          <p:nvPr/>
        </p:nvPicPr>
        <p:blipFill>
          <a:blip r:embed="rId6"/>
          <a:stretch/>
        </p:blipFill>
        <p:spPr>
          <a:xfrm>
            <a:off x="4211640" y="43657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Мономах"/>
          <p:cNvPicPr/>
          <p:nvPr/>
        </p:nvPicPr>
        <p:blipFill>
          <a:blip r:embed="rId7"/>
          <a:stretch/>
        </p:blipFill>
        <p:spPr>
          <a:xfrm>
            <a:off x="826920" y="15573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Дом\Desktop\e581d1e512c04aed848798ef1e5.jpg"/>
          <p:cNvPicPr/>
          <p:nvPr/>
        </p:nvPicPr>
        <p:blipFill>
          <a:blip r:embed="rId8"/>
          <a:stretch/>
        </p:blipFill>
        <p:spPr>
          <a:xfrm>
            <a:off x="6156360" y="4581360"/>
            <a:ext cx="270648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рта Российской Федераци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2" descr="C:\Users\Дом\Desktop\administrative_map_of_russia_1.jpg"/>
          <p:cNvPicPr/>
          <p:nvPr/>
        </p:nvPicPr>
        <p:blipFill>
          <a:blip r:embed="rId1"/>
          <a:stretch/>
        </p:blipFill>
        <p:spPr>
          <a:xfrm>
            <a:off x="1057320" y="1600200"/>
            <a:ext cx="7029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Comic Sans MS"/>
              </a:rPr>
              <a:t>Российская Советская Федеративная Социалистическая Республика (РСФСР) 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Comic Sans MS"/>
              </a:rPr>
              <a:t>в составе ССС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ТЕРЕШКОВА Валентина Владимировна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(р. 1937), российский космонавт. Летчик-космонавт СССР (1963), первая в мире женщина-космонавт, кандидат технических наук, полковник (1970), общественный деятель, Герой Советского Союза (1963). Полет на «Востоке-6» (июнь 1963). Председатель Комитета советских женщин (1968-87), вице-президент Международной демократической федерации женщин с 1969. С 1987-92 председатель Президиума Союза советских обществ дружбы и культурной связи с зарубежными странами. С 1994 руководитель Российского центра международного научного и культурного сотрудниче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Терешкова"/>
          <p:cNvPicPr/>
          <p:nvPr/>
        </p:nvPicPr>
        <p:blipFill>
          <a:blip r:embed="rId1"/>
          <a:stretch/>
        </p:blipFill>
        <p:spPr>
          <a:xfrm>
            <a:off x="971640" y="2133720"/>
            <a:ext cx="2911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Россия, </a:t>
            </a:r>
            <a:br>
              <a:rPr sz="4400"/>
            </a:b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Российская Федераци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80000" y="213336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ЛЬЦИН Борис Николаевич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(р. 1 февраля 1931, село Бутка Талицкого района Свердловской области – 23 апреля 2007 г., г. Москва), российский государственный деятель, председатель Верховного Совета РСФСР (1990-1991), первый президент Российской Федерации (1991-1999), лидер демократического движения кон. 1980-х- начала 1990-х гг, лидер сопротивления во время Августовского путча (1991), один из инициаторов Беловежских соглашений (1991) о ликвидации СССР и создании СНГ, принятия Конституции РФ (199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Ельцин"/>
          <p:cNvPicPr/>
          <p:nvPr/>
        </p:nvPicPr>
        <p:blipFill>
          <a:blip r:embed="rId1"/>
          <a:stretch/>
        </p:blipFill>
        <p:spPr>
          <a:xfrm>
            <a:off x="826920" y="2205000"/>
            <a:ext cx="2911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. Путин и Д. Медведев – следующие президенты Росси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2" descr="C:\Users\Дом\Desktop\e581d1e512c04aed848798ef1e5.jpg"/>
          <p:cNvPicPr/>
          <p:nvPr/>
        </p:nvPicPr>
        <p:blipFill>
          <a:blip r:embed="rId1"/>
          <a:stretch/>
        </p:blipFill>
        <p:spPr>
          <a:xfrm>
            <a:off x="1187280" y="1916280"/>
            <a:ext cx="6839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5003640" y="1052640"/>
            <a:ext cx="364176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нец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62120" y="1712880"/>
            <a:ext cx="3643200" cy="74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оссийская Советская Федеративная Социалистическая Республика (РСФСР) в составе ССС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684360" y="2637000"/>
            <a:ext cx="364140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оветская Рос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5003640" y="1916280"/>
            <a:ext cx="3641760" cy="46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 192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5005440" y="2687760"/>
            <a:ext cx="364176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чало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ка: с 191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755640" y="3387600"/>
            <a:ext cx="364176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оссия, Российская имп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5005440" y="3387600"/>
            <a:ext cx="364176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VII-XIX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начало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755640" y="4089240"/>
            <a:ext cx="36417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осковская Ру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5003640" y="4076640"/>
            <a:ext cx="36417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III-XVI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755640" y="4906800"/>
            <a:ext cx="36417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ревняя Ру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5005440" y="4906800"/>
            <a:ext cx="36417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X-X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755640" y="1089000"/>
            <a:ext cx="36417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оссия, Российская Федер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0"/>
          <p:cNvSpPr/>
          <p:nvPr/>
        </p:nvSpPr>
        <p:spPr>
          <a:xfrm>
            <a:off x="4284720" y="105264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4284720" y="4076640"/>
            <a:ext cx="934920" cy="43200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2"/>
          <p:cNvSpPr/>
          <p:nvPr/>
        </p:nvSpPr>
        <p:spPr>
          <a:xfrm>
            <a:off x="4211640" y="486900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3"/>
          <p:cNvSpPr/>
          <p:nvPr/>
        </p:nvSpPr>
        <p:spPr>
          <a:xfrm>
            <a:off x="4211640" y="263700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4"/>
          <p:cNvSpPr/>
          <p:nvPr/>
        </p:nvSpPr>
        <p:spPr>
          <a:xfrm>
            <a:off x="4284720" y="335772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5"/>
          <p:cNvSpPr/>
          <p:nvPr/>
        </p:nvSpPr>
        <p:spPr>
          <a:xfrm>
            <a:off x="4284720" y="177336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Древняя Русь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Picture 4" descr="Мономах"/>
          <p:cNvPicPr/>
          <p:nvPr/>
        </p:nvPicPr>
        <p:blipFill>
          <a:blip r:embed="rId1"/>
          <a:stretch/>
        </p:blipFill>
        <p:spPr>
          <a:xfrm>
            <a:off x="611280" y="1989000"/>
            <a:ext cx="2911320" cy="3238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708360" y="1844640"/>
            <a:ext cx="489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ЛАДИМИР II Мономах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1053-1125), князь смоленский (с 1067), черниговский (с 1078), переяславский (с 1093), великий князь киевский (с 1113). Сын Всеволода I и дочери византийского императора Константина Мономаха. Призван киевскими боярами во время восстания. Боролся против княжеских междоусобий. Разработал устав, ограничивавший произвол ростовщиков. В «Поучении» призывал сыновей укреплять единство Ру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Московская Русь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635280" y="1484280"/>
            <a:ext cx="489744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ВАН IV Грозный (1530-84), великий князь «всея Руси» (с 1533), первый русский царь (с 1547), сын Василия III. С кон. 40-х гг. правил с участием Избранной рады. При нем начался созыв Земских соборов, составлен Судебник 1550. Проведены реформы управления и суда (Губная, Земская и другие реформы). В 1565 была введена опричнина. При Иване IV установились торговые связи с Англией (1553), создана первая типография в Москве. Покорены Казанское (1552) и Астраханское (1556) ханства. В 1558-83 велась Ливонская война за выход к Балтийскому м., началось присоединение Сибири (1581). Внутренняя политика Ивана IV сопровождалась массовыми опалами и казнями, усилением закрепощения кресть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Иван Грозный"/>
          <p:cNvPicPr/>
          <p:nvPr/>
        </p:nvPicPr>
        <p:blipFill>
          <a:blip r:embed="rId1"/>
          <a:stretch/>
        </p:blipFill>
        <p:spPr>
          <a:xfrm>
            <a:off x="611280" y="1844640"/>
            <a:ext cx="2911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Россия, Российская импери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0" name="Picture 4" descr="Петр I"/>
          <p:cNvPicPr/>
          <p:nvPr/>
        </p:nvPicPr>
        <p:blipFill>
          <a:blip r:embed="rId1"/>
          <a:stretch/>
        </p:blipFill>
        <p:spPr>
          <a:xfrm>
            <a:off x="684360" y="2060640"/>
            <a:ext cx="2911320" cy="324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708360" y="1413000"/>
            <a:ext cx="4897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ЕТР I ВЕЛИКИЙ 30 мая (9 июня) 1672, Москва — 28 января (8 февраля) 1725, Санкт - Петербург, российский царь с 1682 (правил с 1689), первый российский император (с 1721), младший сын Алексея Михайловича от второго брака с Н. К. Использовал опыт западноевропейских стран в развитии промышленности, торговли, культуры. Проводил политику меркантилизма (создание мануфактур, металлургических, горных и других заводов, верфей, пристаней, каналов). Руководил постройкой флота и созданием регулярной армии. Возглавлял армию в Азовских походах 1695-1696, Северной войне 1700-1721, Прутском походе 1711, Персидском походе 1722-1723; командовал войсками при взятии Нотебурга (1702), в сражениях при деревне Лесной (1708) и под Полтавой (1709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пособствовал упрочению экономического и политического положения дворянства. По инициативе Петра I открыты многие учебные заведения, Академия наук, принята гражданская азбука.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780000" y="404640"/>
            <a:ext cx="4906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mic Sans MS"/>
              </a:rPr>
              <a:t>ЛОМОНОСОВ Михаил Васильевич</a:t>
            </a:r>
            <a:r>
              <a:rPr b="0" lang="ru-RU" sz="1300" spc="-1" strike="noStrike">
                <a:solidFill>
                  <a:srgbClr val="000000"/>
                </a:solidFill>
                <a:latin typeface="Comic Sans MS"/>
              </a:rPr>
              <a:t> (1711-65), первый русский ученый-естествоиспытатель мирового значения, поэт, заложивший основы современного русского литературного языка, художник, историк, поборник развития отечественного просвещения, науки и экономики. Родился 8(19) ноября в д. Денисовка (ныне с. Ломоносово) в семье помо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omic Sans MS"/>
              </a:rPr>
              <a:t>В 19 лет ушел учиться (с 1731 в Славяно-греко-латинской академии в Москве, с 1735 в Академическом университете в Санкт-Петербурге, в 1736-41 в Германии). С 1742 адъюнкт, с 1745 академик Петербургской АН. В 1748 основал при АН первую в России химическую лабораторию. По инициативе Ломоносова основан Московский университет (1755). Открытия Ломоносова обогатили многие отрасли знания. Развивал атомно-молекулярные представления о строении вещества. Сформулировал принцип сохранения материи и движения. Заложил основы физической химии. Исследовал атмосферное электричество и силу тяжести. Выдвинул учение о цвете. Создал ряд оптических приборов. Открыл атмосферу на Венере. Описал строение Земли, объяснил происхождение многих полезных ископаемых и минералов. Опубликовал руководство по металлургии. Подчеркивал важность исследования Северного морского пути, освоения Сибири. Автор трудов по русской истории. Крупнейший русский поэт-просветитель 18 в., Автор поэм, поэтических посланий, трагедий, сатир, фундаментальных филологических трудов и научной грамматики русского языка. Возродил искусство мозаики, создал с учениками мозаичные картины. Член Академии художеств (1763). Похоронен в Санкт - Петербурге в Некрополе 18 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Ломоносов"/>
          <p:cNvPicPr/>
          <p:nvPr/>
        </p:nvPicPr>
        <p:blipFill>
          <a:blip r:embed="rId1"/>
          <a:stretch/>
        </p:blipFill>
        <p:spPr>
          <a:xfrm>
            <a:off x="611280" y="1773360"/>
            <a:ext cx="2911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Советская Росси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08360" y="14126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ЛЕНИН (Ульянов) Владимир Ильич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10 (22) апреля 1870, Симбирск — 21 января 1924, Горки, Московская губерния, российский политический и государственный деятель; основатель коммунистической партии и советского государства; один из лидеров международного коммунистического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а 2-м съезде РСДРП (1903) Ленин возглавил партию большевиков. С 1905 в Санкт-Петербурге; с декабря 1907 в эмиграции. В апреле 1917, приехав в Петроград, Ленин выдвинул курс на победу социалистической революции. Возглавил руководство Октябрьским восстанием в Петрограде. Сыграл решающую роль в заключение Брестского ми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1922 Ленин тяжело заболел и с декабря не участвовал в политическ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Ленин считал, что Россия должна начать мировую социалистическую революц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Ленин"/>
          <p:cNvPicPr/>
          <p:nvPr/>
        </p:nvPicPr>
        <p:blipFill>
          <a:blip r:embed="rId1"/>
          <a:stretch/>
        </p:blipFill>
        <p:spPr>
          <a:xfrm>
            <a:off x="826920" y="1773360"/>
            <a:ext cx="2911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сле революции Российскую империю стали называть Советская Россия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2" descr="C:\Users\Дом\Desktop\avrora_59.jpg"/>
          <p:cNvPicPr/>
          <p:nvPr/>
        </p:nvPicPr>
        <p:blipFill>
          <a:blip r:embed="rId1"/>
          <a:stretch/>
        </p:blipFill>
        <p:spPr>
          <a:xfrm>
            <a:off x="2268360" y="2565360"/>
            <a:ext cx="49816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мволика СССР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Picture 2" descr="C:\Users\Дом\Desktop\A03-25_5.jpg"/>
          <p:cNvPicPr/>
          <p:nvPr/>
        </p:nvPicPr>
        <p:blipFill>
          <a:blip r:embed="rId1"/>
          <a:stretch/>
        </p:blipFill>
        <p:spPr>
          <a:xfrm>
            <a:off x="324000" y="1197000"/>
            <a:ext cx="4646520" cy="3484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C:\Users\Дом\Desktop\67C46A033AB0-41.jpg"/>
          <p:cNvPicPr/>
          <p:nvPr/>
        </p:nvPicPr>
        <p:blipFill>
          <a:blip r:embed="rId2"/>
          <a:stretch/>
        </p:blipFill>
        <p:spPr>
          <a:xfrm>
            <a:off x="5219640" y="2421000"/>
            <a:ext cx="332100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5:41:56Z</dcterms:created>
  <dc:creator>SMOL</dc:creator>
  <dc:description/>
  <dc:language>en-US</dc:language>
  <cp:lastModifiedBy>Дом</cp:lastModifiedBy>
  <dcterms:modified xsi:type="dcterms:W3CDTF">2015-02-01T15:45:54Z</dcterms:modified>
  <cp:revision>21</cp:revision>
  <dc:subject/>
  <dc:title>Великие люди в истории России</dc:title>
</cp:coreProperties>
</file>