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D2F-667F-4C1F-ACA4-D1BA3EE2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02A-C0E3-4BA1-97E6-61000D5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1BB-F66F-4E5F-A749-B77CCA92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694-834E-4FFD-9ED0-D9AA08EE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90E5-11BF-4551-8840-9F9D9355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2DFC-9C69-4570-875E-CA61365E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2B1B-32F7-4F71-A480-8A052F60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3B2D-4659-434E-9766-A3019229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51B7-5DC6-43F9-BEC4-6CDA50E4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2136-2210-4E00-AE84-36E908AE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8338-59BC-4B24-B248-AA656E9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F18-32ED-4881-A858-CBD8D5EF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51FE-2E11-4C01-AF89-46B835CF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E97F-8578-499B-ABB7-97C5E86A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29B2-DB28-4390-8603-27CC6F1F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05E0-BC28-4EFD-AB3E-C93C1D92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5816-1EDE-4639-9A45-986FA1B5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763-A7DA-4CC8-A808-4FA83F0C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F8B-41CA-4564-87A8-1E2EFC52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A2C-B0BE-49E7-868C-E17B17FE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DC7-66FA-41B3-926B-B340E20D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A8E-C450-4578-AC88-E2C6D35F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8E2-D2A9-4DF0-90C7-8A5DEE9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0EF-91C5-4D26-85B9-4108EC2C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9C72-6909-4035-9777-EF9485616E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4BB8-699D-4E2A-8FE8-8CAC3C8560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Жил на свете человек…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6" descr="Петр I"/>
          <p:cNvPicPr/>
          <p:nvPr/>
        </p:nvPicPr>
        <p:blipFill>
          <a:blip r:embed="rId1"/>
          <a:stretch/>
        </p:blipFill>
        <p:spPr>
          <a:xfrm>
            <a:off x="4572000" y="1916280"/>
            <a:ext cx="1771560" cy="197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Ломоносов"/>
          <p:cNvPicPr/>
          <p:nvPr/>
        </p:nvPicPr>
        <p:blipFill>
          <a:blip r:embed="rId2"/>
          <a:stretch/>
        </p:blipFill>
        <p:spPr>
          <a:xfrm>
            <a:off x="6732720" y="2133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Ленин"/>
          <p:cNvPicPr/>
          <p:nvPr/>
        </p:nvPicPr>
        <p:blipFill>
          <a:blip r:embed="rId3"/>
          <a:stretch/>
        </p:blipFill>
        <p:spPr>
          <a:xfrm>
            <a:off x="395280" y="3860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Терешкова"/>
          <p:cNvPicPr/>
          <p:nvPr/>
        </p:nvPicPr>
        <p:blipFill>
          <a:blip r:embed="rId4"/>
          <a:stretch/>
        </p:blipFill>
        <p:spPr>
          <a:xfrm>
            <a:off x="2340000" y="422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Иван Грозный"/>
          <p:cNvPicPr/>
          <p:nvPr/>
        </p:nvPicPr>
        <p:blipFill>
          <a:blip r:embed="rId5"/>
          <a:stretch/>
        </p:blipFill>
        <p:spPr>
          <a:xfrm>
            <a:off x="2556000" y="1773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Ельцин"/>
          <p:cNvPicPr/>
          <p:nvPr/>
        </p:nvPicPr>
        <p:blipFill>
          <a:blip r:embed="rId6"/>
          <a:stretch/>
        </p:blipFill>
        <p:spPr>
          <a:xfrm>
            <a:off x="4211640" y="4365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Мономах"/>
          <p:cNvPicPr/>
          <p:nvPr/>
        </p:nvPicPr>
        <p:blipFill>
          <a:blip r:embed="rId7"/>
          <a:stretch/>
        </p:blipFill>
        <p:spPr>
          <a:xfrm>
            <a:off x="826920" y="1557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Дом\Desktop\e581d1e512c04aed848798ef1e5.jpg"/>
          <p:cNvPicPr/>
          <p:nvPr/>
        </p:nvPicPr>
        <p:blipFill>
          <a:blip r:embed="rId8"/>
          <a:stretch/>
        </p:blipFill>
        <p:spPr>
          <a:xfrm>
            <a:off x="6156360" y="4581360"/>
            <a:ext cx="27064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рта Российской Федерац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2" descr="C:\Users\Дом\Desktop\administrative_map_of_russia_1.jpg"/>
          <p:cNvPicPr/>
          <p:nvPr/>
        </p:nvPicPr>
        <p:blipFill>
          <a:blip r:embed="rId1"/>
          <a:stretch/>
        </p:blipFill>
        <p:spPr>
          <a:xfrm>
            <a:off x="1057320" y="1600200"/>
            <a:ext cx="7029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Comic Sans MS"/>
              </a:rPr>
              <a:t>Российская Советская Федеративная Социалистическая Республика (РСФСР)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Comic Sans MS"/>
              </a:rPr>
              <a:t>в составе ССС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ТЕРЕШКОВА Валентина Владимировна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(р. 1937), российский космонавт. Летчик-космонавт СССР (1963), первая в мире женщина-космонавт, кандидат технических наук, полковник (1970), общественный деятель, Герой Советского Союза (1963). Полет на «Востоке-6» (июнь 1963). Председатель Комитета советских женщин (1968-87), вице-президент Международной демократической федерации женщин с 1969. С 1987-92 председатель Президиума Союза советских обществ дружбы и культурной связи с зарубежными странами. С 1994 руководитель Российского центра международного научного и культурного сотруднич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Терешкова"/>
          <p:cNvPicPr/>
          <p:nvPr/>
        </p:nvPicPr>
        <p:blipFill>
          <a:blip r:embed="rId1"/>
          <a:stretch/>
        </p:blipFill>
        <p:spPr>
          <a:xfrm>
            <a:off x="971640" y="213372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я, </a:t>
            </a:r>
            <a:br>
              <a:rPr sz="4400"/>
            </a:b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йская Федерац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80000" y="213336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ЛЬЦИН Борис Николаевич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р. 1 февраля 1931, село Бутка Талицкого района Свердловской области – 23 апреля 2007 г., г. Москва), российский государственный деятель, председатель Верховного Совета РСФСР (1990-1991), первый президент Российской Федерации (1991-1999), лидер демократического движения кон. 1980-х- начала 1990-х гг, лидер сопротивления во время Августовского путча (1991), один из инициаторов Беловежских соглашений (1991) о ликвидации СССР и создании СНГ, принятия Конституции РФ (199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Ельцин"/>
          <p:cNvPicPr/>
          <p:nvPr/>
        </p:nvPicPr>
        <p:blipFill>
          <a:blip r:embed="rId1"/>
          <a:stretch/>
        </p:blipFill>
        <p:spPr>
          <a:xfrm>
            <a:off x="826920" y="2205000"/>
            <a:ext cx="291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. Путин и Д. Медведев – следующие президенты Росс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2" descr="C:\Users\Дом\Desktop\e581d1e512c04aed848798ef1e5.jpg"/>
          <p:cNvPicPr/>
          <p:nvPr/>
        </p:nvPicPr>
        <p:blipFill>
          <a:blip r:embed="rId1"/>
          <a:stretch/>
        </p:blipFill>
        <p:spPr>
          <a:xfrm>
            <a:off x="1187280" y="1916280"/>
            <a:ext cx="6839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003640" y="1052640"/>
            <a:ext cx="36417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нец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62120" y="1712880"/>
            <a:ext cx="364320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йская Советская Федеративная Социалистическая Республика (РСФСР) в составе ССС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84360" y="2637000"/>
            <a:ext cx="364140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оветская 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5003640" y="1916280"/>
            <a:ext cx="3641760" cy="46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19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5005440" y="2687760"/>
            <a:ext cx="36417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чало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: с 191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55640" y="3387600"/>
            <a:ext cx="36417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я, Российская имп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005440" y="3387600"/>
            <a:ext cx="36417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VII-XI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начало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755640" y="408924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осковская Ру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003640" y="407664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III-XVI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755640" y="490680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ревняя Ру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5005440" y="490680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X-X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55640" y="1089000"/>
            <a:ext cx="36417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я, Российская Феде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0"/>
          <p:cNvSpPr/>
          <p:nvPr/>
        </p:nvSpPr>
        <p:spPr>
          <a:xfrm>
            <a:off x="4284720" y="105264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4284720" y="4076640"/>
            <a:ext cx="934920" cy="43200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2"/>
          <p:cNvSpPr/>
          <p:nvPr/>
        </p:nvSpPr>
        <p:spPr>
          <a:xfrm>
            <a:off x="4211640" y="486900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3"/>
          <p:cNvSpPr/>
          <p:nvPr/>
        </p:nvSpPr>
        <p:spPr>
          <a:xfrm>
            <a:off x="4211640" y="263700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4284720" y="335772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4284720" y="177336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Древняя Рус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4" descr="Мономах"/>
          <p:cNvPicPr/>
          <p:nvPr/>
        </p:nvPicPr>
        <p:blipFill>
          <a:blip r:embed="rId1"/>
          <a:stretch/>
        </p:blipFill>
        <p:spPr>
          <a:xfrm>
            <a:off x="611280" y="1989000"/>
            <a:ext cx="291132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708360" y="1844640"/>
            <a:ext cx="489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ЛАДИМИР II Мономах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1053-1125), князь смоленский (с 1067), черниговский (с 1078), переяславский (с 1093), великий князь киевский (с 1113). Сын Всеволода I и дочери византийского императора Константина Мономаха. Призван киевскими боярами во время восстания. Боролся против княжеских междоусобий. Разработал устав, ограничивавший произвол ростовщиков. В «Поучении» призывал сыновей укреплять единство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Московская Рус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635280" y="1484280"/>
            <a:ext cx="489744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ВАН IV Грозный (1530-84), великий князь «всея Руси» (с 1533), первый русский царь (с 1547), сын Василия III. С кон. 40-х гг. правил с участием Избранной рады. При нем начался созыв Земских соборов, составлен Судебник 1550. Проведены реформы управления и суда (Губная, Земская и другие реформы). В 1565 была введена опричнина. При Иване IV установились торговые связи с Англией (1553), создана первая типография в Москве. Покорены Казанское (1552) и Астраханское (1556) ханства. В 1558-83 велась Ливонская война за выход к Балтийскому м., началось присоединение Сибири (1581). Внутренняя политика Ивана IV сопровождалась массовыми опалами и казнями, усилением закрепощения крест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Иван Грозный"/>
          <p:cNvPicPr/>
          <p:nvPr/>
        </p:nvPicPr>
        <p:blipFill>
          <a:blip r:embed="rId1"/>
          <a:stretch/>
        </p:blipFill>
        <p:spPr>
          <a:xfrm>
            <a:off x="611280" y="184464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я, Российская импер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4" descr="Петр I"/>
          <p:cNvPicPr/>
          <p:nvPr/>
        </p:nvPicPr>
        <p:blipFill>
          <a:blip r:embed="rId1"/>
          <a:stretch/>
        </p:blipFill>
        <p:spPr>
          <a:xfrm>
            <a:off x="684360" y="2060640"/>
            <a:ext cx="2911320" cy="324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708360" y="1413000"/>
            <a:ext cx="4897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ЕТР I ВЕЛИКИЙ 30 мая (9 июня) 1672, Москва — 28 января (8 февраля) 1725, Санкт - Петербург, российский царь с 1682 (правил с 1689), первый российский император (с 1721), младший сын Алексея Михайловича от второго брака с Н. К. Использовал опыт западноевропейских стран в развитии промышленности, торговли, культуры. Проводил политику меркантилизма (создание мануфактур, металлургических, горных и других заводов, верфей, пристаней, каналов). Руководил постройкой флота и созданием регулярной армии. Возглавлял армию в Азовских походах 1695-1696, Северной войне 1700-1721, Прутском походе 1711, Персидском походе 1722-1723; командовал войсками при взятии Нотебурга (1702), в сражениях при деревне Лесной (1708) и под Полтавой (1709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пособствовал упрочению экономического и политического положения дворянства. По инициативе Петра I открыты многие учебные заведения, Академия наук, принята гражданская азбука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80000" y="404640"/>
            <a:ext cx="490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mic Sans MS"/>
              </a:rPr>
              <a:t>ЛОМОНОСОВ Михаил Васильевич</a:t>
            </a: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 (1711-65), первый русский ученый-естествоиспытатель мирового значения, поэт, заложивший основы современного русского литературного языка, художник, историк, поборник развития отечественного просвещения, науки и экономики. Родился 8(19) ноября в д. Денисовка (ныне с. Ломоносово) в семье помо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В 19 лет ушел учиться (с 1731 в Славяно-греко-латинской академии в Москве, с 1735 в Академическом университете в Санкт-Петербурге, в 1736-41 в Германии). С 1742 адъюнкт, с 1745 академик Петербургской АН. В 1748 основал при АН первую в России химическую лабораторию. По инициативе Ломоносова основан Московский университет (1755). Открытия Ломоносова обогатили многие отрасли знания. Развивал атомно-молекулярные представления о строении вещества. Сформулировал принцип сохранения материи и движения. Заложил основы физической химии. Исследовал атмосферное электричество и силу тяжести. Выдвинул учение о цвете. Создал ряд оптических приборов. Открыл атмосферу на Венере. Описал строение Земли, объяснил происхождение многих полезных ископаемых и минералов. Опубликовал руководство по металлургии. Подчеркивал важность исследования Северного морского пути, освоения Сибири. Автор трудов по русской истории. Крупнейший русский поэт-просветитель 18 в., Автор поэм, поэтических посланий, трагедий, сатир, фундаментальных филологических трудов и научной грамматики русского языка. Возродил искусство мозаики, создал с учениками мозаичные картины. Член Академии художеств (1763). Похоронен в Санкт - Петербурге в Некрополе 18 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Ломоносов"/>
          <p:cNvPicPr/>
          <p:nvPr/>
        </p:nvPicPr>
        <p:blipFill>
          <a:blip r:embed="rId1"/>
          <a:stretch/>
        </p:blipFill>
        <p:spPr>
          <a:xfrm>
            <a:off x="611280" y="177336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Советская Росс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08360" y="14126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ЕНИН (Ульянов) Владимир Ильич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10 (22) апреля 1870, Симбирск — 21 января 1924, Горки, Московская губерния, российский политический и государственный деятель; основатель коммунистической партии и советского государства; один из лидеров международного коммунистического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2-м съезде РСДРП (1903) Ленин возглавил партию большевиков. С 1905 в Санкт-Петербурге; с декабря 1907 в эмиграции. В апреле 1917, приехав в Петроград, Ленин выдвинул курс на победу социалистической революции. Возглавил руководство Октябрьским восстанием в Петрограде. Сыграл решающую роль в заключение Брестского ми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1922 Ленин тяжело заболел и с декабря не участвовал в полит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Ленин считал, что Россия должна начать мировую социалистическую револю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Ленин"/>
          <p:cNvPicPr/>
          <p:nvPr/>
        </p:nvPicPr>
        <p:blipFill>
          <a:blip r:embed="rId1"/>
          <a:stretch/>
        </p:blipFill>
        <p:spPr>
          <a:xfrm>
            <a:off x="826920" y="1773360"/>
            <a:ext cx="291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ле революции Российскую империю стали называть Советская Росс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C:\Users\Дом\Desktop\avrora_59.jpg"/>
          <p:cNvPicPr/>
          <p:nvPr/>
        </p:nvPicPr>
        <p:blipFill>
          <a:blip r:embed="rId1"/>
          <a:stretch/>
        </p:blipFill>
        <p:spPr>
          <a:xfrm>
            <a:off x="2268360" y="2565360"/>
            <a:ext cx="49816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мволика СССР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2" descr="C:\Users\Дом\Desktop\A03-25_5.jpg"/>
          <p:cNvPicPr/>
          <p:nvPr/>
        </p:nvPicPr>
        <p:blipFill>
          <a:blip r:embed="rId1"/>
          <a:stretch/>
        </p:blipFill>
        <p:spPr>
          <a:xfrm>
            <a:off x="324000" y="1197000"/>
            <a:ext cx="4646520" cy="3484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Users\Дом\Desktop\67C46A033AB0-41.jpg"/>
          <p:cNvPicPr/>
          <p:nvPr/>
        </p:nvPicPr>
        <p:blipFill>
          <a:blip r:embed="rId2"/>
          <a:stretch/>
        </p:blipFill>
        <p:spPr>
          <a:xfrm>
            <a:off x="5219640" y="2421000"/>
            <a:ext cx="33210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5:41:56Z</dcterms:created>
  <dc:creator>SMOL</dc:creator>
  <dc:description/>
  <dc:language>en-US</dc:language>
  <cp:lastModifiedBy>Дом</cp:lastModifiedBy>
  <dcterms:modified xsi:type="dcterms:W3CDTF">2015-02-01T15:45:54Z</dcterms:modified>
  <cp:revision>21</cp:revision>
  <dc:subject/>
  <dc:title>Великие люди в истории России</dc:title>
</cp:coreProperties>
</file>