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B93-5703-4482-B9CB-1DBFDFEE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7AA-30CC-4D74-9B07-F9A99EA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427-9B0B-4792-B11B-1AC7469A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757-014A-4930-B9B9-E7230383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B07-9D41-4EB6-90C2-68DC6473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53A-EEC4-4934-8459-A5B250F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B530-24C3-4EFD-9F85-EA10BC9D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888-D939-4405-8835-5C97D763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EA7B-B325-4BAD-B68E-079D672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65B-2072-497C-89CB-1A49363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1D96-BC17-4979-A4D2-FAD9A6C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96D-2F85-4CFE-A358-0360BD1B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1C50-D822-4661-94D5-3211C9C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DFF9-DA2F-4CFB-A0C8-550518B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198F-F738-4391-BE5F-6D909AFE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F8F0-28B4-425E-82AF-478D8080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EDB0-46A8-484B-B91F-9059D8C4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98B-2FD9-4A67-AE02-8842F456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DB9-9B59-4A5B-BC2C-693CE14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389-D1D1-4755-A221-75B78568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C3F-17C0-40B5-AA07-D977660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310-7D4C-453B-BDC2-1728F58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749-A59A-4F74-960F-43A0FC3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29A-B2F1-42B5-9E3D-357714A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001-844A-4944-A0B6-2887EE56AB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C7A-9F5C-475F-85D1-C2DFB3F623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Жил на свете человек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6" descr="Петр I"/>
          <p:cNvPicPr/>
          <p:nvPr/>
        </p:nvPicPr>
        <p:blipFill>
          <a:blip r:embed="rId1"/>
          <a:stretch/>
        </p:blipFill>
        <p:spPr>
          <a:xfrm>
            <a:off x="4572000" y="191628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Ломоносов"/>
          <p:cNvPicPr/>
          <p:nvPr/>
        </p:nvPicPr>
        <p:blipFill>
          <a:blip r:embed="rId2"/>
          <a:stretch/>
        </p:blipFill>
        <p:spPr>
          <a:xfrm>
            <a:off x="6732720" y="2133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Ленин"/>
          <p:cNvPicPr/>
          <p:nvPr/>
        </p:nvPicPr>
        <p:blipFill>
          <a:blip r:embed="rId3"/>
          <a:stretch/>
        </p:blipFill>
        <p:spPr>
          <a:xfrm>
            <a:off x="395280" y="38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Терешкова"/>
          <p:cNvPicPr/>
          <p:nvPr/>
        </p:nvPicPr>
        <p:blipFill>
          <a:blip r:embed="rId4"/>
          <a:stretch/>
        </p:blipFill>
        <p:spPr>
          <a:xfrm>
            <a:off x="234000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ван Грозный"/>
          <p:cNvPicPr/>
          <p:nvPr/>
        </p:nvPicPr>
        <p:blipFill>
          <a:blip r:embed="rId5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Ельцин"/>
          <p:cNvPicPr/>
          <p:nvPr/>
        </p:nvPicPr>
        <p:blipFill>
          <a:blip r:embed="rId6"/>
          <a:stretch/>
        </p:blipFill>
        <p:spPr>
          <a:xfrm>
            <a:off x="421164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Мономах"/>
          <p:cNvPicPr/>
          <p:nvPr/>
        </p:nvPicPr>
        <p:blipFill>
          <a:blip r:embed="rId7"/>
          <a:stretch/>
        </p:blipFill>
        <p:spPr>
          <a:xfrm>
            <a:off x="826920" y="1557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Дом\Desktop\e581d1e512c04aed848798ef1e5.jpg"/>
          <p:cNvPicPr/>
          <p:nvPr/>
        </p:nvPicPr>
        <p:blipFill>
          <a:blip r:embed="rId8"/>
          <a:stretch/>
        </p:blipFill>
        <p:spPr>
          <a:xfrm>
            <a:off x="6156360" y="4581360"/>
            <a:ext cx="2706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а Российской Федерац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2" descr="C:\Users\Дом\Desktop\administrative_map_of_russia_1.jpg"/>
          <p:cNvPicPr/>
          <p:nvPr/>
        </p:nvPicPr>
        <p:blipFill>
          <a:blip r:embed="rId1"/>
          <a:stretch/>
        </p:blipFill>
        <p:spPr>
          <a:xfrm>
            <a:off x="1057320" y="1600200"/>
            <a:ext cx="7029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Российская Советская Федеративная Социалистическая Республика (РСФСР)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в составе ССС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ТЕРЕШКОВА Валентина Владимировна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ерешкова"/>
          <p:cNvPicPr/>
          <p:nvPr/>
        </p:nvPicPr>
        <p:blipFill>
          <a:blip r:embed="rId1"/>
          <a:stretch/>
        </p:blipFill>
        <p:spPr>
          <a:xfrm>
            <a:off x="971640" y="213372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</a:t>
            </a:r>
            <a:br>
              <a:rPr sz="4400"/>
            </a:b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йская Федер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0" y="213336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ЬЦИН Борис Николаеви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. 1 февраля 1931, село Бутка Талицкого района Свердловской области – 23 апреля 2007 г., г. Москва), российский государственный деятель, председатель Верховного Совета РСФСР (1990-1991), первый президент Российской Федерации (1991-1999), лидер демократического движения кон. 1980-х- начала 1990-х гг, лидер сопротивления во время Августовского путча (1991), один из инициаторов Беловежских соглашений (1991) о ликвидации СССР и создании СНГ, принятия Конституции РФ (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Ельцин"/>
          <p:cNvPicPr/>
          <p:nvPr/>
        </p:nvPicPr>
        <p:blipFill>
          <a:blip r:embed="rId1"/>
          <a:stretch/>
        </p:blipFill>
        <p:spPr>
          <a:xfrm>
            <a:off x="826920" y="220500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. Путин и Д. Медведев – следующие президенты Росс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2" descr="C:\Users\Дом\Desktop\e581d1e512c04aed848798ef1e5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39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003640" y="105264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ц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62120" y="1712880"/>
            <a:ext cx="36432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йская Советская Федеративная Социалистическая Республика (РСФСР) в составе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4360" y="2637000"/>
            <a:ext cx="3641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ветская 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003640" y="1916280"/>
            <a:ext cx="364176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19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005440" y="268776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: с 19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556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имп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0054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VII-XI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55640" y="40892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сковска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03640" y="40766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III-XVI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556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ревня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0054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X-X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55640" y="1089000"/>
            <a:ext cx="36417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Фед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4284720" y="105264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284720" y="4076640"/>
            <a:ext cx="934920" cy="43200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4211640" y="4869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4211640" y="2637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284720" y="335772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4284720" y="177336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Древня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Мономах"/>
          <p:cNvPicPr/>
          <p:nvPr/>
        </p:nvPicPr>
        <p:blipFill>
          <a:blip r:embed="rId1"/>
          <a:stretch/>
        </p:blipFill>
        <p:spPr>
          <a:xfrm>
            <a:off x="611280" y="1989000"/>
            <a:ext cx="29113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708360" y="1844640"/>
            <a:ext cx="489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ЛАДИМИР II Монома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1053-1125), князь смоленский (с 1067), черниговский (с 1078), переяславский (с 1093), великий князь киевский (с 1113). Сын Всеволода I и дочери византийского императора Константина Мономаха. Призван киевскими боярами во время восстания. Боролся против княжеских междоусобий. Разработал устав, ограничивавший произвол ростовщиков. В «Поучении» призывал сыновей укреплять единство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Московска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635280" y="1484280"/>
            <a:ext cx="48974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ВАН IV Грозный (1530-84), великий князь «всея Руси» (с 1533), первый русский царь (с 1547), сын Василия III. С кон. 40-х гг. правил с участием Избранной рады. При нем начался созыв Земских соборов, составлен Судебник 1550. Проведены реформы управления и суда (Губная, Земская и другие реформы). В 1565 была введена опричнина. При Иване IV установились торговые связи с Англией (1553), создана первая типография в Москве. Покорены Казанское (1552) и Астраханское (1556) ханства. В 1558-83 велась Ливонская война за выход к Балтийскому м., началось присоединение Сибири (1581). Внутренняя политика Ивана IV сопровождалась массовыми опалами и казнями, усилением закрепощения крест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Иван Грозный"/>
          <p:cNvPicPr/>
          <p:nvPr/>
        </p:nvPicPr>
        <p:blipFill>
          <a:blip r:embed="rId1"/>
          <a:stretch/>
        </p:blipFill>
        <p:spPr>
          <a:xfrm>
            <a:off x="61128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Российская импер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Петр I"/>
          <p:cNvPicPr/>
          <p:nvPr/>
        </p:nvPicPr>
        <p:blipFill>
          <a:blip r:embed="rId1"/>
          <a:stretch/>
        </p:blipFill>
        <p:spPr>
          <a:xfrm>
            <a:off x="684360" y="2060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708360" y="1413000"/>
            <a:ext cx="4897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ЕТР I ВЕЛИКИЙ 30 мая (9 июня) 1672, Москва — 28 января (8 февраля) 1725, Санкт - Петербург, российский царь с 1682 (правил с 1689), первый российский император (с 1721), младший сын Алексея Михайловича от второго брака с Н. К. Использовал опыт западноевропейских стран в развитии промышленности, торговли, культуры. Проводил политику меркантилизма (создание мануфактур, металлургических, горных и других заводов, верфей, пристаней, каналов). Руководил постройкой флота и созданием регулярной армии. Возглавлял армию в Азовских походах 1695-1696, Северной войне 1700-1721, Прутском походе 1711, Персидском походе 1722-1723; командовал войсками при взятии Нотебурга (1702), в сражениях при деревне Лесной (1708) и под Полтавой (1709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пособствовал упрочению экономического и политического положения дворянства. По инициативе Петра I открыты многие учебные заведения, Академия наук, принята гражданская азбука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ЛОМОНОСОВ Михаил Васильевич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 Родился 8(19) ноября в д. Денисовка (ныне с. Ломоносово) в семье помо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В 19 лет ушел учиться (с 1731 в Славяно-греко-латинской академии в Москве, с 1735 в Академическом университете в Санкт-Петербурге, в 1736-41 в Германии). С 1742 адъюнкт, с 1745 академик Петербургской АН. В 1748 основал при АН первую в России химическую лабораторию. По инициативе Ломоносова основан Московский университет (1755). Открытия Ломоносова обогатили многие отрасли знания. Развивал атомно-молекулярные представления о строении вещества. Сформулировал принцип сохранения материи и движения. Заложил основы физической химии. Исследовал атмосферное электричество и силу тяжести. Выдвинул учение о цвете. Создал ряд оптических приборов. Открыл атмосферу на Венере. Описал строение Земли, объяснил происхождение многих полезных ископаемых и минералов. Опубликовал руководство по металлургии. Подчеркивал важность исследования Северного морского пути, освоения Сибири. Автор трудов по русской истории. Крупнейший русский поэт-просветитель 18 в., Автор поэм, поэтических посланий, трагедий, сатир, фундаментальных филологических трудов и научной грамматики русского языка. Возродил искусство мозаики, создал с учениками мозаичные картины. Член Академии художеств (1763). Похоронен в Санкт - Петербурге в Некрополе 18 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Ломоносов"/>
          <p:cNvPicPr/>
          <p:nvPr/>
        </p:nvPicPr>
        <p:blipFill>
          <a:blip r:embed="rId1"/>
          <a:stretch/>
        </p:blipFill>
        <p:spPr>
          <a:xfrm>
            <a:off x="611280" y="177336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Советская Росс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НИН (Ульянов) Владимир Ильич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10 (22) апреля 1870, Симбирск — 21 января 1924, Горки, Московская губерния, российский политический и государственный деятель; основатель коммунистической партии и советского государства; один из лидеров международного коммунистиче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2-м съезде РСДРП (1903) Ленин возглавил партию большевиков. С 1905 в Санкт-Петербурге; с декабря 1907 в эмиграции. В апреле 1917, приехав в Петроград, Ленин выдвинул курс на победу социалистической революции. Возглавил руководство Октябрьским восстанием в Петрограде. Сыграл решающую роль в заключение Брестского м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1922 Ленин тяжело заболел и с декабря не участвовал в поли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Ленин считал, что Россия должна начать мировую социалистическую револю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Ленин"/>
          <p:cNvPicPr/>
          <p:nvPr/>
        </p:nvPicPr>
        <p:blipFill>
          <a:blip r:embed="rId1"/>
          <a:stretch/>
        </p:blipFill>
        <p:spPr>
          <a:xfrm>
            <a:off x="826920" y="177336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е революции Российскую империю стали называть Советская Росс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C:\Users\Дом\Desktop\avrora_59.jpg"/>
          <p:cNvPicPr/>
          <p:nvPr/>
        </p:nvPicPr>
        <p:blipFill>
          <a:blip r:embed="rId1"/>
          <a:stretch/>
        </p:blipFill>
        <p:spPr>
          <a:xfrm>
            <a:off x="2268360" y="2565360"/>
            <a:ext cx="4981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мволика ССС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C:\Users\Дом\Desktop\A03-25_5.jpg"/>
          <p:cNvPicPr/>
          <p:nvPr/>
        </p:nvPicPr>
        <p:blipFill>
          <a:blip r:embed="rId1"/>
          <a:stretch/>
        </p:blipFill>
        <p:spPr>
          <a:xfrm>
            <a:off x="324000" y="1197000"/>
            <a:ext cx="4646520" cy="348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Дом\Desktop\67C46A033AB0-41.jpg"/>
          <p:cNvPicPr/>
          <p:nvPr/>
        </p:nvPicPr>
        <p:blipFill>
          <a:blip r:embed="rId2"/>
          <a:stretch/>
        </p:blipFill>
        <p:spPr>
          <a:xfrm>
            <a:off x="5219640" y="2421000"/>
            <a:ext cx="3321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5:41:56Z</dcterms:created>
  <dc:creator>SMOL</dc:creator>
  <dc:description/>
  <dc:language>en-US</dc:language>
  <cp:lastModifiedBy>Дом</cp:lastModifiedBy>
  <dcterms:modified xsi:type="dcterms:W3CDTF">2015-02-01T15:45:54Z</dcterms:modified>
  <cp:revision>21</cp:revision>
  <dc:subject/>
  <dc:title>Великие люди в истории России</dc:title>
</cp:coreProperties>
</file>