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2E4-82D3-4F09-A2BD-724DE853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1FE-98F1-461E-80C9-8C7EB88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DE2-B4DE-42BB-91CB-A306C2BC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702-FD17-4AC0-886B-53B96F5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A3D-A5B7-4A60-A59D-41243B1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34A-42B8-4E9D-917E-787EFEC6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A4B-6BDF-4227-8030-3819FF4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9D5-362A-4FE7-A4E2-4919629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61C-DE01-4DFF-849A-F9D3C00B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2F9-5BAC-467F-A39E-B979642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87E-E483-432A-9361-F1BDF8E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EEC-2159-4410-8B56-B023BBF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3A2-9687-4B02-830C-6E61B7349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pt4web.ru/images/937/26580/310/img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ppt4web.ru/images/2692/50733/310/img6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900igr.net/datai/literatura/Pasternak-uroki/0016-014-B.Pasternak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pt4web.ru/images/937/26580/310/im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428920" y="2333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«Что такое снег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Схема для вырезания снежинки"/>
          <p:cNvPicPr/>
          <p:nvPr/>
        </p:nvPicPr>
        <p:blipFill>
          <a:blip r:embed="rId3"/>
          <a:stretch/>
        </p:blipFill>
        <p:spPr>
          <a:xfrm>
            <a:off x="1714680" y="178596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stat16.privet.ru/lr/0b01bb71b29250916639a03beb4c8227"/>
          <p:cNvPicPr/>
          <p:nvPr/>
        </p:nvPicPr>
        <p:blipFill>
          <a:blip r:embed="rId3"/>
          <a:stretch/>
        </p:blipFill>
        <p:spPr>
          <a:xfrm>
            <a:off x="2000160" y="1571760"/>
            <a:ext cx="506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Box 5" descr=""/>
          <p:cNvPicPr/>
          <p:nvPr/>
        </p:nvPicPr>
        <p:blipFill>
          <a:blip r:embed="rId3"/>
          <a:stretch/>
        </p:blipFill>
        <p:spPr>
          <a:xfrm>
            <a:off x="2651040" y="2432160"/>
            <a:ext cx="3994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1420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143080" y="185724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14720" y="2156760"/>
            <a:ext cx="450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мне интересно об этом узна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чему идёт снег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 чего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уда идёт сне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почему снег хру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5960" y="1428840"/>
            <a:ext cx="5929200" cy="3929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857240" y="1623240"/>
            <a:ext cx="5643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Я могу прочитать об этом в книгах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сё о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е могут рассказать об этом (кто?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ама, папа, брат, бабуш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ы больше узнать, я могу пойт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библиоте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щё я могу узнать об этом (где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Admin\Рабочий стол\P1110068.JPG"/>
          <p:cNvPicPr/>
          <p:nvPr/>
        </p:nvPicPr>
        <p:blipFill>
          <a:blip r:embed="rId6"/>
          <a:stretch/>
        </p:blipFill>
        <p:spPr>
          <a:xfrm>
            <a:off x="1714680" y="107172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Рабочий стол\P1110069.JPG"/>
          <p:cNvPicPr/>
          <p:nvPr/>
        </p:nvPicPr>
        <p:blipFill>
          <a:blip r:embed="rId6"/>
          <a:stretch/>
        </p:blipFill>
        <p:spPr>
          <a:xfrm>
            <a:off x="1643040" y="114300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785960" y="1428840"/>
            <a:ext cx="5500800" cy="3929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Рабочий стол\P1110070.JPG"/>
          <p:cNvPicPr/>
          <p:nvPr/>
        </p:nvPicPr>
        <p:blipFill>
          <a:blip r:embed="rId4"/>
          <a:stretch/>
        </p:blipFill>
        <p:spPr>
          <a:xfrm>
            <a:off x="1714680" y="1500120"/>
            <a:ext cx="5572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ppt4web.ru/images/2692/50733/310/img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43040" y="1214280"/>
            <a:ext cx="6500880" cy="4865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900igr.net/datai/literatura/Pasternak-uroki/0016-014-B.Pasterna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57240" y="4000680"/>
            <a:ext cx="2698920" cy="19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Схема для вырезания снежинки"/>
          <p:cNvPicPr/>
          <p:nvPr/>
        </p:nvPicPr>
        <p:blipFill>
          <a:blip r:embed="rId4"/>
          <a:stretch/>
        </p:blipFill>
        <p:spPr>
          <a:xfrm>
            <a:off x="1714680" y="178596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4-01-19T06:40:00Z</dcterms:modified>
  <cp:revision>14</cp:revision>
  <dc:subject/>
  <dc:title>Слайд 1</dc:title>
</cp:coreProperties>
</file>