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9D82-BBF8-4AC9-857F-3D5ED7ACA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A0AF-E2E4-498F-9833-475E960F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95B5-E8E1-4E3F-B93E-D9AC9426A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3FF5-CF6E-424C-9CAC-B3860C549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3A71-2E78-4E96-8184-C42F12B6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2DD8-B607-4418-9AA2-0FB4635F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D95C-F493-4A2B-B64E-93A24FDF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7D6E-4EFE-43EF-97E8-E2861335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5634-01F3-42F8-BF07-B71FAFAC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AFAC-9076-4763-AF64-5D260C6D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2417-24B8-4688-A0F1-D61A1751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AAF9-C7C9-47A7-8245-A28E7008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027F-47F2-4814-A1E8-AF994C1614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pt4web.ru/images/937/26580/310/img3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pt4web.ru/images/937/26580/310/img3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pt4web.ru/images/937/26580/310/img3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pt4web.ru/images/937/26580/310/img3.jpg" TargetMode="External"/><Relationship Id="rId3" Type="http://schemas.openxmlformats.org/officeDocument/2006/relationships/image" Target="../media/image1.jpeg"/><Relationship Id="rId4" Type="http://schemas.openxmlformats.org/officeDocument/2006/relationships/hyperlink" Target="http://www.ptr-vlad.ru/uploads/posts/2012-12/1355891581_4ee662aa8fe1d.jpg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pt4web.ru/images/937/26580/310/img3.jpg" TargetMode="External"/><Relationship Id="rId3" Type="http://schemas.openxmlformats.org/officeDocument/2006/relationships/image" Target="../media/image1.jpeg"/><Relationship Id="rId4" Type="http://schemas.openxmlformats.org/officeDocument/2006/relationships/hyperlink" Target="http://www.ptr-vlad.ru/uploads/posts/2012-12/1355891581_4ee662aa8fe1d.jpg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pt4web.ru/images/937/26580/310/img3.jpg" TargetMode="External"/><Relationship Id="rId3" Type="http://schemas.openxmlformats.org/officeDocument/2006/relationships/image" Target="../media/image1.jpeg"/><Relationship Id="rId4" Type="http://schemas.openxmlformats.org/officeDocument/2006/relationships/hyperlink" Target="http://www.ptr-vlad.ru/uploads/posts/2012-12/1355891581_4ee662aa8fe1d.jpg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pt4web.ru/images/937/26580/310/img3.jpg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pt4web.ru/images/937/26580/310/img3.jpg" TargetMode="External"/><Relationship Id="rId3" Type="http://schemas.openxmlformats.org/officeDocument/2006/relationships/image" Target="../media/image1.jpeg"/><Relationship Id="rId4" Type="http://schemas.openxmlformats.org/officeDocument/2006/relationships/hyperlink" Target="http://ppt4web.ru/images/2692/50733/310/img6.jpg" TargetMode="External"/><Relationship Id="rId5" Type="http://schemas.openxmlformats.org/officeDocument/2006/relationships/image" Target="../media/image7.jpeg"/><Relationship Id="rId6" Type="http://schemas.openxmlformats.org/officeDocument/2006/relationships/hyperlink" Target="http://900igr.net/datai/literatura/Pasternak-uroki/0016-014-B.Pasternak.jpg" TargetMode="External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pt4web.ru/images/937/26580/310/img3.jpg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ppt4web.ru/images/937/26580/310/img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4"/>
          <p:cNvSpPr/>
          <p:nvPr/>
        </p:nvSpPr>
        <p:spPr>
          <a:xfrm>
            <a:off x="2357280" y="1785960"/>
            <a:ext cx="4572000" cy="3571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2428920" y="2333160"/>
            <a:ext cx="44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eorgia"/>
                <a:ea typeface="Times New Roman"/>
              </a:rPr>
              <a:t>Проек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eorgia"/>
                <a:ea typeface="Times New Roman"/>
              </a:rPr>
              <a:t>«Что такое снег?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://ppt4web.ru/images/937/26580/310/img3.jpg"/>
          <p:cNvPicPr/>
          <p:nvPr/>
        </p:nvPicPr>
        <p:blipFill>
          <a:blip r:embed="rId2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4"/>
          <p:cNvSpPr/>
          <p:nvPr/>
        </p:nvSpPr>
        <p:spPr>
          <a:xfrm>
            <a:off x="2357280" y="1785960"/>
            <a:ext cx="4572000" cy="3571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Схема для вырезания снежинки"/>
          <p:cNvPicPr/>
          <p:nvPr/>
        </p:nvPicPr>
        <p:blipFill>
          <a:blip r:embed="rId3"/>
          <a:stretch/>
        </p:blipFill>
        <p:spPr>
          <a:xfrm>
            <a:off x="1714680" y="1785960"/>
            <a:ext cx="571500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ppt4web.ru/images/937/26580/310/img3.jpg"/>
          <p:cNvPicPr/>
          <p:nvPr/>
        </p:nvPicPr>
        <p:blipFill>
          <a:blip r:embed="rId2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http://stat16.privet.ru/lr/0b01bb71b29250916639a03beb4c8227"/>
          <p:cNvPicPr/>
          <p:nvPr/>
        </p:nvPicPr>
        <p:blipFill>
          <a:blip r:embed="rId3"/>
          <a:stretch/>
        </p:blipFill>
        <p:spPr>
          <a:xfrm>
            <a:off x="2000160" y="1571760"/>
            <a:ext cx="5067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://ppt4web.ru/images/937/26580/310/img3.jpg"/>
          <p:cNvPicPr/>
          <p:nvPr/>
        </p:nvPicPr>
        <p:blipFill>
          <a:blip r:embed="rId2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4"/>
          <p:cNvSpPr/>
          <p:nvPr/>
        </p:nvSpPr>
        <p:spPr>
          <a:xfrm>
            <a:off x="2357280" y="1785960"/>
            <a:ext cx="4572000" cy="3571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TextBox 5" descr=""/>
          <p:cNvPicPr/>
          <p:nvPr/>
        </p:nvPicPr>
        <p:blipFill>
          <a:blip r:embed="rId3"/>
          <a:stretch/>
        </p:blipFill>
        <p:spPr>
          <a:xfrm>
            <a:off x="2651040" y="2432160"/>
            <a:ext cx="39942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ttp://ppt4web.ru/images/937/26580/310/img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21420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4"/>
          <p:cNvSpPr/>
          <p:nvPr/>
        </p:nvSpPr>
        <p:spPr>
          <a:xfrm>
            <a:off x="2143080" y="1857240"/>
            <a:ext cx="4572000" cy="3571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"/>
          <p:cNvSpPr/>
          <p:nvPr/>
        </p:nvSpPr>
        <p:spPr>
          <a:xfrm>
            <a:off x="2214720" y="2156760"/>
            <a:ext cx="450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Что мне интересно об этом узнать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почему идёт снег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из чего снег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откуда идёт сне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?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почему снег хру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http://ppt4web.ru/images/937/26580/310/img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1785960" y="1428840"/>
            <a:ext cx="5929200" cy="3929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1857240" y="1623240"/>
            <a:ext cx="5643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Я могу прочитать об этом в книгах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всё о приро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Мне могут рассказать об этом (кто?)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мама, папа, брат, бабуш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Чтобы больше узнать, я могу пойти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 библиоте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Ещё я могу узнать об этом (где)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 интерне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ppt4web.ru/images/937/26580/310/img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http://www.ptr-vlad.ru/uploads/posts/2012-12/1355891581_4ee662aa8fe1d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857240" y="1571760"/>
            <a:ext cx="507708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ppt4web.ru/images/937/26580/310/img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www.ptr-vlad.ru/uploads/posts/2012-12/1355891581_4ee662aa8fe1d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857240" y="1571760"/>
            <a:ext cx="5077080" cy="3800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Documents and Settings\Admin\Рабочий стол\P1110068.JPG"/>
          <p:cNvPicPr/>
          <p:nvPr/>
        </p:nvPicPr>
        <p:blipFill>
          <a:blip r:embed="rId6"/>
          <a:stretch/>
        </p:blipFill>
        <p:spPr>
          <a:xfrm>
            <a:off x="1714680" y="1071720"/>
            <a:ext cx="564336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://ppt4web.ru/images/937/26580/310/img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http://www.ptr-vlad.ru/uploads/posts/2012-12/1355891581_4ee662aa8fe1d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857240" y="1571760"/>
            <a:ext cx="5077080" cy="380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Documents and Settings\Admin\Рабочий стол\P1110069.JPG"/>
          <p:cNvPicPr/>
          <p:nvPr/>
        </p:nvPicPr>
        <p:blipFill>
          <a:blip r:embed="rId6"/>
          <a:stretch/>
        </p:blipFill>
        <p:spPr>
          <a:xfrm>
            <a:off x="1643040" y="1143000"/>
            <a:ext cx="58104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ttp://ppt4web.ru/images/937/26580/310/img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4"/>
          <p:cNvSpPr/>
          <p:nvPr/>
        </p:nvSpPr>
        <p:spPr>
          <a:xfrm>
            <a:off x="1785960" y="1428840"/>
            <a:ext cx="5500800" cy="3929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Documents and Settings\Admin\Рабочий стол\P1110070.JPG"/>
          <p:cNvPicPr/>
          <p:nvPr/>
        </p:nvPicPr>
        <p:blipFill>
          <a:blip r:embed="rId4"/>
          <a:stretch/>
        </p:blipFill>
        <p:spPr>
          <a:xfrm>
            <a:off x="1714680" y="1500120"/>
            <a:ext cx="55720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://ppt4web.ru/images/937/26580/310/img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4"/>
          <p:cNvSpPr/>
          <p:nvPr/>
        </p:nvSpPr>
        <p:spPr>
          <a:xfrm>
            <a:off x="2357280" y="1785960"/>
            <a:ext cx="4572000" cy="3571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http://ppt4web.ru/images/2692/50733/310/img6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643040" y="1214280"/>
            <a:ext cx="6500880" cy="4865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http://900igr.net/datai/literatura/Pasternak-uroki/0016-014-B.Pasternak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857240" y="4000680"/>
            <a:ext cx="2698920" cy="19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://ppt4web.ru/images/937/26580/310/img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4"/>
          <p:cNvSpPr/>
          <p:nvPr/>
        </p:nvSpPr>
        <p:spPr>
          <a:xfrm>
            <a:off x="2357280" y="1785960"/>
            <a:ext cx="4572000" cy="3571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" descr="Схема для вырезания снежинки"/>
          <p:cNvPicPr/>
          <p:nvPr/>
        </p:nvPicPr>
        <p:blipFill>
          <a:blip r:embed="rId4"/>
          <a:stretch/>
        </p:blipFill>
        <p:spPr>
          <a:xfrm>
            <a:off x="1714680" y="1785960"/>
            <a:ext cx="571500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4-01-19T06:40:00Z</dcterms:modified>
  <cp:revision>14</cp:revision>
  <dc:subject/>
  <dc:title>Слайд 1</dc:title>
</cp:coreProperties>
</file>