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70B-3167-4FA3-86ED-995B8B59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90F-7C3A-4ED1-A9CC-E597984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EDA-432F-4ED2-9E78-BE9D8CFC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25A-BCC6-4438-8D7C-6B0A00C0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0FE9-98F0-47B3-9C51-1430825F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6C5-6EE8-4971-83A3-4305C52A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D34-6F7D-40DB-8213-7B0FF48F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95DE-6535-49EA-8151-5CF0C83E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2CB9-B96A-4BBE-BCEA-7BFCEA45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5BD2-4A46-467D-9E76-0C39268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AC65-C103-4D6E-B998-0CD65F65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0A3-5B0D-45A5-AACE-B3FCCE5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76C9-7B92-45F3-AA5C-8D956B5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342E-358F-4597-902E-6E1709E8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4C1B-A604-4381-9BD3-C3ECF0E0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1E28-8724-4E43-9D99-5F48C730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D43F-12CD-48F0-8F6D-116264C5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D75-3F1F-4FA2-9A7D-B15D5FE8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381-49B6-4EAC-B4B1-8850D143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589-03D0-4A57-B4F7-051CED42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9C4-0557-4BF2-9323-56EB2B0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81E-2125-49CE-9F90-800FF97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78D-1C06-495E-A9F9-50CEF34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FBF-1A41-46FF-9C5E-36E7EC4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0BD-D762-4538-A5E3-00CA1893FC5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5999-B5A3-47D2-8A22-62CECBE914F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hyperlink" Target="http://ru.wikipedia.org/wiki/&#1060;&#1072;&#1081;&#1083;:&#1042;&#1080;&#1085;&#1085;&#1080;-&#1055;&#1091;&#1093;01.jpg#filelinks#filelinks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593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Давайте дружить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Дружить должны все на свете: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 звери, и птицы, и дети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73988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69160" y="333360"/>
            <a:ext cx="1741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ружб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i-main-pic" descr="Картинка 24 из 630"/>
          <p:cNvPicPr/>
          <p:nvPr/>
        </p:nvPicPr>
        <p:blipFill>
          <a:blip r:embed="rId1"/>
          <a:stretch/>
        </p:blipFill>
        <p:spPr>
          <a:xfrm>
            <a:off x="3132000" y="4653000"/>
            <a:ext cx="3672000" cy="1942920"/>
          </a:xfrm>
          <a:prstGeom prst="rect">
            <a:avLst/>
          </a:prstGeom>
          <a:ln w="0">
            <a:noFill/>
          </a:ln>
        </p:spPr>
      </p:pic>
      <p:pic>
        <p:nvPicPr>
          <p:cNvPr id="197" name="i-main-pic" descr="Картинка 8 из 1599"/>
          <p:cNvPicPr/>
          <p:nvPr/>
        </p:nvPicPr>
        <p:blipFill>
          <a:blip r:embed="rId2"/>
          <a:stretch/>
        </p:blipFill>
        <p:spPr>
          <a:xfrm>
            <a:off x="468360" y="549360"/>
            <a:ext cx="208764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i-main-pic" descr="Картинка 40 из 777"/>
          <p:cNvPicPr/>
          <p:nvPr/>
        </p:nvPicPr>
        <p:blipFill>
          <a:blip r:embed="rId3"/>
          <a:stretch/>
        </p:blipFill>
        <p:spPr>
          <a:xfrm>
            <a:off x="6084720" y="260280"/>
            <a:ext cx="2592720" cy="25416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7 из 441"/>
          <p:cNvPicPr/>
          <p:nvPr/>
        </p:nvPicPr>
        <p:blipFill>
          <a:blip r:embed="rId4"/>
          <a:stretch/>
        </p:blipFill>
        <p:spPr>
          <a:xfrm>
            <a:off x="468360" y="2781360"/>
            <a:ext cx="2550960" cy="3044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Винни-Пух на шарике (19кб)"/>
          <p:cNvPicPr/>
          <p:nvPr/>
        </p:nvPicPr>
        <p:blipFill>
          <a:blip r:embed="rId5"/>
          <a:stretch/>
        </p:blipFill>
        <p:spPr>
          <a:xfrm>
            <a:off x="3203640" y="2060640"/>
            <a:ext cx="1770120" cy="2319120"/>
          </a:xfrm>
          <a:prstGeom prst="rect">
            <a:avLst/>
          </a:prstGeom>
          <a:ln w="0">
            <a:noFill/>
          </a:ln>
        </p:spPr>
      </p:pic>
      <p:pic>
        <p:nvPicPr>
          <p:cNvPr id="201" name="3b" descr="Пятачок с ружьем (14кб)"/>
          <p:cNvPicPr/>
          <p:nvPr/>
        </p:nvPicPr>
        <p:blipFill>
          <a:blip r:embed="rId6"/>
          <a:srcRect l="0" t="16717" r="0" b="0"/>
          <a:stretch/>
        </p:blipFill>
        <p:spPr>
          <a:xfrm>
            <a:off x="4643280" y="2708280"/>
            <a:ext cx="1298880" cy="1440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43800" y="-1975680"/>
            <a:ext cx="141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99ff"/>
                </a:solidFill>
                <a:uFillTx/>
                <a:latin typeface="Arial"/>
                <a:ea typeface="Times New Roman"/>
                <a:hlinkClick r:id="rId7"/>
              </a:rPr>
              <a:t>Ссылки на файл</a:t>
            </a:r>
            <a:r>
              <a:rPr b="0" lang="en-US" sz="1200" spc="-1" strike="noStrike" u="sng">
                <a:solidFill>
                  <a:srgbClr val="006699"/>
                </a:solidFill>
                <a:uFillTx/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516720" y="2997360"/>
            <a:ext cx="23972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02960"/>
            <a:ext cx="8075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авила   дружб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верять дру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елиться новостями, успехами и неудач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меть хранить чужие тай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доваться вместе с другом его успеха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едлагать свою помощь, а не ждать просьбы о помощ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щищать друг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сегда выполнять свои обеща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353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0920" y="475920"/>
            <a:ext cx="83851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«Дружба-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близкие отношения, основанные на взаимном доверии, привязанности, общности интересов»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89240" y="3860640"/>
            <a:ext cx="21193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Что такое дружба?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просила я у птиц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П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Это когда коршун летает вместе с синиц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 Спросила я у звер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Что такое дружба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З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Это когда зайцу лисы бояться не нуж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после спросила у девочк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Дружба – что такое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Д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Это что-то огромное, радостное, большо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когда ребята все сразу, вместе играю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Это когда мальчишки девчонок не задираю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Все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-Дружить должны все на свете 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звери, и птицы, и де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2184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Отрывок из стихотворения Л.Измайлова «Монолог о дружбе»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10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то такое дружба, каждый знает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жет быть, и спрашивать смешно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у а всё же, что обозначае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слово? Значит что оно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– это если друг твой болен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 не может в школу приходить,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вещать его по доброй вол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Школьные уроки приносит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рпеливо объяснять задань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себя взять часть его забо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давать ему своё внимань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ни, недели, месяц или год…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4720" y="1412640"/>
            <a:ext cx="4535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сли друг твой что-то, к сожаленью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лохо сделал или же сказа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до честно, прямо, без сомнень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авду высказать ему в глаз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жет быть, обидится он вдруг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сё равно сказать ты правду должен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дь на то и нужен лучший друг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в радости и дружба в гор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 последнее всегда отдас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 не тот, кто льстит, а тот, кто спори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от, кто не обманет, не продас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никогда границ не знае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т преград для дружбы никаки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жба на Земле объединяе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сех детей – и белых, и цветных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Кого можно назвать хорошим другом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443040" cy="460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0" t="0" r="0" b="-1609"/>
          <a:stretch/>
        </p:blipFill>
        <p:spPr>
          <a:xfrm>
            <a:off x="539640" y="1700280"/>
            <a:ext cx="39099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итуация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вой друг получает плохие оценки, и родители тебе запрещают с ним друж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 бы поступил настоящий друг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Какие черты характера нравятся тебе в твоём друге?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мел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кром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трудолюбие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чест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трус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хвастлив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лен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крыт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ветствен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активн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амкнутость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безразличие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авдивост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астой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решитель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еуверен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приз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вежл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зыв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груб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бщитель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рачл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бид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аносчив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обросовестнос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Положительные  черты характе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мел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кромн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рудолюбие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крыт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ветствен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ктивность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авдивос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стойчив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шитель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ежлив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тзывчив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бщитель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обросовестн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ловицы о дружб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т друга - ищ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имей сто рублей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дин за всех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еловек без друзе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ружба – как стекл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нашёл – берег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имей сто друз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все за одно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то дерево без корн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обьётся – не сложиш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1:27:51Z</dcterms:created>
  <dc:creator>komp</dc:creator>
  <dc:description/>
  <dc:language>en-US</dc:language>
  <cp:lastModifiedBy>Vlad</cp:lastModifiedBy>
  <dcterms:modified xsi:type="dcterms:W3CDTF">2010-06-19T20:59:44Z</dcterms:modified>
  <cp:revision>21</cp:revision>
  <dc:subject/>
  <dc:title>Если   добрый ты –   это хорошо!</dc:title>
</cp:coreProperties>
</file>