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6DE-6B95-4D4E-823C-4CB2873A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758-E8C4-4C22-A1BB-447A0F40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BF5-A4B1-4A6D-9CD2-8BE8A0DD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F10-70A6-424F-BA16-B0291FFF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84CC-FB89-4DD6-8050-ACD8DE5E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F73B-5AE2-4782-94A7-6FB1C10E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04DC-601D-4B1E-A3F4-A2BB5F03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F845-B833-42F1-B3AD-DCA90E7D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7B4E-9AFC-410A-B392-DB0D51E7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F895-4549-4105-9839-83CB73B6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6ADF-5B49-4D9A-BF53-ACD14EB4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92D-C1A6-4656-B557-FE301EFA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E07A-131B-42CE-9A91-1B88FFB5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5BCC-B3A0-4A74-A0A9-E40240D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EAD4-881D-4877-9689-D8B14FBA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F5CF-F821-42C4-9F1F-C85CC7D1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DDAE-C900-438E-882B-E364A6C6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DB2-30BB-4E44-8C11-3BCCD317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2E6-2136-4F90-ACE3-3B30C56C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3D7-BA6F-45F7-A734-C6C09A46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211-02C7-4360-B306-4C72E4D4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C20-8F5B-43F0-8B6C-FDBF08D3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6B6-5482-4D7A-92DD-E1CDA367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AF9-1AC1-425F-B1A9-594E09C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9573-0172-4361-B3B2-22081080F5E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E6E1-26DF-4646-B5C5-ACE9FD355CF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hyperlink" Target="http://ru.wikipedia.org/wiki/&#1060;&#1072;&#1081;&#1083;:&#1042;&#1080;&#1085;&#1085;&#1080;-&#1055;&#1091;&#1093;01.jpg#filelinks#filelinks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5931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Давайте дружить!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Дружить должны все на свете: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И звери, и птицы, и дети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1739880" cy="244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69160" y="333360"/>
            <a:ext cx="1741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ружб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i-main-pic" descr="Картинка 24 из 630"/>
          <p:cNvPicPr/>
          <p:nvPr/>
        </p:nvPicPr>
        <p:blipFill>
          <a:blip r:embed="rId1"/>
          <a:stretch/>
        </p:blipFill>
        <p:spPr>
          <a:xfrm>
            <a:off x="3132000" y="4653000"/>
            <a:ext cx="3672000" cy="1942920"/>
          </a:xfrm>
          <a:prstGeom prst="rect">
            <a:avLst/>
          </a:prstGeom>
          <a:ln w="0">
            <a:noFill/>
          </a:ln>
        </p:spPr>
      </p:pic>
      <p:pic>
        <p:nvPicPr>
          <p:cNvPr id="197" name="i-main-pic" descr="Картинка 8 из 1599"/>
          <p:cNvPicPr/>
          <p:nvPr/>
        </p:nvPicPr>
        <p:blipFill>
          <a:blip r:embed="rId2"/>
          <a:stretch/>
        </p:blipFill>
        <p:spPr>
          <a:xfrm>
            <a:off x="468360" y="549360"/>
            <a:ext cx="2087640" cy="1800000"/>
          </a:xfrm>
          <a:prstGeom prst="rect">
            <a:avLst/>
          </a:prstGeom>
          <a:ln w="0">
            <a:noFill/>
          </a:ln>
        </p:spPr>
      </p:pic>
      <p:pic>
        <p:nvPicPr>
          <p:cNvPr id="198" name="i-main-pic" descr="Картинка 40 из 777"/>
          <p:cNvPicPr/>
          <p:nvPr/>
        </p:nvPicPr>
        <p:blipFill>
          <a:blip r:embed="rId3"/>
          <a:stretch/>
        </p:blipFill>
        <p:spPr>
          <a:xfrm>
            <a:off x="6084720" y="260280"/>
            <a:ext cx="2592720" cy="25416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7 из 441"/>
          <p:cNvPicPr/>
          <p:nvPr/>
        </p:nvPicPr>
        <p:blipFill>
          <a:blip r:embed="rId4"/>
          <a:stretch/>
        </p:blipFill>
        <p:spPr>
          <a:xfrm>
            <a:off x="468360" y="2781360"/>
            <a:ext cx="2550960" cy="3044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Винни-Пух на шарике (19кб)"/>
          <p:cNvPicPr/>
          <p:nvPr/>
        </p:nvPicPr>
        <p:blipFill>
          <a:blip r:embed="rId5"/>
          <a:stretch/>
        </p:blipFill>
        <p:spPr>
          <a:xfrm>
            <a:off x="3203640" y="2060640"/>
            <a:ext cx="1770120" cy="2319120"/>
          </a:xfrm>
          <a:prstGeom prst="rect">
            <a:avLst/>
          </a:prstGeom>
          <a:ln w="0">
            <a:noFill/>
          </a:ln>
        </p:spPr>
      </p:pic>
      <p:pic>
        <p:nvPicPr>
          <p:cNvPr id="201" name="3b" descr="Пятачок с ружьем (14кб)"/>
          <p:cNvPicPr/>
          <p:nvPr/>
        </p:nvPicPr>
        <p:blipFill>
          <a:blip r:embed="rId6"/>
          <a:srcRect l="0" t="16717" r="0" b="0"/>
          <a:stretch/>
        </p:blipFill>
        <p:spPr>
          <a:xfrm>
            <a:off x="4643280" y="2708280"/>
            <a:ext cx="1298880" cy="1440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43800" y="-1975680"/>
            <a:ext cx="141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ff"/>
                </a:solidFill>
                <a:uFillTx/>
                <a:latin typeface="Arial"/>
                <a:ea typeface="Times New Roman"/>
                <a:hlinkClick r:id="rId7"/>
              </a:rPr>
              <a:t>Ссылки на файл</a:t>
            </a:r>
            <a:r>
              <a:rPr b="0" lang="en-US" sz="1200" spc="-1" strike="noStrike" u="sng">
                <a:solidFill>
                  <a:srgbClr val="006699"/>
                </a:solidFill>
                <a:uFillTx/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516720" y="2997360"/>
            <a:ext cx="23972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02960"/>
            <a:ext cx="80755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равила   дружб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оверять друг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елиться новостями, успехами и неудач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меть хранить чужие тай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доваться вместе с другом его успеха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едлагать свою помощь, а не ждать просьбы о помощ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Защищать друг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сегда выполнять свои обеща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353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0920" y="475920"/>
            <a:ext cx="83851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«Дружба-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близкие отношения, основанные на взаимном доверии, привязанности, общности интересов»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89240" y="3860640"/>
            <a:ext cx="21193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У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Что такое дружба?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просила я у птиц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П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Это когда коршун летает вместе с синиц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 Спросила я у звер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Что такое дружба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З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Это когда зайцу лисы бояться не нуж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 после спросила у девочк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Дружба – что такое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Д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Это что-то огромное, радостное, большо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то когда ребята все сразу, вместе играю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то когда мальчишки девчонок не задираю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Все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-Дружить должны все на свете 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звери, и птицы, и де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82184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Отрывок из стихотворения Л.Измайлова «Монолог о дружбе»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105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Что такое дружба, каждый знает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ожет быть, и спрашивать смешно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у а всё же, что обозначае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слово? Значит что оно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жба – это если друг твой болен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 не может в школу приходить, 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вещать его по доброй вол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Школьные уроки приносить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рпеливо объяснять заданья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себя взять часть его забо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тдавать ему своё внимань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ни, недели, месяц или год…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4720" y="1412640"/>
            <a:ext cx="4535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Если друг твой что-то, к сожаленью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лохо сделал или же сказал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до честно, прямо, без сомнень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авду высказать ему в глаз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ожет быть, обидится он вдруг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сё равно сказать ты правду должен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дь на то и нужен лучший друг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жба в радости и дружба в гор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г последнее всегда отдас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г не тот, кто льстит, а тот, кто спори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от, кто не обманет, не продас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жба никогда границ не знае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т преград для дружбы никаки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жба на Земле объединяе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сех детей – и белых, и цветных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Кого можно назвать хорошим другом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443040" cy="460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0" t="0" r="0" b="-1609"/>
          <a:stretch/>
        </p:blipFill>
        <p:spPr>
          <a:xfrm>
            <a:off x="539640" y="1700280"/>
            <a:ext cx="3909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итуация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вой друг получает плохие оценки, и родители тебе запрещают с ним друж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 бы поступил настоящий друг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Какие черты характера нравятся тебе в твоём друге?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мел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кромн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трудолюбие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честн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трус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хвастлив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лен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крыт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ветственн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активн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замкнут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безразличие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авдивость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астойч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решительн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еуверенн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призн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вежл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зывч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груб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бщительн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драчл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бидч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заносч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добросовестн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оложительные  черты характер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мелост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кромност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рудолюбие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ткрытост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тветственн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ктивност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авдивост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астойчив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ешительн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ежлив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тзывчив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бщительн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обросовестн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словицы о дружб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т друга - ищ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имей сто рублей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дин за всех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еловек без друзей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ружба – как стекло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нашёл – берег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имей сто друз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 все за одног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то дерево без корн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обьётся – не сложиш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1:27:51Z</dcterms:created>
  <dc:creator>komp</dc:creator>
  <dc:description/>
  <dc:language>en-US</dc:language>
  <cp:lastModifiedBy>Vlad</cp:lastModifiedBy>
  <dcterms:modified xsi:type="dcterms:W3CDTF">2010-06-19T20:59:44Z</dcterms:modified>
  <cp:revision>21</cp:revision>
  <dc:subject/>
  <dc:title>Если   добрый ты –   это хорошо!</dc:title>
</cp:coreProperties>
</file>