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E10-3C7D-468D-A0C4-6F2BB98F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3971-7D10-4DDB-A990-B96ED1BD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AE52-9375-40F8-BF6B-9D2550D4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AFA-AFA1-4985-BA97-25E9DB81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994-7E37-490F-9323-4F29C52F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D9C3-E773-4711-88A8-07C805C9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51D-12D7-4132-8BFD-7CB3EC73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D081-26C1-4009-92DC-33B23F34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F311-3FB8-45CF-AF29-2039205B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FE2-7965-44A3-B734-71A51E08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8A76-9F2F-450E-B891-69EDD54E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F051-04BA-42C3-98AC-96DD6F53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4265-D900-4571-BBB2-8EDD45FC34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755640" y="1052640"/>
            <a:ext cx="741672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Arial Black"/>
              </a:rPr>
              <a:t>День побед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Абдулхак Игебае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75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арр\Desktop\iEK5FL4HY.jpg"/>
          <p:cNvPicPr/>
          <p:nvPr/>
        </p:nvPicPr>
        <p:blipFill>
          <a:blip r:embed="rId1"/>
          <a:stretch/>
        </p:blipFill>
        <p:spPr>
          <a:xfrm>
            <a:off x="596880" y="30240"/>
            <a:ext cx="5432400" cy="3743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арр\Desktop\i32VRC4II.jpg"/>
          <p:cNvPicPr/>
          <p:nvPr/>
        </p:nvPicPr>
        <p:blipFill>
          <a:blip r:embed="rId2"/>
          <a:stretch/>
        </p:blipFill>
        <p:spPr>
          <a:xfrm>
            <a:off x="2273400" y="2901960"/>
            <a:ext cx="5479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рр</cp:lastModifiedBy>
  <dcterms:modified xsi:type="dcterms:W3CDTF">2015-01-28T15:19:19Z</dcterms:modified>
  <cp:revision>9</cp:revision>
  <dc:subject/>
  <dc:title>Слайд 1</dc:title>
</cp:coreProperties>
</file>