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7F9-ADE9-43B3-BB30-086B75BC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DF0-BDD0-4C1E-A75B-5D4B0494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3F0-7005-4FA6-AD19-0DE87E13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EF8-3C08-4124-9BCA-A641A160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08C-74EC-423B-9956-19CEDF37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19C-FFCD-49CC-A96E-98D4852F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860-6373-404E-96B7-780D9089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C8C-89A1-4703-99DB-477FC982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DF8-A431-4BFD-B692-AB98BDA4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AC7-B095-4D3A-B197-BF47198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ED0-EDA8-46EE-9B38-4FE717EF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504-F95F-48E5-BB83-3690485A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9198-E15E-4905-9F07-EFB774BBB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55640" y="1052640"/>
            <a:ext cx="7416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 Black"/>
              </a:rPr>
              <a:t>День побе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Абдулхак Игеба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75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арр\Desktop\iEK5FL4HY.jpg"/>
          <p:cNvPicPr/>
          <p:nvPr/>
        </p:nvPicPr>
        <p:blipFill>
          <a:blip r:embed="rId1"/>
          <a:stretch/>
        </p:blipFill>
        <p:spPr>
          <a:xfrm>
            <a:off x="596880" y="30240"/>
            <a:ext cx="5432400" cy="374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арр\Desktop\i32VRC4II.jpg"/>
          <p:cNvPicPr/>
          <p:nvPr/>
        </p:nvPicPr>
        <p:blipFill>
          <a:blip r:embed="rId2"/>
          <a:stretch/>
        </p:blipFill>
        <p:spPr>
          <a:xfrm>
            <a:off x="2273400" y="2901960"/>
            <a:ext cx="5479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р</cp:lastModifiedBy>
  <dcterms:modified xsi:type="dcterms:W3CDTF">2015-01-28T15:19:19Z</dcterms:modified>
  <cp:revision>9</cp:revision>
  <dc:subject/>
  <dc:title>Слайд 1</dc:title>
</cp:coreProperties>
</file>