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0.gif" ContentType="image/gif"/>
  <Override PartName="/ppt/media/image18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13.gif" ContentType="image/gif"/>
  <Override PartName="/ppt/media/image16.jpeg" ContentType="image/jpeg"/>
  <Override PartName="/ppt/media/image31.jpeg" ContentType="image/jpeg"/>
  <Override PartName="/ppt/media/image36.jpeg" ContentType="image/jpeg"/>
  <Override PartName="/ppt/media/image45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2.jpeg" ContentType="image/jpeg"/>
  <Override PartName="/ppt/media/image49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35.jpeg" ContentType="image/jpeg"/>
  <Override PartName="/ppt/media/image47.png" ContentType="image/png"/>
  <Override PartName="/ppt/media/image10.png" ContentType="image/png"/>
  <Override PartName="/ppt/media/image5.png" ContentType="image/png"/>
  <Override PartName="/ppt/media/image4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8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808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8F99-D4E3-4A3A-9939-495C0C3463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371F-279B-489C-BD15-3C1D322BA03F}" type="slidenum">
              <a:rPr b="0" lang="ru-RU" sz="1200" spc="-1" strike="noStrike">
                <a:solidFill>
                  <a:srgbClr val="005a5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9B99-7852-4670-8E7C-54BD344420A3}" type="slidenum">
              <a:rPr b="0" lang="ru-RU" sz="1200" spc="-1" strike="noStrike">
                <a:solidFill>
                  <a:srgbClr val="005a5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666A-4350-47DF-B510-EBD5B7CA7D95}" type="slidenum">
              <a:rPr b="0" lang="ru-RU" sz="1200" spc="-1" strike="noStrike">
                <a:solidFill>
                  <a:srgbClr val="005a5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0FF-8299-4AFF-A041-562F5978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09C-714E-48A7-AEEF-9B6C31A1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E4240-A858-4401-A3BC-4D2CD127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95343-460E-4599-80C8-6D169B67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4E5A2-53CC-4CFA-814D-BCF03862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730FE-6FC7-429B-93A5-27C40D7D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C73CF-8085-4683-8E56-0AC6E305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C465C-EF09-492B-B58C-D8A8283E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1C887-B845-40D4-9199-D5DCF37C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41A55-13EE-4ACC-89B0-4657FF01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6C5B1-D00F-4928-A738-30E6DED3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2EB-E474-4709-9C46-EB9B71C2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056-E74A-4938-BDE9-E942D93D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EBF4-9186-466C-A068-41BF3995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480C-694C-46AB-82E5-B58F58DA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3FCB-AF62-4FF1-BAF8-650FC2BA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5A07-C888-4AC2-843E-5D9A9AF5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4974-8667-4F39-9921-EFFD7ADA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1FCE-8E1E-483C-B577-B65EB8BA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6FBD-C7EB-4196-853F-F116BD12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1A2-046B-49F2-A359-57B0CEF8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5CE4-7F1C-46DE-B0FB-359179F1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2831-F60A-4829-840D-64AC800C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169B-0192-4CBD-8DB6-0258796E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5129-502B-4272-B59B-CA0F68AF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17A5-051E-431C-83CE-F05707E6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B876-5288-4E57-9AB8-C7DE7C62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ADB1D-F3D2-4C44-8264-B3D6D06B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9E62-4F0D-450D-8CA6-8806AD8D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43CA0-E1DD-4DEA-9670-4484F06D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15255-BD29-4E1E-8EEC-FD76ECE4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FD6-E999-48E5-82A8-6E0CE634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E042-7036-4820-BF02-DBF18AA0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A1FF-097C-4B63-8BD7-E59C4649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3FEF-B0A7-4DA6-8625-C968823A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1AFB-EC7B-4B07-BC1A-1FAE00D0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39D0-6185-4FA0-B15B-02C8E62F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29712-C2C0-40BC-A31D-06331BFA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3A51F-A9B4-4A15-A73A-202696F0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ABAF0-7402-41BD-9036-1D5148B8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5492-4364-48AD-9252-E65DD1A9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E375-F828-43AF-A9D0-A8FEE1DB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F13-CA2B-4A65-ADFC-EA40907C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36A90-7CB5-4E2C-B0FE-BF60457F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144C5-FD40-4963-99C8-14913B62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F9073-7873-4AC9-8270-C1E3C043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0FC4-B18D-4793-B2DC-66B715A2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4AF5B-B135-40AC-BFC1-C0530C06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D36FA-77C3-4F09-968B-E5CD8977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9ECD4-0AE4-449B-B95D-819474AD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C2DA6-E8CE-4C1B-9F9F-F078FC97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CDB6-5ACC-4DF3-9504-D84F4843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BC838-871E-4411-A782-28C76124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30B-3BBD-4F36-9C74-0F19F32C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90A90-D6C7-493C-A872-C3BEC697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D747-5B35-4801-9376-1D23959A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742ED-E879-463E-8527-C85D5A46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EFD6B-6208-4C3C-8CFE-4BDCD2B4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8B758-A7BC-44F5-8B3B-C2D29EC1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6C442-8B35-4E7B-80AA-3206057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37781-F3C8-4A29-89DA-2A0E700F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1FBD-693D-4E52-9E87-0A153F2F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8D061-448D-4B71-9FBE-9D6F79D5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2BB0E-A198-447A-866D-32CDF466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C79-036A-4ADF-A4D1-038875EC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F4804-37B5-4111-8C36-AB0E4FAF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19FE1-D7A4-431C-BA10-FAE3A37A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44C11-DAA3-463F-9D74-DA1F96F9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3C21B-2197-4D04-8C5C-5C7A0E53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114E3-A2DD-460C-9BC1-07404A2E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3FB56-2955-4773-872A-A10500B1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C8F40-BF12-4F3A-9223-4D9E05A7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93010-4395-4E2B-B966-D37111AB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9B32D-A4BE-443F-A3BD-7D79DF8E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C825C-1993-4569-9D04-D13D13F9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A0A-27D5-4AEB-B067-03A5DDC2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50134-15CA-4B97-A838-F6704828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82D35-024F-4946-8BA0-DA66D05C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8AAC3-BD85-41EB-819C-B6AE560C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5AE20-FDD6-4DD3-9AA4-64474CF6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13CE8-4DC9-45CB-BEE2-CB2B0CB1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AD414-7A0E-4216-AC79-8294FFAC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06171-0FA4-483E-9CA7-F85E01E1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2DD25-A940-41CA-A249-0C58FC15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0FCC4-744C-4642-A3E9-01BB2D07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51BF4-421E-406A-BC69-FA93A4C5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95E-ACE0-4A13-B66D-9E0D8028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5901F-F894-48F9-8EEE-29A416D7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6A312-0F2E-48CB-AACE-3023D900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86435-D8C6-435E-B259-DF9FE64F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1D2D3-E3AC-4AC8-B7E3-5F444B89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CDBC0-EDD1-452D-9951-0D7C0528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29D0E-8B4B-40C4-9C1D-B27739A1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51E35-62A5-446A-A2EC-7719976C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DF905-6B9C-404B-B376-BD03BB95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51E9B-CC9E-4883-B8DD-079925A5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30BA7-5954-4AB3-9FBD-A0F0BB3F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A56-2B30-43BF-8B01-1E51F99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69B8E-CAAD-489E-AE65-491CC786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0ED05-8B25-43CD-BBD2-D289505B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18FCC-FD6B-4047-ACFB-8CB155EF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40E8E-1248-4610-BCD3-F80427D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6D94E-B640-4C7B-8B8E-F3BCFAC1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F6243-0171-4D7F-B7DB-A7E38623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C4DC0-17E0-4C2A-ACBB-2204B5BA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C6257-031E-41AF-81AF-7FC1E303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71D5D-928D-4FEE-AD26-47E1B7B1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6B426-3F79-4A15-B514-79759AB0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74998">
                  <a:alpha val="45098"/>
                </a:srgbClr>
              </a:gs>
              <a:gs pos="100000">
                <a:srgbClr val="94b3b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98f8f">
                  <a:alpha val="45098"/>
                </a:srgbClr>
              </a:gs>
              <a:gs pos="100000">
                <a:srgbClr val="4f52b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8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80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646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d6fc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E4E9-2857-4239-A369-B1729A273319}" type="slidenum"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7878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FF13-7902-4F96-9BD7-5E0A976DFD3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6d6fc7"/>
              </a:gs>
              <a:gs pos="100000">
                <a:srgbClr val="6062a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6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6d6f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grpSp>
          <p:nvGrpSpPr>
            <p:cNvPr id="9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6365b5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a6cc1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5c5ea9"/>
                  </a:gs>
                  <a:gs pos="100000">
                    <a:srgbClr val="6d6fc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062af"/>
                  </a:gs>
                  <a:gs pos="100000">
                    <a:srgbClr val="6d6f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365b5"/>
                  </a:gs>
                  <a:gs pos="100000">
                    <a:srgbClr val="6d6f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6062af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6062af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6365b5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5c5e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595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7677ca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a6cc1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5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5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5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5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grpSp>
            <p:nvGrpSpPr>
              <p:cNvPr id="15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6d6f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  <p:sp>
              <p:nvSpPr>
                <p:cNvPr id="15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6fc7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  <p:sp>
              <p:nvSpPr>
                <p:cNvPr id="15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6d6f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  <p:sp>
              <p:nvSpPr>
                <p:cNvPr id="15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6fc7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FBF5-C0B9-4076-99A9-F7B4C829AC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3177-783F-47CC-A9B1-F512C97EF8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74998">
                  <a:alpha val="45098"/>
                </a:srgbClr>
              </a:gs>
              <a:gs pos="100000">
                <a:srgbClr val="94b3b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2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98f8f">
                  <a:alpha val="45098"/>
                </a:srgbClr>
              </a:gs>
              <a:gs pos="100000">
                <a:srgbClr val="4f52b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grpSp>
        <p:nvGrpSpPr>
          <p:cNvPr id="2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5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2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8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8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808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646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d6fc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23B3-CE05-4E2C-B80E-CAB94348E52D}" type="slidenum"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74998">
                  <a:alpha val="45098"/>
                </a:srgbClr>
              </a:gs>
              <a:gs pos="100000">
                <a:srgbClr val="94b3b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2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98f8f">
                  <a:alpha val="45098"/>
                </a:srgbClr>
              </a:gs>
              <a:gs pos="100000">
                <a:srgbClr val="4f52b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grpSp>
        <p:nvGrpSpPr>
          <p:cNvPr id="2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5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2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8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808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646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d6fc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9E69-4C31-4084-9A0D-40E39FA3A900}" type="slidenum"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74998">
                  <a:alpha val="45098"/>
                </a:srgbClr>
              </a:gs>
              <a:gs pos="100000">
                <a:srgbClr val="94b3b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98f8f">
                  <a:alpha val="45098"/>
                </a:srgbClr>
              </a:gs>
              <a:gs pos="100000">
                <a:srgbClr val="4f52b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grpSp>
        <p:nvGrpSpPr>
          <p:cNvPr id="3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5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3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474998">
                  <a:alpha val="45098"/>
                </a:srgbClr>
              </a:gs>
              <a:gs pos="100000">
                <a:srgbClr val="94b3b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98f8f">
                  <a:alpha val="45098"/>
                </a:srgbClr>
              </a:gs>
              <a:gs pos="100000">
                <a:srgbClr val="4f52b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8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808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646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d6fc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8990-740E-40C4-B1FD-6A7172B9B6AF}" type="slidenum"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3D5F-78F7-40B7-8AF7-776BA281C7B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0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6d6f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grpSp>
          <p:nvGrpSpPr>
            <p:cNvPr id="44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6365b5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a6cc1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5c5ea9"/>
                  </a:gs>
                  <a:gs pos="100000">
                    <a:srgbClr val="6d6fc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5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062af"/>
                  </a:gs>
                  <a:gs pos="100000">
                    <a:srgbClr val="6d6f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365b5"/>
                  </a:gs>
                  <a:gs pos="100000">
                    <a:srgbClr val="6d6f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6062af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6062af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6365b5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5c5e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595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7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7677ca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a6cc1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9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9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9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9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9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9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9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grpSp>
            <p:nvGrpSpPr>
              <p:cNvPr id="49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9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6d6f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  <p:sp>
              <p:nvSpPr>
                <p:cNvPr id="50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6fc7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  <p:sp>
              <p:nvSpPr>
                <p:cNvPr id="50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6d6f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  <p:sp>
              <p:nvSpPr>
                <p:cNvPr id="50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6fc7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50FF-BB7E-45A7-B729-9E9D681AEA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38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WordArt 2" descr=""/>
          <p:cNvPicPr/>
          <p:nvPr/>
        </p:nvPicPr>
        <p:blipFill>
          <a:blip r:embed="rId1"/>
          <a:stretch/>
        </p:blipFill>
        <p:spPr>
          <a:xfrm>
            <a:off x="244440" y="1352520"/>
            <a:ext cx="8734320" cy="2365560"/>
          </a:xfrm>
          <a:prstGeom prst="rect">
            <a:avLst/>
          </a:prstGeom>
          <a:ln w="0">
            <a:noFill/>
          </a:ln>
        </p:spPr>
      </p:pic>
      <p:pic>
        <p:nvPicPr>
          <p:cNvPr id="552" name="Прямоугольник 7" descr=""/>
          <p:cNvPicPr/>
          <p:nvPr/>
        </p:nvPicPr>
        <p:blipFill>
          <a:blip r:embed="rId2"/>
          <a:stretch/>
        </p:blipFill>
        <p:spPr>
          <a:xfrm>
            <a:off x="536400" y="3938760"/>
            <a:ext cx="1633680" cy="1187280"/>
          </a:xfrm>
          <a:prstGeom prst="rect">
            <a:avLst/>
          </a:prstGeom>
          <a:ln w="0">
            <a:noFill/>
          </a:ln>
        </p:spPr>
      </p:pic>
      <p:pic>
        <p:nvPicPr>
          <p:cNvPr id="553" name="Прямоугольник 8" descr=""/>
          <p:cNvPicPr/>
          <p:nvPr/>
        </p:nvPicPr>
        <p:blipFill>
          <a:blip r:embed="rId3"/>
          <a:stretch/>
        </p:blipFill>
        <p:spPr>
          <a:xfrm>
            <a:off x="7375680" y="4078440"/>
            <a:ext cx="1444320" cy="1188720"/>
          </a:xfrm>
          <a:prstGeom prst="rect">
            <a:avLst/>
          </a:prstGeom>
          <a:ln w="0">
            <a:noFill/>
          </a:ln>
        </p:spPr>
      </p:pic>
      <p:pic>
        <p:nvPicPr>
          <p:cNvPr id="554" name="Прямоугольник 9" descr=""/>
          <p:cNvPicPr/>
          <p:nvPr/>
        </p:nvPicPr>
        <p:blipFill>
          <a:blip r:embed="rId4"/>
          <a:stretch/>
        </p:blipFill>
        <p:spPr>
          <a:xfrm>
            <a:off x="1474920" y="5516640"/>
            <a:ext cx="1231920" cy="1774800"/>
          </a:xfrm>
          <a:prstGeom prst="rect">
            <a:avLst/>
          </a:prstGeom>
          <a:ln w="0">
            <a:noFill/>
          </a:ln>
        </p:spPr>
      </p:pic>
      <p:pic>
        <p:nvPicPr>
          <p:cNvPr id="555" name="Прямоугольник 10" descr=""/>
          <p:cNvPicPr/>
          <p:nvPr/>
        </p:nvPicPr>
        <p:blipFill>
          <a:blip r:embed="rId5"/>
          <a:stretch/>
        </p:blipFill>
        <p:spPr>
          <a:xfrm>
            <a:off x="4138560" y="5450040"/>
            <a:ext cx="1317600" cy="1133280"/>
          </a:xfrm>
          <a:prstGeom prst="rect">
            <a:avLst/>
          </a:prstGeom>
          <a:ln w="0">
            <a:noFill/>
          </a:ln>
        </p:spPr>
      </p:pic>
      <p:pic>
        <p:nvPicPr>
          <p:cNvPr id="556" name="Прямоугольник 11" descr=""/>
          <p:cNvPicPr/>
          <p:nvPr/>
        </p:nvPicPr>
        <p:blipFill>
          <a:blip r:embed="rId6"/>
          <a:stretch/>
        </p:blipFill>
        <p:spPr>
          <a:xfrm>
            <a:off x="5072040" y="3790800"/>
            <a:ext cx="1309680" cy="1141560"/>
          </a:xfrm>
          <a:prstGeom prst="rect">
            <a:avLst/>
          </a:prstGeom>
          <a:ln w="0">
            <a:noFill/>
          </a:ln>
        </p:spPr>
      </p:pic>
      <p:pic>
        <p:nvPicPr>
          <p:cNvPr id="557" name="Прямоугольник 12" descr=""/>
          <p:cNvPicPr/>
          <p:nvPr/>
        </p:nvPicPr>
        <p:blipFill>
          <a:blip r:embed="rId7"/>
          <a:stretch/>
        </p:blipFill>
        <p:spPr>
          <a:xfrm>
            <a:off x="2766960" y="4078440"/>
            <a:ext cx="119556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5"/>
          <p:cNvSpPr/>
          <p:nvPr/>
        </p:nvSpPr>
        <p:spPr>
          <a:xfrm>
            <a:off x="684360" y="1354320"/>
            <a:ext cx="784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измерить физическую величину – это значит сравнить ее с однородной величиной, принятой за единицу.</a:t>
            </a:r>
            <a:endParaRPr b="0" lang="en-US" sz="4800" spc="-1" strike="noStrike">
              <a:solidFill>
                <a:srgbClr val="005a58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grpSp>
        <p:nvGrpSpPr>
          <p:cNvPr id="581" name="Group 12"/>
          <p:cNvGrpSpPr/>
          <p:nvPr/>
        </p:nvGrpSpPr>
        <p:grpSpPr>
          <a:xfrm>
            <a:off x="785880" y="642960"/>
            <a:ext cx="7543440" cy="4690800"/>
            <a:chOff x="785880" y="642960"/>
            <a:chExt cx="7543440" cy="4690800"/>
          </a:xfrm>
        </p:grpSpPr>
        <p:sp>
          <p:nvSpPr>
            <p:cNvPr id="582" name="AutoShape 18"/>
            <p:cNvSpPr/>
            <p:nvPr/>
          </p:nvSpPr>
          <p:spPr>
            <a:xfrm>
              <a:off x="785880" y="642960"/>
              <a:ext cx="7543440" cy="35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583" name="Line 17"/>
            <p:cNvSpPr/>
            <p:nvPr/>
          </p:nvSpPr>
          <p:spPr>
            <a:xfrm flipH="1">
              <a:off x="2123280" y="3285000"/>
              <a:ext cx="719280" cy="460800"/>
            </a:xfrm>
            <a:prstGeom prst="line">
              <a:avLst/>
            </a:prstGeom>
            <a:ln w="4752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584" name="Line 16"/>
            <p:cNvSpPr/>
            <p:nvPr/>
          </p:nvSpPr>
          <p:spPr>
            <a:xfrm>
              <a:off x="5580360" y="3429360"/>
              <a:ext cx="1168560" cy="362160"/>
            </a:xfrm>
            <a:prstGeom prst="line">
              <a:avLst/>
            </a:prstGeom>
            <a:ln w="475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2340360" y="2348640"/>
              <a:ext cx="4115520" cy="11372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ФИЗИЧЕСКАЯ</a:t>
              </a:r>
              <a:endParaRPr b="0" lang="en-US" sz="2400" spc="-1" strike="noStrike">
                <a:solidFill>
                  <a:srgbClr val="005a5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ВЕЛИЧИНА</a:t>
              </a:r>
              <a:endParaRPr b="0" lang="en-US" sz="2400" spc="-1" strike="noStrike">
                <a:solidFill>
                  <a:srgbClr val="005a5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586" name="Oval 14"/>
            <p:cNvSpPr/>
            <p:nvPr/>
          </p:nvSpPr>
          <p:spPr>
            <a:xfrm>
              <a:off x="971280" y="3788280"/>
              <a:ext cx="2680560" cy="1459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Числовое значение</a:t>
              </a:r>
              <a:endParaRPr b="0" lang="en-US" sz="24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5434920" y="3788280"/>
              <a:ext cx="2835000" cy="15454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Единица измерения</a:t>
              </a:r>
              <a:endParaRPr b="0" lang="en-US" sz="2400" spc="-1" strike="noStrike">
                <a:solidFill>
                  <a:srgbClr val="005a58"/>
                </a:solidFill>
                <a:latin typeface="Arial"/>
              </a:endParaRPr>
            </a:p>
          </p:txBody>
        </p:sp>
      </p:grpSp>
      <p:sp>
        <p:nvSpPr>
          <p:cNvPr id="588" name="Прямоугольник 19"/>
          <p:cNvSpPr/>
          <p:nvPr/>
        </p:nvSpPr>
        <p:spPr>
          <a:xfrm>
            <a:off x="3708360" y="4724280"/>
            <a:ext cx="20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t=10 с</a:t>
            </a:r>
            <a:endParaRPr b="0" lang="en-US" sz="4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89" name="Rectangle 23"/>
          <p:cNvSpPr/>
          <p:nvPr/>
        </p:nvSpPr>
        <p:spPr>
          <a:xfrm>
            <a:off x="0" y="5594040"/>
            <a:ext cx="892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ыражении: </a:t>
            </a:r>
            <a:endParaRPr b="0" lang="en-US" sz="16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числовое значение времени,</a:t>
            </a:r>
            <a:endParaRPr b="0" lang="en-US" sz="16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окращенное  обозначение единицы времени (секунды),</a:t>
            </a:r>
            <a:endParaRPr b="0" lang="en-US" sz="16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очетани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значение времен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0" name="Oval 14"/>
          <p:cNvSpPr/>
          <p:nvPr/>
        </p:nvSpPr>
        <p:spPr>
          <a:xfrm>
            <a:off x="755640" y="549360"/>
            <a:ext cx="2681280" cy="145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звание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 flipH="1" flipV="1">
            <a:off x="2195280" y="1989000"/>
            <a:ext cx="863640" cy="503280"/>
          </a:xfrm>
          <a:prstGeom prst="line">
            <a:avLst/>
          </a:prstGeom>
          <a:ln w="475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2" name="Oval 14"/>
          <p:cNvSpPr/>
          <p:nvPr/>
        </p:nvSpPr>
        <p:spPr>
          <a:xfrm>
            <a:off x="5651640" y="620640"/>
            <a:ext cx="3241440" cy="145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Обозначение 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3" name="Line 17"/>
          <p:cNvSpPr/>
          <p:nvPr/>
        </p:nvSpPr>
        <p:spPr>
          <a:xfrm flipV="1">
            <a:off x="4932360" y="1773360"/>
            <a:ext cx="1008000" cy="576000"/>
          </a:xfrm>
          <a:prstGeom prst="line">
            <a:avLst/>
          </a:prstGeom>
          <a:ln w="475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27226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СИ (система интернациональная) – система, в которой единицы измерения физической величины указаны в стандартном виде. </a:t>
            </a:r>
            <a:endParaRPr b="0" lang="en-US" sz="4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611280" y="981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диницы измерения могут быть в стандартном и нестандартном виде.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Скругленный прямоугольник 28"/>
          <p:cNvSpPr/>
          <p:nvPr/>
        </p:nvSpPr>
        <p:spPr>
          <a:xfrm>
            <a:off x="928800" y="571680"/>
            <a:ext cx="7143480" cy="14284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7" name="Line 1"/>
          <p:cNvSpPr/>
          <p:nvPr/>
        </p:nvSpPr>
        <p:spPr>
          <a:xfrm flipV="1">
            <a:off x="838080" y="523440"/>
            <a:ext cx="39783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8" name="Line 4"/>
          <p:cNvSpPr/>
          <p:nvPr/>
        </p:nvSpPr>
        <p:spPr>
          <a:xfrm flipV="1">
            <a:off x="838080" y="523440"/>
            <a:ext cx="39783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9" name="Прямоугольник 13"/>
          <p:cNvSpPr/>
          <p:nvPr/>
        </p:nvSpPr>
        <p:spPr>
          <a:xfrm>
            <a:off x="1332000" y="0"/>
            <a:ext cx="6224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Georgia"/>
                <a:ea typeface="Times New Roman"/>
              </a:rPr>
              <a:t>Международная система единиц (СИ)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Georgia"/>
                <a:ea typeface="Times New Roman"/>
              </a:rPr>
              <a:t> 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0" name="Стрелка вниз 14"/>
          <p:cNvSpPr/>
          <p:nvPr/>
        </p:nvSpPr>
        <p:spPr>
          <a:xfrm>
            <a:off x="1619280" y="1989000"/>
            <a:ext cx="500040" cy="10717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1" name="Стрелка вниз 16"/>
          <p:cNvSpPr/>
          <p:nvPr/>
        </p:nvSpPr>
        <p:spPr>
          <a:xfrm>
            <a:off x="6227640" y="1989000"/>
            <a:ext cx="500040" cy="10717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2" name="Прямоугольник 18"/>
          <p:cNvSpPr/>
          <p:nvPr/>
        </p:nvSpPr>
        <p:spPr>
          <a:xfrm>
            <a:off x="860760" y="3068640"/>
            <a:ext cx="237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e5c"/>
                </a:solidFill>
                <a:latin typeface="Georgia"/>
                <a:ea typeface="Times New Roman"/>
              </a:rPr>
              <a:t>Основные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e5c"/>
                </a:solidFill>
                <a:latin typeface="Georgia"/>
              </a:rPr>
              <a:t>единицы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3" name="Прямоугольник 19"/>
          <p:cNvSpPr/>
          <p:nvPr/>
        </p:nvSpPr>
        <p:spPr>
          <a:xfrm>
            <a:off x="4840560" y="3068640"/>
            <a:ext cx="29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e5c"/>
                </a:solidFill>
                <a:latin typeface="Georgia"/>
              </a:rPr>
              <a:t>Неосновные 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e5c"/>
                </a:solidFill>
                <a:latin typeface="Georgia"/>
              </a:rPr>
              <a:t>единицы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4" name="Прямоугольник 20"/>
          <p:cNvSpPr/>
          <p:nvPr/>
        </p:nvSpPr>
        <p:spPr>
          <a:xfrm>
            <a:off x="4572000" y="422100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м, км, дм, мм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05a58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5" name="Прямоугольник 21"/>
          <p:cNvSpPr/>
          <p:nvPr/>
        </p:nvSpPr>
        <p:spPr>
          <a:xfrm>
            <a:off x="642960" y="4071960"/>
            <a:ext cx="36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метр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(1 м)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6" name="Прямоугольник 22"/>
          <p:cNvSpPr/>
          <p:nvPr/>
        </p:nvSpPr>
        <p:spPr>
          <a:xfrm>
            <a:off x="500040" y="4565520"/>
            <a:ext cx="32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екунд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(1 с)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7" name="Прямоугольник 23"/>
          <p:cNvSpPr/>
          <p:nvPr/>
        </p:nvSpPr>
        <p:spPr>
          <a:xfrm>
            <a:off x="142920" y="507204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килограмм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(1 кг) 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8" name="Прямоугольник 26"/>
          <p:cNvSpPr/>
          <p:nvPr/>
        </p:nvSpPr>
        <p:spPr>
          <a:xfrm>
            <a:off x="3419640" y="1484280"/>
            <a:ext cx="17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Georgia"/>
                <a:ea typeface="Times New Roman"/>
              </a:rPr>
              <a:t>(1963 г.)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9" name="Прямоугольник 27"/>
          <p:cNvSpPr/>
          <p:nvPr/>
        </p:nvSpPr>
        <p:spPr>
          <a:xfrm>
            <a:off x="3924360" y="4653000"/>
            <a:ext cx="50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, мин, сутки, неделя,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г, т, центнер  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5a58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Line 1"/>
          <p:cNvSpPr/>
          <p:nvPr/>
        </p:nvSpPr>
        <p:spPr>
          <a:xfrm flipV="1">
            <a:off x="838080" y="523440"/>
            <a:ext cx="39783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11" name="Line 4"/>
          <p:cNvSpPr/>
          <p:nvPr/>
        </p:nvSpPr>
        <p:spPr>
          <a:xfrm flipV="1">
            <a:off x="838080" y="523440"/>
            <a:ext cx="39783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12" name="Rectangle 2"/>
          <p:cNvSpPr/>
          <p:nvPr/>
        </p:nvSpPr>
        <p:spPr>
          <a:xfrm>
            <a:off x="401760" y="489960"/>
            <a:ext cx="813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ставки</a:t>
            </a:r>
            <a:endParaRPr b="0" lang="en-US" sz="44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к названиям единиц</a:t>
            </a:r>
            <a:endParaRPr b="0" lang="en-US" sz="4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13" name="Прямоугольник 13"/>
          <p:cNvSpPr/>
          <p:nvPr/>
        </p:nvSpPr>
        <p:spPr>
          <a:xfrm>
            <a:off x="0" y="339408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г      — гекто (100 или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к     —  кило (1000 или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М    —  мега (1 000 000 или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)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14" name="Прямоугольник 14"/>
          <p:cNvSpPr/>
          <p:nvPr/>
        </p:nvSpPr>
        <p:spPr>
          <a:xfrm>
            <a:off x="4000680" y="471492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д     — деци (0,1 или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      —  санти (0,01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или 1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м     —  милли (0,001 или 1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-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15" name="Стрелка вправо с вырезом 16"/>
          <p:cNvSpPr/>
          <p:nvPr/>
        </p:nvSpPr>
        <p:spPr>
          <a:xfrm rot="6566400">
            <a:off x="1081800" y="2250000"/>
            <a:ext cx="1571400" cy="928800"/>
          </a:xfrm>
          <a:custGeom>
            <a:avLst/>
            <a:gdLst>
              <a:gd name="textAreaLeft" fmla="*/ 231840 w 1571400"/>
              <a:gd name="textAreaRight" fmla="*/ 1339560 w 157140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18" y="5400"/>
                </a:lnTo>
                <a:lnTo>
                  <a:pt x="15218" y="0"/>
                </a:lnTo>
                <a:lnTo>
                  <a:pt x="21600" y="10800"/>
                </a:lnTo>
                <a:lnTo>
                  <a:pt x="15218" y="21600"/>
                </a:lnTo>
                <a:lnTo>
                  <a:pt x="15218" y="16200"/>
                </a:lnTo>
                <a:lnTo>
                  <a:pt x="0" y="16200"/>
                </a:lnTo>
                <a:lnTo>
                  <a:pt x="319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16" name="Стрелка вправо с вырезом 17"/>
          <p:cNvSpPr/>
          <p:nvPr/>
        </p:nvSpPr>
        <p:spPr>
          <a:xfrm rot="3611400">
            <a:off x="5498640" y="2789280"/>
            <a:ext cx="2674800" cy="928440"/>
          </a:xfrm>
          <a:custGeom>
            <a:avLst/>
            <a:gdLst>
              <a:gd name="textAreaLeft" fmla="*/ 232200 w 2674800"/>
              <a:gd name="textAreaRight" fmla="*/ 2442600 w 26748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50" y="5400"/>
                </a:ln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17850" y="16200"/>
                </a:lnTo>
                <a:lnTo>
                  <a:pt x="0" y="16200"/>
                </a:lnTo>
                <a:lnTo>
                  <a:pt x="18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714240" y="1928880"/>
          <a:ext cx="7929720" cy="4208400"/>
        </p:xfrm>
        <a:graphic>
          <a:graphicData uri="http://schemas.openxmlformats.org/drawingml/2006/table">
            <a:tbl>
              <a:tblPr/>
              <a:tblGrid>
                <a:gridCol w="1965600"/>
                <a:gridCol w="2271600"/>
                <a:gridCol w="3692520"/>
              </a:tblGrid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ставка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ножитель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га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1 000 000 000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га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1 000 000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ло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1 000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кто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100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ка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10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ци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−1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0,1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нти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−2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0,01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лли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−3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= 0,001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кро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к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−6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0,000 001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но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−9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0,000 000 001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Заголовок 1"/>
          <p:cNvSpPr/>
          <p:nvPr/>
        </p:nvSpPr>
        <p:spPr>
          <a:xfrm>
            <a:off x="1500120" y="571680"/>
            <a:ext cx="7358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иставки и множители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Скругленный прямоугольник 4"/>
          <p:cNvSpPr/>
          <p:nvPr/>
        </p:nvSpPr>
        <p:spPr>
          <a:xfrm>
            <a:off x="684360" y="2143080"/>
            <a:ext cx="8135640" cy="450072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Линейка - длину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Термометр - температуру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есы - массу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Часы - время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Мензурка - объём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20" name="Стрелка вниз 5"/>
          <p:cNvSpPr/>
          <p:nvPr/>
        </p:nvSpPr>
        <p:spPr>
          <a:xfrm>
            <a:off x="3348000" y="155736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21" name="Прямоугольник 15"/>
          <p:cNvSpPr/>
          <p:nvPr/>
        </p:nvSpPr>
        <p:spPr>
          <a:xfrm>
            <a:off x="2340000" y="76500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a58"/>
                </a:solidFill>
                <a:latin typeface="Times New Roman"/>
                <a:ea typeface="Times New Roman"/>
              </a:rPr>
              <a:t>ПРИБОРЫ</a:t>
            </a:r>
            <a:r>
              <a:rPr b="0" i="1" lang="ru-RU" sz="3600" spc="-1" strike="noStrike">
                <a:solidFill>
                  <a:srgbClr val="fdf69c"/>
                </a:solidFill>
                <a:latin typeface="Georgia"/>
              </a:rPr>
              <a:t> </a:t>
            </a:r>
            <a:r>
              <a:rPr b="0" i="1" lang="ru-RU" sz="4800" spc="-1" strike="noStrike">
                <a:solidFill>
                  <a:srgbClr val="fdf69c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fdf69c"/>
                </a:solidFill>
                <a:latin typeface="Georgia"/>
              </a:rPr>
              <a:t>                  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22" name="Прямоугольник 6"/>
          <p:cNvSpPr/>
          <p:nvPr/>
        </p:nvSpPr>
        <p:spPr>
          <a:xfrm>
            <a:off x="5364000" y="9079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a58"/>
                </a:solidFill>
                <a:latin typeface="Times New Roman"/>
              </a:rPr>
              <a:t>величины</a:t>
            </a: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23" name="Стрелка вниз 7"/>
          <p:cNvSpPr/>
          <p:nvPr/>
        </p:nvSpPr>
        <p:spPr>
          <a:xfrm>
            <a:off x="6084720" y="1484280"/>
            <a:ext cx="500400" cy="5716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"/>
          <p:cNvPicPr/>
          <p:nvPr/>
        </p:nvPicPr>
        <p:blipFill>
          <a:blip r:embed="rId1"/>
          <a:srcRect l="6658" t="1565" r="6658" b="8209"/>
          <a:stretch/>
        </p:blipFill>
        <p:spPr>
          <a:xfrm>
            <a:off x="6715080" y="214200"/>
            <a:ext cx="1928880" cy="571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2"/>
          <a:srcRect l="0" t="0" r="12495" b="17864"/>
          <a:stretch/>
        </p:blipFill>
        <p:spPr>
          <a:xfrm>
            <a:off x="642960" y="642960"/>
            <a:ext cx="1760400" cy="5786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"/>
          <p:cNvPicPr/>
          <p:nvPr/>
        </p:nvPicPr>
        <p:blipFill>
          <a:blip r:embed="rId3"/>
          <a:stretch/>
        </p:blipFill>
        <p:spPr>
          <a:xfrm>
            <a:off x="2928960" y="1928880"/>
            <a:ext cx="3286080" cy="3510000"/>
          </a:xfrm>
          <a:prstGeom prst="rect">
            <a:avLst/>
          </a:prstGeom>
          <a:ln w="0">
            <a:noFill/>
          </a:ln>
        </p:spPr>
      </p:pic>
      <p:sp>
        <p:nvSpPr>
          <p:cNvPr id="627" name="TextBox 4"/>
          <p:cNvSpPr/>
          <p:nvPr/>
        </p:nvSpPr>
        <p:spPr>
          <a:xfrm>
            <a:off x="5357880" y="578628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нзурка-прибор для измерения объёма тела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140000" y="2349360"/>
            <a:ext cx="47862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ядом с некоторыми делениями стоят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числа. </a:t>
            </a:r>
            <a:endParaRPr b="0" lang="en-US" sz="2800" spc="-1" strike="noStrike">
              <a:solidFill>
                <a:srgbClr val="005a58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Деления и числа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образуют 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шкалу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прибора. </a:t>
            </a:r>
            <a:endParaRPr b="0" lang="en-US" sz="4400" spc="-1" strike="noStrike">
              <a:solidFill>
                <a:srgbClr val="005a58"/>
              </a:solidFill>
              <a:latin typeface="Constantia"/>
            </a:endParaRPr>
          </a:p>
        </p:txBody>
      </p:sp>
      <p:pic>
        <p:nvPicPr>
          <p:cNvPr id="629" name="Picture 4" descr=""/>
          <p:cNvPicPr/>
          <p:nvPr/>
        </p:nvPicPr>
        <p:blipFill>
          <a:blip r:embed="rId1"/>
          <a:srcRect l="0" t="2761" r="0" b="18592"/>
          <a:stretch/>
        </p:blipFill>
        <p:spPr>
          <a:xfrm>
            <a:off x="395280" y="2637000"/>
            <a:ext cx="3324240" cy="371448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4"/>
          <p:cNvSpPr/>
          <p:nvPr/>
        </p:nvSpPr>
        <p:spPr>
          <a:xfrm>
            <a:off x="179280" y="69228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ы видите, что на них нанесены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ления.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Деление – промежуток между двумя соседними чёрточками.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1"/>
          <p:cNvSpPr/>
          <p:nvPr/>
        </p:nvSpPr>
        <p:spPr>
          <a:xfrm flipV="1">
            <a:off x="838080" y="523440"/>
            <a:ext cx="39783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32" name="Line 4"/>
          <p:cNvSpPr/>
          <p:nvPr/>
        </p:nvSpPr>
        <p:spPr>
          <a:xfrm flipV="1">
            <a:off x="838080" y="523440"/>
            <a:ext cx="39783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33" name="Минус 9"/>
          <p:cNvSpPr/>
          <p:nvPr/>
        </p:nvSpPr>
        <p:spPr>
          <a:xfrm>
            <a:off x="971640" y="3471840"/>
            <a:ext cx="9286920" cy="142920"/>
          </a:xfrm>
          <a:prstGeom prst="pie">
            <a:avLst/>
          </a:prstGeom>
          <a:solidFill>
            <a:srgbClr val="008080"/>
          </a:solidFill>
          <a:ln w="42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34" name="Прямоугольник 10"/>
          <p:cNvSpPr/>
          <p:nvPr/>
        </p:nvSpPr>
        <p:spPr>
          <a:xfrm>
            <a:off x="2286000" y="276372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РАЗНОСТЬ ДВУХ СОСЕДНИХ ЧИСЕЛ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35" name="Прямоугольник 11"/>
          <p:cNvSpPr/>
          <p:nvPr/>
        </p:nvSpPr>
        <p:spPr>
          <a:xfrm>
            <a:off x="2214720" y="37638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ЧИСЛО ПРОМЕЖУТКОВ МЕЖДУ НИМИ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36" name="Прямоугольник 12"/>
          <p:cNvSpPr/>
          <p:nvPr/>
        </p:nvSpPr>
        <p:spPr>
          <a:xfrm>
            <a:off x="285840" y="3121200"/>
            <a:ext cx="228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Ц. Д.</a:t>
            </a:r>
            <a:r>
              <a:rPr b="0" i="1" lang="ru-RU" sz="4000" spc="-1" strike="noStrike">
                <a:solidFill>
                  <a:srgbClr val="ff0000"/>
                </a:solidFill>
                <a:latin typeface="Georgia"/>
              </a:rPr>
              <a:t>=</a:t>
            </a:r>
            <a:r>
              <a:rPr b="0" i="1" lang="ru-RU" sz="4000" spc="-1" strike="noStrike">
                <a:solidFill>
                  <a:srgbClr val="005a58"/>
                </a:solidFill>
                <a:latin typeface="Georgia"/>
              </a:rPr>
              <a:t>                         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37" name="Прямоугольник 15"/>
          <p:cNvSpPr/>
          <p:nvPr/>
        </p:nvSpPr>
        <p:spPr>
          <a:xfrm>
            <a:off x="395280" y="47628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АВИЛО нахождения цены деления</a:t>
            </a:r>
            <a:r>
              <a:rPr b="0" i="1" lang="ru-RU" sz="48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                  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1097280" y="660240"/>
            <a:ext cx="696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евиз нашего урока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5a58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1619280" y="2491560"/>
            <a:ext cx="58323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Наука начинается с тех пор, как начинают измерять».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Д.И.Менделеев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539640" y="1917360"/>
            <a:ext cx="7855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5a58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Times New Roman"/>
              </a:rPr>
              <a:t>Перышкин А.В. Физика: учебник. – М.: Дрофа, 2002.</a:t>
            </a:r>
            <a:endParaRPr b="0" lang="en-US" sz="2400" spc="-1" strike="noStrike">
              <a:solidFill>
                <a:srgbClr val="005a58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5a58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Times New Roman"/>
              </a:rPr>
              <a:t>Программы для общеобразовательных учреждений. «Физика. Астрономия».– М.: Дрофа, 2003.</a:t>
            </a:r>
            <a:endParaRPr b="0" lang="en-US" sz="2400" spc="-1" strike="noStrike">
              <a:solidFill>
                <a:srgbClr val="005a58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5a58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Times New Roman"/>
              </a:rPr>
              <a:t>Книга для чтения по физике. 6-7 классы /Сост. И.Г. Кириллова. – М.: Просвещение, 1986.</a:t>
            </a:r>
            <a:endParaRPr b="0" lang="en-US" sz="2400" spc="-1" strike="noStrike">
              <a:solidFill>
                <a:srgbClr val="005a58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5a58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Times New Roman"/>
              </a:rPr>
              <a:t>Физика и астрономия. Пробный учебник для 7 кл. / Под ред. А.А.Пинского, В.Г.Разумовского. – М.: Просвещение, 1993.</a:t>
            </a:r>
            <a:endParaRPr b="0" lang="en-US" sz="2400" spc="-1" strike="noStrike">
              <a:solidFill>
                <a:srgbClr val="005a58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5a58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Times New Roman"/>
              </a:rPr>
              <a:t>Кабардина С.И. Измерения физических величин. Элективный курс: Методическое пособие / С.И.Кабардина, Н.И. Шефер. – М.: БИНОМ. Лаборатория знаний, 2005. </a:t>
            </a:r>
            <a:endParaRPr b="0" lang="en-US" sz="2400" spc="-1" strike="noStrike">
              <a:solidFill>
                <a:srgbClr val="005a58"/>
              </a:solidFill>
              <a:latin typeface="Constantia"/>
            </a:endParaRPr>
          </a:p>
        </p:txBody>
      </p:sp>
      <p:sp>
        <p:nvSpPr>
          <p:cNvPr id="639" name="Прямоугольник 4"/>
          <p:cNvSpPr/>
          <p:nvPr/>
        </p:nvSpPr>
        <p:spPr>
          <a:xfrm>
            <a:off x="1285920" y="657360"/>
            <a:ext cx="67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пользованная литература</a:t>
            </a: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4" descr="05[2]"/>
          <p:cNvPicPr/>
          <p:nvPr/>
        </p:nvPicPr>
        <p:blipFill>
          <a:blip r:embed="rId1"/>
          <a:stretch/>
        </p:blipFill>
        <p:spPr>
          <a:xfrm>
            <a:off x="395280" y="333360"/>
            <a:ext cx="1133640" cy="1295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5" descr="iaizo"/>
          <p:cNvPicPr/>
          <p:nvPr/>
        </p:nvPicPr>
        <p:blipFill>
          <a:blip r:embed="rId2"/>
          <a:stretch/>
        </p:blipFill>
        <p:spPr>
          <a:xfrm>
            <a:off x="7667640" y="5805360"/>
            <a:ext cx="468360" cy="83052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5"/>
          <p:cNvSpPr/>
          <p:nvPr/>
        </p:nvSpPr>
        <p:spPr>
          <a:xfrm>
            <a:off x="1342800" y="1719360"/>
            <a:ext cx="654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b3a"/>
                </a:solidFill>
                <a:latin typeface="Times New Roman"/>
              </a:rPr>
              <a:t>СТАРИННЫЕ </a:t>
            </a:r>
            <a:endParaRPr b="0" lang="en-US" sz="72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b3a"/>
                </a:solidFill>
                <a:latin typeface="Times New Roman"/>
              </a:rPr>
              <a:t>МЕРЫ</a:t>
            </a:r>
            <a:endParaRPr b="0" lang="en-US" sz="7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95280" y="1125000"/>
            <a:ext cx="8748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003b3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3a"/>
                </a:solidFill>
                <a:latin typeface="Arial"/>
              </a:rPr>
              <a:t>Испания – сигара </a:t>
            </a:r>
            <a:r>
              <a:rPr b="0" lang="ru-RU" sz="2800" spc="-1" strike="noStrike">
                <a:solidFill>
                  <a:srgbClr val="003b3a"/>
                </a:solidFill>
                <a:latin typeface="Arial"/>
              </a:rPr>
              <a:t>(расстояние, которое проплывает корабль, пока выкуривается сигар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003b3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3a"/>
                </a:solidFill>
                <a:latin typeface="Arial"/>
              </a:rPr>
              <a:t>Япония – лошадиный башмак </a:t>
            </a:r>
            <a:r>
              <a:rPr b="0" lang="ru-RU" sz="2800" spc="-1" strike="noStrike">
                <a:solidFill>
                  <a:srgbClr val="003b3a"/>
                </a:solidFill>
                <a:latin typeface="Arial"/>
              </a:rPr>
              <a:t>(расстояние, которое проходит лошадь,  пока не износится ее соломенная подков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003b3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3a"/>
                </a:solidFill>
                <a:latin typeface="Arial"/>
              </a:rPr>
              <a:t>Египет – стадий </a:t>
            </a:r>
            <a:r>
              <a:rPr b="0" lang="ru-RU" sz="2800" spc="-1" strike="noStrike">
                <a:solidFill>
                  <a:srgbClr val="003b3a"/>
                </a:solidFill>
                <a:latin typeface="Arial"/>
              </a:rPr>
              <a:t>(расстояние, которое проходит мужчина за время от первого луча солнца  до появления всего солнечного диск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003b3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3a"/>
                </a:solidFill>
                <a:latin typeface="Arial"/>
              </a:rPr>
              <a:t>У многих народов – стрела </a:t>
            </a:r>
            <a:r>
              <a:rPr b="0" lang="ru-RU" sz="2800" spc="-1" strike="noStrike">
                <a:solidFill>
                  <a:srgbClr val="003b3a"/>
                </a:solidFill>
                <a:latin typeface="Arial"/>
              </a:rPr>
              <a:t>(расстояние, которое  пролетает стрел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2346480" y="341280"/>
            <a:ext cx="46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САМЫЕ ДРЕВНИЕ МЕРЫ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8675280" y="6858000"/>
            <a:ext cx="468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60000"/>
              </a:lnSpc>
              <a:spcBef>
                <a:spcPts val="201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Picture 7" descr=""/>
          <p:cNvPicPr/>
          <p:nvPr/>
        </p:nvPicPr>
        <p:blipFill>
          <a:blip r:embed="rId1"/>
          <a:stretch/>
        </p:blipFill>
        <p:spPr>
          <a:xfrm>
            <a:off x="1357200" y="3643200"/>
            <a:ext cx="1158840" cy="1871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9" descr=""/>
          <p:cNvPicPr/>
          <p:nvPr/>
        </p:nvPicPr>
        <p:blipFill>
          <a:blip r:embed="rId2"/>
          <a:stretch/>
        </p:blipFill>
        <p:spPr>
          <a:xfrm>
            <a:off x="4643280" y="4714920"/>
            <a:ext cx="3391200" cy="7207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1" descr=""/>
          <p:cNvPicPr/>
          <p:nvPr/>
        </p:nvPicPr>
        <p:blipFill>
          <a:blip r:embed="rId3"/>
          <a:stretch/>
        </p:blipFill>
        <p:spPr>
          <a:xfrm>
            <a:off x="3995640" y="692280"/>
            <a:ext cx="4940280" cy="244152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6"/>
          <p:cNvSpPr/>
          <p:nvPr/>
        </p:nvSpPr>
        <p:spPr>
          <a:xfrm>
            <a:off x="108000" y="100692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a58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003b3a"/>
                </a:solidFill>
                <a:latin typeface="Tahoma"/>
              </a:rPr>
              <a:t>Старинные меры Египта и Рима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104400" y="5949000"/>
            <a:ext cx="87699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3a"/>
                </a:solidFill>
                <a:latin typeface="Tahoma"/>
              </a:rPr>
              <a:t>Большие расстояния римляне измеряли в пасах.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4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350120" cy="461484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3"/>
          <p:cNvSpPr/>
          <p:nvPr/>
        </p:nvSpPr>
        <p:spPr>
          <a:xfrm>
            <a:off x="900000" y="378720"/>
            <a:ext cx="6985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b3a"/>
                </a:solidFill>
                <a:latin typeface="Arial"/>
              </a:rPr>
              <a:t>На Руси издавна использовали аршин («арш» – локоть), ту же меру длины, которой пользовались египтяне.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4" descr=""/>
          <p:cNvPicPr/>
          <p:nvPr/>
        </p:nvPicPr>
        <p:blipFill>
          <a:blip r:embed="rId1"/>
          <a:stretch/>
        </p:blipFill>
        <p:spPr>
          <a:xfrm>
            <a:off x="1403280" y="2457360"/>
            <a:ext cx="6289920" cy="351648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3"/>
          <p:cNvSpPr/>
          <p:nvPr/>
        </p:nvSpPr>
        <p:spPr>
          <a:xfrm>
            <a:off x="662400" y="549360"/>
            <a:ext cx="788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3a"/>
                </a:solidFill>
                <a:latin typeface="Arial"/>
              </a:rPr>
              <a:t>Пядь, или четверть (18 см) = 1/4 аршина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3a"/>
                </a:solidFill>
                <a:latin typeface="Arial"/>
              </a:rPr>
              <a:t>1/16 аршина – вершок (4, 4 см)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"/>
          <p:cNvPicPr/>
          <p:nvPr/>
        </p:nvPicPr>
        <p:blipFill>
          <a:blip r:embed="rId1"/>
          <a:stretch/>
        </p:blipFill>
        <p:spPr>
          <a:xfrm>
            <a:off x="689040" y="1600200"/>
            <a:ext cx="3270240" cy="49975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"/>
          <p:cNvPicPr/>
          <p:nvPr/>
        </p:nvPicPr>
        <p:blipFill>
          <a:blip r:embed="rId2"/>
          <a:stretch/>
        </p:blipFill>
        <p:spPr>
          <a:xfrm>
            <a:off x="4998960" y="1600200"/>
            <a:ext cx="3336840" cy="43498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5"/>
          <p:cNvSpPr/>
          <p:nvPr/>
        </p:nvSpPr>
        <p:spPr>
          <a:xfrm>
            <a:off x="324000" y="260280"/>
            <a:ext cx="8353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b3a"/>
                </a:solidFill>
                <a:latin typeface="Arial"/>
              </a:rPr>
              <a:t>САЖЕНЬ</a:t>
            </a: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3a"/>
                </a:solidFill>
                <a:latin typeface="Arial"/>
              </a:rPr>
              <a:t>Маховая                           Косая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5130720" cy="47088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3"/>
          <p:cNvSpPr/>
          <p:nvPr/>
        </p:nvSpPr>
        <p:spPr>
          <a:xfrm>
            <a:off x="539640" y="260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3a"/>
                </a:solidFill>
                <a:latin typeface="Arial"/>
              </a:rPr>
              <a:t>В странах Западной Европы (в частности в Англии) использовался дюйм.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3" descr="45EAF5CA"/>
          <p:cNvPicPr/>
          <p:nvPr/>
        </p:nvPicPr>
        <p:blipFill>
          <a:blip r:embed="rId1"/>
          <a:stretch/>
        </p:blipFill>
        <p:spPr>
          <a:xfrm>
            <a:off x="2038320" y="2824200"/>
            <a:ext cx="5067360" cy="207792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4"/>
          <p:cNvSpPr/>
          <p:nvPr/>
        </p:nvSpPr>
        <p:spPr>
          <a:xfrm>
            <a:off x="688680" y="765000"/>
            <a:ext cx="759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b3a"/>
                </a:solidFill>
                <a:latin typeface="Arial"/>
              </a:rPr>
              <a:t>Английская мера длины</a:t>
            </a:r>
            <a:endParaRPr b="0" lang="en-US" sz="4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3" descr=""/>
          <p:cNvPicPr/>
          <p:nvPr/>
        </p:nvPicPr>
        <p:blipFill>
          <a:blip r:embed="rId1"/>
          <a:stretch/>
        </p:blipFill>
        <p:spPr>
          <a:xfrm>
            <a:off x="2195640" y="2651040"/>
            <a:ext cx="4321080" cy="26193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3"/>
          <p:cNvSpPr/>
          <p:nvPr/>
        </p:nvSpPr>
        <p:spPr>
          <a:xfrm>
            <a:off x="804240" y="907920"/>
            <a:ext cx="76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b3a"/>
                </a:solidFill>
                <a:latin typeface="Tahoma"/>
              </a:rPr>
              <a:t>Фут – средняя длина ступни 16 человек.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Заголовок 1"/>
          <p:cNvSpPr/>
          <p:nvPr/>
        </p:nvSpPr>
        <p:spPr>
          <a:xfrm>
            <a:off x="1428840" y="714240"/>
            <a:ext cx="5357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</a:rPr>
              <a:t>Повторим.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285840" y="1499400"/>
            <a:ext cx="8572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физика?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5a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5a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изучает физика?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5a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зовите виды физических явлений. Приведите примеры физических явлений.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2" name="Прямоугольник 4"/>
          <p:cNvSpPr/>
          <p:nvPr/>
        </p:nvSpPr>
        <p:spPr>
          <a:xfrm>
            <a:off x="285840" y="1928880"/>
            <a:ext cx="8429400" cy="398880"/>
          </a:xfrm>
          <a:prstGeom prst="rect">
            <a:avLst/>
          </a:prstGeom>
          <a:solidFill>
            <a:srgbClr val="cdcd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ика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наука, изучающая природу.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3" name="Прямоугольник 5"/>
          <p:cNvSpPr/>
          <p:nvPr/>
        </p:nvSpPr>
        <p:spPr>
          <a:xfrm>
            <a:off x="285840" y="2786040"/>
            <a:ext cx="8429400" cy="398880"/>
          </a:xfrm>
          <a:prstGeom prst="rect">
            <a:avLst/>
          </a:prstGeom>
          <a:solidFill>
            <a:srgbClr val="cdcd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ические явления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357120" y="4295160"/>
            <a:ext cx="8358120" cy="2228400"/>
          </a:xfrm>
          <a:prstGeom prst="rect">
            <a:avLst/>
          </a:prstGeom>
          <a:solidFill>
            <a:srgbClr val="cdcd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ханические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ктрические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гнитные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тические (световые)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пловые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томные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вуковые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250560" y="1844640"/>
            <a:ext cx="86439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10400" indent="-3081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>
              <a:spcBef>
                <a:spcPts val="901"/>
              </a:spcBef>
              <a:buClr>
                <a:srgbClr val="003b3a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b3a"/>
                </a:solidFill>
                <a:latin typeface="Arial"/>
              </a:rPr>
              <a:t>Иллюзионные картинки взяты из презентации «</a:t>
            </a:r>
            <a:r>
              <a:rPr b="1" lang="en-US" sz="3600" spc="-1" strike="noStrike">
                <a:solidFill>
                  <a:srgbClr val="003b3a"/>
                </a:solidFill>
                <a:latin typeface="Arial"/>
              </a:rPr>
              <a:t>Was das Hirn alles kann…</a:t>
            </a:r>
            <a:r>
              <a:rPr b="1" lang="ru-RU" sz="3600" spc="-1" strike="noStrike">
                <a:solidFill>
                  <a:srgbClr val="003b3a"/>
                </a:solidFill>
                <a:latin typeface="Arial"/>
              </a:rPr>
              <a:t>» автор </a:t>
            </a:r>
            <a:r>
              <a:rPr b="1" lang="en-US" sz="3600" spc="-1" strike="noStrike">
                <a:solidFill>
                  <a:srgbClr val="003b3a"/>
                </a:solidFill>
                <a:latin typeface="Arial"/>
              </a:rPr>
              <a:t>Roland</a:t>
            </a:r>
            <a:r>
              <a:rPr b="1" lang="ru-RU" sz="3600" spc="-1" strike="noStrike">
                <a:solidFill>
                  <a:srgbClr val="003b3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>
              <a:spcBef>
                <a:spcPts val="901"/>
              </a:spcBef>
              <a:buClr>
                <a:srgbClr val="003b3a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b3a"/>
                </a:solidFill>
                <a:latin typeface="Arial"/>
              </a:rPr>
              <a:t>Книга для чтения по физике. 6-7 классы / Сост. И.Г. Кириллова. – М.: Просвещение, 198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896400" y="404640"/>
            <a:ext cx="71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Использованные материалы</a:t>
            </a: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95280" y="177300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ЭТАЛОНЫ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4478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7" name="Picture 10" descr="ф"/>
          <p:cNvPicPr/>
          <p:nvPr/>
        </p:nvPicPr>
        <p:blipFill>
          <a:blip r:embed="rId1"/>
          <a:stretch/>
        </p:blipFill>
        <p:spPr>
          <a:xfrm>
            <a:off x="6516720" y="4797360"/>
            <a:ext cx="2262240" cy="1685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500040" y="35712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84840" indent="-3290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ЭТАЛОНЫ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848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48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тра                                Килограм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Стрелка вниз 7"/>
          <p:cNvSpPr/>
          <p:nvPr/>
        </p:nvSpPr>
        <p:spPr>
          <a:xfrm>
            <a:off x="1692360" y="2349360"/>
            <a:ext cx="714240" cy="857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70" name="Стрелка вниз 8"/>
          <p:cNvSpPr/>
          <p:nvPr/>
        </p:nvSpPr>
        <p:spPr>
          <a:xfrm>
            <a:off x="6500880" y="2286000"/>
            <a:ext cx="714240" cy="8571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pic>
        <p:nvPicPr>
          <p:cNvPr id="671" name="Picture 7" descr="Platinum-Iridium_meter_bar"/>
          <p:cNvPicPr/>
          <p:nvPr/>
        </p:nvPicPr>
        <p:blipFill>
          <a:blip r:embed="rId1"/>
          <a:stretch/>
        </p:blipFill>
        <p:spPr>
          <a:xfrm>
            <a:off x="755640" y="3213000"/>
            <a:ext cx="2619360" cy="3456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672" name="Picture 8" descr="metrology_3_300"/>
          <p:cNvPicPr/>
          <p:nvPr/>
        </p:nvPicPr>
        <p:blipFill>
          <a:blip r:embed="rId2"/>
          <a:stretch/>
        </p:blipFill>
        <p:spPr>
          <a:xfrm>
            <a:off x="5580000" y="3213000"/>
            <a:ext cx="2536920" cy="3407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5"/>
          <p:cNvSpPr/>
          <p:nvPr/>
        </p:nvSpPr>
        <p:spPr>
          <a:xfrm>
            <a:off x="571680" y="1258560"/>
            <a:ext cx="82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Comic Sans MS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005a58"/>
                </a:solidFill>
                <a:latin typeface="Times New Roman"/>
                <a:ea typeface="Times New Roman"/>
              </a:rPr>
              <a:t>1782 г</a:t>
            </a:r>
            <a:r>
              <a:rPr b="0" lang="ru-RU" sz="2400" spc="-1" strike="noStrike">
                <a:solidFill>
                  <a:srgbClr val="005a58"/>
                </a:solidFill>
                <a:latin typeface="Comic Sans MS"/>
                <a:ea typeface="Times New Roman"/>
              </a:rPr>
              <a:t>. приняли за единицу длины </a:t>
            </a:r>
            <a:r>
              <a:rPr b="1" lang="ru-RU" sz="2400" spc="-1" strike="noStrike">
                <a:solidFill>
                  <a:srgbClr val="005a58"/>
                </a:solidFill>
                <a:latin typeface="Times New Roman"/>
                <a:ea typeface="Times New Roman"/>
              </a:rPr>
              <a:t>1/40000000</a:t>
            </a:r>
            <a:r>
              <a:rPr b="0" lang="ru-RU" sz="2400" spc="-1" strike="noStrike">
                <a:solidFill>
                  <a:srgbClr val="005a58"/>
                </a:solidFill>
                <a:latin typeface="Comic Sans MS"/>
                <a:ea typeface="Times New Roman"/>
              </a:rPr>
              <a:t> часть  длины земного меридиана, проходящего через Париж.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Comic Sans MS"/>
                <a:ea typeface="Times New Roman"/>
              </a:rPr>
              <a:t>Измерить длину меридиана было поручено астрономам Мешену и Деламберу.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Comic Sans MS"/>
                <a:ea typeface="Times New Roman"/>
              </a:rPr>
              <a:t>Работа продолжалась шесть лет. Ученые измерили часть длины меридиана, расположенную между городами Дюнкерком и Барселоной, а затем вычислили полную длину четверти меридиана от полюса до экватора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2484000" y="475200"/>
            <a:ext cx="44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a58"/>
                </a:solidFill>
                <a:latin typeface="Arial"/>
              </a:rPr>
              <a:t>Как это было…</a:t>
            </a:r>
            <a:r>
              <a:rPr b="0" lang="ru-RU" sz="1800" spc="-1" strike="noStrike">
                <a:solidFill>
                  <a:srgbClr val="005a5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2876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На основании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полученных учеными 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данных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из платины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0%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платины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0%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ирридия) был изготовлен эталон новой единицы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Эту единицу назвали метром — от греческого слова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«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метрон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»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что значит «мера».  Хранится он в г. Севр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во Франции в специальном помещении, огражденном от сотрясений и перепадов температур.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С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этого метра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с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деланы копии. Копия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28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служит государственным эталоном метра Росс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20196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6" name="Picture 1" descr=""/>
          <p:cNvPicPr/>
          <p:nvPr/>
        </p:nvPicPr>
        <p:blipFill>
          <a:blip r:embed="rId1"/>
          <a:stretch/>
        </p:blipFill>
        <p:spPr>
          <a:xfrm>
            <a:off x="3214800" y="4786200"/>
            <a:ext cx="2292120" cy="171468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5"/>
          <p:cNvSpPr/>
          <p:nvPr/>
        </p:nvSpPr>
        <p:spPr>
          <a:xfrm>
            <a:off x="2194200" y="114840"/>
            <a:ext cx="46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Arial"/>
              </a:rPr>
              <a:t>Архивный метр</a:t>
            </a:r>
            <a:r>
              <a:rPr b="0" lang="ru-RU" sz="18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1835280" y="1412640"/>
            <a:ext cx="7308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 единицу массы была принята масса одного кубического дециметра дистиллированной воды при температуре ее наибольшей плотности 4° С, определяемая взвешиванием в вакуум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5160" indent="-3632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 изготовлен эталон этой единицы, названной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илограммом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виде платиново–ирридиевого цилиндра. Хранится он в г. Севре во Франции. Копии с этого эталона переданы в другие страны, в том числе и в Росс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5160" indent="-3632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де хранятся коп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9" name="Picture 1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5"/>
          <p:cNvSpPr/>
          <p:nvPr/>
        </p:nvSpPr>
        <p:spPr>
          <a:xfrm>
            <a:off x="2338200" y="289440"/>
            <a:ext cx="633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Arial"/>
              </a:rPr>
              <a:t>Архивный килограмм</a:t>
            </a:r>
            <a:r>
              <a:rPr b="0" lang="ru-RU" sz="18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"/>
          <p:cNvPicPr/>
          <p:nvPr/>
        </p:nvPicPr>
        <p:blipFill>
          <a:blip r:embed="rId1">
            <a:lum contrast="6000"/>
          </a:blip>
          <a:srcRect l="0" t="0" r="0" b="1984"/>
          <a:stretch/>
        </p:blipFill>
        <p:spPr>
          <a:xfrm>
            <a:off x="3348000" y="3933720"/>
            <a:ext cx="2214720" cy="266400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3"/>
          <p:cNvSpPr/>
          <p:nvPr/>
        </p:nvSpPr>
        <p:spPr>
          <a:xfrm>
            <a:off x="250920" y="241920"/>
            <a:ext cx="871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ранятся копии в Главной палате мер и весов (ныне Всесоюзный научно-исследовательский институт метрологии им. Д.И Менделеева). 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.И.Менделеев являлся организатором и первым директором (с 1893 и до конца жизни).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Заголовок 4" descr=""/>
          <p:cNvPicPr/>
          <p:nvPr/>
        </p:nvPicPr>
        <p:blipFill>
          <a:blip r:embed="rId2"/>
          <a:srcRect l="36884" t="30510" r="36070" b="13027"/>
          <a:stretch/>
        </p:blipFill>
        <p:spPr>
          <a:xfrm>
            <a:off x="2050920" y="981000"/>
            <a:ext cx="5545440" cy="2448000"/>
          </a:xfrm>
          <a:prstGeom prst="rect">
            <a:avLst/>
          </a:prstGeom>
          <a:ln w="0">
            <a:noFill/>
          </a:ln>
        </p:spPr>
      </p:pic>
      <p:sp>
        <p:nvSpPr>
          <p:cNvPr id="684" name="Line 6"/>
          <p:cNvSpPr/>
          <p:nvPr/>
        </p:nvSpPr>
        <p:spPr>
          <a:xfrm>
            <a:off x="1116000" y="3716280"/>
            <a:ext cx="73436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2"/>
          <a:stretch/>
        </p:blipFill>
        <p:spPr>
          <a:xfrm>
            <a:off x="468360" y="388800"/>
            <a:ext cx="2817720" cy="2441880"/>
          </a:xfrm>
          <a:prstGeom prst="rect">
            <a:avLst/>
          </a:prstGeom>
          <a:ln w="76320">
            <a:solidFill>
              <a:srgbClr val="ffc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86" name="Заголовок 4" descr=""/>
          <p:cNvPicPr/>
          <p:nvPr/>
        </p:nvPicPr>
        <p:blipFill>
          <a:blip r:embed="rId3"/>
          <a:srcRect l="36884" t="30510" r="36070" b="13027"/>
          <a:stretch/>
        </p:blipFill>
        <p:spPr>
          <a:xfrm>
            <a:off x="3419640" y="2565360"/>
            <a:ext cx="2808000" cy="863640"/>
          </a:xfrm>
          <a:prstGeom prst="rect">
            <a:avLst/>
          </a:prstGeom>
          <a:ln w="0">
            <a:noFill/>
          </a:ln>
        </p:spPr>
      </p:pic>
      <p:sp>
        <p:nvSpPr>
          <p:cNvPr id="687" name="Прямоугольник 5"/>
          <p:cNvSpPr/>
          <p:nvPr/>
        </p:nvSpPr>
        <p:spPr>
          <a:xfrm>
            <a:off x="1143000" y="4025880"/>
            <a:ext cx="72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Какой народ и когда изобрел рычажные весы  — неизвестно.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Возможно, что это было сделано многими народами независимо друг от друга, а простота использования послужила причиной их широкого распространения…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pic>
        <p:nvPicPr>
          <p:cNvPr id="688" name="Рисунок 6" descr="Рисунок2.jpg"/>
          <p:cNvPicPr/>
          <p:nvPr/>
        </p:nvPicPr>
        <p:blipFill>
          <a:blip r:embed="rId4"/>
          <a:stretch/>
        </p:blipFill>
        <p:spPr>
          <a:xfrm>
            <a:off x="6516720" y="260280"/>
            <a:ext cx="1936800" cy="264168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89" name="Line 6"/>
          <p:cNvSpPr/>
          <p:nvPr/>
        </p:nvSpPr>
        <p:spPr>
          <a:xfrm>
            <a:off x="1116000" y="3716280"/>
            <a:ext cx="73436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456840" y="1673280"/>
            <a:ext cx="4978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диницы массы, как и единицы длины, сначала устанавливались по природным образц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аще всего по массе какого-нибудь семе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ак, например, массу драгоценных камней определяли и до сих пор определяют в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рат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0,2 г) — это масса семени одного из видов боб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Заголовок 2" descr=""/>
          <p:cNvPicPr/>
          <p:nvPr/>
        </p:nvPicPr>
        <p:blipFill>
          <a:blip r:embed="rId2"/>
          <a:srcRect l="38637" t="44357" r="38637" b="0"/>
          <a:stretch/>
        </p:blipFill>
        <p:spPr>
          <a:xfrm>
            <a:off x="3059280" y="404640"/>
            <a:ext cx="3022560" cy="115272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911320" cy="292572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285840" y="1088280"/>
            <a:ext cx="857232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чему физику считают одной из основных наук о природе?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то в физике понимают под термином «физическое тело»?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называют материей? Приведите примеры физических тел и веществ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чём сходство и различие тел, изображённых на рисунках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6" name="Заголовок 1"/>
          <p:cNvSpPr/>
          <p:nvPr/>
        </p:nvSpPr>
        <p:spPr>
          <a:xfrm>
            <a:off x="1428840" y="285840"/>
            <a:ext cx="5357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</a:rPr>
              <a:t>Повторим.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7" name="Прямоугольник 3"/>
          <p:cNvSpPr/>
          <p:nvPr/>
        </p:nvSpPr>
        <p:spPr>
          <a:xfrm>
            <a:off x="357120" y="2357280"/>
            <a:ext cx="8429760" cy="459720"/>
          </a:xfrm>
          <a:prstGeom prst="rect">
            <a:avLst/>
          </a:prstGeom>
          <a:solidFill>
            <a:srgbClr val="cdcd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ическое тело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– любое из окружающих нас тел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8" name="Прямоугольник 4"/>
          <p:cNvSpPr/>
          <p:nvPr/>
        </p:nvSpPr>
        <p:spPr>
          <a:xfrm>
            <a:off x="285840" y="3786120"/>
            <a:ext cx="8501040" cy="459720"/>
          </a:xfrm>
          <a:prstGeom prst="rect">
            <a:avLst/>
          </a:prstGeom>
          <a:solidFill>
            <a:srgbClr val="cdcd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тер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всё, что реально существует во Вселенной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2643120" y="4929120"/>
            <a:ext cx="2071800" cy="1625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2"/>
          <a:stretch/>
        </p:blipFill>
        <p:spPr>
          <a:xfrm>
            <a:off x="5214960" y="5286240"/>
            <a:ext cx="26193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Заголовок 2" descr=""/>
          <p:cNvPicPr/>
          <p:nvPr/>
        </p:nvPicPr>
        <p:blipFill>
          <a:blip r:embed="rId2"/>
          <a:srcRect l="36017" t="38538" r="36017" b="0"/>
          <a:stretch/>
        </p:blipFill>
        <p:spPr>
          <a:xfrm>
            <a:off x="2987640" y="476280"/>
            <a:ext cx="3384720" cy="1152360"/>
          </a:xfrm>
          <a:prstGeom prst="rect">
            <a:avLst/>
          </a:prstGeom>
          <a:ln w="0">
            <a:noFill/>
          </a:ln>
        </p:spPr>
      </p:pic>
      <p:sp>
        <p:nvSpPr>
          <p:cNvPr id="694" name="Прямоугольник 3"/>
          <p:cNvSpPr/>
          <p:nvPr/>
        </p:nvSpPr>
        <p:spPr>
          <a:xfrm>
            <a:off x="571680" y="1714680"/>
            <a:ext cx="4505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Позднее за единицу массы стали принимать массу воды, наполняющей сосуд определенной вместимости.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Например, в Древнем Вавилоне за единицу массы принимали </a:t>
            </a:r>
            <a:r>
              <a:rPr b="0" i="1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талант </a:t>
            </a: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— массу воды, наполняющей такой сосуд, из которого вода равномерно вытекает через отверстие определенного размера в течение одного часа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3"/>
          <a:stretch/>
        </p:blipFill>
        <p:spPr>
          <a:xfrm>
            <a:off x="5292720" y="2031840"/>
            <a:ext cx="3240000" cy="262116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Прямоугольник 3"/>
          <p:cNvSpPr/>
          <p:nvPr/>
        </p:nvSpPr>
        <p:spPr>
          <a:xfrm>
            <a:off x="3276720" y="907920"/>
            <a:ext cx="5513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Arial"/>
              </a:rPr>
              <a:t>По массе зерен или воды изготовляли металлические гири разной массы. Ими пользовались при взвешивании.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Arial"/>
              </a:rPr>
              <a:t>Гири, служившие эталоном (образцом), хранились в храмах или правительственных учреждениях.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2"/>
          <a:stretch/>
        </p:blipFill>
        <p:spPr>
          <a:xfrm>
            <a:off x="725400" y="907920"/>
            <a:ext cx="23353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Заголовок 2" descr=""/>
          <p:cNvPicPr/>
          <p:nvPr/>
        </p:nvPicPr>
        <p:blipFill>
          <a:blip r:embed="rId2"/>
          <a:srcRect l="9806" t="44357" r="9806" b="0"/>
          <a:stretch/>
        </p:blipFill>
        <p:spPr>
          <a:xfrm>
            <a:off x="684360" y="835200"/>
            <a:ext cx="7705440" cy="1081080"/>
          </a:xfrm>
          <a:prstGeom prst="rect">
            <a:avLst/>
          </a:prstGeom>
          <a:ln w="0">
            <a:noFill/>
          </a:ln>
        </p:spPr>
      </p:pic>
      <p:sp>
        <p:nvSpPr>
          <p:cNvPr id="699" name="Прямоугольник 3"/>
          <p:cNvSpPr/>
          <p:nvPr/>
        </p:nvSpPr>
        <p:spPr>
          <a:xfrm>
            <a:off x="531720" y="222084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На Руси древнейшей единицей массы была </a:t>
            </a:r>
            <a:r>
              <a:rPr b="0" i="1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гривна </a:t>
            </a: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(409,5 г).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Существует предположение, что эта единица ввезена к нам с Востока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Впоследствии она получила название </a:t>
            </a:r>
            <a:r>
              <a:rPr b="0" i="1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фунт</a:t>
            </a: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Для определения больших масс использовался </a:t>
            </a:r>
            <a:r>
              <a:rPr b="0" i="1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пуд </a:t>
            </a: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(16,38 кг), а малых — </a:t>
            </a:r>
            <a:r>
              <a:rPr b="0" i="1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золотник </a:t>
            </a: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(12,8 г)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468360" y="1557000"/>
            <a:ext cx="822960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а для чтения по физике. 6-7 классы / Сост. И.Г. Кириллова. – М.: Просвещение, 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 Физика: учебник. – М.: Дрофа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Заголовок 2" descr=""/>
          <p:cNvPicPr/>
          <p:nvPr/>
        </p:nvPicPr>
        <p:blipFill>
          <a:blip r:embed="rId2"/>
          <a:srcRect l="31644" t="44357" r="30780" b="0"/>
          <a:stretch/>
        </p:blipFill>
        <p:spPr>
          <a:xfrm>
            <a:off x="2338560" y="404640"/>
            <a:ext cx="4465440" cy="11527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" descr=""/>
          <p:cNvPicPr/>
          <p:nvPr/>
        </p:nvPicPr>
        <p:blipFill>
          <a:blip r:embed="rId3"/>
          <a:stretch/>
        </p:blipFill>
        <p:spPr>
          <a:xfrm>
            <a:off x="3995640" y="4060800"/>
            <a:ext cx="4680000" cy="224964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03" name="Рисунок 7" descr="Рисунок2.jpg"/>
          <p:cNvPicPr/>
          <p:nvPr/>
        </p:nvPicPr>
        <p:blipFill>
          <a:blip r:embed="rId4"/>
          <a:stretch/>
        </p:blipFill>
        <p:spPr>
          <a:xfrm>
            <a:off x="826920" y="2924280"/>
            <a:ext cx="2508480" cy="342108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56840" y="1882800"/>
            <a:ext cx="8258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0200" indent="-290520">
              <a:spcBef>
                <a:spcPts val="649"/>
              </a:spcBef>
              <a:buClr>
                <a:srgbClr val="66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нига для чтения по физике. 6-7 классы / Сост. И.Г. Кириллова. – М.: Просвещение, 1986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0200" indent="-290520">
              <a:spcBef>
                <a:spcPts val="649"/>
              </a:spcBef>
              <a:buClr>
                <a:srgbClr val="66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Физика и астрономия. Пробный учебник для 7 кл. / Под ред. А.А.Пинского, В.Г.Разумовского. – М.: Просвещение, 1993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0200" indent="-290520">
              <a:spcBef>
                <a:spcPts val="649"/>
              </a:spcBef>
              <a:buClr>
                <a:srgbClr val="66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бардина С.И. Измерения физических величин. Элективный курс: Методическое пособие / С.И.Кабардина, Н.И. Шефер. – М.: БИНОМ. Лаборатория знаний, 2005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1117080" y="555120"/>
            <a:ext cx="67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Использованная литература</a:t>
            </a:r>
            <a:r>
              <a:rPr b="0" lang="ru-RU" sz="1800" spc="-1" strike="noStrike">
                <a:solidFill>
                  <a:srgbClr val="005a5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57120" y="60048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.-№ 2.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ведите примеры следующих физических тел: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состоящих из одного и того же вещества;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состоящих из различных веществ одинакового назначения.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.-№ 4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ажите вещества, из которых состоят следующие тела: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жницы,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кан,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тбольная камера,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пата,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андаш.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2857320" y="856800"/>
            <a:ext cx="6072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a58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быту, технике, при изучении физических явлений часто приходится выполнять различные измерения.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, например, изучая падение тела на уроках физики, необходимо измерить высоту, с которой падает тело, массу тела, его скорость, время падения.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та, масса, скорость, время и т.д. являются физическими величинами. Физическую величину можно измерить.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</p:txBody>
      </p:sp>
      <p:pic>
        <p:nvPicPr>
          <p:cNvPr id="573" name="Рисунок 3" descr="anipisa.gif"/>
          <p:cNvPicPr/>
          <p:nvPr/>
        </p:nvPicPr>
        <p:blipFill>
          <a:blip r:embed="rId1"/>
          <a:stretch/>
        </p:blipFill>
        <p:spPr>
          <a:xfrm>
            <a:off x="357120" y="1643040"/>
            <a:ext cx="2286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Заголовок 1" descr=""/>
          <p:cNvPicPr/>
          <p:nvPr/>
        </p:nvPicPr>
        <p:blipFill>
          <a:blip r:embed="rId1"/>
          <a:stretch/>
        </p:blipFill>
        <p:spPr>
          <a:xfrm>
            <a:off x="79200" y="1481040"/>
            <a:ext cx="87598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5"/>
          <p:cNvSpPr/>
          <p:nvPr/>
        </p:nvSpPr>
        <p:spPr>
          <a:xfrm>
            <a:off x="684360" y="1391760"/>
            <a:ext cx="78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a58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чтобы измерять, необходимо было придумать единицы различных физических величин.</a:t>
            </a: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ете ли вы, какие существовали раньше и существуют сейчас единицы длины, массы?</a:t>
            </a: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"/>
          <p:cNvSpPr/>
          <p:nvPr/>
        </p:nvSpPr>
        <p:spPr>
          <a:xfrm>
            <a:off x="357120" y="87228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тради –  20,5 см. </a:t>
            </a:r>
            <a:endParaRPr b="0" lang="en-US" sz="5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лина доски – 4,7 м.</a:t>
            </a:r>
            <a:endParaRPr b="0" lang="en-US" sz="5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428760" y="274248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ы измеряем длину тетради, то мы сравниваем ее с длиной отрезка, принятого за единицу, например за 1 см, и смотрим, сколько таких отрезков уложится в длине тетради.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ы измеряем длину доски, то мы сравниваем ее с длиной отрезка, принятого за единицу, например за 1 м, и смотрим, сколько таких отрезков уложится на длине доски.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6:49:54Z</dcterms:created>
  <dc:creator>Анна</dc:creator>
  <dc:description/>
  <dc:language>en-US</dc:language>
  <cp:lastModifiedBy>admin</cp:lastModifiedBy>
  <dcterms:modified xsi:type="dcterms:W3CDTF">2014-09-03T05:48:18Z</dcterms:modified>
  <cp:revision>84</cp:revision>
  <dc:subject/>
  <dc:title>Слайд 1</dc:title>
</cp:coreProperties>
</file>