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BA42-7C82-4CF6-95C7-19574069D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A8E3-81EB-44A9-A8F1-56847B452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63E6-6538-48F7-9778-9D26173D9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3A8F-0C85-433B-8FA5-2650DB796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6D5D-3EB6-429D-96AC-537E76AB4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B577-B461-4D0E-A9C7-A8B3A15F3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1CCD-C72C-45A7-A0D8-86394493A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A15F-CC5C-4DDF-909E-972025803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A483-62A2-4522-85E6-7D7101930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EA96-FDEE-4E35-992A-3404469B9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1FD-5ACD-4510-B462-D3553E403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6797-8566-4B47-817E-80561BC43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B49B-3013-49D9-9A15-3FBF3B08B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6BDC-C925-4113-A375-1F31A393D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4F44-6517-47D0-ACC8-451A6692C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C570-D3C5-4457-A127-6B686D2CD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299A-DC03-4D2E-8D2B-DA3CD29CB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7C8E-BF68-4634-B701-B2F530077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E4D8-1F4A-4A2E-AE64-F7A48E124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325-B8AC-42C7-97AE-6513F1F3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43F-9189-402B-9F22-BBFBDCB9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3E4-4C46-4E5F-8E7E-FEF9B8C8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6F4-AE48-464F-9DB1-9FA3B342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4AC-1BEA-4AE9-AE18-1BD5BC06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954-09C6-49E2-ABB1-7298D177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A2B-0589-467D-8483-05D11285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5AD-36DC-44DF-80EA-DFD39FE7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FF7-09D8-4572-93CE-64AEFAE5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FBA-4AAA-47F0-8894-6AA3FA8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D7E-BAC1-4638-9423-FFB36DE8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D41-6E4C-4043-B5C9-584FC67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45A8-5F7F-48FF-A805-83D49B0C7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ga.ru/zima6x7/imagepages/image2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dga.ru/zima6x7/imagepages/image113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Елка1"/>
          <p:cNvPicPr/>
          <p:nvPr/>
        </p:nvPicPr>
        <p:blipFill>
          <a:blip r:embed="rId1"/>
          <a:stretch/>
        </p:blipFill>
        <p:spPr>
          <a:xfrm>
            <a:off x="1187280" y="44280"/>
            <a:ext cx="6769440" cy="67694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 rot="20154000">
            <a:off x="258480" y="2611440"/>
            <a:ext cx="883764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ый   год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Снег на ёлка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0"/>
            <a:ext cx="55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Пейзаж зим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-14400"/>
            <a:ext cx="859284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Великий Устюг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07s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GP6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6"/>
          <p:cNvSpPr txBox="1"/>
          <p:nvPr/>
        </p:nvSpPr>
        <p:spPr>
          <a:xfrm>
            <a:off x="2124000" y="476280"/>
            <a:ext cx="6408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3340      Росс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огодская область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 Великий Устюг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ду   Морозу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5" descr="Дед Мороз"/>
          <p:cNvPicPr/>
          <p:nvPr/>
        </p:nvPicPr>
        <p:blipFill>
          <a:blip r:embed="rId2"/>
          <a:stretch/>
        </p:blipFill>
        <p:spPr>
          <a:xfrm>
            <a:off x="250920" y="3068640"/>
            <a:ext cx="24969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ВУ 2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ВУ 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снегуро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900000" y="3240"/>
            <a:ext cx="7559640" cy="6854760"/>
          </a:xfrm>
          <a:prstGeom prst="rect">
            <a:avLst/>
          </a:prstGeom>
          <a:ln w="0">
            <a:noFill/>
          </a:ln>
        </p:spPr>
      </p:pic>
      <p:sp>
        <p:nvSpPr>
          <p:cNvPr id="90" name="WordArt 10"/>
          <p:cNvSpPr txBox="1"/>
          <p:nvPr/>
        </p:nvSpPr>
        <p:spPr>
          <a:xfrm>
            <a:off x="971640" y="1916280"/>
            <a:ext cx="6696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  Новым     годом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3482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anta_claus"/>
          <p:cNvPicPr/>
          <p:nvPr/>
        </p:nvPicPr>
        <p:blipFill>
          <a:blip r:embed="rId1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ВУ 31"/>
          <p:cNvPicPr/>
          <p:nvPr/>
        </p:nvPicPr>
        <p:blipFill>
          <a:blip r:embed="rId1"/>
          <a:stretch/>
        </p:blipFill>
        <p:spPr>
          <a:xfrm>
            <a:off x="2335320" y="0"/>
            <a:ext cx="6808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395280" y="765000"/>
            <a:ext cx="8229600" cy="300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де   живёт   Дед   Мороз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ВУ 4"/>
          <p:cNvPicPr/>
          <p:nvPr/>
        </p:nvPicPr>
        <p:blipFill>
          <a:blip r:embed="rId1"/>
          <a:stretch/>
        </p:blipFill>
        <p:spPr>
          <a:xfrm>
            <a:off x="611280" y="836640"/>
            <a:ext cx="80406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дедушка"/>
          <p:cNvPicPr/>
          <p:nvPr/>
        </p:nvPicPr>
        <p:blipFill>
          <a:blip r:embed="rId1"/>
          <a:stretch/>
        </p:blipFill>
        <p:spPr>
          <a:xfrm>
            <a:off x="2050920" y="260280"/>
            <a:ext cx="49993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ВУ 2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edmoroz2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санта и мороз"/>
          <p:cNvPicPr/>
          <p:nvPr/>
        </p:nvPicPr>
        <p:blipFill>
          <a:blip r:embed="rId1"/>
          <a:stretch/>
        </p:blipFill>
        <p:spPr>
          <a:xfrm>
            <a:off x="1763640" y="590400"/>
            <a:ext cx="56167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lash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10:41Z</dcterms:created>
  <dc:creator>1</dc:creator>
  <dc:description/>
  <dc:language>en-US</dc:language>
  <cp:lastModifiedBy>Пользователь</cp:lastModifiedBy>
  <dcterms:modified xsi:type="dcterms:W3CDTF">2015-02-01T12:27:50Z</dcterms:modified>
  <cp:revision>12</cp:revision>
  <dc:subject/>
  <dc:title>Слайд 1</dc:title>
</cp:coreProperties>
</file>