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D001-AF84-4BA9-A6E2-C11D4883CD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0CA5-BD44-4215-9E5A-0FCFD9F9F5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3D1C-F415-4569-952C-5A1201006C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071D-C1CE-4C24-8328-6216F5117C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BD1E-2227-4518-B113-493BD3A476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6736-631F-495B-AFE5-4726638D1C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19DD-5BD1-48EA-BDB1-E4E694EF7B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36D7-9D65-4220-B76E-E22C63072D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1AB5-FCB0-4A96-A25B-F7741BC721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69F3-D8E1-45F2-A105-CF7BA5FBA0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6C5A-556D-4091-BDE9-25A2BD23EE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D3D5-2F30-4BAE-803D-BE0C97AA75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0A6E-2FD2-4426-9E2F-B85228DF2A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4172-7585-4BED-81EA-3F97936FEB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3040-A0AE-4F78-9F42-B53C94E039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BCC8-4F10-4E28-A8DF-3DFCBB5D16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238D-5369-4057-B9D0-F2603FA4C3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7E96-0D2D-4A41-B0C5-1E376737C2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81F9-2409-4E5D-8134-C74BF385AF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D2C5-FAB6-4F08-B23B-CF2289C0A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A248-F9A3-4B5C-A93A-5CCDC36C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E913-63A4-4733-AA15-A5C1BE9A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2CD9-3152-4C0A-A30B-E03F398B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9F16-D217-4D67-B2BA-5E8D1B93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28D4-758A-47A3-AD28-5C10A5B6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1B14-598F-4D05-B851-B98A7882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1CE0-4E5C-4BBB-AA33-2B705988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982A-117F-474F-BF03-43B90BF9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2AA9-6289-4D1F-BFE1-515CFE9A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28BB-06F9-4E70-A9D6-CC8134E5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96CE-EC99-479F-8461-F54D3365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0C78-630D-435E-9A13-90717280E3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dga.ru/zima6x7/imagepages/image2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dga.ru/zima6x7/imagepages/image113.html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Елка1"/>
          <p:cNvPicPr/>
          <p:nvPr/>
        </p:nvPicPr>
        <p:blipFill>
          <a:blip r:embed="rId1"/>
          <a:stretch/>
        </p:blipFill>
        <p:spPr>
          <a:xfrm>
            <a:off x="1187280" y="44280"/>
            <a:ext cx="6769440" cy="676944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 rot="20154000">
            <a:off x="258480" y="2611440"/>
            <a:ext cx="8837640" cy="170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овый   год</a:t>
            </a:r>
            <a:endParaRPr b="0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Снег на ёлках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0"/>
            <a:ext cx="551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Пейзаж зим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-14400"/>
            <a:ext cx="859284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Великий Устюг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07s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IMGP61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WordArt 6"/>
          <p:cNvSpPr txBox="1"/>
          <p:nvPr/>
        </p:nvSpPr>
        <p:spPr>
          <a:xfrm>
            <a:off x="2124000" y="476280"/>
            <a:ext cx="6408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3340      Россия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логодская область,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. Великий Устюг,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ду   Морозу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Picture 5" descr="Дед Мороз"/>
          <p:cNvPicPr/>
          <p:nvPr/>
        </p:nvPicPr>
        <p:blipFill>
          <a:blip r:embed="rId2"/>
          <a:stretch/>
        </p:blipFill>
        <p:spPr>
          <a:xfrm>
            <a:off x="250920" y="3068640"/>
            <a:ext cx="249696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ВУ 21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ВУ 5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снегуроч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сканирование0007"/>
          <p:cNvPicPr/>
          <p:nvPr/>
        </p:nvPicPr>
        <p:blipFill>
          <a:blip r:embed="rId1"/>
          <a:stretch/>
        </p:blipFill>
        <p:spPr>
          <a:xfrm>
            <a:off x="900000" y="3240"/>
            <a:ext cx="7559640" cy="6854760"/>
          </a:xfrm>
          <a:prstGeom prst="rect">
            <a:avLst/>
          </a:prstGeom>
          <a:ln w="0">
            <a:noFill/>
          </a:ln>
        </p:spPr>
      </p:pic>
      <p:sp>
        <p:nvSpPr>
          <p:cNvPr id="90" name="WordArt 10"/>
          <p:cNvSpPr txBox="1"/>
          <p:nvPr/>
        </p:nvSpPr>
        <p:spPr>
          <a:xfrm>
            <a:off x="971640" y="1916280"/>
            <a:ext cx="66960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  Новым     годом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a3482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santa_claus"/>
          <p:cNvPicPr/>
          <p:nvPr/>
        </p:nvPicPr>
        <p:blipFill>
          <a:blip r:embed="rId1"/>
          <a:stretch/>
        </p:blipFill>
        <p:spPr>
          <a:xfrm>
            <a:off x="1577880" y="0"/>
            <a:ext cx="5988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ВУ 31"/>
          <p:cNvPicPr/>
          <p:nvPr/>
        </p:nvPicPr>
        <p:blipFill>
          <a:blip r:embed="rId1"/>
          <a:stretch/>
        </p:blipFill>
        <p:spPr>
          <a:xfrm>
            <a:off x="2335320" y="0"/>
            <a:ext cx="68086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WordArt 5"/>
          <p:cNvSpPr txBox="1"/>
          <p:nvPr/>
        </p:nvSpPr>
        <p:spPr>
          <a:xfrm>
            <a:off x="395280" y="765000"/>
            <a:ext cx="8229600" cy="3009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де   живёт   Дед   Мороз 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ВУ 4"/>
          <p:cNvPicPr/>
          <p:nvPr/>
        </p:nvPicPr>
        <p:blipFill>
          <a:blip r:embed="rId1"/>
          <a:stretch/>
        </p:blipFill>
        <p:spPr>
          <a:xfrm>
            <a:off x="611280" y="836640"/>
            <a:ext cx="804060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дедушка"/>
          <p:cNvPicPr/>
          <p:nvPr/>
        </p:nvPicPr>
        <p:blipFill>
          <a:blip r:embed="rId1"/>
          <a:stretch/>
        </p:blipFill>
        <p:spPr>
          <a:xfrm>
            <a:off x="2050920" y="260280"/>
            <a:ext cx="499932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ВУ 21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dedmoroz2"/>
          <p:cNvPicPr/>
          <p:nvPr/>
        </p:nvPicPr>
        <p:blipFill>
          <a:blip r:embed="rId1"/>
          <a:stretch/>
        </p:blipFill>
        <p:spPr>
          <a:xfrm>
            <a:off x="0" y="0"/>
            <a:ext cx="9144000" cy="69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санта и мороз"/>
          <p:cNvPicPr/>
          <p:nvPr/>
        </p:nvPicPr>
        <p:blipFill>
          <a:blip r:embed="rId1"/>
          <a:stretch/>
        </p:blipFill>
        <p:spPr>
          <a:xfrm>
            <a:off x="1763640" y="590400"/>
            <a:ext cx="561672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flash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1:10:41Z</dcterms:created>
  <dc:creator>1</dc:creator>
  <dc:description/>
  <dc:language>en-US</dc:language>
  <cp:lastModifiedBy>Пользователь</cp:lastModifiedBy>
  <dcterms:modified xsi:type="dcterms:W3CDTF">2015-02-01T12:27:50Z</dcterms:modified>
  <cp:revision>12</cp:revision>
  <dc:subject/>
  <dc:title>Слайд 1</dc:title>
</cp:coreProperties>
</file>