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AA8-C96B-4328-8F24-FF5ADFF6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2E9-5D7D-4AFC-9BFA-A10881E3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238-7832-4C6C-8746-E9AE10F2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B64-2D10-4263-95DE-6965A081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4900-A2BC-4E54-8F6A-18701270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6592-8BF5-4808-B71C-24C8616D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A468-4978-4387-90CC-07B4A9B0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2C59-99CD-4D56-9215-2E0E2E3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735A-F42E-4D86-A0F9-1CF5A98B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95D5-5B97-496F-BE85-9CE9561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1F7D-AA52-4720-8B41-3E7B991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EE0-6BCF-46D1-808E-C4466ACE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EDFE-11F2-40C7-9266-0B3CE2E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924-D894-4D0D-8C9B-CF4A152C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2EA1-9A07-4C8C-BA07-8BD5346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6F9-EBF0-4A78-867D-0EC1B095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5C21-6258-4379-A40A-25D3C386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E42-ADE4-4637-BD99-FB39AF7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114-B06B-45F2-A517-A346C8F1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46E-D2EC-40AC-A787-1DAADFEA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428-2F06-43F9-8BF3-16DCDD5A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FB8-B68E-4C5D-8940-C8D1510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F85-D6B9-4960-A3CE-0597129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7DE-0A01-4AA2-8ED9-4D97E801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080F-128C-405C-8FED-2F15B01485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22B0-E6F7-4145-AAFD-44E146CF0D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Л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удовская Аравия, Мек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1851120"/>
            <a:ext cx="7056360" cy="50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НЩИНЫ ВОСТ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076640" y="981000"/>
            <a:ext cx="5067360" cy="3387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3216240"/>
            <a:ext cx="486108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30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РОДА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СТО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855880"/>
            <a:ext cx="5003640" cy="400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26040" y="0"/>
            <a:ext cx="4917960" cy="3933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3280" y="3259080"/>
            <a:ext cx="45007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50" fill="hold">
                                          <p:stCondLst>
                                            <p:cond delay="9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50" fill="hold">
                                          <p:stCondLst>
                                            <p:cond delay="9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сточные но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103640" y="2903400"/>
            <a:ext cx="5040360" cy="395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7530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4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3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3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РАН – священная книга мусульм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056360" cy="46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6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Л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хаммед провозглашает новую рели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9480" y="82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3240000" cy="240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11640" y="206064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вший купец избрал изгнание, чтобы затем вернуться и превратить Мекку в центр мировой рели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07800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3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1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508" autoRev="1" fill="hold">
                                          <p:stCondLst>
                                            <p:cond delay="15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508" autoRev="1" fill="hold">
                                          <p:stCondLst>
                                            <p:cond delay="15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508" autoRev="1" fill="hold">
                                          <p:stCondLst>
                                            <p:cond delay="15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56000" y="2781360"/>
            <a:ext cx="4788000" cy="3749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897280"/>
            <a:ext cx="424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сполнения своей мечты – построить невиданный памятник любимой жене Мумтаз Махал – могольский правитель Шах-Джахан пригласил строителей не только из Индии, но и из других стран, чтобы они могли подготовить проект неземного творения из мрамо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овы особенности исламской культур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2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итм и гармо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9162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сл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» означает «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корность, ми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.0000357627869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62480" cy="2919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24120" y="836640"/>
            <a:ext cx="2657520" cy="3610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99040" y="2421000"/>
            <a:ext cx="2932200" cy="3956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3384360" cy="26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пространение Исла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141960" cy="4116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5850000"/>
            <a:ext cx="75596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ний Восток и Западная Аз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8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38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ультовые сооружения Ислам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дж-Махал, Западная И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662120"/>
            <a:ext cx="6696000" cy="51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7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7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57680" y="3267000"/>
            <a:ext cx="5386320" cy="3591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19640" y="549360"/>
            <a:ext cx="392436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ЕДЕВРЫ ИСЛАМ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ХИТЕ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равийская пусты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72360" cy="53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00:10Z</dcterms:created>
  <dc:creator>Андрей</dc:creator>
  <dc:description/>
  <dc:language>en-US</dc:language>
  <cp:lastModifiedBy>Андрей</cp:lastModifiedBy>
  <dcterms:modified xsi:type="dcterms:W3CDTF">2007-02-20T21:07:55Z</dcterms:modified>
  <cp:revision>7</cp:revision>
  <dc:subject/>
  <dc:title>ИСЛАМ</dc:title>
</cp:coreProperties>
</file>