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30E-8DC0-4040-9549-0C40F434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C5D-0AE5-4598-A4F9-025F61C7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5AD-BDE7-4232-9984-ED2439BF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268-004F-4C2A-8814-12F445E6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71F6-E2D2-4CCD-AF3D-A27A8A74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56D4-C485-45D7-B52F-421473AD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731B-FF20-409A-B05F-4AC45BDB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776A-1E0E-44BA-A962-27A17E6D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2805-85F6-4537-8051-C1D7666F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62F6-9492-4511-B0F2-A2ED4C2D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0F40-8A63-4AC7-A625-0DA8D6E0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CFD-687F-4267-947B-08CE1FD1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5A72-78D0-476D-B46D-EB4588D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AC29-E93A-478E-8C75-BBC6292F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6443-04C6-4427-8DD1-74CACE09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9ED2-B3F7-4CA7-9994-59E8F223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5A1F-57E0-412A-A861-735E5D7A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C5E-0869-417A-9EED-4C2DA4C1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609-2BA9-41CC-8D2F-2A0652A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701-9669-48D5-AE5D-590D7B3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8B1-629F-451C-9B8A-2DA4DC33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023-5AD2-4EB5-AFF1-93799E23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532-537D-42AB-98C7-B0948759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0F5-E141-4222-B6E5-87CD4E5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B585-D25C-4778-99A2-E24D447AF1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D2D8-54D5-45A1-B76A-FD42D5AD48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ЛА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удовская Аравия, Мек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1851120"/>
            <a:ext cx="7056360" cy="50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НЩИНЫ ВОСТ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076640" y="981000"/>
            <a:ext cx="5067360" cy="3387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3216240"/>
            <a:ext cx="486108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300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РОДА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СТО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855880"/>
            <a:ext cx="5003640" cy="400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26040" y="0"/>
            <a:ext cx="4917960" cy="3933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43280" y="3259080"/>
            <a:ext cx="45007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9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50" fill="hold">
                                          <p:stCondLst>
                                            <p:cond delay="9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50" fill="hold">
                                          <p:stCondLst>
                                            <p:cond delay="9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сточные но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103640" y="2903400"/>
            <a:ext cx="5040360" cy="3954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75308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4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3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3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РАН – священная книга мусульм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056360" cy="46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6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ЛА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хаммед провозглашает новую рели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79480" y="82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3240000" cy="240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11640" y="206064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вший купец избрал изгнание, чтобы затем вернуться и превратить Мекку в центр мировой рели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07800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36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44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44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44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44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1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508" autoRev="1" fill="hold">
                                          <p:stCondLst>
                                            <p:cond delay="15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508" autoRev="1" fill="hold">
                                          <p:stCondLst>
                                            <p:cond delay="15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508" autoRev="1" fill="hold">
                                          <p:stCondLst>
                                            <p:cond delay="15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56000" y="2781360"/>
            <a:ext cx="4788000" cy="3749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897280"/>
            <a:ext cx="4248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исполнения своей мечты – построить невиданный памятник любимой жене Мумтаз Махал – могольский правитель Шах-Джахан пригласил строителей не только из Индии, но и из других стран, чтобы они могли подготовить проект неземного творения из мрамо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овы особенности исламской культур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25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итм и гармо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91628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сл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» означает «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корность, ми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.0000357627869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62480" cy="2919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24120" y="836640"/>
            <a:ext cx="2657520" cy="3610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999040" y="2421000"/>
            <a:ext cx="2932200" cy="3956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3384360" cy="26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пространение Исла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141960" cy="4116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5850000"/>
            <a:ext cx="75596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ний Восток и Западная Аз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8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38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ультовые сооружения Ислам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дж-Махал, Западная Ин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662120"/>
            <a:ext cx="6696000" cy="51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7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7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38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57680" y="3267000"/>
            <a:ext cx="5386320" cy="3591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19640" y="549360"/>
            <a:ext cx="392436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ЕДЕВРЫ ИСЛАМ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ХИТЕ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равийская пусты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72360" cy="53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3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00:10Z</dcterms:created>
  <dc:creator>Андрей</dc:creator>
  <dc:description/>
  <dc:language>en-US</dc:language>
  <cp:lastModifiedBy>Андрей</cp:lastModifiedBy>
  <dcterms:modified xsi:type="dcterms:W3CDTF">2007-02-20T21:07:55Z</dcterms:modified>
  <cp:revision>7</cp:revision>
  <dc:subject/>
  <dc:title>ИСЛАМ</dc:title>
</cp:coreProperties>
</file>