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D54E-360E-483A-9376-A5E82D278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DB3B-56A9-4528-8BD1-DADA16FA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66E5-475F-4A41-B16B-D0720F519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9272-0E12-46E8-AD76-4B683E74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927E-9132-4CE2-BC16-6847789BE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61BF-FD61-450A-9A52-19A0FDED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B11F-D214-4932-A9F8-288F0840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F12D-CAFF-4F89-9BA0-AD210A2F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7599-53A1-4D2E-9CC8-9E257653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D0CF-D4EE-4EE1-BFD4-CA7536FF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8D29-2F00-42DA-A886-A63DEEB2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9317-5448-4F02-86C1-DFFA9560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6FC1-5D06-42A2-B3E4-C1990CD8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B80A-4551-4490-AC8A-D4BCC733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7FA7-B3EB-40F2-870B-7F66B148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E14B-FC02-4613-A854-698D5855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42A4-8E58-46BF-AA62-FA3C4350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D4A96-DA7B-4095-8A87-2A543A847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437DD-91F4-4AAE-B7C5-EC6346AA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27333-4F88-4C06-ACAA-63380F2D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99EA1-DB58-4CB3-AC5F-414F1123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087E9-7FFE-4923-B5F5-F2A621C3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2853-C755-4AB9-9D62-B45BABFC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DB9DA-55FE-409C-9BD1-B35BBD9A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0A80F-7488-471A-A770-B4D46242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AEF4A-9F24-4494-B648-17C31DFD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C1EF6-9A9E-417F-8573-B1F3C658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AA2C6-4565-43B2-BF51-468E192D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D7BA0-767C-46CD-A4E4-6C75C4826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600D1-ABC6-4BA6-AD04-32BE9E4E1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5D988-EC57-44A9-B242-D21CE9168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42600-D69B-4E9E-A154-D6BF873C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F64D9-ED5C-4007-B0BB-470A8929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5965-37C7-4BF1-A0EF-8E814379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B3648-8CA0-444F-958F-3025464C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1728B-64DA-4FC7-985C-A0B11E62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2C608-D7C1-4F47-988C-806E3465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B2577-01AF-48F8-810A-D60936CE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84FAC-199F-4B2C-A1E6-FDEB0AE3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C4E51-47C9-4D6C-B2CA-598690CD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E0627-72F7-49FD-90A8-B069011B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312A2-A0E2-4CE9-9A06-157C91A51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94CAC-A501-4117-A4A8-554DE586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730F5-14D0-42CE-B1A6-B03729F36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CA69-BD6F-415D-AE67-68603324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B032B-B062-480D-AB04-9A79A65D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B05F3-0535-4BD4-9568-B61B3114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A0141-9766-4027-BB37-FE5B8708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B133D-AE12-45C2-B2C9-055C641B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BE20B-F7CA-4A8A-B5E4-16BA98AB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E303C-07ED-4D12-A85B-B00E2B7D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21E31-E2C8-4202-BE21-7359E898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ED568-D87D-423D-8545-16CD8449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F9820-E36B-45A7-9765-CF014EB7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B69DF-63ED-4830-9EB8-D5DFFB959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512A-65B4-4DA4-8C90-7C7797A2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E6C63-D67F-4432-A99D-579506DD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8619-1AA2-493D-9AA1-36ABAC17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DAE0-44DD-473A-A880-4F342F04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8C64-764E-4E90-8705-E1803773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3E49-4D88-49E9-8661-5C0EAE4C0BAB}" type="slidenum">
              <a:rPr b="0" lang="ru-RU" sz="1100" spc="-1" strike="noStrike">
                <a:solidFill>
                  <a:srgbClr val="b13f9a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1341-AB01-443E-93C1-43223C275840}" type="slidenum">
              <a:rPr b="0" lang="ru-RU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98FA-5AA7-45AF-B17D-FDC7FF19375A}" type="slidenum">
              <a:rPr b="0" lang="ru-RU" sz="1100" spc="-1" strike="noStrike">
                <a:solidFill>
                  <a:srgbClr val="b13f9a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3786-7D2A-4333-9DF2-5E2C6BD940EE}" type="slidenum">
              <a:rPr b="0" lang="ru-RU" sz="1100" spc="-1" strike="noStrike">
                <a:solidFill>
                  <a:srgbClr val="f4e7e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FAEF-4C64-4288-A1B1-2D1468417425}" type="slidenum">
              <a:rPr b="0" lang="ru-RU" sz="1100" spc="-1" strike="noStrike">
                <a:solidFill>
                  <a:srgbClr val="b13f9a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23954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324000" y="2565360"/>
            <a:ext cx="79200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91f4d"/>
                </a:solidFill>
                <a:latin typeface="Times New Roman"/>
              </a:rPr>
              <a:t>Из истории пионерской организации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ры работы:                                                                                                                    ученики 3 «Б» класса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учный руководитель: учитель ОБЖ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икова Ирина Зигфридо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8954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2133360"/>
            <a:ext cx="723888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совместно со старшим вожатым организует работу совета дружины в соответствии с планом, организует работу актив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представляет дружину в город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отвечает за наглядную агитацию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244440" y="158760"/>
            <a:ext cx="7461360" cy="16938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вместе с советом дружины проводит разведку пионерских дел, комплектует список ветеранов, пожилых людей, инвалидо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проводит учебу вожатых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проводит дружинные мероприятия с вожаты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/>
          <a:srcRect l="0" t="6334" r="0" b="0"/>
          <a:stretch/>
        </p:blipFill>
        <p:spPr>
          <a:xfrm>
            <a:off x="1116000" y="2060640"/>
            <a:ext cx="6659640" cy="43639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3"/>
          <p:cNvSpPr/>
          <p:nvPr/>
        </p:nvSpPr>
        <p:spPr>
          <a:xfrm>
            <a:off x="826920" y="40464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онерский сбор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3"/>
          <p:cNvSpPr/>
          <p:nvPr/>
        </p:nvSpPr>
        <p:spPr>
          <a:xfrm>
            <a:off x="611280" y="4365720"/>
            <a:ext cx="79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есте – дружная семья!!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04980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9 мая –День ПИОНЕРИ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месте – дружная семь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вняемся на героев Войны и Труда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ионер – товарищ вожатых и октября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ерные товарищ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удь готов – всегда готов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8" name="Picture 2" descr="G:\Школа\пионерам\y_1a4b013f.jpg"/>
          <p:cNvPicPr/>
          <p:nvPr/>
        </p:nvPicPr>
        <p:blipFill>
          <a:blip r:embed="rId2"/>
          <a:stretch/>
        </p:blipFill>
        <p:spPr>
          <a:xfrm>
            <a:off x="5003640" y="4498920"/>
            <a:ext cx="289584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829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амостоятельная, общественная организация детей и взрослых с ярко выраженной общественной направленностью, личностно ориентированной деятельностью, основана на отношениях коллективизма и товариществ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7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формирование основ патриотизма, воспитание коммуникативной, гражданской и социальной личности, развитие творческих способностей, гуманизма, уважение к культуре и традициям своего народа, любви к малой и большой Родин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Задачи пионерской организации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оспитание гражданина и патриота своего Отечеств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оспитание гордости и сопричастности к деяниям и традициям предков, любви к своему Отечеству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44440" y="85680"/>
            <a:ext cx="7461360" cy="16938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915920"/>
            <a:ext cx="7238880" cy="45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принимаются школьники с 8 до 14 лет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прием осуществляется открытым голосованием на сборе отряд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школьник на торжественном сборе дает клятву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Я, Ф.И. ученика,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вступая в ряды пионерской организации, торжественно обещаю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Быть достойным гражданином и патриотом своей страны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Горячо любить свою Родину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Быть верным и надежным помощников своего учителя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Быть готовым к защите своего Отечеств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С уважением и заботой относиться к старшему поколению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Знать и изучать историю своего края и государств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Учиться и трудиться на благо своей Родины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Быть верным и надежным помощником своего учителя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281160" y="1620720"/>
            <a:ext cx="8040600" cy="46944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066320" y="476280"/>
            <a:ext cx="62550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Устав пионерской организаци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(Законы пионер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61360" cy="1695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2565360"/>
            <a:ext cx="723888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нести лучик доброты и радости людям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не быть равнодушны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улучшать окружающий нас мир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помощь и забота ветеранам Великой Отечественной войны, семьям воинов интернационалистов, престарелым людям, детям-инвалидам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347760" y="317520"/>
            <a:ext cx="7358040" cy="115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395280" y="1915920"/>
            <a:ext cx="7300800" cy="45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Атрибуты: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- горн, барабан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расные галстуки – символ сопричастности каждого пионера к организации и ее делам, три конца галстука – символ старшего, младшего и среднего поколен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Знамена – символ чести и сплоченности, верность традициям, идеалам добра и справедливост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195120" y="317520"/>
            <a:ext cx="7510680" cy="2108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1116000" y="2162160"/>
            <a:ext cx="656280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12:54:34Z</dcterms:created>
  <dc:creator>Татьяна</dc:creator>
  <dc:description/>
  <dc:language>en-US</dc:language>
  <cp:lastModifiedBy>PC</cp:lastModifiedBy>
  <dcterms:modified xsi:type="dcterms:W3CDTF">2015-02-01T15:01:58Z</dcterms:modified>
  <cp:revision>22</cp:revision>
  <dc:subject/>
  <dc:title>Презентация PowerPoint</dc:title>
</cp:coreProperties>
</file>