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35F-9970-44E0-BA76-8E91E814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C61-7D11-4ED8-AFF4-FF639D2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5CA-9683-463E-92BB-EDA45C21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945-780A-4C72-ADDF-36768049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9A14-78FC-4F90-8624-85F4F808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74A-B95A-4B16-8AC9-EF02683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713A-8108-49BF-96EE-0C4167D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ED21-742E-4BE8-B2A9-F1ECC29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DCC5-CD8B-47F3-A17C-0192238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156-7689-46E7-B86B-83A1D1C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740-C420-49EC-A09A-2753B4AF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015-8D78-4555-9251-3482F42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0AA-8777-43E5-8B90-6A5785E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C2A3-E4C0-4DF8-8148-A27F05C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D1DD-B932-44C9-9D28-094E67A3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22CA-1366-4EA5-B779-D97A8F0C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76BF-AE5F-428B-883E-7CC1BD91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35C0-9478-41FF-97C2-6A3E3F1A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A239-59DB-4789-AF73-FA6AF8F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9DE4-A165-4341-8031-71B4A1CD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E103-336F-4AB0-863E-48FE458F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3F26-7FFC-43F8-B892-8D382F65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ACE-36EB-4F12-9521-B79263F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5C92-2A62-4D48-8B2A-A4B64F8C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6AB7-5DFE-4355-B9D4-0809F558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85F6-DAAD-4A30-AE15-E23B7B8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A171-9EF9-48CC-B940-B3E1B61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3400-3E2E-497B-A30B-01F0709F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D755-1D9F-46D5-B906-7802AFA5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7E4B-50A6-4B6D-B84D-821697F1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86C0-D0CD-4B0E-A4FB-5B73426E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4606-8C94-4A78-A9B3-C31098A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2E23-35E4-4B7E-8D80-839FF34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CF6-ECB0-4DF1-821C-39001D3B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23E0-F359-4C0F-9C68-C45F24D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7F9E-82BC-45B1-B706-A453EB27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4096-EDFA-4F74-B74E-0697F3EB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80FE-2A5B-456E-8680-A261616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B433-EB8C-46CD-8E4B-DF17B35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289C-12F7-43A3-997E-DDDB443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005F-C75C-4AFE-AC44-6F64E98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5220-DEBF-4E59-BC0E-03EDC972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C5F3-CCEC-425C-B853-7EB71A7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1638-CE8C-4219-8695-93851D60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E99-79BB-4AA6-8D57-B0B598C3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3807-CEE1-429F-8C25-86A71BC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7444E-8933-44C2-B569-DD32D3B8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15C8-9352-49D2-A412-9F05749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F914-E0AE-409D-B467-FC634D0A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1C23-8643-4327-8CDD-F3C6508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7C04-CFBF-4A28-BD96-2A4C2FA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1BE92-8DE5-459C-A9A8-B6A016C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7794-46B1-495F-8A6C-FA9EFE6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AA9E-603B-40D8-B518-C8DC2964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89A4-A968-4E2A-BA77-84FDC9AB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CB6-2EAD-45A0-B10D-60C583BB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77CD-FEF5-4A67-9E1F-A36CD929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49C-2E62-4269-831F-146E478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BA9-FB50-4E8D-B4FC-4536286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10C-C551-4B4F-BDD8-30D1A48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0DDD-8940-400E-B7DA-CAC9E7FEE318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392-C612-4F5B-B6E0-2A084A75E85C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35B-F86F-479C-9A95-0F24E68D6E28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0166-A301-47E3-8FD9-403057A95924}" type="slidenum">
              <a:rPr b="0" lang="ru-RU" sz="1100" spc="-1" strike="noStrike">
                <a:solidFill>
                  <a:srgbClr val="f4e7e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B0C2-6DB1-461E-B5B7-EB637E98D873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2395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324000" y="2565360"/>
            <a:ext cx="7920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1f4d"/>
                </a:solidFill>
                <a:latin typeface="Times New Roman"/>
              </a:rPr>
              <a:t>Из истории пионерской организации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работы:                                                                                                                    ученики 3 «Б» класс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 руководитель: учитель ОБЖ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икова Ирина Зигфридо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895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2133360"/>
            <a:ext cx="72388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овместно со старшим вожатым организует работу совета дружины в соответствии с планом, организует работу акти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едставляет дружину в город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отвечает за наглядную агитаци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44440" y="1587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вместе с советом дружины проводит разведку пионерских дел, комплектует список ветеранов, пожилых людей, инвалид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оводит учебу вожаты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оводит дружинные мероприятия с вожат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6334" r="0" b="0"/>
          <a:stretch/>
        </p:blipFill>
        <p:spPr>
          <a:xfrm>
            <a:off x="1116000" y="2060640"/>
            <a:ext cx="6659640" cy="4363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826920" y="40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онерский сбо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611280" y="4365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– дружная семья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0498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9 мая –День ПИОНЕР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месте – дружная семь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вняемся на героев Войны и Труда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онер – товарищ вожатых и октября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рные товарищ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ь готов – всегда готов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2" descr="G:\Школа\пионерам\y_1a4b013f.jpg"/>
          <p:cNvPicPr/>
          <p:nvPr/>
        </p:nvPicPr>
        <p:blipFill>
          <a:blip r:embed="rId2"/>
          <a:stretch/>
        </p:blipFill>
        <p:spPr>
          <a:xfrm>
            <a:off x="5003640" y="4498920"/>
            <a:ext cx="28958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82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стоятельная, общественная организация детей и взрослых с ярко выраженной общественной направленностью, личностно ориентированной деятельностью, основана на отношениях коллективизма и товарище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основ патриотизма, воспитание коммуникативной, гражданской и социальной личности, развитие творческих способностей, гуманизма, уважение к культуре и традициям своего народа, любви к малой и большой Родин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 пионерской организации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гражданина и патриота своего Отече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гордости и сопричастности к деяниям и традициям предков, любви к своему Отечеств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8568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915920"/>
            <a:ext cx="72388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инимаются школьники с 8 до 14 л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ием осуществляется открытым голосованием на сборе отря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школьник на торжественном сборе дает клятв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Я, Ф.И. ученика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ступая в ряды пионерской организации, торжественно обещаю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достойным гражданином и патриотом своей стран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Горячо любить свою Родин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верным и надежным помощников своего учите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готовым к защите своего Отече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С уважением и заботой относиться к старшему поколени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Знать и изучать историю своего края и государ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Учиться и трудиться на благо своей Родин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верным и надежным помощником своего учите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1160" y="1620720"/>
            <a:ext cx="8040600" cy="4694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6255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Устав пионерской организа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(Законы пионер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61360" cy="1695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565360"/>
            <a:ext cx="72388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сти лучик доброты и радости люд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 быть равнодуш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улучшать окружающий нас ми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омощь и забота ветеранам Великой Отечественной войны, семьям воинов интернационалистов, престарелым людям, детям-инвалид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358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5280" y="1915920"/>
            <a:ext cx="73008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Атрибуты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- горн, бараба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сные галстуки – символ сопричастности каждого пионера к организации и ее делам, три конца галстука – символ старшего, младшего и среднего поко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намена – символ чести и сплоченности, верность традициям, идеалам добра и справедлив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210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116000" y="2162160"/>
            <a:ext cx="65628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2:54:34Z</dcterms:created>
  <dc:creator>Татьяна</dc:creator>
  <dc:description/>
  <dc:language>en-US</dc:language>
  <cp:lastModifiedBy>PC</cp:lastModifiedBy>
  <dcterms:modified xsi:type="dcterms:W3CDTF">2015-02-01T15:01:58Z</dcterms:modified>
  <cp:revision>22</cp:revision>
  <dc:subject/>
  <dc:title>Презентация PowerPoint</dc:title>
</cp:coreProperties>
</file>