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1343-D06B-4ADE-964F-E4CF21C6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E65-81E9-4E05-92E9-05C791AE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92F-6C2F-48DB-B332-426F74B7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4708-14F1-4262-8837-669FA559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C90F7-5279-4941-947B-DEEFE854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886E1-0BA8-479C-97F5-BADA6776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01462-26E7-433F-A82A-FFBB1DA6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DC99F-086E-4171-AF1D-5CE34134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F2EA7-39F2-4B43-8013-22294198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7762C-1B5B-438B-A43F-071CA170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C0BF0-87CE-4DC5-9061-A07CBBB8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FDEB-D536-4268-9EE1-03A0144C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20314-5927-4A99-904D-CBEE9846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D0A08-3551-42DE-8B1D-E241B33F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B0229-EC8E-4838-B539-8194B1F3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ADFDD-847A-4ABC-9024-A8F3BEBD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E30E9-F0DB-47E7-8FD8-29743B06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D7F0E-C7B9-4878-82A6-684E10B7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F2332-F486-4B00-AA6F-1C074B8D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9FACD-03E9-4B96-94C8-FA361162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20B78-48E3-4119-A6A9-241A940D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C4BB3-A647-4814-A685-85233A66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85F4-77DF-4C66-9088-14493D8B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DBC33-E763-474B-94FF-14A06A01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D1E5C-AB4F-49C3-9CF2-06C93285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3EBFD-4C7F-4EEF-986C-BD87091C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A1567-1190-4E73-B693-E7F53B65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BE78F-3523-42DC-B84B-15DA4E14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FD317-6305-4B76-B658-ACBB60EB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84947-2B43-4E45-B089-2C64A8DF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72E4CE-C416-45EF-BB59-8DF9EA1C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0B2B9D-DED2-4CA5-8D1B-2AF34669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51A9A2-1C19-4D2B-B5CF-4A90FB8F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193C-8DDE-4CF9-9DE4-E8F26284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87EC63-6852-4017-9607-953F5865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16FB70-4C28-44D1-9FF8-D58D3B1A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ADA12C-2F30-4581-8327-91331F6B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C4FB91-92BF-4B5E-A526-C460293E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8CAC42-D164-400E-AB1B-93535EF0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D36FC8-BEFD-4503-BEFC-80AE5E4E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E663F8-6A8B-4D9D-84ED-864D7386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9402FF-E52E-49C9-833E-0D4A015C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BF221F-607C-46AC-ABA6-36BD9393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A30255-1DF2-4BF5-8E30-08AAF140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C3E-319B-4F87-8520-CF658CE1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2B0704-5313-473B-8555-C02B13EC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56D406-0844-4F2B-8ABE-3EB8DEEB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3B8477-8C5C-4CFE-BB0E-095A88CA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F1068C-9AC2-44D8-B457-9A5E4528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B40E73-D119-4FB9-B3F7-34C818AD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5CA493-21F5-4D68-86B8-07653E68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F4B96-8E1C-4FEF-9E2C-5636A9FD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934118-33BF-4E02-98D5-6966ED7E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A382A-6E9B-4481-BCF7-0E8B5DD8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0FEC64-5BFF-4AF0-A550-95E832E2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691-D0EA-4257-8506-3064C2C5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EC53D-217F-4BD2-85C0-7EF308F8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F8DC36-4E8B-4734-AE9A-BCF1CB4C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14776D-E6D3-46B4-8653-DD24EA30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A76BBD-855A-4482-B046-D5D33690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61C1F0-62AF-4CD1-A225-A39F0220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C1DC9A-9422-4BE2-B7DF-283E17D6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CCDC0A-9818-4DF1-B288-926B4085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3A349A-FDC9-43D9-A965-1682EF97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C5CA35-63E2-41D6-A5CD-12C50E05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C9D62F-3D42-4472-83CF-943CDD83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AC1-A747-42AD-8F8A-73BE707D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3315CE-8CDB-4C4E-B45D-D35018B9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C6C608-40D3-4434-AB47-5572A18A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AF1ACC-65F7-47A2-9289-317FF609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563D-F554-4C22-905E-0EAB58BB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CBC4-66BD-44B1-B790-B0A3C8EB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4001-CD25-46DF-B3B4-309428CBB96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A7E4-4543-4313-BEB4-A27FAB0D26B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1366-2A4C-405C-A243-FDB9F688988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9ECD-4888-4C1A-BC36-76CA11F4340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A651-84B6-479C-A600-80D5A9DF859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E8FA-0C75-4066-9583-D228B109E8D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566640" y="334800"/>
            <a:ext cx="7729560" cy="238464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2626920" y="34286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Казацкой Л. В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3"/>
          <p:cNvSpPr/>
          <p:nvPr/>
        </p:nvSpPr>
        <p:spPr>
          <a:xfrm>
            <a:off x="279360" y="115920"/>
            <a:ext cx="885816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гностическая методика № 1. "Настроение"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мся предлагается список учебных предметов, которые они изучают во втором классе. Рядом с каждым предметом изображены три рожицы. Ученику предоставляется право выбрать ту рожицу, которая соответствует чаще всего его настроению при изучении этого предмета,   и подчеркнуть ее на листочке бумаги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имер, Математика - ©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культура - ©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т.д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ка позволяет увидеть отношение к учению в целом и к изучению отдельных предметов. Это дает возможность классному руководителю использовать ее в работе с учителями, преподающими в классе, а также скорректировать свое взаимодействие с отдельными учениками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гностическая методика № 2. "Остров невезения"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чале процедуры педагог объясняет учащимся следующее: "Получена радиограмма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S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острова Невезения. Люди, живущие на этом острове, страшно невезучие. Детям не везет в учении, взрослым - в работе. У нас с вами есть возможность помочь детям. На лист бумаги, который лежит перед вами, необходимо написать предметы, которые мешают детям жить весело и счастливо. Эти предметы вы определяете сами. Классному руководителю интересно выяснить не только какие предметы попадут в список, но и будут ли среди этих предметов школьные предметы. Такая методика позволяет определить мотивационную ценность учения для ученика, а также выявить, что является приоритетным, по его мнению, в соз­дании благоприятной обстановки вокруг него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гностическая методика № 3. "Школа будущего"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мся предлагается определить, что должно быть в школе будущего из школы сегодняшнего дня и чего быть не должно. Для этого ребятам раздаются листы бумаги, на которых они пишут под знаком (+), что должно быть под знаком (-) то, чего быть не должно. Если учащиеся относят к знаку (-) учителя, урок, то это говорит о том, что эти понятия вызывают у ученика тревожность, что не способствует формированию положительной учебной мотивации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3"/>
          <p:cNvSpPr/>
          <p:nvPr/>
        </p:nvSpPr>
        <p:spPr>
          <a:xfrm>
            <a:off x="476280" y="333360"/>
            <a:ext cx="8286840" cy="64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гностическая методика № 4. "Волшебник"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мся предлагается поиграть в волшебников. Каждый из них получает волшебную палочку (палочку от мороженого) и превращает школьные предметы в различных животных (по своему усмотрению). Школьные учебники раскладываются на столе, ученик подходит к столу, касается волшебной палочкой и учебник превращается в кого? Учащиеся должны объяснить, почему они превращают учебник именно в это животное. Данная методика дает возможность выразить свое эмоциональное переживание, связанное с изучением каждого учебного предмета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гностическая методика № 5. "Дом, в котором я живу"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мся класса предлагается построить на листике бумаги  поэтажный дом и заселить его значимыми для них людьми. Это могут быть и одноклассники и друзья, и родители, и родственники. Данная диагностика помогает изучить привязанность учащихся друг к  другу , к родным и близким людям, к своим товарищам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гностическая методика № 6. "Социометрия"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мся класса предлагается ответить на три вопроса, которые записываются на доске или на листке бумаги. Учащиеся долж­ны назвать три фамилии своих одноклассников при ответе на каждый вопрос. Вопросы могут быть следующими: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ты не знаешь, что тебе задано на дом, к кому из ребят класса ты можешь обратиться за разъяснением домашнего задания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ты занимаешься в кружке, в котором тебе очень интересно заниматься, кого из ребят класса ты хотел бы видеть рядом с собой?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ь себе, что у тебя есть право сформировать команду космического корабля, отправляющегося на Марс. Подумай, кто из ребят класса мог бы быть  с тобой рядом в корабле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09:11:10Z</dcterms:created>
  <dc:creator>R1</dc:creator>
  <dc:description/>
  <dc:language>en-US</dc:language>
  <cp:lastModifiedBy>R1</cp:lastModifiedBy>
  <dcterms:modified xsi:type="dcterms:W3CDTF">2015-02-01T09:15:07Z</dcterms:modified>
  <cp:revision>1</cp:revision>
  <dc:subject/>
  <dc:title>Как проверить уровень воспитанности учащихся.</dc:title>
</cp:coreProperties>
</file>