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42A-7BA1-4D14-B901-42B107CD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187-B132-401C-A6B4-D6D396CD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85A-3859-4915-A776-BA809D74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AA8-3B2F-41FA-A137-5E640BFC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6ACF2-2431-48AC-BACB-0DCC5BC3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87090-84AB-47E6-8B77-6144EC66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27A0B-3289-4BB2-94C1-EC2CDAC9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662CB-60E2-486D-B3B3-F8612B3A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B8DDA-4545-4929-9A22-94EC4FD1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D0BA2-8E6C-46CB-9D54-FD6F038C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69CE7-0813-4BB3-AC55-B5CF6D8C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19E-6AFC-4604-9558-ED401481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ADCC2-0A3F-4C09-9A07-6B1CE2F2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FAA69-28F3-4D7E-B13E-D1673DD4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EE3E5-01BD-4634-AAF6-2000C1B0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C16AD-FC26-43B0-B4BF-8D2627D0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422DD-1F0E-491C-BCA0-D2A107BA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EA26F-CFF7-4C21-8D7D-87E93D1B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FD129-FF57-4C85-AE90-CAA80079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759BE-305D-4D3B-9B46-34CBF65A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9C2EB-C5C6-4E68-AE71-5B5B16EF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91D61-78A8-4A6E-85C2-FA4D3A6A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C71-8A77-4A96-91A1-B0A9C001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BCE7A-AC1B-412A-A0F8-9FE8BDA2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D9697-A023-468D-A6EE-9AD1338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44557-9312-4120-9A9C-7AE4EFD9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1DF55-269B-4411-A2B1-83BA1CB9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18994-C9F1-49CC-A807-3FBC8C41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E1416-8DCB-4D73-8FCF-D02F834D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0895B-CC76-4EB9-8CFA-4A2F458E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5078C8-3B73-43C2-BDCF-967CEAE4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B578D-0D6E-444C-AAB1-C806B736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92D06-8415-4597-9DDA-FB9B923E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7B1-6C78-4ACF-977A-91E1C1F4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4B00FE-D315-4CB5-AF72-A0FA6E46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0A5FC-17FA-4447-94BF-89882B9B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8D4578-FC82-49BF-BC4F-70C87E33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CAD88-04ED-4F5B-B484-485CA3AE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C5EDF-72EE-4174-9D03-AEC815E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FF115-ACE0-4F1F-8586-C9D4900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1AC89-29B4-43BC-9BD0-7C524E11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74199-AC23-42B9-9AA0-5DC54967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BB807-E9FA-4CC4-885C-D00F0123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F5333-B36D-46D3-8251-BC5F4312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60A-8302-4305-9C6C-63DE774D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82C95-876E-4FA8-8E0E-4C0A2562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34961-E966-4AD9-BF83-7DE5ECE9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2C558-3B47-4206-8F90-709C66DB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7B6E5-2EB3-4B9D-A738-ED019112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A1426-4C0F-485A-B67A-3233A66A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58194-D841-404A-9D33-6344F11E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31D8A-3FEE-49E7-932E-6851D2B5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4B3F2-B45C-4787-93E9-39483324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A5546-8360-4327-8A42-4880EDF8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1A40B-FCA3-4B9C-AEB0-1E103298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631-988B-442B-85D4-68B65918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CF2A9-13C1-470E-8E3B-4BFD08E9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12CEC-EFA3-41CD-900C-C9C8D70B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7D92F-298D-4400-90A7-DA228F9E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E5891-5D7A-4A43-88A0-1069A11D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7A281-4D5D-4A7F-BE35-95234659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166D5-84A6-4677-B2E2-26E9FC84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E5F14B-08E5-4D4A-9385-C9F1C2C8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65E31-AA9F-4E1B-85D3-5E1F879D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3E1FC-B006-45FE-91CA-50A6A107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C63C11-A1BB-4AF6-91B7-669A13F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D6B-F4CF-44C3-BDA6-527C09A5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63BD0-90EF-4C94-94CF-0BD7F484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85C73-3DC3-4278-9E0E-75C95469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5D040-239E-46D5-9536-FC4AED60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0EE-9F86-471E-91C9-F92C08CD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428-FD90-497C-8074-5C6D9D08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29A4-596F-40DD-A040-7DEF17AA9AC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2398-5E3A-4F61-A26E-01DF456B970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F941-2BCA-4DBB-928A-7965EDFAF4E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F923-EAD8-4C70-B346-17F05AF3E92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412-A29D-4D05-921A-2AB7C4B8074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404A-82F3-4EBD-86FA-D11DBA44993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566640" y="334800"/>
            <a:ext cx="7729560" cy="23846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2626920" y="3428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Казацкой Л. В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3"/>
          <p:cNvSpPr/>
          <p:nvPr/>
        </p:nvSpPr>
        <p:spPr>
          <a:xfrm>
            <a:off x="279360" y="115920"/>
            <a:ext cx="88581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1. "Настроение"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предлагается список учебных предметов, которые они изучают во втором классе. Рядом с каждым предметом изображены три рожицы. Ученику предоставляется право выбрать ту рожицу, которая соответствует чаще всего его настроению при изучении этого предмета,   и подчеркнуть ее на листочке бумаги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имер, Математика - ©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культура - ©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позволяет увидеть отношение к учению в целом и к изучению отдельных предметов. Это дает возможность классному руководителю использовать ее в работе с учителями, преподающими в классе, а также скорректировать свое взаимодействие с отдельными учениками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2. "Остров невезения"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але процедуры педагог объясняет учащимся следующее: "Получена радиограмма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S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острова Невезения. Люди, живущие на этом острове, страшно невезучие. Детям не везет в учении, взрослым - в работе. У нас с вами есть возможность помочь детям. На лист бумаги, который лежит перед вами, необходимо написать предметы, которые мешают детям жить весело и счастливо. Эти предметы вы определяете сами. Классному руководителю интересно выяснить не только какие предметы попадут в список, но и будут ли среди этих предметов школьные предметы. Такая методика позволяет определить мотивационную ценность учения для ученика, а также выявить, что является приоритетным, по его мнению, в соз­дании благоприятной обстановки вокруг него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3. "Школа будущего"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предлагается определить, что должно быть в школе будущего из школы сегодняшнего дня и чего быть не должно. Для этого ребятам раздаются листы бумаги, на которых они пишут под знаком (+), что должно быть под знаком (-) то, чего быть не должно. Если учащиеся относят к знаку (-) учителя, урок, то это говорит о том, что эти понятия вызывают у ученика тревожность, что не способствует формированию положительной учебной мотивации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3"/>
          <p:cNvSpPr/>
          <p:nvPr/>
        </p:nvSpPr>
        <p:spPr>
          <a:xfrm>
            <a:off x="476280" y="333360"/>
            <a:ext cx="828684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4. "Волшебник"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предлагается поиграть в волшебников. Каждый из них получает волшебную палочку (палочку от мороженого) и превращает школьные предметы в различных животных (по своему усмотрению). Школьные учебники раскладываются на столе, ученик подходит к столу, касается волшебной палочкой и учебник превращается в кого? Учащиеся должны объяснить, почему они превращают учебник именно в это животное. Данная методика дает возможность выразить свое эмоциональное переживание, связанное с изучением каждого учебного предмета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5. "Дом, в котором я живу"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класса предлагается построить на листике бумаги  поэтажный дом и заселить его значимыми для них людьми. Это могут быть и одноклассники и друзья, и родители, и родственники. Данная диагностика помогает изучить привязанность учащихся друг к  другу , к родным и близким людям, к своим товарища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гностическая методика № 6. "Социометрия"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класса предлагается ответить на три вопроса, которые записываются на доске или на листке бумаги. Учащиеся долж­ны назвать три фамилии своих одноклассников при ответе на каждый вопрос. Вопросы могут быть следующим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ы не знаешь, что тебе задано на дом, к кому из ребят класса ты можешь обратиться за разъяснением домашнего задания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ы занимаешься в кружке, в котором тебе очень интересно заниматься, кого из ребят класса ты хотел бы видеть рядом с собой?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ь себе, что у тебя есть право сформировать команду космического корабля, отправляющегося на Марс. Подумай, кто из ребят класса мог бы быть  с тобой рядом в корабле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09:11:10Z</dcterms:created>
  <dc:creator>R1</dc:creator>
  <dc:description/>
  <dc:language>en-US</dc:language>
  <cp:lastModifiedBy>R1</cp:lastModifiedBy>
  <dcterms:modified xsi:type="dcterms:W3CDTF">2015-02-01T09:15:07Z</dcterms:modified>
  <cp:revision>1</cp:revision>
  <dc:subject/>
  <dc:title>Как проверить уровень воспитанности учащихся.</dc:title>
</cp:coreProperties>
</file>