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BAB3-9F9C-474F-9D01-54D6EE6E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CFFC-424F-4898-8B98-5B2DB302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F66-34E1-41DA-A798-448CD896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1545-AF7A-41E8-8796-D6A56A12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2AF5-450A-43ED-97C7-8F9D5782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9700-A1B2-4243-8164-A72D8729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517C-E70D-4875-9992-D768B198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5047-5018-4E4D-8D33-08B781EB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9176-A1BD-46A9-90E4-6126D3C8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A049-E031-4700-8D1C-B4CFDFCE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2CB2-E63E-47F4-9FD6-E85C74A4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81A2-18AB-4164-9BAE-5B19BC8A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EC4A-E2EF-44E6-BCF8-71475F97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BC68-267B-47A2-AED3-DF892B1A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A9DB-AE19-4B6A-A8E3-768373AF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020C-FF3E-406A-8DB6-50A888DD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E540-E803-4095-9F24-107AE0D3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E5F-B24C-40CF-B258-D177DA6E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D54A-0576-4F9D-950F-A7D28370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B013-04AE-411F-A04F-52ECE6F6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5E2D-605E-4CB4-855E-FC92D3C6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9DF-93B4-404F-8C0D-324D5C0F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3628-3998-40CC-BB82-1295B7A5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9186-FE96-414E-96E1-5B517DF0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6EC9-3862-4DD6-AD49-4FE4426732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6A02-238E-49ED-91E3-A1FA11E223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0" spc="-1" strike="noStrike">
                <a:solidFill>
                  <a:srgbClr val="f00000"/>
                </a:solidFill>
                <a:latin typeface="Times New Roman"/>
              </a:rPr>
              <a:t>Картинная галерея</a:t>
            </a:r>
            <a:endParaRPr b="1" lang="en-US" sz="1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 advTm="5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И. Левитан «Золотая осень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434000" cy="4924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И.Шишкин «Осень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08000" y="115920"/>
            <a:ext cx="5688360" cy="56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Г.Мясоедов «Осенний пейзаж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85080" cy="602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В.Поленов «Золотая осень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5472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И.Шишкин «Зим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7:32:18Z</dcterms:created>
  <dc:creator>Марина</dc:creator>
  <dc:description/>
  <dc:language>en-US</dc:language>
  <cp:lastModifiedBy>Марина</cp:lastModifiedBy>
  <dcterms:modified xsi:type="dcterms:W3CDTF">2010-11-02T18:25:29Z</dcterms:modified>
  <cp:revision>3</cp:revision>
  <dc:subject/>
  <dc:title>Картинная галерея</dc:title>
</cp:coreProperties>
</file>