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740-9613-4AB5-85BC-DB57D110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624-F7B5-425D-BA74-A283DA49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722-5200-4CA5-933B-7F4AABE7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801-40C3-4441-8710-519A666C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D013-22D0-46E7-9B45-A691DB7C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2F1-4996-43D4-A46C-276B1970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1D8A-DF9E-4269-BE6C-F5E939C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043A-76F8-42EE-B8B7-4BED3B6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B878-94FF-4190-A5A1-E78533F9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977E-9C3D-4D18-A3B4-816BF87A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BBD0-074D-4122-8F02-93E76FE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18E-D259-4EC0-81B7-EB1DB76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7277-AA87-4F99-B062-73CD8FE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959D-6847-4BA0-A661-5D5EAE78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CD27-2FE9-405D-B8A3-198931D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EC5-5F1E-4964-87F7-22867D83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315-A102-401E-9A9D-54092E51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AD2-79CA-47A6-ABE3-8E7F39B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BE1-CEC0-4ED4-9176-09439594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9DF-3BD1-4CEB-8321-3945A02C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C55-3A56-4561-AFD5-BCB9853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D99-113C-427A-A7DD-AAF8D8E6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160-B06A-4D5F-8852-A42036C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094-FE4D-4204-A239-AA3E715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709B-5890-4DDE-9374-CFEE77FB3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586C-C6A8-498B-BF53-2176B16B1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f00000"/>
                </a:solidFill>
                <a:latin typeface="Times New Roman"/>
              </a:rPr>
              <a:t>Картинная галерея</a:t>
            </a:r>
            <a:endParaRPr b="1" lang="en-US" sz="1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И. Левитан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34000" cy="492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И.Шишкин «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68836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Г.Мясоедов «Осенний пейзаж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8508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В.Поленов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4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И.Шишкин «Зим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7:32:18Z</dcterms:created>
  <dc:creator>Марина</dc:creator>
  <dc:description/>
  <dc:language>en-US</dc:language>
  <cp:lastModifiedBy>Марина</cp:lastModifiedBy>
  <dcterms:modified xsi:type="dcterms:W3CDTF">2010-11-02T18:25:29Z</dcterms:modified>
  <cp:revision>3</cp:revision>
  <dc:subject/>
  <dc:title>Картинная галерея</dc:title>
</cp:coreProperties>
</file>