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1355-0346-41D9-8F60-7F1B8925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5160-4221-4059-89A9-23E294C0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80CDC-D6AA-4B93-96B2-04536B71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825F0-F5F3-4870-B9FC-6C957783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2EC5D-F04E-4EE1-A9C2-D36924A7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69780-60B6-4B84-8397-EBF6046B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2FDD4-99B2-4F68-B844-69538ADD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EA2F1-55AE-431D-976E-9D1A1B05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50915-6E23-44D3-BBCD-96CD2234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77878-E1CB-4271-9813-4E64E628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2BF6B-9C68-48B6-BDCD-D25396224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0DCEC-E181-42BD-8D68-8C165C1BD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3070-AA5A-42E3-9249-52C882AC2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1900B-D9B5-4C87-B240-6BEF873B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4BCBE-13D9-42A4-AB99-381C38A7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AF07E-41FD-4E1F-98DD-1E0396E1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F9846-8A42-48BF-962D-6F166122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AF330-EF26-415B-B425-86911F33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6F7D3-3BAB-4964-A8F9-0DDCBFA8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8EFA2-F0EE-45A0-8825-DE11A782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03817-910F-48AF-9DEB-CB148AF8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07D616-C54C-4611-B4D6-45A66E31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6668F-4156-4AD0-8DF9-CEF7AFF3C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B18A-0017-4ECE-8F78-0AF0BEFA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9B7EC-AED2-4071-9CC9-5AA88E41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37388-2995-48E8-8A95-69B3E40C1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8E644-CDD3-4832-B822-45639037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380DC-A6E5-4420-9A5E-B8BA8D93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55D42-55D0-45D5-A86E-06556250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31B48-DC46-476E-8A64-E38F41CC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85289-8A68-4097-916D-CE79E2E0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50C35-EF74-461D-AACF-980D7C2F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71B12-2A49-4A17-8339-77F41EB3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EEB36-7959-4847-B9FA-75FBA3A7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955C-DF8F-458D-8B5B-F94FF9BC5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BA462-458C-4169-810B-0D803A83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6401A-7320-48DB-8AD9-103A7FCB7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DB008-380F-4B5F-95CA-30D246175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1B7F8-D5B5-41FC-B112-75914167B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F14024-DAAF-4F4A-A67E-33E65A14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9AC77B-E2E9-434F-81D0-85BF6EC6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8989D-9A18-47E1-BD2D-A314F101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699CC-689F-47E4-8B35-11277A32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08647-322E-4C85-B6F1-31E3E3FC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782FD-A085-4056-A3AC-7746A9A6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058C-4F56-4717-9AC3-3ADACD65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93893-FBD5-4BC9-932B-292A6EF1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90A65-74CD-452D-9D2A-C185430E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D5AEC-EAA7-4F27-AF62-1C698DBC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FD4A2E-0CDC-4119-BF69-5BDF820FD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4B4CE-FC0F-4BE0-A523-7B5D49DD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CF6B1F-651F-4686-8612-37D858DF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B3603D-3087-4AB9-95FD-AC580329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F93467-CC13-462A-980A-E71D4267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117C21-FEAD-48B1-8BC7-DFE8ECE3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20C8DC-86CB-47C6-B459-72C8F022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1457-2567-4899-8F05-55B4A3E5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842EF4-2D72-42E1-8F1D-B4F1A1D7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97FF82-702B-4ACA-9078-FE400F34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801764-7202-46A3-8BBC-8B5ED246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4292F7-2BFE-41B1-8489-3B9270FD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FFAD83-999E-439F-8EFE-18C3E9B6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AF2237-3351-4CAE-BAE1-127884DC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CFB6A4-ADD8-4BC4-9385-294EFC3F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18C9-FF4A-4C76-9E67-DE846F2A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BDCC-979C-4214-AB4C-F08D555A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366D-7D12-4CB8-954A-8BA2AEA9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F80E-B6D5-4C12-9A10-C86DA7C0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05DF-637F-4693-BE48-5A5A9856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D6D7-0C18-420D-A40B-E575BA6A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D118-0F41-48EC-BDB0-6E8B356F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9B7E-5CD6-4861-AA54-C29ED48D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CDDB-C841-47DF-A8ED-6C6A3E9C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B459-EFB3-4CB5-A2BD-3A994049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33E40-1648-4273-A994-694A12FA5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BA5B4-843B-4B65-84E6-450E57B2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CAEA8-8F92-4EFB-A487-4B0E995C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8F3A4-879F-45AE-B5C5-AC05D1A7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E573A-4367-4105-9183-353FB29B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1A14-547E-4D9A-B1C9-74C9CE65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0D930-F305-4558-8D14-58E840C4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F5B26-8EF4-4B29-AD11-055EB033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DC6D9-2103-4446-A729-8CB8F924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B2A81-B86F-456F-874A-929200C9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F00EB-822C-43C6-AB3B-B8FC6203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FF732-F894-40F0-B4B3-A568B8D38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6A2E7-F313-455F-9757-DA2B969A4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104AE-0905-4A4C-AA76-F68956E76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B5B7E-4AE8-46E3-BD49-75AA94F6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DEB4F-C237-41D6-91E5-0FE8F42A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B290-5314-4F92-9B98-109C8AD3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9521D-CB43-4E8A-9BCC-99D17CE8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FE7C5-A0F5-4FAB-8F0A-6DD04D5C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61A0B-8AB5-42D9-A925-74E2A1CD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3E4E0-8A05-4A85-99B9-FFBF2038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83FEE-943F-4CDF-AE8E-3D9E21BC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4BAC8-503C-4528-93C6-7D64B132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1AB0B-5A3C-4FFE-BBCC-D421C813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9D3D4-72C4-49A1-BB12-42DFD0F0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1E08B-E92E-47CC-B412-91FCD2DDC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0A2E0-6C17-4E2E-A0B9-9BB79538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7278-2464-49E4-8CF3-2C0BC5D6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5BC30-CC1B-4B7A-8257-1B1937C4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6A481-E92D-47DE-B244-A5839B7B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D5210-DAD2-49FB-AE50-617CF2FC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4161D-2A05-40C7-B52A-B49350F2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1591D-D9CD-48E7-9CE4-35324D9E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99DB2-1806-4E82-872E-A5FC9CAD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8ED61-8519-4F46-97E6-E7B168A6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8EE3E-CC93-414F-91F0-0C5FAEC1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6208D-7177-4F9B-90E5-080E97F5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4D81A-D2F3-43AA-B3DF-71442855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8648-49DD-424D-A9B3-33D58466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647A4-D0CB-4173-98C1-61972C08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807C1-C280-4353-880B-89C385C3C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1E5B3-C0C0-4D4F-9021-89C07B0F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CB219-D3F9-4C91-941A-F0946BB9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1401E-953D-40F4-AD5F-E7C17F45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EBD71-AB5B-4F0F-9276-975BF2D2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66282-5428-4F7E-B1FD-581A4B19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E83A0-95B0-456D-8F98-A3346188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E1142-055D-41A7-8694-3D05E791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2BE6A-EFFA-4C86-9E74-64CC4230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B6F6-AA08-459C-B712-DD7E32C6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4C5DF-B385-40D1-A934-52A5C773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424E9-2479-466C-95AC-E338567D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7969C-628B-474A-87C8-9008B6CF0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57422-C6C0-4904-B1C3-333DB470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527F8-8B9F-490E-A541-FC3C83CB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A7240-AC4D-4E0F-99E3-08683495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5492F-978C-4743-B31F-A5648716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453FE-E301-4267-80F7-94ABA1B2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FD4A9-E0A5-4771-968E-D4488D68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F8C34-3E43-495D-BD7A-F5EC30BB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0697-F555-468E-94E8-16D95F89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8B05E-7B62-45CC-8975-6D8B9A23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74F8A-12C0-4E72-B505-119306DA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E70F2-3437-4D7A-ADFD-7784E3CF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27BBD-F649-4E79-B344-0857E5690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E6F38-6900-480E-9ED9-9F4D21EBA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5A960-CB36-477F-93FE-2F3FABCBF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2A2CD-13AB-4849-8B1D-B27C4F36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6A57F-A451-4594-98C5-C478F3A0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8E011-6E94-4A9D-A11C-9F68F076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C7549-2A2F-4210-B5C8-1E77B8FA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8405-CED3-4655-97F7-601CCC08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9FA25-BF6B-4478-98A0-6C307B6D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A8852-DCB7-4118-B97C-FBAF3F93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2BCDD-BD46-48AC-B9B5-688D489B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AA366-0FC4-4F1A-803E-0C59D2AE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D6846-60DA-4C63-9CAB-B7BABE5F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B5874-EF95-4256-A15B-5890062F5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B54C9-36DB-4649-9E67-188D85AE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F80EB-EE24-4164-8D51-81B1124A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5D10E-E051-40A0-95D1-19F40129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7FC155-EF6E-450F-BBA9-8BB00B97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FEE9-B529-4FDD-B6FA-F45346DB2C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D4D7-F8D7-4374-9D6B-186D7072A8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3CD4-F0EA-454C-91FB-F0D208DC41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94F9-96F0-4883-A70C-1924911FA3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4990-7AD2-4E86-B529-C6D17321F4F7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40E3-20FE-44EC-B35A-74C4CD7B31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D0D0-C703-41F2-B535-CC182DD881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A93F-2B4C-4F44-8126-28654FAF8E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1BA9-74F0-4CB9-89C0-F8543F239E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1E95-89D9-4AA0-87BA-11FB59C4F4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B692-665F-4070-A4C0-0EEABDE61B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BB56-A2C5-441B-A7FD-E8A0A456AA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573B-48AC-4187-834B-28E1C29A0A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ostavka.privatesales.ru/shop/Hand_Tools/Wood/" TargetMode="External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989840" cy="288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Arial"/>
              </a:rPr>
              <a:t>ТВОРЧЕСКИЙ ПРОЕКТ ПО ТЕХНОЛОГИИ</a:t>
            </a:r>
            <a:br>
              <a:rPr sz="3200"/>
            </a:br>
            <a:r>
              <a:rPr b="1" lang="ru-RU" sz="5100" spc="-1" strike="noStrike">
                <a:solidFill>
                  <a:srgbClr val="ffffcc"/>
                </a:solidFill>
                <a:latin typeface="Arial"/>
              </a:rPr>
              <a:t>«</a:t>
            </a:r>
            <a:r>
              <a:rPr b="1" lang="ru-RU" sz="5100" spc="-1" strike="noStrike">
                <a:solidFill>
                  <a:srgbClr val="99ff66"/>
                </a:solidFill>
                <a:latin typeface="Arial"/>
              </a:rPr>
              <a:t>ИЗГОТОВЛЕНИЕ КОНФЕТНИЦЫ</a:t>
            </a:r>
            <a:r>
              <a:rPr b="1" lang="ru-RU" sz="5100" spc="-1" strike="noStrike">
                <a:solidFill>
                  <a:srgbClr val="ffffcc"/>
                </a:solidFill>
                <a:latin typeface="Arial"/>
              </a:rPr>
              <a:t>»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371240" y="4653000"/>
            <a:ext cx="72327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Выполнил: Бельский Сергей ученик 11 кл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Учитель технологии  Михайлова Н В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324000" y="0"/>
            <a:ext cx="8640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3813120" y="62881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Таксимо, 2013 </a:t>
            </a:r>
            <a:endParaRPr b="1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хнический рисунок конфетниц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84" name="Picture 4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5187960" cy="35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хнологическая карта для изготовления конфетниц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457200" y="1989000"/>
          <a:ext cx="8229600" cy="4141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ыбрать </a:t>
                      </a: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фанеру </a:t>
                      </a: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толщиной 5-</a:t>
                      </a: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мм</a:t>
                      </a:r>
                      <a:endParaRPr b="1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Линейка, карандаш</a:t>
                      </a:r>
                      <a:endParaRPr b="1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7" name="Picture 18" descr="DSC02609"/>
          <p:cNvPicPr/>
          <p:nvPr/>
        </p:nvPicPr>
        <p:blipFill>
          <a:blip r:embed="rId1"/>
          <a:stretch/>
        </p:blipFill>
        <p:spPr>
          <a:xfrm>
            <a:off x="2876400" y="3284640"/>
            <a:ext cx="3240360" cy="24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8" name=""/>
          <p:cNvGraphicFramePr/>
          <p:nvPr/>
        </p:nvGraphicFramePr>
        <p:xfrm>
          <a:off x="468360" y="620640"/>
          <a:ext cx="8424720" cy="4818240"/>
        </p:xfrm>
        <a:graphic>
          <a:graphicData uri="http://schemas.openxmlformats.org/drawingml/2006/table">
            <a:tbl>
              <a:tblPr/>
              <a:tblGrid>
                <a:gridCol w="2495520"/>
                <a:gridCol w="2965320"/>
                <a:gridCol w="2963880"/>
              </a:tblGrid>
              <a:tr h="481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Разметить контур изделия</a:t>
                      </a:r>
                      <a:endParaRPr b="1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Карандаш, линейка</a:t>
                      </a:r>
                      <a:endParaRPr b="1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9" name="Picture 15" descr="DSC02608"/>
          <p:cNvPicPr/>
          <p:nvPr/>
        </p:nvPicPr>
        <p:blipFill>
          <a:blip r:embed="rId1"/>
          <a:stretch/>
        </p:blipFill>
        <p:spPr>
          <a:xfrm>
            <a:off x="2865600" y="1700280"/>
            <a:ext cx="3649680" cy="30240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5" descr="DSC02608"/>
          <p:cNvPicPr/>
          <p:nvPr/>
        </p:nvPicPr>
        <p:blipFill>
          <a:blip r:embed="rId2"/>
          <a:stretch/>
        </p:blipFill>
        <p:spPr>
          <a:xfrm>
            <a:off x="2843280" y="1700280"/>
            <a:ext cx="364968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1" name=""/>
          <p:cNvGraphicFramePr/>
          <p:nvPr/>
        </p:nvGraphicFramePr>
        <p:xfrm>
          <a:off x="324000" y="0"/>
          <a:ext cx="8640720" cy="6130800"/>
        </p:xfrm>
        <a:graphic>
          <a:graphicData uri="http://schemas.openxmlformats.org/drawingml/2006/table">
            <a:tbl>
              <a:tblPr/>
              <a:tblGrid>
                <a:gridCol w="2879640"/>
                <a:gridCol w="2881080"/>
                <a:gridCol w="2880000"/>
              </a:tblGrid>
              <a:tr h="613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ыпилить контур изделия</a:t>
                      </a:r>
                      <a:endParaRPr b="1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ыжигательный прибор</a:t>
                      </a: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1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2" name="Picture 13" descr="DSC02613"/>
          <p:cNvPicPr/>
          <p:nvPr/>
        </p:nvPicPr>
        <p:blipFill>
          <a:blip r:embed="rId1"/>
          <a:stretch/>
        </p:blipFill>
        <p:spPr>
          <a:xfrm>
            <a:off x="611280" y="1700280"/>
            <a:ext cx="4824360" cy="22939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2" descr="DSC02612"/>
          <p:cNvPicPr/>
          <p:nvPr/>
        </p:nvPicPr>
        <p:blipFill>
          <a:blip r:embed="rId2"/>
          <a:stretch/>
        </p:blipFill>
        <p:spPr>
          <a:xfrm>
            <a:off x="4932360" y="1484280"/>
            <a:ext cx="3098880" cy="41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" name=""/>
          <p:cNvGraphicFramePr/>
          <p:nvPr/>
        </p:nvGraphicFramePr>
        <p:xfrm>
          <a:off x="457200" y="476280"/>
          <a:ext cx="8229600" cy="56545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6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борка изделия</a:t>
                      </a:r>
                      <a:endParaRPr b="1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Лак кисть</a:t>
                      </a:r>
                      <a:endParaRPr b="1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5" name="Picture 8" descr="DSC02614"/>
          <p:cNvPicPr/>
          <p:nvPr/>
        </p:nvPicPr>
        <p:blipFill>
          <a:blip r:embed="rId1"/>
          <a:stretch/>
        </p:blipFill>
        <p:spPr>
          <a:xfrm>
            <a:off x="1042920" y="1628640"/>
            <a:ext cx="3657600" cy="417672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9" descr="DSC02615"/>
          <p:cNvPicPr/>
          <p:nvPr/>
        </p:nvPicPr>
        <p:blipFill>
          <a:blip r:embed="rId2"/>
          <a:stretch/>
        </p:blipFill>
        <p:spPr>
          <a:xfrm>
            <a:off x="5003640" y="2276640"/>
            <a:ext cx="3384720" cy="24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5. Достоинства и недостатки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Verdana"/>
              </a:rPr>
              <a:t>Достоинства данного проекта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9933"/>
                </a:solidFill>
                <a:latin typeface="Verdana"/>
              </a:rPr>
              <a:t>- во первых, необходимая вещь на кухне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9933"/>
                </a:solidFill>
                <a:latin typeface="Verdana"/>
              </a:rPr>
              <a:t>- во вторых, универсальна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9933"/>
                </a:solidFill>
                <a:latin typeface="Verdana"/>
              </a:rPr>
              <a:t>- в третьих, легка в изготовлении,   экономичн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Verdana"/>
              </a:rPr>
              <a:t>Недостатки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9933"/>
                </a:solidFill>
                <a:latin typeface="Verdana"/>
              </a:rPr>
              <a:t>-отсутствие нихром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2700"/>
                            </p:stCondLst>
                            <p:childTnLst>
                              <p:par>
                                <p:cTn id="2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28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800"/>
                            </p:stCondLst>
                            <p:childTnLst>
                              <p:par>
                                <p:cTn id="29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2800"/>
                            </p:stCondLst>
                            <p:childTnLst>
                              <p:par>
                                <p:cTn id="3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ывод по теме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наши дни, когда товар промышленного производства заполнили наш быт, я предлагаю сделать своими руками свой дом внеся элементы творчества и индивидуальности в окружающий нас мир. А главное – вы получите огромное удовольствие от вещи, сделанной вашим трудом в сочетании с оригинальной фантазие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Техника безопасности при выжигани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422e"/>
                </a:solidFill>
                <a:latin typeface="Verdana"/>
              </a:rPr>
              <a:t>1.Включать выжигательный аппарат можно только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422e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2f422e"/>
                </a:solidFill>
                <a:latin typeface="Verdana"/>
              </a:rPr>
              <a:t>с разрешения учителя;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422e"/>
                </a:solidFill>
                <a:latin typeface="Verdana"/>
              </a:rPr>
              <a:t>2.Перед работой проверить исправность аппарата (подача напряжения,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422e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2f422e"/>
                </a:solidFill>
                <a:latin typeface="Verdana"/>
              </a:rPr>
              <a:t>состояние провода, регуляция накала иглы, крепление иглы);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422e"/>
                </a:solidFill>
                <a:latin typeface="Verdana"/>
              </a:rPr>
              <a:t>3.Не оставлять аппарат включенным без присмотра,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422e"/>
                </a:solidFill>
                <a:latin typeface="Verdana"/>
              </a:rPr>
              <a:t>работать с интервалом 5-10 минут;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422e"/>
                </a:solidFill>
                <a:latin typeface="Verdana"/>
              </a:rPr>
              <a:t>4. При работе нельзя низко наклоняться над работой из за едкого дыма, образующегося в процессе обугливания древесины;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422e"/>
                </a:solidFill>
                <a:latin typeface="Verdana"/>
              </a:rPr>
              <a:t>5. В конце линии перо не задерживать, а резко отрывать от поверхности, во избежание возгорания древесины;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422e"/>
                </a:solidFill>
                <a:latin typeface="Verdana"/>
              </a:rPr>
              <a:t>6. Беречь руки и одежду от прикосновения раскаленного пера;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422e"/>
                </a:solidFill>
                <a:latin typeface="Verdana"/>
              </a:rPr>
              <a:t>                          </a:t>
            </a:r>
            <a:r>
              <a:rPr b="0" lang="ru-RU" sz="1600" spc="-1" strike="noStrike">
                <a:solidFill>
                  <a:srgbClr val="2f422e"/>
                </a:solidFill>
                <a:latin typeface="Verdana"/>
              </a:rPr>
              <a:t>7.По окончании работы аппарат выключить из сети, 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422e"/>
                </a:solidFill>
                <a:latin typeface="Verdana"/>
              </a:rPr>
              <a:t>                          </a:t>
            </a:r>
            <a:r>
              <a:rPr b="0" lang="ru-RU" sz="1600" spc="-1" strike="noStrike">
                <a:solidFill>
                  <a:srgbClr val="2f422e"/>
                </a:solidFill>
                <a:latin typeface="Verdana"/>
              </a:rPr>
              <a:t>помещение проветрить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спользуемая литерату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1. Бузкинов М., Потапов Г.,Искусство резьбы по дереву. -М.: Антиква, 1998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2. Мартенсон А. Начинаем мастерить из древесины. М.: Просвещение, 1979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3. Леонтьев Д.П. Сделай сам. – М.: Просвещение, 1985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4. Лебедева Е.И., Бургунова Е.М. Резьба по дереву.М.: Аделант, 2005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5. Абросимова А. Художественная резьба по дереву. М.: Высшая школа, 1989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РАЗДЕЛЫ ПРОЕКТ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1. Обоснование выбора данного проект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2. Историческая справка по тем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3. Факторы, которые следуют принять во внимани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4. Описание собственной работы над проекто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- разработка эскизов, шаблонов, ознакомление с литературо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- подготовка материалов, инструментов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- выполнение теоретической части проект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- выполнение практической части проект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- оформление проект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- защита проект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5. Достоинства и недостатки проект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6. Вывод по тем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7. Литератур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8. Техника безопасности при работ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9. Реклама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8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1. Обоснование выбора данного проект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99"/>
                </a:solidFill>
                <a:latin typeface="Verdana"/>
              </a:rPr>
              <a:t>В своем творческом проекте я решил изготовить конфетницу. Круглой формы с помощью выжигательного прибор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2. Историческая справка по теме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aeaea"/>
                </a:solidFill>
                <a:latin typeface="Verdana"/>
              </a:rPr>
              <a:t>Выжигание по дереву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 – искусство, пришедшее к нам из глубины веков. В той или иной форме выжигание по дереву можно встретить в культуре любого народа. Первые предметы быта, украшенные выжженным узором, датируются приблизительно 700 годом до нашей эры и обнаружены в Перу. 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В средние века в Европе выжигание стало уже не только формой народного творчества, но и действительно искусством. Им занимались многие знаменитые художники.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В старину для выжигания использовали специальные заточенные под определённый узор клейма или металлические стержни, которые накаляли докрасна. На деревянных панелях домов, балках, ставнях часто выжигали раскалённой кочергой или шпагой. 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В ХХ веке появились первые электрические приборы для выжигания. 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В наше время применяют многие способы выжигания: 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    пиротипию (горячее печатание),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         пирографию (горячее рисование), 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                 выжигание в горячем песке,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                     выжигание на открытом пламени,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                                выжигание кислотами, 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                                     трением на токарном станке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Verdana"/>
              </a:rPr>
              <a:t>Войти в этот мир может каждый, кому не безразлично красота и совершенства, кто хотел бы преумножить достижения в этом направлении, сделать прекраснее свою жизнь, жизнь своих близких, приятно удивить окружающих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3. Факторы, которые следует принять во внимание при изготовлении издел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7" name="Picture 5" descr="Безымянный"/>
          <p:cNvPicPr/>
          <p:nvPr/>
        </p:nvPicPr>
        <p:blipFill>
          <a:blip r:embed="rId1"/>
          <a:stretch/>
        </p:blipFill>
        <p:spPr>
          <a:xfrm>
            <a:off x="414360" y="1844640"/>
            <a:ext cx="8280360" cy="48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71380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ff9933"/>
                </a:solidFill>
                <a:latin typeface="Verdana"/>
              </a:rPr>
              <a:t>Универсальность</a:t>
            </a: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 моего проекта заключается в том, что ее можно использовать по прямому назначению, то есть как конфетницу, и как интерьер кухн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ff9933"/>
                </a:solidFill>
                <a:latin typeface="Verdana"/>
              </a:rPr>
              <a:t>Экономичность</a:t>
            </a: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 заключается в том, что все материалы для данного проекта можно найти в мастерской, среди отходов производства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ff9933"/>
                </a:solidFill>
                <a:latin typeface="Verdana"/>
              </a:rPr>
              <a:t>Конструктивность</a:t>
            </a: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 необходимо учитывать при изготовлении, она красивая, удобная и прочная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ff9933"/>
                </a:solidFill>
                <a:latin typeface="Verdana"/>
              </a:rPr>
              <a:t>Экологичность</a:t>
            </a:r>
            <a:r>
              <a:rPr b="0" lang="ru-RU" sz="24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заключается в том, что при изготовлении данного проекта использовался экологически чистый материал –фанер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ffff99"/>
                </a:solidFill>
                <a:latin typeface="Verdana"/>
              </a:rPr>
              <a:t>С </a:t>
            </a:r>
            <a:r>
              <a:rPr b="0" i="1" lang="ru-RU" sz="2400" spc="-1" strike="noStrike">
                <a:solidFill>
                  <a:srgbClr val="ff9933"/>
                </a:solidFill>
                <a:latin typeface="Verdana"/>
              </a:rPr>
              <a:t>эстетической</a:t>
            </a: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 точки зрения, здесь я использовал круглую форму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ff9933"/>
                </a:solidFill>
                <a:latin typeface="Verdana"/>
              </a:rPr>
              <a:t>Технология изготовления</a:t>
            </a: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 все операция делаются электроинструментам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23640" y="277920"/>
            <a:ext cx="8280360" cy="17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4. Описание собственной работы над проектом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Verdana"/>
              </a:rPr>
              <a:t>- разработка эскизов, шаблонов, ознакомление с литературо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Verdana"/>
              </a:rPr>
              <a:t>- подготовка материалов, инструментов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Verdana"/>
              </a:rPr>
              <a:t>- выполнение теоретической части проект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Verdana"/>
              </a:rPr>
              <a:t>- выполнение практической части проект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Verdana"/>
              </a:rPr>
              <a:t>- оформление проект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Verdana"/>
              </a:rPr>
              <a:t>- защита проект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Обоснования выбора эскиза конфетниц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9933"/>
                </a:solidFill>
                <a:latin typeface="Verdana"/>
              </a:rPr>
              <a:t>ИДЕЯ 1.  Обычная конфетница –продается в магазине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9933"/>
                </a:solidFill>
                <a:latin typeface="Verdana"/>
              </a:rPr>
              <a:t>ИДЕЯ 2. Конфетница из дерева – необходимая вещь для     любой хозяйк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9933"/>
                </a:solidFill>
                <a:latin typeface="Verdana"/>
              </a:rPr>
              <a:t>ИДЕЯ 3 Конфетница –сделанная своими руками украсит интерьер кухн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23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23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4:51:34Z</dcterms:created>
  <dc:creator>Customer</dc:creator>
  <dc:description/>
  <dc:language>en-US</dc:language>
  <cp:lastModifiedBy>Home</cp:lastModifiedBy>
  <dcterms:modified xsi:type="dcterms:W3CDTF">2015-02-10T18:49:48Z</dcterms:modified>
  <cp:revision>23</cp:revision>
  <dc:subject/>
  <dc:title>ТВОРЧЕСКИЙ ПРОЕКТ ПО ТЕХНОЛОГИИ «ИЗГОТОВЛЕНИЕ ДОСКИ ДЛЯ РАЗДЕЛКИ РЫБЫ»</dc:title>
</cp:coreProperties>
</file>