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8F0-03C8-4035-A82F-0B129E0A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0584-BDD8-49D9-914B-AED1D548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972B3-9ED1-4505-8DDA-324AE634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5BA36-E4F9-44D3-BCDF-9C9B1484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C1458-897F-49BA-B0C7-72D90DE6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12A40-4EEE-488B-97F1-D5E3162D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111F9-F54A-4D34-BB64-24975EDD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5A4BD-61A5-445C-9981-7E9DF00C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6165B-AB3B-4474-9004-09085F40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2A6DB-5C89-4A6C-9478-B61DC76E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EB98C-2B59-4EC5-AFE4-4E00DE71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A5954-64A7-414F-96AE-3038D20A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58A4-42AF-4D61-9078-52CA8305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89517-0B34-4490-899A-24B13EBA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0714A-F641-49B5-8BE0-E5B47125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4D834-9234-4411-BFE5-2E3EA575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D614A-A89B-4FD3-A57E-37A0D3C9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C954A-5416-48F7-8659-A8B993E8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4CB12-7BA2-4D0C-A41F-025B68BF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F4A5E-8E13-41AB-9CEE-3A50E793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1A37E-7822-4F9F-B9EE-52F16D7C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84A17-26AB-45FC-A2A7-650E3E14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1C762-679C-46FF-9B7F-97E1CBDC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EF0-DA16-404F-93F6-2A391752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A4DC8-3EC6-4C14-BDFD-249A66C7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6EC48-ACE7-4CDC-938D-CA7037A1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3EAF3-CFB3-4077-906F-ED3BE940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47083-9F84-451F-9717-8AFEC77E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DBD7D-BEAF-4592-9BE4-64EC8D48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DB2D0-8456-4544-8556-DC39ED1F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461E0-1A5E-43A7-AFEA-57A63ED9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F42FF-9203-445A-8AF5-D7D94A2E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CD2BB-D03E-4555-BD01-50B1480A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001A2-4481-4E2F-9A9E-53391529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EB34-8DDD-4118-9685-5D11BE61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85AC0-552A-48A7-969F-745657F8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21942-DA50-4AC1-828F-8A08CD5C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C3788-FDD1-4EE7-93F2-5315BB17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70BFC-7FBD-4B86-85E7-4A79F269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26ED6-079C-4050-9B2F-48F1D692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6D3EF-E145-402B-BC39-8F2437AA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6A23B-DBF5-4A1C-9DA7-F073FF93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81F60-831A-46DF-A7D3-5B6E449B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61B8D-67BA-41F7-AF59-60AC010B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3C29D-C9A9-4DC2-A719-30F232B3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BBC7-A2C3-4A17-A251-B2F08235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7A4F7-F141-4D01-B3EE-6E1AEF5D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29C8B-60EA-4776-9036-B420B7F7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BA547-D87C-43F6-8AF9-6DC1275B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037FE-785F-426C-BE41-1BAE0C75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263A1-70A2-45E8-982A-4955652E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12998F-E59E-4A7F-9D9C-92F5AF3E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4C8D7-6C0C-42EF-BF36-E3F07224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72BEC-DF0E-417A-A7F8-FB0A549D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6D803-7F1F-4E02-BC23-00719F36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609C5-3C01-41A6-B0E2-F0990E35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775F-8D6B-44C1-9A14-5FA5330A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9DA1BC-4925-4BCE-9101-307A923B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9D990-B659-46C4-8E74-C3C0CED3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72D29-4663-4A26-A368-D831A63B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2DCF5-4ABC-4775-A48A-402B89C1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AC197-3BF9-4E4A-A22D-8926589C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C0A90-70C9-41CB-9A04-0D8CCB9F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EEFEB-35AC-4D33-B232-69F19DBF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060F-8BA6-4BC9-9CD0-C19B7D9D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40FB-FB7B-4376-AF64-842BAFF2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AA4E-24E5-4B70-9556-22101B22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A002-7AF0-415E-A791-F7310817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9F7-E0D5-4DD7-829C-73FA5138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A8CB-DF54-4140-A631-486CE2B9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B7D7-44E4-4243-AE08-4EDF3356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BBCA-7ABB-4EB4-96E9-151D7C68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3F6B-5217-4EB2-A9EB-7C3259CE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4FEA-56AD-4948-AC9F-6BCB4C53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D3B4C-823B-43BD-A925-91872522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6E9D0-7800-4379-B8B0-044EDC88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1FC14-8309-4A41-B257-F1043964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AA500-792D-49D0-BEBA-CEE3DE68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0C5B8-1847-4012-9C3B-078DB31D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D10-8E68-4544-90C8-E855D201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C6D42-FF10-4F65-B55B-A42D307B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4FC3D-ED43-43AF-A49F-900E1347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57482-DE56-40AA-B1C1-12ABF354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F0837-4F09-43BB-BBAD-B98E263F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FEAF6-FEF5-4CBC-8390-46BD0A45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102AC-05CA-4152-A71E-F5A273A9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13538-2B4C-49D8-9A60-3CA3AB6A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8A0D0-7589-420C-94BC-A1692456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6E22C-90C4-48B1-B400-E5C1A88D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A3670-D70A-4655-B9BF-266DB3D8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B9F-6AC7-45D3-8089-39E5F167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D46CC-2035-4AB0-819D-854B1420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67E75-C193-43E3-A95E-EF857A79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9DE4E-ED7F-476D-99B3-55BED3AE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17CA6-33EA-417F-BEFC-02560A40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0DF11-74DA-4D63-98D4-3FA7353F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71070-DD53-4457-8EAE-8FCE6F66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9AC85-6926-4FE0-AE02-5B1644D8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474F5-52E6-422A-B042-DF7AB399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43E91-0AD0-4631-B820-4991D4FE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002BB-4EF6-4A29-A57B-C510C89C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6A4-98CC-4062-9FA1-D4635119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1DF9E-AF61-4CB2-BC73-49C732B0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EE9A3-A8EE-47A8-8038-7075F9C7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1FC6C-9D76-4897-90E5-0B2FCFA7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8100F-3CE9-4296-9D25-AF75C7B9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63DF4-499F-4EE0-9FA6-364110EE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05101-CDF4-445D-8FE3-121B2CA7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44174-1807-44D9-894E-DEC5F82D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CC523-566A-4A24-BA0F-7C8BA53C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13815-A646-4EC8-AAEF-738AE7C7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1DFF6-C88B-427F-B0CD-38D469A8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6CE-4639-4994-B646-1323073D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26C86-36F5-418B-B5F2-F05E32C7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A5718-49F1-47B1-BC59-B9F8B5BF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48955-03BA-4453-A79B-BA0763C1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DD233-3F99-4C24-91C5-E47CB68B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25124-57BE-4FC8-A469-440AD4F1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4B873-EC34-43C2-B799-9C4E1419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53F76-27B0-4581-AE6E-F705BB6A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8DD51-BBB1-4B7A-AC25-EEEC7FFA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B23E3-B32B-484B-B77F-794F384E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EF756-9A94-42AD-887A-E833D713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49E-6B4A-4138-9D20-BD0A5296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C24A4-C36F-4D06-A0E3-5AF1C785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44035-DEE6-4D4C-B0D7-0AF0313E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F8865-8C96-4B8B-8306-E01DB546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43FDF-EBB9-4BBE-B167-CDB3AC91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467DE-EE1D-456D-9464-2B0D9FDD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29D90-F01D-449C-AFC9-E82798A8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E5860-360D-41E2-A4A3-F7A9BDC3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947CD-866C-4E98-8D14-E8545268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29F7A-D785-4528-B2C5-54368CEC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2CB7A-2735-4378-82B4-37BE9D28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D7A5-2503-4E7E-8BEB-2CA869F7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D74AD-9A77-44A5-9FB7-69C0FDE5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4F5EB-1C50-497B-9263-CF4132E2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FF852-3A40-4EC3-B9AC-9903666D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A723E-ADBD-435A-A8CC-6232666C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73C7B-CD0E-486E-8304-DC7EC57F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D3B5E-AADE-4EBE-BEA9-53A673C3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7CB25-3F52-4716-B931-DC111E50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F5BC3-A4FD-47FE-AE4C-E323F8F8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C6431-A4A5-490A-A177-CB66954E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B934C-8F1C-4D0D-9B5B-7205D1E3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AC77-D31C-4163-BC13-C99D60E7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F8E6E-CD5D-4EEC-8261-48C7607A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B7A11-E356-4216-AC19-EF9F21EE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6CB4F-EDEC-4995-9AA2-741850C0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4B708-E0FA-459D-9E64-AEDD51CA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2137A-F4A5-4E46-9CEA-03164598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1020B-B656-4747-B6A2-CA85A5CB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E59E8-AF0B-4207-A07B-0942222F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83FA7-456F-4580-B791-B1FB932D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026F3-4793-43BE-A86D-E71B8A05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1D864-F80C-4AD6-B6DD-E64E75E8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E1ED-C072-4F70-96D9-F842962D29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D456-668F-46ED-A5B9-B16657C546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1E24-A683-43F5-9E98-66BE9DCF15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A473-F704-4B46-8D54-ED184B2807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E536-D8AC-4726-960A-D73F5549A9B1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6AD8-6C6D-42AF-A44A-0FC2BDA350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10DA-0744-4FF1-A799-86959B39AD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7107-46BC-4FFD-ADC6-97A3993186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A23C-C694-45D1-B301-087BA8999B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76E3-CC94-4834-9745-0DEBE0B794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7CBC-680B-4B60-A025-E50D5584A9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BF75-1BE2-4F7F-BF08-C5153B43D4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1E29-C118-4F63-BC0A-5A4E6D4E88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ostavka.privatesales.ru/shop/Hand_Tools/Wood/" TargetMode="External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989840" cy="28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ТВОРЧЕСКИЙ ПРОЕКТ ПО ТЕХНОЛОГИИ</a:t>
            </a:r>
            <a:br>
              <a:rPr sz="3200"/>
            </a:br>
            <a:r>
              <a:rPr b="1" lang="ru-RU" sz="5100" spc="-1" strike="noStrike">
                <a:solidFill>
                  <a:srgbClr val="ffffcc"/>
                </a:solidFill>
                <a:latin typeface="Arial"/>
              </a:rPr>
              <a:t>«</a:t>
            </a:r>
            <a:r>
              <a:rPr b="1" lang="ru-RU" sz="5100" spc="-1" strike="noStrike">
                <a:solidFill>
                  <a:srgbClr val="99ff66"/>
                </a:solidFill>
                <a:latin typeface="Arial"/>
              </a:rPr>
              <a:t>ИЗГОТОВЛЕНИЕ КОНФЕТНИЦЫ</a:t>
            </a:r>
            <a:r>
              <a:rPr b="1" lang="ru-RU" sz="5100" spc="-1" strike="noStrike">
                <a:solidFill>
                  <a:srgbClr val="ffffcc"/>
                </a:solidFill>
                <a:latin typeface="Arial"/>
              </a:rPr>
              <a:t>»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240" y="4653000"/>
            <a:ext cx="72327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Выполнил: Бельский Сергей ученик 11 к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читель технологии  Михайлова Н В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324000" y="0"/>
            <a:ext cx="8640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3813120" y="62881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Таксимо, 2013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хнический рисунок конфетниц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84" name="Picture 4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187960" cy="35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хнологическая карта для изготовления конфетниц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457200" y="1989000"/>
          <a:ext cx="8229600" cy="4141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1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ыбрать 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фанеру 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олщиной 5-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мм</a:t>
                      </a:r>
                      <a:endParaRPr b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Линейка, карандаш</a:t>
                      </a:r>
                      <a:endParaRPr b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7" name="Picture 18" descr="DSC02609"/>
          <p:cNvPicPr/>
          <p:nvPr/>
        </p:nvPicPr>
        <p:blipFill>
          <a:blip r:embed="rId1"/>
          <a:stretch/>
        </p:blipFill>
        <p:spPr>
          <a:xfrm>
            <a:off x="2876400" y="3284640"/>
            <a:ext cx="3240360" cy="24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"/>
          <p:cNvGraphicFramePr/>
          <p:nvPr/>
        </p:nvGraphicFramePr>
        <p:xfrm>
          <a:off x="468360" y="620640"/>
          <a:ext cx="8424720" cy="4818240"/>
        </p:xfrm>
        <a:graphic>
          <a:graphicData uri="http://schemas.openxmlformats.org/drawingml/2006/table">
            <a:tbl>
              <a:tblPr/>
              <a:tblGrid>
                <a:gridCol w="2495520"/>
                <a:gridCol w="2965320"/>
                <a:gridCol w="2963880"/>
              </a:tblGrid>
              <a:tr h="481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азметить контур изделия</a:t>
                      </a:r>
                      <a:endParaRPr b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Карандаш, линейка</a:t>
                      </a:r>
                      <a:endParaRPr b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9" name="Picture 15" descr="DSC02608"/>
          <p:cNvPicPr/>
          <p:nvPr/>
        </p:nvPicPr>
        <p:blipFill>
          <a:blip r:embed="rId1"/>
          <a:stretch/>
        </p:blipFill>
        <p:spPr>
          <a:xfrm>
            <a:off x="2865600" y="1700280"/>
            <a:ext cx="3649680" cy="30240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5" descr="DSC02608"/>
          <p:cNvPicPr/>
          <p:nvPr/>
        </p:nvPicPr>
        <p:blipFill>
          <a:blip r:embed="rId2"/>
          <a:stretch/>
        </p:blipFill>
        <p:spPr>
          <a:xfrm>
            <a:off x="2843280" y="1700280"/>
            <a:ext cx="36496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1" name=""/>
          <p:cNvGraphicFramePr/>
          <p:nvPr/>
        </p:nvGraphicFramePr>
        <p:xfrm>
          <a:off x="324000" y="0"/>
          <a:ext cx="8640720" cy="6130800"/>
        </p:xfrm>
        <a:graphic>
          <a:graphicData uri="http://schemas.openxmlformats.org/drawingml/2006/table">
            <a:tbl>
              <a:tblPr/>
              <a:tblGrid>
                <a:gridCol w="2879640"/>
                <a:gridCol w="2881080"/>
                <a:gridCol w="2880000"/>
              </a:tblGrid>
              <a:tr h="61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ыпилить контур изделия</a:t>
                      </a:r>
                      <a:endParaRPr b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ыжигательный прибор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2" name="Picture 13" descr="DSC02613"/>
          <p:cNvPicPr/>
          <p:nvPr/>
        </p:nvPicPr>
        <p:blipFill>
          <a:blip r:embed="rId1"/>
          <a:stretch/>
        </p:blipFill>
        <p:spPr>
          <a:xfrm>
            <a:off x="611280" y="1700280"/>
            <a:ext cx="4824360" cy="22939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2" descr="DSC02612"/>
          <p:cNvPicPr/>
          <p:nvPr/>
        </p:nvPicPr>
        <p:blipFill>
          <a:blip r:embed="rId2"/>
          <a:stretch/>
        </p:blipFill>
        <p:spPr>
          <a:xfrm>
            <a:off x="4932360" y="1484280"/>
            <a:ext cx="3098880" cy="41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457200" y="476280"/>
          <a:ext cx="8229600" cy="5654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6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борка изделия</a:t>
                      </a:r>
                      <a:endParaRPr b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Лак кисть</a:t>
                      </a:r>
                      <a:endParaRPr b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5" name="Picture 8" descr="DSC02614"/>
          <p:cNvPicPr/>
          <p:nvPr/>
        </p:nvPicPr>
        <p:blipFill>
          <a:blip r:embed="rId1"/>
          <a:stretch/>
        </p:blipFill>
        <p:spPr>
          <a:xfrm>
            <a:off x="1042920" y="1628640"/>
            <a:ext cx="3657600" cy="41767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9" descr="DSC02615"/>
          <p:cNvPicPr/>
          <p:nvPr/>
        </p:nvPicPr>
        <p:blipFill>
          <a:blip r:embed="rId2"/>
          <a:stretch/>
        </p:blipFill>
        <p:spPr>
          <a:xfrm>
            <a:off x="5003640" y="2276640"/>
            <a:ext cx="3384720" cy="24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5. Достоинства и недостатки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Достоинства данного проекта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- во первых, необходимая вещь на кухне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- во вторых, универсальна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- в третьих, легка в изготовлении,   экономичн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Недостатки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-отсутствие нихром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2700"/>
                            </p:stCondLst>
                            <p:childTnLst>
                              <p:par>
                                <p:cTn id="2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2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2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3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вод по теме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наши дни, когда товар промышленного производства заполнили наш быт, я предлагаю сделать своими руками свой дом внеся элементы творчества и индивидуальности в окружающий нас мир. А главное – вы получите огромное удовольствие от вещи, сделанной вашим трудом в сочетании с оригинальной фантазие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Техника безопасности при выжиган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1.Включать выжигательный аппарат можно только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с разрешения учителя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2.Перед работой проверить исправность аппарата (подача напряжения,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состояние провода, регуляция накала иглы, крепление иглы)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3.Не оставлять аппарат включенным без присмотра,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работать с интервалом 5-10 минут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4. При работе нельзя низко наклоняться над работой из за едкого дыма, образующегося в процессе обугливания древесины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5. В конце линии перо не задерживать, а резко отрывать от поверхности, во избежание возгорания древесины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6. Беречь руки и одежду от прикосновения раскаленного пера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                          </a:t>
            </a: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7.По окончании работы аппарат выключить из сети,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                          </a:t>
            </a:r>
            <a:r>
              <a:rPr b="0" lang="ru-RU" sz="1600" spc="-1" strike="noStrike">
                <a:solidFill>
                  <a:srgbClr val="2f422e"/>
                </a:solidFill>
                <a:latin typeface="Verdana"/>
              </a:rPr>
              <a:t>помещение проветрить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уемая литерату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. Бузкинов М., Потапов Г.,Искусство резьбы по дереву. -М.: Антиква, 1998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2. Мартенсон А. Начинаем мастерить из древесины. М.: Просвещение, 1979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3. Леонтьев Д.П. Сделай сам. – М.: Просвещение, 1985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4. Лебедева Е.И., Бургунова Е.М. Резьба по дереву.М.: Аделант, 2005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5. Абросимова А. Художественная резьба по дереву. М.: Высшая школа, 1989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РАЗДЕЛЫ ПРОЕК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1. Обоснование выбора данного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2. Историческая справка по тем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3. Факторы, которые следуют принять во вниман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4. Описание собственной работы над проекто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- разработка эскизов, шаблонов, ознакомление с литературо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- подготовка материалов, инструмент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- выполнение теоретической части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- выполнение практической части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- оформление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- защита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5. Достоинства и недостатки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6. Вывод по тем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7. Литератур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8. Техника безопасности при работ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9. Реклама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1. Обоснование выбора данного проект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99"/>
                </a:solidFill>
                <a:latin typeface="Verdana"/>
              </a:rPr>
              <a:t>В своем творческом проекте я решил изготовить конфетницу. Круглой формы с помощью выжигательного прибо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2. Историческая справка по теме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Verdana"/>
              </a:rPr>
              <a:t>Выжигание по дереву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 – искусство, пришедшее к нам из глубины веков. В той или иной форме выжигание по дереву можно встретить в культуре любого народа. Первые предметы быта, украшенные выжженным узором, датируются приблизительно 700 годом до нашей эры и обнаружены в Перу.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В средние века в Европе выжигание стало уже не только формой народного творчества, но и действительно искусством. Им занимались многие знаменитые художники.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В старину для выжигания использовали специальные заточенные под определённый узор клейма или металлические стержни, которые накаляли докрасна. На деревянных панелях домов, балках, ставнях часто выжигали раскалённой кочергой или шпагой. 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В ХХ веке появились первые электрические приборы для выжигания.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В наше время применяют многие способы выжигания: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  пиротипию (горячее печатание),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       пирографию (горячее рисование),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               выжигание в горячем песке,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                   выжигание на открытом пламени,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                              выжигание кислотами,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                                   трением на токарном станке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Verdana"/>
              </a:rPr>
              <a:t>Войти в этот мир может каждый, кому не безразлично красота и совершенства, кто хотел бы преумножить достижения в этом направлении, сделать прекраснее свою жизнь, жизнь своих близких, приятно удивить окружающих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3. Факторы, которые следует принять во внимание при изготовлении издел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7" name="Picture 5" descr="Безымянный"/>
          <p:cNvPicPr/>
          <p:nvPr/>
        </p:nvPicPr>
        <p:blipFill>
          <a:blip r:embed="rId1"/>
          <a:stretch/>
        </p:blipFill>
        <p:spPr>
          <a:xfrm>
            <a:off x="414360" y="1844640"/>
            <a:ext cx="828036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7138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9933"/>
                </a:solidFill>
                <a:latin typeface="Verdana"/>
              </a:rPr>
              <a:t>Универсальность</a:t>
            </a: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 моего проекта заключается в том, что ее можно использовать по прямому назначению, то есть как конфетницу, и как интерьер кухн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9933"/>
                </a:solidFill>
                <a:latin typeface="Verdana"/>
              </a:rPr>
              <a:t>Экономичность</a:t>
            </a: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 заключается в том, что все материалы для данного проекта можно найти в мастерской, среди отходов производства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9933"/>
                </a:solidFill>
                <a:latin typeface="Verdana"/>
              </a:rPr>
              <a:t>Конструктивность</a:t>
            </a: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 необходимо учитывать при изготовлении, она красивая, удобная и прочна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9933"/>
                </a:solidFill>
                <a:latin typeface="Verdana"/>
              </a:rPr>
              <a:t>Экологичность</a:t>
            </a:r>
            <a:r>
              <a:rPr b="0" lang="ru-RU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заключается в том, что при изготовлении данного проекта использовался экологически чистый материал –фанер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99"/>
                </a:solidFill>
                <a:latin typeface="Verdana"/>
              </a:rPr>
              <a:t>С </a:t>
            </a:r>
            <a:r>
              <a:rPr b="0" i="1" lang="ru-RU" sz="2400" spc="-1" strike="noStrike">
                <a:solidFill>
                  <a:srgbClr val="ff9933"/>
                </a:solidFill>
                <a:latin typeface="Verdana"/>
              </a:rPr>
              <a:t>эстетической</a:t>
            </a: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 точки зрения, здесь я использовал круглую форму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9933"/>
                </a:solidFill>
                <a:latin typeface="Verdana"/>
              </a:rPr>
              <a:t>Технология изготовления</a:t>
            </a: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 все операция делаются электроинструментам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28036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4. Описание собственной работы над проектом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разработка эскизов, шаблонов, ознакомление с литературо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подготовка материалов, инструмент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выполнение теоретической части проек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выполнение практической части проек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оформление проек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защита проек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боснования выбора эскиза конфетниц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ИДЕЯ 1.  Обычная конфетница –продается в магазин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ИДЕЯ 2. Конфетница из дерева – необходимая вещь для     любой хозяй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ИДЕЯ 3 Конфетница –сделанная своими руками украсит интерьер кухн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2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4:51:34Z</dcterms:created>
  <dc:creator>Customer</dc:creator>
  <dc:description/>
  <dc:language>en-US</dc:language>
  <cp:lastModifiedBy>Home</cp:lastModifiedBy>
  <dcterms:modified xsi:type="dcterms:W3CDTF">2015-02-10T18:49:48Z</dcterms:modified>
  <cp:revision>23</cp:revision>
  <dc:subject/>
  <dc:title>ТВОРЧЕСКИЙ ПРОЕКТ ПО ТЕХНОЛОГИИ «ИЗГОТОВЛЕНИЕ ДОСКИ ДЛЯ РАЗДЕЛКИ РЫБЫ»</dc:title>
</cp:coreProperties>
</file>