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8FB-F89A-4F03-8033-2357002A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04A7-0C1F-458E-B198-C756F388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B1E4-A7AA-4B62-86D4-E78F8762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620-1FEE-4D10-B02C-5BE64A9E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FC16-AD3E-4F19-A33C-59641629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6309-9BDF-4F08-A105-4A9B0B66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BCB8-6559-4ED2-9218-64A1CBB9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5BE8-B092-4570-BBA1-BB77F98A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1CE2-D201-4093-9232-8BAF4767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D719-A753-484F-A395-7E3F043A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0105-5072-48E1-BD61-0981478A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C7E-D0F8-49BF-B914-BF36F600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264B-57DB-4438-97C9-BC7F4ECE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0CD8-1D9E-4C19-8EC7-DF3AB11F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7E97-F8E6-465C-8EAE-0FE13933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FE83-A712-4325-A49A-394EB629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870A-DA95-46AC-9AC9-256C93C7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DEC-B253-425E-AE0D-65C13A1B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0AD-4F76-425B-8454-72908FEA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1055-E3DF-4A7E-BFEF-8F42FB31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769-7A03-4C3A-90D5-57020B90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30E-6D17-4DA3-B82F-53B6122E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420F-9E81-44AD-8470-51F82F2A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6DBE-69DA-44A8-A84E-DB4BE36D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9D4F-0E09-4806-8E95-84A8F5AB8C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FEB7-893E-4292-AABE-46392A8BCF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1080" y="1017360"/>
            <a:ext cx="717228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cc"/>
                </a:solidFill>
                <a:latin typeface="Arial"/>
              </a:rPr>
              <a:t>Логические выражения </a:t>
            </a:r>
            <a:br>
              <a:rPr sz="3100"/>
            </a:br>
            <a:r>
              <a:rPr b="1" lang="en-US" sz="3100" spc="-1" strike="noStrike">
                <a:solidFill>
                  <a:srgbClr val="ffffcc"/>
                </a:solidFill>
                <a:latin typeface="Arial"/>
              </a:rPr>
              <a:t>и таблицы истинности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5640" y="5300640"/>
            <a:ext cx="417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уденко Наталия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ОУ СОШ «Царицынская № 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Равносильные выражения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Задание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Доказать, что логические выражения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А &amp; В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А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ar-SA" sz="20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равносильн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троим таблицы исти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3132000" y="2205000"/>
            <a:ext cx="2160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2205000"/>
            <a:ext cx="2160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2205000"/>
            <a:ext cx="5763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8360" y="3429000"/>
          <a:ext cx="3579840" cy="2357280"/>
        </p:xfrm>
        <a:graphic>
          <a:graphicData uri="http://schemas.openxmlformats.org/drawingml/2006/table">
            <a:tbl>
              <a:tblPr/>
              <a:tblGrid>
                <a:gridCol w="716040"/>
                <a:gridCol w="715680"/>
                <a:gridCol w="716040"/>
                <a:gridCol w="716040"/>
                <a:gridCol w="71604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292720" y="3429000"/>
          <a:ext cx="3579840" cy="235728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6040"/>
                <a:gridCol w="715680"/>
                <a:gridCol w="71604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Вопросы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Из чего состоит логическое выражение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риоритет операц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Что содержит таблица истинности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Зачем нужно строить таблицу истинност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акие логические выражения называются равносильными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§ 3.3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тветить на вопросы в конце параграфа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Задания 3.2., 3.3. (письменно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Логические выражения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аждое </a:t>
            </a:r>
            <a:r>
              <a:rPr b="1" i="1" lang="en-US" sz="2900" spc="-1" strike="noStrike">
                <a:solidFill>
                  <a:srgbClr val="000000"/>
                </a:solidFill>
                <a:latin typeface="Verdana"/>
              </a:rPr>
              <a:t>составное высказывание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можно выразить в виде </a:t>
            </a:r>
            <a:r>
              <a:rPr b="1" i="1" lang="en-US" sz="2900" spc="-1" strike="noStrike">
                <a:solidFill>
                  <a:srgbClr val="000000"/>
                </a:solidFill>
                <a:latin typeface="Verdana"/>
              </a:rPr>
              <a:t>формулы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логического выражения), в которую входят </a:t>
            </a:r>
            <a:r>
              <a:rPr b="1" i="1" lang="en-US" sz="2900" spc="-1" strike="noStrike">
                <a:solidFill>
                  <a:srgbClr val="000000"/>
                </a:solidFill>
                <a:latin typeface="Verdana"/>
              </a:rPr>
              <a:t>логические переменные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, обозначающие высказывания, и </a:t>
            </a:r>
            <a:r>
              <a:rPr b="1" i="1" lang="en-US" sz="2900" spc="-1" strike="noStrike">
                <a:solidFill>
                  <a:srgbClr val="000000"/>
                </a:solidFill>
                <a:latin typeface="Verdana"/>
              </a:rPr>
              <a:t>знаки логических операций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, обозначающие логические функци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Логические выражения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827360"/>
            <a:ext cx="81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ля того, чтобы записат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ставное выраж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в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иде формул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нужно выделит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стые высказы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гические связ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между ни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Логические выражения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2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Задание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Записать в форме логического выражения составное высказыван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«(2*2=5 или 2*2=4) и (2*2≠5 или 2*2 ≠4)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Найдем  простые выраж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А= 2*2=5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ложно (0); 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В= 2*2=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истинно (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Тогда составное высказывание  можно записать так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F=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(А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В) &amp; (А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ar-SA" sz="20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риоритет выполнения операций: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ˉ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, &amp;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одставим в логическое выражение значения логических переменных, и используя таблицы истинности базовых логических операций, получим значение логической функц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F=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(А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ar-SA" sz="20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В) &amp; (А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ar-SA" sz="20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В)=(0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ar-SA" sz="20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  <a:ea typeface="Arial"/>
              </a:rPr>
              <a:t>1)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&amp;(1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ar-SA" sz="20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  <a:ea typeface="Arial"/>
              </a:rPr>
              <a:t>0)=1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&amp;1=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3429000"/>
            <a:ext cx="215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5640" y="3429000"/>
            <a:ext cx="2160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5300640"/>
            <a:ext cx="2160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67280" y="5300640"/>
            <a:ext cx="21564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Логические выражения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Задание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пределите истинность составного высказывания: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(А &amp; В) &amp; (С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ar-SA" sz="20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  <a:ea typeface="Arial"/>
              </a:rPr>
              <a:t>D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стоящего из простых высказыва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=«Принтер – устройство вывода информаци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=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Процессор – устройство хранения информаци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=«Монитор – устройство вывода информаци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=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Клавиатура – устройство обработки информаци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1916280"/>
            <a:ext cx="1447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5280" y="1916280"/>
            <a:ext cx="1447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Таблицы истинности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ждого логического выраж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можно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троить таблицу истинност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которая определяет его истинность или ложность при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сех возможных комбинация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сходных значений простых высказыва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Таблицы истинност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строении таблиц истинности целесообразно пользоваться следующей последовательностью действ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spcBef>
                <a:spcPts val="499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ределить количество строк. Если количество логических переменных равно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то количество строк =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spcBef>
                <a:spcPts val="499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ределить количество столбцов, которое равно количеству логических переменных +количество логических операц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spcBef>
                <a:spcPts val="499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троить таблицу и внести возможные наборы значений исходных переменны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spcBef>
                <a:spcPts val="499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олнить таблицу по столбцам, выполняя базовые логические опер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Таблицы истинност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Задание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остроить таблицу истинности логического выражения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(А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В) &amp; (А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V</a:t>
            </a:r>
            <a:r>
              <a:rPr b="0" lang="ar-SA" sz="20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Verdana"/>
              </a:rPr>
              <a:t>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6588000" y="2205000"/>
            <a:ext cx="2160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4720" y="2205000"/>
            <a:ext cx="2160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9280" y="3213000"/>
          <a:ext cx="8713800" cy="1981440"/>
        </p:xfrm>
        <a:graphic>
          <a:graphicData uri="http://schemas.openxmlformats.org/drawingml/2006/table">
            <a:tbl>
              <a:tblPr/>
              <a:tblGrid>
                <a:gridCol w="709560"/>
                <a:gridCol w="779760"/>
                <a:gridCol w="1062000"/>
                <a:gridCol w="990360"/>
                <a:gridCol w="1138320"/>
                <a:gridCol w="1200240"/>
                <a:gridCol w="283356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А </a:t>
                      </a: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V </a:t>
                      </a: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А </a:t>
                      </a: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V</a:t>
                      </a:r>
                      <a:r>
                        <a:rPr b="1" lang="ar-SA" sz="1800" spc="-1" strike="noStrike">
                          <a:solidFill>
                            <a:srgbClr val="ffffcc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(А </a:t>
                      </a: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V</a:t>
                      </a: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В) &amp; (А </a:t>
                      </a: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V</a:t>
                      </a:r>
                      <a:r>
                        <a:rPr b="1" lang="ar-SA" sz="1800" spc="-1" strike="noStrike">
                          <a:solidFill>
                            <a:srgbClr val="ffffcc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В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059280" y="3284640"/>
            <a:ext cx="2887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40360" y="3284640"/>
            <a:ext cx="2887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67640" y="3284640"/>
            <a:ext cx="2890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72360" y="3284640"/>
            <a:ext cx="2890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Равносильные выражения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2491920"/>
            <a:ext cx="73134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Логические выражения, у которых последние столбцы таблиц истинности совпадают, называются равносильным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Для обозначения равносильных логических выражений используется знак «=»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6:24:49Z</dcterms:created>
  <dc:creator>Admin</dc:creator>
  <dc:description/>
  <dc:language>en-US</dc:language>
  <cp:lastModifiedBy>XP GAME 2007</cp:lastModifiedBy>
  <dcterms:modified xsi:type="dcterms:W3CDTF">2015-01-13T09:25:39Z</dcterms:modified>
  <cp:revision>7</cp:revision>
  <dc:subject/>
  <dc:title>Логические выражения  и таблицы истинности</dc:title>
</cp:coreProperties>
</file>