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710-2C9F-4F7D-8EE5-28BBE629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328-31A6-418B-B080-9801314C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B3D-9DE8-4165-92BD-CEF5A968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DF48-3500-43E2-A1FA-8D05548B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484D-C54F-4637-9503-E56DE45F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BBE2-474B-44C5-92B2-177EBC1A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9683-B087-49E2-B6F7-11000B80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FBD5-6F97-4BF4-8D6B-1641C25D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3417-2B72-437C-A452-EE5408FB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A74F-45E2-4458-875B-1BA6B3FF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2215-7965-4D58-98F5-3BCECFD1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91A-81EA-4FF1-83A0-D6B7FFBF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07D2-E5D6-48FB-92D7-3A561E0E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6CED-AD6B-4857-B94D-41DFFEE2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00F7-4582-4680-96D7-239BCEF8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DE9B-4EE9-4F2E-B89E-99AEC770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6802-39C4-4945-8797-0A58E694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09F-E6F2-4E7E-8248-B9136041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776-8107-4D46-88E8-D84B1A27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512-ABA6-4A89-BE99-15CA4F2C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BB9-010B-4E10-8998-E0DA3C03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CE9-6A69-472F-A7D4-FE6F8681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3CD1-858A-44DB-A550-F2E24871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FDD-6DD0-48FC-A213-92E03256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866A-1D89-451C-9424-BBC46FC5F0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0A7C-CC14-4473-B3C4-B9F3F8B3D85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1080" y="1017360"/>
            <a:ext cx="717228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cc"/>
                </a:solidFill>
                <a:latin typeface="Arial"/>
              </a:rPr>
              <a:t>Логические выражения </a:t>
            </a:r>
            <a:br>
              <a:rPr sz="3100"/>
            </a:br>
            <a:r>
              <a:rPr b="1" lang="en-US" sz="3100" spc="-1" strike="noStrike">
                <a:solidFill>
                  <a:srgbClr val="ffffcc"/>
                </a:solidFill>
                <a:latin typeface="Arial"/>
              </a:rPr>
              <a:t>и таблицы истинности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5640" y="5300640"/>
            <a:ext cx="417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уденко Наталия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ОУ СОШ «Царицынская № 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Равносильные выражения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Задание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Доказать, что логические выражения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А &amp; В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А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ar-SA" sz="20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равносильн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троим таблицы исти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3132000" y="2205000"/>
            <a:ext cx="2160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2205000"/>
            <a:ext cx="2160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2205000"/>
            <a:ext cx="5763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8360" y="3429000"/>
          <a:ext cx="3579840" cy="2357280"/>
        </p:xfrm>
        <a:graphic>
          <a:graphicData uri="http://schemas.openxmlformats.org/drawingml/2006/table">
            <a:tbl>
              <a:tblPr/>
              <a:tblGrid>
                <a:gridCol w="716040"/>
                <a:gridCol w="715680"/>
                <a:gridCol w="716040"/>
                <a:gridCol w="716040"/>
                <a:gridCol w="71604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292720" y="3429000"/>
          <a:ext cx="3579840" cy="235728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6040"/>
                <a:gridCol w="715680"/>
                <a:gridCol w="71604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Вопросы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Из чего состоит логическое выражение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иоритет операц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Что содержит таблица истинност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Зачем нужно строить таблицу истинност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акие логические выражения называются равносильным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§ 3.3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тветить на вопросы в конце параграфа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Задания 3.2., 3.3. (письменно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Логические выражения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аждое </a:t>
            </a:r>
            <a:r>
              <a:rPr b="1" i="1" lang="en-US" sz="2900" spc="-1" strike="noStrike">
                <a:solidFill>
                  <a:srgbClr val="000000"/>
                </a:solidFill>
                <a:latin typeface="Verdana"/>
              </a:rPr>
              <a:t>составное высказывание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можно выразить в виде </a:t>
            </a:r>
            <a:r>
              <a:rPr b="1" i="1" lang="en-US" sz="2900" spc="-1" strike="noStrike">
                <a:solidFill>
                  <a:srgbClr val="000000"/>
                </a:solidFill>
                <a:latin typeface="Verdana"/>
              </a:rPr>
              <a:t>формулы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логического выражения), в которую входят </a:t>
            </a:r>
            <a:r>
              <a:rPr b="1" i="1" lang="en-US" sz="2900" spc="-1" strike="noStrike">
                <a:solidFill>
                  <a:srgbClr val="000000"/>
                </a:solidFill>
                <a:latin typeface="Verdana"/>
              </a:rPr>
              <a:t>логические переменные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 обозначающие высказывания, и </a:t>
            </a:r>
            <a:r>
              <a:rPr b="1" i="1" lang="en-US" sz="2900" spc="-1" strike="noStrike">
                <a:solidFill>
                  <a:srgbClr val="000000"/>
                </a:solidFill>
                <a:latin typeface="Verdana"/>
              </a:rPr>
              <a:t>знаки логических операций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 обозначающие логические функц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Логические выражения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82736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ля того, чтобы записат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ставное выраж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в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иде формул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нужно выделит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стые высказы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гические связ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между ни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Логические выражения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2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Задание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Записать в форме логического выражения составное высказыва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«(2*2=5 или 2*2=4) и (2*2≠5 или 2*2 ≠4)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Найдем  простые выраж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А= 2*2=5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ложно (0); 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В= 2*2=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истинно (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Тогда составное высказывание  можно записать так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F=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(А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В) &amp; (А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ar-SA" sz="20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иоритет выполнения операций: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ˉ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, &amp;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одставим в логическое выражение значения логических переменных, и используя таблицы истинности базовых логических операций, получим значение логической функц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F=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(А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ar-SA" sz="20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В) &amp; (А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ar-SA" sz="20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В)=(0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ar-SA" sz="20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  <a:ea typeface="Arial"/>
              </a:rPr>
              <a:t>1)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&amp;(1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ar-SA" sz="20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  <a:ea typeface="Arial"/>
              </a:rPr>
              <a:t>0)=1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&amp;1=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3429000"/>
            <a:ext cx="215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5640" y="3429000"/>
            <a:ext cx="2160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5300640"/>
            <a:ext cx="2160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5300640"/>
            <a:ext cx="215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Логические выражения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Задание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пределите истинность составного высказывания: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(А &amp; В) &amp; (С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ar-SA" sz="20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  <a:ea typeface="Arial"/>
              </a:rPr>
              <a:t>D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стоящего из простых высказыв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=«Принтер – устройство вывода информаци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=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Процессор – устройство хранения информаци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=«Монитор – устройство вывода информаци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=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Клавиатура – устройство обработки информаци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1916280"/>
            <a:ext cx="1447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1916280"/>
            <a:ext cx="1447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Таблицы истинности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ждого логического выраж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можно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троить таблицу истинност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которая определяет его истинность или ложность при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сех возможных комбинация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сходных значений простых высказыва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Таблицы истинност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строении таблиц истинности целесообразно пользоваться следующей последовательностью действ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499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ределить количество строк. Если количество логических переменных равн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то количество строк =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499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ределить количество столбцов, которое равно количеству логических переменных +количество логических операц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499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троить таблицу и внести возможные наборы значений исходных переменны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499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олнить таблицу по столбцам, выполняя базовые логические опер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Таблицы истинност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Задание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остроить таблицу истинности логического выражения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(А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В) &amp; (А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ar-SA" sz="20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2205000"/>
            <a:ext cx="2160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4720" y="2205000"/>
            <a:ext cx="2160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9280" y="3213000"/>
          <a:ext cx="8713800" cy="1981440"/>
        </p:xfrm>
        <a:graphic>
          <a:graphicData uri="http://schemas.openxmlformats.org/drawingml/2006/table">
            <a:tbl>
              <a:tblPr/>
              <a:tblGrid>
                <a:gridCol w="709560"/>
                <a:gridCol w="779760"/>
                <a:gridCol w="1062000"/>
                <a:gridCol w="990360"/>
                <a:gridCol w="1138320"/>
                <a:gridCol w="1200240"/>
                <a:gridCol w="283356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А </a:t>
                      </a: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V </a:t>
                      </a: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А </a:t>
                      </a: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V</a:t>
                      </a:r>
                      <a:r>
                        <a:rPr b="1" lang="ar-SA" sz="1800" spc="-1" strike="noStrike">
                          <a:solidFill>
                            <a:srgbClr val="ffffcc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(А </a:t>
                      </a: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V</a:t>
                      </a: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В) &amp; (А </a:t>
                      </a: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V</a:t>
                      </a:r>
                      <a:r>
                        <a:rPr b="1" lang="ar-SA" sz="1800" spc="-1" strike="noStrike">
                          <a:solidFill>
                            <a:srgbClr val="ffffcc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В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059280" y="3284640"/>
            <a:ext cx="2887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40360" y="3284640"/>
            <a:ext cx="2887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67640" y="3284640"/>
            <a:ext cx="2890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72360" y="3284640"/>
            <a:ext cx="2890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Равносильные выражения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2491920"/>
            <a:ext cx="73134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Логические выражения, у которых последние столбцы таблиц истинности совпадают, называются равносильным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ля обозначения равносильных логических выражений используется знак «=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6:24:49Z</dcterms:created>
  <dc:creator>Admin</dc:creator>
  <dc:description/>
  <dc:language>en-US</dc:language>
  <cp:lastModifiedBy>XP GAME 2007</cp:lastModifiedBy>
  <dcterms:modified xsi:type="dcterms:W3CDTF">2015-01-13T09:25:39Z</dcterms:modified>
  <cp:revision>7</cp:revision>
  <dc:subject/>
  <dc:title>Логические выражения  и таблицы истинности</dc:title>
</cp:coreProperties>
</file>