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7DF-35BD-4FFE-A351-726DBD1F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DF6-3383-41AA-9495-F9067D83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51C-9248-4C05-A1BD-71C818B3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307-D09D-46DB-9050-7E4BC0E9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50D-B1F2-4822-96E2-4439B62F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76F-8784-4E73-A3CB-16247EC7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E9D-6EA5-4022-91DA-688E8699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D347-5E07-4313-B743-B8ED79BE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F0E-4CE3-4173-B692-5851DAB8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38A-EE47-4C5B-A859-F46088BF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AB5-021A-4F0B-BC6B-C2141D87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EA9-B32E-46A5-B563-3AB0F3DE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153B-2706-477B-A547-7A37B90F526B}" type="slidenum">
              <a:rPr b="0" lang="ru-RU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riginalnie-podarki.com/wordpress/wp-content/uploads/2013/11/big-fringe-61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originalnie-podarki.com/wordpress/wp-content/uploads/2013/11/big-fringe-61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2000" y="2049480"/>
            <a:ext cx="8780400" cy="1689120"/>
          </a:xfrm>
          <a:prstGeom prst="rect">
            <a:avLst/>
          </a:prstGeom>
          <a:solidFill>
            <a:srgbClr val="5b9bd5">
              <a:alpha val="58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mic Sans MS"/>
              </a:rPr>
              <a:t>Изготовление новогодних гирлянд</a:t>
            </a:r>
            <a:endParaRPr b="0" lang="en-US" sz="6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5200" y="5041800"/>
            <a:ext cx="5864400" cy="1440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стерова Анастасия Вячеславовн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ДОУ ИРМО «Детский сад п. Молодежный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28560" y="403200"/>
            <a:ext cx="7886880" cy="61056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6" name="Picture 2" descr="гирлянда из бумаги"/>
          <p:cNvPicPr/>
          <p:nvPr/>
        </p:nvPicPr>
        <p:blipFill>
          <a:blip r:embed="rId1"/>
          <a:stretch/>
        </p:blipFill>
        <p:spPr>
          <a:xfrm>
            <a:off x="776160" y="511200"/>
            <a:ext cx="762804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Спиральные  новогодние гирлянды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91840" y="1639440"/>
            <a:ext cx="5985000" cy="50562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9" name="Picture 2" descr="Простые и несложные новогодние гирлянды из бумаги"/>
          <p:cNvPicPr/>
          <p:nvPr/>
        </p:nvPicPr>
        <p:blipFill>
          <a:blip r:embed="rId1"/>
          <a:stretch/>
        </p:blipFill>
        <p:spPr>
          <a:xfrm>
            <a:off x="2259000" y="1841400"/>
            <a:ext cx="46260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овогодние гирлянды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из цветного картона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28560" y="1825200"/>
            <a:ext cx="7886880" cy="47768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2" descr="Простые и несложные новогодние гирлянды из бумаги"/>
          <p:cNvPicPr/>
          <p:nvPr/>
        </p:nvPicPr>
        <p:blipFill>
          <a:blip r:embed="rId1"/>
          <a:stretch/>
        </p:blipFill>
        <p:spPr>
          <a:xfrm>
            <a:off x="1557360" y="1916280"/>
            <a:ext cx="593244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одержимое 2"/>
          <p:cNvSpPr/>
          <p:nvPr/>
        </p:nvSpPr>
        <p:spPr>
          <a:xfrm>
            <a:off x="0" y="0"/>
            <a:ext cx="5473800" cy="46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2" descr="Простые и несложные новогодние гирлянды из бумаги"/>
          <p:cNvPicPr/>
          <p:nvPr/>
        </p:nvPicPr>
        <p:blipFill>
          <a:blip r:embed="rId1"/>
          <a:stretch/>
        </p:blipFill>
        <p:spPr>
          <a:xfrm>
            <a:off x="179280" y="258840"/>
            <a:ext cx="5078520" cy="4030560"/>
          </a:xfrm>
          <a:prstGeom prst="rect">
            <a:avLst/>
          </a:prstGeom>
          <a:ln w="0">
            <a:noFill/>
          </a:ln>
        </p:spPr>
      </p:pic>
      <p:sp>
        <p:nvSpPr>
          <p:cNvPr id="75" name="Содержимое 2"/>
          <p:cNvSpPr/>
          <p:nvPr/>
        </p:nvSpPr>
        <p:spPr>
          <a:xfrm>
            <a:off x="5218200" y="2138400"/>
            <a:ext cx="3925800" cy="47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6" name="Picture 2" descr="Простые и несложные новогодние гирлянды из бумаги"/>
          <p:cNvPicPr/>
          <p:nvPr/>
        </p:nvPicPr>
        <p:blipFill>
          <a:blip r:embed="rId2"/>
          <a:srcRect l="10739" t="0" r="0" b="10108"/>
          <a:stretch/>
        </p:blipFill>
        <p:spPr>
          <a:xfrm>
            <a:off x="5459400" y="2365200"/>
            <a:ext cx="350028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Гирлянда из ваты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8" name="Содержимое 2"/>
          <p:cNvSpPr/>
          <p:nvPr/>
        </p:nvSpPr>
        <p:spPr>
          <a:xfrm>
            <a:off x="1076400" y="1801800"/>
            <a:ext cx="6912000" cy="47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Picture 9" descr="http://adalin.mospsy.ru/img6/ny_317.jpg"/>
          <p:cNvPicPr/>
          <p:nvPr/>
        </p:nvPicPr>
        <p:blipFill>
          <a:blip r:embed="rId1"/>
          <a:stretch/>
        </p:blipFill>
        <p:spPr>
          <a:xfrm>
            <a:off x="1224000" y="1936800"/>
            <a:ext cx="65847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овогодняя гирлянда из шишек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28560" y="1825560"/>
            <a:ext cx="7910640" cy="47102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2" descr="новогодние поделки из шишек"/>
          <p:cNvPicPr/>
          <p:nvPr/>
        </p:nvPicPr>
        <p:blipFill>
          <a:blip r:embed="rId1"/>
          <a:srcRect l="0" t="0" r="0" b="49666"/>
          <a:stretch/>
        </p:blipFill>
        <p:spPr>
          <a:xfrm>
            <a:off x="720720" y="1927080"/>
            <a:ext cx="5183280" cy="3652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новогодние поделки из шишек"/>
          <p:cNvPicPr/>
          <p:nvPr/>
        </p:nvPicPr>
        <p:blipFill>
          <a:blip r:embed="rId2"/>
          <a:srcRect l="0" t="49772" r="49741" b="0"/>
          <a:stretch/>
        </p:blipFill>
        <p:spPr>
          <a:xfrm>
            <a:off x="5959440" y="2932200"/>
            <a:ext cx="2538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Гирлянда из крепированной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цветной бумаги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5" name="Picture 2" descr="Новогодние игрушки своими руками">
            <a:hlinkClick r:id="rId1"/>
          </p:cNvPr>
          <p:cNvPicPr/>
          <p:nvPr/>
        </p:nvPicPr>
        <p:blipFill>
          <a:blip r:embed="rId2"/>
          <a:srcRect l="0" t="33079" r="0" b="33025"/>
          <a:stretch/>
        </p:blipFill>
        <p:spPr>
          <a:xfrm>
            <a:off x="189000" y="1841400"/>
            <a:ext cx="4852800" cy="246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Новогодние игрушки своими руками">
            <a:hlinkClick r:id="rId3"/>
          </p:cNvPr>
          <p:cNvPicPr/>
          <p:nvPr/>
        </p:nvPicPr>
        <p:blipFill>
          <a:blip r:embed="rId4"/>
          <a:srcRect l="0" t="66839" r="0" b="0"/>
          <a:stretch/>
        </p:blipFill>
        <p:spPr>
          <a:xfrm>
            <a:off x="4221000" y="4316400"/>
            <a:ext cx="47149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одержимое 2"/>
          <p:cNvSpPr/>
          <p:nvPr/>
        </p:nvSpPr>
        <p:spPr>
          <a:xfrm>
            <a:off x="1963800" y="3011400"/>
            <a:ext cx="7180200" cy="384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Содержимое 2"/>
          <p:cNvSpPr/>
          <p:nvPr/>
        </p:nvSpPr>
        <p:spPr>
          <a:xfrm>
            <a:off x="0" y="0"/>
            <a:ext cx="55134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9" name="Picture 4" descr="Новогодние гирлянды своими руками"/>
          <p:cNvPicPr/>
          <p:nvPr/>
        </p:nvPicPr>
        <p:blipFill>
          <a:blip r:embed="rId1"/>
          <a:srcRect l="0" t="18968" r="0" b="17406"/>
          <a:stretch/>
        </p:blipFill>
        <p:spPr>
          <a:xfrm>
            <a:off x="2316240" y="3348000"/>
            <a:ext cx="6622920" cy="3160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Новогодние гирлянды своими руками"/>
          <p:cNvPicPr/>
          <p:nvPr/>
        </p:nvPicPr>
        <p:blipFill>
          <a:blip r:embed="rId2"/>
          <a:srcRect l="0" t="20812" r="0" b="16761"/>
          <a:stretch/>
        </p:blipFill>
        <p:spPr>
          <a:xfrm>
            <a:off x="174600" y="201600"/>
            <a:ext cx="51642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Объемная новогодняя гирлянда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1076400" y="1739880"/>
            <a:ext cx="6813360" cy="511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Picture 4" descr="Новогодние гирлянды своими руками3"/>
          <p:cNvPicPr/>
          <p:nvPr/>
        </p:nvPicPr>
        <p:blipFill>
          <a:blip r:embed="rId1"/>
          <a:srcRect l="0" t="0" r="0" b="16593"/>
          <a:stretch/>
        </p:blipFill>
        <p:spPr>
          <a:xfrm>
            <a:off x="1692360" y="1987560"/>
            <a:ext cx="543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vashechudo.ru/images/19-1.jpg"/>
          <p:cNvPicPr/>
          <p:nvPr/>
        </p:nvPicPr>
        <p:blipFill>
          <a:blip r:embed="rId1"/>
          <a:stretch/>
        </p:blipFill>
        <p:spPr>
          <a:xfrm>
            <a:off x="3733920" y="3722760"/>
            <a:ext cx="3809880" cy="291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vashechudo.ru/images/19(5).jpg"/>
          <p:cNvPicPr/>
          <p:nvPr/>
        </p:nvPicPr>
        <p:blipFill>
          <a:blip r:embed="rId2"/>
          <a:stretch/>
        </p:blipFill>
        <p:spPr>
          <a:xfrm>
            <a:off x="179280" y="192240"/>
            <a:ext cx="6723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Актуальность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81000"/>
          </a:bodyPr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ирлянда — декоративное украшение, цепочка соединённых между собой изделий. 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ирлянда из бумаги сделанная своими руками – простое, недорогое и очень красивое решение для декорации праздника. 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акая гирлянда выглядит также эффектно как и покупная гирлянд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vashechudo.ru/images/19-2.jpg"/>
          <p:cNvPicPr/>
          <p:nvPr/>
        </p:nvPicPr>
        <p:blipFill>
          <a:blip r:embed="rId1"/>
          <a:stretch/>
        </p:blipFill>
        <p:spPr>
          <a:xfrm>
            <a:off x="517680" y="939960"/>
            <a:ext cx="8057880" cy="1611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новогодние гирлянды из бумаги"/>
          <p:cNvPicPr/>
          <p:nvPr/>
        </p:nvPicPr>
        <p:blipFill>
          <a:blip r:embed="rId2"/>
          <a:srcRect l="0" t="21392" r="0" b="26301"/>
          <a:stretch/>
        </p:blipFill>
        <p:spPr>
          <a:xfrm>
            <a:off x="730080" y="3790800"/>
            <a:ext cx="77565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Изготовление новогодних гирлянд: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2004480"/>
            <a:ext cx="7886880" cy="41720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вает мелкую моторику рук;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вает умения вырезывать разными приемами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пособствует интеллектуальному развитию;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вает уверенность в своих силах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вает фантазию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6240" y="365040"/>
            <a:ext cx="8566200" cy="216216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Благодарю за внимание</a:t>
            </a:r>
            <a:endParaRPr b="0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Цель</a:t>
            </a: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владеть моделированием гирлянды из бумаги для украшения и создания праздничного настроения;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Задачи</a:t>
            </a: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тие мелкой моторики;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вать умение вырезывать, пользуясь разнообразными приемами: по прямой в разных направлениях, с закруглениями, из бумаги, сложенной вдвое;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витие творческих способностей детей, педагогов и родителей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Особенности изготовление гирлянд своими руками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18840" y="1825200"/>
            <a:ext cx="794700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стота и доступность изготовление гирлянд;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тсутствие механизма оценивания;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зможность использования в самых разнообразных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формах работы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 детьми;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посредственно образова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овместная деятельность взрослого и детей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остоя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заимодействие с семьями воспитанников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звитие и развлечение одновременн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5600" y="282600"/>
            <a:ext cx="7886520" cy="128736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остые новогодние гирлянды </a:t>
            </a:r>
            <a:br>
              <a:rPr sz="1400"/>
            </a:br>
            <a:br>
              <a:rPr sz="1400"/>
            </a:b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7000" y="1936440"/>
            <a:ext cx="7840440" cy="55548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b">
            <a:normAutofit fontScale="77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овогодняя гирлянда из колец цветной бумаги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Picture 2" descr="Простые и несложные новогодние гирлянды из бумаги"/>
          <p:cNvPicPr/>
          <p:nvPr/>
        </p:nvPicPr>
        <p:blipFill>
          <a:blip r:embed="rId1"/>
          <a:stretch/>
        </p:blipFill>
        <p:spPr>
          <a:xfrm>
            <a:off x="655560" y="4734000"/>
            <a:ext cx="7996320" cy="181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Простые и несложные новогодние гирлянды из бумаги"/>
          <p:cNvPicPr/>
          <p:nvPr/>
        </p:nvPicPr>
        <p:blipFill>
          <a:blip r:embed="rId2"/>
          <a:stretch/>
        </p:blipFill>
        <p:spPr>
          <a:xfrm>
            <a:off x="717480" y="2759040"/>
            <a:ext cx="78310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ертикальные новогодние гирлянды </a:t>
            </a:r>
            <a:br>
              <a:rPr sz="1400"/>
            </a:b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841400" y="1825200"/>
            <a:ext cx="5446800" cy="50324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2" descr="Простые и несложные новогодние гирлянды из бумаги"/>
          <p:cNvPicPr/>
          <p:nvPr/>
        </p:nvPicPr>
        <p:blipFill>
          <a:blip r:embed="rId1"/>
          <a:stretch/>
        </p:blipFill>
        <p:spPr>
          <a:xfrm>
            <a:off x="2155680" y="1913040"/>
            <a:ext cx="47628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Содержимое 2"/>
          <p:cNvSpPr/>
          <p:nvPr/>
        </p:nvSpPr>
        <p:spPr>
          <a:xfrm>
            <a:off x="1841400" y="1825560"/>
            <a:ext cx="54468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1573200" y="216000"/>
            <a:ext cx="5889600" cy="37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0" name="Picture 4" descr="Простые и несложные новогодние гирлянды из бумаги"/>
          <p:cNvPicPr/>
          <p:nvPr/>
        </p:nvPicPr>
        <p:blipFill>
          <a:blip r:embed="rId1"/>
          <a:srcRect l="13289" t="4324" r="24593" b="42263"/>
          <a:stretch/>
        </p:blipFill>
        <p:spPr>
          <a:xfrm>
            <a:off x="1871640" y="565200"/>
            <a:ext cx="5281560" cy="3025800"/>
          </a:xfrm>
          <a:prstGeom prst="rect">
            <a:avLst/>
          </a:prstGeom>
          <a:ln w="0">
            <a:noFill/>
          </a:ln>
        </p:spPr>
      </p:pic>
      <p:sp>
        <p:nvSpPr>
          <p:cNvPr id="61" name="Содержимое 2"/>
          <p:cNvSpPr/>
          <p:nvPr/>
        </p:nvSpPr>
        <p:spPr>
          <a:xfrm>
            <a:off x="901800" y="3898800"/>
            <a:ext cx="7462800" cy="29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2" name="Picture 2" descr="Простые и несложные новогодние гирлянды из бумаги"/>
          <p:cNvPicPr/>
          <p:nvPr/>
        </p:nvPicPr>
        <p:blipFill>
          <a:blip r:embed="rId2"/>
          <a:srcRect l="0" t="8767" r="9315" b="39088"/>
          <a:stretch/>
        </p:blipFill>
        <p:spPr>
          <a:xfrm>
            <a:off x="1181160" y="4048200"/>
            <a:ext cx="68468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28560" y="766800"/>
            <a:ext cx="7886880" cy="48132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4" name="Picture 2" descr="Простые и несложные новогодние гирлянды из бумаги"/>
          <p:cNvPicPr/>
          <p:nvPr/>
        </p:nvPicPr>
        <p:blipFill>
          <a:blip r:embed="rId1"/>
          <a:stretch/>
        </p:blipFill>
        <p:spPr>
          <a:xfrm>
            <a:off x="766800" y="874800"/>
            <a:ext cx="76788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2:50:46Z</dcterms:created>
  <dc:creator>Инна</dc:creator>
  <dc:description/>
  <dc:language>en-US</dc:language>
  <cp:lastModifiedBy>Admin</cp:lastModifiedBy>
  <dcterms:modified xsi:type="dcterms:W3CDTF">2014-12-02T17:16:40Z</dcterms:modified>
  <cp:revision>48</cp:revision>
  <dc:subject/>
  <dc:title>Презентация PowerPoint</dc:title>
</cp:coreProperties>
</file>