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A63-B62E-4C85-A3B2-CE777F3A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B087-1014-488A-B417-3BFBF4CA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C465-6FF3-4CCE-A838-9C26ECF8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6DF5-FC4B-4EAB-9863-540D510D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7AE-A5DB-4CD0-9B90-E1214AF2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EF1-FEB3-4FC8-89E6-9177EAB8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780F-0387-4366-A968-34C416BF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396D-FC2A-4DD2-A30D-F4742BE3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6CE2-ED26-40AA-9E86-09142F7A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99C-5F59-481E-A85F-69EE89CD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D3CC-8862-4123-BB2C-670F2B5E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A20A-B529-437D-889E-DB177695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Monotype Corsiv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831B-AB1C-4D13-BFF5-BC17F6291AB4}" type="slidenum">
              <a:rPr b="0" lang="ru-RU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originalnie-podarki.com/wordpress/wp-content/uploads/2013/11/big-fringe-61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originalnie-podarki.com/wordpress/wp-content/uploads/2013/11/big-fringe-61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2000" y="2049480"/>
            <a:ext cx="8780400" cy="1689120"/>
          </a:xfrm>
          <a:prstGeom prst="rect">
            <a:avLst/>
          </a:prstGeom>
          <a:solidFill>
            <a:srgbClr val="5b9bd5">
              <a:alpha val="58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mic Sans MS"/>
              </a:rPr>
              <a:t>Изготовление новогодних гирлянд</a:t>
            </a:r>
            <a:endParaRPr b="0" lang="en-US" sz="6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5200" y="5041800"/>
            <a:ext cx="5864400" cy="144000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стерова Анастасия Вячеславовн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ДОУ ИРМО «Детский сад п. Молодежный»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28560" y="403200"/>
            <a:ext cx="7886880" cy="610560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6" name="Picture 2" descr="гирлянда из бумаги"/>
          <p:cNvPicPr/>
          <p:nvPr/>
        </p:nvPicPr>
        <p:blipFill>
          <a:blip r:embed="rId1"/>
          <a:stretch/>
        </p:blipFill>
        <p:spPr>
          <a:xfrm>
            <a:off x="776160" y="511200"/>
            <a:ext cx="762804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Спиральные  новогодние гирлянды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91840" y="1639440"/>
            <a:ext cx="5985000" cy="505620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9" name="Picture 2" descr="Простые и несложные новогодние гирлянды из бумаги"/>
          <p:cNvPicPr/>
          <p:nvPr/>
        </p:nvPicPr>
        <p:blipFill>
          <a:blip r:embed="rId1"/>
          <a:stretch/>
        </p:blipFill>
        <p:spPr>
          <a:xfrm>
            <a:off x="2259000" y="1841400"/>
            <a:ext cx="46260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Новогодние гирлянды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из цветного картона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28560" y="1825200"/>
            <a:ext cx="7886880" cy="477684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2" name="Picture 2" descr="Простые и несложные новогодние гирлянды из бумаги"/>
          <p:cNvPicPr/>
          <p:nvPr/>
        </p:nvPicPr>
        <p:blipFill>
          <a:blip r:embed="rId1"/>
          <a:stretch/>
        </p:blipFill>
        <p:spPr>
          <a:xfrm>
            <a:off x="1557360" y="1916280"/>
            <a:ext cx="593244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Содержимое 2"/>
          <p:cNvSpPr/>
          <p:nvPr/>
        </p:nvSpPr>
        <p:spPr>
          <a:xfrm>
            <a:off x="0" y="0"/>
            <a:ext cx="5473800" cy="462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4" name="Picture 2" descr="Простые и несложные новогодние гирлянды из бумаги"/>
          <p:cNvPicPr/>
          <p:nvPr/>
        </p:nvPicPr>
        <p:blipFill>
          <a:blip r:embed="rId1"/>
          <a:stretch/>
        </p:blipFill>
        <p:spPr>
          <a:xfrm>
            <a:off x="179280" y="258840"/>
            <a:ext cx="5078520" cy="4030560"/>
          </a:xfrm>
          <a:prstGeom prst="rect">
            <a:avLst/>
          </a:prstGeom>
          <a:ln w="0">
            <a:noFill/>
          </a:ln>
        </p:spPr>
      </p:pic>
      <p:sp>
        <p:nvSpPr>
          <p:cNvPr id="75" name="Содержимое 2"/>
          <p:cNvSpPr/>
          <p:nvPr/>
        </p:nvSpPr>
        <p:spPr>
          <a:xfrm>
            <a:off x="5218200" y="2138400"/>
            <a:ext cx="3925800" cy="47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6" name="Picture 2" descr="Простые и несложные новогодние гирлянды из бумаги"/>
          <p:cNvPicPr/>
          <p:nvPr/>
        </p:nvPicPr>
        <p:blipFill>
          <a:blip r:embed="rId2"/>
          <a:srcRect l="10739" t="0" r="0" b="10108"/>
          <a:stretch/>
        </p:blipFill>
        <p:spPr>
          <a:xfrm>
            <a:off x="5459400" y="2365200"/>
            <a:ext cx="350028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Гирлянда из ваты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8" name="Содержимое 2"/>
          <p:cNvSpPr/>
          <p:nvPr/>
        </p:nvSpPr>
        <p:spPr>
          <a:xfrm>
            <a:off x="1076400" y="1801800"/>
            <a:ext cx="6912000" cy="47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Picture 9" descr="http://adalin.mospsy.ru/img6/ny_317.jpg"/>
          <p:cNvPicPr/>
          <p:nvPr/>
        </p:nvPicPr>
        <p:blipFill>
          <a:blip r:embed="rId1"/>
          <a:stretch/>
        </p:blipFill>
        <p:spPr>
          <a:xfrm>
            <a:off x="1224000" y="1936800"/>
            <a:ext cx="658476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Новогодняя гирлянда из шишек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28560" y="1825560"/>
            <a:ext cx="7910640" cy="471024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2" name="Picture 2" descr="новогодние поделки из шишек"/>
          <p:cNvPicPr/>
          <p:nvPr/>
        </p:nvPicPr>
        <p:blipFill>
          <a:blip r:embed="rId1"/>
          <a:srcRect l="0" t="0" r="0" b="49666"/>
          <a:stretch/>
        </p:blipFill>
        <p:spPr>
          <a:xfrm>
            <a:off x="720720" y="1927080"/>
            <a:ext cx="5183280" cy="3652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новогодние поделки из шишек"/>
          <p:cNvPicPr/>
          <p:nvPr/>
        </p:nvPicPr>
        <p:blipFill>
          <a:blip r:embed="rId2"/>
          <a:srcRect l="0" t="49772" r="49741" b="0"/>
          <a:stretch/>
        </p:blipFill>
        <p:spPr>
          <a:xfrm>
            <a:off x="5959440" y="2932200"/>
            <a:ext cx="25383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Гирлянда из крепированной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цветной бумаги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85" name="Picture 2" descr="Новогодние игрушки своими руками">
            <a:hlinkClick r:id="rId1"/>
          </p:cNvPr>
          <p:cNvPicPr/>
          <p:nvPr/>
        </p:nvPicPr>
        <p:blipFill>
          <a:blip r:embed="rId2"/>
          <a:srcRect l="0" t="33079" r="0" b="33025"/>
          <a:stretch/>
        </p:blipFill>
        <p:spPr>
          <a:xfrm>
            <a:off x="189000" y="1841400"/>
            <a:ext cx="4852800" cy="246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Новогодние игрушки своими руками">
            <a:hlinkClick r:id="rId3"/>
          </p:cNvPr>
          <p:cNvPicPr/>
          <p:nvPr/>
        </p:nvPicPr>
        <p:blipFill>
          <a:blip r:embed="rId4"/>
          <a:srcRect l="0" t="66839" r="0" b="0"/>
          <a:stretch/>
        </p:blipFill>
        <p:spPr>
          <a:xfrm>
            <a:off x="4221000" y="4316400"/>
            <a:ext cx="47149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Содержимое 2"/>
          <p:cNvSpPr/>
          <p:nvPr/>
        </p:nvSpPr>
        <p:spPr>
          <a:xfrm>
            <a:off x="1963800" y="3011400"/>
            <a:ext cx="7180200" cy="384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Содержимое 2"/>
          <p:cNvSpPr/>
          <p:nvPr/>
        </p:nvSpPr>
        <p:spPr>
          <a:xfrm>
            <a:off x="0" y="0"/>
            <a:ext cx="551340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9" name="Picture 4" descr="Новогодние гирлянды своими руками"/>
          <p:cNvPicPr/>
          <p:nvPr/>
        </p:nvPicPr>
        <p:blipFill>
          <a:blip r:embed="rId1"/>
          <a:srcRect l="0" t="18968" r="0" b="17406"/>
          <a:stretch/>
        </p:blipFill>
        <p:spPr>
          <a:xfrm>
            <a:off x="2316240" y="3348000"/>
            <a:ext cx="6622920" cy="3160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Новогодние гирлянды своими руками"/>
          <p:cNvPicPr/>
          <p:nvPr/>
        </p:nvPicPr>
        <p:blipFill>
          <a:blip r:embed="rId2"/>
          <a:srcRect l="0" t="20812" r="0" b="16761"/>
          <a:stretch/>
        </p:blipFill>
        <p:spPr>
          <a:xfrm>
            <a:off x="174600" y="201600"/>
            <a:ext cx="51642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Объемная новогодняя гирлянда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1076400" y="1739880"/>
            <a:ext cx="6813360" cy="511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3" name="Picture 4" descr="Новогодние гирлянды своими руками3"/>
          <p:cNvPicPr/>
          <p:nvPr/>
        </p:nvPicPr>
        <p:blipFill>
          <a:blip r:embed="rId1"/>
          <a:srcRect l="0" t="0" r="0" b="16593"/>
          <a:stretch/>
        </p:blipFill>
        <p:spPr>
          <a:xfrm>
            <a:off x="1692360" y="1987560"/>
            <a:ext cx="5430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vashechudo.ru/images/19-1.jpg"/>
          <p:cNvPicPr/>
          <p:nvPr/>
        </p:nvPicPr>
        <p:blipFill>
          <a:blip r:embed="rId1"/>
          <a:stretch/>
        </p:blipFill>
        <p:spPr>
          <a:xfrm>
            <a:off x="3733920" y="3722760"/>
            <a:ext cx="3809880" cy="2914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vashechudo.ru/images/19(5).jpg"/>
          <p:cNvPicPr/>
          <p:nvPr/>
        </p:nvPicPr>
        <p:blipFill>
          <a:blip r:embed="rId2"/>
          <a:stretch/>
        </p:blipFill>
        <p:spPr>
          <a:xfrm>
            <a:off x="179280" y="192240"/>
            <a:ext cx="67230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Актуальность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 fontScale="81000"/>
          </a:bodyPr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Гирлянда — декоративное украшение, цепочка соединённых между собой изделий. 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Гирлянда из бумаги сделанная своими руками – простое, недорогое и очень красивое решение для декорации праздника. 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акая гирлянда выглядит также эффектно как и покупная гирлянд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vashechudo.ru/images/19-2.jpg"/>
          <p:cNvPicPr/>
          <p:nvPr/>
        </p:nvPicPr>
        <p:blipFill>
          <a:blip r:embed="rId1"/>
          <a:stretch/>
        </p:blipFill>
        <p:spPr>
          <a:xfrm>
            <a:off x="517680" y="939960"/>
            <a:ext cx="8057880" cy="1611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новогодние гирлянды из бумаги"/>
          <p:cNvPicPr/>
          <p:nvPr/>
        </p:nvPicPr>
        <p:blipFill>
          <a:blip r:embed="rId2"/>
          <a:srcRect l="0" t="21392" r="0" b="26301"/>
          <a:stretch/>
        </p:blipFill>
        <p:spPr>
          <a:xfrm>
            <a:off x="730080" y="3790800"/>
            <a:ext cx="77565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Изготовление новогодних гирлянд: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8560" y="2004480"/>
            <a:ext cx="7886880" cy="417204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вивает мелкую моторику рук;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вивает умения вырезывать разными приемами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пособствует интеллектуальному развитию;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вивает уверенность в своих силах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вивает фантазию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6240" y="365040"/>
            <a:ext cx="8566200" cy="216216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Благодарю за внимание</a:t>
            </a:r>
            <a:endParaRPr b="0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Цель</a:t>
            </a: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владеть моделированием гирлянды из бумаги для украшения и создания праздничного настроения;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Задачи</a:t>
            </a: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витие мелкой моторики;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вивать умение вырезывать, пользуясь разнообразными приемами: по прямой в разных направлениях, с закруглениями, из бумаги, сложенной вдвое;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витие творческих способностей детей, педагогов и родителей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Особенности изготовление гирлянд своими руками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18840" y="1825200"/>
            <a:ext cx="7947000" cy="435132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 fontScale="87000"/>
          </a:bodyPr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остота и доступность изготовление гирлянд;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тсутствие механизма оценивания;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озможность использования в самых разнообразных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формах работы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 детьми;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посредственно образовательная деятельность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овместная деятельность взрослого и детей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мостоятельная деятельность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заимодействие с семьями воспитанников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азвитие и развлечение одновременно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5600" y="282600"/>
            <a:ext cx="7886520" cy="128736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остые новогодние гирлянды </a:t>
            </a:r>
            <a:br>
              <a:rPr sz="1400"/>
            </a:br>
            <a:br>
              <a:rPr sz="1400"/>
            </a:b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7000" y="1936440"/>
            <a:ext cx="7840440" cy="55548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b">
            <a:normAutofit fontScale="77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овогодняя гирлянда из колец цветной бумаги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3" name="Picture 2" descr="Простые и несложные новогодние гирлянды из бумаги"/>
          <p:cNvPicPr/>
          <p:nvPr/>
        </p:nvPicPr>
        <p:blipFill>
          <a:blip r:embed="rId1"/>
          <a:stretch/>
        </p:blipFill>
        <p:spPr>
          <a:xfrm>
            <a:off x="655560" y="4734000"/>
            <a:ext cx="7996320" cy="1811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Простые и несложные новогодние гирлянды из бумаги"/>
          <p:cNvPicPr/>
          <p:nvPr/>
        </p:nvPicPr>
        <p:blipFill>
          <a:blip r:embed="rId2"/>
          <a:stretch/>
        </p:blipFill>
        <p:spPr>
          <a:xfrm>
            <a:off x="717480" y="2759040"/>
            <a:ext cx="783108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Вертикальные новогодние гирлянды </a:t>
            </a:r>
            <a:br>
              <a:rPr sz="1400"/>
            </a:b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841400" y="1825200"/>
            <a:ext cx="5446800" cy="503244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Picture 2" descr="Простые и несложные новогодние гирлянды из бумаги"/>
          <p:cNvPicPr/>
          <p:nvPr/>
        </p:nvPicPr>
        <p:blipFill>
          <a:blip r:embed="rId1"/>
          <a:stretch/>
        </p:blipFill>
        <p:spPr>
          <a:xfrm>
            <a:off x="2155680" y="1913040"/>
            <a:ext cx="47628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Содержимое 2"/>
          <p:cNvSpPr/>
          <p:nvPr/>
        </p:nvSpPr>
        <p:spPr>
          <a:xfrm>
            <a:off x="1841400" y="1825560"/>
            <a:ext cx="544680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Содержимое 2"/>
          <p:cNvSpPr/>
          <p:nvPr/>
        </p:nvSpPr>
        <p:spPr>
          <a:xfrm>
            <a:off x="1573200" y="216000"/>
            <a:ext cx="5889600" cy="372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0" name="Picture 4" descr="Простые и несложные новогодние гирлянды из бумаги"/>
          <p:cNvPicPr/>
          <p:nvPr/>
        </p:nvPicPr>
        <p:blipFill>
          <a:blip r:embed="rId1"/>
          <a:srcRect l="13289" t="4324" r="24593" b="42263"/>
          <a:stretch/>
        </p:blipFill>
        <p:spPr>
          <a:xfrm>
            <a:off x="1871640" y="565200"/>
            <a:ext cx="5281560" cy="3025800"/>
          </a:xfrm>
          <a:prstGeom prst="rect">
            <a:avLst/>
          </a:prstGeom>
          <a:ln w="0">
            <a:noFill/>
          </a:ln>
        </p:spPr>
      </p:pic>
      <p:sp>
        <p:nvSpPr>
          <p:cNvPr id="61" name="Содержимое 2"/>
          <p:cNvSpPr/>
          <p:nvPr/>
        </p:nvSpPr>
        <p:spPr>
          <a:xfrm>
            <a:off x="901800" y="3898800"/>
            <a:ext cx="7462800" cy="29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2" name="Picture 2" descr="Простые и несложные новогодние гирлянды из бумаги"/>
          <p:cNvPicPr/>
          <p:nvPr/>
        </p:nvPicPr>
        <p:blipFill>
          <a:blip r:embed="rId2"/>
          <a:srcRect l="0" t="8767" r="9315" b="39088"/>
          <a:stretch/>
        </p:blipFill>
        <p:spPr>
          <a:xfrm>
            <a:off x="1181160" y="4048200"/>
            <a:ext cx="684684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28560" y="766800"/>
            <a:ext cx="7886880" cy="481320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4" name="Picture 2" descr="Простые и несложные новогодние гирлянды из бумаги"/>
          <p:cNvPicPr/>
          <p:nvPr/>
        </p:nvPicPr>
        <p:blipFill>
          <a:blip r:embed="rId1"/>
          <a:stretch/>
        </p:blipFill>
        <p:spPr>
          <a:xfrm>
            <a:off x="766800" y="874800"/>
            <a:ext cx="76788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12:50:46Z</dcterms:created>
  <dc:creator>Инна</dc:creator>
  <dc:description/>
  <dc:language>en-US</dc:language>
  <cp:lastModifiedBy>Admin</cp:lastModifiedBy>
  <dcterms:modified xsi:type="dcterms:W3CDTF">2014-12-02T17:16:40Z</dcterms:modified>
  <cp:revision>48</cp:revision>
  <dc:subject/>
  <dc:title>Презентация PowerPoint</dc:title>
</cp:coreProperties>
</file>