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A4C-0DCC-450C-BDCE-C73BCBF0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19C-199A-411E-81D5-0B35123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549-F62A-4197-9F45-D362424C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67E-623E-4C88-A395-2B265916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590-79C7-4E96-B692-A2A2C3F1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B19-9FD6-4341-9110-0AB5B4D7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82E-D732-4C64-AB8B-0A5596BC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4A2-7699-4F01-99EF-CAFD6BD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166-2474-4197-AB74-A0FA46E0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B00-63E0-40C5-A189-8570A15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312-3D7C-4C83-ACD3-971D636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32F-4BCF-4D4C-8A5B-1745E87D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F9F0-E19F-477D-8CB2-A148778BC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51433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85720" y="1357200"/>
            <a:ext cx="5643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Отделка ткан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1"/>
          <a:stretch/>
        </p:blipFill>
        <p:spPr>
          <a:xfrm>
            <a:off x="109440" y="-60480"/>
            <a:ext cx="6973920" cy="1187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13.jpg"/>
          <p:cNvPicPr/>
          <p:nvPr/>
        </p:nvPicPr>
        <p:blipFill>
          <a:blip r:embed="rId2"/>
          <a:stretch/>
        </p:blipFill>
        <p:spPr>
          <a:xfrm>
            <a:off x="5857920" y="2293920"/>
            <a:ext cx="3286080" cy="4356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7+.jpg"/>
          <p:cNvPicPr/>
          <p:nvPr/>
        </p:nvPicPr>
        <p:blipFill>
          <a:blip r:embed="rId3"/>
          <a:stretch/>
        </p:blipFill>
        <p:spPr>
          <a:xfrm>
            <a:off x="142920" y="1595520"/>
            <a:ext cx="385776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ение лицевой и изнаночной сторон тка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571760"/>
          <a:ext cx="8786880" cy="4929120"/>
        </p:xfrm>
        <a:graphic>
          <a:graphicData uri="http://schemas.openxmlformats.org/drawingml/2006/table">
            <a:tbl>
              <a:tblPr/>
              <a:tblGrid>
                <a:gridCol w="1368360"/>
                <a:gridCol w="1378080"/>
                <a:gridCol w="1235160"/>
                <a:gridCol w="1235160"/>
                <a:gridCol w="1927080"/>
                <a:gridCol w="1643040"/>
              </a:tblGrid>
              <a:tr h="82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роны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цы тк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ча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абив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блес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ор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окраше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стротка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нан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ение лицевой и изнаночной сторон тка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2920" y="1643040"/>
          <a:ext cx="8858160" cy="4836960"/>
        </p:xfrm>
        <a:graphic>
          <a:graphicData uri="http://schemas.openxmlformats.org/drawingml/2006/table">
            <a:tbl>
              <a:tblPr/>
              <a:tblGrid>
                <a:gridCol w="1368360"/>
                <a:gridCol w="1303200"/>
                <a:gridCol w="1476360"/>
                <a:gridCol w="1406520"/>
                <a:gridCol w="1791000"/>
                <a:gridCol w="1512720"/>
              </a:tblGrid>
              <a:tr h="72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роны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цы тк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ча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абивн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бл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орс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окраше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стротка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15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кий, яркий рису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стящая поверх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рхность с длинным ворс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 поверх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 поверх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7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нан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четкий и бледный рису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овая поверх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рхность гладкая или с коротким ворс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рхность с техническими узелками и ворсин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рхность с техническими узелками и ворсин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428760" y="857160"/>
            <a:ext cx="642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орублева Валенти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итель шк. № 287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дмиралтейского райо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 Санкт-Петербур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012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Отделка ткан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изводится на красильно- отделочных фабрик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яд химических операций: удаление ненужных примесей, придание белизны, окраски и блес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яд механических операций: повышение прочности, мягкости, улучшение внешнего ви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Основные процессы отделки ткан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786880" cy="52862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142920" y="1143000"/>
            <a:ext cx="4572000" cy="285768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Предварительн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палива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удаление волокон с            поверхност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сшлихтов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удаление крахмал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варива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удаление загрязнени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ерсеризац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повышение прочност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мыв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е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4857840" y="1500120"/>
            <a:ext cx="4143240" cy="85716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Краш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142920" y="4143240"/>
            <a:ext cx="4572000" cy="714600"/>
          </a:xfrm>
          <a:prstGeom prst="rect">
            <a:avLst/>
          </a:prstGeom>
          <a:solidFill>
            <a:srgbClr val="6b853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Печат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4857840" y="2643120"/>
            <a:ext cx="4143240" cy="250056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Заключительная отдел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ппретирование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повышение износостойкост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Шире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выравнивани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аландрова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 разглаживание, придание блеск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14200" y="5286240"/>
            <a:ext cx="864396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пециальные отдел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донепроницаемая, противоусадочная, несминаемая, огнеупорная, гофрирование, тиснение, ворс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1"/>
          <p:cNvSpPr/>
          <p:nvPr/>
        </p:nvSpPr>
        <p:spPr>
          <a:xfrm>
            <a:off x="142920" y="285840"/>
            <a:ext cx="4143240" cy="1571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Суров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3000240" y="928800"/>
            <a:ext cx="4500720" cy="157140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тбеленн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1071720" y="1785960"/>
            <a:ext cx="3143160" cy="1571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Набив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3929040" y="2786040"/>
            <a:ext cx="5214960" cy="15717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ладкокраше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Овал 5"/>
          <p:cNvGrpSpPr/>
          <p:nvPr/>
        </p:nvGrpSpPr>
        <p:grpSpPr>
          <a:xfrm>
            <a:off x="341280" y="4767120"/>
            <a:ext cx="4675320" cy="1609920"/>
            <a:chOff x="341280" y="4767120"/>
            <a:chExt cx="4675320" cy="1609920"/>
          </a:xfrm>
        </p:grpSpPr>
        <p:pic>
          <p:nvPicPr>
            <p:cNvPr id="60" name="Овал 5" descr=""/>
            <p:cNvPicPr/>
            <p:nvPr/>
          </p:nvPicPr>
          <p:blipFill>
            <a:blip r:embed="rId3"/>
            <a:stretch/>
          </p:blipFill>
          <p:spPr>
            <a:xfrm>
              <a:off x="341280" y="4767120"/>
              <a:ext cx="467532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036800" y="5016600"/>
              <a:ext cx="32842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Пестротканая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857160"/>
            <a:ext cx="44290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Отделка тканей:</a:t>
            </a:r>
            <a:br>
              <a:rPr sz="4400"/>
            </a:b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крашение и печа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крас.цех.jpg"/>
          <p:cNvPicPr/>
          <p:nvPr/>
        </p:nvPicPr>
        <p:blipFill>
          <a:blip r:embed="rId1"/>
          <a:stretch/>
        </p:blipFill>
        <p:spPr>
          <a:xfrm>
            <a:off x="4997520" y="142920"/>
            <a:ext cx="4146480" cy="3808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4200" y="407196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 опускается в большой чан с красителем. Вращающийся барабан перемещает окрашиваемую массу в красите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85840"/>
            <a:ext cx="364320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Печат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печ..jpg"/>
          <p:cNvPicPr/>
          <p:nvPr/>
        </p:nvPicPr>
        <p:blipFill>
          <a:blip r:embed="rId1"/>
          <a:srcRect l="0" t="0" r="0" b="7485"/>
          <a:stretch/>
        </p:blipFill>
        <p:spPr>
          <a:xfrm>
            <a:off x="4143240" y="3693960"/>
            <a:ext cx="4881600" cy="3164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85010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чатанием, или набивкой ткани называется нанесение на нее краски в соответствии с заданным рисунком. Наиболее распространенный метод – валковое печатание прямыми красителями. Ткань пропускается между большим чугунным пустотелым цилиндром (грузовиком) и одним или несколькими медными печатными валк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f67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85840" y="428760"/>
            <a:ext cx="84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алках выгравирован нужный рисунок; они забирают в углубления рисунка пастообразную краску и переносят ее непосредственно на ткань. Каждый валок наносит свой цвет, и предусматривается столько валков, сколько требуется рисунк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5" descr="печатн.маш..jpg"/>
          <p:cNvPicPr/>
          <p:nvPr/>
        </p:nvPicPr>
        <p:blipFill>
          <a:blip r:embed="rId1"/>
          <a:stretch/>
        </p:blipFill>
        <p:spPr>
          <a:xfrm>
            <a:off x="3714840" y="3357720"/>
            <a:ext cx="5178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ee5c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35712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Пестротка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14560" y="3857400"/>
            <a:ext cx="53290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рашивают исходный волокнистый материал до его пря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са волокон вращается в барабане и  опускается в большой чан с красител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5" descr="краш.пряжи.jpg"/>
          <p:cNvPicPr/>
          <p:nvPr/>
        </p:nvPicPr>
        <p:blipFill>
          <a:blip r:embed="rId1"/>
          <a:srcRect l="0" t="0" r="4031" b="0"/>
          <a:stretch/>
        </p:blipFill>
        <p:spPr>
          <a:xfrm>
            <a:off x="1143000" y="142920"/>
            <a:ext cx="685656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лен+.jpg"/>
          <p:cNvPicPr/>
          <p:nvPr/>
        </p:nvPicPr>
        <p:blipFill>
          <a:blip r:embed="rId2"/>
          <a:srcRect l="0" t="52398" r="28750" b="0"/>
          <a:stretch/>
        </p:blipFill>
        <p:spPr>
          <a:xfrm>
            <a:off x="928800" y="4000680"/>
            <a:ext cx="2792160" cy="257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цевая и изнаночная стороны тка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кань имеет две стороны – лицевую и изнаночную. Их определяют по признак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унк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ес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рс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тоте отдел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0:13:10Z</dcterms:created>
  <dc:creator>Admin</dc:creator>
  <dc:description/>
  <dc:language>en-US</dc:language>
  <cp:lastModifiedBy>Admin</cp:lastModifiedBy>
  <dcterms:modified xsi:type="dcterms:W3CDTF">2015-01-30T21:22:28Z</dcterms:modified>
  <cp:revision>7</cp:revision>
  <dc:subject/>
  <dc:title>Слайд 1</dc:title>
</cp:coreProperties>
</file>