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DE0-4137-4D3F-90E6-714E8126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392-CA23-4641-A6D8-F5C4AAD5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9F6-D6C8-4AE2-9010-305B9772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A08-9F56-4D0B-BB1B-92BC0334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1C7-621C-43B0-9072-BDEB4BD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A09-0615-4B09-A5FD-525BECFF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D6-BA11-4146-BD1C-0C54480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7F3-0AD9-4553-8ABC-8EF6D10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291-E1AF-44CE-AD59-58E0CC6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94B-F9B5-452D-BF75-C7E1E27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AF5-FD50-4E74-807B-F97EF23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E8B-F7D6-454E-B686-376ACFB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778-14CA-4952-B77D-18422E3CF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5143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5720" y="1357200"/>
            <a:ext cx="5643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Отделка ткан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09440" y="-60480"/>
            <a:ext cx="6973920" cy="1187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3.jpg"/>
          <p:cNvPicPr/>
          <p:nvPr/>
        </p:nvPicPr>
        <p:blipFill>
          <a:blip r:embed="rId2"/>
          <a:stretch/>
        </p:blipFill>
        <p:spPr>
          <a:xfrm>
            <a:off x="5857920" y="2293920"/>
            <a:ext cx="3286080" cy="4356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7+.jpg"/>
          <p:cNvPicPr/>
          <p:nvPr/>
        </p:nvPicPr>
        <p:blipFill>
          <a:blip r:embed="rId3"/>
          <a:stretch/>
        </p:blipFill>
        <p:spPr>
          <a:xfrm>
            <a:off x="142920" y="1595520"/>
            <a:ext cx="385776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лицевой и изнаночной сторон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571760"/>
          <a:ext cx="8786880" cy="4929120"/>
        </p:xfrm>
        <a:graphic>
          <a:graphicData uri="http://schemas.openxmlformats.org/drawingml/2006/table">
            <a:tbl>
              <a:tblPr/>
              <a:tblGrid>
                <a:gridCol w="1368360"/>
                <a:gridCol w="1378080"/>
                <a:gridCol w="1235160"/>
                <a:gridCol w="1235160"/>
                <a:gridCol w="1927080"/>
                <a:gridCol w="1643040"/>
              </a:tblGrid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роны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цы тк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ча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бив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блес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ор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окраш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отка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нан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лицевой и изнаночной сторон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2920" y="1643040"/>
          <a:ext cx="8858160" cy="4836960"/>
        </p:xfrm>
        <a:graphic>
          <a:graphicData uri="http://schemas.openxmlformats.org/drawingml/2006/table">
            <a:tbl>
              <a:tblPr/>
              <a:tblGrid>
                <a:gridCol w="1368360"/>
                <a:gridCol w="1303200"/>
                <a:gridCol w="1476360"/>
                <a:gridCol w="1406520"/>
                <a:gridCol w="1791000"/>
                <a:gridCol w="1512720"/>
              </a:tblGrid>
              <a:tr h="72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роны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цы тк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ча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бив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бл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окраше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отка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кий, яркий рису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тящ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длинным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7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нан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четкий и бледный рису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ов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гладкая или с коротким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техническими узелками и ворсин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техническими узелками и ворсин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28760" y="857160"/>
            <a:ext cx="642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орублева Валенти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ь шк. № 28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дмиралтейского райо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Санкт-Петербур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012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Отделка ткан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одится на красильно- отделочных фабрик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яд химических операций: удаление ненужных примесей, придание белизны, окраски и блес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яд механических операций: повышение прочности, мягкости, улучшение внешнего ви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Основные процессы отделки тка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786880" cy="52862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142920" y="1143000"/>
            <a:ext cx="4572000" cy="28576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Предварите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пали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волокон с            поверхн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шлихтов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крахмал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вари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загрязнени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рсериз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повышение прочн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мы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4857840" y="1500120"/>
            <a:ext cx="4143240" cy="85716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Кра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42920" y="4143240"/>
            <a:ext cx="4572000" cy="714600"/>
          </a:xfrm>
          <a:prstGeom prst="rect">
            <a:avLst/>
          </a:prstGeom>
          <a:solidFill>
            <a:srgbClr val="6b853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ечат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4857840" y="2643120"/>
            <a:ext cx="4143240" cy="250056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Заключительная отдел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ппретирование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овышение износостойк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ир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выравнивани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ландро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разглаживание, придание блеск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14200" y="5286240"/>
            <a:ext cx="864396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пециальные отде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онепроницаемая, противоусадочная, несминаемая, огнеупорная, гофрирование, тиснение, ворс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1"/>
          <p:cNvSpPr/>
          <p:nvPr/>
        </p:nvSpPr>
        <p:spPr>
          <a:xfrm>
            <a:off x="142920" y="285840"/>
            <a:ext cx="4143240" cy="1571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Суров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3000240" y="928800"/>
            <a:ext cx="4500720" cy="15714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тбеленн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1071720" y="1785960"/>
            <a:ext cx="3143160" cy="1571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Наби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3929040" y="2786040"/>
            <a:ext cx="5214960" cy="15717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ладкокраше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Овал 5"/>
          <p:cNvGrpSpPr/>
          <p:nvPr/>
        </p:nvGrpSpPr>
        <p:grpSpPr>
          <a:xfrm>
            <a:off x="341280" y="4767120"/>
            <a:ext cx="4675320" cy="1609920"/>
            <a:chOff x="341280" y="4767120"/>
            <a:chExt cx="4675320" cy="1609920"/>
          </a:xfrm>
        </p:grpSpPr>
        <p:pic>
          <p:nvPicPr>
            <p:cNvPr id="60" name="Овал 5" descr=""/>
            <p:cNvPicPr/>
            <p:nvPr/>
          </p:nvPicPr>
          <p:blipFill>
            <a:blip r:embed="rId3"/>
            <a:stretch/>
          </p:blipFill>
          <p:spPr>
            <a:xfrm>
              <a:off x="341280" y="4767120"/>
              <a:ext cx="46753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036800" y="5016600"/>
              <a:ext cx="32842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естроткана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4429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Отделка тканей:</a:t>
            </a: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крашение и печа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крас.цех.jpg"/>
          <p:cNvPicPr/>
          <p:nvPr/>
        </p:nvPicPr>
        <p:blipFill>
          <a:blip r:embed="rId1"/>
          <a:stretch/>
        </p:blipFill>
        <p:spPr>
          <a:xfrm>
            <a:off x="4997520" y="142920"/>
            <a:ext cx="4146480" cy="3808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407196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 опускается в большой чан с красителем. Вращающийся барабан перемещает окрашиваемую массу в красите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364320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Печат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печ..jpg"/>
          <p:cNvPicPr/>
          <p:nvPr/>
        </p:nvPicPr>
        <p:blipFill>
          <a:blip r:embed="rId1"/>
          <a:srcRect l="0" t="0" r="0" b="7485"/>
          <a:stretch/>
        </p:blipFill>
        <p:spPr>
          <a:xfrm>
            <a:off x="4143240" y="3693960"/>
            <a:ext cx="4881600" cy="3164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танием, или набивкой ткани называется нанесение на нее краски в соответствии с заданным рисунком. Наиболее распространенный метод – валковое печатание прямыми красителями. Ткань пропускается между большим чугунным пустотелым цилиндром (грузовиком) и одним или несколькими медными печатными вал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f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85840" y="428760"/>
            <a:ext cx="84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алках выгравирован нужный рисунок; они забирают в углубления рисунка пастообразную краску и переносят ее непосредственно на ткань. Каждый валок наносит свой цвет, и предусматривается столько валков, сколько требуется рисун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печатн.маш..jpg"/>
          <p:cNvPicPr/>
          <p:nvPr/>
        </p:nvPicPr>
        <p:blipFill>
          <a:blip r:embed="rId1"/>
          <a:stretch/>
        </p:blipFill>
        <p:spPr>
          <a:xfrm>
            <a:off x="3714840" y="3357720"/>
            <a:ext cx="5178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35712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Пестротка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14560" y="3857400"/>
            <a:ext cx="5329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ашивают исходный волокнистый материал до его пря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а волокон вращается в барабане и  опускается в большой чан с красите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краш.пряжи.jpg"/>
          <p:cNvPicPr/>
          <p:nvPr/>
        </p:nvPicPr>
        <p:blipFill>
          <a:blip r:embed="rId1"/>
          <a:srcRect l="0" t="0" r="4031" b="0"/>
          <a:stretch/>
        </p:blipFill>
        <p:spPr>
          <a:xfrm>
            <a:off x="1143000" y="142920"/>
            <a:ext cx="685656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лен+.jpg"/>
          <p:cNvPicPr/>
          <p:nvPr/>
        </p:nvPicPr>
        <p:blipFill>
          <a:blip r:embed="rId2"/>
          <a:srcRect l="0" t="52398" r="28750" b="0"/>
          <a:stretch/>
        </p:blipFill>
        <p:spPr>
          <a:xfrm>
            <a:off x="928800" y="4000680"/>
            <a:ext cx="279216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цевая и изнаночная стороны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нь имеет две стороны – лицевую и изнаночную. Их определяют по признак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унк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ес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р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тоте отдел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0:13:10Z</dcterms:created>
  <dc:creator>Admin</dc:creator>
  <dc:description/>
  <dc:language>en-US</dc:language>
  <cp:lastModifiedBy>Admin</cp:lastModifiedBy>
  <dcterms:modified xsi:type="dcterms:W3CDTF">2015-01-30T21:22:28Z</dcterms:modified>
  <cp:revision>7</cp:revision>
  <dc:subject/>
  <dc:title>Слайд 1</dc:title>
</cp:coreProperties>
</file>