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5E6-39B8-492D-BB75-1E1A07A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F38-D04C-44C5-80D7-D88E4C5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CFE-F4FA-4D78-95B6-18EE2C2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A25-A2A1-4E1D-9E71-A8B7FBEB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D79-BD41-4CAE-A4FE-8D2811BA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93B-E05D-4F19-AAC5-3676CA7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1E3-A2A5-4873-90DB-DEAA7D8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5C5-FC90-4353-A7C8-81C7105F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5AA-0BB3-4660-9789-2A3064EC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135-6F53-4878-895E-8CCB6C1E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C17-F861-41B2-B86C-5F53B4A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29E-4C01-4338-87D5-9983176A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7A60-BAC7-43ED-A0CD-DEE11829F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9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рояль"/>
          <p:cNvPicPr/>
          <p:nvPr/>
        </p:nvPicPr>
        <p:blipFill>
          <a:blip r:embed="rId2"/>
          <a:stretch/>
        </p:blipFill>
        <p:spPr>
          <a:xfrm>
            <a:off x="2268360" y="981000"/>
            <a:ext cx="4291200" cy="4843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27"/>
          <p:cNvSpPr txBox="1"/>
          <p:nvPr/>
        </p:nvSpPr>
        <p:spPr>
          <a:xfrm>
            <a:off x="395280" y="1557360"/>
            <a:ext cx="8424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8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МУЗЫ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46" name="Picture 30" descr="скрипк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20508600">
            <a:off x="631800" y="1996920"/>
            <a:ext cx="635040" cy="185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Гитар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22000">
            <a:off x="2187360" y="2472840"/>
            <a:ext cx="579240" cy="15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аккордеон"/>
          <p:cNvPicPr/>
          <p:nvPr/>
        </p:nvPicPr>
        <p:blipFill>
          <a:blip r:embed="rId9"/>
          <a:stretch/>
        </p:blipFill>
        <p:spPr>
          <a:xfrm>
            <a:off x="6357960" y="3000240"/>
            <a:ext cx="1014480" cy="9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саксофон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 rot="20331600">
            <a:off x="8175600" y="2158560"/>
            <a:ext cx="67644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357200" y="107172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ратино потяну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1428840" y="18572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 нагнулся, два нагну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357200" y="257184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уки в стороны развел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1357200" y="335772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ючик видно не наш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357200" y="40006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бы ключик нам до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1357200" y="46432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жно на носочки вс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Рисунок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84360" y="1989000"/>
            <a:ext cx="771516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лективная форма творчества, пение в классе способствует раскрепощению стеснительных, неуверенных в себе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0_4a88_fc513545_L.jpg"/>
          <p:cNvPicPr/>
          <p:nvPr/>
        </p:nvPicPr>
        <p:blipFill>
          <a:blip r:embed="rId2"/>
          <a:stretch/>
        </p:blipFill>
        <p:spPr>
          <a:xfrm>
            <a:off x="785880" y="85716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71680" y="928800"/>
            <a:ext cx="83581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Acquest Script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cquest Script"/>
              </a:rPr>
              <a:t>агадки развивают фантазию детей, с их помощью школьники с интересом включаются в мыслительное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214200" y="1285920"/>
            <a:ext cx="857268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Champignon script"/>
              </a:rPr>
              <a:t>Дети рисуют 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Champignon script"/>
              </a:rPr>
              <a:t>музыку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минорики.jpg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257480" y="1357200"/>
            <a:ext cx="6457680" cy="45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214720" y="928800"/>
            <a:ext cx="4443120" cy="535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346860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929120" y="1357200"/>
            <a:ext cx="3308400" cy="2373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2286000" y="3357720"/>
            <a:ext cx="40831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642960" y="357192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lero script"/>
              </a:rPr>
              <a:t>помогает расширить границы восприятия, развивая воображение, формируя интерес к музыкальному искусств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14240" y="121428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Arial"/>
              </a:rPr>
              <a:t>Виж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285920" y="20718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Arial"/>
              </a:rPr>
              <a:t>Слыш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286000" y="285768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Arial"/>
              </a:rPr>
              <a:t>Чувству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2"/>
          <a:stretch/>
        </p:blipFill>
        <p:spPr>
          <a:xfrm>
            <a:off x="1073160" y="1457280"/>
            <a:ext cx="70707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8:52:55Z</dcterms:created>
  <dc:creator>User</dc:creator>
  <dc:description/>
  <dc:language>en-US</dc:language>
  <cp:lastModifiedBy>Uchitelskaya</cp:lastModifiedBy>
  <dcterms:modified xsi:type="dcterms:W3CDTF">2014-12-26T09:36:15Z</dcterms:modified>
  <cp:revision>38</cp:revision>
  <dc:subject/>
  <dc:title>Слайд 1</dc:title>
</cp:coreProperties>
</file>