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3B2C-0536-4CB3-8FB9-F66019E9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E998-D451-4B48-AA3A-430EF306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03CE-1634-412A-9259-2041C359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9403-3CBA-4BF6-B377-8277A2C0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40B8-55D9-4B52-A020-66DE6CAD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C6A1-BB95-43BF-ADEA-394851FE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A58D-9EDF-4CAC-912A-9C58B58E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FD93-EA0C-455A-B376-043B761D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4E88-3802-452A-A9D3-37F69826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C560-E6BF-4E32-BA0F-588393E1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CA9E-7CDC-47F1-87FD-9FDACE89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7A90-1BF4-4043-A8FF-06355E61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70F7-4DBC-4C52-B39F-C138D714B5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6.xml"/><Relationship Id="rId6" Type="http://schemas.openxmlformats.org/officeDocument/2006/relationships/image" Target="../media/image4.png"/><Relationship Id="rId7" Type="http://schemas.openxmlformats.org/officeDocument/2006/relationships/slide" Target="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" Target="slide9.xml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фон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9" descr="рояль"/>
          <p:cNvPicPr/>
          <p:nvPr/>
        </p:nvPicPr>
        <p:blipFill>
          <a:blip r:embed="rId2"/>
          <a:stretch/>
        </p:blipFill>
        <p:spPr>
          <a:xfrm>
            <a:off x="2268360" y="981000"/>
            <a:ext cx="4291200" cy="4843440"/>
          </a:xfrm>
          <a:prstGeom prst="rect">
            <a:avLst/>
          </a:prstGeom>
          <a:ln w="0">
            <a:noFill/>
          </a:ln>
        </p:spPr>
      </p:pic>
      <p:sp>
        <p:nvSpPr>
          <p:cNvPr id="45" name="WordArt 27"/>
          <p:cNvSpPr txBox="1"/>
          <p:nvPr/>
        </p:nvSpPr>
        <p:spPr>
          <a:xfrm>
            <a:off x="395280" y="1557360"/>
            <a:ext cx="842472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8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МУЗЫ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46" name="Picture 30" descr="скрипка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rot="20508600">
            <a:off x="631800" y="1996920"/>
            <a:ext cx="635040" cy="1852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3" descr="Гитара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 rot="19422000">
            <a:off x="2187360" y="2472840"/>
            <a:ext cx="579240" cy="1579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1" descr="аккордеон"/>
          <p:cNvPicPr/>
          <p:nvPr/>
        </p:nvPicPr>
        <p:blipFill>
          <a:blip r:embed="rId9"/>
          <a:stretch/>
        </p:blipFill>
        <p:spPr>
          <a:xfrm>
            <a:off x="6357960" y="3000240"/>
            <a:ext cx="1014480" cy="928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саксофон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 rot="20331600">
            <a:off x="8175600" y="2158560"/>
            <a:ext cx="676440" cy="16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Рисунок 3" descr="фон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1357200" y="1071720"/>
            <a:ext cx="70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уратино потянул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1428840" y="185724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з нагнулся, два нагнул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1357200" y="2571840"/>
            <a:ext cx="70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уки в стороны развел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1357200" y="3357720"/>
            <a:ext cx="70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лючик видно не наше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1357200" y="4000680"/>
            <a:ext cx="70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тобы ключик нам доста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1357200" y="4643280"/>
            <a:ext cx="70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ужно на носочки вст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8" name="Рисунок 3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684360" y="1989000"/>
            <a:ext cx="7715160" cy="22885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оллективная форма творчества, пение в классе способствует раскрепощению стеснительных, неуверенных в себе школь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2" name="Рисунок 3" descr="фон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0_4a88_fc513545_L.jpg"/>
          <p:cNvPicPr/>
          <p:nvPr/>
        </p:nvPicPr>
        <p:blipFill>
          <a:blip r:embed="rId2"/>
          <a:stretch/>
        </p:blipFill>
        <p:spPr>
          <a:xfrm>
            <a:off x="785880" y="85716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2" name="Рисунок 3" descr="фон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571680" y="928800"/>
            <a:ext cx="835812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Acquest Script"/>
              </a:rPr>
              <a:t>З</a:t>
            </a:r>
            <a:r>
              <a:rPr b="1" lang="ru-RU" sz="4400" spc="-1" strike="noStrike">
                <a:solidFill>
                  <a:srgbClr val="000000"/>
                </a:solidFill>
                <a:latin typeface="Acquest Script"/>
              </a:rPr>
              <a:t>агадки развивают фантазию детей, с их помощью школьники с интересом включаются в мыслительное творчест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Рисунок 3" descr="фон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214200" y="1285920"/>
            <a:ext cx="857268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000000"/>
                </a:solidFill>
                <a:latin typeface="Champignon script"/>
              </a:rPr>
              <a:t>Дети рисуют 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000000"/>
                </a:solidFill>
                <a:latin typeface="Champignon script"/>
              </a:rPr>
              <a:t>музыку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0" name="Рисунок 3" descr="фон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минорики.jpg"/>
          <p:cNvPicPr/>
          <p:nvPr/>
        </p:nvPicPr>
        <p:blipFill>
          <a:blip r:embed="rId2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4" name="Рисунок 3" descr="фон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1257480" y="1357200"/>
            <a:ext cx="6457680" cy="4500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Рисунок 3" descr="фон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2214720" y="928800"/>
            <a:ext cx="4443120" cy="5357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2" name="Рисунок 3" descr="фон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571680" y="1357200"/>
            <a:ext cx="3468600" cy="2428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4929120" y="1357200"/>
            <a:ext cx="3308400" cy="2373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4"/>
          <a:stretch/>
        </p:blipFill>
        <p:spPr>
          <a:xfrm>
            <a:off x="2286000" y="3357720"/>
            <a:ext cx="4083120" cy="28573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Рисунок 3" descr="фон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642960" y="3571920"/>
            <a:ext cx="8072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lero script"/>
              </a:rPr>
              <a:t>помогает расширить границы восприятия, развивая воображение, формируя интерес к музыкальному искусств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714240" y="1214280"/>
            <a:ext cx="307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58ed5"/>
                </a:solidFill>
                <a:latin typeface="Arial"/>
              </a:rPr>
              <a:t>Вижу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1285920" y="2071800"/>
            <a:ext cx="371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53735"/>
                </a:solidFill>
                <a:latin typeface="Arial"/>
              </a:rPr>
              <a:t>Слышу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2286000" y="2857680"/>
            <a:ext cx="32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Arial"/>
              </a:rPr>
              <a:t>Чувству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5" name="Рисунок 3" descr="фон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6" descr=""/>
          <p:cNvPicPr/>
          <p:nvPr/>
        </p:nvPicPr>
        <p:blipFill>
          <a:blip r:embed="rId2"/>
          <a:stretch/>
        </p:blipFill>
        <p:spPr>
          <a:xfrm>
            <a:off x="1073160" y="1457280"/>
            <a:ext cx="707076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8:52:55Z</dcterms:created>
  <dc:creator>User</dc:creator>
  <dc:description/>
  <dc:language>en-US</dc:language>
  <cp:lastModifiedBy>Uchitelskaya</cp:lastModifiedBy>
  <dcterms:modified xsi:type="dcterms:W3CDTF">2014-12-26T09:36:15Z</dcterms:modified>
  <cp:revision>38</cp:revision>
  <dc:subject/>
  <dc:title>Слайд 1</dc:title>
</cp:coreProperties>
</file>