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27.jpeg" ContentType="image/jpeg"/>
  <Override PartName="/ppt/media/image17.png" ContentType="image/png"/>
  <Override PartName="/ppt/media/image23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3BE-A763-47E2-9943-676CF580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21E-0490-4A57-BE91-167060F7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5EF-B57D-4816-8530-21973367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F8F-F795-4B40-9FF7-A45D1ECA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8BD7-736F-4812-997D-5F6324C6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34C1-E31E-4C07-A3C2-E0728340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0C82-3A85-4977-A4F1-5D401784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A553-A16E-4695-8935-772C886E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F40F-66B8-4D0A-B15F-DC7BECF4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E6CA-8B15-4D82-8C96-BFE2314F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3056-EF55-4C7C-BC30-2431C249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538-E6E7-4C08-83F0-C498F701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8785-8B0A-4548-8EC1-D2046413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B01C-AC00-4CE0-9E9B-8C02E350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62C6-EFDB-4863-82BD-CBD340BA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0505-0AD0-4885-9562-53630A26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EA5B-2199-473F-929E-C398B70B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1F3F2-8B61-4C47-8EE3-0E7FDB21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15E9C-CE7E-4975-97DC-14353BCB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952AA-9343-4042-891C-1ECF92D6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F23A0-7E88-4CAA-BF5B-65004BBF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6C3D7-3C6A-4C23-84A5-7F6D38A8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9448-382F-4190-B647-0360462C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E3C13-8EE3-469C-95E2-50BA3192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34E8A-DB8E-4D02-B253-B055E694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6DE7E-F664-4A7D-8A43-093CFDA9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85DB1-3ECE-47A5-A605-906AA014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EE6B0-9C23-4E43-AD72-CC49E0E9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79227-A2FB-4A69-8C27-2B365C2F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E695-40A3-467A-81A5-FC42175A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7A2-F761-4DC4-9F03-11499174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4D7-5368-47F5-8A0E-8DB9FAF5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4632-7941-4192-A75D-2C8A5909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9CB-C191-4DAC-A479-142AEBCB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95C9-EBA0-4604-81EB-1EF2ADE3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2664-D767-442B-BD18-140E0BC6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AC12-D7D8-4334-B52D-4694EB06588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7F42-8806-4CBC-BEFA-45992C3FB8E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0E54-6E1D-47F2-9722-48C70D2DFA1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1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08000" y="43920"/>
            <a:ext cx="9036000" cy="681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ржит свиток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алочку для пись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клио"/>
          <p:cNvPicPr/>
          <p:nvPr/>
        </p:nvPicPr>
        <p:blipFill>
          <a:blip r:embed="rId2"/>
          <a:stretch/>
        </p:blipFill>
        <p:spPr>
          <a:xfrm>
            <a:off x="4932360" y="1484280"/>
            <a:ext cx="3686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676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В руке лира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лекто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терпсихора"/>
          <p:cNvPicPr/>
          <p:nvPr/>
        </p:nvPicPr>
        <p:blipFill>
          <a:blip r:embed="rId2"/>
          <a:stretch/>
        </p:blipFill>
        <p:spPr>
          <a:xfrm>
            <a:off x="4788000" y="1125360"/>
            <a:ext cx="39639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2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8467920" cy="1334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ржит трагическую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мас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мельпомена"/>
          <p:cNvPicPr/>
          <p:nvPr/>
        </p:nvPicPr>
        <p:blipFill>
          <a:blip r:embed="rId2"/>
          <a:stretch/>
        </p:blipFill>
        <p:spPr>
          <a:xfrm>
            <a:off x="4932360" y="1197000"/>
            <a:ext cx="37512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В руках комическ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мас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musecomedy"/>
          <p:cNvPicPr/>
          <p:nvPr/>
        </p:nvPicPr>
        <p:blipFill>
          <a:blip r:embed="rId2"/>
          <a:stretch/>
        </p:blipFill>
        <p:spPr>
          <a:xfrm>
            <a:off x="5724360" y="1268280"/>
            <a:ext cx="27972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1267887751_muse"/>
          <p:cNvPicPr/>
          <p:nvPr/>
        </p:nvPicPr>
        <p:blipFill>
          <a:blip r:embed="rId1"/>
          <a:stretch/>
        </p:blipFill>
        <p:spPr>
          <a:xfrm>
            <a:off x="1622520" y="907920"/>
            <a:ext cx="57578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В руке небес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вод цирку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урания"/>
          <p:cNvPicPr/>
          <p:nvPr/>
        </p:nvPicPr>
        <p:blipFill>
          <a:blip r:embed="rId2"/>
          <a:stretch/>
        </p:blipFill>
        <p:spPr>
          <a:xfrm>
            <a:off x="4643280" y="1125360"/>
            <a:ext cx="41529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В руках свит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4" descr="полигимния"/>
          <p:cNvPicPr/>
          <p:nvPr/>
        </p:nvPicPr>
        <p:blipFill>
          <a:blip r:embed="rId2"/>
          <a:stretch/>
        </p:blipFill>
        <p:spPr>
          <a:xfrm>
            <a:off x="4716360" y="1413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26"/>
          <p:cNvPicPr/>
          <p:nvPr/>
        </p:nvPicPr>
        <p:blipFill>
          <a:blip r:embed="rId2"/>
          <a:stretch/>
        </p:blipFill>
        <p:spPr>
          <a:xfrm>
            <a:off x="1027080" y="1600200"/>
            <a:ext cx="708984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360" y="0"/>
            <a:ext cx="8229600" cy="5851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738507"/>
          <p:cNvPicPr/>
          <p:nvPr/>
        </p:nvPicPr>
        <p:blipFill>
          <a:blip r:embed="rId1"/>
          <a:stretch/>
        </p:blipFill>
        <p:spPr>
          <a:xfrm>
            <a:off x="468360" y="189000"/>
            <a:ext cx="835164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5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7" descr="img_1254118262_41"/>
          <p:cNvPicPr/>
          <p:nvPr/>
        </p:nvPicPr>
        <p:blipFill>
          <a:blip r:embed="rId2"/>
          <a:stretch/>
        </p:blipFill>
        <p:spPr>
          <a:xfrm>
            <a:off x="1332000" y="1523880"/>
            <a:ext cx="66247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kochanovsky09"/>
          <p:cNvPicPr/>
          <p:nvPr/>
        </p:nvPicPr>
        <p:blipFill>
          <a:blip r:embed="rId2"/>
          <a:stretch/>
        </p:blipFill>
        <p:spPr>
          <a:xfrm>
            <a:off x="826920" y="1700280"/>
            <a:ext cx="64072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5" descr="09_01_00"/>
          <p:cNvPicPr/>
          <p:nvPr/>
        </p:nvPicPr>
        <p:blipFill>
          <a:blip r:embed="rId1"/>
          <a:stretch/>
        </p:blipFill>
        <p:spPr>
          <a:xfrm>
            <a:off x="539640" y="404640"/>
            <a:ext cx="777744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В руках – ли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эрато"/>
          <p:cNvPicPr/>
          <p:nvPr/>
        </p:nvPicPr>
        <p:blipFill>
          <a:blip r:embed="rId2"/>
          <a:stretch/>
        </p:blipFill>
        <p:spPr>
          <a:xfrm>
            <a:off x="4356000" y="1413000"/>
            <a:ext cx="41767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Муза –лиричес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оэзии. В рук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флей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эвтерпа"/>
          <p:cNvPicPr/>
          <p:nvPr/>
        </p:nvPicPr>
        <p:blipFill>
          <a:blip r:embed="rId2"/>
          <a:stretch/>
        </p:blipFill>
        <p:spPr>
          <a:xfrm>
            <a:off x="5076720" y="1413000"/>
            <a:ext cx="368928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В руках дощечк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резе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4" descr="каллиопа"/>
          <p:cNvPicPr/>
          <p:nvPr/>
        </p:nvPicPr>
        <p:blipFill>
          <a:blip r:embed="rId2"/>
          <a:stretch/>
        </p:blipFill>
        <p:spPr>
          <a:xfrm>
            <a:off x="4572000" y="1268280"/>
            <a:ext cx="38894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8:29Z</dcterms:created>
  <dc:creator>А</dc:creator>
  <dc:description/>
  <dc:language>en-US</dc:language>
  <cp:lastModifiedBy>оля</cp:lastModifiedBy>
  <dcterms:modified xsi:type="dcterms:W3CDTF">2015-02-01T13:41:06Z</dcterms:modified>
  <cp:revision>7</cp:revision>
  <dc:subject/>
  <dc:title>Слайд 1</dc:title>
</cp:coreProperties>
</file>