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jpeg" ContentType="image/jpeg"/>
  <Override PartName="/ppt/media/image17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E3F-1C8A-451D-85CA-B00914B2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E43-8047-4FD4-B054-6284D1A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5DF-DB49-4921-8258-47D0CF87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BF6-870F-40B8-A186-AE2AB2BE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CC0-63A1-48FD-856F-C75B96E6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03B2-ECE6-4EBB-9949-3F8723B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45D9-B20C-4253-8516-35A67D6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DDD-DD42-4921-A0FD-26D8FC63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19A7-4424-4757-A43E-F574A78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E6C-1E65-490A-9A64-9D0D6E31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B3A-73BA-44D8-8688-250CF6E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D27-9481-49BF-BB24-0312EB1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33D3-47EF-4DF2-902B-DC52027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42F-1DF4-4768-8E71-8CA1C60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FAEC-12FF-40F5-91BB-3D9BE6C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D14-DF48-4577-8F3D-50C39E63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D22B-6F0B-402B-B5C6-BA669841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DB3B-3EF0-45B1-99BC-DFC7C426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9BB4-1D49-4757-A5BE-5A1BB1E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ED30-0D9B-4B7D-B97C-1224F571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06F3-94D0-4AC7-871B-263F0122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0C44-D5EA-4C69-A56D-F689A20D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D39-8609-4E69-A7C1-2F086F4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6F11-1D2A-4D60-A89A-D3211859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1D69-1960-46F2-B0B8-FDB77FA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2FA6-30D6-4263-8FF1-C4B0ED2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2F7E-E4F8-498C-9F47-F45218A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C661-14CD-4FEA-B698-DFFAF4F3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4C40-D839-4D02-841B-3851167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9A60-6319-4DBE-9D87-4847A254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E17-9F7E-44CC-A5B6-05A93CC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A7E-22D9-4DB5-968F-FFDD8F0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F27-2DFD-45BA-8B76-C44C4E23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5EE-BF03-4D11-B1D7-F111178F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79E-AF0A-4A7D-8427-60D971F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79D-99DF-4E0A-A00C-A5B33EB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9828-5AE0-454D-A396-2A3D1CAB9AA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3856-5A83-4D5E-AF2D-004F80ABDB5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EDDA-81B7-46F6-9793-8DD3FB7BD35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8000" y="43920"/>
            <a:ext cx="9036000" cy="68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ржит свиток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алочку для пись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клио"/>
          <p:cNvPicPr/>
          <p:nvPr/>
        </p:nvPicPr>
        <p:blipFill>
          <a:blip r:embed="rId2"/>
          <a:stretch/>
        </p:blipFill>
        <p:spPr>
          <a:xfrm>
            <a:off x="4932360" y="1484280"/>
            <a:ext cx="368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е лира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ле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терпсихора"/>
          <p:cNvPicPr/>
          <p:nvPr/>
        </p:nvPicPr>
        <p:blipFill>
          <a:blip r:embed="rId2"/>
          <a:stretch/>
        </p:blipFill>
        <p:spPr>
          <a:xfrm>
            <a:off x="4788000" y="1125360"/>
            <a:ext cx="39639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467920" cy="1334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ржит трагическу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ас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мельпомена"/>
          <p:cNvPicPr/>
          <p:nvPr/>
        </p:nvPicPr>
        <p:blipFill>
          <a:blip r:embed="rId2"/>
          <a:stretch/>
        </p:blipFill>
        <p:spPr>
          <a:xfrm>
            <a:off x="4932360" y="1197000"/>
            <a:ext cx="3751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комическ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ас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musecomedy"/>
          <p:cNvPicPr/>
          <p:nvPr/>
        </p:nvPicPr>
        <p:blipFill>
          <a:blip r:embed="rId2"/>
          <a:stretch/>
        </p:blipFill>
        <p:spPr>
          <a:xfrm>
            <a:off x="5724360" y="1268280"/>
            <a:ext cx="27972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1267887751_muse"/>
          <p:cNvPicPr/>
          <p:nvPr/>
        </p:nvPicPr>
        <p:blipFill>
          <a:blip r:embed="rId1"/>
          <a:stretch/>
        </p:blipFill>
        <p:spPr>
          <a:xfrm>
            <a:off x="1622520" y="907920"/>
            <a:ext cx="5757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е небес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вод цирку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урания"/>
          <p:cNvPicPr/>
          <p:nvPr/>
        </p:nvPicPr>
        <p:blipFill>
          <a:blip r:embed="rId2"/>
          <a:stretch/>
        </p:blipFill>
        <p:spPr>
          <a:xfrm>
            <a:off x="4643280" y="1125360"/>
            <a:ext cx="4152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сви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полигимния"/>
          <p:cNvPicPr/>
          <p:nvPr/>
        </p:nvPicPr>
        <p:blipFill>
          <a:blip r:embed="rId2"/>
          <a:stretch/>
        </p:blipFill>
        <p:spPr>
          <a:xfrm>
            <a:off x="4716360" y="141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6"/>
          <p:cNvPicPr/>
          <p:nvPr/>
        </p:nvPicPr>
        <p:blipFill>
          <a:blip r:embed="rId2"/>
          <a:stretch/>
        </p:blipFill>
        <p:spPr>
          <a:xfrm>
            <a:off x="1027080" y="1600200"/>
            <a:ext cx="7089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738507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img_1254118262_41"/>
          <p:cNvPicPr/>
          <p:nvPr/>
        </p:nvPicPr>
        <p:blipFill>
          <a:blip r:embed="rId2"/>
          <a:stretch/>
        </p:blipFill>
        <p:spPr>
          <a:xfrm>
            <a:off x="1332000" y="1523880"/>
            <a:ext cx="6624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kochanovsky09"/>
          <p:cNvPicPr/>
          <p:nvPr/>
        </p:nvPicPr>
        <p:blipFill>
          <a:blip r:embed="rId2"/>
          <a:stretch/>
        </p:blipFill>
        <p:spPr>
          <a:xfrm>
            <a:off x="826920" y="1700280"/>
            <a:ext cx="6407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09_01_00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– л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эрато"/>
          <p:cNvPicPr/>
          <p:nvPr/>
        </p:nvPicPr>
        <p:blipFill>
          <a:blip r:embed="rId2"/>
          <a:stretch/>
        </p:blipFill>
        <p:spPr>
          <a:xfrm>
            <a:off x="4356000" y="1413000"/>
            <a:ext cx="4176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Муза –лиричес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эзии. В рук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флей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эвтерпа"/>
          <p:cNvPicPr/>
          <p:nvPr/>
        </p:nvPicPr>
        <p:blipFill>
          <a:blip r:embed="rId2"/>
          <a:stretch/>
        </p:blipFill>
        <p:spPr>
          <a:xfrm>
            <a:off x="5076720" y="1413000"/>
            <a:ext cx="3689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уках дощеч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резе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каллиопа"/>
          <p:cNvPicPr/>
          <p:nvPr/>
        </p:nvPicPr>
        <p:blipFill>
          <a:blip r:embed="rId2"/>
          <a:stretch/>
        </p:blipFill>
        <p:spPr>
          <a:xfrm>
            <a:off x="4572000" y="1268280"/>
            <a:ext cx="3889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8:29Z</dcterms:created>
  <dc:creator>А</dc:creator>
  <dc:description/>
  <dc:language>en-US</dc:language>
  <cp:lastModifiedBy>оля</cp:lastModifiedBy>
  <dcterms:modified xsi:type="dcterms:W3CDTF">2015-02-01T13:41:06Z</dcterms:modified>
  <cp:revision>7</cp:revision>
  <dc:subject/>
  <dc:title>Слайд 1</dc:title>
</cp:coreProperties>
</file>