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E00D-D561-458C-956F-FF3F54A9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5A9E-D018-4705-A27C-21457811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DBE0-E0ED-4554-B0B7-A51C3ED1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C570-16A9-4DE3-83E4-44380D97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1EB8-1D64-438D-8F03-2E7694F5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C74A-7CF4-4674-A071-17303261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E6CD-329A-4123-B0E8-FC4E0A5B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2856-94A6-4190-ADBB-23713EFC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F932-30A4-4DE4-8BAA-903F096D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60C5-F47C-415E-B3DE-96D5C2B9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CFD0-CEC9-41F6-9EA5-3545CD28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5911-5D91-4E96-AB66-27325DFB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AD38-C726-41B6-9833-53155C5605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581280" y="2786040"/>
            <a:ext cx="556272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57960" y="1999800"/>
            <a:ext cx="257184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асть 1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2560" y="2214720"/>
            <a:ext cx="37148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Calibri"/>
              </a:rPr>
              <a:t>История созд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Calibri"/>
              </a:rPr>
              <a:t>Символ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133200" y="85680"/>
            <a:ext cx="6085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108000" y="115920"/>
            <a:ext cx="8785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Горох-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мир и друж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Мешок-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символ богат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Полотно-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счастье в до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Узелок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оберегает от сканд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в до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Гнездо-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продолжение 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Бублик-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непрерывное кольц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имвол крепкой сем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"/>
          <p:cNvSpPr/>
          <p:nvPr/>
        </p:nvSpPr>
        <p:spPr>
          <a:xfrm>
            <a:off x="142920" y="378612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ник, направленный вниз выметает ссоры из из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ник, направленный вверх – к деньг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0" y="4786200"/>
            <a:ext cx="892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летение символизирует знакомства, дружбу с новыми, интересными лю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лнце, цветок подсолнуха- главный славянский оберег, славяне – дети солн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2" descr="http://solo-nebo.narod.ru/p006301.jpg"/>
          <p:cNvPicPr/>
          <p:nvPr/>
        </p:nvPicPr>
        <p:blipFill>
          <a:blip r:embed="rId1"/>
          <a:srcRect l="12731" t="50283" r="0" b="0"/>
          <a:stretch/>
        </p:blipFill>
        <p:spPr>
          <a:xfrm>
            <a:off x="4929120" y="189000"/>
            <a:ext cx="4214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57120" y="714240"/>
            <a:ext cx="842976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Calibri"/>
              </a:rPr>
              <a:t>Сторублева Валентина Николаевн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d0d0d"/>
                </a:solidFill>
                <a:latin typeface="Calibri"/>
              </a:rPr>
              <a:t>ГОУ СОШ№287, Адмиралтейский райо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0d0d0d"/>
                </a:solidFill>
                <a:latin typeface="Calibri"/>
              </a:rPr>
              <a:t>Санкт-Петербург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1240560"/>
            <a:ext cx="5357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юди верили, что в каждом доме живет домовой, которого нужно задабривать, иначе он начнет сердиться и вредить обитателям дома. Люди вешали подарок домовому, чтобы он был всегда доволен, помогал в хозяйстве. Раскрашенный веник вешали в доме как символ, оберегающий от зла, яркие веники из цветов и колосьев сулили богатый урожай в следующем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как сделать обереги"/>
          <p:cNvPicPr/>
          <p:nvPr/>
        </p:nvPicPr>
        <p:blipFill>
          <a:blip r:embed="rId1"/>
          <a:stretch/>
        </p:blipFill>
        <p:spPr>
          <a:xfrm>
            <a:off x="5243400" y="1285920"/>
            <a:ext cx="3900600" cy="53863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0" y="0"/>
            <a:ext cx="88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адиция украшать дом оберегами , домовенками, венками, гирляндами восходит к древним славянским народ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5462640" y="620640"/>
            <a:ext cx="3681360" cy="59230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108000" y="189000"/>
            <a:ext cx="5616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протяжении тысячилетий ни один дом не обходился на Руси без оберегов. Миниатюрные изображения топора, колокольчика, ложек, а также веник, кочерга, лапти и др. предметы домашнего обихода, широко применялись в обря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Люди верили, что обереги сохраняют их от болезней, «дурного глаза», хищных зверей, стихийных бедствий и разных  напа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бираясь в дальний путь, человек брал с собой оберег, чтобы вложенное в него добро, вера и любовь согревали душу, напоминали об отчем доме и родной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 rot="20700000">
            <a:off x="285840" y="555480"/>
            <a:ext cx="5038560" cy="56293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"/>
          <p:cNvSpPr/>
          <p:nvPr/>
        </p:nvSpPr>
        <p:spPr>
          <a:xfrm>
            <a:off x="5143680" y="285840"/>
            <a:ext cx="3857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давних пор все изменилось, но мы продолжаем ценить тепло и уют домашнего оча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жно сделать подарок для домового своими ру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4199" t="0" r="2100" b="7087"/>
          <a:stretch/>
        </p:blipFill>
        <p:spPr>
          <a:xfrm>
            <a:off x="2714760" y="2286000"/>
            <a:ext cx="3359160" cy="4441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rcRect l="16377" t="1894" r="10078" b="4736"/>
          <a:stretch/>
        </p:blipFill>
        <p:spPr>
          <a:xfrm rot="20700000">
            <a:off x="519120" y="258840"/>
            <a:ext cx="2573280" cy="4344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3"/>
          <a:srcRect l="7559" t="3789" r="12598" b="8525"/>
          <a:stretch/>
        </p:blipFill>
        <p:spPr>
          <a:xfrm rot="960000">
            <a:off x="5535720" y="536400"/>
            <a:ext cx="2943000" cy="42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http://solo-nebo.narod.ru/p006101.jpg"/>
          <p:cNvPicPr/>
          <p:nvPr/>
        </p:nvPicPr>
        <p:blipFill>
          <a:blip r:embed="rId1"/>
          <a:srcRect l="11935" t="29473" r="0" b="0"/>
          <a:stretch/>
        </p:blipFill>
        <p:spPr>
          <a:xfrm>
            <a:off x="142920" y="1714680"/>
            <a:ext cx="4191120" cy="46209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" descr="http://solo-nebo.narod.ru/p006201.jpg"/>
          <p:cNvPicPr/>
          <p:nvPr/>
        </p:nvPicPr>
        <p:blipFill>
          <a:blip r:embed="rId2"/>
          <a:srcRect l="0" t="45654" r="10344" b="0"/>
          <a:stretch/>
        </p:blipFill>
        <p:spPr>
          <a:xfrm>
            <a:off x="4572000" y="2643120"/>
            <a:ext cx="4427640" cy="40323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" descr="http://solo-nebo.narod.ru/p006101.jpg"/>
          <p:cNvPicPr/>
          <p:nvPr/>
        </p:nvPicPr>
        <p:blipFill>
          <a:blip r:embed="rId3"/>
          <a:srcRect l="11935" t="0" r="0" b="82068"/>
          <a:stretch/>
        </p:blipFill>
        <p:spPr>
          <a:xfrm>
            <a:off x="2500200" y="142920"/>
            <a:ext cx="419112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108000" y="74160"/>
            <a:ext cx="7848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Злаки, бобовые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имвол достатка, сытой жизни, материального благополуч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Лапти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символизируют домашний уют, семейное счаст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Мак, зерна мака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имвол исполнения жел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Красный горький перец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мужское начало, символ мужского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Шишка-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символ трудолюбия и достижения успе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Лекарственные травы, ягоды шиповника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имвол крепкого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Лук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оберегает семью от сле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Ягоды рябины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имвол женской молодости и крас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179280" y="115920"/>
            <a:ext cx="8785440" cy="435996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Бессмертник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имвол долголе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Мешковина-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изобил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Тыква, семена тыквы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имвол плодородия, женского нач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Хлеб-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всему голова- согласие и достаток в до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Лавровый лист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лава, успе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емена подсолнуха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здоровье детей в до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емя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зарождение ново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Кувшин-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символ воды, полная чаша в до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Яйцо-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продолжение 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142920" y="4500720"/>
            <a:ext cx="8858160" cy="222696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Кукуруза-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символ здоровья у детей, продолжение рода, сплоченности семьи., взаимопоним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Орех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имвол умственной силы и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Домик-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символ сем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Мельница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перемелиться- мука буде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214200" y="30960"/>
            <a:ext cx="8785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Крупа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мир, лад в доме, желая этого молодых после венчания осыпали круп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Колосья, ягоды, дары природы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урожай в хозяй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Коса, венок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имволы бесконечности и непрерывности рода, возрастание благополуч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Монетка-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успех в дел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Горшочки с кашей и молоком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доста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Фигурки мужчины и женщины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, перевязанные ниточками- любовь, неразрывность у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Петушок сахарный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чтобы в доме звучал радостный детский сме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Чеснок и перец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изгоняют нечистую си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Домашняя выпечка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имволизируют хлебосо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ухоцветы-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уют и крас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Мешочек с можжевельником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чистота мыс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14:41:05Z</dcterms:created>
  <dc:creator>Admin</dc:creator>
  <dc:description/>
  <dc:language>en-US</dc:language>
  <cp:lastModifiedBy>Admin</cp:lastModifiedBy>
  <dcterms:modified xsi:type="dcterms:W3CDTF">2015-02-01T19:33:58Z</dcterms:modified>
  <cp:revision>2</cp:revision>
  <dc:subject/>
  <dc:title>Часть 1.</dc:title>
</cp:coreProperties>
</file>