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181-1393-4DE4-8570-B5848C67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BC0-BE4E-4F93-978A-5F2A2AE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F32-36B1-44EA-BFC8-2E0D32D3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D32-0A96-4529-BDD5-7F3E70FE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C9D-D293-4E40-9147-74E7FA4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A4A-EC8F-4619-AA7C-3D995C6D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13B-FD7F-4826-8D54-F371595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F13-9490-45CB-B8A7-9D44C8EE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03C-E9A3-4010-A554-F747F526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B5D-A940-45DB-9005-B64577D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FB4-FCEE-4D22-8B8F-5ED0AA6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E8D-3D03-4B0A-AAB6-EE1C493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8CA-AF38-452C-8E72-EC5D91CD1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581280" y="2786040"/>
            <a:ext cx="556272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57960" y="1999800"/>
            <a:ext cx="2571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560" y="2214720"/>
            <a:ext cx="37148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История со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</a:rPr>
              <a:t>Символ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85680"/>
            <a:ext cx="6085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08000" y="115920"/>
            <a:ext cx="87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орох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мир и друж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шок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лотно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частье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зело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оберегает от сканд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нездо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Бублик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непрерывное кольц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крепкой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142920" y="37861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ик, направленный вниз выметает ссоры из из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ик, направленный вверх – к деньг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478620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етение символизирует знакомства, дружбу с новыми, интересн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нце, цветок подсолнуха- главный славянский оберег, славяне – дети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http://solo-nebo.narod.ru/p006301.jpg"/>
          <p:cNvPicPr/>
          <p:nvPr/>
        </p:nvPicPr>
        <p:blipFill>
          <a:blip r:embed="rId1"/>
          <a:srcRect l="12731" t="50283" r="0" b="0"/>
          <a:stretch/>
        </p:blipFill>
        <p:spPr>
          <a:xfrm>
            <a:off x="4929120" y="189000"/>
            <a:ext cx="4214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57120" y="714240"/>
            <a:ext cx="8429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240560"/>
            <a:ext cx="535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ди верили, что в каждом доме живет домовой, которого нужно задабривать, иначе он начнет сердиться и вредить обитателям дома. Люди вешали подарок домовому, чтобы он был всегда доволен, помогал в хозяйстве. Раскрашенный веник вешали в доме как символ, оберегающий от зла, яркие веники из цветов и колосьев сулили богатый урожай в следующе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как сделать обереги"/>
          <p:cNvPicPr/>
          <p:nvPr/>
        </p:nvPicPr>
        <p:blipFill>
          <a:blip r:embed="rId1"/>
          <a:stretch/>
        </p:blipFill>
        <p:spPr>
          <a:xfrm>
            <a:off x="5243400" y="1285920"/>
            <a:ext cx="3900600" cy="5386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0" y="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диция украшать дом оберегами , домовенками, венками, гирляндами восходит к древним славянским наро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462640" y="620640"/>
            <a:ext cx="3681360" cy="5923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08000" y="189000"/>
            <a:ext cx="561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протяжении тысячилетий ни один дом не обходился на Руси без оберегов. Миниатюрные изображения топора, колокольчика, ложек, а также веник, кочерга, лапти и др. предметы домашнего обихода, широко применялись в обря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юди верили, что обереги сохраняют их от болезней, «дурного глаза», хищных зверей, стихийных бедствий и разных  нап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ираясь в дальний путь, человек брал с собой оберег, чтобы вложенное в него добро, вера и любовь согревали душу, напоминали об отчем доме и родной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 rot="20700000">
            <a:off x="285840" y="555480"/>
            <a:ext cx="5038560" cy="5629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5143680" y="285840"/>
            <a:ext cx="3857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давних пор все изменилось, но мы продолжаем ценить тепло и уют домашнего оча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сделать подарок для домового своими ру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199" t="0" r="2100" b="7087"/>
          <a:stretch/>
        </p:blipFill>
        <p:spPr>
          <a:xfrm>
            <a:off x="2714760" y="2286000"/>
            <a:ext cx="3359160" cy="44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6377" t="1894" r="10078" b="4736"/>
          <a:stretch/>
        </p:blipFill>
        <p:spPr>
          <a:xfrm rot="20700000">
            <a:off x="519120" y="258840"/>
            <a:ext cx="2573280" cy="434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rcRect l="7559" t="3789" r="12598" b="8525"/>
          <a:stretch/>
        </p:blipFill>
        <p:spPr>
          <a:xfrm rot="960000">
            <a:off x="5535720" y="536400"/>
            <a:ext cx="294300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olo-nebo.narod.ru/p006101.jpg"/>
          <p:cNvPicPr/>
          <p:nvPr/>
        </p:nvPicPr>
        <p:blipFill>
          <a:blip r:embed="rId1"/>
          <a:srcRect l="11935" t="29473" r="0" b="0"/>
          <a:stretch/>
        </p:blipFill>
        <p:spPr>
          <a:xfrm>
            <a:off x="142920" y="1714680"/>
            <a:ext cx="4191120" cy="4620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solo-nebo.narod.ru/p006201.jpg"/>
          <p:cNvPicPr/>
          <p:nvPr/>
        </p:nvPicPr>
        <p:blipFill>
          <a:blip r:embed="rId2"/>
          <a:srcRect l="0" t="45654" r="10344" b="0"/>
          <a:stretch/>
        </p:blipFill>
        <p:spPr>
          <a:xfrm>
            <a:off x="4572000" y="2643120"/>
            <a:ext cx="44276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http://solo-nebo.narod.ru/p006101.jpg"/>
          <p:cNvPicPr/>
          <p:nvPr/>
        </p:nvPicPr>
        <p:blipFill>
          <a:blip r:embed="rId3"/>
          <a:srcRect l="11935" t="0" r="0" b="82068"/>
          <a:stretch/>
        </p:blipFill>
        <p:spPr>
          <a:xfrm>
            <a:off x="2500200" y="142920"/>
            <a:ext cx="41911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08000" y="74160"/>
            <a:ext cx="784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лаки, бобовые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достатка, сытой жизни, материального благополу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апт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изируют домашний уют, семейное сч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ак, зерна мак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исполнения жел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сный горький перец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ужское начало, символ мужс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Шишк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трудолюбия и достижения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екарственные травы, ягоды шиповник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креп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у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оберегает семью от сл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Ягоды рябины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женской молодости и крас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79280" y="115920"/>
            <a:ext cx="8785440" cy="435996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ссмертник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долголе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шковин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изоби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Тыква, семена тыквы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плодородия, женского нач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Хлеб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всему голова- согласие и достаток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Лавровый лист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лава, 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емена подсолнух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доровье детей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емя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рождение нов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увшин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воды, полная чаша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Яйцо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42920" y="4500720"/>
            <a:ext cx="8858160" cy="222696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укуруз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здоровья у детей, продолжение рода, сплоченности семьи., взаимопо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рех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 умственной силы 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мик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символ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льниц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ремелиться- мука буд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14200" y="3096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упа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ир, лад в доме, желая этого молодых после венчания осыпали кру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лосья, ягоды, дары природы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рожай в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са, венок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ы бесконечности и непрерывности рода, возрастание благополу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онетка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успех в де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Горшочки с кашей и молоком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ст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гурки мужчины и женщины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перевязанные ниточками- любовь, неразрывность у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етушок сахарный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чтобы в доме звучал радостный детский см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Чеснок и перец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изгоняют нечистую си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машняя выпечк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имволизируют хлебосо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ухоцветы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уют и кра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шочек с можжевельником-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чистота мы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4:41:05Z</dcterms:created>
  <dc:creator>Admin</dc:creator>
  <dc:description/>
  <dc:language>en-US</dc:language>
  <cp:lastModifiedBy>Admin</cp:lastModifiedBy>
  <dcterms:modified xsi:type="dcterms:W3CDTF">2015-02-01T19:33:58Z</dcterms:modified>
  <cp:revision>2</cp:revision>
  <dc:subject/>
  <dc:title>Часть 1.</dc:title>
</cp:coreProperties>
</file>