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D9BA-9418-4C57-8C74-EC00821E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9A3-3A10-4426-B40F-FBD50C19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E2E9-73DA-4EEE-9C9A-813C50C0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3D1-0C40-48EE-9ED8-31D48076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A99-5A45-40CE-9632-5E7E7952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12A-FFAC-4D32-9F88-FBC76C7C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03E7-2783-4EB8-BE50-5C589125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9212-E1CA-4CDE-889A-8FD64527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06D-A6C7-4498-A012-A9F3B0D4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B27-8E7E-4666-AE17-1152F918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48F8-463D-4A9E-A8A1-B0E7925D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E543-6EA0-4809-BEF9-C9FEBE2E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5E63-3E8F-4133-9900-09D7DF334C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29000" y="2928960"/>
            <a:ext cx="556272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3357360"/>
            <a:ext cx="4714920" cy="26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85680"/>
            <a:ext cx="6083280" cy="11527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571680" y="3286080"/>
            <a:ext cx="187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асть 4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Прямоугольник 6" descr=""/>
          <p:cNvPicPr/>
          <p:nvPr/>
        </p:nvPicPr>
        <p:blipFill>
          <a:blip r:embed="rId3"/>
          <a:stretch/>
        </p:blipFill>
        <p:spPr>
          <a:xfrm>
            <a:off x="2517840" y="1096920"/>
            <a:ext cx="48704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http://solo-nebo.narod.ru/p005201.jpg"/>
          <p:cNvPicPr/>
          <p:nvPr/>
        </p:nvPicPr>
        <p:blipFill>
          <a:blip r:embed="rId1"/>
          <a:srcRect l="48544" t="5726" r="10344" b="67005"/>
          <a:stretch/>
        </p:blipFill>
        <p:spPr>
          <a:xfrm>
            <a:off x="5033880" y="0"/>
            <a:ext cx="4110120" cy="37828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http://solo-nebo.narod.ru/p005201.jpg"/>
          <p:cNvPicPr/>
          <p:nvPr/>
        </p:nvPicPr>
        <p:blipFill>
          <a:blip r:embed="rId2"/>
          <a:srcRect l="48544" t="52116" r="10344" b="25196"/>
          <a:stretch/>
        </p:blipFill>
        <p:spPr>
          <a:xfrm>
            <a:off x="0" y="2928960"/>
            <a:ext cx="4944960" cy="3790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179280" y="83052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8. На рушнике разместить карава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5003640" y="4350240"/>
            <a:ext cx="39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9. Продумать композицию, наклеить выбранные симво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4.jpg"/>
          <p:cNvPicPr/>
          <p:nvPr/>
        </p:nvPicPr>
        <p:blipFill>
          <a:blip r:embed="rId1"/>
          <a:srcRect l="20024" t="11733" r="30036" b="25343"/>
          <a:stretch/>
        </p:blipFill>
        <p:spPr>
          <a:xfrm rot="300000">
            <a:off x="4275000" y="155160"/>
            <a:ext cx="3841920" cy="64548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1.jpg"/>
          <p:cNvPicPr/>
          <p:nvPr/>
        </p:nvPicPr>
        <p:blipFill>
          <a:blip r:embed="rId2"/>
          <a:stretch/>
        </p:blipFill>
        <p:spPr>
          <a:xfrm>
            <a:off x="642960" y="2428920"/>
            <a:ext cx="2998800" cy="22384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3"/>
          <p:cNvSpPr/>
          <p:nvPr/>
        </p:nvSpPr>
        <p:spPr>
          <a:xfrm>
            <a:off x="142920" y="5000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Работы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64260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Сторублева Валентина Николаевна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ГОУ СОШ№287, Адмиралтейский район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d0d0d"/>
                </a:solidFill>
                <a:latin typeface="Calibri"/>
              </a:rPr>
              <a:t>Санкт-Петербург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11.jpg"/>
          <p:cNvPicPr/>
          <p:nvPr/>
        </p:nvPicPr>
        <p:blipFill>
          <a:blip r:embed="rId1"/>
          <a:stretch/>
        </p:blipFill>
        <p:spPr>
          <a:xfrm>
            <a:off x="6143760" y="3143160"/>
            <a:ext cx="25174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http://solo-nebo.narod.ru/p004701.jpg"/>
          <p:cNvPicPr/>
          <p:nvPr/>
        </p:nvPicPr>
        <p:blipFill>
          <a:blip r:embed="rId1"/>
          <a:srcRect l="42179" t="16607" r="0" b="0"/>
          <a:stretch/>
        </p:blipFill>
        <p:spPr>
          <a:xfrm>
            <a:off x="6143760" y="142920"/>
            <a:ext cx="2854080" cy="5721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0" y="148680"/>
            <a:ext cx="3857760" cy="667764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Материа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кань (холст, мешковин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голка и нит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исто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ас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лярная щет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леное тес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ро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ше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со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мена тыкв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мена подсолну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лоды шипов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сушенные цве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шеничный колос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оскут тка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нет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http://solo-nebo.narod.ru/p004101.jpg"/>
          <p:cNvPicPr/>
          <p:nvPr/>
        </p:nvPicPr>
        <p:blipFill>
          <a:blip r:embed="rId2"/>
          <a:srcRect l="7923" t="18324" r="15847" b="0"/>
          <a:stretch/>
        </p:blipFill>
        <p:spPr>
          <a:xfrm>
            <a:off x="3143160" y="1571760"/>
            <a:ext cx="3246480" cy="5122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" descr="http://solo-nebo.narod.ru/p004701.jpg"/>
          <p:cNvPicPr/>
          <p:nvPr/>
        </p:nvPicPr>
        <p:blipFill>
          <a:blip r:embed="rId3"/>
          <a:srcRect l="19096" t="7444" r="35010" b="79030"/>
          <a:stretch/>
        </p:blipFill>
        <p:spPr>
          <a:xfrm>
            <a:off x="3571920" y="142920"/>
            <a:ext cx="31147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http://solo-nebo.narod.ru/p004901.jpg"/>
          <p:cNvPicPr/>
          <p:nvPr/>
        </p:nvPicPr>
        <p:blipFill>
          <a:blip r:embed="rId1"/>
          <a:srcRect l="10344" t="46390" r="48544" b="33213"/>
          <a:stretch/>
        </p:blipFill>
        <p:spPr>
          <a:xfrm>
            <a:off x="4156200" y="115920"/>
            <a:ext cx="4802040" cy="33130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http://solo-nebo.narod.ru/p004901.jpg"/>
          <p:cNvPicPr/>
          <p:nvPr/>
        </p:nvPicPr>
        <p:blipFill>
          <a:blip r:embed="rId2"/>
          <a:srcRect l="10344" t="68150" r="48544" b="4581"/>
          <a:stretch/>
        </p:blipFill>
        <p:spPr>
          <a:xfrm>
            <a:off x="0" y="3143160"/>
            <a:ext cx="4432320" cy="3540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324000" y="576720"/>
            <a:ext cx="41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Домовенка лучше изготовить из мешковины или хол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572000" y="357984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По шаблонам выкроить голову и туловище. Сшить заготовки, оставляя отверстия для набив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http://solo-nebo.narod.ru/p004901.jpg"/>
          <p:cNvPicPr/>
          <p:nvPr/>
        </p:nvPicPr>
        <p:blipFill>
          <a:blip r:embed="rId1"/>
          <a:srcRect l="53318" t="5154" r="5570" b="68722"/>
          <a:stretch/>
        </p:blipFill>
        <p:spPr>
          <a:xfrm>
            <a:off x="5584680" y="0"/>
            <a:ext cx="3559320" cy="3143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http://solo-nebo.narod.ru/p004901.jpg"/>
          <p:cNvPicPr/>
          <p:nvPr/>
        </p:nvPicPr>
        <p:blipFill>
          <a:blip r:embed="rId2"/>
          <a:srcRect l="53318" t="53261" r="5570" b="25774"/>
          <a:stretch/>
        </p:blipFill>
        <p:spPr>
          <a:xfrm>
            <a:off x="0" y="1143000"/>
            <a:ext cx="3863880" cy="27367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http://solo-nebo.narod.ru/p004901.jpg"/>
          <p:cNvPicPr/>
          <p:nvPr/>
        </p:nvPicPr>
        <p:blipFill>
          <a:blip r:embed="rId3"/>
          <a:srcRect l="53318" t="75021" r="5570" b="4581"/>
          <a:stretch/>
        </p:blipFill>
        <p:spPr>
          <a:xfrm>
            <a:off x="5065560" y="4049640"/>
            <a:ext cx="407844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95280" y="28512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Набить деталь головы ват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3929040" y="3075840"/>
            <a:ext cx="52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Из малярной щетки вырезать усы, прикрепить к голо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79280" y="4875480"/>
            <a:ext cx="489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. Над усами приклеить но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 половинка грецкого орех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http://solo-nebo.narod.ru/p005001.jpg"/>
          <p:cNvPicPr/>
          <p:nvPr/>
        </p:nvPicPr>
        <p:blipFill>
          <a:blip r:embed="rId1"/>
          <a:srcRect l="5570" t="6299" r="53318" b="26914"/>
          <a:stretch/>
        </p:blipFill>
        <p:spPr>
          <a:xfrm>
            <a:off x="250920" y="115920"/>
            <a:ext cx="2903400" cy="65530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http://solo-nebo.narod.ru/p005001.jpg"/>
          <p:cNvPicPr/>
          <p:nvPr/>
        </p:nvPicPr>
        <p:blipFill>
          <a:blip r:embed="rId2"/>
          <a:srcRect l="47748" t="13171" r="11139" b="62423"/>
          <a:stretch/>
        </p:blipFill>
        <p:spPr>
          <a:xfrm>
            <a:off x="5078520" y="3860640"/>
            <a:ext cx="3632040" cy="2997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3203640" y="12240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Из плотной бумаги вырезать глаз, раскрасить и приклеить (рот и глаза можно сделать из пуговиц, засушенных ягод, бусино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203640" y="213372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7. Вырезать и приклеить р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3276720" y="292716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8. Из малярной щетки сделать прическу. От щетки отрезать пучок, связать 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3" descr="http://solo-nebo.narod.ru/p005001.jpg"/>
          <p:cNvPicPr/>
          <p:nvPr/>
        </p:nvPicPr>
        <p:blipFill>
          <a:blip r:embed="rId1"/>
          <a:srcRect l="47748" t="43526" r="11139" b="30356"/>
          <a:stretch/>
        </p:blipFill>
        <p:spPr>
          <a:xfrm>
            <a:off x="4643280" y="101520"/>
            <a:ext cx="4321440" cy="38149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http://solo-nebo.narod.ru/p005001.jpg"/>
          <p:cNvPicPr/>
          <p:nvPr/>
        </p:nvPicPr>
        <p:blipFill>
          <a:blip r:embed="rId2"/>
          <a:srcRect l="47748" t="70440" r="11139" b="3436"/>
          <a:stretch/>
        </p:blipFill>
        <p:spPr>
          <a:xfrm>
            <a:off x="138240" y="2857680"/>
            <a:ext cx="4321080" cy="38113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142920" y="43380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9. Расправить заготовку, придать форму. Ножницами подстричь чел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4680000" y="507528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0. Пришить прическу к заготовке голо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http://solo-nebo.narod.ru/p005101.jpg"/>
          <p:cNvPicPr/>
          <p:nvPr/>
        </p:nvPicPr>
        <p:blipFill>
          <a:blip r:embed="rId1"/>
          <a:srcRect l="11139" t="6299" r="47748" b="68150"/>
          <a:stretch/>
        </p:blipFill>
        <p:spPr>
          <a:xfrm>
            <a:off x="0" y="142920"/>
            <a:ext cx="4500720" cy="38862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http://solo-nebo.narod.ru/p005101.jpg"/>
          <p:cNvPicPr/>
          <p:nvPr/>
        </p:nvPicPr>
        <p:blipFill>
          <a:blip r:embed="rId2"/>
          <a:srcRect l="11139" t="65287" r="47748" b="3436"/>
          <a:stretch/>
        </p:blipFill>
        <p:spPr>
          <a:xfrm>
            <a:off x="4532400" y="2143080"/>
            <a:ext cx="4397400" cy="46483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4572000" y="35748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1. Заготовку туловища наб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24000" y="4352760"/>
            <a:ext cx="464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2. Стянуть мешочки заготовок прочной нитью, пришить детали головы  и туловищ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http://solo-nebo.narod.ru/p005101.jpg"/>
          <p:cNvPicPr/>
          <p:nvPr/>
        </p:nvPicPr>
        <p:blipFill>
          <a:blip r:embed="rId1"/>
          <a:srcRect l="53318" t="6299" r="4774" b="69868"/>
          <a:stretch/>
        </p:blipFill>
        <p:spPr>
          <a:xfrm>
            <a:off x="0" y="0"/>
            <a:ext cx="3792600" cy="30002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http://solo-nebo.narod.ru/p005101.jpg"/>
          <p:cNvPicPr/>
          <p:nvPr/>
        </p:nvPicPr>
        <p:blipFill>
          <a:blip r:embed="rId2"/>
          <a:srcRect l="53318" t="30923" r="4774" b="46390"/>
          <a:stretch/>
        </p:blipFill>
        <p:spPr>
          <a:xfrm>
            <a:off x="5095800" y="1571760"/>
            <a:ext cx="3907080" cy="29368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http://solo-nebo.narod.ru/p005101.jpg"/>
          <p:cNvPicPr/>
          <p:nvPr/>
        </p:nvPicPr>
        <p:blipFill>
          <a:blip r:embed="rId3"/>
          <a:srcRect l="53318" t="75021" r="4774" b="3436"/>
          <a:stretch/>
        </p:blipFill>
        <p:spPr>
          <a:xfrm>
            <a:off x="0" y="3643200"/>
            <a:ext cx="4292640" cy="30672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3708360" y="245880"/>
            <a:ext cx="51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3. Место соединения можно скрыть с помощью галстука или бант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85840" y="30740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4. Украсить домовен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4356000" y="4540320"/>
            <a:ext cx="46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5. Из соленого теста можно сделать различные фигурки(домик, цветок, подошву, хлебный карава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2" descr="http://solo-nebo.narod.ru/p005201.jpg"/>
          <p:cNvPicPr/>
          <p:nvPr/>
        </p:nvPicPr>
        <p:blipFill>
          <a:blip r:embed="rId1"/>
          <a:srcRect l="5570" t="26341" r="53318" b="36655"/>
          <a:stretch/>
        </p:blipFill>
        <p:spPr>
          <a:xfrm>
            <a:off x="5000760" y="142920"/>
            <a:ext cx="3951000" cy="49388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http://solo-nebo.narod.ru/p005201.jpg"/>
          <p:cNvPicPr/>
          <p:nvPr/>
        </p:nvPicPr>
        <p:blipFill>
          <a:blip r:embed="rId2"/>
          <a:srcRect l="5570" t="64714" r="53318" b="9735"/>
          <a:stretch/>
        </p:blipFill>
        <p:spPr>
          <a:xfrm>
            <a:off x="0" y="2643120"/>
            <a:ext cx="4703760" cy="4062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179280" y="269640"/>
            <a:ext cx="503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6. По нижней части можно приклеить орнамент из тыквенных семеч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4786200" y="5095440"/>
            <a:ext cx="403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7. По центру разместить полотенце- рушн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5:30:14Z</dcterms:created>
  <dc:creator>Admin</dc:creator>
  <dc:description/>
  <dc:language>en-US</dc:language>
  <cp:lastModifiedBy>Admin</cp:lastModifiedBy>
  <dcterms:modified xsi:type="dcterms:W3CDTF">2015-02-01T15:48:18Z</dcterms:modified>
  <cp:revision>2</cp:revision>
  <dc:subject/>
  <dc:title>Слайд 1</dc:title>
</cp:coreProperties>
</file>