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ACC5-6050-4411-A213-E59E1DCF2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BF7F-0CDE-406E-BB36-F3FBBB4F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7F48-3A40-4392-BA9B-584303BB3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6336-170E-4A8C-9143-63531CAA8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E6AF-984A-4736-8E4D-B93D36EA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62E3-6874-4244-B29F-2A8F469E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BE75-A89C-47DB-8AC9-AC998041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8FC8-24D0-488E-BC47-D55F788E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98EE-202F-44A4-8F8E-4C39CD7F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4660-73DF-4DC3-838A-F4106062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B22A-2A09-44E4-A0D2-2DE3888B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25F1-7A72-4410-AE50-4AB4A090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EE98-BA36-4592-90A6-A15BC6609F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429000" y="2928960"/>
            <a:ext cx="556272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3357360"/>
            <a:ext cx="4714920" cy="26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85680"/>
            <a:ext cx="6083280" cy="115272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5"/>
          <p:cNvSpPr/>
          <p:nvPr/>
        </p:nvSpPr>
        <p:spPr>
          <a:xfrm>
            <a:off x="571680" y="3286080"/>
            <a:ext cx="187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Часть 4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Прямоугольник 6" descr=""/>
          <p:cNvPicPr/>
          <p:nvPr/>
        </p:nvPicPr>
        <p:blipFill>
          <a:blip r:embed="rId3"/>
          <a:stretch/>
        </p:blipFill>
        <p:spPr>
          <a:xfrm>
            <a:off x="2517840" y="1096920"/>
            <a:ext cx="487044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1" descr="http://solo-nebo.narod.ru/p005201.jpg"/>
          <p:cNvPicPr/>
          <p:nvPr/>
        </p:nvPicPr>
        <p:blipFill>
          <a:blip r:embed="rId1"/>
          <a:srcRect l="48544" t="5726" r="10344" b="67005"/>
          <a:stretch/>
        </p:blipFill>
        <p:spPr>
          <a:xfrm>
            <a:off x="5033880" y="0"/>
            <a:ext cx="4110120" cy="37828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5" descr="http://solo-nebo.narod.ru/p005201.jpg"/>
          <p:cNvPicPr/>
          <p:nvPr/>
        </p:nvPicPr>
        <p:blipFill>
          <a:blip r:embed="rId2"/>
          <a:srcRect l="48544" t="52116" r="10344" b="25196"/>
          <a:stretch/>
        </p:blipFill>
        <p:spPr>
          <a:xfrm>
            <a:off x="0" y="2928960"/>
            <a:ext cx="4944960" cy="37908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/>
          <p:cNvSpPr/>
          <p:nvPr/>
        </p:nvSpPr>
        <p:spPr>
          <a:xfrm>
            <a:off x="179280" y="830520"/>
            <a:ext cx="49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8. На рушнике разместить карава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5003640" y="4350240"/>
            <a:ext cx="39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9. Продумать композицию, наклеить выбранные символ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1" descr="4.jpg"/>
          <p:cNvPicPr/>
          <p:nvPr/>
        </p:nvPicPr>
        <p:blipFill>
          <a:blip r:embed="rId1"/>
          <a:srcRect l="20024" t="11733" r="30036" b="25343"/>
          <a:stretch/>
        </p:blipFill>
        <p:spPr>
          <a:xfrm rot="300000">
            <a:off x="4275000" y="155160"/>
            <a:ext cx="3841920" cy="64548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2" descr="1.jpg"/>
          <p:cNvPicPr/>
          <p:nvPr/>
        </p:nvPicPr>
        <p:blipFill>
          <a:blip r:embed="rId2"/>
          <a:stretch/>
        </p:blipFill>
        <p:spPr>
          <a:xfrm>
            <a:off x="642960" y="2428920"/>
            <a:ext cx="2998800" cy="223848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3"/>
          <p:cNvSpPr/>
          <p:nvPr/>
        </p:nvSpPr>
        <p:spPr>
          <a:xfrm>
            <a:off x="142920" y="50004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84807"/>
                </a:solidFill>
                <a:latin typeface="Calibri"/>
              </a:rPr>
              <a:t>Работы учащихс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20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642600"/>
            <a:ext cx="77724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ru-RU" sz="3700" spc="-1" strike="noStrike">
                <a:solidFill>
                  <a:srgbClr val="0d0d0d"/>
                </a:solidFill>
                <a:latin typeface="Calibri"/>
              </a:rPr>
              <a:t>Сторублева Валентина Николаевна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d0d0d"/>
                </a:solidFill>
                <a:latin typeface="Calibri"/>
              </a:rPr>
              <a:t>ГОУ СОШ№287, Адмиралтейский район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d0d0d"/>
                </a:solidFill>
                <a:latin typeface="Calibri"/>
              </a:rPr>
              <a:t>Санкт-Петербург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3" descr="11.jpg"/>
          <p:cNvPicPr/>
          <p:nvPr/>
        </p:nvPicPr>
        <p:blipFill>
          <a:blip r:embed="rId1"/>
          <a:stretch/>
        </p:blipFill>
        <p:spPr>
          <a:xfrm>
            <a:off x="6143760" y="3143160"/>
            <a:ext cx="251748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http://solo-nebo.narod.ru/p004701.jpg"/>
          <p:cNvPicPr/>
          <p:nvPr/>
        </p:nvPicPr>
        <p:blipFill>
          <a:blip r:embed="rId1"/>
          <a:srcRect l="42179" t="16607" r="0" b="0"/>
          <a:stretch/>
        </p:blipFill>
        <p:spPr>
          <a:xfrm>
            <a:off x="6143760" y="142920"/>
            <a:ext cx="2854080" cy="57214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0" y="148680"/>
            <a:ext cx="3857760" cy="667764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Материал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кань (холст, мешковин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голка и нит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источ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ас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лярная щет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леное тест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Горо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ше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Фасол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емена тыкв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емена подсолнух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лоды шиповни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сушенные цве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шеничный колос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Лоскут тка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онет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5" descr="http://solo-nebo.narod.ru/p004101.jpg"/>
          <p:cNvPicPr/>
          <p:nvPr/>
        </p:nvPicPr>
        <p:blipFill>
          <a:blip r:embed="rId2"/>
          <a:srcRect l="7923" t="18324" r="15847" b="0"/>
          <a:stretch/>
        </p:blipFill>
        <p:spPr>
          <a:xfrm>
            <a:off x="3143160" y="1571760"/>
            <a:ext cx="3246480" cy="51228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" descr="http://solo-nebo.narod.ru/p004701.jpg"/>
          <p:cNvPicPr/>
          <p:nvPr/>
        </p:nvPicPr>
        <p:blipFill>
          <a:blip r:embed="rId3"/>
          <a:srcRect l="19096" t="7444" r="35010" b="79030"/>
          <a:stretch/>
        </p:blipFill>
        <p:spPr>
          <a:xfrm>
            <a:off x="3571920" y="142920"/>
            <a:ext cx="311472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3" descr="http://solo-nebo.narod.ru/p004901.jpg"/>
          <p:cNvPicPr/>
          <p:nvPr/>
        </p:nvPicPr>
        <p:blipFill>
          <a:blip r:embed="rId1"/>
          <a:srcRect l="10344" t="46390" r="48544" b="33213"/>
          <a:stretch/>
        </p:blipFill>
        <p:spPr>
          <a:xfrm>
            <a:off x="4156200" y="115920"/>
            <a:ext cx="4802040" cy="33130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http://solo-nebo.narod.ru/p004901.jpg"/>
          <p:cNvPicPr/>
          <p:nvPr/>
        </p:nvPicPr>
        <p:blipFill>
          <a:blip r:embed="rId2"/>
          <a:srcRect l="10344" t="68150" r="48544" b="4581"/>
          <a:stretch/>
        </p:blipFill>
        <p:spPr>
          <a:xfrm>
            <a:off x="0" y="3143160"/>
            <a:ext cx="4432320" cy="35402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324000" y="576720"/>
            <a:ext cx="414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. Домовенка лучше изготовить из мешковины или холс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4572000" y="357984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. По шаблонам выкроить голову и туловище. Сшить заготовки, оставляя отверстия для набив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http://solo-nebo.narod.ru/p004901.jpg"/>
          <p:cNvPicPr/>
          <p:nvPr/>
        </p:nvPicPr>
        <p:blipFill>
          <a:blip r:embed="rId1"/>
          <a:srcRect l="53318" t="5154" r="5570" b="68722"/>
          <a:stretch/>
        </p:blipFill>
        <p:spPr>
          <a:xfrm>
            <a:off x="5584680" y="0"/>
            <a:ext cx="3559320" cy="31431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http://solo-nebo.narod.ru/p004901.jpg"/>
          <p:cNvPicPr/>
          <p:nvPr/>
        </p:nvPicPr>
        <p:blipFill>
          <a:blip r:embed="rId2"/>
          <a:srcRect l="53318" t="53261" r="5570" b="25774"/>
          <a:stretch/>
        </p:blipFill>
        <p:spPr>
          <a:xfrm>
            <a:off x="0" y="1143000"/>
            <a:ext cx="3863880" cy="27367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6" descr="http://solo-nebo.narod.ru/p004901.jpg"/>
          <p:cNvPicPr/>
          <p:nvPr/>
        </p:nvPicPr>
        <p:blipFill>
          <a:blip r:embed="rId3"/>
          <a:srcRect l="53318" t="75021" r="5570" b="4581"/>
          <a:stretch/>
        </p:blipFill>
        <p:spPr>
          <a:xfrm>
            <a:off x="5065560" y="4049640"/>
            <a:ext cx="4078440" cy="28083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8"/>
          <p:cNvSpPr/>
          <p:nvPr/>
        </p:nvSpPr>
        <p:spPr>
          <a:xfrm>
            <a:off x="395280" y="285120"/>
            <a:ext cx="421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. Набить деталь головы ват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3929040" y="3075840"/>
            <a:ext cx="521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. Из малярной щетки вырезать усы, прикрепить к голов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179280" y="4875480"/>
            <a:ext cx="489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. Над усами приклеить но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 половинка грецкого орех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http://solo-nebo.narod.ru/p005001.jpg"/>
          <p:cNvPicPr/>
          <p:nvPr/>
        </p:nvPicPr>
        <p:blipFill>
          <a:blip r:embed="rId1"/>
          <a:srcRect l="5570" t="6299" r="53318" b="26914"/>
          <a:stretch/>
        </p:blipFill>
        <p:spPr>
          <a:xfrm>
            <a:off x="250920" y="115920"/>
            <a:ext cx="2903400" cy="655308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5" descr="http://solo-nebo.narod.ru/p005001.jpg"/>
          <p:cNvPicPr/>
          <p:nvPr/>
        </p:nvPicPr>
        <p:blipFill>
          <a:blip r:embed="rId2"/>
          <a:srcRect l="47748" t="13171" r="11139" b="62423"/>
          <a:stretch/>
        </p:blipFill>
        <p:spPr>
          <a:xfrm>
            <a:off x="5078520" y="3860640"/>
            <a:ext cx="3632040" cy="29973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7"/>
          <p:cNvSpPr/>
          <p:nvPr/>
        </p:nvSpPr>
        <p:spPr>
          <a:xfrm>
            <a:off x="3203640" y="122400"/>
            <a:ext cx="554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6. Из плотной бумаги вырезать глаз, раскрасить и приклеить (рот и глаза можно сделать из пуговиц, засушенных ягод, бусинок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3203640" y="213372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7. Вырезать и приклеить ро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3276720" y="2927160"/>
            <a:ext cx="56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8. Из малярной щетки сделать прическу. От щетки отрезать пучок, связать е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3" descr="http://solo-nebo.narod.ru/p005001.jpg"/>
          <p:cNvPicPr/>
          <p:nvPr/>
        </p:nvPicPr>
        <p:blipFill>
          <a:blip r:embed="rId1"/>
          <a:srcRect l="47748" t="43526" r="11139" b="30356"/>
          <a:stretch/>
        </p:blipFill>
        <p:spPr>
          <a:xfrm>
            <a:off x="4643280" y="101520"/>
            <a:ext cx="4321440" cy="38149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http://solo-nebo.narod.ru/p005001.jpg"/>
          <p:cNvPicPr/>
          <p:nvPr/>
        </p:nvPicPr>
        <p:blipFill>
          <a:blip r:embed="rId2"/>
          <a:srcRect l="47748" t="70440" r="11139" b="3436"/>
          <a:stretch/>
        </p:blipFill>
        <p:spPr>
          <a:xfrm>
            <a:off x="138240" y="2857680"/>
            <a:ext cx="4321080" cy="38113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142920" y="433800"/>
            <a:ext cx="468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9. Расправить заготовку, придать форму. Ножницами подстричь чел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4680000" y="507528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0. Пришить прическу к заготовке голов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1" descr="http://solo-nebo.narod.ru/p005101.jpg"/>
          <p:cNvPicPr/>
          <p:nvPr/>
        </p:nvPicPr>
        <p:blipFill>
          <a:blip r:embed="rId1"/>
          <a:srcRect l="11139" t="6299" r="47748" b="68150"/>
          <a:stretch/>
        </p:blipFill>
        <p:spPr>
          <a:xfrm>
            <a:off x="0" y="142920"/>
            <a:ext cx="4500720" cy="38862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http://solo-nebo.narod.ru/p005101.jpg"/>
          <p:cNvPicPr/>
          <p:nvPr/>
        </p:nvPicPr>
        <p:blipFill>
          <a:blip r:embed="rId2"/>
          <a:srcRect l="11139" t="65287" r="47748" b="3436"/>
          <a:stretch/>
        </p:blipFill>
        <p:spPr>
          <a:xfrm>
            <a:off x="4532400" y="2143080"/>
            <a:ext cx="4397400" cy="46483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4572000" y="357480"/>
            <a:ext cx="428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1. Заготовку туловища наби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324000" y="4352760"/>
            <a:ext cx="464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2. Стянуть мешочки заготовок прочной нитью, пришить детали головы  и туловищ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http://solo-nebo.narod.ru/p005101.jpg"/>
          <p:cNvPicPr/>
          <p:nvPr/>
        </p:nvPicPr>
        <p:blipFill>
          <a:blip r:embed="rId1"/>
          <a:srcRect l="53318" t="6299" r="4774" b="69868"/>
          <a:stretch/>
        </p:blipFill>
        <p:spPr>
          <a:xfrm>
            <a:off x="0" y="0"/>
            <a:ext cx="3792600" cy="30002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2" descr="http://solo-nebo.narod.ru/p005101.jpg"/>
          <p:cNvPicPr/>
          <p:nvPr/>
        </p:nvPicPr>
        <p:blipFill>
          <a:blip r:embed="rId2"/>
          <a:srcRect l="53318" t="30923" r="4774" b="46390"/>
          <a:stretch/>
        </p:blipFill>
        <p:spPr>
          <a:xfrm>
            <a:off x="5095800" y="1571760"/>
            <a:ext cx="3907080" cy="29368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http://solo-nebo.narod.ru/p005101.jpg"/>
          <p:cNvPicPr/>
          <p:nvPr/>
        </p:nvPicPr>
        <p:blipFill>
          <a:blip r:embed="rId3"/>
          <a:srcRect l="53318" t="75021" r="4774" b="3436"/>
          <a:stretch/>
        </p:blipFill>
        <p:spPr>
          <a:xfrm>
            <a:off x="0" y="3643200"/>
            <a:ext cx="4292640" cy="30672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7"/>
          <p:cNvSpPr/>
          <p:nvPr/>
        </p:nvSpPr>
        <p:spPr>
          <a:xfrm>
            <a:off x="3708360" y="245880"/>
            <a:ext cx="518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3. Место соединения можно скрыть с помощью галстука или банти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285840" y="307404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4. Украсить домовенк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4356000" y="4540320"/>
            <a:ext cx="460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5. Из соленого теста можно сделать различные фигурки(домик, цветок, подошву, хлебный каравай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2" descr="http://solo-nebo.narod.ru/p005201.jpg"/>
          <p:cNvPicPr/>
          <p:nvPr/>
        </p:nvPicPr>
        <p:blipFill>
          <a:blip r:embed="rId1"/>
          <a:srcRect l="5570" t="26341" r="53318" b="36655"/>
          <a:stretch/>
        </p:blipFill>
        <p:spPr>
          <a:xfrm>
            <a:off x="5000760" y="142920"/>
            <a:ext cx="3951000" cy="493884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3" descr="http://solo-nebo.narod.ru/p005201.jpg"/>
          <p:cNvPicPr/>
          <p:nvPr/>
        </p:nvPicPr>
        <p:blipFill>
          <a:blip r:embed="rId2"/>
          <a:srcRect l="5570" t="64714" r="53318" b="9735"/>
          <a:stretch/>
        </p:blipFill>
        <p:spPr>
          <a:xfrm>
            <a:off x="0" y="2643120"/>
            <a:ext cx="4703760" cy="40626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179280" y="269640"/>
            <a:ext cx="503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6. По нижней части можно приклеить орнамент из тыквенных семече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4786200" y="5095440"/>
            <a:ext cx="403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7. По центру разместить полотенце- рушни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1T15:30:14Z</dcterms:created>
  <dc:creator>Admin</dc:creator>
  <dc:description/>
  <dc:language>en-US</dc:language>
  <cp:lastModifiedBy>Admin</cp:lastModifiedBy>
  <dcterms:modified xsi:type="dcterms:W3CDTF">2015-02-01T15:48:18Z</dcterms:modified>
  <cp:revision>2</cp:revision>
  <dc:subject/>
  <dc:title>Слайд 1</dc:title>
</cp:coreProperties>
</file>