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6408-E93C-4979-A1CD-822399AF2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A517-65A6-429F-83BB-CEC1C472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9386-8806-4EF4-A73B-BB06CCB01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7DAF-7156-4E84-BEFA-F26C43978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77BA-7637-4B72-B72C-084E336F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F5B6-BDB0-477C-ADE0-76B90373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1306-64AD-40AA-8AF3-D6A8137D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F4A6-21EA-44D9-B31A-E87A9B07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0B29-1BA4-4931-9314-2248796C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6518-4478-440E-B994-F3D17F4C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29F5-2611-4725-BF4A-E97E67FF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E7AC-F659-4614-87FB-4796D721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7762-1188-4DF6-A86D-F1663C39EC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857840" y="3643200"/>
            <a:ext cx="4133880" cy="2708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357960" y="1999800"/>
            <a:ext cx="257184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асть 2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-360" y="2071440"/>
            <a:ext cx="50007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Материал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авила безопасной работы с ножниц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дготовка матери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следовательность работ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Работы учащих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Прямоугольник 4" descr=""/>
          <p:cNvPicPr/>
          <p:nvPr/>
        </p:nvPicPr>
        <p:blipFill>
          <a:blip r:embed="rId2"/>
          <a:stretch/>
        </p:blipFill>
        <p:spPr>
          <a:xfrm>
            <a:off x="133200" y="85680"/>
            <a:ext cx="6085080" cy="115272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6" descr=""/>
          <p:cNvPicPr/>
          <p:nvPr/>
        </p:nvPicPr>
        <p:blipFill>
          <a:blip r:embed="rId3"/>
          <a:stretch/>
        </p:blipFill>
        <p:spPr>
          <a:xfrm>
            <a:off x="4363920" y="811080"/>
            <a:ext cx="377352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Содержимое 7" descr="http://solo-nebo.narod.ru/p003901.jpg"/>
          <p:cNvPicPr/>
          <p:nvPr/>
        </p:nvPicPr>
        <p:blipFill>
          <a:blip r:embed="rId2"/>
          <a:srcRect l="53886" t="29205" r="4754" b="49825"/>
          <a:stretch/>
        </p:blipFill>
        <p:spPr>
          <a:xfrm>
            <a:off x="928800" y="142920"/>
            <a:ext cx="4176720" cy="30956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105520" y="785880"/>
            <a:ext cx="403848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6. Приклеить верхнюю часть к заготовке подошв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7. Обратную сторону обклеить сухими листьями. Выступающие края обрезать по контур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7" descr="http://solo-nebo.narod.ru/p003901.jpg"/>
          <p:cNvPicPr/>
          <p:nvPr/>
        </p:nvPicPr>
        <p:blipFill>
          <a:blip r:embed="rId3"/>
          <a:srcRect l="53886" t="50971" r="4754" b="29205"/>
          <a:stretch/>
        </p:blipFill>
        <p:spPr>
          <a:xfrm>
            <a:off x="142920" y="3429000"/>
            <a:ext cx="3960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285840" y="4143240"/>
            <a:ext cx="8858160" cy="19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8. Основа оберега гото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сле высыхания отогнуть верхнюю часть лаптя, придать ему объем с помощью наполнител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4" descr="http://solo-nebo.narod.ru/p004001.jpg"/>
          <p:cNvPicPr/>
          <p:nvPr/>
        </p:nvPicPr>
        <p:blipFill>
          <a:blip r:embed="rId2"/>
          <a:srcRect l="6339" t="5154" r="52302" b="74449"/>
          <a:stretch/>
        </p:blipFill>
        <p:spPr>
          <a:xfrm>
            <a:off x="214200" y="285840"/>
            <a:ext cx="4556160" cy="36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071600" y="0"/>
            <a:ext cx="48243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9. Наполнителем может быть вата, бумажные салфетки, просто бумаг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местить наполнитель внутрь лаптя, предварительно промазав кле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Содержимое 4" descr="http://solo-nebo.narod.ru/p004001.jpg"/>
          <p:cNvPicPr/>
          <p:nvPr/>
        </p:nvPicPr>
        <p:blipFill>
          <a:blip r:embed="rId2"/>
          <a:srcRect l="6339" t="55552" r="52302" b="24057"/>
          <a:stretch/>
        </p:blipFill>
        <p:spPr>
          <a:xfrm>
            <a:off x="0" y="189000"/>
            <a:ext cx="4032360" cy="3016080"/>
          </a:xfrm>
          <a:prstGeom prst="rect">
            <a:avLst/>
          </a:prstGeom>
          <a:ln w="0">
            <a:noFill/>
          </a:ln>
        </p:spPr>
      </p:pic>
      <p:pic>
        <p:nvPicPr>
          <p:cNvPr id="81" name="Содержимое 4" descr="http://solo-nebo.narod.ru/p004001.jpg"/>
          <p:cNvPicPr/>
          <p:nvPr/>
        </p:nvPicPr>
        <p:blipFill>
          <a:blip r:embed="rId3"/>
          <a:srcRect l="6339" t="76739" r="52302" b="4008"/>
          <a:stretch/>
        </p:blipFill>
        <p:spPr>
          <a:xfrm>
            <a:off x="4286160" y="3143160"/>
            <a:ext cx="4643640" cy="342900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5"/>
          <p:cNvSpPr/>
          <p:nvPr/>
        </p:nvSpPr>
        <p:spPr>
          <a:xfrm>
            <a:off x="142920" y="3500280"/>
            <a:ext cx="4319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0. Украсить «кармашек» снаруж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жно использовать: семена тыквы, подсолнуха, мох, тесьму, искусственные цве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929120" y="214200"/>
            <a:ext cx="3827520" cy="59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2. В кармашек лаптя можно поместить перец, луковицу, чеснок, колос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3. На обратной стороне лаптя сделать петель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одержимое 4" descr="http://solo-nebo.narod.ru/p004001.jpg"/>
          <p:cNvPicPr/>
          <p:nvPr/>
        </p:nvPicPr>
        <p:blipFill>
          <a:blip r:embed="rId2"/>
          <a:srcRect l="48340" t="25196" r="10300" b="38373"/>
          <a:stretch/>
        </p:blipFill>
        <p:spPr>
          <a:xfrm>
            <a:off x="108000" y="333360"/>
            <a:ext cx="4680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1" descr="5.jpg"/>
          <p:cNvPicPr/>
          <p:nvPr/>
        </p:nvPicPr>
        <p:blipFill>
          <a:blip r:embed="rId2"/>
          <a:srcRect l="11889" t="10794" r="21275" b="8448"/>
          <a:stretch/>
        </p:blipFill>
        <p:spPr>
          <a:xfrm rot="20940000">
            <a:off x="642960" y="1006560"/>
            <a:ext cx="3459240" cy="557208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3" descr="7.jpg"/>
          <p:cNvPicPr/>
          <p:nvPr/>
        </p:nvPicPr>
        <p:blipFill>
          <a:blip r:embed="rId3"/>
          <a:srcRect l="21901" t="8448" r="20024" b="13141"/>
          <a:stretch/>
        </p:blipFill>
        <p:spPr>
          <a:xfrm rot="660000">
            <a:off x="5099040" y="1029960"/>
            <a:ext cx="3214800" cy="557208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5"/>
          <p:cNvSpPr/>
          <p:nvPr/>
        </p:nvSpPr>
        <p:spPr>
          <a:xfrm>
            <a:off x="2235240" y="142920"/>
            <a:ext cx="403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Calibri"/>
              </a:rPr>
              <a:t>Работы учащих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8.jpg"/>
          <p:cNvPicPr/>
          <p:nvPr/>
        </p:nvPicPr>
        <p:blipFill>
          <a:blip r:embed="rId2"/>
          <a:srcRect l="18147" t="7509" r="22527" b="15018"/>
          <a:stretch/>
        </p:blipFill>
        <p:spPr>
          <a:xfrm rot="20940000">
            <a:off x="649440" y="981000"/>
            <a:ext cx="3227400" cy="56214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2" descr="10.jpg"/>
          <p:cNvPicPr/>
          <p:nvPr/>
        </p:nvPicPr>
        <p:blipFill>
          <a:blip r:embed="rId3"/>
          <a:srcRect l="25030" t="8917" r="24404" b="7978"/>
          <a:stretch/>
        </p:blipFill>
        <p:spPr>
          <a:xfrm rot="660000">
            <a:off x="5256360" y="1044360"/>
            <a:ext cx="2914560" cy="551016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3"/>
          <p:cNvSpPr/>
          <p:nvPr/>
        </p:nvSpPr>
        <p:spPr>
          <a:xfrm>
            <a:off x="2374920" y="142920"/>
            <a:ext cx="403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Calibri"/>
              </a:rPr>
              <a:t>Работы учащих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57120" y="714240"/>
            <a:ext cx="842976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84807"/>
                </a:solidFill>
                <a:latin typeface="Calibri"/>
              </a:rPr>
              <a:t>Сторублева Валентина Николаевн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84807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984807"/>
                </a:solidFill>
                <a:latin typeface="Calibri"/>
              </a:rPr>
              <a:t>ГОУ СОШ№287, Адмиралтейский район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84807"/>
                </a:solidFill>
                <a:latin typeface="Calibri"/>
              </a:rPr>
              <a:t>  </a:t>
            </a:r>
            <a:r>
              <a:rPr b="0" lang="ru-RU" sz="4000" spc="-1" strike="noStrike">
                <a:solidFill>
                  <a:srgbClr val="984807"/>
                </a:solidFill>
                <a:latin typeface="Calibri"/>
              </a:rPr>
              <a:t>Санкт-Петербург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3" descr="http://solo-nebo.narod.ru/p003501.jpg"/>
          <p:cNvPicPr/>
          <p:nvPr/>
        </p:nvPicPr>
        <p:blipFill>
          <a:blip r:embed="rId1"/>
          <a:srcRect l="7923" t="19470" r="0" b="0"/>
          <a:stretch/>
        </p:blipFill>
        <p:spPr>
          <a:xfrm>
            <a:off x="214200" y="1714680"/>
            <a:ext cx="4606920" cy="49291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3" descr="http://solo-nebo.narod.ru/p003501.jpg"/>
          <p:cNvPicPr/>
          <p:nvPr/>
        </p:nvPicPr>
        <p:blipFill>
          <a:blip r:embed="rId2"/>
          <a:srcRect l="7923" t="0" r="0" b="79603"/>
          <a:stretch/>
        </p:blipFill>
        <p:spPr>
          <a:xfrm>
            <a:off x="142920" y="214200"/>
            <a:ext cx="4964040" cy="121464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3"/>
          <p:cNvSpPr/>
          <p:nvPr/>
        </p:nvSpPr>
        <p:spPr>
          <a:xfrm>
            <a:off x="4857840" y="0"/>
            <a:ext cx="4286160" cy="67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Материал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0-15 соломинок длиной до 20 с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рто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ец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уковиц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есн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лос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лей П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емена тыквы,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дсолнух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сь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скусственные цве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равила безопасной работы с ножниц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Подготовка материал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4" descr="http://solo-nebo.narod.ru/p003701.jpg"/>
          <p:cNvPicPr/>
          <p:nvPr/>
        </p:nvPicPr>
        <p:blipFill>
          <a:blip r:embed="rId2"/>
          <a:srcRect l="1585" t="6299" r="49925" b="75594"/>
          <a:stretch/>
        </p:blipFill>
        <p:spPr>
          <a:xfrm>
            <a:off x="179280" y="907920"/>
            <a:ext cx="4537080" cy="2678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716000" y="836280"/>
            <a:ext cx="397044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. 10-15 соломинок длиной до 20 с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4" descr="http://solo-nebo.narod.ru/p003701.jpg"/>
          <p:cNvPicPr/>
          <p:nvPr/>
        </p:nvPicPr>
        <p:blipFill>
          <a:blip r:embed="rId3"/>
          <a:srcRect l="11093" t="58415" r="49132" b="5154"/>
          <a:stretch/>
        </p:blipFill>
        <p:spPr>
          <a:xfrm>
            <a:off x="4859280" y="1773360"/>
            <a:ext cx="4105440" cy="496872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7"/>
          <p:cNvSpPr/>
          <p:nvPr/>
        </p:nvSpPr>
        <p:spPr>
          <a:xfrm>
            <a:off x="285840" y="3857760"/>
            <a:ext cx="4286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. Разрезать солому на фрагменты длиной 10-12с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 Очистить солом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Подготовка материал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 Разрезать солому вдол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. Разровнять солому на твердой поверхность кольцами ножниц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5" descr="http://solo-nebo.narod.ru/p003701.jpg"/>
          <p:cNvPicPr/>
          <p:nvPr/>
        </p:nvPicPr>
        <p:blipFill>
          <a:blip r:embed="rId2"/>
          <a:srcRect l="53094" t="44093" r="8716" b="5726"/>
          <a:stretch/>
        </p:blipFill>
        <p:spPr>
          <a:xfrm>
            <a:off x="4714920" y="928800"/>
            <a:ext cx="378612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Подготовка материал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5" descr="http://solo-nebo.narod.ru/p003801.jpg"/>
          <p:cNvPicPr/>
          <p:nvPr/>
        </p:nvPicPr>
        <p:blipFill>
          <a:blip r:embed="rId2"/>
          <a:srcRect l="7131" t="6872" r="65771" b="74449"/>
          <a:stretch/>
        </p:blipFill>
        <p:spPr>
          <a:xfrm>
            <a:off x="0" y="1125360"/>
            <a:ext cx="2952720" cy="2880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648320" y="1599840"/>
            <a:ext cx="4100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6. Из картона вырезать подошву лаптя (около 14см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7. Горизонтальной чертой отделить часть подошвы лаптя, которая будет скрыта верхом лапт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5" descr="http://solo-nebo.narod.ru/p003801.jpg"/>
          <p:cNvPicPr/>
          <p:nvPr/>
        </p:nvPicPr>
        <p:blipFill>
          <a:blip r:embed="rId3"/>
          <a:srcRect l="34863" t="6872" r="38032" b="74449"/>
          <a:stretch/>
        </p:blipFill>
        <p:spPr>
          <a:xfrm>
            <a:off x="1979640" y="3500280"/>
            <a:ext cx="286704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Содержимое 5" descr="http://solo-nebo.narod.ru/p003801.jpg"/>
          <p:cNvPicPr/>
          <p:nvPr/>
        </p:nvPicPr>
        <p:blipFill>
          <a:blip r:embed="rId2"/>
          <a:srcRect l="7131" t="28059" r="53886" b="49253"/>
          <a:stretch/>
        </p:blipFill>
        <p:spPr>
          <a:xfrm>
            <a:off x="468360" y="2997360"/>
            <a:ext cx="3816360" cy="3673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286160" y="1642680"/>
            <a:ext cx="5004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9. В соответствии с разметкой приклеить первый пласт к открытой части подошв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асть, которую закроет верхняя часть лаптя, заклеивать пластами соломки необязательн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клеив пласт, разгладить его кольцами ножниц. Наклеить остальные плас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3500280" y="214200"/>
            <a:ext cx="58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8. Клей наносится на внутреннюю часть плас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5" descr="http://solo-nebo.narod.ru/p003801.jpg"/>
          <p:cNvPicPr/>
          <p:nvPr/>
        </p:nvPicPr>
        <p:blipFill>
          <a:blip r:embed="rId3"/>
          <a:srcRect l="62602" t="6872" r="11885" b="74449"/>
          <a:stretch/>
        </p:blipFill>
        <p:spPr>
          <a:xfrm>
            <a:off x="142920" y="115920"/>
            <a:ext cx="3357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Содержимое 5" descr="http://solo-nebo.narod.ru/p003801.jpg"/>
          <p:cNvPicPr/>
          <p:nvPr/>
        </p:nvPicPr>
        <p:blipFill>
          <a:blip r:embed="rId2"/>
          <a:srcRect l="7131" t="74449" r="53094" b="4581"/>
          <a:stretch/>
        </p:blipFill>
        <p:spPr>
          <a:xfrm>
            <a:off x="142920" y="142920"/>
            <a:ext cx="4032360" cy="3335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4714920" y="785880"/>
            <a:ext cx="40384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10. Выступающие края пластов соломы обрезать по контуру заготовк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11. Приклеить пласт соломы по горизонтальной лини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нутренняя часть подошвы готов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5" descr="http://solo-nebo.narod.ru/p003801.jpg"/>
          <p:cNvPicPr/>
          <p:nvPr/>
        </p:nvPicPr>
        <p:blipFill>
          <a:blip r:embed="rId3"/>
          <a:srcRect l="49925" t="57842" r="10300" b="25774"/>
          <a:stretch/>
        </p:blipFill>
        <p:spPr>
          <a:xfrm>
            <a:off x="179280" y="3860640"/>
            <a:ext cx="4248360" cy="27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Содержимое 4" descr="http://solo-nebo.narod.ru/p003901.jpg"/>
          <p:cNvPicPr/>
          <p:nvPr/>
        </p:nvPicPr>
        <p:blipFill>
          <a:blip r:embed="rId2"/>
          <a:srcRect l="11885" t="24623" r="48340" b="56124"/>
          <a:stretch/>
        </p:blipFill>
        <p:spPr>
          <a:xfrm>
            <a:off x="0" y="333360"/>
            <a:ext cx="4032360" cy="3451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714920" y="713880"/>
            <a:ext cx="403848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12. На альбомном листе нарисовать верхнюю часть лапт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13. Отступив от внешнего края 1см, наметить пунктиром линию подгиба, места разрезов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ырезать шаблон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4" descr="http://solo-nebo.narod.ru/p003901.jpg"/>
          <p:cNvPicPr/>
          <p:nvPr/>
        </p:nvPicPr>
        <p:blipFill>
          <a:blip r:embed="rId3"/>
          <a:srcRect l="11885" t="45817" r="48340" b="36655"/>
          <a:stretch/>
        </p:blipFill>
        <p:spPr>
          <a:xfrm>
            <a:off x="468360" y="3716280"/>
            <a:ext cx="38876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Содержимое 4" descr="http://solo-nebo.narod.ru/p003901.jpg"/>
          <p:cNvPicPr/>
          <p:nvPr/>
        </p:nvPicPr>
        <p:blipFill>
          <a:blip r:embed="rId2"/>
          <a:srcRect l="11885" t="65287" r="48340" b="16607"/>
          <a:stretch/>
        </p:blipFill>
        <p:spPr>
          <a:xfrm>
            <a:off x="214200" y="142920"/>
            <a:ext cx="4176720" cy="3170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5105520" y="713880"/>
            <a:ext cx="403848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4. Согнуть шаблон по линиям сгиба, разрезать в намеченных мест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5. На внешнюю сторону заготовки приклеить пласты солом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7" descr="http://solo-nebo.narod.ru/p003901.jpg"/>
          <p:cNvPicPr/>
          <p:nvPr/>
        </p:nvPicPr>
        <p:blipFill>
          <a:blip r:embed="rId3"/>
          <a:srcRect l="53886" t="5726" r="4754" b="72158"/>
          <a:stretch/>
        </p:blipFill>
        <p:spPr>
          <a:xfrm>
            <a:off x="755640" y="3429000"/>
            <a:ext cx="367200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1T14:50:08Z</dcterms:created>
  <dc:creator>Admin</dc:creator>
  <dc:description/>
  <dc:language>en-US</dc:language>
  <cp:lastModifiedBy>Admin</cp:lastModifiedBy>
  <dcterms:modified xsi:type="dcterms:W3CDTF">2015-02-01T15:16:47Z</dcterms:modified>
  <cp:revision>3</cp:revision>
  <dc:subject/>
  <dc:title>Слайд 1</dc:title>
</cp:coreProperties>
</file>