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8F3-A3FF-4B47-88D1-B529068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F17-EDFE-4AC5-BCBC-CED4B15B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56F-1984-4AE3-9560-2B7875C0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9CF-E122-4D8E-B012-102496E5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DA7-0EA9-4F12-9122-032531A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6ED-A99D-48F5-87BE-B5AB79D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8F1-220A-49D0-BA88-73262CD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169-B69D-4952-AC21-9A39C640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C4C-F708-4A77-81E7-A7F9DA4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09B-F5D5-4564-B84F-6588178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2A9-8FB9-43D9-AAF0-7ED4144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128-66DC-4CA8-B228-3D81378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F74-393D-44C4-B038-E9265951F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4357800" y="3571920"/>
            <a:ext cx="4689360" cy="3071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3500280"/>
            <a:ext cx="4714920" cy="26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выпол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6429240" y="1857240"/>
            <a:ext cx="18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3597120" y="957240"/>
            <a:ext cx="3327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как сделать обереги"/>
          <p:cNvPicPr/>
          <p:nvPr/>
        </p:nvPicPr>
        <p:blipFill>
          <a:blip r:embed="rId2"/>
          <a:srcRect l="10110" t="18215" r="0" b="569"/>
          <a:stretch/>
        </p:blipFill>
        <p:spPr>
          <a:xfrm>
            <a:off x="4071960" y="1071720"/>
            <a:ext cx="489420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42920" y="373680"/>
            <a:ext cx="35258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овые пру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гурки из соленого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куток тк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сок древесной к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ие ягоды шипов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ыквенные семе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кусственные цветы и ли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ие ягоды ряб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как сделать обереги"/>
          <p:cNvPicPr/>
          <p:nvPr/>
        </p:nvPicPr>
        <p:blipFill>
          <a:blip r:embed="rId3"/>
          <a:srcRect l="10110" t="7969" r="23330" b="80834"/>
          <a:stretch/>
        </p:blipFill>
        <p:spPr>
          <a:xfrm>
            <a:off x="3357720" y="142920"/>
            <a:ext cx="39178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http://solo-nebo.narod.ru/p001501.jpg"/>
          <p:cNvPicPr/>
          <p:nvPr/>
        </p:nvPicPr>
        <p:blipFill>
          <a:blip r:embed="rId2"/>
          <a:srcRect l="10110" t="6261" r="62221" b="74004"/>
          <a:stretch/>
        </p:blipFill>
        <p:spPr>
          <a:xfrm>
            <a:off x="77760" y="0"/>
            <a:ext cx="3084480" cy="2565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solo-nebo.narod.ru/p001501.jpg"/>
          <p:cNvPicPr/>
          <p:nvPr/>
        </p:nvPicPr>
        <p:blipFill>
          <a:blip r:embed="rId3"/>
          <a:srcRect l="37336" t="6261" r="35773" b="74004"/>
          <a:stretch/>
        </p:blipFill>
        <p:spPr>
          <a:xfrm>
            <a:off x="5854680" y="1989000"/>
            <a:ext cx="31100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http://solo-nebo.narod.ru/p001501.jpg"/>
          <p:cNvPicPr/>
          <p:nvPr/>
        </p:nvPicPr>
        <p:blipFill>
          <a:blip r:embed="rId4"/>
          <a:srcRect l="64554" t="6261" r="8554" b="74004"/>
          <a:stretch/>
        </p:blipFill>
        <p:spPr>
          <a:xfrm>
            <a:off x="0" y="4270320"/>
            <a:ext cx="3024360" cy="258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214800" y="15084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Ивовые прутья очистить от листьев. Более толстые для «кольев» плетня, тонкие для запле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64348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 Толстые разрезать на отрезки по 15-20 см(высота плетня). Разложить на столе на расстоянии 2-3 см(кол-во прутьев выбрать в зависимости от длины плетн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143160" y="4621320"/>
            <a:ext cx="57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 Тонким, длинным прутом начать переплетать «колья», пропуская прутья через один. Начинать плетение лучше с середины к ни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solo-nebo.narod.ru/p001501.jpg"/>
          <p:cNvPicPr/>
          <p:nvPr/>
        </p:nvPicPr>
        <p:blipFill>
          <a:blip r:embed="rId2"/>
          <a:srcRect l="10110" t="76850" r="49778" b="4554"/>
          <a:stretch/>
        </p:blipFill>
        <p:spPr>
          <a:xfrm>
            <a:off x="19080" y="0"/>
            <a:ext cx="447660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solo-nebo.narod.ru/p001501.jpg"/>
          <p:cNvPicPr/>
          <p:nvPr/>
        </p:nvPicPr>
        <p:blipFill>
          <a:blip r:embed="rId3"/>
          <a:srcRect l="51334" t="43260" r="7777" b="31307"/>
          <a:stretch/>
        </p:blipFill>
        <p:spPr>
          <a:xfrm>
            <a:off x="4500720" y="2133720"/>
            <a:ext cx="4168440" cy="3024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solo-nebo.narod.ru/p001501.jpg"/>
          <p:cNvPicPr/>
          <p:nvPr/>
        </p:nvPicPr>
        <p:blipFill>
          <a:blip r:embed="rId4"/>
          <a:srcRect l="51334" t="70014" r="7777" b="3985"/>
          <a:stretch/>
        </p:blipFill>
        <p:spPr>
          <a:xfrm>
            <a:off x="57240" y="3789360"/>
            <a:ext cx="4136760" cy="3068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643280" y="26676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огда прутик закончиться, закрепить конец среди плетения, продолжить плетение другим прут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79280" y="25696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Дойдя до нижнего ряда, закрепить прут, продолжить плетение от середины ввер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211640" y="551952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Приготовить все элементы декора,  продумать ком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как сделать обереги"/>
          <p:cNvPicPr/>
          <p:nvPr/>
        </p:nvPicPr>
        <p:blipFill>
          <a:blip r:embed="rId2"/>
          <a:srcRect l="7777" t="19353" r="51334" b="62045"/>
          <a:stretch/>
        </p:blipFill>
        <p:spPr>
          <a:xfrm>
            <a:off x="4214880" y="142920"/>
            <a:ext cx="4770360" cy="2636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как сделать обереги"/>
          <p:cNvPicPr/>
          <p:nvPr/>
        </p:nvPicPr>
        <p:blipFill>
          <a:blip r:embed="rId3"/>
          <a:srcRect l="7777" t="39276" r="51334" b="40984"/>
          <a:stretch/>
        </p:blipFill>
        <p:spPr>
          <a:xfrm>
            <a:off x="0" y="2500200"/>
            <a:ext cx="429588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как сделать обереги"/>
          <p:cNvPicPr/>
          <p:nvPr/>
        </p:nvPicPr>
        <p:blipFill>
          <a:blip r:embed="rId4"/>
          <a:srcRect l="7777" t="60337" r="51334" b="19353"/>
          <a:stretch/>
        </p:blipFill>
        <p:spPr>
          <a:xfrm>
            <a:off x="4602240" y="4000680"/>
            <a:ext cx="4541760" cy="27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0" y="29556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Наклеить на плетень лоскуток ткани - рушник. Хорошо загрунтовать клеем ПВА для придания пр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286160" y="27903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На рушник поместить символ хлеба, выполненный из соленого теста, прикле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28760" y="527076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Кору лучше приклеить суперкле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как сделать обереги"/>
          <p:cNvPicPr/>
          <p:nvPr/>
        </p:nvPicPr>
        <p:blipFill>
          <a:blip r:embed="rId2"/>
          <a:srcRect l="49778" t="5123" r="10110" b="72860"/>
          <a:stretch/>
        </p:blipFill>
        <p:spPr>
          <a:xfrm>
            <a:off x="108000" y="0"/>
            <a:ext cx="4100400" cy="2736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как сделать обереги"/>
          <p:cNvPicPr/>
          <p:nvPr/>
        </p:nvPicPr>
        <p:blipFill>
          <a:blip r:embed="rId3"/>
          <a:srcRect l="49778" t="53506" r="10110" b="26753"/>
          <a:stretch/>
        </p:blipFill>
        <p:spPr>
          <a:xfrm>
            <a:off x="4716360" y="1143000"/>
            <a:ext cx="442764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как сделать обереги"/>
          <p:cNvPicPr/>
          <p:nvPr/>
        </p:nvPicPr>
        <p:blipFill>
          <a:blip r:embed="rId4"/>
          <a:srcRect l="49778" t="74573" r="10110" b="5123"/>
          <a:stretch/>
        </p:blipFill>
        <p:spPr>
          <a:xfrm>
            <a:off x="0" y="3976560"/>
            <a:ext cx="468144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284720" y="11916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Наклеить остальные симв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271908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Оценить композицию, пустоты можно заполнить фасолью, тыквенными семечками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822920" y="422460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После завершения работы промазать клеем ПВА кусок коры, для блеска и прочного соединения с композицией. Готовое изделие можно покрыть бесцветным ла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8858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11.jpg"/>
          <p:cNvPicPr/>
          <p:nvPr/>
        </p:nvPicPr>
        <p:blipFill>
          <a:blip r:embed="rId1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17:52Z</dcterms:created>
  <dc:creator>Admin</dc:creator>
  <dc:description/>
  <dc:language>en-US</dc:language>
  <cp:lastModifiedBy>Admin</cp:lastModifiedBy>
  <dcterms:modified xsi:type="dcterms:W3CDTF">2015-02-01T15:30:04Z</dcterms:modified>
  <cp:revision>2</cp:revision>
  <dc:subject/>
  <dc:title>Слайд 1</dc:title>
</cp:coreProperties>
</file>