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371-B8BE-433C-8BC4-8FF180B8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BC3-F8E5-4B97-B6A6-C12D1284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FC7-3256-46D8-B490-88C8BC9E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A91-5FCF-4E4B-B1EE-1DFC554F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8D9-4DFB-4C13-9380-E5C5B87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436-FA83-456D-9023-6C48E05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8F1-6630-4B75-8513-C0D72AD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7CA-93B8-4C9E-97E8-25A7BC3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F98-0BC0-4A10-B95B-7012B5E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B91-1475-4F81-8968-0B805D86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FDB-0EE0-43A8-B6FB-F1EAF49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B74-65EE-4A14-8579-53BA57E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C4B-0F73-42BA-91A2-443982F74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4200" y="307188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47149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786720" y="321480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3882960" y="1139760"/>
            <a:ext cx="3724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://solo-nebo.narod.ru/p005301.jpg"/>
          <p:cNvPicPr/>
          <p:nvPr/>
        </p:nvPicPr>
        <p:blipFill>
          <a:blip r:embed="rId2"/>
          <a:srcRect l="15118" t="8590" r="27849" b="80748"/>
          <a:stretch/>
        </p:blipFill>
        <p:spPr>
          <a:xfrm>
            <a:off x="4714920" y="0"/>
            <a:ext cx="332748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http://solo-nebo.narod.ru/p005401.jpg"/>
          <p:cNvPicPr/>
          <p:nvPr/>
        </p:nvPicPr>
        <p:blipFill>
          <a:blip r:embed="rId3"/>
          <a:srcRect l="0" t="33791" r="7957" b="0"/>
          <a:stretch/>
        </p:blipFill>
        <p:spPr>
          <a:xfrm>
            <a:off x="4051440" y="1643040"/>
            <a:ext cx="5092560" cy="5091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315000"/>
            <a:ext cx="403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вяная малярная щ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 П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сь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еток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о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хой красный пер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гурки из соленого те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ты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чки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шеные ягоды шипов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вровый ли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кусственные лис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olo-nebo.narod.ru/p005501.jpg"/>
          <p:cNvPicPr/>
          <p:nvPr/>
        </p:nvPicPr>
        <p:blipFill>
          <a:blip r:embed="rId2"/>
          <a:srcRect l="9548" t="24057" r="49340" b="55552"/>
          <a:stretch/>
        </p:blipFill>
        <p:spPr>
          <a:xfrm>
            <a:off x="4716360" y="0"/>
            <a:ext cx="4137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http://solo-nebo.narod.ru/p005501.jpg"/>
          <p:cNvPicPr/>
          <p:nvPr/>
        </p:nvPicPr>
        <p:blipFill>
          <a:blip r:embed="rId3"/>
          <a:srcRect l="9548" t="56124" r="49340" b="25196"/>
          <a:stretch/>
        </p:blipFill>
        <p:spPr>
          <a:xfrm>
            <a:off x="0" y="1989000"/>
            <a:ext cx="4429080" cy="2797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http://solo-nebo.narod.ru/p005501.jpg"/>
          <p:cNvPicPr/>
          <p:nvPr/>
        </p:nvPicPr>
        <p:blipFill>
          <a:blip r:embed="rId4"/>
          <a:srcRect l="9548" t="76167" r="49340" b="3436"/>
          <a:stretch/>
        </p:blipFill>
        <p:spPr>
          <a:xfrm>
            <a:off x="4929120" y="4265640"/>
            <a:ext cx="4214880" cy="2592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4399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Из малярной щетки сделать ве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9080" y="2862720"/>
            <a:ext cx="471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Скрепить проволокой, чтобы получить форму в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50920" y="5229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крепить проволочное крепление лентой из мешков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olo-nebo.narod.ru/p005501.jpg"/>
          <p:cNvPicPr/>
          <p:nvPr/>
        </p:nvPicPr>
        <p:blipFill>
          <a:blip r:embed="rId2"/>
          <a:srcRect l="51727" t="6299" r="6365" b="69868"/>
          <a:stretch/>
        </p:blipFill>
        <p:spPr>
          <a:xfrm>
            <a:off x="0" y="0"/>
            <a:ext cx="38005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solo-nebo.narod.ru/p005501.jpg"/>
          <p:cNvPicPr/>
          <p:nvPr/>
        </p:nvPicPr>
        <p:blipFill>
          <a:blip r:embed="rId3"/>
          <a:srcRect l="51727" t="43526" r="6365" b="33791"/>
          <a:stretch/>
        </p:blipFill>
        <p:spPr>
          <a:xfrm>
            <a:off x="4429080" y="1285920"/>
            <a:ext cx="4714920" cy="354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http://solo-nebo.narod.ru/p005501.jpg"/>
          <p:cNvPicPr/>
          <p:nvPr/>
        </p:nvPicPr>
        <p:blipFill>
          <a:blip r:embed="rId4"/>
          <a:srcRect l="51727" t="76167" r="6365" b="3436"/>
          <a:stretch/>
        </p:blipFill>
        <p:spPr>
          <a:xfrm>
            <a:off x="0" y="4122720"/>
            <a:ext cx="4046400" cy="2735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3994200" y="217800"/>
            <a:ext cx="51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Расправить траву веером, поместить под пре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2933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Пропитать с двух сторон клеем П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067280" y="499788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Место крепления можно скрыть тесьмой, ею оформить низ в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http://solo-nebo.narod.ru/p0056.jpg"/>
          <p:cNvPicPr/>
          <p:nvPr/>
        </p:nvPicPr>
        <p:blipFill>
          <a:blip r:embed="rId2"/>
          <a:srcRect l="6365" t="5761" r="52522" b="32840"/>
          <a:stretch/>
        </p:blipFill>
        <p:spPr>
          <a:xfrm>
            <a:off x="108000" y="115920"/>
            <a:ext cx="3024000" cy="6235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http://solo-nebo.narod.ru/p0056.jpg"/>
          <p:cNvPicPr/>
          <p:nvPr/>
        </p:nvPicPr>
        <p:blipFill>
          <a:blip r:embed="rId3"/>
          <a:srcRect l="6365" t="69142" r="52522" b="10947"/>
          <a:stretch/>
        </p:blipFill>
        <p:spPr>
          <a:xfrm>
            <a:off x="4572000" y="2428920"/>
            <a:ext cx="4230720" cy="28274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1"/>
          <p:cNvSpPr/>
          <p:nvPr/>
        </p:nvSpPr>
        <p:spPr>
          <a:xfrm>
            <a:off x="3276720" y="189000"/>
            <a:ext cx="55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На ручке веника закрепить цветок подсолну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203640" y="1818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В центре поместить фигурку хле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214800" y="5291640"/>
            <a:ext cx="56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В середине приклеить засушенный стручок красного пер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43280" y="54828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Дополнить композицию зернами фасоли, искусственными зелеными листочк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0920" y="46666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Дополнить детали, согласно замысл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http://solo-nebo.narod.ru/p0056.jpg"/>
          <p:cNvPicPr/>
          <p:nvPr/>
        </p:nvPicPr>
        <p:blipFill>
          <a:blip r:embed="rId2"/>
          <a:srcRect l="48544" t="40335" r="10344" b="39183"/>
          <a:stretch/>
        </p:blipFill>
        <p:spPr>
          <a:xfrm>
            <a:off x="108000" y="115920"/>
            <a:ext cx="4516560" cy="3313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http://solo-nebo.narod.ru/p0056.jpg"/>
          <p:cNvPicPr/>
          <p:nvPr/>
        </p:nvPicPr>
        <p:blipFill>
          <a:blip r:embed="rId3"/>
          <a:srcRect l="48544" t="61652" r="10344" b="16132"/>
          <a:stretch/>
        </p:blipFill>
        <p:spPr>
          <a:xfrm>
            <a:off x="4643280" y="3284640"/>
            <a:ext cx="4410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9320"/>
            <a:ext cx="5480280" cy="1041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2.jpg"/>
          <p:cNvPicPr/>
          <p:nvPr/>
        </p:nvPicPr>
        <p:blipFill>
          <a:blip r:embed="rId3"/>
          <a:srcRect l="25030" t="9855" r="20650" b="17834"/>
          <a:stretch/>
        </p:blipFill>
        <p:spPr>
          <a:xfrm>
            <a:off x="6643800" y="0"/>
            <a:ext cx="2500200" cy="4438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12.jpg"/>
          <p:cNvPicPr/>
          <p:nvPr/>
        </p:nvPicPr>
        <p:blipFill>
          <a:blip r:embed="rId4"/>
          <a:srcRect l="16895" t="13141" r="21275" b="9855"/>
          <a:stretch/>
        </p:blipFill>
        <p:spPr>
          <a:xfrm>
            <a:off x="142920" y="2500200"/>
            <a:ext cx="251460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13.jpg"/>
          <p:cNvPicPr/>
          <p:nvPr/>
        </p:nvPicPr>
        <p:blipFill>
          <a:blip r:embed="rId5"/>
          <a:srcRect l="6257" t="13141" r="5632" b="7040"/>
          <a:stretch/>
        </p:blipFill>
        <p:spPr>
          <a:xfrm>
            <a:off x="2714760" y="100008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11.jpg"/>
          <p:cNvPicPr/>
          <p:nvPr/>
        </p:nvPicPr>
        <p:blipFill>
          <a:blip r:embed="rId2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48:45Z</dcterms:created>
  <dc:creator>Admin</dc:creator>
  <dc:description/>
  <dc:language>en-US</dc:language>
  <cp:lastModifiedBy>Admin</cp:lastModifiedBy>
  <dcterms:modified xsi:type="dcterms:W3CDTF">2015-02-01T15:59:03Z</dcterms:modified>
  <cp:revision>2</cp:revision>
  <dc:subject/>
  <dc:title>Слайд 1</dc:title>
</cp:coreProperties>
</file>