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CCE-003F-4F5D-886B-47196FCD5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FFC-C223-42D0-95F6-4389197487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A2F-B9C6-4CCB-8D3F-D75C156C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30A-0C57-4A3F-8C2E-355AD45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EC1-B72C-4090-972E-25A243B3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E80-23FD-4EBE-99BB-AE0C211F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160-C8AA-4479-B5EF-F495BB60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F24-1ADA-4E54-88E9-02372B1D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E0F-42B5-4C37-B53D-F18085BC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CA7-10F8-4EE0-9C70-B4445A7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5265-BC0D-4222-B988-74C3C5C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CBB-A2E1-442D-AB42-193C518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24AD-ECBF-433F-A7AF-7A32A47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358-64A9-4AB9-9432-30F25C0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7171-91C9-42B8-A2F4-4111477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44B6-0450-4DEB-8823-11E293A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B666-C15F-40ED-B5BF-B982642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D41D-43CC-4C2B-AD9C-0A014E83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A88F-3288-4BC6-B92A-49F2941E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0C1D-9A38-43E0-8CA9-A39CB098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19F4-9088-4C60-BACE-DEE5A85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352D-ED65-4800-A81E-1D2DDADC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110F-4028-481C-A1BA-CD9ACFC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8F66-902B-4D17-8E31-FE0BA2B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83F-FD41-46C8-81BD-E04F2549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3830-C23C-4218-8796-F9270FB5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1278-F11F-4A47-9D6F-A99207E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5C5B-B513-4C8A-9A34-AF4E9A3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00C0-E565-45F0-B738-9F38EA1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99C8-B965-45D7-A252-09E015C3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DAAB-7C88-4F67-A366-EA6BE915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63A1-12F8-46E9-8DAC-72CDFFD2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F85B-56DB-4493-8D13-9647464A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10F5-C29E-47A1-949C-1438B04F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DBF8-1B0E-42C6-89BB-2F622057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048-EBD4-40AE-9EA7-B8C1718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F639-03A2-4DE9-B923-D87BBB3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E4C1-A1C5-4430-9BBB-E0CC66C9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C909-0E80-4ABC-A8A2-5D2C9B4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2B32-4549-4CB5-ACD2-472A8918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9D56-45F3-4CA0-8C08-4A1FE32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33D4-50C9-4C22-B041-0C9C1D57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8BA6-2273-4303-8E7B-BA418835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8048-9ED6-4E8C-A453-B8521ED6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7115-E6FE-421A-A9C6-82C3A462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AC8F-929F-40F7-A13D-BC1F686A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0D1-18D4-4E33-B166-8A4C65F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D1E3-5543-4D23-B71C-55FFB6A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519D-EFAB-4BFB-A792-61805766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6FBF-5934-4E20-9CF4-892AA36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22DD-9977-45F7-AE90-097787F2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582C-3D3D-457A-9AE4-3586BD96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89E4-5BF5-4DC1-9253-29E16514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0D5E-41E4-45EA-9691-688C1D8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B30E-22FB-4261-B0EC-B9C503FB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9C9E-A530-4CDB-96E2-3888B93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1826-56A4-4271-931E-1C5E2376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ADE-6C29-4610-A697-BB1E1C1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DB06-6349-4B22-A842-D953E5FF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A388-4D29-480C-BF64-A770250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A16E-AE3C-4D10-9624-147F5FF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DC9B-BDD4-4167-9B55-4100D2AE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D017-B9F6-4909-8FC4-8E57E40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953EF-9242-48E5-B1CE-55B85A4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2417-3DE8-45C3-80AC-7EBDE3C7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B14D-5CF1-42E2-B252-7F355AC8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C3689-70FD-4520-88DC-2E5F511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9DD6-07FD-4B85-8064-C814E4B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7FE-9D60-4EFF-90EB-9F72348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61EC-F22D-4758-9AB2-4D41F37D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BCFD-607A-453B-9933-85222AB4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34DA5-B129-4DD9-96A6-F64C6B1B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A340-9498-4CD1-9897-B0D66C0B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DBC4-846B-40CD-A000-4433BBE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BFAA-AEDD-4C98-B1F5-B95E8E9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A2A6-8799-4DCD-904F-424E423D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C1BD-CFA8-4394-9142-6C9ADE4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CD8D-BFD4-447A-A302-0F1F554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4233-04B1-406A-947F-1C48F0C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ED0-757D-476E-BDC8-288ACFC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7FFC-3962-4DB5-8A42-1F4068D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BF96-0565-46CA-AA65-18CC51DF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F577-E1F6-47B1-AAF4-0C61902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615C-F456-4546-8524-050D5C18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72E13-8866-45FD-8B47-77EFDCA3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3F0-76DA-4BD9-8DA0-0BCCAEC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AFD0-5A98-41AE-B6B6-1E42EE58492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917-F5C4-4CB7-AE43-673F6539A7D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8487-5E7B-4FAB-BECA-988DBA5BF61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C1E-4D74-4DE9-86D1-2699E5D94D8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F49-11C5-4A2D-992C-FD3635FDB44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DE2B-4496-4A45-B4DB-E1682088967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529-4E0B-4E49-B4B3-C604F683765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B07-97FA-4F29-8472-80D7C050312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317520" y="4048200"/>
            <a:ext cx="8375760" cy="2876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Информационной безопасности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ЛАССИФИКАЦИЯ УГРОЗ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аспекту информационной безопасности (доступность, целостность, конфиденциальность), против которого угрозы направлены в первую очередь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компонентам информационных систем, на которые угрозы нацелены (данные, программы, аппаратура, поддерживающая инфраструктура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64AA-C47B-4A6D-8D63-5B305BA03D44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ЛАССИФИКАЦИЯ УГРОЗ</a:t>
            </a:r>
            <a:br>
              <a:rPr sz="4000"/>
            </a:br>
            <a:r>
              <a:rPr b="1" lang="ru-RU" sz="2000" spc="-1" strike="noStrike">
                <a:solidFill>
                  <a:srgbClr val="c1eeff"/>
                </a:solidFill>
                <a:latin typeface="Consolas"/>
              </a:rPr>
              <a:t>(продолжение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99680" y="142884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способу осуществления (случайные/преднамеренные, действия природного/техногенного характера)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расположению источника угроз (внутри/вне рассматриваемой ИС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64D-6E48-4DFB-A799-BF6AC2F7B77A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Наиболее распространенные угрозы доступности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solidFill>
            <a:srgbClr val="f273a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Угрозы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d9dee5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rbel"/>
              </a:rPr>
              <a:t>Способы борьбы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преднамеренные ошибки штатных пользователей, операторов, са и других лиц, обслуживающих ИС (65% потерь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тказ пользователей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нутренний отказ ИС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тказ поддерживающей инфраструктур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аксимальная автоматизация и строгий контрол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Нижний колонтитул 1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Номер слайда 1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B0A-CB1B-44A5-9146-8A094E408853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Угрозы доступности применительно к пользователям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039920" cy="639720"/>
          </a:xfrm>
          <a:prstGeom prst="rect">
            <a:avLst/>
          </a:prstGeom>
          <a:solidFill>
            <a:srgbClr val="f273a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157a"/>
                </a:solidFill>
                <a:latin typeface="Corbel"/>
              </a:rPr>
              <a:t>Угр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solidFill>
            <a:srgbClr val="d9dee5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157a"/>
                </a:solidFill>
                <a:latin typeface="Corbel"/>
              </a:rPr>
              <a:t>Источники внутренних отказов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желание работать с И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возможность работать с системой из-за отсутствия соответствующей подготов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возможность работать с системой в силу отсутствия технической поддерж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ступление (случайное или умышленное) от установленных правил эксплуатации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ыход системы из штатного режима эксплуатации в силу случайных или преднамеренных действий пользователей или обслуживающего персонала 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шибки при (пере)конфигурировании системы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тказы программного и аппаратного обеспечения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разрушение данных;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разрушение или повреждение аппаратуры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Нижний колонтитул 1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Номер слайда 1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BF05-2066-4A28-B9C8-FD74C0DE91AE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Обиженные" сотрудники - нынешние и бывшие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ртить оборудова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троить логическую бомбу, которая со временем разрушит программы и/или данны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далить данны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обходимо следить за тем, чтобы при увольнении сотрудника его права доступа (логического и физического) к информационным ресурсам аннулировалис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5FC-B3CA-40D5-9B99-D31DBF22B788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3C7-9C72-4D4B-B097-98F20CFC1548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Нарастающая сложность не только аппаратно-программных систем, которые необходимо защищать, но и самих средства безопас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ность семейства нормативных документов, таких, например, как профили защиты на основе "Общих критерие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663-1E3B-43FD-A65D-05A477AF2C6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93560" y="55440"/>
            <a:ext cx="8120160" cy="21337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ценочные стандарты, направленные на классификацию ИС и средств защиты по требованиям безопасност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2. 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хнические спецификации, регламентирующие различные аспекты реализации средств защи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1eeff"/>
                </a:solidFill>
                <a:latin typeface="Consolas"/>
              </a:rPr>
              <a:t>«Оранжевая книга»</a:t>
            </a:r>
            <a:endParaRPr b="0" lang="en-US" sz="6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3214800"/>
            <a:ext cx="8229600" cy="29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рвый оценочный стандарт  Министерства обороны США "Критерии оценки доверенных компьютерных систем» (1983 г.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F71-07D0-4C4E-91D2-23BC1DD4F3B8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тепень доверия оценивается по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литика безопасности - набор законов, правил и норм поведения, определяю -щих, как организация обрабатывает, за- щищает и распространяет информаци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ровень гарантированности - мера доверия, которая может быть оказана архитектуре и реализации ИС (пассивный аспект защиты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1793-C574-4884-887E-4C5DA921903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веренная вычислительная баз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веренная система должна фиксиро-вать все события, касающиеся безопасност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редством обеспечения безопасности является механизм подотчетности (протоколирования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вокупность защитных механизмов ИС (АО и ПО), отвечающих за проведе -ние в жизнь политики безопасност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FF9-950E-4482-8557-9B2EE462F24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Consolas"/>
              </a:rPr>
              <a:t>Определение (ИБ)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нформационная безопасность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" –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щита от несанкционированного доступа к информационным ресурсам, обеспечение безопасности информационных     и телекоммуникационных  систе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5BC-E0B0-4327-B385-722F45B6819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веренная вычислительная база (</a:t>
            </a: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продолжение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полняет функции монитора обраще-ний, контролировать допустимость выполнения субъектами (активными сущностями ИС, действующими от имени пользователей) определенных операций над объектами (пассивными сущностями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1066-1CE9-4839-84BA-00BBD3EE29E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ачества монитора обращений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олированность. Необходимо предупредить возможность отслеживания работы монитор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лнота. Монитор должен вызываться при каждом обращении, не должно быть способов обойти его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ерифицируемость. Монитор должен быть компактным, чтобы его можно было проанализировать и протестировать, будучи уверенным в полноте тестирова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E99-0C21-4530-8ABF-BFBED5F62C6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дро безопасност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еализация монитора обращений называется ядром безопасност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дро безопасности - это основа, на которой строятся все защитные механиз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дро должно гарантировать собственную неизмен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0E7-BB95-4967-AEB4-351F5B61ECF3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Административный уровень информационной безопасности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27856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йствия общего характера, предприни-маемые руководством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ормирование  и обеспечение выполне-ния программы (политики безопаснос-ти) работ в области ИБ (ресурсы и контроль состояние де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5D8-2EBE-47F1-843A-E8FE859F11F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Политика безопасности</a:t>
            </a:r>
            <a:br>
              <a:rPr sz="4800"/>
            </a:b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("security policy", )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оится на основе анализа рисков, которые признаются реальными для ИС 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атегия организации в области ИБ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окупность документированных решений  руководства организации и направленных на защиту информации и ассоциированных с ней ресурс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F561-25A2-4103-8787-B9546CC68D2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литика безопасности</a:t>
            </a:r>
            <a:br>
              <a:rPr sz="4000"/>
            </a:b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(уровни детализации 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ерхни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(минимум вопросов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редний уровен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ижний уровен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8960" indent="-4989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шения, затраги-вающие организа-цию в целом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(целостность, доступность и конфиденциальность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дельные аспек-ты информацион-ной безопасност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Цели и правила их достиж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9B0-3594-4909-9A45-60A2AA032E7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Управление рисками</a:t>
            </a:r>
            <a:br>
              <a:rPr sz="48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(административный уровень ИБ 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оится на основе анализа рисков, которые признаются реальными для ИС  организаци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ратегия организации в области ИБ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окупность документированных решений  руководства организации и направленных на защиту информации и ассоциированных с ней ресурс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BBF-C47B-4C2A-969F-1D04C7B3CEB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нализ рис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ово риск в буквальном переводе означает «принятие решения», результат которого неизвест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это гипотетическая возможность наступления ущерб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вероятность наступления определенного уровня потер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роятность наступления ава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922-8046-4418-9119-26130FA35A2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Риск и принятие реш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ово риск в буквальном переводе означает «принятие решения», результат которого неизвесте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это гипотетическая возможность наступления ущерб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иск </a:t>
            </a: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вероятность наступления определенного уровня потер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роятность наступления авар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54E-BAF0-45F6-A84C-C772C187513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Риск и принятие решений</a:t>
            </a:r>
            <a:br>
              <a:rPr sz="40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(продолжени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области безопасности и риска существует своеобразный </a:t>
            </a: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информационный барьер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, достигая который мы должны обратиться к  вероятностным характеристикам функционирования сложных технологических и организационных сист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информационных систем связано с определенной совокупностью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9064-F996-4BEF-BC68-1F0811450FA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F448-D31E-4AB8-A987-ED73B1F0A147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Компьютерные атаки, способные вывести из строя коммуникационные сети и сети энергоснабжения стратегически важных объек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икновения в компьютерную сеть  банков, стратегически важных учре-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 Несанкционированное удаление важной информации с серверов комп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Управление рисками включает в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пере)оценка (измерение)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методологии оценки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иквидация риска (устранение причины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ньшение риск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инятие риска (и выработка плана действия в соответствующих условиях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ереадресация риска (например, путем заключения страхового соглашения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6B6-D5D5-485F-B5D2-133CAE2B8864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Этапы управления рискам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35684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анализируемых объектов и уровня детализации их рассмотр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методологии оценки рисков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ализ угроз и их последствий, выявление уязвимых мест в защит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ценка риск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бор защитных ме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ализация и проверка выбранных ме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ценка остаточного рис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Нижний колонтитул 10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Номер слайда 9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9AC5-8635-4CA1-8D31-13D9C92833B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7B5-7AD0-4342-8942-05F534F898EA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305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Увеличение числа и новых видов атак в связи с постоянным обнаружением новых уязвимых мест в программном обеспече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Целью злоумышленников может быть нарушение всех составляющих ИБ – доступности, целостности или конфиденциальност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икновения в компьютерную сеть 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 Несанкционированное удаление важной информации с серверов комп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AF55-05DF-456A-85EE-BEA9965FB71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тражение в ИБ основных положений объектно-ориентированного подхода, являющегося основой построения современных информационных сист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Развит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Б в соответствии с достижениями в технологии программир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1ECE-FD0F-43E4-92DA-A714FBA1E348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523800" y="79200"/>
            <a:ext cx="8010720" cy="1852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1452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214880" y="2000160"/>
            <a:ext cx="471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71680" y="2000160"/>
            <a:ext cx="7929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Нарастающая сложность не только аппаратно-программных систем, которые необходимо защищать, но и самих средства безопас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 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ность семейства нормативных документов, таких, например, как профили защиты на основе "Общих критерие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328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Способы преодоления сложности ИБ 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071720"/>
            <a:ext cx="33289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ложная система (ИБ) на верхнем уровне должна состоять из небольшого числа относительно независимых компоненто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2. Относительная независимость  понимается как минимизация числа связей между компонентам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3. Система (ИБ)  представляется в виде иерархии с несколькими уровнями абстракции.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857760" y="214200"/>
            <a:ext cx="5051160" cy="578664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2C9E-8604-4937-89B5-E3262D6224A2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сновные определения и критерии классификации угроз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Угроз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- это потенциа- льная возможность определенным образом нарушить информа-ционную безопасност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пытка реализации угрозы называется 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атак-ой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а тот, кто предпри-нимает такую попытку, -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злоумышленником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тенциальные злоумы-шленники называются </a:t>
            </a: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источниками  угроз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e8d6"/>
                </a:solidFill>
                <a:latin typeface="Corbel"/>
              </a:rPr>
              <a:t>Окном опасности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зывается промежуток времени от момента появления возможности использовать слабое место, и до момента, ликвидации пробел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Нижний колонтитул 1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Номер слайда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D45-2D6E-4900-9261-5441BC164AA7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слабление уязвимых направл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fe8d6"/>
                </a:solidFill>
                <a:latin typeface="Corbel"/>
              </a:rPr>
              <a:t>Уязвимые места (пробелы) в защите ИС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Способы защит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шибки в программном обеспечен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зможность доступа посторонних лиц к критически важному оборудованию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висимость АО ИС от качественного электропита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явление  и отслеживание средств использования пробела в защит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пуск запла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еративное наложение заплат на защищаемую И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Нижний колонтитул 1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ahoma"/>
              </a:rPr>
              <a:t>Сарафанова Елена Юрьевна, кафедра ИКТ, Иркутск, 2014 г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Номер слайда 1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069B-A0E3-42DD-92FB-68497C4489BE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7:50:28Z</dcterms:created>
  <dc:creator>Per10pc01</dc:creator>
  <dc:description/>
  <dc:language>en-US</dc:language>
  <cp:lastModifiedBy>administrator</cp:lastModifiedBy>
  <dcterms:modified xsi:type="dcterms:W3CDTF">2015-02-01T12:38:17Z</dcterms:modified>
  <cp:revision>69</cp:revision>
  <dc:subject/>
  <dc:title>Курение – одна из вреднейших привычек!</dc:title>
</cp:coreProperties>
</file>