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рафанова Елена Юрьевна, кафедра ИКТ, Иркутск, 2014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20ED-6BC3-48A4-8B2B-120CB5E136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6324-4B4F-4511-B71F-8BB3BACFBD4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6A1-2803-457C-8F04-79169E81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2A4-0FA0-45C9-9B4B-1F070FF3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FE4-1F6A-4AAF-8631-4FC46A3C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9DD-E8C3-4774-B284-D5124774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7127-62E6-4EF9-9437-356C5F01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99EC-309A-413E-BEB2-1CE6D5DE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2098-8CD0-4FFD-9D9C-40A73D28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C9A5-C1FA-4797-836B-E994C29A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7FC5-4AA0-44F1-8206-0F702FEB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0089-A753-4D90-9DC6-5C208DA4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82DD-FC91-4175-9519-6DA5F16E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CCE-35F0-495E-8F99-E7674743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C716-8825-45D5-8D03-E2750484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BFDE-2B2D-4BC8-905B-EE5BE6DE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8801-DA0B-4D29-9DF5-463FCD74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BDB7-BFD5-49E7-B58C-FAEABF73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A637-3D70-4ABA-9A01-460155D8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2493-C275-4D89-8A30-F921055F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481A-B11C-4E08-8006-9332445D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30604-563C-422C-B023-4570F1E5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6E415-F80B-4043-85FC-089619E1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50E9E-BB1E-4FB5-8749-F6D7CE92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03EB-ADC6-473E-8C09-E78AAF8C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1A1D9-DFC6-4B25-9CBE-52D8E457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04F6B-3382-4EBC-8ABC-69DE87B9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85D60-8507-4A34-A571-2FE2FDC6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974C3-7F82-420C-9EF1-FFB5D737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8D8C-E924-496D-BED6-3BF17327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AC3FF-0071-4C12-9DA4-467FEA7D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BAD8-FA46-4E9F-9F6B-7A917BDC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B30C0-AE1D-46ED-9922-A150BC90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9293D-6E6C-41C5-95D6-CD9EDBDF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71643-F2ED-4B24-BDCD-FF0CA181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64C-0A8F-4871-BE26-D85259CB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96C9-5DE9-4789-89C6-0DB62553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74DEC-313B-4187-BAAF-42676E98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5937F-BC28-4FA5-BC1E-0F24889F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CC4C-4195-435E-BBF8-F63C7783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7950F-D7A3-4F39-A2B6-7951F5DD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7234-6ED6-4DE7-B919-4C32BB66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35398-41BC-41DA-9475-D3F20FA4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B8D06-415F-48D3-B201-14526D4E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2CF3-C12D-4D2F-AC63-C5F8DA5E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70A7F-0734-4A16-9B2D-E1525EAE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7DC-238B-4932-8811-3996D3F0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5AEC3-705B-4E6A-BA80-E27640FA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3E180-B98B-4700-9BDF-B73C6AC8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6CF81-CCA3-4482-A865-533B1808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278A1-ED75-4A81-B65C-42B62612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1CCFE-58CA-4B89-AEDD-C07DA6EA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1EB63-A956-460C-A1E7-D50E44EA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F5144-F3D9-49FA-9E16-6A3168C2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A1645-E62E-491A-8C34-F5F351A7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D18FB-5CC1-4C4F-B055-3FE296F4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3CFF6-DFFA-4EEC-A94E-5F84655F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088-8BC4-4431-86DF-F3C43163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5D32D-4F6E-4121-97C6-83C9D679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16986-C82E-4096-A1A3-3458A498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9FE6F-F78A-4A3F-B792-8F162C08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D74AF-1B4B-4DDD-A11C-E6B9BE55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BB989-4C30-439A-85A0-B825F5A0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2D166-1FF8-4459-8BAE-3001235E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1F512-5FE6-47E7-9632-6F7CB504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44BBB-BFC2-4414-A918-91E1EE0C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ACD6E-CBFC-4210-95B4-46E6A61A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D2E4F-0922-4A9F-9640-E4B57AC0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FF0-E292-4173-BD2B-20E3B98D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F01AA-94F4-44EB-8489-E3A7F53D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2C710-4BAA-4DFE-9AF0-A3BF6741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3456B-9911-41AE-98D9-437AE4C7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92CBB-8456-4035-A67B-C3FE6AF0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60C80-7012-44E7-A1B5-174C638A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0A69A-FB0E-41CC-89D9-7C413916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5900E-44A3-46AF-B3C6-0607A7E4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3A6D3-072C-4FC6-8BA8-2035D0AC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C45E3-7356-4D1E-9A6E-A54B1E12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DAC26-3828-4CF0-9403-5476D300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EB4-03DF-4C86-8CDC-B902521C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D85F7-FCB4-4D1D-9E4C-8D9E73B5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04D79-8F8F-4C1E-86ED-EF85BFAB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5C9FD-E67F-4355-8B06-B711AF8D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97B77-12ED-446E-BCF6-03E41B25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5D568-1170-4D23-AD98-1C93FCDE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0C8-37E8-442D-A375-A13D4274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526D-6D8B-4EB2-9521-4B83407B95D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C351-B1EF-481B-879B-275C5FFDF15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8C85-6019-4643-8B90-4149738BF22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1545-E10B-4B6B-8880-C92553A6D87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539A-4410-42BD-9B20-E5D6DC96591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708C-3E11-4E4B-9D01-D2698D4FD70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E51B-2FBE-4489-8D78-1C2BCCB486D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E0D3-30DC-4983-9DCF-64C659FC5801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317520" y="4048200"/>
            <a:ext cx="8375760" cy="2876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Corbel"/>
              </a:rPr>
              <a:t>Информационной безопасности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КЛАССИФИКАЦИЯ УГРОЗ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 аспекту информационной безопасности (доступность, целостность, конфиденциальность), против которого угрозы направлены в первую очередь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 компонентам информационных систем, на которые угрозы нацелены (данные, программы, аппаратура, поддерживающая инфраструктура)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DBB8-9F1E-4D7D-AA5F-ECBD44E40297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КЛАССИФИКАЦИЯ УГРОЗ</a:t>
            </a:r>
            <a:br>
              <a:rPr sz="4000"/>
            </a:br>
            <a:r>
              <a:rPr b="1" lang="ru-RU" sz="2000" spc="-1" strike="noStrike">
                <a:solidFill>
                  <a:srgbClr val="c1eeff"/>
                </a:solidFill>
                <a:latin typeface="Consolas"/>
              </a:rPr>
              <a:t>(продолжение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99680" y="1428840"/>
            <a:ext cx="81867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 способу осуществления (случайные/преднамеренные, действия природного/техногенного характера)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 расположению источника угроз (внутри/вне рассматриваемой ИС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7015-E566-45FB-ADD5-34139438E32C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eeff"/>
                </a:solidFill>
                <a:latin typeface="Consolas"/>
              </a:rPr>
              <a:t>Наиболее распространенные угрозы доступности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solidFill>
            <a:srgbClr val="f273a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157a"/>
                </a:solidFill>
                <a:latin typeface="Corbel"/>
              </a:rPr>
              <a:t>Угрозы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solidFill>
            <a:srgbClr val="d9dee5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157a"/>
                </a:solidFill>
                <a:latin typeface="Corbel"/>
              </a:rPr>
              <a:t>Способы борьбы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преднамеренные ошибки штатных пользователей, операторов, са и других лиц, обслуживающих ИС (65% потерь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тказ пользователей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нутренний отказ ИС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тказ поддерживающей инфраструктуры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4720" y="2459160"/>
            <a:ext cx="4041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максимальная автоматизация и строгий контроль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Нижний колонтитул 1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Номер слайда 12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9EAB-F35E-4B44-8711-281F9ADFB8C2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eeff"/>
                </a:solidFill>
                <a:latin typeface="Consolas"/>
              </a:rPr>
              <a:t>Угрозы доступности применительно к пользователям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039920" cy="639720"/>
          </a:xfrm>
          <a:prstGeom prst="rect">
            <a:avLst/>
          </a:prstGeom>
          <a:solidFill>
            <a:srgbClr val="f273a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157a"/>
                </a:solidFill>
                <a:latin typeface="Corbel"/>
              </a:rPr>
              <a:t>Угрозы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solidFill>
            <a:srgbClr val="d9dee5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157a"/>
                </a:solidFill>
                <a:latin typeface="Corbel"/>
              </a:rPr>
              <a:t>Источники внутренних отказов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желание работать с ИС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возможность работать с системой из-за отсутствия соответствующей подготовки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возможность работать с системой в силу отсутствия технической поддержки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644720" y="2459160"/>
            <a:ext cx="4041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тступление (случайное или умышленное) от установленных правил эксплуатации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выход системы из штатного режима эксплуатации в силу случайных или преднамеренных действий пользователей или обслуживающего персонала 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шибки при (пере)конфигурировании системы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тказы программного и аппаратного обеспечения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разрушение данных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разрушение или повреждение аппаратуры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Нижний колонтитул 1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Номер слайда 12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1572-BF60-4A66-917F-7F4476220A3B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«Обиженные" сотрудники - нынешние и бывшие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спортить оборудование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строить логическую бомбу, которая со временем разрушит программы и/или данные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далить данны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обходимо следить за тем, чтобы при увольнении сотрудника его права доступа (логического и физического) к информационным ресурсам аннулировались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Нижний колонтитул 1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Номер слайда 1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2496-A651-4C66-A2A8-8CE3024588F0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ижний колонтитул 1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Номер слайда 1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E33E-A137-4267-A75B-65D2D909B6D9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523800" y="79200"/>
            <a:ext cx="8010720" cy="18529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214520" y="1999800"/>
            <a:ext cx="4714920" cy="46436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4214880" y="2000160"/>
            <a:ext cx="471492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571680" y="2000160"/>
            <a:ext cx="79293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Нарастающая сложность не только аппаратно-программных систем, которые необходимо защищать, но и самих средства безопас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2. 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ожность семейства нормативных документов, таких, например, как профили защиты на основе "Общих критериев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ижний колонтитул 1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Номер слайда 1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8A2F-2BE9-4074-9D06-51865ABA0BDD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493560" y="55440"/>
            <a:ext cx="8120160" cy="213372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214520" y="1999800"/>
            <a:ext cx="4714920" cy="46436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214880" y="2000160"/>
            <a:ext cx="471492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571680" y="2000160"/>
            <a:ext cx="79293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ценочные стандарты, направленные на классификацию ИС и средств защиты по требованиям безопасности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2. Т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хнические спецификации, регламентирующие различные аспекты реализации средств защит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1eeff"/>
                </a:solidFill>
                <a:latin typeface="Consolas"/>
              </a:rPr>
              <a:t>«Оранжевая книга»</a:t>
            </a:r>
            <a:endParaRPr b="0" lang="en-US" sz="6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3214800"/>
            <a:ext cx="8229600" cy="29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ервый оценочный стандарт  Министерства обороны США "Критерии оценки доверенных компьютерных систем» (1983 г.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1EEE-2048-4D74-830E-9485B786E0E6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тепень доверия оценивается по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литика безопасности - набор законов, правил и норм поведения, определяю -щих, как организация обрабатывает, за- щищает и распространяет информацию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ровень гарантированности - мера доверия, которая может быть оказана архитектуре и реализации ИС (пассивный аспект защиты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0526-23D0-4A5B-9C64-CC204EB47B46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веренная вычислительная баз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оверенная система должна фиксиро-вать все события, касающиеся безопасност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редством обеспечения безопасности является механизм подотчетности (протоколирования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совокупность защитных механизмов ИС (АО и ПО), отвечающих за проведе -ние в жизнь политики безопасност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ACBF-5DF5-48D3-B9F2-F6DFEA730883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Consolas"/>
              </a:rPr>
              <a:t>Определение (ИБ)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Информационная безопасность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" –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щита от несанкционированного доступа к информационным ресурсам, обеспечение безопасности информационных     и телекоммуникационных  систем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21A2-05D3-4B67-B08D-D376C965753E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веренная вычислительная база (</a:t>
            </a:r>
            <a:r>
              <a:rPr b="0" lang="ru-RU" sz="3200" spc="-1" strike="noStrike">
                <a:solidFill>
                  <a:srgbClr val="c1eeff"/>
                </a:solidFill>
                <a:latin typeface="Consolas"/>
              </a:rPr>
              <a:t>продолжение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полняет функции монитора обраще-ний, контролировать допустимость выполнения субъектами (активными сущностями ИС, действующими от имени пользователей) определенных операций над объектами (пассивными сущностями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0808-588F-4E30-B0C8-24E4FE062D3E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ачества монитора обращений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олированность. Необходимо предупредить возможность отслеживания работы монитор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лнота. Монитор должен вызываться при каждом обращении, не должно быть способов обойти его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ерифицируемость. Монитор должен быть компактным, чтобы его можно было проанализировать и протестировать, будучи уверенным в полноте тестирова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ADCC-C97E-4DEE-B806-0358C240219E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Ядро безопасности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еализация монитора обращений называется ядром безопасност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Ядро безопасности - это основа, на которой строятся все защитные механизмы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ядро должно гарантировать собственную неизменност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F626-52DD-4B94-9768-93376ACE330A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Consolas"/>
              </a:rPr>
              <a:t>Административный уровень информационной безопасности 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27856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ействия общего характера, предприни-маемые руководством организаци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формирование  и обеспечение выполне-ния программы (политики безопаснос-ти) работ в области ИБ (ресурсы и контроль состояние дел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F9B6-8031-4DB4-AE47-2E9953ADF210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Consolas"/>
              </a:rPr>
              <a:t>Политика безопасности</a:t>
            </a:r>
            <a:br>
              <a:rPr sz="4800"/>
            </a:br>
            <a:r>
              <a:rPr b="0" lang="ru-RU" sz="4800" spc="-1" strike="noStrike">
                <a:solidFill>
                  <a:srgbClr val="c1eeff"/>
                </a:solidFill>
                <a:latin typeface="Consolas"/>
              </a:rPr>
              <a:t>("security policy", )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троится на основе анализа рисков, которые признаются реальными для ИС  организаци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тратегия организации в области ИБ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вокупность документированных решений  руководства организации и направленных на защиту информации и ассоциированных с ней ресурсов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DFED-1FD8-4143-AB80-05195B8B530A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литика безопасности</a:t>
            </a:r>
            <a:br>
              <a:rPr sz="4000"/>
            </a:br>
            <a:r>
              <a:rPr b="0" lang="ru-RU" sz="3200" spc="-1" strike="noStrike">
                <a:solidFill>
                  <a:srgbClr val="c1eeff"/>
                </a:solidFill>
                <a:latin typeface="Consolas"/>
              </a:rPr>
              <a:t>(уровни детализации )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ерхний уровень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(минимум вопросов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редний уровень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ижний уровень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шения, затраги-вающие организа-цию в целом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(целостность, доступность и конфиденциальность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тдельные аспек-ты информацион-ной безопасности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Цели и правила их достижения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Нижний колонтитул 1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Номер слайда 1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24F0-B1C1-46A1-9E62-396AD22673CB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Consolas"/>
              </a:rPr>
              <a:t>Управление рисками</a:t>
            </a:r>
            <a:br>
              <a:rPr sz="48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(административный уровень ИБ 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троится на основе анализа рисков, которые признаются реальными для ИС  организаци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тратегия организации в области ИБ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вокупность документированных решений  руководства организации и направленных на защиту информации и ассоциированных с ней ресурсов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2367-D267-4CDB-BA6F-45F954162F12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нализ рис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лово риск в буквальном переводе означает «принятие решения», результат которого неизвестен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иск </a:t>
            </a:r>
            <a:r>
              <a:rPr b="0" lang="ru-RU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это гипотетическая возможность наступления ущерба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иск </a:t>
            </a:r>
            <a:r>
              <a:rPr b="0" lang="ru-RU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вероятность наступления определенного уровня потер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ероятность наступления авар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4E83-A6EE-4FDD-BB64-00ED87CDA784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Риск и принятие решений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лово риск в буквальном переводе означает «принятие решения», результат которого неизвестен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иск </a:t>
            </a:r>
            <a:r>
              <a:rPr b="0" lang="ru-RU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это гипотетическая возможность наступления ущерба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иск </a:t>
            </a:r>
            <a:r>
              <a:rPr b="0" lang="ru-RU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вероятность наступления определенного уровня потер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ероятность наступления авар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1F29-A109-45A0-9744-E36C0158F9F9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Риск и принятие решений</a:t>
            </a:r>
            <a:br>
              <a:rPr sz="40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(продолжение)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области безопасности и риска существует своеобразный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информационный барьер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, достигая который мы должны обратиться к  вероятностным характеристикам функционирования сложных технологических и организационных систе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спользование информационных систем связано с определенной совокупностью рисков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80D8-1D98-49D5-B4B9-119EB1431A1B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ижний колонтитул 1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Номер слайда 1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17E3-03DF-4DB7-9669-913A6081CD05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523800" y="79200"/>
            <a:ext cx="8010720" cy="18529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214520" y="1999800"/>
            <a:ext cx="4714920" cy="46436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4214880" y="2000160"/>
            <a:ext cx="471492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571680" y="2000160"/>
            <a:ext cx="79293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Компьютерные атаки, способные вывести из строя коммуникационные сети и сети энергоснабжения стратегически важных объект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2. П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никновения в компьютерную сеть  банков, стратегически важных учре-й 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3. Несанкционированное удаление важной информации с серверов комп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Управление рисками включает в себ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(пере)оценка (измерение) рисков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ыбор методологии оценки рисков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ликвидация риска (устранение причины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меньшение риска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инятие риска (и выработка плана действия в соответствующих условиях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ереадресация риска (например, путем заключения страхового соглашения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0659-5F77-4F39-A95E-DA1B16E6792C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Этапы управления рисками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6840" y="135684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ыбор анализируемых объектов и уровня детализации их рассмотрения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ыбор методологии оценки рисков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нализ угроз и их последствий, выявление уязвимых мест в защит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ценка риско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ыбор защитных мер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ализация и проверка выбранных мер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ценка остаточного риск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0A4F-6D4B-4EB2-8E1D-0BCE94933908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Нижний колонтитул 1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Номер слайда 1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28BB-8CC6-41C0-A43A-3EED06C2D39F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523800" y="79200"/>
            <a:ext cx="8010720" cy="1305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214520" y="1999800"/>
            <a:ext cx="4714920" cy="46436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4214880" y="2000160"/>
            <a:ext cx="471492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571680" y="2000160"/>
            <a:ext cx="79293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Увеличение числа и новых видов атак в связи с постоянным обнаружением новых уязвимых мест в программном обеспечен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Целью злоумышленников может быть нарушение всех составляющих ИБ – доступности, целостности или конфиденциальности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2. П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никновения в компьютерную сеть  бан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3. Несанкционированное удаление важной информации с серверов комп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Нижний колонтитул 1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Номер слайда 1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B74F-DE91-436B-94E0-160B68A59531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523800" y="79200"/>
            <a:ext cx="8010720" cy="18529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214520" y="1999800"/>
            <a:ext cx="4714920" cy="46436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214880" y="2000160"/>
            <a:ext cx="471492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571680" y="2000160"/>
            <a:ext cx="79293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Отражение в ИБ основных положений объектно-ориентированного подхода, являющегося основой построения современных информационных сист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2. Развит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Б в соответствии с достижениями в технологии программиро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Нижний колонтитул 1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Номер слайда 1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F6A5-C060-4CA7-9B44-4A0FEB31ED19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523800" y="79200"/>
            <a:ext cx="8010720" cy="18529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214520" y="1999800"/>
            <a:ext cx="4714920" cy="46436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4214880" y="2000160"/>
            <a:ext cx="471492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571680" y="2000160"/>
            <a:ext cx="79293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Нарастающая сложность не только аппаратно-программных систем, которые необходимо защищать, но и самих средства безопас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2. 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ожность семейства нормативных документов, таких, например, как профили защиты на основе "Общих критериев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32892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Способы преодоления сложности ИБ 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071720"/>
            <a:ext cx="332892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ложная система (ИБ) на верхнем уровне должна состоять из небольшого числа относительно независимых компонентов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2. Относительная независимость  понимается как минимизация числа связей между компонентам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3. Система (ИБ)  представляется в виде иерархии с несколькими уровнями абстракции.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3857760" y="214200"/>
            <a:ext cx="5051160" cy="5786640"/>
          </a:xfrm>
          <a:prstGeom prst="rect">
            <a:avLst/>
          </a:prstGeom>
          <a:ln w="0">
            <a:noFill/>
          </a:ln>
        </p:spPr>
      </p:pic>
      <p:sp>
        <p:nvSpPr>
          <p:cNvPr id="410" name="Нижний колонтитул 1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Номер слайда 1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6072-0C63-4144-9D05-3C790A4862C6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Основные определения и критерии классификации угроз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e8d6"/>
                </a:solidFill>
                <a:latin typeface="Corbel"/>
              </a:rPr>
              <a:t>Угроза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- это потенциа- льная возможность определенным образом нарушить информа-ционную безопасность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пытка реализации угрозы называется </a:t>
            </a:r>
            <a:r>
              <a:rPr b="0" lang="ru-RU" sz="2400" spc="-1" strike="noStrike">
                <a:solidFill>
                  <a:srgbClr val="5fe8d6"/>
                </a:solidFill>
                <a:latin typeface="Corbel"/>
              </a:rPr>
              <a:t>атак-ой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а тот, кто предпри-нимает такую попытку, -</a:t>
            </a:r>
            <a:r>
              <a:rPr b="0" lang="ru-RU" sz="2400" spc="-1" strike="noStrike">
                <a:solidFill>
                  <a:srgbClr val="5fe8d6"/>
                </a:solidFill>
                <a:latin typeface="Corbel"/>
              </a:rPr>
              <a:t>злоумышленником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тенциальные злоумы-шленники называются </a:t>
            </a:r>
            <a:r>
              <a:rPr b="0" lang="ru-RU" sz="2400" spc="-1" strike="noStrike">
                <a:solidFill>
                  <a:srgbClr val="5fe8d6"/>
                </a:solidFill>
                <a:latin typeface="Corbel"/>
              </a:rPr>
              <a:t>источниками  угрозы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e8d6"/>
                </a:solidFill>
                <a:latin typeface="Corbel"/>
              </a:rPr>
              <a:t>Окном опасности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азывается промежуток времени от момента появления возможности использовать слабое место, и до момента, ликвидации пробела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Нижний колонтитул 1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Номер слайда 1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D86A-CF11-4A39-AC97-A9BB868F7921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слабление уязвимых направлений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fe8d6"/>
                </a:solidFill>
                <a:latin typeface="Corbel"/>
              </a:rPr>
              <a:t>Уязвимые места (пробелы) в защите ИС: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</a:rPr>
              <a:t>Способы защиты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шибки в программном обеспечени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озможность доступа посторонних лиц к критически важному оборудованию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зависимость АО ИС от качественного электропитан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44720" y="2459160"/>
            <a:ext cx="4041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ыявление  и отслеживание средств использования пробела в защит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ыпуск заплат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перативное наложение заплат на защищаемую ИС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Нижний колонтитул 1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Номер слайда 1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F72C-3F67-40EB-8D6F-76274C63E0A5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7:50:28Z</dcterms:created>
  <dc:creator>Per10pc01</dc:creator>
  <dc:description/>
  <dc:language>en-US</dc:language>
  <cp:lastModifiedBy>administrator</cp:lastModifiedBy>
  <dcterms:modified xsi:type="dcterms:W3CDTF">2015-02-01T12:38:17Z</dcterms:modified>
  <cp:revision>69</cp:revision>
  <dc:subject/>
  <dc:title>Курение – одна из вреднейших привычек!</dc:title>
</cp:coreProperties>
</file>