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2.gif" ContentType="image/gif"/>
  <Override PartName="/ppt/media/image7.gif" ContentType="image/gif"/>
  <Override PartName="/ppt/media/image23.png" ContentType="image/png"/>
  <Override PartName="/ppt/media/image22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gif" ContentType="image/gif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2B9-32B2-41B2-90BF-3EE06315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391-F61B-446D-B00F-FD52601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9AE-100F-4F20-A8CD-980C1CF8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F03-5792-44BE-A757-9069179D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C3E-1F21-4112-B1FD-207E9A60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A0D-3DAC-4E4E-B29A-09DB684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515-8603-4233-B05D-04E3A27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B8E-E045-464F-BA5F-F3B7A57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88-FAD8-4473-BEEA-2826F9D9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5AB-0D88-4FC9-8B87-B9C2DFE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3B3-C00A-49DA-94E9-8471A2E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18E-A14E-46D3-B032-E3C953D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6FA2-D50A-48EB-B8C0-D1522A695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760" y="1341360"/>
            <a:ext cx="887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сследовательская работа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«Переменки в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3 «В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419640" y="18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АОУ СОШ №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3694680" y="6184800"/>
            <a:ext cx="138924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мск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540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SCN1885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SCN1897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980360" y="485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ши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0920" y="2535840"/>
            <a:ext cx="83534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жные игры, проводимые во время переменок в школе, способствуют активному отдыху детей, снижают накопившиеся на уроках утомление, повышают работоспособность к следующему уро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, активно играющие на переменах, в четыре  раза меньше отвлекаются на последующих уроках, чем их одноклассники, проводящие переменки в спокойном отды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жных игр, в которые можно играть на школьных переменах, очень много. Здесь важно знать меру и стараться не перевозбудить детей, иначе им трудно будет сразу сосредоточиться на уроке. На каждой переменке играть нужно в какую-то одну иг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imal11"/>
          <p:cNvPicPr/>
          <p:nvPr/>
        </p:nvPicPr>
        <p:blipFill>
          <a:blip r:embed="rId1"/>
          <a:stretch/>
        </p:blipFill>
        <p:spPr>
          <a:xfrm>
            <a:off x="179280" y="115920"/>
            <a:ext cx="1773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980360" y="485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ши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50920" y="2081160"/>
            <a:ext cx="8353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ть нашим учителям, дежурить вместе с 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являть уважение к дежурным и слушаться 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бы дежурных было заметно, одевать на руку красную повя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 своему дню дежурства подготавливать различные игры, так как большинство детей, как показал опрос, все-таки хотят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imal11"/>
          <p:cNvPicPr/>
          <p:nvPr/>
        </p:nvPicPr>
        <p:blipFill>
          <a:blip r:embed="rId1"/>
          <a:stretch/>
        </p:blipFill>
        <p:spPr>
          <a:xfrm>
            <a:off x="179280" y="115920"/>
            <a:ext cx="1773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684360" y="1197000"/>
            <a:ext cx="763272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j021576.wav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nimal1"/>
          <p:cNvPicPr/>
          <p:nvPr/>
        </p:nvPicPr>
        <p:blipFill>
          <a:blip r:embed="rId2"/>
          <a:stretch/>
        </p:blipFill>
        <p:spPr>
          <a:xfrm>
            <a:off x="4932360" y="3860640"/>
            <a:ext cx="24559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14871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ему перерыв между уроками в школе называется «перемена?»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Ученые на этот вопрос точно не могут ответить, а может быть, не хотят заниматься такой «мелочью». А вот в Интернете мы нашли один сайт, где на этот вопрос отвечали сами ребята. И предложении одного мальчика нам показалось очень правдоподобным: «Когда-то в старину в школах перерывов между уроками не было, а были только перемены преподаваемых наук. Когда стали делать перерывы, их совместили с этими переменами, поэтому и перерывы стали называть переменами…» Эта версия очень похожа на правду. В средние века в школах, действительно, перерывов между различными уроками почти не было. Все классы занимались в одной комнате, и только в середине дня устраивался большой перерыв, чтобы ученики и учитель могли перекусить. А смена предметов была: грамматические упражнения сменяли упражнения арифметические, а тем на смену приходил закон Божий. Отсюда, скорее всего, и пошло это слово – «переме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hel13"/>
          <p:cNvPicPr/>
          <p:nvPr/>
        </p:nvPicPr>
        <p:blipFill>
          <a:blip r:embed="rId1"/>
          <a:stretch/>
        </p:blipFill>
        <p:spPr>
          <a:xfrm>
            <a:off x="6948360" y="18900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84360" y="2300400"/>
            <a:ext cx="770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емена- это отдых, если «брать» школьную перемену, это мы знаем. А ранее перемену называли, когда менялись блюда. Сейчас значение слова разные: можно использовать это слово так: перемена места жительства, перемена настроения, перемена климата. Перемена –это перерыв между уроками. Перемена нужна для того, чтоб могли выйти из класса, поиграть, позавтракать и т.д. А мы занимаемся на перемене такими делами, после которых  у нас появляются синяки, плохое настроение и «плач»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4m5[1]"/>
          <p:cNvPicPr/>
          <p:nvPr/>
        </p:nvPicPr>
        <p:blipFill>
          <a:blip r:embed="rId2"/>
          <a:stretch/>
        </p:blipFill>
        <p:spPr>
          <a:xfrm>
            <a:off x="6877080" y="5013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92360" y="83664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гда среди школьников 3 классов провели опрос, что бы они хотели делать на перемене, - ответы оказались довольно забав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60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476360" y="73872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рос детей 3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57520"/>
            <a:ext cx="144144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ита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 -3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 – 4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 -7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-10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95640" y="4217400"/>
            <a:ext cx="20160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«Б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овать -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 – 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а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 -5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427640" y="3215160"/>
            <a:ext cx="1511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«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чего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 -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-9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-13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6588000" y="4015440"/>
            <a:ext cx="1871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:23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-2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-6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-4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ать:2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1476000" y="1268280"/>
            <a:ext cx="86364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2410920" y="1268280"/>
            <a:ext cx="792360" cy="30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716360" y="1557360"/>
            <a:ext cx="71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6072120" y="1285920"/>
            <a:ext cx="1079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5"/>
          <p:cNvPicPr/>
          <p:nvPr/>
        </p:nvPicPr>
        <p:blipFill>
          <a:blip r:embed="rId1"/>
          <a:stretch/>
        </p:blipFill>
        <p:spPr>
          <a:xfrm>
            <a:off x="6804000" y="4941720"/>
            <a:ext cx="1871640" cy="160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37"/>
          <p:cNvPicPr/>
          <p:nvPr/>
        </p:nvPicPr>
        <p:blipFill>
          <a:blip r:embed="rId2"/>
          <a:stretch/>
        </p:blipFill>
        <p:spPr>
          <a:xfrm>
            <a:off x="468360" y="115920"/>
            <a:ext cx="1511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50920" y="19890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Находясь каждый день в школе, дежуря на переменах, мы увидели очень интересные моменты, как ведут себя дети, чем занимаются, это позволило нам посмотреть и на себя со сторо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Вот как проходят перемены в шко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5219640" y="5157720"/>
            <a:ext cx="260028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веселве колобки"/>
          <p:cNvPicPr/>
          <p:nvPr/>
        </p:nvPicPr>
        <p:blipFill>
          <a:blip r:embed="rId3"/>
          <a:stretch/>
        </p:blipFill>
        <p:spPr>
          <a:xfrm>
            <a:off x="5508720" y="549360"/>
            <a:ext cx="2019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395280" y="882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от так проходят перемены в разных школах, в разных уголочках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944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2987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244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SCN1893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SCN1908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41:14Z</dcterms:created>
  <dc:creator>Admin</dc:creator>
  <dc:description/>
  <dc:language>en-US</dc:language>
  <cp:lastModifiedBy>user</cp:lastModifiedBy>
  <dcterms:modified xsi:type="dcterms:W3CDTF">2015-02-01T13:24:29Z</dcterms:modified>
  <cp:revision>80</cp:revision>
  <dc:subject/>
  <dc:title>Слайд 1</dc:title>
</cp:coreProperties>
</file>