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2.gif" ContentType="image/gif"/>
  <Override PartName="/ppt/media/image7.gif" ContentType="image/gif"/>
  <Override PartName="/ppt/media/image23.png" ContentType="image/png"/>
  <Override PartName="/ppt/media/image22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gif" ContentType="image/gif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19E-9AC4-4DC5-9CD4-3F96C8CC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F8A-8AA2-4705-B142-ACA10E9F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18B-AB3A-4178-AC9E-C52A253A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430-C223-4723-AD07-1E4A3900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DCC-A304-4550-861A-592C0E9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694-E7E9-4014-BFA6-9CC3AF0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ED5-7F1F-4DC7-9C8D-9FE39FB3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90E-398A-47C3-A37B-CAF97B3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313-59FE-474E-82C0-806C7E2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9C8-8221-4907-85CE-DFA7810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185-9638-4F9F-AAA3-412981D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26C-D0AD-4958-A865-CCA8E649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D282-D3B3-464B-A816-3CE85D687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760" y="1341360"/>
            <a:ext cx="887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Исследовательская работа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«Переменки в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3 «В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419640" y="18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АОУ СОШ №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3694680" y="6184800"/>
            <a:ext cx="138924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мск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540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SCN1885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SCN1897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980360" y="485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ши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50920" y="2535840"/>
            <a:ext cx="83534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жные игры, проводимые во время переменок в школе, способствуют активному отдыху детей, снижают накопившиеся на уроках утомление, повышают работоспособность к следующему уро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, активно играющие на переменах, в четыре  раза меньше отвлекаются на последующих уроках, чем их одноклассники, проводящие переменки в спокойном отды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жных игр, в которые можно играть на школьных переменах, очень много. Здесь важно знать меру и стараться не перевозбудить детей, иначе им трудно будет сразу сосредоточиться на уроке. На каждой переменке играть нужно в какую-то одну иг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imal11"/>
          <p:cNvPicPr/>
          <p:nvPr/>
        </p:nvPicPr>
        <p:blipFill>
          <a:blip r:embed="rId1"/>
          <a:stretch/>
        </p:blipFill>
        <p:spPr>
          <a:xfrm>
            <a:off x="179280" y="115920"/>
            <a:ext cx="1773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980360" y="485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ши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50920" y="2081160"/>
            <a:ext cx="8353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ть нашим учителям, дежурить вместе с 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являть уважение к дежурным и слушаться 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бы дежурных было заметно, одевать на руку красную повя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 своему дню дежурства подготавливать различные игры, так как большинство детей, как показал опрос, все-таки хотят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imal11"/>
          <p:cNvPicPr/>
          <p:nvPr/>
        </p:nvPicPr>
        <p:blipFill>
          <a:blip r:embed="rId1"/>
          <a:stretch/>
        </p:blipFill>
        <p:spPr>
          <a:xfrm>
            <a:off x="179280" y="115920"/>
            <a:ext cx="1773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684360" y="1197000"/>
            <a:ext cx="763272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j021576.wav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animal1"/>
          <p:cNvPicPr/>
          <p:nvPr/>
        </p:nvPicPr>
        <p:blipFill>
          <a:blip r:embed="rId2"/>
          <a:stretch/>
        </p:blipFill>
        <p:spPr>
          <a:xfrm>
            <a:off x="4932360" y="3860640"/>
            <a:ext cx="24559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14871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ему перерыв между уроками в школе называется «перемена?»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Ученые на этот вопрос точно не могут ответить, а может быть, не хотят заниматься такой «мелочью». А вот в Интернете мы нашли один сайт, где на этот вопрос отвечали сами ребята. И предложении одного мальчика нам показалось очень правдоподобным: «Когда-то в старину в школах перерывов между уроками не было, а были только перемены преподаваемых наук. Когда стали делать перерывы, их совместили с этими переменами, поэтому и перерывы стали называть переменами…» Эта версия очень похожа на правду. В средние века в школах, действительно, перерывов между различными уроками почти не было. Все классы занимались в одной комнате, и только в середине дня устраивался большой перерыв, чтобы ученики и учитель могли перекусить. А смена предметов была: грамматические упражнения сменяли упражнения арифметические, а тем на смену приходил закон Божий. Отсюда, скорее всего, и пошло это слово – «переме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hel13"/>
          <p:cNvPicPr/>
          <p:nvPr/>
        </p:nvPicPr>
        <p:blipFill>
          <a:blip r:embed="rId1"/>
          <a:stretch/>
        </p:blipFill>
        <p:spPr>
          <a:xfrm>
            <a:off x="6948360" y="18900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84360" y="2300400"/>
            <a:ext cx="770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емена- это отдых, если «брать» школьную перемену, это мы знаем. А ранее перемену называли, когда менялись блюда. Сейчас значение слова разные: можно использовать это слово так: перемена места жительства, перемена настроения, перемена климата. Перемена –это перерыв между уроками. Перемена нужна для того, чтоб могли выйти из класса, поиграть, позавтракать и т.д. А мы занимаемся на перемене такими делами, после которых  у нас появляются синяки, плохое настроение и «плач»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4m5[1]"/>
          <p:cNvPicPr/>
          <p:nvPr/>
        </p:nvPicPr>
        <p:blipFill>
          <a:blip r:embed="rId2"/>
          <a:stretch/>
        </p:blipFill>
        <p:spPr>
          <a:xfrm>
            <a:off x="6877080" y="5013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92360" y="83664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гда среди школьников 3 классов провели опрос, что бы они хотели делать на перемене, - ответы оказались довольно забав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60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476360" y="73872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прос детей 3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57520"/>
            <a:ext cx="144144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ита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 -3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 – 4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 -7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-10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95640" y="4217400"/>
            <a:ext cx="20160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«Б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овать -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 – 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ать 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 -5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427640" y="3215160"/>
            <a:ext cx="1511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«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чего-2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 -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-9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-13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6588000" y="4015440"/>
            <a:ext cx="1871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ть:23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ать-2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деть-6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ать-4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ать:2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1476000" y="1268280"/>
            <a:ext cx="86364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2410920" y="1268280"/>
            <a:ext cx="792360" cy="30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716360" y="1557360"/>
            <a:ext cx="71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6072120" y="1285920"/>
            <a:ext cx="1079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5"/>
          <p:cNvPicPr/>
          <p:nvPr/>
        </p:nvPicPr>
        <p:blipFill>
          <a:blip r:embed="rId1"/>
          <a:stretch/>
        </p:blipFill>
        <p:spPr>
          <a:xfrm>
            <a:off x="6804000" y="4941720"/>
            <a:ext cx="1871640" cy="160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b37"/>
          <p:cNvPicPr/>
          <p:nvPr/>
        </p:nvPicPr>
        <p:blipFill>
          <a:blip r:embed="rId2"/>
          <a:stretch/>
        </p:blipFill>
        <p:spPr>
          <a:xfrm>
            <a:off x="468360" y="115920"/>
            <a:ext cx="1511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50920" y="19890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Находясь каждый день в школе, дежуря на переменах, мы увидели очень интересные моменты, как ведут себя дети, чем занимаются, это позволило нам посмотреть и на себя со сторо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Вот как проходят перемены в шко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5219640" y="5157720"/>
            <a:ext cx="260028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266400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веселве колобки"/>
          <p:cNvPicPr/>
          <p:nvPr/>
        </p:nvPicPr>
        <p:blipFill>
          <a:blip r:embed="rId3"/>
          <a:stretch/>
        </p:blipFill>
        <p:spPr>
          <a:xfrm>
            <a:off x="5508720" y="549360"/>
            <a:ext cx="2019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395280" y="882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вот так проходят перемены в разных школах, в разных уголочках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194472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3"/>
          <a:stretch/>
        </p:blipFill>
        <p:spPr>
          <a:xfrm>
            <a:off x="2987640" y="17733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244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SCN1893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SCN1908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41:14Z</dcterms:created>
  <dc:creator>Admin</dc:creator>
  <dc:description/>
  <dc:language>en-US</dc:language>
  <cp:lastModifiedBy>user</cp:lastModifiedBy>
  <dcterms:modified xsi:type="dcterms:W3CDTF">2015-02-01T13:24:29Z</dcterms:modified>
  <cp:revision>80</cp:revision>
  <dc:subject/>
  <dc:title>Слайд 1</dc:title>
</cp:coreProperties>
</file>