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FA7-E93E-4989-B986-3AD896D7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E8F-9FE8-40CD-9F5A-9D274D6A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AEA-0522-4BED-841D-6D652D94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42C-D8FA-470C-986F-A76F8DD7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6F7-EFDC-4665-902E-6747DEC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39A-2954-4CDE-B628-5676107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67B-BF9F-4018-8FEE-2CDC2087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D9E-1CAB-495E-97BC-A7E3C86F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15C-D9E0-43BA-98D6-AD9D51B1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50E-597C-4856-B4EE-227CD6D5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15F-018E-40B5-B27D-222BF62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CC3-F610-4A69-84A4-4FC92BB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B1EF-DF6F-4A88-AA7E-F985F77515D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нижка-малю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трушанко Да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Natalia\AppData\Local\Temp\Rar$DIa0.482\сканирование0038.jpg"/>
          <p:cNvPicPr/>
          <p:nvPr/>
        </p:nvPicPr>
        <p:blipFill>
          <a:blip r:embed="rId1"/>
          <a:srcRect l="0" t="-27411" r="-6839" b="0"/>
          <a:stretch/>
        </p:blipFill>
        <p:spPr>
          <a:xfrm>
            <a:off x="5076720" y="620640"/>
            <a:ext cx="38721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Natalia\AppData\Local\Temp\Rar$DIa0.913\сканирование0043.jpg"/>
          <p:cNvPicPr/>
          <p:nvPr/>
        </p:nvPicPr>
        <p:blipFill>
          <a:blip r:embed="rId1"/>
          <a:stretch/>
        </p:blipFill>
        <p:spPr>
          <a:xfrm>
            <a:off x="777960" y="716040"/>
            <a:ext cx="7588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Natalia\AppData\Local\Temp\Rar$DIa0.891\сканирование0044.jpg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Natalia\AppData\Local\Temp\Rar$DIa0.922\сканирование0046.jpg"/>
          <p:cNvPicPr/>
          <p:nvPr/>
        </p:nvPicPr>
        <p:blipFill>
          <a:blip r:embed="rId1"/>
          <a:stretch/>
        </p:blipFill>
        <p:spPr>
          <a:xfrm>
            <a:off x="731880" y="685800"/>
            <a:ext cx="7680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Natalia\AppData\Local\Temp\Rar$DIa0.097\сканирование0047.jpg"/>
          <p:cNvPicPr/>
          <p:nvPr/>
        </p:nvPicPr>
        <p:blipFill>
          <a:blip r:embed="rId1"/>
          <a:stretch/>
        </p:blipFill>
        <p:spPr>
          <a:xfrm>
            <a:off x="754200" y="681120"/>
            <a:ext cx="7635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Natalia\AppData\Local\Temp\Rar$DIa0.364\сканирование0045.jpg"/>
          <p:cNvPicPr/>
          <p:nvPr/>
        </p:nvPicPr>
        <p:blipFill>
          <a:blip r:embed="rId1"/>
          <a:stretch/>
        </p:blipFill>
        <p:spPr>
          <a:xfrm>
            <a:off x="716040" y="655560"/>
            <a:ext cx="77119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Natalia\AppData\Local\Temp\Rar$DIa0.926\сканирование0048.jpg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09:26:07Z</dcterms:created>
  <dc:creator>user</dc:creator>
  <dc:description/>
  <dc:language>en-US</dc:language>
  <cp:lastModifiedBy>Natalia</cp:lastModifiedBy>
  <dcterms:modified xsi:type="dcterms:W3CDTF">2015-02-01T20:46:24Z</dcterms:modified>
  <cp:revision>13</cp:revision>
  <dc:subject/>
  <dc:title>Книжка-малютка</dc:title>
</cp:coreProperties>
</file>