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2AD-6EC5-460E-9B42-E7E20FD2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4DE-73DC-456F-A4FE-65A0905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92A-DD3A-4B03-8D3E-24292D9C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54F-3F33-4E54-B95B-03AC1F55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CBB-E915-4241-9E0F-273F4FD7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52B-C2BE-4CE7-AB50-2FFD73D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9E2-2422-48A8-B12C-81BDFDA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057-D7D0-434F-82D5-22A04354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B9B-56F0-4A82-91E9-483CBE4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F1C-BC21-41BA-818D-4ACF9810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0BE-3CC1-4A32-B930-149CB6E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E92-C661-4080-B1E6-EC3315E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32B-E0DE-45B1-9469-B0BFC33618E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нижка-малю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ушанко Да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Natalia\AppData\Local\Temp\Rar$DIa0.482\сканирование0038.jpg"/>
          <p:cNvPicPr/>
          <p:nvPr/>
        </p:nvPicPr>
        <p:blipFill>
          <a:blip r:embed="rId1"/>
          <a:srcRect l="0" t="-27411" r="-6839" b="0"/>
          <a:stretch/>
        </p:blipFill>
        <p:spPr>
          <a:xfrm>
            <a:off x="5076720" y="620640"/>
            <a:ext cx="3872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Natalia\AppData\Local\Temp\Rar$DIa0.913\сканирование0043.jpg"/>
          <p:cNvPicPr/>
          <p:nvPr/>
        </p:nvPicPr>
        <p:blipFill>
          <a:blip r:embed="rId1"/>
          <a:stretch/>
        </p:blipFill>
        <p:spPr>
          <a:xfrm>
            <a:off x="777960" y="716040"/>
            <a:ext cx="7588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Natalia\AppData\Local\Temp\Rar$DIa0.891\сканирование0044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Natalia\AppData\Local\Temp\Rar$DIa0.922\сканирование0046.jpg"/>
          <p:cNvPicPr/>
          <p:nvPr/>
        </p:nvPicPr>
        <p:blipFill>
          <a:blip r:embed="rId1"/>
          <a:stretch/>
        </p:blipFill>
        <p:spPr>
          <a:xfrm>
            <a:off x="731880" y="685800"/>
            <a:ext cx="7680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Natalia\AppData\Local\Temp\Rar$DIa0.097\сканирование0047.jpg"/>
          <p:cNvPicPr/>
          <p:nvPr/>
        </p:nvPicPr>
        <p:blipFill>
          <a:blip r:embed="rId1"/>
          <a:stretch/>
        </p:blipFill>
        <p:spPr>
          <a:xfrm>
            <a:off x="754200" y="681120"/>
            <a:ext cx="7635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Natalia\AppData\Local\Temp\Rar$DIa0.364\сканирование0045.jpg"/>
          <p:cNvPicPr/>
          <p:nvPr/>
        </p:nvPicPr>
        <p:blipFill>
          <a:blip r:embed="rId1"/>
          <a:stretch/>
        </p:blipFill>
        <p:spPr>
          <a:xfrm>
            <a:off x="716040" y="655560"/>
            <a:ext cx="77119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Natalia\AppData\Local\Temp\Rar$DIa0.926\сканирование0048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09:26:07Z</dcterms:created>
  <dc:creator>user</dc:creator>
  <dc:description/>
  <dc:language>en-US</dc:language>
  <cp:lastModifiedBy>Natalia</cp:lastModifiedBy>
  <dcterms:modified xsi:type="dcterms:W3CDTF">2015-02-01T20:46:24Z</dcterms:modified>
  <cp:revision>13</cp:revision>
  <dc:subject/>
  <dc:title>Книжка-малютка</dc:title>
</cp:coreProperties>
</file>