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8.png" ContentType="image/png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93E-E495-4CC4-A50E-579A2C73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E88-9CC7-4A46-ABC9-DEC54F7F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971-7575-4C38-99E7-DD643D59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9A1-9710-45A6-981E-74100697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FC63-82BE-4A4D-8891-C38E2832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5594-0254-4C7A-A60B-A5389724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AB77-87B3-4432-8668-069980E9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DCFE-477F-4CE1-8DC1-D988B3C2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4C2F-7861-4D1A-A2AD-BD78EE12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EBAF-DFAD-4FEA-AFAA-8C9DC6FF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26E0-4A08-4B9B-9A7F-42EBA094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5DC-B21C-4FF4-8347-949172A2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F53B-7A41-4D4B-BDA1-539E277F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5585-4CEE-4733-814A-D10A2ABD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2BAC-105E-4CCA-93B6-0C6E308A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3CA5-99F6-4BAF-A465-5F53ACE7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19EB-45A7-4A39-868B-30957A58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CB4-FB3D-43EB-84DF-0DB32CED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DEE-C548-48E7-A41C-EDE2CD32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5BA-2F21-4290-987F-4528DFE1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DF8-7D7A-4E85-AF41-EBE5AD23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564-4745-44C1-B902-15EBD6FF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DC4-01CD-4445-B4C4-B8EEEEB4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22B-0C34-4538-AA22-DB660825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9AE6-5D17-49AB-B2BF-60EEBBF7D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A076-360B-45FD-A45A-21302972D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80773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560" y="5084640"/>
            <a:ext cx="6945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К работе студентки Смирновой А.Ю.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03280" y="836640"/>
            <a:ext cx="6048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теп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 натуральны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оказател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72700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равнит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1/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1/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-1/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и (1/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-1/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и (1/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18716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79640" y="54936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веты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276640"/>
            <a:ext cx="69138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равнит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/5)2  &lt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(1/5)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-1/3)2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(1/3)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-1/2)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1/2)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508720" y="2421000"/>
            <a:ext cx="180972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285264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70828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653000"/>
            <a:ext cx="609480" cy="863640"/>
          </a:xfrm>
          <a:custGeom>
            <a:avLst/>
            <a:gdLst>
              <a:gd name="textAreaLeft" fmla="*/ 250920 w 609480"/>
              <a:gd name="textAreaRight" fmla="*/ 358560 w 609480"/>
              <a:gd name="textAreaTop" fmla="*/ 355680 h 863640"/>
              <a:gd name="textAreaBottom" fmla="*/ 5079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800360" cy="119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547640" y="1557360"/>
            <a:ext cx="633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76720" y="371628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ов в учеб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915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пределение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ью числа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 натуральным показателем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большим 1, называется произведение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жителей, каждый из которых равен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18276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а…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 р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Fax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– показатель степе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– основание степ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4894920" y="2672280"/>
            <a:ext cx="504720" cy="2592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5400" y="10806"/>
                  <a:pt x="0" y="10806"/>
                </a:cubicBezTo>
                <a:cubicBezTo>
                  <a:pt x="54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Люди придумали степень с натуральным показателем очень давно: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510000"/>
            <a:ext cx="807552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евнегреческий ученый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фагор придумал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ое число мож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ить в виде фигу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411280" y="33336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 интересн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43280" y="3716280"/>
          <a:ext cx="4159440" cy="2311560"/>
        </p:xfrm>
        <a:graphic>
          <a:graphicData uri="http://schemas.openxmlformats.org/drawingml/2006/table">
            <a:tbl>
              <a:tblPr/>
              <a:tblGrid>
                <a:gridCol w="441360"/>
                <a:gridCol w="284400"/>
                <a:gridCol w="282600"/>
                <a:gridCol w="282600"/>
                <a:gridCol w="282240"/>
                <a:gridCol w="282600"/>
                <a:gridCol w="284400"/>
                <a:gridCol w="282600"/>
                <a:gridCol w="284040"/>
                <a:gridCol w="282600"/>
                <a:gridCol w="282600"/>
                <a:gridCol w="442800"/>
                <a:gridCol w="44460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Lucida Fax"/>
                        </a:rPr>
                        <a:t>•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4400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глийский математик  С. Стивин придумал запись для обозначения степен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(3) + 5(2) – 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ая запись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дийские ученые открыли и оперировали степенями с натуральными показателями до 9, называя их с помощью комбинации трех сл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а»  - 2 степень, от слова «варга» - квадра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гха»  - 3 степень, от слова «гхана» - куб и « гхата», указывающую на сложение показа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прме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4-я степень «ва-ва»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-я степень «ва-гха-гхат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-я степнь - «ва-гх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58256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7 веке английским ученым Джоном Валленсом были придуманы современные обозначения.  А вот заслуга в их признании и распространении принадлежит И. Ньютону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 стал использовать их обозначения в своих работах, и таким образом они прижилис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вычислительных машин использование 10 цифровых знаков оказалось очень неудобным по техническим причинам. Самой удобной и простой для ЭВМ оказалась двоичная позиционная система, использующая всего 2 цифры – 0 и 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имер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7 =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1 +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1 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 0 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1 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Lucida Fax"/>
                <a:ea typeface="Times New Roman"/>
              </a:rPr>
              <a:t>•1 = 11011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Lucida Fax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24720" y="5084640"/>
            <a:ext cx="122400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589720"/>
          </a:xfrm>
          <a:prstGeom prst="rect">
            <a:avLst/>
          </a:prstGeom>
          <a:solidFill>
            <a:srgbClr val="336699">
              <a:alpha val="41000"/>
            </a:srgbClr>
          </a:solidFill>
          <a:ln w="9360">
            <a:solidFill>
              <a:srgbClr val="336699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любого числа а и любых натуральных чисел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праведливо равенство: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= 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+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3+5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ого числа 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0 и любых натуральных чисе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таких, чт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gt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праведливо равенство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</a:t>
            </a:r>
            <a:r>
              <a:rPr b="0" lang="en-US" sz="3200" spc="-1" strike="noStrike">
                <a:solidFill>
                  <a:srgbClr val="ff0000"/>
                </a:solidFill>
                <a:latin typeface="Lucida Fax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= 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=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7-2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=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любого числа а и любых натуральных чисел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праведливо равенство: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(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)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 =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k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ff0000"/>
                </a:solidFill>
                <a:latin typeface="Tahoma"/>
              </a:rPr>
              <a:t>    </a:t>
            </a:r>
            <a:r>
              <a:rPr b="0" i="1" lang="ru-RU" sz="3600" spc="-1" strike="noStrike" u="sng" baseline="30000">
                <a:solidFill>
                  <a:srgbClr val="ffffff"/>
                </a:solidFill>
                <a:uFillTx/>
                <a:latin typeface="Tahoma"/>
              </a:rPr>
              <a:t>Например</a:t>
            </a:r>
            <a:r>
              <a:rPr b="0" lang="ru-RU" sz="3600" spc="-1" strike="noStrike" baseline="30000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(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• 4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Fax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20000" y="5661000"/>
            <a:ext cx="1409760" cy="59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24720" y="0"/>
            <a:ext cx="12952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 = 1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для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любого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 n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 = 0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;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 =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,a </a:t>
            </a:r>
            <a:r>
              <a:rPr b="0" lang="en-US" sz="2800" spc="-1" strike="noStrike">
                <a:solidFill>
                  <a:srgbClr val="ffcc00"/>
                </a:solidFill>
                <a:latin typeface="Lucida Fax"/>
                <a:ea typeface="Times New Roman"/>
              </a:rPr>
              <a:t>≠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0;  (-1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2k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= 1;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(-1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2k-1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 =-1;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6692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ые числа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атуральное число, то справедливо равенств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</a:t>
            </a:r>
            <a:r>
              <a:rPr b="0" lang="ru-RU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ff0000"/>
                </a:solidFill>
                <a:latin typeface="Lucida Fax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=(ab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априм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Lucida Fax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(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i="1" lang="ru-RU" sz="2400" spc="-1" strike="noStrike">
                <a:solidFill>
                  <a:srgbClr val="ffffff"/>
                </a:solidFill>
                <a:latin typeface="Lucida Fax"/>
              </a:rPr>
              <a:t>≠0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ые числа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атуральное число, то справедливо равенство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= (a : b)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  <a:ea typeface="Times New Roman"/>
              </a:rPr>
              <a:t>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Например: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: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(15 :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549360"/>
            <a:ext cx="140940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остите выра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х/2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с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5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1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 2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920" y="333360"/>
            <a:ext cx="655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165600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3560"/>
            <a:ext cx="822960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простит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;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х/2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16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5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25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1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 2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54936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веты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227640" y="1989000"/>
            <a:ext cx="1809720" cy="5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1:10:00Z</dcterms:created>
  <dc:creator>Home</dc:creator>
  <dc:description/>
  <dc:language>en-US</dc:language>
  <cp:lastModifiedBy>User</cp:lastModifiedBy>
  <dcterms:modified xsi:type="dcterms:W3CDTF">2010-05-21T17:32:34Z</dcterms:modified>
  <cp:revision>48</cp:revision>
  <dc:subject/>
  <dc:title>Свойства  степеней с натуральным показателем</dc:title>
</cp:coreProperties>
</file>