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8.png" ContentType="image/png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C6A-FBC5-46D2-88F9-522F29A7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0F9-4B23-4397-A667-18E12457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A5C-9161-4ECE-8B9A-0ED92BE1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6F8-40F6-4CD3-9AFE-525B591A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B85F-EACB-4884-86F8-19F1DD70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48E8-CDBB-4507-A5B8-B20AC92B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D3AA-D694-4B09-85FA-6F102781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B42B-0DBC-41D3-A173-ED9F8059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2FB4-727E-4804-B3CC-F18B136E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C909-E715-4731-AF26-0F4D5C11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A974-BC9E-4BCE-8190-F0E07896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88E-B038-469F-9A04-F1774F1F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8878-8777-40E6-BFF0-D6B719CE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DC7C-5B72-4E54-816B-386C06C7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16B1-5523-4055-8C0F-27196D2E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9A53-96CE-4368-B4D3-1A04F829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D039-8E36-4FD7-8E97-E033EADE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7EB-556C-40C0-A553-DEC01B5B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0A6-8DB7-48E1-B288-80F38700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905-CF0D-4AF9-8187-1D437E7F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0F8-6D76-43BD-8A9C-36A6988D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050-9D86-4601-9F43-3F9441D7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CCB-D50D-4322-BE08-792172E4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308-7D5D-4ACB-A991-842CB22E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2F1A-E0A0-4C56-B248-93448EB83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98EC-86D9-4790-81F0-526670F7E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80773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560" y="5084640"/>
            <a:ext cx="6945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К работе студентки Смирновой А.Ю.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03280" y="836640"/>
            <a:ext cx="6048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теп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 натуральны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оказател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72700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равнит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1/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1/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-1/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и (1/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-1/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и (1/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18716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79640" y="54936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веты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276640"/>
            <a:ext cx="69138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равнит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1/5)2  &lt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(1/5)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-1/3)2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(1/3)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-1/2)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1/2)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508720" y="2421000"/>
            <a:ext cx="180972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285264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270828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4653000"/>
            <a:ext cx="609480" cy="863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355680 h 863640"/>
              <a:gd name="textAreaBottom" fmla="*/ 5079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1800360" cy="1195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547640" y="1557360"/>
            <a:ext cx="633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76720" y="371628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хов в учебе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915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пределение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ью числа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 натуральным показателем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большим 1, называется произведение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жителей, каждый из которых равен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18276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а…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 р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– показатель степе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– основание степ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4894920" y="2672280"/>
            <a:ext cx="504720" cy="2592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6"/>
                </a:lnTo>
                <a:cubicBezTo>
                  <a:pt x="10800" y="9906"/>
                  <a:pt x="5400" y="10806"/>
                  <a:pt x="0" y="10806"/>
                </a:cubicBezTo>
                <a:cubicBezTo>
                  <a:pt x="5400" y="10806"/>
                  <a:pt x="10800" y="11706"/>
                  <a:pt x="10800" y="1260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Люди придумали степень с натуральным показателем очень давно: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510000"/>
            <a:ext cx="8075520" cy="22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евнегреческий ученый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фагор придумал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ое число мож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ить в виде фигу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411280" y="333360"/>
            <a:ext cx="60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о интересн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43280" y="3716280"/>
          <a:ext cx="4159440" cy="2311560"/>
        </p:xfrm>
        <a:graphic>
          <a:graphicData uri="http://schemas.openxmlformats.org/drawingml/2006/table">
            <a:tbl>
              <a:tblPr/>
              <a:tblGrid>
                <a:gridCol w="441360"/>
                <a:gridCol w="284400"/>
                <a:gridCol w="282600"/>
                <a:gridCol w="282600"/>
                <a:gridCol w="282240"/>
                <a:gridCol w="282600"/>
                <a:gridCol w="284400"/>
                <a:gridCol w="282600"/>
                <a:gridCol w="284040"/>
                <a:gridCol w="282600"/>
                <a:gridCol w="282600"/>
                <a:gridCol w="442800"/>
                <a:gridCol w="44460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4400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глийский математик  С. Стивин придумал запись для обозначения степен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(3) + 5(2) – 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ая запись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дийские ученые открыли и оперировали степенями с натуральными показателями до 9, называя их с помощью комбинации трех сл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а»  - 2 степень, от слова «варга» - квадра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гха»  - 3 степень, от слова «гхана» - куб и « гхата», указывающую на сложение показа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прме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4-я степень «ва-ва»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-я степень «ва-гха-гхат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-я степнь - «ва-гх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58256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7 веке английским ученым Джоном Валленсом были придуманы современные обозначения.  А вот заслуга в их признании и распространении принадлежит И. Ньютону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 стал использовать их обозначения в своих работах, и таким образом они прижилис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вычислительных машин использование 10 цифровых знаков оказалось очень неудобным по техническим причинам. Самой удобной и простой для ЭВМ оказалась двоичная позиционная система, использующая всего 2 цифры – 0 и 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имер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7 =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1 +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1 +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 0 +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1 +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  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1 = 11011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Lucida Fax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24720" y="5084640"/>
            <a:ext cx="122400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589720"/>
          </a:xfrm>
          <a:prstGeom prst="rect">
            <a:avLst/>
          </a:prstGeom>
          <a:solidFill>
            <a:srgbClr val="336699">
              <a:alpha val="41000"/>
            </a:srgbClr>
          </a:solidFill>
          <a:ln w="9360">
            <a:solidFill>
              <a:srgbClr val="336699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любого числа а и любых натуральных чисел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праведливо равенство: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= 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+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3+5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ого числа 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0 и любых натуральных чисе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таких, чт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gt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праведливо равенство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 </a:t>
            </a:r>
            <a:r>
              <a:rPr b="0" lang="en-US" sz="3200" spc="-1" strike="noStrike">
                <a:solidFill>
                  <a:srgbClr val="ff0000"/>
                </a:solidFill>
                <a:latin typeface="Lucida Fax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= 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=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7-2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=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любого числа а и любых натуральных чисел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праведливо равенство: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(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)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=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k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ff0000"/>
                </a:solidFill>
                <a:latin typeface="Tahoma"/>
              </a:rPr>
              <a:t>    </a:t>
            </a:r>
            <a:r>
              <a:rPr b="0" i="1" lang="ru-RU" sz="3600" spc="-1" strike="noStrike" u="sng" baseline="30000">
                <a:solidFill>
                  <a:srgbClr val="ffffff"/>
                </a:solidFill>
                <a:uFillTx/>
                <a:latin typeface="Tahoma"/>
              </a:rPr>
              <a:t>Например</a:t>
            </a:r>
            <a:r>
              <a:rPr b="0" lang="ru-RU" sz="3600" spc="-1" strike="noStrike" baseline="30000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(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• 4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20000" y="5661000"/>
            <a:ext cx="1409760" cy="59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524720" y="0"/>
            <a:ext cx="12952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 = 1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для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любого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 n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 = 0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;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 =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,a </a:t>
            </a:r>
            <a:r>
              <a:rPr b="0" lang="en-US" sz="2800" spc="-1" strike="noStrike">
                <a:solidFill>
                  <a:srgbClr val="ffcc00"/>
                </a:solidFill>
                <a:latin typeface="Lucida Fax"/>
                <a:ea typeface="Times New Roman"/>
              </a:rPr>
              <a:t>≠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0;  (-1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2k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= 1;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(-1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2k-1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=-1;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6692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ые числа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атуральное число, то справедливо равенств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</a:t>
            </a:r>
            <a:r>
              <a:rPr b="0" lang="ru-RU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ff0000"/>
                </a:solidFill>
                <a:latin typeface="Lucida Fax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b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=(ab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априм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(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i="1" lang="ru-RU" sz="2400" spc="-1" strike="noStrike">
                <a:solidFill>
                  <a:srgbClr val="ffffff"/>
                </a:solidFill>
                <a:latin typeface="Lucida Fax"/>
              </a:rPr>
              <a:t>≠0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ые числа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атуральное число, то справедливо равенство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b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= (a : b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Например: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: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(15 :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549360"/>
            <a:ext cx="140940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остите выра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х/2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с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5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1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 2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920" y="333360"/>
            <a:ext cx="655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165600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3560"/>
            <a:ext cx="822960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простит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;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х/2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16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5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25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1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 2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54936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веты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227640" y="1989000"/>
            <a:ext cx="1809720" cy="5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1:10:00Z</dcterms:created>
  <dc:creator>Home</dc:creator>
  <dc:description/>
  <dc:language>en-US</dc:language>
  <cp:lastModifiedBy>User</cp:lastModifiedBy>
  <dcterms:modified xsi:type="dcterms:W3CDTF">2010-05-21T17:32:34Z</dcterms:modified>
  <cp:revision>48</cp:revision>
  <dc:subject/>
  <dc:title>Свойства  степеней с натуральным показателем</dc:title>
</cp:coreProperties>
</file>