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1CB-43CE-4940-95C4-AF590C46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2E3-484B-42D1-ABD6-9615E97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ACF-A9E3-4051-8E8C-286032B9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A3D-881A-40F1-AC34-9D685CA7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6A7-EFEA-4CDD-942E-8BE56FFE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61C-E0B7-45FC-997F-5326F680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8A6-DF3A-4000-A72E-FB81977C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C31-333A-451B-B377-E4950F9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0BE-A90C-4B97-9713-E301041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52B-61B2-4861-907D-A14DBE3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B1F-3F35-499A-BD17-2F6BCEB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9F1-B313-4B75-8A25-2062E75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A1A-651E-4775-B692-CEE6CB014F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3040-CCC4-44EC-9EB6-91B12A10B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786120"/>
            <a:ext cx="78580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Решение тригонометрических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6160" y="1285560"/>
            <a:ext cx="45007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«Учиться можно только весело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Чтобы переваривать зна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надо поглощать их с аппетитом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Французский пис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Calibri"/>
              </a:rPr>
              <a:t>(1844 – 1924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:\Documents and Settings\Aida\Рабочий стол\текстуры и фоны, клипарты\idpencil.jpg"/>
          <p:cNvPicPr/>
          <p:nvPr/>
        </p:nvPicPr>
        <p:blipFill>
          <a:blip r:embed="rId1"/>
          <a:stretch/>
        </p:blipFill>
        <p:spPr>
          <a:xfrm rot="20406600">
            <a:off x="738360" y="1864800"/>
            <a:ext cx="2598480" cy="17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2"/>
          <a:stretch/>
        </p:blipFill>
        <p:spPr>
          <a:xfrm>
            <a:off x="1214280" y="2428920"/>
            <a:ext cx="269748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1071360"/>
            <a:ext cx="73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уравнения называются тригонометрически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ключевой (главный) блок тригонометрических урав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адо знать, чтобы решать простейшие тригонометрические уравн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ные случаи решения простейших тригонометрических уравн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типы и методы решения тригонометрических уравнений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3D57-590F-48BF-8023-10E7D37EB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6096-1B9F-4F2D-947D-F7A7D9EA8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Содержимое 6"/>
          <p:cNvGraphicFramePr/>
          <p:nvPr/>
        </p:nvGraphicFramePr>
        <p:xfrm>
          <a:off x="622440" y="1143000"/>
          <a:ext cx="849600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143000"/>
                    <a:ext cx="849600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164-BDC7-4F70-B480-A6BCF4E32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Содержимое 5"/>
          <p:cNvGraphicFramePr/>
          <p:nvPr/>
        </p:nvGraphicFramePr>
        <p:xfrm>
          <a:off x="1071720" y="1143000"/>
          <a:ext cx="753264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143000"/>
                    <a:ext cx="75326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тригонометрических урав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56880" y="2571840"/>
            <a:ext cx="6758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2 si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+ 5 sin x + 2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in x – cos x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in x cos x +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i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– 5 sin x cos x + 4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2 si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+ 3 cos x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) tg x + 3 ctg 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D1C5-1ACB-4385-B5E7-F1D3982EF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ригонометрические урав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16426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ейшие и сводящиеся к простейш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одимые к квадрат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родные I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родные II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емые разложением левой части на множ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днородные II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FCB3-31A9-4D3B-92ED-C4F90BA39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B00-B86D-442A-97A8-422403DF6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320" y="1857240"/>
            <a:ext cx="632916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ейшие и сводящиеся к простейш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одимые к квадра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род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род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мые разложением левой части на множи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днород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7000920" y="1643040"/>
            <a:ext cx="178596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8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2, 5, 6,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4, 9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1, 10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7, 1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, 1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3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ктант «Верно, не вер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85720" y="5428800"/>
            <a:ext cx="54291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ы: + + + - - + - - + + + - + 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419-6C50-4161-8354-34467D7E7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714240" y="1143000"/>
          <a:ext cx="695988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143000"/>
                    <a:ext cx="695988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14240" y="114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жды царь решил выбрать из своих придворных первого помощника. Он подвёл всех к огромному дверному замку. Кто откроет, тот и будет первым помощником. Никто не притронулся даже к замку. Лишь один визирь подошёл и толкнул замок, который открылся. Он не был закрыт на клю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ы получишь эту должность, потому что полагаешься не только на то, что видишь и слышишь, но надеешься на собственные силы и не боишься   сделать попытку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5432-09F9-453C-B044-863E96C1A1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1FC1-9AC5-42E1-967A-911C3B481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48:13Z</dcterms:created>
  <dc:creator>Администратор</dc:creator>
  <dc:description/>
  <dc:language>en-US</dc:language>
  <cp:lastModifiedBy>Your User Name</cp:lastModifiedBy>
  <dcterms:modified xsi:type="dcterms:W3CDTF">2011-01-26T20:20:12Z</dcterms:modified>
  <cp:revision>40</cp:revision>
  <dc:subject/>
  <dc:title>Решение простейших тригонометрических неравенств.</dc:title>
</cp:coreProperties>
</file>