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media/image6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696-FC3C-4407-B326-35971D5A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8A5-7977-41E8-BEA2-8D55451A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DC2-00E9-4BB6-8F15-12A19A64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C59-88A6-48F2-B689-7F48CEF6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78E-6A5E-41E4-8A9A-70378978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A16-DB89-45E8-B411-741BE2AE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51E-B395-4CFB-B752-C2284B8F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3038-FB79-457B-B4B6-55E60E48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A5C-44CD-42B3-AF69-0C6A70DE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4A4-5025-4E5E-97F7-28D7A786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2BB5-FB77-47D3-B540-81D6A9FA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5F9-431C-46C3-A616-9641F236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BF2D-66DC-4AB1-BA0D-B3656EBF0A2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868A-E78A-4E19-8152-5ED49F0035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786120"/>
            <a:ext cx="785808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Решение тригонометрических уравне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6160" y="1285560"/>
            <a:ext cx="45007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Calibri"/>
              </a:rPr>
              <a:t>«Учиться можно только весело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Calibri"/>
              </a:rPr>
              <a:t>Чтобы переваривать знани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Calibri"/>
              </a:rPr>
              <a:t>надо поглощать их с аппетитом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Calibri"/>
              </a:rPr>
              <a:t>Анатоль Фран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Calibri"/>
              </a:rPr>
              <a:t>Французский писат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Calibri"/>
              </a:rPr>
              <a:t>(1844 – 1924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:\Documents and Settings\Aida\Рабочий стол\текстуры и фоны, клипарты\idpencil.jpg"/>
          <p:cNvPicPr/>
          <p:nvPr/>
        </p:nvPicPr>
        <p:blipFill>
          <a:blip r:embed="rId1"/>
          <a:stretch/>
        </p:blipFill>
        <p:spPr>
          <a:xfrm rot="20406600">
            <a:off x="738360" y="1864800"/>
            <a:ext cx="2598480" cy="176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2"/>
          <a:stretch/>
        </p:blipFill>
        <p:spPr>
          <a:xfrm>
            <a:off x="1214280" y="2428920"/>
            <a:ext cx="269748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1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2640" y="1071360"/>
            <a:ext cx="7358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уравнения называются тригонометрическим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овите ключевой (главный) блок тригонометрических уравн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надо знать, чтобы решать простейшие тригонометрические уравне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астные случаи решения простейших тригонометрических уравн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типы и методы решения тригонометрических уравнений вы знае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AF1B-2605-4440-A008-407E8DFA5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5045-A367-4AF9-A48A-B8FBE4595F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Содержимое 6"/>
          <p:cNvGraphicFramePr/>
          <p:nvPr/>
        </p:nvGraphicFramePr>
        <p:xfrm>
          <a:off x="622440" y="1143000"/>
          <a:ext cx="8496000" cy="60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143000"/>
                    <a:ext cx="849600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26E1-AF4A-4B65-ADFE-8973E684D9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Содержимое 5"/>
          <p:cNvGraphicFramePr/>
          <p:nvPr/>
        </p:nvGraphicFramePr>
        <p:xfrm>
          <a:off x="1071720" y="1143000"/>
          <a:ext cx="7532640" cy="40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143000"/>
                    <a:ext cx="753264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1356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ификация тригонометрических урав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856880" y="2571840"/>
            <a:ext cx="67582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2 sin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+ 5 sin x + 2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sin x – cos x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sin x cos x + cos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sin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– 5 sin x cos x + 4 cos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 2 sin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+ 3 cos x =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) tg x + 3 ctg x =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125F-7B94-4AD3-9404-0313B4C6A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ригонометрические уравн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14400" y="164268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ейшие и сводящиеся к простейш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одимые к квадрат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родные I степ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родные II степ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аемые разложением левой части на множит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днородные II степ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A377-8894-4D5E-9562-BD60CA9471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117F-3489-4880-9EA4-171EA9E022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71320" y="1857240"/>
            <a:ext cx="632916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ейшие и сводящиеся к простейш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одимые к квадрат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родны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е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родны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е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аемые разложением левой части на множи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днородны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е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7000920" y="1643040"/>
            <a:ext cx="178596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8,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2, 5, 6,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4, 9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1, 10,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7, 1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, 1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3,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ктант «Верно, не вер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85720" y="5428800"/>
            <a:ext cx="54291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ы: + + + - - + - - + + + - + 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9FA3-3585-4233-BBF3-EC905684A6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2"/>
          <p:cNvGraphicFramePr/>
          <p:nvPr/>
        </p:nvGraphicFramePr>
        <p:xfrm>
          <a:off x="714240" y="1143000"/>
          <a:ext cx="695988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143000"/>
                    <a:ext cx="695988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14240" y="114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ажды царь решил выбрать из своих придворных первого помощника. Он подвёл всех к огромному дверному замку. Кто откроет, тот и будет первым помощником. Никто не притронулся даже к замку. Лишь один визирь подошёл и толкнул замок, который открылся. Он не был закрыт на клю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ы получишь эту должность, потому что полагаешься не только на то, что видишь и слышишь, но надеешься на собственные силы и не боишься   сделать попытку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DEE7-FB9C-479E-BAB6-5524A77EDEA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07B0-C777-4792-BD81-6B72093B3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2:48:13Z</dcterms:created>
  <dc:creator>Администратор</dc:creator>
  <dc:description/>
  <dc:language>en-US</dc:language>
  <cp:lastModifiedBy>Your User Name</cp:lastModifiedBy>
  <dcterms:modified xsi:type="dcterms:W3CDTF">2011-01-26T20:20:12Z</dcterms:modified>
  <cp:revision>40</cp:revision>
  <dc:subject/>
  <dc:title>Решение простейших тригонометрических неравенств.</dc:title>
</cp:coreProperties>
</file>